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D189-D28C-4476-B045-1E33630943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23DE-9D9A-4810-895A-D3FBD1BCAE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D419-0A45-4B02-AA17-D66E3D64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4974-A9D4-4520-AB23-2504DAF7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3B3A-46F3-4D17-A217-93AD9722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BC57-D977-4E70-B9F6-3DDD5818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3662-00DF-4A66-B265-52FE93C7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F51E-E8FF-4094-B6F3-081B8792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809B-A3D8-4DF8-9F2B-A00AEE8D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E385-B3B7-4C49-BF59-D4730CD9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4DCD-BFB3-4CD4-A464-403BA507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E537-70FA-45D0-B200-F812A6E9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AC2C-750B-4774-AAD4-FF26565D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16F4-3CCE-467E-AC37-B9F0C7C4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51AB-6B96-48BD-B8F5-4527123F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ABF5-3D8B-496A-8C49-EBE8619B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3D2C-AE0E-4A54-91BB-7693F34B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37F6-20A1-4043-9EAB-A301F0CD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51A6-372C-4FD7-A284-F29806AC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7142-35E6-4F0C-BA96-32898BF3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A31A-7ABA-4D4B-8D83-A1495393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716A-8233-4E8D-AF6C-F6CE4683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1DEE-4212-44BF-B11E-91A48F3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C3F3-BEB9-4581-BDA2-647C6C7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344C-B107-4893-B530-EB9D726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4CBF-B4C5-4DCA-848B-93B666B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E6B7-9FDE-4704-8FB1-62B801D5E83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5F64-F7E7-43E5-8743-404197B29B8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Полина Виардо и Иван Тургене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"Благословляю все, что было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Я лучшей доли не иска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, сердце, сколько ты любило!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, разум, сколько ты пылал!"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 А.Б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turgenev_1_s"/>
          <p:cNvPicPr/>
          <p:nvPr/>
        </p:nvPicPr>
        <p:blipFill>
          <a:blip r:embed="rId1"/>
          <a:stretch/>
        </p:blipFill>
        <p:spPr>
          <a:xfrm>
            <a:off x="6324480" y="19810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лина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Виардо, 1843 го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Ей всего 22, но Европа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уже покорен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иардо, которую Берлиоз назвал “одной из величайших артисток прошлой и современной истории музыки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viardo-garsia_1"/>
          <p:cNvPicPr/>
          <p:nvPr/>
        </p:nvPicPr>
        <p:blipFill>
          <a:blip r:embed="rId1"/>
          <a:stretch/>
        </p:blipFill>
        <p:spPr>
          <a:xfrm>
            <a:off x="6248520" y="152280"/>
            <a:ext cx="240480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о на сцене певица удивительнейшим образом преображалас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Глаза становились пламенными и выразительными, а большой рот, казалось, был создан для того, чтобы издавать волшебные зв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о более всего поражало ее божественное исполнени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viardo"/>
          <p:cNvPicPr/>
          <p:nvPr/>
        </p:nvPicPr>
        <p:blipFill>
          <a:blip r:embed="rId1"/>
          <a:stretch/>
        </p:blipFill>
        <p:spPr>
          <a:xfrm>
            <a:off x="6553080" y="365760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1066680" y="533520"/>
            <a:ext cx="7467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ургенев увидел ее впервые осенью 1843 года на сцене оперного театра, когда великая певица приехала на гастроли в Санкт-Петербур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 ноября 1843 года он был представлен и самой Полине. Среди массы поклонников она особо не выделила Тургенева, представленного заядлым охотником, а не подающим надежды литерато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огда ее гастроли закончились, Тургенев вместе с  семейством Виардо уехал в Париж. Против воли матери, без денег, еще неизвестный Евро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8"/>
          <p:cNvPicPr/>
          <p:nvPr/>
        </p:nvPicPr>
        <p:blipFill>
          <a:blip r:embed="rId1"/>
          <a:stretch/>
        </p:blipFill>
        <p:spPr>
          <a:xfrm>
            <a:off x="2590920" y="1066680"/>
            <a:ext cx="4030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.С. Тургенев следует за Полиной Виардо повсюду. Он покидает Россию, чтобы быть рядом, видеть и слышать свою богин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исатель много путешествует по Европе, и чаще всего названия городов, которые он посещает, числятся в гастрольных маршрутах Полины Виард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н продолжает много писать и издаваться в России и, конечно же, часто встречается с семьей Виард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ургенев  боготворит свою любимую женщину.  Она заменила ему все и вся: родных, друзей, семью, которую он так и не создал. А возможности были..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«Знайте, то чувство, которое я посвятил вам,  окончится только с моей жизнью», - писал Тургенев Полине Виард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3" descr="3"/>
          <p:cNvPicPr/>
          <p:nvPr/>
        </p:nvPicPr>
        <p:blipFill>
          <a:blip r:embed="rId1"/>
          <a:stretch/>
        </p:blipFill>
        <p:spPr>
          <a:xfrm>
            <a:off x="3276720" y="3124080"/>
            <a:ext cx="25495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6T08:18:4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