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4DEA-ADEC-49E3-AA87-1266A408EF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AAE-039E-43C6-8B8D-49A61CC193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0359-3E69-41FE-9376-11A039CC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D4BF-728C-4D7F-9F05-DAEB5B39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C2CE-402D-4A08-AF98-1F2B5904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BAE3-FEEE-4F13-8489-021FDB5E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9231-B087-4809-B7E4-93EBBE6A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3399-FB9A-42C6-BD35-1113DB2C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6DD8-29B4-4350-9B25-8F080125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46E9-221D-4E79-B622-46C5B09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9661-C4C8-4C7A-A131-19909E59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0DC-9BEF-4120-BF50-71EC8B86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290-EC60-4FDB-8166-33FEDCB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66D2-530F-45AF-B236-0538741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8418-D2BF-4226-9300-2F14348E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C12B-A4A8-4DDC-94DC-0F875FA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124B-C123-46B9-BAC9-A723909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63AD-8DA1-468B-A082-524E519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33D-CDE1-47CE-B609-6477A1DB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3101-2F64-4CD3-87B5-4CC58788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E330-4C35-44EB-A651-8A8CF03A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C67E-97A0-4684-9668-2C48A7A0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4BA3-ED82-4DA5-9B83-83E056F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A646-01FF-47E0-9194-16B79220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F20E-BE83-4160-AF2D-0ED57CE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2699-FBD7-4E6D-B4A3-5BA98D1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EE4-3577-4201-955F-9BC890095A3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400B-E5C5-4D65-9BFE-8BBCF935B54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Полина Виардо и Иван Турген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"Благословляю все, что было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Я лучшей доли не иска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, сердце, сколько ты любило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, разум, сколько ты пылал!"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 А.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turgenev_1_s"/>
          <p:cNvPicPr/>
          <p:nvPr/>
        </p:nvPicPr>
        <p:blipFill>
          <a:blip r:embed="rId1"/>
          <a:stretch/>
        </p:blipFill>
        <p:spPr>
          <a:xfrm>
            <a:off x="6324480" y="19810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лин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Виардо, 1843 г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Ей всего 22, но Европа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же покорен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иардо, которую Берлиоз назвал “одной из величайших артисток прошлой и современной истории музыки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viardo-garsia_1"/>
          <p:cNvPicPr/>
          <p:nvPr/>
        </p:nvPicPr>
        <p:blipFill>
          <a:blip r:embed="rId1"/>
          <a:stretch/>
        </p:blipFill>
        <p:spPr>
          <a:xfrm>
            <a:off x="6248520" y="152280"/>
            <a:ext cx="240480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о на сцене певица удивительнейшим образом преображалас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лаза становились пламенными и выразительными, а большой рот, казалось, был создан для того, чтобы издавать волшебные зв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о более всего поражало ее божественное исполнени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viardo"/>
          <p:cNvPicPr/>
          <p:nvPr/>
        </p:nvPicPr>
        <p:blipFill>
          <a:blip r:embed="rId1"/>
          <a:stretch/>
        </p:blipFill>
        <p:spPr>
          <a:xfrm>
            <a:off x="6553080" y="36576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1066680" y="533520"/>
            <a:ext cx="7467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ургенев увидел ее впервые осенью 1843 года на сцене оперного театра, когда великая певица приехала на гастроли в Санкт-Петербур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 ноября 1843 года он был представлен и самой Полине. Среди массы поклонников она особо не выделила Тургенева, представленного заядлым охотником, а не подающим надежды литерато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огда ее гастроли закончились, Тургенев вместе с  семейством Виардо уехал в Париж. Против воли матери, без денег, еще неизвестный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8"/>
          <p:cNvPicPr/>
          <p:nvPr/>
        </p:nvPicPr>
        <p:blipFill>
          <a:blip r:embed="rId1"/>
          <a:stretch/>
        </p:blipFill>
        <p:spPr>
          <a:xfrm>
            <a:off x="2590920" y="1066680"/>
            <a:ext cx="4030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.С. Тургенев следует за Полиной Виардо повсюду. Он покидает Россию, чтобы быть рядом, видеть и слышать свою богин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исатель много путешествует по Европе, и чаще всего названия городов, которые он посещает, числятся в гастрольных маршрутах Полины Виард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н продолжает много писать и издаваться в России и, конечно же, часто встречается с семьей Виард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ургенев  боготворит свою любимую женщину.  Она заменила ему все и вся: родных, друзей, семью, которую он так и не создал. А возможности были..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«Знайте, то чувство, которое я посвятил вам,  окончится только с моей жизнью», - писал Тургенев Полине Виар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3"/>
          <p:cNvPicPr/>
          <p:nvPr/>
        </p:nvPicPr>
        <p:blipFill>
          <a:blip r:embed="rId1"/>
          <a:stretch/>
        </p:blipFill>
        <p:spPr>
          <a:xfrm>
            <a:off x="3276720" y="3124080"/>
            <a:ext cx="25495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08:18:4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