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A1E2-A41A-482C-9F8D-70E678B590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721-4398-46FC-88DF-F99303D67F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EEC7-E30D-4B52-8925-E74EAF4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7727-EE3F-464D-86FB-384F705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1169-7AF3-4859-A201-20839A3C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002E-E178-45E4-8FFE-FADC3B77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6117-AC02-4516-8B10-1D1BCE6B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311-C2B2-4EC2-9B35-2099771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358-6E39-4B1A-B188-635C0A9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9AC-9909-4B00-84A8-2308B2C2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9EE-002D-4477-833D-D9443C0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68F2-C0B5-4B71-AAB7-A610FD95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2D69-F6F1-42B1-AA46-CE0D66D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F3A4-8539-46FC-9A96-223BD2D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CA21-75AB-4B3A-B9A8-D7DBDA3D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2DE-2572-4625-A595-F36F55C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37D4-5444-4066-A92D-B3AE332E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2D9-F2C5-4C07-AEEF-F0D42BA2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478-DB8F-4306-A079-9D3EDD38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A736-6687-4530-BA14-032DEA9D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9287-27BB-4DD9-8547-8CEFC071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163B-A395-4932-98AE-D230870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B819-65C9-464B-9B75-F749EDB8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108A-DA5B-442B-BE54-922D811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99FE-B4A8-4495-9B47-8082D15F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1809-76C8-4A6F-9FA7-41D7157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843-DFF8-4EEB-B9D1-F72D1D9C778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5EB-CE3F-401B-9EC1-B621802A9D0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олина Виардо и Иван Турген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"Благословляю все, что было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Я лучшей доли не иска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сердце, сколько ты любило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разум, сколько ты пылал!"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 А.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turgenev_1_s"/>
          <p:cNvPicPr/>
          <p:nvPr/>
        </p:nvPicPr>
        <p:blipFill>
          <a:blip r:embed="rId1"/>
          <a:stretch/>
        </p:blipFill>
        <p:spPr>
          <a:xfrm>
            <a:off x="6324480" y="1981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н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Виардо, 1843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Ей всего 22, но Европа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же покорен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иардо, которую Берлиоз назвал “одной из величайших артисток прошлой и современной истории музыки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viardo-garsia_1"/>
          <p:cNvPicPr/>
          <p:nvPr/>
        </p:nvPicPr>
        <p:blipFill>
          <a:blip r:embed="rId1"/>
          <a:stretch/>
        </p:blipFill>
        <p:spPr>
          <a:xfrm>
            <a:off x="6248520" y="152280"/>
            <a:ext cx="240480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на сцене певица удивительнейшим образом преображалас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лаза становились пламенными и выразительными, а большой рот, казалось, был создан для того, чтобы издавать волшебные зв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более всего поражало ее божественное исполн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viardo"/>
          <p:cNvPicPr/>
          <p:nvPr/>
        </p:nvPicPr>
        <p:blipFill>
          <a:blip r:embed="rId1"/>
          <a:stretch/>
        </p:blipFill>
        <p:spPr>
          <a:xfrm>
            <a:off x="6553080" y="36576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1066680" y="533520"/>
            <a:ext cx="7467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 увидел ее впервые осенью 1843 года на сцене оперного театра, когда великая певица приехала на гастроли в Санкт-Петербур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 ноября 1843 года он был представлен и самой Полине. Среди массы поклонников она особо не выделила Тургенева, представленного заядлым охотником, а не подающим надежды литерато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огда ее гастроли закончились, Тургенев вместе с  семейством Виардо уехал в Париж. Против воли матери, без денег, еще неизвестный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8"/>
          <p:cNvPicPr/>
          <p:nvPr/>
        </p:nvPicPr>
        <p:blipFill>
          <a:blip r:embed="rId1"/>
          <a:stretch/>
        </p:blipFill>
        <p:spPr>
          <a:xfrm>
            <a:off x="2590920" y="1066680"/>
            <a:ext cx="4030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.С. Тургенев следует за Полиной Виардо повсюду. Он покидает Россию, чтобы быть рядом, видеть и слышать свою богин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исатель много путешествует по Европе, и чаще всего названия городов, которые он посещает, числятся в гастрольных маршрутах Полины Виард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н продолжает много писать и издаваться в России и, конечно же, часто встречается с семьей Виард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  боготворит свою любимую женщину.  Она заменила ему все и вся: родных, друзей, семью, которую он так и не создал. А возможности были..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«Знайте, то чувство, которое я посвятил вам,  окончится только с моей жизнью», - писал Тургенев Полине Виар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3"/>
          <p:cNvPicPr/>
          <p:nvPr/>
        </p:nvPicPr>
        <p:blipFill>
          <a:blip r:embed="rId1"/>
          <a:stretch/>
        </p:blipFill>
        <p:spPr>
          <a:xfrm>
            <a:off x="3276720" y="3124080"/>
            <a:ext cx="25495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8:4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