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F42-DA22-4637-A06F-84F9169E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2F5-815E-4CC8-BB3B-4440D15E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AAC-A355-428A-8172-29DC8B54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316-F041-4DCC-A841-7EAB42A4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72D-AA28-4C4B-A92F-EC8119EA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CBA-CEE4-4A80-B0D8-7B56EE44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3C0-9D39-4B9A-A24A-CE336261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1D6-E090-4776-BBD8-202BFAAB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0FD-17A3-4EE8-B82C-8F350378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9C5-8191-413B-A62B-BF30C755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28D-8D2C-4135-922F-207C7C09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1C0-3D82-43FE-8C4C-1D596D3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DD5F-25EE-486A-B2F8-E13A7E59D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ьная псих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широва Т.Б. канд.пед.наук, доцент кафедры коррекционно-развивающего обучения ИИПК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ологизация трудностей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тальные тру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ные тру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циальные тру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циальные (отдельные) трудности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еобразие формирования отдельных психических функций или компонентов при соответствии отдельных психических функций или компонентов при соответствии возрастным нормативам большинства параметров психического развития и отсутствии в деятельности и поведении отклонений, значительно нарушающих социальную адап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арциальных трудностей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«физиологического» характера – связаны с особенностями мозговой организации и мелкими мозговыми повреждениями. Это недостаточность зрительно-моторной координации, разных видов гнозиса, произносительной стороны речи, фонематических процессов, конрструктивного пракси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«квазипсихологического» характера имеют нейропсихологическую основу: конституционально обусловленными особенностями темперамента, спецификой межполушарного взаимодействия, особенностями модальностей восприятия информаци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«психологического» характера проявляются в том, что ребенок не овладел определенными знаниями, умениями, навыками, или выработались нежелательные стереотипы поведения в том числе защитные и компенсато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ные или сложные трудности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сть нарушений заключается в том, что, во-первых, они проявляются в разных функциональных системах психики, а во-вторых, сочетание разных диагностических признаков-симтомов образует своеобразные симптомокомплексы, которые также систем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ы системных трудностей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умственной работоспособности вследствие астенического и церебрастенического синдро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тические и неврозоподобные расстро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ения вегетатино-висцеральных дис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ения нерезко выраженных двигательных расстрой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общения вследствие речевых нарушений, нерезко выраженных дефектов слуха, минимальных проявлений Р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эмоционально-волевой сферы и поведения вследствие синдрома ММД, текущих психических заболеваний, последствий внутриутробной алкогольной интоксикации, лишения родительской з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типа нарушений работоспособност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ая групп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арушение работоспособности в связи с повышенной утомляемостью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астенические состояния у соматически ослабленных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церебрастенические состоя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стено-невротические состояния соматогенной и церебральноорганической прир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астенические состояния на фоне нерезко выраженных сенсорных деф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ая группа (нарушения работоспособности в связи с расстройствами поведения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ситуационные реакции с нарушением по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невротические и неврозоподобные состоя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сихогенное патологическое формирование ли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невропат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мут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синдром РДА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альные трудности развития – психический дизонтоген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дефекта качественно изменяется социальная ситуаци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не может соответствовать социально-психологическому нормати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й норматив – это система требований, которые общество предъявляет человеку на каждой ступени е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аются в несоответствии большинства показателей психического развития ребенка возрастным нормативам, качественном своеобразии всех сфер его псих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ом становится специфичность и неполноценность формирования любой деятельности и недостаточная адекватность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пециальной коррекционно-развивающей работы адаптация к социуму невозмо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ы отклоняющегося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психическое недо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ержанн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ежденн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гармоническ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каженн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фицитарное псих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ушени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физический или психический недостаток, обнаружившейся в детстве и потенциально препятствующий включению в широкую общественную среду и активной деятельности в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альная психология – наука, изучающая психологические особенности лиц с нарушениями в развитии. Занимается изучением особенностей, закономерностей и механизмов становления и функционирования их псих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ости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временные или постоянные помехи для полноценного овладения любой психической деятельностью, в том числе и учебной, а также для появления психологических новообразований, составляющих сущность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ехи могут быть внешними (ухудшенная социальная ситуация разви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енними, обусловленными спецификой мозговой организации или другими нарушениями функциональных систем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диционно сложились следующие разделы специальной психолог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альная психология как совокупность знаний об общих закономерностях нарушений развития, принципах и методах их из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я детей и подростков с нарушениями в развитии, задачами которой является изучение специфических особенностей, присущих каждому нарушению в отд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ая дифференциальная диагностика нарушений развития, включающая в себя знания об её задачах, принципах, методах и методиках, диагностических процедурах и диагностических заключ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 специальной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ие путей социализации, обоснование адекватных систем обучения и воспитания детей, имеющих нарушения развития, поиск подходов к компенсации разнообразных трудностей, предупреждающих их усугу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и специальной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общих и специфических закономерностей психического развития детей с различными видами нарушений в 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диагностических методов и методик, позволяющих своевременно и правильно квалифицировать характер трудностей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ое обоснование коррекционных подходов к обучению и воспитанию детей с различными нарушениям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психолого-педагогического сопровождения детей, способствующего коррекции и препятствующего усугублению трудностей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ологические принц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объе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детерми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системного под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единства сознания и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причин нарушенн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первичного деф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возрастны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потенциальных возмож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к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закономерности нарушений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дление нормальной интеграции и дифференциации высших психических функций и нарушение межфункциональных взаимодействий в ходе их стано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ка и затруднения в овладении различными видами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вергенция биологического и социального планов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вариативность отклоняющегося развития, связанная с биологической полиморфностью нарушений и вариативностью социальных усло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ие параметры дизонтоген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ой локал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по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отношения между первичным и вторичным деф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функциональные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1:40:12Z</dcterms:created>
  <dc:creator>user</dc:creator>
  <dc:description/>
  <dc:language>en-US</dc:language>
  <cp:lastModifiedBy>NOUT</cp:lastModifiedBy>
  <dcterms:modified xsi:type="dcterms:W3CDTF">2009-09-24T01:16:18Z</dcterms:modified>
  <cp:revision>4</cp:revision>
  <dc:subject/>
  <dc:title>Специальная психология</dc:title>
</cp:coreProperties>
</file>