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DB9-D34D-40AE-845E-F6768C01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011-EEBA-42CA-A988-7F8433D4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7E5-7A21-4711-8496-013D0358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616-4B0D-4AFF-A80C-321E5718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69F-7494-4832-B73E-47B3CDE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76F-8A74-48D9-A66F-19BA607A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DEA-64C3-494D-90F8-1F1D98C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182-C5B5-4BD5-BB7C-856FA897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D9B-C357-4F47-BB4F-6C0B7863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659-AF53-4311-AF3B-D1C0F752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C23-987C-4005-9CF1-450AFA2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576-FC24-40F2-8780-660B5DE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443-E758-45DE-A239-39AA76D1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ая псих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широва Т.Б. канд.пед.наук, доцент кафедры коррекционно-развивающего обучения ИИПК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ологизация трудностей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альные тру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ные тру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циальные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циальные (отдельные) трудности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еобразие формирования отдельных психических функций или компонентов при соответствии отдельных психических функций или компонентов при соответствии возрастным нормативам большинства параметров психического развития и отсутствии в деятельности и поведении отклонений, значительно нарушающих социальную адап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рциальных трудносте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физиологического» характера – связаны с особенностями мозговой организации и мелкими мозговыми повреждениями. Это недостаточность зрительно-моторной координации, разных видов гнозиса, произносительной стороны речи, фонематических процессов, конрструктивного пракси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квазипсихологического» характера имеют нейропсихологическую основу: конституционально обусловленными особенностями темперамента, спецификой межполушарного взаимодействия, особенностями модальностей восприятия информаци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психологического» характера проявляются в том, что ребенок не овладел определенными знаниями, умениями, навыками, или выработались нежелательные стереотипы поведения в том числе защитные и компенсато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ные или сложные трудности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сть нарушений заключается в том, что, во-первых, они проявляются в разных функциональных системах психики, а во-вторых, сочетание разных диагностических признаков-симтомов образует своеобразные симптомокомплексы, которые также систем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ы системных трудносте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умственной работоспособности вследствие астенического и церебрастенического синдро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тические и неврозоподобные расстро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я вегетатино-висцеральных дис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я нерезко выраженных двигательных расстрой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общения вследствие речевых нарушений, нерезко выраженных дефектов слуха, минимальных проявлений Р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эмоционально-волевой сферы и поведения вследствие синдрома ММД, текущих психических заболеваний, последствий внутриутробной алкогольной интоксикации, лишения родительской з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типа нарушений работоспособност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арушение работоспособности в связи с повышенной утомляемостью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стенические состояния у соматически ослабленных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церебрастенические состоя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стено-невротические состояния соматогенной и церебральноорганической прир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стенические состояния на фоне нерезко выраженных сенсорных деф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ая группа (нарушения работоспособности в связи с расстройствами повед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туационные реакции с нарушением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невротические и неврозоподобные состоя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сихогенное патологическое формирование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невропат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мут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ндром РД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альные трудности развития – психический дизонтоге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дефекта качественно изменяется социальная ситуаци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не может соответствовать социально-психологическому норм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й норматив – это система требований, которые общество предъявляет человеку на каждой ступени е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ются в несоответствии большинства показателей психического развития ребенка возрастным нормативам, качественном своеобразии всех сфер его псих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м становится специфичность и неполноценность формирования любой деятельности и недостаточная адекватность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пециальной коррекционно-развивающей работы адаптация к социуму невозм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ы отклоняющегося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психическое недо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ержа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ежде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гармоническ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каже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ицитарное псих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шени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физический или психический недостаток, обнаружившейся в детстве и потенциально препятствующий включению в широкую общественную среду и активной деятельности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психология – наука, изучающая психологические особенности лиц с нарушениями в развитии. Занимается изучением особенностей, закономерностей и механизмов становления и функционирования их псих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сти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временные или постоянные помехи для полноценного овладения любой психической деятельностью, в том числе и учебной, а также для появления психологических новообразований, составляющих сущность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ехи могут быть внешними (ухудшенная социальная ситуация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ими, обусловленными спецификой мозговой организации или другими нарушениями функциональных систе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онно сложились следующие разделы специальной псих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психология как совокупность знаний об общих закономерностях нарушений развития, принципах и методах их из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я детей и подростков с нарушениями в развитии, задачами которой является изучение специфических особенностей, присущих каждому нарушению в отд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дифференциальная диагностика нарушений развития, включающая в себя знания об её задачах, принципах, методах и методиках, диагностических процедурах и диагностических заклю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 специальной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путей социализации, обоснование адекватных систем обучения и воспитания детей, имеющих нарушения развития, поиск подходов к компенсации разнообразных трудностей, предупреждающих их усугу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и специальной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общих и специфических закономерностей психического развития детей с различными видами нарушений в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диагностических методов и методик, позволяющих своевременно и правильно квалифицировать характер трудносте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ое обоснование коррекционных подходов к обучению и воспитанию детей с различными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психолого-педагогического сопровождения детей, способствующего коррекции и препятствующего усугублению трудносте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ологические принц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объе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детерми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системного под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единства сознания и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ричин нарушен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ервичного деф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отенциальных возмож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закономерности нарушени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дление нормальной интеграции и дифференциации высших психических функций и нарушение межфункциональных взаимодействий в ходе их стано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ка и затруднения в овладении различными видами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вергенция биологического и социального планов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вариативность отклоняющегося развития, связанная с биологической полиморфностью нарушений и вариативностью социальны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е параметры дизонтоге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ой локал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по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 между первичным и вторичным деф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функциональ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1:40:12Z</dcterms:created>
  <dc:creator>user</dc:creator>
  <dc:description/>
  <dc:language>en-US</dc:language>
  <cp:lastModifiedBy>NOUT</cp:lastModifiedBy>
  <dcterms:modified xsi:type="dcterms:W3CDTF">2009-09-24T01:16:18Z</dcterms:modified>
  <cp:revision>4</cp:revision>
  <dc:subject/>
  <dc:title>Специальная психология</dc:title>
</cp:coreProperties>
</file>