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0C6-B1AF-4221-A025-599EA2EA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CE5-CDA9-4885-B033-DD52547B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2D9-833F-4222-A25B-D4079330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6FD-5658-4082-A8CD-FDC6E1E3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BF1-322D-4C7B-A3BB-3C1955A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2DB-370D-4998-B4CB-77228E1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B2B-2E96-4349-A6A1-2AC2A0DD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52F-277C-4691-8B82-F3187BA0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CD-4AE6-4E39-9DF9-7E32183F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76A-7DAA-466A-A52E-D8639C9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058-BDB3-46C8-A990-CCA5CB1D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869-7193-4C41-AE7C-F7D0010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E178-5571-42AB-8503-BBEA4AD5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ая псих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широва Т.Б. канд.пед.наук, доцент кафедры коррекционно-развивающего обучения ИИПК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ологизация трудностей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аль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ные тру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циальные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циальные (отдельные) трудности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еобразие формирования отдельных психических функций или компонентов при соответствии отдельных психических функций или компонентов при соответствии возрастным нормативам большинства параметров психического развития и отсутствии в деятельности и поведении отклонений, значительно нарушающих социальную адап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рциаль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физиологического» характера – связаны с особенностями мозговой организации и мелкими мозговыми повреждениями. Это недостаточность зрительно-моторной координации, разных видов гнозиса, произносительной стороны речи, фонематических процессов, конрструктивного пракси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квазипсихологического» характера имеют нейропсихологическую основу: конституционально обусловленными особенностями темперамента, спецификой межполушарного взаимодействия, особенностями модальностей восприятия информаци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«психологического» характера проявляются в том, что ребенок не овладел определенными знаниями, умениями, навыками, или выработались нежелательные стереотипы поведения в том числе защитные и компенсато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ные или сложные трудности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сть нарушений заключается в том, что, во-первых, они проявляются в разных функциональных системах психики, а во-вторых, сочетание разных диагностических признаков-симтомов образует своеобразные симптомокомплексы, которые также систем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ы системных трудносте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умственной работоспособности вследствие астенического и церебрастенического синдро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тические и неврозоподобные расстро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вегетатино-висцеральных дис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я нерезко выраженных двигательных расстрой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общения вследствие речевых нарушений, нерезко выраженных дефектов слуха, минимальных проявлений Р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эмоционально-волевой сферы и поведения вследствие синдрома ММД, текущих психических заболеваний, последствий внутриутробной алкогольной интоксикации, лишения родительской з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типа нарушений работоспособност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рушение работоспособности в связи с повышенной утомляемостью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у соматически ослабленных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церебрастенически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стено-невротические состояния соматогенной и церебральноорганической прир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стенические состояния на фоне нерезко выраженных сенсорных деф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ая группа (нарушения работоспособности в связи с расстройствами повед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туационные реакции с нарушением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тические и неврозоподобные состоя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сихогенное патологическое формирование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невропат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мут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ндром РД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альные трудности развития – психический дизонтоге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дефекта качественно изменяется социальная ситуаци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не может соответствовать социально-психологическому норм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й норматив – это система требований, которые общество предъявляет человеку на каждой ступени е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несоответствии большинства показателей психического развития ребенка возрастным нормативам, качественном своеобразии всех сфер его псих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м становится специфичность и неполноценность формирования любой деятельности и недостаточная адекватность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пециальной коррекционно-развивающей работы адаптация к социуму невозм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ы отклоняющегося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психическое недо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ержа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жд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гармоническ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каженное псих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цитарное псих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физический или психический недостаток, обнаружившейся в детстве и потенциально препятствующий включению в широкую общественную среду и активной деятельности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– наука, изучающая психологические особенности лиц с нарушениями в развитии. Занимается изучением особенностей, закономерностей и механизмов становления и функционирования их псих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сти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временные или постоянные помехи для полноценного овладения любой психической деятельностью, в том числе и учебной, а также для появления психологических новообразований, составляющих сущность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ехи могут быть внешними (ухудшенная социальная ситуация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ми, обусловленными спецификой мозговой организации или другими нарушениями функциональных систе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онно сложились следующие разделы специальной псих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психология как совокупность знаний об общих закономерностях нарушений развития, принципах и методах их из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я детей и подростков с нарушениями в развитии, задачами которой является изучение специфических особенностей, присущих каждому нарушению в отд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дифференциальная диагностика нарушений развития, включающая в себя знания об её задачах, принципах, методах и методиках, диагностических процедурах и диагностических заклю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ие путей социализации, обоснование адекватных систем обучения и воспитания детей, имеющих нарушения развития, поиск подходов к компенсации разнообразных трудностей, предупреждающих их усугу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и специальной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общих и специфических закономерностей психического развития детей с различными видами нарушений в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диагностических методов и методик, позволяющих своевременно и правильно квалифицировать характер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ое обоснование коррекционных подходов к обучению и воспитанию детей с различными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сопровождения детей, способствующего коррекции и препятствующего усугублению трудносте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ологические принц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объе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детерми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систем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единства сознания 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ричин нарушен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ервичного деф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учета потенциа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закономерности нарушений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дление нормальной интеграции и дифференциации высших психических функций и нарушение межфункциональных взаимодействий в ходе их стано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ка и затруднения в овладении различными видами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вергенция биологического и социального планов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вариативность отклоняющегося развития, связанная с биологической полиморфностью нарушений и вариативностью социальны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е параметры дизонтоген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ой локал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по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 между первичным и вторичным деф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функциональ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1:40:12Z</dcterms:created>
  <dc:creator>user</dc:creator>
  <dc:description/>
  <dc:language>en-US</dc:language>
  <cp:lastModifiedBy>NOUT</cp:lastModifiedBy>
  <dcterms:modified xsi:type="dcterms:W3CDTF">2009-09-24T01:16:18Z</dcterms:modified>
  <cp:revision>4</cp:revision>
  <dc:subject/>
  <dc:title>Специальная психология</dc:title>
</cp:coreProperties>
</file>