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5B9-D0D7-49AD-95EB-F68C8341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55B-F48D-4C92-8CD6-0B2E73C1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90B-2894-42EB-9A88-2DBF34D8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2AD-EC86-4F7B-8CCC-A5F75E12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AB98-12A9-4BDE-A927-9C154D39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F88E-68D3-4E89-95D9-1CD4CB81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3624-1435-4824-94DB-93D94068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68A-BDFB-4900-B8C8-28DDFD07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27B-748E-43F5-8E02-8948902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4818-0509-4F07-8833-AE368E8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534B-4124-4C69-B254-0BF0858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865-B24B-40F7-B65D-79E8DA46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B3A8-CEF9-4CF3-9284-5F218750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EAC-B11F-444E-B49C-8011D04C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0F9-38B4-46C4-AC65-70AB6867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2C05-C21B-43BC-A619-2CE1DDAF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0B0-6489-4993-A489-B134D478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981-1BF4-4BCD-9D8F-64C0348B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D311-F390-4126-8EF3-C0AEBFA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606-FA6B-4AAC-9C0F-FE504F94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6D9-B772-40AB-875D-E688664D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985-E176-4F1B-BEEF-9FDB31D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219-20C3-4DAA-A3A8-789F4818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CC9-9395-49FE-99A8-2292FE59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2836-3C8D-4356-BA15-BE9AA0768E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723-21FC-44C2-8901-751D4C4F5F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ехмерное моделирование в компас 3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 L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Кто не идет вперед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тот отстае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Построение геометрических те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313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хема построения цилиндра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1052280"/>
            <a:ext cx="70898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жать кнопку « деталь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рать изометрию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ZX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в строке панели управ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брать плоскость в окне дерева постро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я  -  эскиз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панели геометрического построения выберем построение окружност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и - эскиз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ерация выдавливания на инструментальной панели. Созд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56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357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5157720"/>
            <a:ext cx="799308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стойте цилиндр с центром в точке (0;0) и радиусом 3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ысота цилиндра 6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строение призмы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7201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рать изометрию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ZX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в строке текущего состоя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брать плоскость в окне дерева постро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     Эскиз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панели геометрического построения выберем построение четырехугольни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     Эскиз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ерация выдавливания на инструментальной панели. Созда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5445000"/>
            <a:ext cx="770400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тройте шестиугольную призму с центром в точке (20;20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диусом описанной окружности 30 мм. Высота призмы 50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rcRect l="29329" t="23419" r="29329" b="16538"/>
          <a:stretch/>
        </p:blipFill>
        <p:spPr>
          <a:xfrm>
            <a:off x="0" y="2033640"/>
            <a:ext cx="4429080" cy="4824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27640" y="189000"/>
            <a:ext cx="471636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призму. Прям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вершиной в начале координа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сотой 60 мм и шириной 40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Выделить верхнюю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нь приз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цилиндр. Окружнос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нтром  в точке (20,-3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ерация  приклеить выдавли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Построить паз. Выделить боков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нь. Построит эск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ямоуголь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вершиной в точке (7; -30), высо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0мм и шириной 26 мм. Опе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резать выдавлив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давливание на 55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Выделить верхнее осн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илиндра. Привязка – цент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роить эскиз окру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диусом 6 мм. Операция вырез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давливанием через в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0464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хе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строени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8838800">
            <a:off x="6922080" y="2848680"/>
            <a:ext cx="216000" cy="74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оверь свое пространственное мышле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58920" y="2708280"/>
            <a:ext cx="2589840" cy="2736720"/>
            <a:chOff x="1258920" y="2708280"/>
            <a:chExt cx="2589840" cy="2736720"/>
          </a:xfrm>
        </p:grpSpPr>
        <p:pic>
          <p:nvPicPr>
            <p:cNvPr id="95" name="" descr=""/>
            <p:cNvPicPr/>
            <p:nvPr/>
          </p:nvPicPr>
          <p:blipFill>
            <a:blip r:embed="rId2"/>
            <a:srcRect l="49271" t="19491" r="25634" b="43102"/>
            <a:stretch/>
          </p:blipFill>
          <p:spPr>
            <a:xfrm>
              <a:off x="1258920" y="270828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763640" y="4005360"/>
              <a:ext cx="360360" cy="792000"/>
            </a:xfrm>
            <a:prstGeom prst="upArrow">
              <a:avLst>
                <a:gd name="adj1" fmla="val 50000"/>
                <a:gd name="adj2" fmla="val 54945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68360" y="3213000"/>
              <a:ext cx="5749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7917800">
              <a:off x="2216160" y="3863880"/>
              <a:ext cx="1652400" cy="93492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80000" y="2637000"/>
            <a:ext cx="2448000" cy="2736720"/>
            <a:chOff x="5580000" y="2637000"/>
            <a:chExt cx="2448000" cy="27367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rcRect l="49271" t="19491" r="25634" b="43102"/>
            <a:stretch/>
          </p:blipFill>
          <p:spPr>
            <a:xfrm>
              <a:off x="5580000" y="263700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1986600">
              <a:off x="5940000" y="4149720"/>
              <a:ext cx="719280" cy="289080"/>
            </a:xfrm>
            <a:prstGeom prst="rightArrow">
              <a:avLst>
                <a:gd name="adj1" fmla="val 50000"/>
                <a:gd name="adj2" fmla="val 622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7092000" y="4077360"/>
              <a:ext cx="5749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3607800">
              <a:off x="7180920" y="3110400"/>
              <a:ext cx="146160" cy="792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124000" y="18446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надлежит ли пара изображений од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 тому же куб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 rot="3922200">
            <a:off x="7621560" y="4052520"/>
            <a:ext cx="9360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8694200">
            <a:off x="2382120" y="2996280"/>
            <a:ext cx="101880" cy="620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ubChord"/>
          <p:cNvSpPr/>
          <p:nvPr/>
        </p:nvSpPr>
        <p:spPr>
          <a:xfrm rot="2103600">
            <a:off x="7093080" y="4292280"/>
            <a:ext cx="647640" cy="55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66" y="1526"/>
                </a:moveTo>
                <a:arcTo wR="10800" hR="10800" stAng="-7249460" swAng="-1085114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58920" y="2708280"/>
            <a:ext cx="2448000" cy="2736720"/>
            <a:chOff x="1258920" y="2708280"/>
            <a:chExt cx="2448000" cy="27367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49271" t="19491" r="25634" b="43102"/>
            <a:stretch/>
          </p:blipFill>
          <p:spPr>
            <a:xfrm>
              <a:off x="1258920" y="270828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3660800">
              <a:off x="2268360" y="4292640"/>
              <a:ext cx="648000" cy="57456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bChord"/>
            <p:cNvSpPr/>
            <p:nvPr/>
          </p:nvSpPr>
          <p:spPr>
            <a:xfrm rot="17014200">
              <a:off x="2448360" y="3248280"/>
              <a:ext cx="557280" cy="48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90" y="1571"/>
                  </a:moveTo>
                  <a:arcTo wR="10800" hR="10800" stAng="-7277547" swAng="-12706046"/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1214640" y="4048920"/>
              <a:ext cx="1441440" cy="633240"/>
            </a:xfrm>
            <a:prstGeom prst="parallelogram">
              <a:avLst>
                <a:gd name="adj" fmla="val 569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96000" y="2781360"/>
            <a:ext cx="2448000" cy="2736720"/>
            <a:chOff x="5796000" y="2781360"/>
            <a:chExt cx="2448000" cy="27367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rcRect l="49271" t="19491" r="25634" b="43102"/>
            <a:stretch/>
          </p:blipFill>
          <p:spPr>
            <a:xfrm>
              <a:off x="5796000" y="2781360"/>
              <a:ext cx="24480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2916600">
              <a:off x="6551280" y="4329000"/>
              <a:ext cx="647640" cy="5749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805400">
              <a:off x="6503760" y="3095640"/>
              <a:ext cx="1104840" cy="822240"/>
            </a:xfrm>
            <a:prstGeom prst="parallelogram">
              <a:avLst>
                <a:gd name="adj" fmla="val 5646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692360" y="404640"/>
            <a:ext cx="611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инадлежит ли пара изображений од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и тому же куб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15122" t="17249" r="11303" b="22277"/>
          <a:stretch/>
        </p:blipFill>
        <p:spPr>
          <a:xfrm>
            <a:off x="863640" y="1413000"/>
            <a:ext cx="8280360" cy="4557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333360"/>
            <a:ext cx="741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йди соответствие букв и циф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26920" y="476280"/>
            <a:ext cx="24814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илиндр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41807" t="17941" r="37510" b="43560"/>
          <a:stretch/>
        </p:blipFill>
        <p:spPr>
          <a:xfrm>
            <a:off x="755640" y="1125360"/>
            <a:ext cx="2475000" cy="316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45576" t="27366" r="30813" b="42127"/>
          <a:stretch/>
        </p:blipFill>
        <p:spPr>
          <a:xfrm>
            <a:off x="2340000" y="3068640"/>
            <a:ext cx="230328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rcRect l="37454" t="34247" r="43346" b="49028"/>
          <a:stretch/>
        </p:blipFill>
        <p:spPr>
          <a:xfrm>
            <a:off x="611280" y="4149720"/>
            <a:ext cx="3313080" cy="2163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rcRect l="41146" t="27366" r="46307" b="48029"/>
          <a:stretch/>
        </p:blipFill>
        <p:spPr>
          <a:xfrm>
            <a:off x="7577280" y="2349360"/>
            <a:ext cx="1566720" cy="230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rcRect l="40400" t="22439" r="31544" b="48029"/>
          <a:stretch/>
        </p:blipFill>
        <p:spPr>
          <a:xfrm>
            <a:off x="6516720" y="4797360"/>
            <a:ext cx="237636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24154" t="20466" r="47056" b="45076"/>
          <a:stretch/>
        </p:blipFill>
        <p:spPr>
          <a:xfrm>
            <a:off x="5580000" y="3357720"/>
            <a:ext cx="223200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rcRect l="39666" t="24413" r="39666" b="47049"/>
          <a:stretch/>
        </p:blipFill>
        <p:spPr>
          <a:xfrm>
            <a:off x="5651640" y="1341360"/>
            <a:ext cx="2016000" cy="2087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156360" y="549360"/>
            <a:ext cx="24811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836280"/>
            <a:ext cx="19778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онус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43361" t="43102" r="30813" b="25393"/>
          <a:stretch/>
        </p:blipFill>
        <p:spPr>
          <a:xfrm>
            <a:off x="1187280" y="1700280"/>
            <a:ext cx="201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42611" t="25393" r="45576" b="49028"/>
          <a:stretch/>
        </p:blipFill>
        <p:spPr>
          <a:xfrm>
            <a:off x="179280" y="2421000"/>
            <a:ext cx="2349720" cy="381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45576" t="19491" r="10141" b="35246"/>
          <a:stretch/>
        </p:blipFill>
        <p:spPr>
          <a:xfrm>
            <a:off x="1908000" y="3213000"/>
            <a:ext cx="2664000" cy="2041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rcRect l="58123" t="26367" r="7926" b="31294"/>
          <a:stretch/>
        </p:blipFill>
        <p:spPr>
          <a:xfrm>
            <a:off x="5076720" y="1844640"/>
            <a:ext cx="2592360" cy="242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56360" y="6922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rcRect l="45576" t="22439" r="33755" b="45076"/>
          <a:stretch/>
        </p:blipFill>
        <p:spPr>
          <a:xfrm>
            <a:off x="6877080" y="422100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rcRect l="44826" t="22439" r="30813" b="46075"/>
          <a:stretch/>
        </p:blipFill>
        <p:spPr>
          <a:xfrm>
            <a:off x="4788000" y="4653000"/>
            <a:ext cx="165708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се детали состоят из геометрических тел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30813" t="40149" r="27118" b="16538"/>
          <a:stretch/>
        </p:blipFill>
        <p:spPr>
          <a:xfrm>
            <a:off x="3708360" y="2852640"/>
            <a:ext cx="4464000" cy="3446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41146" t="28341" r="33024" b="39174"/>
          <a:stretch/>
        </p:blipFill>
        <p:spPr>
          <a:xfrm>
            <a:off x="3635280" y="3789360"/>
            <a:ext cx="2808360" cy="264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44092" t="34247" r="37454" b="32293"/>
          <a:stretch/>
        </p:blipFill>
        <p:spPr>
          <a:xfrm>
            <a:off x="5508720" y="1989000"/>
            <a:ext cx="180000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rcRect l="47056" t="37200" r="37454" b="33273"/>
          <a:stretch/>
        </p:blipFill>
        <p:spPr>
          <a:xfrm>
            <a:off x="5796000" y="2133720"/>
            <a:ext cx="151128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22222E-006 -2.39593E-006 L -0.33073 -0.24907 E">
                                      <p:cBhvr>
                                        <p:cTn id="13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path" presetID="56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1961 0.04972 L 0.23039 -0.28331 E">
                                      <p:cBhvr>
                                        <p:cTn id="13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етали, построенные в компас 3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 L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40400" t="26367" r="36720" b="27366"/>
          <a:stretch/>
        </p:blipFill>
        <p:spPr>
          <a:xfrm>
            <a:off x="6588000" y="1557360"/>
            <a:ext cx="2232000" cy="338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35030" t="35435" r="30511" b="35778"/>
          <a:stretch/>
        </p:blipFill>
        <p:spPr>
          <a:xfrm>
            <a:off x="-828720" y="3186000"/>
            <a:ext cx="3295800" cy="3672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rcRect l="47610" t="41517" r="7926" b="16149"/>
          <a:stretch/>
        </p:blipFill>
        <p:spPr>
          <a:xfrm>
            <a:off x="1258920" y="1844640"/>
            <a:ext cx="2895480" cy="2068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rcRect l="35970" t="30319" r="18997" b="20466"/>
          <a:stretch/>
        </p:blipFill>
        <p:spPr>
          <a:xfrm>
            <a:off x="2987640" y="3500280"/>
            <a:ext cx="439272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2953" r="6250" b="0"/>
          <a:stretch/>
        </p:blipFill>
        <p:spPr>
          <a:xfrm>
            <a:off x="0" y="0"/>
            <a:ext cx="9144000" cy="7099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rot="5400000">
            <a:off x="7380360" y="4402080"/>
            <a:ext cx="1008000" cy="2519280"/>
          </a:xfrm>
          <a:prstGeom prst="wedgeRoundRectCallout">
            <a:avLst>
              <a:gd name="adj1" fmla="val 55824"/>
              <a:gd name="adj2" fmla="val 212884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рока текущего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7380360" y="-63360"/>
            <a:ext cx="1008000" cy="2519280"/>
          </a:xfrm>
          <a:prstGeom prst="wedgeRoundRectCallout">
            <a:avLst>
              <a:gd name="adj1" fmla="val -75199"/>
              <a:gd name="adj2" fmla="val 92342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2231640" y="3968640"/>
            <a:ext cx="1008000" cy="2808360"/>
          </a:xfrm>
          <a:prstGeom prst="wedgeRoundRectCallout">
            <a:avLst>
              <a:gd name="adj1" fmla="val -318504"/>
              <a:gd name="adj2" fmla="val 89287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струментальная панель постра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175280" y="944280"/>
            <a:ext cx="1008000" cy="2519280"/>
          </a:xfrm>
          <a:prstGeom prst="wedgeRoundRectCallout">
            <a:avLst>
              <a:gd name="adj1" fmla="val -89212"/>
              <a:gd name="adj2" fmla="val 129393"/>
              <a:gd name="adj3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рево по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0:29:08Z</dcterms:created>
  <dc:creator>Home</dc:creator>
  <dc:description/>
  <dc:language>en-US</dc:language>
  <cp:lastModifiedBy>Home</cp:lastModifiedBy>
  <dcterms:modified xsi:type="dcterms:W3CDTF">2009-03-18T13:00:50Z</dcterms:modified>
  <cp:revision>10</cp:revision>
  <dc:subject/>
  <dc:title>Слайд 1</dc:title>
</cp:coreProperties>
</file>