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77B6-11C0-4ABE-A41E-75A3B0C7E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07E2-CBD5-46AB-AA39-92EB31C9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A22D-9A2D-4823-BEBF-D28C78FC5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7C5C-4E09-4CF2-BCA4-3F9E12F0C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6D8B6-A9D5-4B1D-AEA5-583D34248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03E7-1E3C-41A0-899A-A076B0CB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D459B-7843-4C72-B858-32C88D73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865D-86F1-475A-8051-475D8AE2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2526-FE9B-40C3-B104-6A2CA3F4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2490-03A9-423F-9B5F-56ED01D7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6976-31C9-4AC0-8737-3A4DE7BE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8B60-FE15-413A-8C26-4590A53D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FFAB-0051-4D24-8126-E739FEF9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5C49-0B01-4C8F-8803-29A33053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AC9D-8548-44B0-8698-386DDD98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88A9-6E21-46B1-AD91-360105EEF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3C65-68A2-4B41-BD06-E637484C1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EC1F-22CE-4DBE-B021-84867E38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E745-6541-4724-95FF-77A4C578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0B97-4F62-417C-99DF-6DD6CE8C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A603-F2EF-4D3C-B4FD-18197E9A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B80E-8275-48D4-8194-FABFB1BF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35E6-7C49-4BA9-B299-D842BF3D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C3BE-E80D-4573-A197-436E688A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2E76-E5E5-4336-882C-09FAF6F7259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E78B-C60A-441E-B945-59893456BCB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Трехмерное моделирование в компас 3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 LT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Кто не идет вперед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тот отстает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Построение геометрических тел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73137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Схема построения цилиндра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03280" y="1052280"/>
            <a:ext cx="708984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жать кнопку « деталь»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ыбрать изометрию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ZX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в строке панели управле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ыбрать плоскость в окне дерева построения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перация  -  эскиз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 панели геометрического построения выберем построение окружност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перации - эскиз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перация выдавливания на инструментальной панели. Создать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492360" y="4005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48000" y="2565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48000" y="3573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4360" y="5157720"/>
            <a:ext cx="7993080" cy="1081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Постойте цилиндр с центром в точке (0;0) и радиусом 30 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Высота цилиндра 60 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643280" y="4365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76720" y="414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остроение призмы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02920" y="1052640"/>
            <a:ext cx="7201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ыбрать изометрию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YZX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в строке текущего состояни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ыбрать плоскость в окне дерева построения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перация      Эскиз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 панели геометрического построения выберем построение четырехугольник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перация      Эскиз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перация выдавливания на инструментальной панели. Создать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3635280" y="2852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35280" y="4365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5445000"/>
            <a:ext cx="7704000" cy="1079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стройте шестиугольную призму с центром в точке (20;20)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радиусом описанной окружности 30 мм. Высота призмы 50 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rcRect l="29329" t="23419" r="29329" b="16538"/>
          <a:stretch/>
        </p:blipFill>
        <p:spPr>
          <a:xfrm>
            <a:off x="0" y="2033640"/>
            <a:ext cx="4429080" cy="4824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427640" y="189000"/>
            <a:ext cx="471636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строить призму. Прямоуголь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 вершиной в начале координат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ысотой 60 мм и шириной 40м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2. Выделить верхнюю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ань приз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строить цилиндр. Окружность 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центром  в точке (20,-3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перация  приклеить выдавливан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3.Построить паз. Выделить бокову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ань. Построит эски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ямоугольни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 вершиной в точке (7; -30), высот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20мм и шириной 26 мм. Операц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ырезать выдавливание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ыдавливание на 55 м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4. Выделить верхнее осн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цилиндра. Привязка – цент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строить эскиз окруж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адиусом 6 мм. Операция выреза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ыдавливанием через вс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58920" y="404640"/>
            <a:ext cx="2521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Схем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остроения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 rot="18838800">
            <a:off x="6922080" y="2848680"/>
            <a:ext cx="216000" cy="7412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роверь свое пространственное мышление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258920" y="2708280"/>
            <a:ext cx="2589840" cy="2736720"/>
            <a:chOff x="1258920" y="2708280"/>
            <a:chExt cx="2589840" cy="2736720"/>
          </a:xfrm>
        </p:grpSpPr>
        <p:pic>
          <p:nvPicPr>
            <p:cNvPr id="95" name="" descr=""/>
            <p:cNvPicPr/>
            <p:nvPr/>
          </p:nvPicPr>
          <p:blipFill>
            <a:blip r:embed="rId2"/>
            <a:srcRect l="49271" t="19491" r="25634" b="43102"/>
            <a:stretch/>
          </p:blipFill>
          <p:spPr>
            <a:xfrm>
              <a:off x="1258920" y="2708280"/>
              <a:ext cx="244800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763640" y="4005360"/>
              <a:ext cx="360360" cy="792000"/>
            </a:xfrm>
            <a:prstGeom prst="upArrow">
              <a:avLst>
                <a:gd name="adj1" fmla="val 50000"/>
                <a:gd name="adj2" fmla="val 54945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268360" y="3213000"/>
              <a:ext cx="574920" cy="2872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7917800">
              <a:off x="2216160" y="3863880"/>
              <a:ext cx="1652400" cy="934920"/>
            </a:xfrm>
            <a:prstGeom prst="diamond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580000" y="2637000"/>
            <a:ext cx="2448000" cy="2736720"/>
            <a:chOff x="5580000" y="2637000"/>
            <a:chExt cx="2448000" cy="2736720"/>
          </a:xfrm>
        </p:grpSpPr>
        <p:pic>
          <p:nvPicPr>
            <p:cNvPr id="100" name="" descr=""/>
            <p:cNvPicPr/>
            <p:nvPr/>
          </p:nvPicPr>
          <p:blipFill>
            <a:blip r:embed="rId3"/>
            <a:srcRect l="49271" t="19491" r="25634" b="43102"/>
            <a:stretch/>
          </p:blipFill>
          <p:spPr>
            <a:xfrm>
              <a:off x="5580000" y="2637000"/>
              <a:ext cx="244800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 rot="1986600">
              <a:off x="5940000" y="4149720"/>
              <a:ext cx="719280" cy="289080"/>
            </a:xfrm>
            <a:prstGeom prst="rightArrow">
              <a:avLst>
                <a:gd name="adj1" fmla="val 50000"/>
                <a:gd name="adj2" fmla="val 62204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5400000">
              <a:off x="7092000" y="4077360"/>
              <a:ext cx="574920" cy="2872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3607800">
              <a:off x="7180920" y="3110400"/>
              <a:ext cx="146160" cy="792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2124000" y="1844640"/>
            <a:ext cx="576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Принадлежит ли пара изображений одно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и тому же кубик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 rot="3922200">
            <a:off x="7621560" y="4052520"/>
            <a:ext cx="93600" cy="719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8694200">
            <a:off x="2382120" y="2996280"/>
            <a:ext cx="101880" cy="620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ubChord"/>
          <p:cNvSpPr/>
          <p:nvPr/>
        </p:nvSpPr>
        <p:spPr>
          <a:xfrm rot="2103600">
            <a:off x="7093080" y="4292280"/>
            <a:ext cx="647640" cy="558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266" y="1526"/>
                </a:moveTo>
                <a:arcTo wR="10800" hR="10800" stAng="-7249460" swAng="-1085114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58920" y="2708280"/>
            <a:ext cx="2448000" cy="2736720"/>
            <a:chOff x="1258920" y="2708280"/>
            <a:chExt cx="2448000" cy="273672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rcRect l="49271" t="19491" r="25634" b="43102"/>
            <a:stretch/>
          </p:blipFill>
          <p:spPr>
            <a:xfrm>
              <a:off x="1258920" y="2708280"/>
              <a:ext cx="244800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 rot="13660800">
              <a:off x="2268360" y="4292640"/>
              <a:ext cx="648000" cy="574560"/>
            </a:xfrm>
            <a:prstGeom prst="rtTriangl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PubChord"/>
            <p:cNvSpPr/>
            <p:nvPr/>
          </p:nvSpPr>
          <p:spPr>
            <a:xfrm rot="17014200">
              <a:off x="2448360" y="3248280"/>
              <a:ext cx="557280" cy="48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190" y="1571"/>
                  </a:moveTo>
                  <a:arcTo wR="10800" hR="10800" stAng="-7277547" swAng="-12706046"/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5400000">
              <a:off x="1214640" y="4048920"/>
              <a:ext cx="1441440" cy="633240"/>
            </a:xfrm>
            <a:prstGeom prst="parallelogram">
              <a:avLst>
                <a:gd name="adj" fmla="val 5690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796000" y="2781360"/>
            <a:ext cx="2448000" cy="2736720"/>
            <a:chOff x="5796000" y="2781360"/>
            <a:chExt cx="2448000" cy="2736720"/>
          </a:xfrm>
        </p:grpSpPr>
        <p:pic>
          <p:nvPicPr>
            <p:cNvPr id="114" name="" descr=""/>
            <p:cNvPicPr/>
            <p:nvPr/>
          </p:nvPicPr>
          <p:blipFill>
            <a:blip r:embed="rId3"/>
            <a:srcRect l="49271" t="19491" r="25634" b="43102"/>
            <a:stretch/>
          </p:blipFill>
          <p:spPr>
            <a:xfrm>
              <a:off x="5796000" y="2781360"/>
              <a:ext cx="244800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 rot="2916600">
              <a:off x="6551280" y="4329000"/>
              <a:ext cx="647640" cy="574920"/>
            </a:xfrm>
            <a:prstGeom prst="rtTriangl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805400">
              <a:off x="6503760" y="3095640"/>
              <a:ext cx="1104840" cy="822240"/>
            </a:xfrm>
            <a:prstGeom prst="parallelogram">
              <a:avLst>
                <a:gd name="adj" fmla="val 5646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692360" y="404640"/>
            <a:ext cx="6119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Принадлежит ли пара изображений одно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и тому же кубик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rcRect l="15122" t="17249" r="11303" b="22277"/>
          <a:stretch/>
        </p:blipFill>
        <p:spPr>
          <a:xfrm>
            <a:off x="863640" y="1413000"/>
            <a:ext cx="8280360" cy="4557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58920" y="333360"/>
            <a:ext cx="7416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айди соответствие букв и циф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26920" y="476280"/>
            <a:ext cx="24814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Цилиндр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rcRect l="41807" t="17941" r="37510" b="43560"/>
          <a:stretch/>
        </p:blipFill>
        <p:spPr>
          <a:xfrm>
            <a:off x="755640" y="1125360"/>
            <a:ext cx="2475000" cy="3168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rcRect l="45576" t="27366" r="30813" b="42127"/>
          <a:stretch/>
        </p:blipFill>
        <p:spPr>
          <a:xfrm>
            <a:off x="2340000" y="3068640"/>
            <a:ext cx="2303280" cy="2232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rcRect l="37454" t="34247" r="43346" b="49028"/>
          <a:stretch/>
        </p:blipFill>
        <p:spPr>
          <a:xfrm>
            <a:off x="611280" y="4149720"/>
            <a:ext cx="3313080" cy="2163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rcRect l="41146" t="27366" r="46307" b="48029"/>
          <a:stretch/>
        </p:blipFill>
        <p:spPr>
          <a:xfrm>
            <a:off x="7577280" y="2349360"/>
            <a:ext cx="1566720" cy="2303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rcRect l="40400" t="22439" r="31544" b="48029"/>
          <a:stretch/>
        </p:blipFill>
        <p:spPr>
          <a:xfrm>
            <a:off x="6516720" y="4797360"/>
            <a:ext cx="2376360" cy="1876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rcRect l="24154" t="20466" r="47056" b="45076"/>
          <a:stretch/>
        </p:blipFill>
        <p:spPr>
          <a:xfrm>
            <a:off x="5580000" y="3357720"/>
            <a:ext cx="2232000" cy="2003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8"/>
          <a:srcRect l="39666" t="24413" r="39666" b="47049"/>
          <a:stretch/>
        </p:blipFill>
        <p:spPr>
          <a:xfrm>
            <a:off x="5651640" y="1341360"/>
            <a:ext cx="2016000" cy="2087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6156360" y="549360"/>
            <a:ext cx="24811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риз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0160" y="836280"/>
            <a:ext cx="19778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Конус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rcRect l="43361" t="43102" r="30813" b="25393"/>
          <a:stretch/>
        </p:blipFill>
        <p:spPr>
          <a:xfrm>
            <a:off x="1187280" y="1700280"/>
            <a:ext cx="2016360" cy="1844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rcRect l="42611" t="25393" r="45576" b="49028"/>
          <a:stretch/>
        </p:blipFill>
        <p:spPr>
          <a:xfrm>
            <a:off x="179280" y="2421000"/>
            <a:ext cx="2349720" cy="3816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rcRect l="45576" t="19491" r="10141" b="35246"/>
          <a:stretch/>
        </p:blipFill>
        <p:spPr>
          <a:xfrm>
            <a:off x="1908000" y="3213000"/>
            <a:ext cx="2664000" cy="2041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rcRect l="58123" t="26367" r="7926" b="31294"/>
          <a:stretch/>
        </p:blipFill>
        <p:spPr>
          <a:xfrm>
            <a:off x="5076720" y="1844640"/>
            <a:ext cx="2592360" cy="2424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156360" y="692280"/>
            <a:ext cx="122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Ш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6"/>
          <a:srcRect l="45576" t="22439" r="33755" b="45076"/>
          <a:stretch/>
        </p:blipFill>
        <p:spPr>
          <a:xfrm>
            <a:off x="6877080" y="4221000"/>
            <a:ext cx="2016000" cy="2376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rcRect l="44826" t="22439" r="30813" b="46075"/>
          <a:stretch/>
        </p:blipFill>
        <p:spPr>
          <a:xfrm>
            <a:off x="4788000" y="4653000"/>
            <a:ext cx="1657080" cy="1606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8000"/>
                            </p:stCondLst>
                            <p:childTnLst>
                              <p:par>
                                <p:cTn id="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9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4000"/>
                            </p:stCondLst>
                            <p:childTnLst>
                              <p:par>
                                <p:cTn id="9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Все детали состоят из геометрических тел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rcRect l="30813" t="40149" r="27118" b="16538"/>
          <a:stretch/>
        </p:blipFill>
        <p:spPr>
          <a:xfrm>
            <a:off x="3708360" y="2852640"/>
            <a:ext cx="4464000" cy="3446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rcRect l="41146" t="28341" r="33024" b="39174"/>
          <a:stretch/>
        </p:blipFill>
        <p:spPr>
          <a:xfrm>
            <a:off x="3635280" y="3789360"/>
            <a:ext cx="2808360" cy="2649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rcRect l="44092" t="34247" r="37454" b="32293"/>
          <a:stretch/>
        </p:blipFill>
        <p:spPr>
          <a:xfrm>
            <a:off x="5508720" y="1989000"/>
            <a:ext cx="1800000" cy="2448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rcRect l="47056" t="37200" r="37454" b="33273"/>
          <a:stretch/>
        </p:blipFill>
        <p:spPr>
          <a:xfrm>
            <a:off x="5796000" y="2133720"/>
            <a:ext cx="1511280" cy="2160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path" presetID="64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2.22222E-006 -2.39593E-006 L -0.33073 -0.24907 E">
                                      <p:cBhvr>
                                        <p:cTn id="130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2" nodeType="afterEffect" fill="hold" presetClass="path" presetID="56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1961 0.04972 L 0.23039 -0.28331 E">
                                      <p:cBhvr>
                                        <p:cTn id="133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Детали, построенные в компас 3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D LT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rcRect l="40400" t="26367" r="36720" b="27366"/>
          <a:stretch/>
        </p:blipFill>
        <p:spPr>
          <a:xfrm>
            <a:off x="6588000" y="1557360"/>
            <a:ext cx="2232000" cy="3384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rcRect l="35030" t="35435" r="30511" b="35778"/>
          <a:stretch/>
        </p:blipFill>
        <p:spPr>
          <a:xfrm>
            <a:off x="-828720" y="3186000"/>
            <a:ext cx="3295800" cy="3672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rcRect l="47610" t="41517" r="7926" b="16149"/>
          <a:stretch/>
        </p:blipFill>
        <p:spPr>
          <a:xfrm>
            <a:off x="1258920" y="1844640"/>
            <a:ext cx="2895480" cy="20685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rcRect l="35970" t="30319" r="18997" b="20466"/>
          <a:stretch/>
        </p:blipFill>
        <p:spPr>
          <a:xfrm>
            <a:off x="2987640" y="3500280"/>
            <a:ext cx="4392720" cy="3600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rcRect l="0" t="2953" r="6250" b="0"/>
          <a:stretch/>
        </p:blipFill>
        <p:spPr>
          <a:xfrm>
            <a:off x="0" y="0"/>
            <a:ext cx="9144000" cy="70992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 rot="5400000">
            <a:off x="7380360" y="4402080"/>
            <a:ext cx="1008000" cy="2519280"/>
          </a:xfrm>
          <a:prstGeom prst="wedgeRoundRectCallout">
            <a:avLst>
              <a:gd name="adj1" fmla="val 55824"/>
              <a:gd name="adj2" fmla="val 212884"/>
              <a:gd name="adj3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Строка текущего состоя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7380360" y="-63360"/>
            <a:ext cx="1008000" cy="2519280"/>
          </a:xfrm>
          <a:prstGeom prst="wedgeRoundRectCallout">
            <a:avLst>
              <a:gd name="adj1" fmla="val -75199"/>
              <a:gd name="adj2" fmla="val 92342"/>
              <a:gd name="adj3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Панель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2231640" y="3968640"/>
            <a:ext cx="1008000" cy="2808360"/>
          </a:xfrm>
          <a:prstGeom prst="wedgeRoundRectCallout">
            <a:avLst>
              <a:gd name="adj1" fmla="val -318504"/>
              <a:gd name="adj2" fmla="val 89287"/>
              <a:gd name="adj3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нструментальная панель постра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4175280" y="944280"/>
            <a:ext cx="1008000" cy="2519280"/>
          </a:xfrm>
          <a:prstGeom prst="wedgeRoundRectCallout">
            <a:avLst>
              <a:gd name="adj1" fmla="val -89212"/>
              <a:gd name="adj2" fmla="val 129393"/>
              <a:gd name="adj3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Дерево постро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0:29:08Z</dcterms:created>
  <dc:creator>Home</dc:creator>
  <dc:description/>
  <dc:language>en-US</dc:language>
  <cp:lastModifiedBy>Home</cp:lastModifiedBy>
  <dcterms:modified xsi:type="dcterms:W3CDTF">2009-03-18T13:00:50Z</dcterms:modified>
  <cp:revision>10</cp:revision>
  <dc:subject/>
  <dc:title>Слайд 1</dc:title>
</cp:coreProperties>
</file>