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C35-AF76-4E9F-949A-18C9FD30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78C-65AD-4254-A308-D938F2F9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353-0E62-46A3-9440-E5AA5A76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FEA-A04E-4EB7-9AB9-321ACD8E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BFA1-E2D8-46C4-B23D-5ED02FF4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C32F-6493-43D7-96FB-AA60D692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987A-AD70-4997-9B99-E6ED519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DC91-4427-479B-A227-EE48623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0833-280A-482E-84DE-F7C15CC9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E326-979D-4E16-B991-48B9E5F6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53B6-BA41-4A4E-BA4A-AE69F8B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18F-36F2-47A3-B961-7CEA235F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E4BE-1D53-4A85-BEAE-90585F9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85D1-37C7-4B1F-A3BE-51C1B4A4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D370-3099-4BA7-BE63-A1D4A06A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8EB0-B94E-4485-82F6-578C389D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FA2F-0B88-45E5-9E63-6178E93E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398-6029-450C-A139-CEA00352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521-6A4B-4BD4-99EF-2961440A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8F4-F4A0-4E30-902D-8E988794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AA2-1B57-42A0-9B3F-DF42CB9B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2A1-199F-460D-8CC7-C320219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5A9-1564-493F-B045-E7ED4A4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117-9C29-4369-A29E-9E2E3DB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5731-EE62-4AD5-8AE3-B790D5B51F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4E39-EBB2-48BD-88ED-04E3140A0E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ехмерное моделирование в компас 3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 L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Кто не идет вперед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тот отстае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остроение геометрических те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3137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хема построения цилиндр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1052280"/>
            <a:ext cx="70898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жать кнопку « деталь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брать изометрию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ZX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в строке панели управ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брать плоскость в окне дерева постро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ерация  -  эскиз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панели геометрического построения выберем построение окружнос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ерации - эскиз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ерация выдавливания на инструментальной панели. Созда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56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357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5157720"/>
            <a:ext cx="799308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стойте цилиндр с центром в точке (0;0) и радиусом 3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ысота цилиндра 6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4328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строение призмы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201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брать изометрию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ZX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в строке текущего состоя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брать плоскость в окне дерева постро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ерация      Эскиз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панели геометрического построения выберем построение четырехугольни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ерация      Эскиз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ерация выдавливания на инструментальной панели. Создат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35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5445000"/>
            <a:ext cx="770400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тройте шестиугольную призму с центром в точке (20;20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диусом описанной окружности 30 мм. Высота призмы 5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rcRect l="29329" t="23419" r="29329" b="16538"/>
          <a:stretch/>
        </p:blipFill>
        <p:spPr>
          <a:xfrm>
            <a:off x="0" y="2033640"/>
            <a:ext cx="4429080" cy="4824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27640" y="189000"/>
            <a:ext cx="47163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роить призму. Прям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вершиной в начале координа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сотой 60 мм и шириной 40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Выделить верхнюю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нь при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роить цилиндр. Окружност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нтром  в точке (20,-3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ерация  приклеить выдавли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.Построить паз. Выделить боков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нь. Построит эск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ямоугольн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вершиной в точке (7; -30), высо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0мм и шириной 26 мм. Опер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резать выдавлив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давливание на 55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4. Выделить верхнее осн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илиндра. Привязка – цент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роить эскиз окру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диусом 6 мм. Операция вырез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давливанием через в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0464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хе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строе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8838800">
            <a:off x="6922080" y="2848680"/>
            <a:ext cx="216000" cy="741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оверь свое пространственное мышле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58920" y="2708280"/>
            <a:ext cx="2589840" cy="2736720"/>
            <a:chOff x="1258920" y="2708280"/>
            <a:chExt cx="2589840" cy="2736720"/>
          </a:xfrm>
        </p:grpSpPr>
        <p:pic>
          <p:nvPicPr>
            <p:cNvPr id="95" name="" descr=""/>
            <p:cNvPicPr/>
            <p:nvPr/>
          </p:nvPicPr>
          <p:blipFill>
            <a:blip r:embed="rId2"/>
            <a:srcRect l="49271" t="19491" r="25634" b="43102"/>
            <a:stretch/>
          </p:blipFill>
          <p:spPr>
            <a:xfrm>
              <a:off x="1258920" y="270828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763640" y="4005360"/>
              <a:ext cx="360360" cy="792000"/>
            </a:xfrm>
            <a:prstGeom prst="upArrow">
              <a:avLst>
                <a:gd name="adj1" fmla="val 50000"/>
                <a:gd name="adj2" fmla="val 54945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68360" y="3213000"/>
              <a:ext cx="57492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7917800">
              <a:off x="2216160" y="3863880"/>
              <a:ext cx="1652400" cy="934920"/>
            </a:xfrm>
            <a:prstGeom prst="diamond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80000" y="2637000"/>
            <a:ext cx="2448000" cy="2736720"/>
            <a:chOff x="5580000" y="2637000"/>
            <a:chExt cx="2448000" cy="273672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rcRect l="49271" t="19491" r="25634" b="43102"/>
            <a:stretch/>
          </p:blipFill>
          <p:spPr>
            <a:xfrm>
              <a:off x="5580000" y="263700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1986600">
              <a:off x="5940000" y="4149720"/>
              <a:ext cx="719280" cy="289080"/>
            </a:xfrm>
            <a:prstGeom prst="rightArrow">
              <a:avLst>
                <a:gd name="adj1" fmla="val 50000"/>
                <a:gd name="adj2" fmla="val 622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7092000" y="4077360"/>
              <a:ext cx="57492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3607800">
              <a:off x="7180920" y="3110400"/>
              <a:ext cx="146160" cy="792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124000" y="184464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надлежит ли пара изображений од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 тому же куб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 rot="3922200">
            <a:off x="7621560" y="4052520"/>
            <a:ext cx="93600" cy="7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694200">
            <a:off x="2382120" y="2996280"/>
            <a:ext cx="101880" cy="620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ubChord"/>
          <p:cNvSpPr/>
          <p:nvPr/>
        </p:nvSpPr>
        <p:spPr>
          <a:xfrm rot="2103600">
            <a:off x="7093080" y="4292280"/>
            <a:ext cx="647640" cy="55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266" y="1526"/>
                </a:moveTo>
                <a:arcTo wR="10800" hR="10800" stAng="-7249460" swAng="-1085114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58920" y="2708280"/>
            <a:ext cx="2448000" cy="2736720"/>
            <a:chOff x="1258920" y="2708280"/>
            <a:chExt cx="2448000" cy="27367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49271" t="19491" r="25634" b="43102"/>
            <a:stretch/>
          </p:blipFill>
          <p:spPr>
            <a:xfrm>
              <a:off x="1258920" y="270828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3660800">
              <a:off x="2268360" y="4292640"/>
              <a:ext cx="648000" cy="57456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bChord"/>
            <p:cNvSpPr/>
            <p:nvPr/>
          </p:nvSpPr>
          <p:spPr>
            <a:xfrm rot="17014200">
              <a:off x="2448360" y="3248280"/>
              <a:ext cx="557280" cy="48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190" y="1571"/>
                  </a:moveTo>
                  <a:arcTo wR="10800" hR="10800" stAng="-7277547" swAng="-12706046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1214640" y="4048920"/>
              <a:ext cx="1441440" cy="633240"/>
            </a:xfrm>
            <a:prstGeom prst="parallelogram">
              <a:avLst>
                <a:gd name="adj" fmla="val 569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96000" y="2781360"/>
            <a:ext cx="2448000" cy="2736720"/>
            <a:chOff x="5796000" y="2781360"/>
            <a:chExt cx="2448000" cy="27367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rcRect l="49271" t="19491" r="25634" b="43102"/>
            <a:stretch/>
          </p:blipFill>
          <p:spPr>
            <a:xfrm>
              <a:off x="5796000" y="278136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2916600">
              <a:off x="6551280" y="4329000"/>
              <a:ext cx="647640" cy="5749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05400">
              <a:off x="6503760" y="3095640"/>
              <a:ext cx="1104840" cy="822240"/>
            </a:xfrm>
            <a:prstGeom prst="parallelogram">
              <a:avLst>
                <a:gd name="adj" fmla="val 5646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92360" y="404640"/>
            <a:ext cx="611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надлежит ли пара изображений од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 тому же куб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5122" t="17249" r="11303" b="22277"/>
          <a:stretch/>
        </p:blipFill>
        <p:spPr>
          <a:xfrm>
            <a:off x="863640" y="1413000"/>
            <a:ext cx="8280360" cy="4557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333360"/>
            <a:ext cx="741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йди соответствие букв и циф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26920" y="476280"/>
            <a:ext cx="24814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илинд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41807" t="17941" r="37510" b="43560"/>
          <a:stretch/>
        </p:blipFill>
        <p:spPr>
          <a:xfrm>
            <a:off x="755640" y="1125360"/>
            <a:ext cx="2475000" cy="316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45576" t="27366" r="30813" b="42127"/>
          <a:stretch/>
        </p:blipFill>
        <p:spPr>
          <a:xfrm>
            <a:off x="2340000" y="306864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rcRect l="37454" t="34247" r="43346" b="49028"/>
          <a:stretch/>
        </p:blipFill>
        <p:spPr>
          <a:xfrm>
            <a:off x="611280" y="4149720"/>
            <a:ext cx="3313080" cy="2163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rcRect l="41146" t="27366" r="46307" b="48029"/>
          <a:stretch/>
        </p:blipFill>
        <p:spPr>
          <a:xfrm>
            <a:off x="7577280" y="2349360"/>
            <a:ext cx="1566720" cy="230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rcRect l="40400" t="22439" r="31544" b="48029"/>
          <a:stretch/>
        </p:blipFill>
        <p:spPr>
          <a:xfrm>
            <a:off x="6516720" y="4797360"/>
            <a:ext cx="2376360" cy="187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rcRect l="24154" t="20466" r="47056" b="45076"/>
          <a:stretch/>
        </p:blipFill>
        <p:spPr>
          <a:xfrm>
            <a:off x="5580000" y="3357720"/>
            <a:ext cx="2232000" cy="2003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rcRect l="39666" t="24413" r="39666" b="47049"/>
          <a:stretch/>
        </p:blipFill>
        <p:spPr>
          <a:xfrm>
            <a:off x="5651640" y="1341360"/>
            <a:ext cx="2016000" cy="2087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156360" y="549360"/>
            <a:ext cx="2481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836280"/>
            <a:ext cx="1977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онус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43361" t="43102" r="30813" b="25393"/>
          <a:stretch/>
        </p:blipFill>
        <p:spPr>
          <a:xfrm>
            <a:off x="1187280" y="1700280"/>
            <a:ext cx="201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42611" t="25393" r="45576" b="49028"/>
          <a:stretch/>
        </p:blipFill>
        <p:spPr>
          <a:xfrm>
            <a:off x="179280" y="2421000"/>
            <a:ext cx="2349720" cy="381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45576" t="19491" r="10141" b="35246"/>
          <a:stretch/>
        </p:blipFill>
        <p:spPr>
          <a:xfrm>
            <a:off x="1908000" y="3213000"/>
            <a:ext cx="2664000" cy="2041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58123" t="26367" r="7926" b="31294"/>
          <a:stretch/>
        </p:blipFill>
        <p:spPr>
          <a:xfrm>
            <a:off x="5076720" y="1844640"/>
            <a:ext cx="2592360" cy="242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56360" y="6922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rcRect l="45576" t="22439" r="33755" b="45076"/>
          <a:stretch/>
        </p:blipFill>
        <p:spPr>
          <a:xfrm>
            <a:off x="6877080" y="4221000"/>
            <a:ext cx="2016000" cy="2376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rcRect l="44826" t="22439" r="30813" b="46075"/>
          <a:stretch/>
        </p:blipFill>
        <p:spPr>
          <a:xfrm>
            <a:off x="4788000" y="4653000"/>
            <a:ext cx="1657080" cy="1606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се детали состоят из геометрических тел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30813" t="40149" r="27118" b="16538"/>
          <a:stretch/>
        </p:blipFill>
        <p:spPr>
          <a:xfrm>
            <a:off x="3708360" y="2852640"/>
            <a:ext cx="4464000" cy="3446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rcRect l="41146" t="28341" r="33024" b="39174"/>
          <a:stretch/>
        </p:blipFill>
        <p:spPr>
          <a:xfrm>
            <a:off x="3635280" y="3789360"/>
            <a:ext cx="2808360" cy="2649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44092" t="34247" r="37454" b="32293"/>
          <a:stretch/>
        </p:blipFill>
        <p:spPr>
          <a:xfrm>
            <a:off x="5508720" y="1989000"/>
            <a:ext cx="1800000" cy="244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rcRect l="47056" t="37200" r="37454" b="33273"/>
          <a:stretch/>
        </p:blipFill>
        <p:spPr>
          <a:xfrm>
            <a:off x="5796000" y="2133720"/>
            <a:ext cx="151128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22222E-006 -2.39593E-006 L -0.33073 -0.24907 E">
                                      <p:cBhvr>
                                        <p:cTn id="13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1961 0.04972 L 0.23039 -0.28331 E">
                                      <p:cBhvr>
                                        <p:cTn id="13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етали, построенные в компас 3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 L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40400" t="26367" r="36720" b="27366"/>
          <a:stretch/>
        </p:blipFill>
        <p:spPr>
          <a:xfrm>
            <a:off x="6588000" y="1557360"/>
            <a:ext cx="2232000" cy="338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35030" t="35435" r="30511" b="35778"/>
          <a:stretch/>
        </p:blipFill>
        <p:spPr>
          <a:xfrm>
            <a:off x="-828720" y="3186000"/>
            <a:ext cx="3295800" cy="367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rcRect l="47610" t="41517" r="7926" b="16149"/>
          <a:stretch/>
        </p:blipFill>
        <p:spPr>
          <a:xfrm>
            <a:off x="1258920" y="1844640"/>
            <a:ext cx="2895480" cy="2068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rcRect l="35970" t="30319" r="18997" b="20466"/>
          <a:stretch/>
        </p:blipFill>
        <p:spPr>
          <a:xfrm>
            <a:off x="2987640" y="3500280"/>
            <a:ext cx="439272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2953" r="6250" b="0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5400000">
            <a:off x="7380360" y="4402080"/>
            <a:ext cx="1008000" cy="2519280"/>
          </a:xfrm>
          <a:prstGeom prst="wedgeRoundRectCallout">
            <a:avLst>
              <a:gd name="adj1" fmla="val 55824"/>
              <a:gd name="adj2" fmla="val 212884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рока текущего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7380360" y="-63360"/>
            <a:ext cx="1008000" cy="2519280"/>
          </a:xfrm>
          <a:prstGeom prst="wedgeRoundRectCallout">
            <a:avLst>
              <a:gd name="adj1" fmla="val -75199"/>
              <a:gd name="adj2" fmla="val 92342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231640" y="3968640"/>
            <a:ext cx="1008000" cy="2808360"/>
          </a:xfrm>
          <a:prstGeom prst="wedgeRoundRectCallout">
            <a:avLst>
              <a:gd name="adj1" fmla="val -318504"/>
              <a:gd name="adj2" fmla="val 89287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струментальная панель постра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175280" y="944280"/>
            <a:ext cx="1008000" cy="2519280"/>
          </a:xfrm>
          <a:prstGeom prst="wedgeRoundRectCallout">
            <a:avLst>
              <a:gd name="adj1" fmla="val -89212"/>
              <a:gd name="adj2" fmla="val 129393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ерево постро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0:29:08Z</dcterms:created>
  <dc:creator>Home</dc:creator>
  <dc:description/>
  <dc:language>en-US</dc:language>
  <cp:lastModifiedBy>Home</cp:lastModifiedBy>
  <dcterms:modified xsi:type="dcterms:W3CDTF">2009-03-18T13:00:50Z</dcterms:modified>
  <cp:revision>10</cp:revision>
  <dc:subject/>
  <dc:title>Слайд 1</dc:title>
</cp:coreProperties>
</file>