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8F2-5C0B-4E15-91FA-6F07D876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7C5-F3B9-4E69-8045-E9C8A1FF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3EC-E3E4-4F69-BDC1-8CF9B37C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C2B-2C15-4A88-A8F8-D04F02C6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2BFA-821C-4212-B43C-B4F031C8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517E-1E6F-494A-86BB-91D2C10D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A666-BAED-4618-BF57-64D5C298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C23C-9DEC-44FA-9756-C7BF7834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E9CA-8624-4ACD-A085-2B985B12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8FFC-E65B-4159-AFA4-A8DAA5B6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7EBA-232C-41DE-BF4C-58EFB55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D6D-EC7F-47A3-B401-C90E2D69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07E3-C3AD-44CF-B737-84955F2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3237-4DF4-44E1-B681-1B5EEA6B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B934-70C0-452D-B292-81DDCA54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C35F-C5DC-4A39-B536-1292AEB6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70C9-83D3-445B-837C-24CA0C00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A58-D69B-4F90-96F8-1901A91C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B2D-6EBF-4D57-A1DD-7A667CA8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E14-28F9-468C-ABC5-566D2277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0B7-BB7B-40D0-8BF2-E3FE9C3D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916-FF52-4D84-A97A-DFF4380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0F3-7C8C-4B42-A9EA-39B15F01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A55-33B3-4966-8913-3B7BDDE6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41D7-56CA-4645-B9AC-A8F9A27039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D4C9-340A-48E4-AB02-FC9E98F4B6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Типы тканей 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4643280" y="5572080"/>
            <a:ext cx="3772080" cy="91440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итенко О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СОШ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638600" cy="2047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53452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лиальная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кожный покровный эпите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состав стенок внутренних органов и кровеносных сосудов входит тк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1) гладкая мышечная                                         2) волокнистая соединительная                       3) ретикулярная                                                      4) поперечнополосатая мыш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лосовые связки  и фасции образованы ткан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1) гладкая мышечная                                         2) волокнистая соединительная                       3) ретикулярная                                                      4) поперечнополосатая мыш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пителиальные тка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1) содержат мало межклеточного вещества и не имеют сосудов                                                     2) имеют хорошо развитое межклеточное вещество                                                3) обладают свойствами сократимости и возбудимости                                                        4) имеют межклеточные цитоплазматические мо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Ткани, с хорошо развитым межклеточным веществом, относятся к                                                                              1) эпителиальным                                             2) нервной                                                            3) соединительным                                                 4) мыш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ст костей в длину осуществляется за с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1) хрящевой ткани эпифизов                                                 2) надкостницы                                                            3) желтого костного вещества 4)красного костного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кань, которая обладает высокой возбудимостью и обеспечивает регуляцию процессов жизнедеятельности организма человека, относится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1) эпителиальной                                             2) нервной                                                            3) соединительной                                                 4) мыш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кани, которые обладают свойствами сократимости и возбудимости и обеспечивают двигательные процессы в организме, относят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1) эпителиальным                                             2) нервной                                                            3) соединительным                                                 4) мыш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кани, выполняющие защитную, секреторную и выделительную функции, относят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1) эпителиальным                                             2) нервной                                                            3) соединительным                                                 4) мыш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пределите слои древесного стебля и тип соответствующий им ткан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40072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ткани человека образуют белое и серое веществ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1) эпителиальные                                             2) нервная                                                            3) соединительные                                                 4) мыше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ткани  организма человека выстилают изнутри полые органы и стенки полостей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1) эпителиальные                                             2) нервная                                                            3) соединительные                                                 4) мыше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В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становите соответствие между функцией и слоем кожи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                                      СЛОЙ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терморегуляторная                1) эпидерм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термоизоляционная               2) д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запасающая                            3) подко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дыхательная                            жировая клетч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чувств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самоочи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14840" y="4572000"/>
            <a:ext cx="46386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асть Б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становите соответствие между особенностью строения и функцией клеток корня и зоной, которую они образ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СТРОЕНИЯ                             ЗОНА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летки активно делятся                              1) зона всас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клетки постоянно отмирают                       2) корневой чех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зона образована покровной тканью          3) зона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зона образована основной ткан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зона образована образовательной ткан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обеспечивает минера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 пробка (покровн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 кора (покровная и механическ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 луб ( проводящ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 камбий (образовательн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сосуды древесины (проводящ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 сердцевина (запасающ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 кожица (покровная тк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611440" cy="455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2372040" cy="2735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353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единительная ткан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хряще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 жи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 кост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- волок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кровь – жидкая соединительная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835280" y="1195560"/>
            <a:ext cx="5473440" cy="54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ь 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ышечная тк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 поперечно - полосатая серд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 глад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 поперечно - полосатая скеле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ите тип  ткани челове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42642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рвная тк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4:59Z</dcterms:created>
  <dc:creator>Admin</dc:creator>
  <dc:description/>
  <dc:language>en-US</dc:language>
  <cp:lastModifiedBy>Admin</cp:lastModifiedBy>
  <dcterms:modified xsi:type="dcterms:W3CDTF">2012-11-09T05:40:22Z</dcterms:modified>
  <cp:revision>17</cp:revision>
  <dc:subject/>
  <dc:title>Бесполое размножение организмов</dc:title>
</cp:coreProperties>
</file>