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FF77-4DD0-49BB-9D85-5FA559AD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F8DE-9360-44F0-B019-22388244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BA84-F742-40AE-B75C-A790F865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E195-D17B-4D0D-AA82-EC3D0898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F564-9F8B-4B7E-8EA9-953448D0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0A71-05E8-4198-8E06-EFE263B5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E854-2333-4DCD-92D8-56CB2E42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A7B4-5FEE-43CB-8DFB-6C2E800A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A442-1D12-4931-AA44-98F6AB01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609F-6821-4EB2-9F2E-0461D7AD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145F-E9EB-4C96-A5CE-49A1AF11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452B-D73F-4B55-A223-B85A56DD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1ECF-48AC-4105-B70B-587B4708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258B-E6CE-49B3-BCA6-31D8A498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9562-59BD-4CC6-9922-B467C6CF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7C44-8EFE-43EC-8846-F1E60DA1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0CB8-51EA-4065-8B48-8BC78495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4226-2C05-4D07-B473-519D2532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6280-A424-47E6-98AE-D6385318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D2FA-CFC0-4EED-890E-7A480B03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21A8-4661-413D-AAC2-D92C7F6E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663A-8D41-44AB-B47E-6A0892CD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2A09-4538-4ED9-81C9-E135AFB9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937-5035-4187-B763-A2856732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27C5-C239-4E34-9ED3-7B9D966A0E4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CAAB-B967-4C5E-929D-1484B3C89DA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Типы тканей 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4643280" y="5572080"/>
            <a:ext cx="3772080" cy="914400"/>
          </a:xfrm>
          <a:prstGeom prst="rect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китенко О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ОУ СОШ №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пределите тип  ткани человека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4638600" cy="20476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534528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ителиальная тк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- кожный покровный эпител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состав стенок внутренних органов и кровеносных сосудов входит ткан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1) гладкая мышечная                                         2) волокнистая соединительная                       3) ретикулярная                                                      4) поперечнополосатая мыше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лосовые связки  и фасции образованы ткань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1) гладкая мышечная                                         2) волокнистая соединительная                       3) ретикулярная                                                      4) поперечнополосатая мыше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Эпителиальные тка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1) содержат мало межклеточного вещества и не имеют сосудов                                                     2) имеют хорошо развитое межклеточное вещество                                                3) обладают свойствами сократимости и возбудимости                                                        4) имеют межклеточные цитоплазматические мос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Ткани, с хорошо развитым межклеточным веществом, относятся к                                                                              1) эпителиальным                                             2) нервной                                                            3) соединительным                                                 4) мышеч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ост костей в длину осуществляется за сч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1) хрящевой ткани эпифизов                                                 2) надкостницы                                                            3) желтого костного вещества 4)красного костного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кань, которая обладает высокой возбудимостью и обеспечивает регуляцию процессов жизнедеятельности организма человека, относится 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1) эпителиальной                                             2) нервной                                                            3) соединительной                                                 4) мыш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кани, которые обладают свойствами сократимости и возбудимости и обеспечивают двигательные процессы в организме, относят 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1) эпителиальным                                             2) нервной                                                            3) соединительным                                                 4) мышеч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кани, выполняющие защитную, секреторную и выделительную функции, относят 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1) эпителиальным                                             2) нервной                                                            3) соединительным                                                 4) мышеч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пределите слои древесного стебля и тип соответствующий им ткани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400720" cy="47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ткани человека образуют белое и серое вещество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1) эпителиальные                                             2) нервная                                                            3) соединительные                                                 4) мыше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ткани  организма человека выстилают изнутри полые органы и стенки полостей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1) эпителиальные                                             2) нервная                                                            3) соединительные                                                 4) мыше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В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Установите соответствие между функцией и слоем кожи 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                                       СЛОЙ КО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терморегуляторная                1) эпидерм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термоизоляционная               2) д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запасающая                            3) подкож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дыхательная                            жировая клетча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чувстви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самоочи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714840" y="4572000"/>
            <a:ext cx="463860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Б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Установите соответствие между особенностью строения и функцией клеток корня и зоной, которую они образу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И СТРОЕНИЯ                             ЗОНА КОР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ФУН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клетки активно делятся                              1) зона всасы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клетки постоянно отмирают                       2) корневой чехл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зона образована покровной тканью          3) зона 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зона образована основной ткан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) зона образована образовательной ткан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) обеспечивает минеральное п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верим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 пробка (покровная тка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 кора (покровная и механическая тка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 луб ( проводящая тка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 камбий (образовательная тка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 сосуды древесины (проводящая тка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- сердцевина (запасающая тка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- кожица (покровная тка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пределите тип  ткани человека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2611440" cy="4551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5364000" y="2205000"/>
            <a:ext cx="2372040" cy="2735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635364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верим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единительная ткан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- хрящев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- жир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- кост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- волокн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- кровь – жидкая соединительная тк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пределите тип  ткани человека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835280" y="1195560"/>
            <a:ext cx="5473440" cy="54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верь 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ышечная ткан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- поперечно - полосатая серде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- глад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- поперечно - полосатая скеле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пределите тип  ткани человека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42642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верим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рвная тк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7:44:59Z</dcterms:created>
  <dc:creator>Admin</dc:creator>
  <dc:description/>
  <dc:language>en-US</dc:language>
  <cp:lastModifiedBy>Admin</cp:lastModifiedBy>
  <dcterms:modified xsi:type="dcterms:W3CDTF">2012-11-09T05:40:22Z</dcterms:modified>
  <cp:revision>17</cp:revision>
  <dc:subject/>
  <dc:title>Бесполое размножение организмов</dc:title>
</cp:coreProperties>
</file>