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059-EB04-45DE-9757-42A8DAA8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9E6-F8E8-4396-AE04-D0CDF41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544-040F-47C1-9B5A-B09AE9D6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C45-7CCE-4278-A245-37D186D3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9545-5DE2-4571-B1F0-5A7611B6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A42-5EE6-4AD9-B531-327B89D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002F-C161-4916-B356-335B94B8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B0C7-0A13-421F-A81C-8838B87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02F3-F71D-46D4-9A24-78084669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1BC5-DB1D-4EC0-AD3E-AAE015E8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34C-D825-4C9B-9665-66CEBCD1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A99-226D-4A42-A404-F6C04545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7FFA-03C8-427F-B1E7-E36F986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5123-DA6C-4D36-BCF4-CC91373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D8A-0633-47F0-9A6A-699E6EE9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6AC3-CFF6-456E-B6B2-824B6F38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7A22-D432-466E-BF3A-BD4AD42C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932-F6FD-4B87-AD8D-4DF32AAB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12D-A934-4C41-8062-59EE451E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DAE-33F8-4D5B-8E5E-34F1DB8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C84-7A54-4F8B-983F-0694B75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DDA-51CC-47F2-ACC7-5FE311C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A8B-AB2B-4174-A9B9-338970ED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641-7B47-4E50-BFBF-543E1D7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5AC2-2F69-4B02-9341-41F7258F72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DF1-E295-4021-A4CE-9D45AB166F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Типы тканей 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643280" y="5572080"/>
            <a:ext cx="377208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тенко О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638600" cy="2047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5345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лиаль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кожный покровный эпит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состав стенок внутренних органов и кровеносных сосудов входит тк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1) гладкая мышечная                                         2) волокнистая соединительная                       3) ретикулярная                                                      4) поперечнополосатая мыш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лосовые связки  и фасции образованы ткан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1) гладкая мышечная                                         2) волокнистая соединительная                       3) ретикулярная                                                      4) поперечнополосатая мыш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пителиальные тк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1) содержат мало межклеточного вещества и не имеют сосудов                                                     2) имеют хорошо развитое межклеточное вещество                                                3) обладают свойствами сократимости и возбудимости                                                        4) имеют межклеточные цитоплазматические м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Ткани, с хорошо развитым межклеточным веществом, относятся к                               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ст костей в длину осуществляется за с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1) хрящевой ткани эпифизов                                                 2) надкостницы                                                            3) желтого костного вещества 4)красного костного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ь, которая обладает высокой возбудимостью и обеспечивает регуляцию процессов жизнедеятельности организма человека, относится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1) эпителиальной                                             2) нервной                                                            3) соединительной                                                 4) мыш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и, которые обладают свойствами сократимости и возбудимости и обеспечивают двигательные процессы в организме, относят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и, выполняющие защитную, секреторную и выделительную функции, относят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пределите слои древесного стебля и тип соответствующий им ткан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40072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ткани человека образуют белое и серое веществ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1) эпителиальные                                             2) нервная                                                            3) соединительные                                                 4) мыш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ткани  организма человека выстилают изнутри полые органы и стенки полосте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1) эпителиальные                                             2) нервная                                                            3) соединительные                                                 4) мыш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В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становите соответствие между функцией и слоем кожи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                         СЛОЙ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ерморегуляторная                1) эпидерм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термоизоляционная               2) 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запасающая                            3) подк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дыхательная                            жировая клет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чувст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самоочи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14840" y="4572000"/>
            <a:ext cx="46386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Б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ите соответствие между особенностью строения и функцией клеток корня и зоной, которую они образ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СТРОЕНИЯ                             ЗОНА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летки активно делятся                              1) зона всас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летки постоянно отмирают                       2) корневой чех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зона образована покровной тканью          3) зона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она образована основной тка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зона образована образовательной тка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обеспечивает минера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 пробка (покров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 кора (покровная и механическ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 луб ( проводя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 камбий (образователь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сосуды древесины (проводя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 сердцевина (запасаю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 кожица (покров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611440" cy="455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372040" cy="2735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353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тельная ткан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хряще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жи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кос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 волок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кровь – жидкая соединитель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835280" y="1195560"/>
            <a:ext cx="547344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ь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ышечная тк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поперечно - полосатая серд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глад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поперечно - полосатая скеле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2642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рвная тк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4:59Z</dcterms:created>
  <dc:creator>Admin</dc:creator>
  <dc:description/>
  <dc:language>en-US</dc:language>
  <cp:lastModifiedBy>Admin</cp:lastModifiedBy>
  <dcterms:modified xsi:type="dcterms:W3CDTF">2012-11-09T05:40:22Z</dcterms:modified>
  <cp:revision>17</cp:revision>
  <dc:subject/>
  <dc:title>Бесполое размножение организмов</dc:title>
</cp:coreProperties>
</file>