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23F-4113-44C4-98E0-C370A7F2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B88-9C86-468B-9019-7EF3C637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FD663-1B96-414B-97FD-24497CA8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CDFAF-FAB0-4233-BDD9-DEDAA78C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5430C-2915-4314-B655-A3AA6F5C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DEDE7-61EE-4151-A0F8-826CD12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7BEBB-965D-420C-B594-85079313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EAA1B-11C5-482F-94F7-0CE0FA05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5942C-8CF6-4C53-B670-F516E715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BB404-0807-46AE-B36F-23048341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8A7A0-C11D-4C2E-83B4-B53C6347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C3697-484E-4E72-9D2D-7AD48914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BE1-3BEC-4D3E-AE1A-85946826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7C2E0-069B-4C11-A233-C4FE111B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3F4BD-6AB6-4317-AF73-832FE3FC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C02BD-E03A-4810-B15E-3F161268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A9618-D287-45D5-9B30-022069F9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EA683-7277-4CC5-9613-13DD222F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21114-2135-4951-A108-1E40760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D20F1-F81F-4819-B0E9-B05833F6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25A74-722C-44E3-BF0B-DD22DC6A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52F73-A481-4D32-9E9F-A835B855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517C3-BC22-4DE9-ABB3-FC737AA9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40F-FBBF-4B49-A5E4-183C5ADF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15DEA-819F-4DAB-A472-466E1CAF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A582B-14FF-4FA3-BC21-F724716C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43140-104F-47D7-ABFF-839C2129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954EB-297C-4763-B518-BD11B93C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6D048-5917-457E-BE02-0484964B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31AE8-46E7-4EC7-9CD0-B7D7859F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B9D11-6A05-4DC0-8C4B-C52761E3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B9B77-E3F6-4420-82FF-5B9E3A70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3BF39-0584-4A72-8CB4-36DF9ADB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B65B1-510F-41DA-87A3-196353C3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39BA-A557-4B6E-8D2C-F8B45DE7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B27AC-51FF-413C-A7BA-762F31E3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0E5F0-77A5-40DE-A7C9-317481B9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14FB8-B786-46D0-9916-965F81C1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AD88-FB12-471B-BB60-6D3B8CDC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985E-4634-43AF-9F18-573A7350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9C3D-D3C8-40CF-8854-065C14E6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45ED-5C33-4E1E-BEF9-8232554E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9C69-DD59-4C6C-8884-E7E97FE7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369F-640C-44ED-A8AE-3C6FBD6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C94-5508-40A6-8A6A-0D0164AA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CF9F-3704-4FA8-88FB-BBDDDD64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CF42-02C6-4815-BD69-FDE0533D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A24D-CABF-4803-B4DE-C3BB3A6E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619D-ECB0-4632-B764-CE6B6238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15E8-E086-4672-B2A8-9C94BA32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BBB5-364D-4E9C-809B-3EB54345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FFBC-B071-4AE1-A1CF-FDFEAB04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3CC92-358A-431A-BDD9-9904F358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4D9E-56C6-4F84-899B-A72259FA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7102-A914-4ACA-8F98-51DDC15A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539-87DB-4819-AE3A-830AD24C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F6771-7D3C-46C2-8DB7-82EE07D8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CE8A-EE1B-4784-A48C-4E65D3FC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7248-50E6-46BC-83E3-E6BEBD72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F2FC-D0ED-43B6-94E4-F3A5E1C8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291D-C9D0-401D-BEA4-764B59B3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A22AF-992F-4A8E-8DFD-20ECE268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5C32-4595-4A71-A958-4D2832BA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EA0A-36E9-4750-BDDE-26A77F36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16B26-52F7-48B0-9C0D-4D7BDFEC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2347-AD96-4465-9320-F5919BC0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B96-31D4-4CD9-870B-E4BE1D36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59BC3-7C28-4AB8-BEB3-FC4AF656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C7234-1696-480B-A4F7-B5D4FC92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3C801-1A0C-4208-B1E5-2F590505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514AF-BDA4-41F9-994F-6FD8A703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1848F-A092-4956-B886-3E44D9E2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8CDF6-1EE8-4F0C-84E2-EE38F75F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2DB4D-028C-4461-9B05-24F28815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00DCD-DF3B-44EF-8D42-A498EB20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E9404-AF87-496A-AB13-4DE14FF0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DF803-B146-4F77-949B-792D2F86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39A-3894-4967-8949-4901171D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2660C-CBE8-4376-AB43-1F8597E5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29DCB-67EF-47C7-8C3A-074103DC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E1ED2-5121-46D9-BA16-E9BF3E5E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91A13-61E6-40F4-8ADA-AE4897C7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1753B-E594-4E66-8E48-1E79A92C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C3F43-0810-4452-8D77-B4CD2EA3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1F250-118A-4799-981B-5F6A9D4F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EC50A-96C0-4F46-96DB-236635CC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02234-3BB7-4DE0-A719-18F23CF9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23910-442F-40E8-B0D0-E5FC37F4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3A2-7FAD-4D85-88B1-7F30555A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79753-7A77-4D10-BF5B-0C6DFFA4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55C43-EB22-445B-A6AD-7026A2FF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08F44-6988-4C4A-9426-54EF20DF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8F428-1B93-4A9B-95CB-207605FF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0F36C-7C15-4F3D-A806-5916C52D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7D23A-9C92-4469-9FD1-8206762D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3A6B2-29F9-4400-9F66-A3C8380A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C7D0-9EE6-48EC-B425-0C026468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4FC3A-816F-46BE-973E-852F739D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BF41E-C6C1-4F8D-B073-8A21C64A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603-8142-460C-862A-F62D19CF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C5E1D-07EF-4B3C-B7BB-6431F7C2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0CEEA-274C-45D1-8CDB-AF6B9519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78FA0-FA0D-4F1A-8027-388CD843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7E9C13-D43B-47AD-8893-FB0705E7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51521-E667-4D1C-A848-572CD25B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1D58C-F265-48B3-8315-D5D9869A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048657-0733-48E3-A22F-4F1BA5AB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AE223-8EDA-4721-997A-F96B3CF1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3A973-FEA0-4DE3-A914-CAF73145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93F95-ED92-4B05-82E3-90EA2CDF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F01-5E3B-4EA7-8589-A629793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EC91E-D71B-4A19-8FA9-736BAEE1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34AEC6-5DBD-4826-A4F9-715F7D2B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EC2F0E-81F1-43B0-B849-FBFF2A70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3E877-3875-48ED-AE34-C10D25D3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32A90-F2F6-4E25-A046-A04D8DB8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CF5AC-4E51-414D-8723-B8C0869E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DEDC3-C23A-4B65-BDE8-4E0BC775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B2BAF-FA25-4E66-A1A9-61DD4C42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B2FB-60E5-40D3-B57A-24655346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62C53-3D54-4C31-863B-C07A2D17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17D-1482-4D45-A6A6-098E4B86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AB20B-B677-4F2A-B950-AB0EC936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CB99B-F070-4487-B543-CE71CE0D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BD271-4DE2-47CF-952C-57899D79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8AC5E-F559-4A38-94AF-7A8DEFC6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53B32-4296-4CAF-A372-F9C75808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FD17E-250E-4D80-9077-84BF993D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9A855-3352-4121-BB2F-8921B2F2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BEAF6-BA84-41CA-AB04-B0C77BCC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68A1E-E99B-488B-AD6B-98555657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83BB5-D254-42C9-896C-BB08C0B8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868C-7496-404A-8600-67E5696CA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4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4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4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54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4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551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52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3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4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555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56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7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8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9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60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56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6DF1-529B-4638-8BB3-EFCC43344CB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0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0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60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0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0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3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059D-D04C-4BC2-867B-2A360EB14C1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6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7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9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9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9578-C346-4A77-ABAF-D9E380B636C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89AF-9C43-4AE3-BCDB-7DA50DD3CA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1A3E-71E8-4D70-B793-779B5AF6922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2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grpSp>
            <p:nvGrpSpPr>
              <p:cNvPr id="2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2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220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221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2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grpSp>
            <p:nvGrpSpPr>
              <p:cNvPr id="223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224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5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7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8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9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31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2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3CE0-ADB6-4889-96C7-857A391ADF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1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31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1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9F6D-82EA-4057-B3E9-8054486780D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5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6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6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36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6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37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7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3F74-EE9A-4884-87BB-978EA8F48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4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4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4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4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4D3A-C371-4A8F-92E9-BD863A79B4B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159D-87AA-4C82-A22A-0D743B03688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2800" spc="-1" strike="noStrike">
                <a:solidFill>
                  <a:srgbClr val="e3e3ff"/>
                </a:solidFill>
                <a:latin typeface="Monotype Corsiva"/>
              </a:rPr>
              <a:t>Кугут Ирина Анатольевна, учитель географии 1 категории МОУ СОШ №32 «Эврика-развитие» г. Волжский Волгоградской области</a:t>
            </a:r>
            <a:br>
              <a:rPr sz="2800"/>
            </a:b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Monotype Corsiva"/>
              </a:rPr>
              <a:t>СТРУКТУРИРОВАНИЕ</a:t>
            </a: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Monotype Corsiva"/>
              </a:rPr>
              <a:t>УРО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Organization Chart 82"/>
          <p:cNvGrpSpPr/>
          <p:nvPr/>
        </p:nvGrpSpPr>
        <p:grpSpPr>
          <a:xfrm>
            <a:off x="0" y="1544760"/>
            <a:ext cx="9143640" cy="3071520"/>
            <a:chOff x="0" y="1544760"/>
            <a:chExt cx="9143640" cy="3071520"/>
          </a:xfrm>
        </p:grpSpPr>
        <p:cxnSp>
          <p:nvCxnSpPr>
            <p:cNvPr id="669" name="_s1028"/>
            <p:cNvCxnSpPr>
              <a:stCxn id="670" idx="0"/>
              <a:endCxn id="671" idx="2"/>
            </p:cNvCxnSpPr>
            <p:nvPr/>
          </p:nvCxnSpPr>
          <p:spPr>
            <a:xfrm flipV="1" rot="16200000">
              <a:off x="6394680" y="390600"/>
              <a:ext cx="229320" cy="387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2" name="_s1029"/>
            <p:cNvCxnSpPr>
              <a:stCxn id="673" idx="0"/>
              <a:endCxn id="671" idx="2"/>
            </p:cNvCxnSpPr>
            <p:nvPr/>
          </p:nvCxnSpPr>
          <p:spPr>
            <a:xfrm flipV="1" rot="16200000">
              <a:off x="5619960" y="1165320"/>
              <a:ext cx="229320" cy="2326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4" name="_s1030"/>
            <p:cNvCxnSpPr>
              <a:stCxn id="675" idx="0"/>
              <a:endCxn id="671" idx="2"/>
            </p:cNvCxnSpPr>
            <p:nvPr/>
          </p:nvCxnSpPr>
          <p:spPr>
            <a:xfrm flipV="1" rot="16200000">
              <a:off x="4844160" y="1941120"/>
              <a:ext cx="229320" cy="77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6" name="_s1031"/>
            <p:cNvCxnSpPr>
              <a:stCxn id="677" idx="0"/>
              <a:endCxn id="671" idx="2"/>
            </p:cNvCxnSpPr>
            <p:nvPr/>
          </p:nvCxnSpPr>
          <p:spPr>
            <a:xfrm flipH="1" flipV="1" rot="5400000">
              <a:off x="4070160" y="1941480"/>
              <a:ext cx="229320" cy="774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8" name="_s1032"/>
            <p:cNvCxnSpPr>
              <a:stCxn id="679" idx="0"/>
              <a:endCxn id="671" idx="2"/>
            </p:cNvCxnSpPr>
            <p:nvPr/>
          </p:nvCxnSpPr>
          <p:spPr>
            <a:xfrm flipH="1" flipV="1" rot="5400000">
              <a:off x="3294000" y="1166040"/>
              <a:ext cx="229320" cy="2325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0" name="_s1033"/>
            <p:cNvCxnSpPr>
              <a:stCxn id="681" idx="0"/>
              <a:endCxn id="671" idx="2"/>
            </p:cNvCxnSpPr>
            <p:nvPr/>
          </p:nvCxnSpPr>
          <p:spPr>
            <a:xfrm flipH="1" flipV="1" rot="5400000">
              <a:off x="2519280" y="390600"/>
              <a:ext cx="229320" cy="387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71" name="_s1034"/>
            <p:cNvSpPr/>
            <p:nvPr/>
          </p:nvSpPr>
          <p:spPr>
            <a:xfrm>
              <a:off x="1441440" y="1544760"/>
              <a:ext cx="6260760" cy="6699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b812f"/>
                  </a:solidFill>
                  <a:latin typeface="Arial"/>
                </a:rPr>
                <a:t>Последовательность </a:t>
              </a:r>
              <a:endParaRPr b="0" lang="en-US" sz="19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b812f"/>
                  </a:solidFill>
                  <a:latin typeface="Arial"/>
                </a:rPr>
                <a:t>действий учителя при разработке</a:t>
              </a:r>
              <a:r>
                <a:rPr b="1" lang="en-US" sz="10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3b812f"/>
                  </a:solidFill>
                  <a:latin typeface="Arial"/>
                </a:rPr>
                <a:t>структуры урока</a:t>
              </a:r>
              <a:endParaRPr b="0" lang="en-US" sz="19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1" name="_s1035"/>
            <p:cNvSpPr/>
            <p:nvPr/>
          </p:nvSpPr>
          <p:spPr>
            <a:xfrm>
              <a:off x="0" y="2443320"/>
              <a:ext cx="1393920" cy="2172960"/>
            </a:xfrm>
            <a:custGeom>
              <a:avLst/>
              <a:gdLst>
                <a:gd name="textAreaLeft" fmla="*/ 68040 w 1393920"/>
                <a:gd name="textAreaRight" fmla="*/ 1325880 w 139392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69">
                  <a:moveTo>
                    <a:pt x="3600" y="0"/>
                  </a:moveTo>
                  <a:arcTo wR="3600" hR="3600" stAng="16200000" swAng="-5400000"/>
                  <a:lnTo>
                    <a:pt x="0" y="30069"/>
                  </a:lnTo>
                  <a:arcTo wR="3600" hR="3600" stAng="10800000" swAng="-5400000"/>
                  <a:lnTo>
                    <a:pt x="18000" y="336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Формулировка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целей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урока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9" name="_s1036"/>
            <p:cNvSpPr/>
            <p:nvPr/>
          </p:nvSpPr>
          <p:spPr>
            <a:xfrm>
              <a:off x="1550160" y="2443320"/>
              <a:ext cx="1393560" cy="2172960"/>
            </a:xfrm>
            <a:custGeom>
              <a:avLst/>
              <a:gdLst>
                <a:gd name="textAreaLeft" fmla="*/ 68040 w 1393560"/>
                <a:gd name="textAreaRight" fmla="*/ 1325520 w 139356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77">
                  <a:moveTo>
                    <a:pt x="3600" y="0"/>
                  </a:moveTo>
                  <a:arcTo wR="3600" hR="3600" stAng="16200000" swAng="-5400000"/>
                  <a:lnTo>
                    <a:pt x="0" y="30077"/>
                  </a:lnTo>
                  <a:arcTo wR="3600" hR="3600" stAng="10800000" swAng="-5400000"/>
                  <a:lnTo>
                    <a:pt x="18000" y="336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ыбор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модели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структуры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урока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7" name="_s1037"/>
            <p:cNvSpPr/>
            <p:nvPr/>
          </p:nvSpPr>
          <p:spPr>
            <a:xfrm>
              <a:off x="3099960" y="2443320"/>
              <a:ext cx="1393920" cy="2172960"/>
            </a:xfrm>
            <a:custGeom>
              <a:avLst/>
              <a:gdLst>
                <a:gd name="textAreaLeft" fmla="*/ 68040 w 1393920"/>
                <a:gd name="textAreaRight" fmla="*/ 1325880 w 139392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69">
                  <a:moveTo>
                    <a:pt x="3600" y="0"/>
                  </a:moveTo>
                  <a:arcTo wR="3600" hR="3600" stAng="16200000" swAng="-5400000"/>
                  <a:lnTo>
                    <a:pt x="0" y="30069"/>
                  </a:lnTo>
                  <a:arcTo wR="3600" hR="3600" stAng="10800000" swAng="-5400000"/>
                  <a:lnTo>
                    <a:pt x="18000" y="336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ыделение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смысловых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блоков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5" name="_s1038"/>
            <p:cNvSpPr/>
            <p:nvPr/>
          </p:nvSpPr>
          <p:spPr>
            <a:xfrm>
              <a:off x="4650120" y="2443320"/>
              <a:ext cx="1393560" cy="2172960"/>
            </a:xfrm>
            <a:custGeom>
              <a:avLst/>
              <a:gdLst>
                <a:gd name="textAreaLeft" fmla="*/ 68040 w 1393560"/>
                <a:gd name="textAreaRight" fmla="*/ 1325520 w 139356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77">
                  <a:moveTo>
                    <a:pt x="3600" y="0"/>
                  </a:moveTo>
                  <a:arcTo wR="3600" hR="3600" stAng="16200000" swAng="-5400000"/>
                  <a:lnTo>
                    <a:pt x="0" y="30077"/>
                  </a:lnTo>
                  <a:arcTo wR="3600" hR="3600" stAng="10800000" swAng="-5400000"/>
                  <a:lnTo>
                    <a:pt x="18000" y="336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Формулировка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познавательных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задач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3" name="_s1039"/>
            <p:cNvSpPr/>
            <p:nvPr/>
          </p:nvSpPr>
          <p:spPr>
            <a:xfrm>
              <a:off x="6199920" y="2443320"/>
              <a:ext cx="1393920" cy="2172960"/>
            </a:xfrm>
            <a:custGeom>
              <a:avLst/>
              <a:gdLst>
                <a:gd name="textAreaLeft" fmla="*/ 68040 w 1393920"/>
                <a:gd name="textAreaRight" fmla="*/ 1325880 w 139392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69">
                  <a:moveTo>
                    <a:pt x="3600" y="0"/>
                  </a:moveTo>
                  <a:arcTo wR="3600" hR="3600" stAng="16200000" swAng="-5400000"/>
                  <a:lnTo>
                    <a:pt x="0" y="30069"/>
                  </a:lnTo>
                  <a:arcTo wR="3600" hR="3600" stAng="10800000" swAng="-5400000"/>
                  <a:lnTo>
                    <a:pt x="18000" y="336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Планирование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познавательной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деятельности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учащихся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применительно к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каждой задаче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отбор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методов и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форм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организации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обучения)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0" name="_s1040"/>
            <p:cNvSpPr/>
            <p:nvPr/>
          </p:nvSpPr>
          <p:spPr>
            <a:xfrm>
              <a:off x="7750080" y="2443320"/>
              <a:ext cx="1393560" cy="2172960"/>
            </a:xfrm>
            <a:custGeom>
              <a:avLst/>
              <a:gdLst>
                <a:gd name="textAreaLeft" fmla="*/ 68040 w 1393560"/>
                <a:gd name="textAreaRight" fmla="*/ 1325520 w 139356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77">
                  <a:moveTo>
                    <a:pt x="3600" y="0"/>
                  </a:moveTo>
                  <a:arcTo wR="3600" hR="3600" stAng="16200000" swAng="-5400000"/>
                  <a:lnTo>
                    <a:pt x="0" y="30077"/>
                  </a:lnTo>
                  <a:arcTo wR="3600" hR="3600" stAng="10800000" swAng="-5400000"/>
                  <a:lnTo>
                    <a:pt x="18000" y="336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800" rIns="198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Анализ хода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урока с точки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зрения того,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едёт ли он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к достижению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ыдвинутых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целей;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несение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необходимых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корректив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139"/>
                </a:solidFill>
                <a:latin typeface="Lucida Console"/>
              </a:rPr>
              <a:t>Разработка структуры урока и планирования познавательной деятельности учащих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06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660"/>
                </a:solidFill>
                <a:latin typeface="Arial"/>
              </a:rPr>
              <a:t>Структурирование урока по смысловым блокам с постановкой познавательных задач позволяет соединить содержательную и деятельностную стороны учеб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06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660"/>
                </a:solidFill>
                <a:latin typeface="Arial"/>
              </a:rPr>
              <a:t>В проблемном уроке содержание и последовательность смысловых блоков определяется логикой решения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06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660"/>
                </a:solidFill>
                <a:latin typeface="Arial"/>
              </a:rPr>
              <a:t>В географии возможна и такая модель, в которой образующие структуру урока смысловые блоки выстроены в логике рассуждения при проведении срав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175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Organization Chart 12"/>
          <p:cNvGrpSpPr/>
          <p:nvPr/>
        </p:nvGrpSpPr>
        <p:grpSpPr>
          <a:xfrm>
            <a:off x="431640" y="1089000"/>
            <a:ext cx="8261280" cy="3184560"/>
            <a:chOff x="431640" y="1089000"/>
            <a:chExt cx="8261280" cy="3184560"/>
          </a:xfrm>
        </p:grpSpPr>
        <p:cxnSp>
          <p:nvCxnSpPr>
            <p:cNvPr id="685" name="_s2052"/>
            <p:cNvCxnSpPr>
              <a:stCxn id="686" idx="0"/>
              <a:endCxn id="687" idx="2"/>
            </p:cNvCxnSpPr>
            <p:nvPr/>
          </p:nvCxnSpPr>
          <p:spPr>
            <a:xfrm flipV="1" rot="16200000">
              <a:off x="5862960" y="631800"/>
              <a:ext cx="229320" cy="2831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8" name="_s2053"/>
            <p:cNvCxnSpPr>
              <a:stCxn id="689" idx="0"/>
              <a:endCxn id="687" idx="2"/>
            </p:cNvCxnSpPr>
            <p:nvPr/>
          </p:nvCxnSpPr>
          <p:spPr>
            <a:xfrm flipV="1">
              <a:off x="4562640" y="193284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0" name="_s2054"/>
            <p:cNvCxnSpPr>
              <a:stCxn id="691" idx="0"/>
              <a:endCxn id="687" idx="2"/>
            </p:cNvCxnSpPr>
            <p:nvPr/>
          </p:nvCxnSpPr>
          <p:spPr>
            <a:xfrm flipH="1" flipV="1" rot="5400000">
              <a:off x="3031920" y="632160"/>
              <a:ext cx="229320" cy="2831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7" name="_s2055"/>
            <p:cNvSpPr/>
            <p:nvPr/>
          </p:nvSpPr>
          <p:spPr>
            <a:xfrm>
              <a:off x="2796480" y="1089000"/>
              <a:ext cx="3531240" cy="84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одели структуры урока географии,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образованные смысловыми блоками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91" name="_s2056"/>
            <p:cNvSpPr/>
            <p:nvPr/>
          </p:nvSpPr>
          <p:spPr>
            <a:xfrm>
              <a:off x="431640" y="2162160"/>
              <a:ext cx="260028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На основе пунктов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типового плана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характеристик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компонента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рироды, ПТК,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отраслей народного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Хозяйства, района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9" name="_s2057"/>
            <p:cNvSpPr/>
            <p:nvPr/>
          </p:nvSpPr>
          <p:spPr>
            <a:xfrm>
              <a:off x="3262320" y="2162160"/>
              <a:ext cx="259992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Структура определяется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логикой решения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6" name="_s2058"/>
            <p:cNvSpPr/>
            <p:nvPr/>
          </p:nvSpPr>
          <p:spPr>
            <a:xfrm>
              <a:off x="6092640" y="2162160"/>
              <a:ext cx="260028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Структура определяется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логикой приёма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сравнения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2818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ыбор  методов обучения определяется местом обучения в кур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187280" y="1700280"/>
          <a:ext cx="7488360" cy="4919760"/>
        </p:xfrm>
        <a:graphic>
          <a:graphicData uri="http://schemas.openxmlformats.org/drawingml/2006/table">
            <a:tbl>
              <a:tblPr/>
              <a:tblGrid>
                <a:gridCol w="4788000"/>
                <a:gridCol w="2700360"/>
              </a:tblGrid>
              <a:tr h="190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551139"/>
                          </a:solidFill>
                          <a:latin typeface="Arial Narrow"/>
                        </a:rPr>
                        <a:t>Прежде всего он должен решить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551139"/>
                          </a:solidFill>
                          <a:latin typeface="Arial Narrow"/>
                        </a:rPr>
                        <a:t>Факторы, влияющие на решени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 каких вопросах будут использованы типовые самостоятельные работы, а в каких – проблемные или творчески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Какой учебный материал будет дан в готовом виде, а какой будет изучен школьниками самостоятельно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оответствуют ли отобранные методы обучения возрастным особенностям учащих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Цели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держание уро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дготовка учащихс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озрастные особенности учащихс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личие средств обучения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бобщение опыта по теме: «Структурирование урока география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4720" y="2016000"/>
            <a:ext cx="3888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ботая по теме «Структурирование уроков географии по смысловым блокам» разработала систему уроков по некоторым тем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 8-10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1" descr="102649c50c5165e269d843ef5c68ae0f"/>
          <p:cNvPicPr/>
          <p:nvPr/>
        </p:nvPicPr>
        <p:blipFill>
          <a:blip r:embed="rId1"/>
          <a:stretch/>
        </p:blipFill>
        <p:spPr>
          <a:xfrm>
            <a:off x="4788000" y="1628640"/>
            <a:ext cx="4032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9 класс. Тема: «Природа Волгоградской обла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79280" y="1341360"/>
          <a:ext cx="8785440" cy="5405400"/>
        </p:xfrm>
        <a:graphic>
          <a:graphicData uri="http://schemas.openxmlformats.org/drawingml/2006/table">
            <a:tbl>
              <a:tblPr/>
              <a:tblGrid>
                <a:gridCol w="2376720"/>
                <a:gridCol w="2952720"/>
                <a:gridCol w="3456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мысловые бл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знавательные зад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0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снования для утверждения о выгодности ЭГП Волгоградской обла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ая истор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казать, что область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выгодна расположена относительно сырьевых баз страны, транспортных магистрале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выгодность ЭГП положительно влияет на развитие хозяйства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явить основные этапы формирования природы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по группам с картами и другими источниками для построения доказательств. ( 3 уровен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ваивают проблемное изложение учителя, составляют за ним схематичный конспект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9" name=""/>
          <p:cNvGraphicFramePr/>
          <p:nvPr/>
        </p:nvGraphicFramePr>
        <p:xfrm>
          <a:off x="250920" y="274680"/>
          <a:ext cx="8713800" cy="6400800"/>
        </p:xfrm>
        <a:graphic>
          <a:graphicData uri="http://schemas.openxmlformats.org/drawingml/2006/table">
            <a:tbl>
              <a:tblPr/>
              <a:tblGrid>
                <a:gridCol w="2160360"/>
                <a:gridCol w="3097440"/>
                <a:gridCol w="3456000"/>
              </a:tblGrid>
              <a:tr h="642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я, рельеф и полезные ископаемы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    Климат, агроклиматические ресурс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    Реки, озё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    Почвенно-растительные ресурсы. Животный ми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яснить связь между геологическим строением, современным рельефом и полезными ископаемым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ить главные черты климата в зависимости от климатообразующих фактор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ь особенности внутренних вод , их зависимость от рельефа и клима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ить и объяснить главные черты природных зон, их смену в зависимости от клима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с учебником, картам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уровень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по группам с картами, диаграммами, климатограммами и другими источниками. (2 уровень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с текстом учебника по заполнению сравнительной таблицы. (2 уровень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ваивают проблемное изложение учителя, заполняя  по ходу таблицу. (1 уровень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602"/>
            </a:gs>
            <a:gs pos="100000">
              <a:srgbClr val="9fd7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250920" y="274680"/>
          <a:ext cx="8642160" cy="6400800"/>
        </p:xfrm>
        <a:graphic>
          <a:graphicData uri="http://schemas.openxmlformats.org/drawingml/2006/table">
            <a:tbl>
              <a:tblPr/>
              <a:tblGrid>
                <a:gridCol w="1944720"/>
                <a:gridCol w="3024000"/>
                <a:gridCol w="3673440"/>
              </a:tblGrid>
              <a:tr h="67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    Природные комплексы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     Охрана природ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      Памятники       природы Волгоградской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    Природа Волгоградской об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делить ПТК и дать их характеристик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явить особенности охраны атмосферы, гидросферы, биосферы, литосфер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комить с уголками природы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бщить полученные зн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в группах по оставлению характеристики, используя творческий подход к отчёту о проделанной работе. (3 уровень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по установлению причинно-следственных связей. (3 уровень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вуют в семинаре, пишут эссе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вуют в зачёте, выполняют тестовую работ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держание и последовательность смысловых блоков отражает типовую схему изучения ПТ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5" descr="80db34f6112e72b3e46fdb737069490d"/>
          <p:cNvPicPr/>
          <p:nvPr/>
        </p:nvPicPr>
        <p:blipFill>
          <a:blip r:embed="rId1"/>
          <a:stretch/>
        </p:blipFill>
        <p:spPr>
          <a:xfrm>
            <a:off x="1692360" y="2205000"/>
            <a:ext cx="62643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9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99ff"/>
                </a:solidFill>
                <a:latin typeface="Monotype Corsiva"/>
              </a:rPr>
              <a:t>10 класс. Тема: «Промышленность- ведущая отрасль мирового хозяйств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Black"/>
              </a:rPr>
              <a:t>Аналогично можно развернуть учебный материал при рассмотрении любого компонента природы, отрасли промышленности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ru-RU" sz="8000" spc="-1" strike="noStrike">
                <a:solidFill>
                  <a:srgbClr val="990000"/>
                </a:solidFill>
                <a:latin typeface="Arial Black"/>
              </a:rPr>
              <a:t>ЦЕЛЬ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 Narrow"/>
              </a:rPr>
              <a:t>  </a:t>
            </a:r>
            <a:r>
              <a:rPr b="0" lang="ru-RU" sz="4800" spc="-1" strike="noStrike">
                <a:solidFill>
                  <a:srgbClr val="003300"/>
                </a:solidFill>
                <a:latin typeface="Courier New"/>
              </a:rPr>
              <a:t>ОБОСНОВАТЬ РАЗНООБРАЗИЕ СТРУКТУРИРОВАНИЯ УРОКОВ ГЕОГРАФИИ ПО СМЫСЛОВЫМ БЛОКАМ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 Narrow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bb"/>
                </a:solidFill>
                <a:latin typeface="Monotype Corsiva"/>
              </a:rPr>
              <a:t>Урок №1 «Промышленность» (урок лекция</a:t>
            </a:r>
            <a:r>
              <a:rPr b="0" lang="ru-RU" sz="4000" spc="-1" strike="noStrike">
                <a:solidFill>
                  <a:srgbClr val="c000bb"/>
                </a:solidFill>
                <a:latin typeface="Monotype Corsiv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214200" y="1268280"/>
          <a:ext cx="8929800" cy="5353200"/>
        </p:xfrm>
        <a:graphic>
          <a:graphicData uri="http://schemas.openxmlformats.org/drawingml/2006/table">
            <a:tbl>
              <a:tblPr/>
              <a:tblGrid>
                <a:gridCol w="1871640"/>
                <a:gridCol w="2521080"/>
                <a:gridCol w="2952720"/>
                <a:gridCol w="15843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ысловые бло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вательные задач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и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86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Промышленность: история формирования, значение, основные функц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2.       Отраслевая структура промышл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А) Выявить этапы становления промышленного производства в мир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Б) Определить значение и основные функции промышлен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отраслевой состав  и классифицировать по различным призна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учителя и заполняют систематизирующую таблиц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амостоятельная работа с учебником и дополнительным источником знани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амостоятельная работа с учебником и дополнительным источником знаний, составление схематичного конспекта «Классификация отраслей промышленности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. 111 и  дополнительный тек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.111-112 и дополнительный тек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bb"/>
                </a:solidFill>
                <a:latin typeface="Monotype Corsiva"/>
              </a:rPr>
              <a:t>Урок №1 «Промышленность» (урок лекция</a:t>
            </a:r>
            <a:r>
              <a:rPr b="0" lang="ru-RU" sz="4000" spc="-1" strike="noStrike">
                <a:solidFill>
                  <a:srgbClr val="c000bb"/>
                </a:solidFill>
                <a:latin typeface="Monotype Corsiva"/>
              </a:rPr>
              <a:t>)</a:t>
            </a:r>
            <a:br>
              <a:rPr sz="4000"/>
            </a:br>
            <a:r>
              <a:rPr b="0" lang="ru-RU" sz="1800" spc="-1" strike="noStrike">
                <a:solidFill>
                  <a:srgbClr val="808000"/>
                </a:solidFill>
                <a:latin typeface="Monotype Corsiva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430200" y="1125360"/>
          <a:ext cx="8713800" cy="5732640"/>
        </p:xfrm>
        <a:graphic>
          <a:graphicData uri="http://schemas.openxmlformats.org/drawingml/2006/table">
            <a:tbl>
              <a:tblPr/>
              <a:tblGrid>
                <a:gridCol w="1981080"/>
                <a:gridCol w="2376720"/>
                <a:gridCol w="2771640"/>
                <a:gridCol w="1584360"/>
              </a:tblGrid>
              <a:tr h="606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Изменение отраслевой структуры в эпоху НТ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ровень развития промышленного производства в странах мир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Лидеры промышленного производ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оль стран мира на мировом промышленном рын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тановить и объяснить изменения в отраслевой структуре промышленност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страны с индустриальной структурой хозяйства, долю ВВП на промышленное производство некоторых стран мир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лидеров промышленного производ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участие страны в МГРТ  по промышленной продукции и значение на мировом промышленном рын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усваивают проблемное изложение учителя, выполняя схематический конспек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амостоятельная работа со статистическим материал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абота с дополнительным источником зна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комятся с особенностями  творческой работы по теме и определяют страну, по которой будет выполнена рабо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3300"/>
                          </a:solidFill>
                          <a:latin typeface="Franklin Gothic Medium"/>
                        </a:rPr>
                        <a:t>Творческая работа выполняется во внеурочное время и защищается на уроке №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аблица в учебнике (приложе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Дополнительный текст, карты атлас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Дополнительная литература, ресурсы Интерне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Monotype Corsiva"/>
              </a:rPr>
              <a:t>Урок №2 «Топливно-энергетическая промышленность» (урок практику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79280" y="1052640"/>
          <a:ext cx="8785440" cy="5602320"/>
        </p:xfrm>
        <a:graphic>
          <a:graphicData uri="http://schemas.openxmlformats.org/drawingml/2006/table">
            <a:tbl>
              <a:tblPr/>
              <a:tblGrid>
                <a:gridCol w="2160720"/>
                <a:gridCol w="2592360"/>
                <a:gridCol w="2879640"/>
                <a:gridCol w="1152720"/>
              </a:tblGrid>
              <a:tr h="65923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чение, состав, структура, особенности, факторы ориентации отрасли промышленности. Взаимосвязь с другими отраслями мирового хозяй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Нефтяная, газовая, угольная промышленности; электроэнергет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значение, состав, структуру и особенности отрасли, установить взаимосвязь с другими отраслями мирового хозяй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особенности, характеризующие отрасли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составляют кляйстер по теме, опираясь на знания 9 клас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абота по группам (4 группы) по карточкам-заданиям, с использованием учебника и дополнительных источников познания. учебн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чёт о проделанноё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екст учебника, атлас, картосхемы и 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Monotype Corsiva"/>
              </a:rPr>
              <a:t>Урок №3 «горнодобывающая промышленность» (конференц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324000" y="1628640"/>
          <a:ext cx="8785080" cy="5297760"/>
        </p:xfrm>
        <a:graphic>
          <a:graphicData uri="http://schemas.openxmlformats.org/drawingml/2006/table">
            <a:tbl>
              <a:tblPr/>
              <a:tblGrid>
                <a:gridCol w="2808000"/>
                <a:gridCol w="1944720"/>
                <a:gridCol w="3095640"/>
                <a:gridCol w="936720"/>
              </a:tblGrid>
              <a:tr h="61642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чение, состав, структура, особенности, факторы ориентации отрасли промышленности. Взаимосвязь с другими отраслями мирового хозяй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еликие горнодобывающие стра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аны с узкой горнодобывающей промышленност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сновные грузопотоки полезных ископаемы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Горнодобывающая промышленность: подведение итог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значение, состав, структуру и особенности отрасли, установить взаимосвязь с другими отраслями мирового хозяй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роль и значение этих стран в МГР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роль и значение этих стран в МГР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снить оснавные направления грузопоток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бобщить полученные знания по тем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составляют кляйстер по теме, опираясь на знания 9 класс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задают вопросы, делают записи в тетрадя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задают вопросы, делают записи в тетрад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оставляют картосхему основных грузопотоков полезных ископаемы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пишут статью или эссэ по теме, используя свои записи и полученные ответы на поставленные вопрос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Карты атласа  и учеб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.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Monotype Corsiva"/>
              </a:rPr>
              <a:t>Урок №4 «Машиностроение, металлургия, химическая промышленность» (урок практику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250920" y="1916280"/>
          <a:ext cx="8785080" cy="4773600"/>
        </p:xfrm>
        <a:graphic>
          <a:graphicData uri="http://schemas.openxmlformats.org/drawingml/2006/table">
            <a:tbl>
              <a:tblPr/>
              <a:tblGrid>
                <a:gridCol w="1944720"/>
                <a:gridCol w="2501640"/>
                <a:gridCol w="2767320"/>
                <a:gridCol w="1571400"/>
              </a:tblGrid>
              <a:tr h="55069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чение, состав, структура, особенности, факторы ориентации  отраслей промышленност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Машиностроение, металлургия, химическая промышлен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значение, состав, структуру и особенности отраслей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особенности, характеризующие отрасли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составляют кляйстер по вариантам (1-металлургия; 2-машиностроение; 3-химическая) кляйстер по теме, опираясь на знания 9 клас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абота по группам (4 группы) по карточкам-заданиям, с использованием учебника и дополнительных источников познания. учебн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чёт о проделанноё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екст учебника, атлас, картосхемы и 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Monotype Corsiva"/>
              </a:rPr>
              <a:t>Урок №5 «Лесная и лёгкая промышленность» ( урок-практику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50920" y="1600200"/>
          <a:ext cx="8642160" cy="5065560"/>
        </p:xfrm>
        <a:graphic>
          <a:graphicData uri="http://schemas.openxmlformats.org/drawingml/2006/table">
            <a:tbl>
              <a:tblPr/>
              <a:tblGrid>
                <a:gridCol w="2160360"/>
                <a:gridCol w="2592360"/>
                <a:gridCol w="2448000"/>
                <a:gridCol w="1441440"/>
              </a:tblGrid>
              <a:tr h="507780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чение, состав, структура, особенности,  факторы ориентации отраслей промышлен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Лесная и лёгкая промышлен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значение, состав, структуру и особенности отраслей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особенности, характеризующие отрасли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составляют клейстер по теме, опираясь на знания 9 клас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абота в парах (2 варианта) по карточкам-заданиям, с использованием учебника и дополнительных источников познания. учебн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чёт о проделанноё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екст учебника, атлас, картосхемы и 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Monotype Corsiva"/>
              </a:rPr>
              <a:t>Урок №6 «Промышленность и окружающая среда» ( семина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0" y="1052640"/>
          <a:ext cx="9144000" cy="5851440"/>
        </p:xfrm>
        <a:graphic>
          <a:graphicData uri="http://schemas.openxmlformats.org/drawingml/2006/table">
            <a:tbl>
              <a:tblPr/>
              <a:tblGrid>
                <a:gridCol w="2268360"/>
                <a:gridCol w="3095640"/>
                <a:gridCol w="2880000"/>
                <a:gridCol w="900000"/>
              </a:tblGrid>
              <a:tr h="62888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боснование для выделения проблем окружающей сред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Горнодобывающая промышленность и окружающая сре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Металлургия и окружающая сре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Химическая промышленность и окружающая сре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Лесная промышленность и окружающая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А) Доказать, сто промышлен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негативно влияет на окружающую сред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Б) Понять связь этой проблемы с промышленными отрасля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ценить влияние отрасли на окружающую среду и выявить причины и пути решения пробл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ценить влияние отрасли на окружающую среду и выявить причины и пути решения пробл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ценить влияние отрасли на окружающую среду и выявить причины и пути решения пробл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ценить влияние отрасли на окружающую среду и выявить причины и пути решения пробл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амостоятельная работа с источниками знаний для построения доказатель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учител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отвечают на вопросы, участвуют в дискусс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отвечают на вопросы, участвуют в дискусс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отвечают на вопросы, участвуют в дискусс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отвечают на вопросы, участвуют в дискусс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. 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bb"/>
                </a:solidFill>
                <a:latin typeface="Monotype Corsiva"/>
              </a:rPr>
              <a:t>Урок №7 «Территориальная структура промышленности» (урок-исследов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50920" y="1600200"/>
          <a:ext cx="8642160" cy="4853160"/>
        </p:xfrm>
        <a:graphic>
          <a:graphicData uri="http://schemas.openxmlformats.org/drawingml/2006/table">
            <a:tbl>
              <a:tblPr/>
              <a:tblGrid>
                <a:gridCol w="2162160"/>
                <a:gridCol w="2538360"/>
                <a:gridCol w="2417760"/>
                <a:gridCol w="1523880"/>
              </a:tblGrid>
              <a:tr h="49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История формирования промышленных районов ми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овременные типы промышленных районов мира и их особен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География промышленных районов ми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этапы формирования промышленных район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типы, базовые отрасли (факторы ориентации)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тановить особенности размещения промышленных районов по странам ми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учителя и заполняют систематизирующую таблиц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учителя и заполняют систематизирующую таблиц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оставляют картосхемы «Промышленные районы мир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аполненная таблица и карты атла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bb"/>
                </a:solidFill>
                <a:latin typeface="Monotype Corsiva"/>
              </a:rPr>
              <a:t>Урок №8 «Промышленность мира» (защита творческих работ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457200" y="1981080"/>
          <a:ext cx="8229600" cy="4432320"/>
        </p:xfrm>
        <a:graphic>
          <a:graphicData uri="http://schemas.openxmlformats.org/drawingml/2006/table">
            <a:tbl>
              <a:tblPr/>
              <a:tblGrid>
                <a:gridCol w="2057400"/>
                <a:gridCol w="2562120"/>
                <a:gridCol w="2232000"/>
                <a:gridCol w="1378080"/>
              </a:tblGrid>
              <a:tr h="44967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бобщение знаний по теме: «Промышленность – ведущая отрасль мирового хозяйств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оль стран мира на мировом промышленном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ынк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бобщить полученные знания по теме «Промышленность – ведущая отрасль мирового хозяйств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участие страны в МГРТ  по промышленной продукции и значение на мировом промышленном рынк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вечают на вопросы тес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ащита творческих раб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Итог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д структурой урока подразумевается его внутреннее строение, последовательность отдельных этап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к сегодня рассматривается не столько с точки зрения формального сочетания и последовательности его этапов, сколько с позиций постановки и достижения целей, эффективности познавательной деятельности. Учитель сегодня свободен в выборе структуры урока, лишь бы она обеспечивала высокую результативность обучения 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8ca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f1e48"/>
                </a:solidFill>
                <a:latin typeface="Courier New"/>
              </a:rPr>
              <a:t> </a:t>
            </a:r>
            <a:r>
              <a:rPr b="1" lang="ru-RU" sz="6600" spc="-1" strike="noStrike">
                <a:solidFill>
                  <a:srgbClr val="640223"/>
                </a:solidFill>
                <a:latin typeface="Courier New"/>
              </a:rPr>
              <a:t>задачи: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знакомить с разработкой структуры урока по смысловым блока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ить особенности данной модели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ить последовательность действий учителя при разработке данной структ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общить опыт работы по данной тем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229600" cy="81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ирование урока подразумевает включение исходного учебного материала в дидактическую структуру, являющуюся составной частью системы организации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дактическая структура урока объединяет передаваемое учащимся содержание, все используемые средства обучения, деятельность преподавателя и деятельность учащихся в определенной их последовательности и взаимосвя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чебного занятия относится к числу элементов, существенно влияющих на организацию познавательной деятельност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труктурного построения занятия обязательно влечет за собой и новое построение познавательного процесса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ff"/>
                </a:solidFill>
                <a:latin typeface="Monotype Corsiva"/>
              </a:rPr>
              <a:t>Актуальность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дидактике утвердилась идея о том, что структура урока не должна быть универсальной, раз и навсегда заданной при любых целях и содержании учебного материала. Структура урока может быть разнообразной, но при этом необходимо, чтобы она всегда была чёт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уществлению этих требований помогает выделение по ходу урока смысловых блоков – относительно целостной части содержания, которую возможно выразить с помощью познавательного вопроса или задачи. Эти блоки, их последовательность и связи между ними образуют первичную структуру урока. Процесс усвоения, вся организация познавательной деятельности учащихся планируется применительно к этой структур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Monotype Corsiva"/>
              </a:rPr>
              <a:t>Значение и структура урока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сновной формой организации учебной работы является урок, который имеет своё специфическое содержание, отличающее его от других. В этом содержании преломляются общие учебно-воспитательные задачи. Вместе с тем урок выполняет определённую роль в формировании знаний, умений и навык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истема уроков даёт возможность учителю последовательно развёртывать свой курс, позволяет применять различные методы обучения, сочетая систематическое изложение знаний с коллективной и индивидуальной самостоятельной работой учащихся, обеспечивая вооружение учащихся необходимыми умениями и навыками и развитие познавательных способност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Под структурой урока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подразумевается его внутреннее строение, последовательность отдельных этап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Monotype Corsiva"/>
              </a:rPr>
              <a:t>Значение и структура урока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рок сегодня рассматривается не столько с точки зрения формального сочетания и последовательности его этапов, сколько с позиций постановки и достижения целей, эффективности познавательной деятельности. Учитель сегодня свободен в выборе структуры урока, лишь бы она обеспечивала высокую результативность обучения и воспитания. Важность этого нововведения можно понять, лишь сопоставляя прежние жёсткие требования обязательного соблюдения формальных ступеней урока с нынешними идеями свободного конструирования учебных занятий. Важным современным положением является то, что целесообразность тех или иных структур урока предлагается оценивать по эффективности всего учебно-воспитательного процесса, а не по структурному совершенству и завершённости отдельных урок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Monotype Corsiva"/>
              </a:rPr>
              <a:t>Значение и структура урока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руктурирование урока подразумевает включение исходного учебного материала в дидактическую структуру, являющуюся составной частью системы организации познавательной деятельности. 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идактическая структура урока объединяет передаваемое учащимся содержание, все используемые средства обучения, деятельность преподавателя и деятельность учащихся в определенной их последовательности и взаимосвязи. 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руктура учебного занятия относится к числу элементов, существенно влияющих на организацию познавательной деятель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00cc"/>
                </a:solidFill>
                <a:latin typeface="Monotype Corsiva"/>
              </a:rPr>
              <a:t>Современный ур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 на формирован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– это организатор учебной познавательной деятельности учащихся, их помощник и консульта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ичие сотрудничества между учителем и учащимися, большое внимание к мотивации, деятельности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тральное место – это применение знаний и умений в процессе решения учебных задач на всех этапах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 между учащимися в процессе учебной работы, организация коллективной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исключены межпредметные уроки, проводимые двумя-тремя учителями разных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но связан с экскурсиями, полевыми практикумами,  работой на экологической тропе, в микрозаповедни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вления новых типов уроков: семинар, зачёт, конференц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учащимся части функций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139"/>
                </a:solidFill>
                <a:latin typeface="Lucida Console"/>
              </a:rPr>
              <a:t>Разработка структуры урока и планирования познавательной деятельности учащих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Структура урока не должна быть универсальной, а может быть разнообразной, но при этом необходимо, чтобы она всегда была очень чётк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Arial"/>
              </a:rPr>
              <a:t>Смысловые блоки</a:t>
            </a: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относительно целостные части содержания, которые возможно выразить с помощью познавательного вопроса или зада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2:13:24Z</dcterms:created>
  <dc:creator>Мама</dc:creator>
  <dc:description/>
  <dc:language>en-US</dc:language>
  <cp:lastModifiedBy>Коля</cp:lastModifiedBy>
  <dcterms:modified xsi:type="dcterms:W3CDTF">2013-04-16T16:47:16Z</dcterms:modified>
  <cp:revision>15</cp:revision>
  <dc:subject/>
  <dc:title>СТРУКТУРИРОВАНИЕ УРОКА</dc:title>
</cp:coreProperties>
</file>