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62E8-0D13-41E7-8E3C-AF94E8EC4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6E4F-DB97-4894-A6B3-B824D4FB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EBD0D-921D-4D49-BA34-8909BBEC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C3956-3CA1-4ACD-9D3A-8931124B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8F037-ACD2-453D-BBD3-D85B1F63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3B232-0D5F-49BC-863A-CB4F2D18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419CB0-9AD9-4558-ABE9-5130D832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371E3-6D14-428F-A102-23B8E569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911DC-6745-4B90-86CF-7D13AAB6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81D5A5-7D47-4F7E-9E57-EE6F4B9C4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50A22-6FD3-405C-B865-E9F5F021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5077BF-BE28-4762-BA07-8F9718BB5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DD39-6CE8-4FAA-9C58-532B1073A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C1690D-26B2-466C-93E7-79F28837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EB2ED4-4684-444E-A222-3C4E4359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248CA-4198-4EEC-A005-E5EF357E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1FD744-F993-4B08-BDE5-13E98E51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4DD6A3-F3B2-4952-8A27-5D701C15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B5B168-401F-4172-ADE5-CE61270A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B12162-BC42-46C0-9A87-9EB2972C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8544AB-B94C-48A9-B620-3842D515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F15C64-2011-4620-945D-959296CD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7E97F4-85CA-4148-B458-9D0FFC382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1C1A-5602-418B-8258-4468006C7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24D935-B1C3-4695-8B47-7C834CEF1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2975B-6037-476A-AE05-01471F4D6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0BA9D-1B45-4AAA-A912-494D8619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FB6F6-D65F-450B-ABB6-3F4FF064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750C4-7FAD-414F-9469-8C255A11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2AB3A-3EBD-44A0-8946-2D005C1E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F8350-FD3D-41C4-B212-52690E75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FC9BF-D6B4-4F59-9B59-2C2E8E62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64A66-B8B2-4019-8954-820F019D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F0C4A-9C4B-4118-8961-C31289CA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BEBF-A470-4FC5-8505-D9D9677CB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5A0FD-3E0C-4DBE-98AA-FFF1A640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735BD-EA99-4EE0-A796-3C3390C43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8E0DC-A17F-4598-8B27-BCA704228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E5C7-8CDE-40D5-B3CB-FE6AA15D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438D-0832-4886-80B2-09E03876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B558-4E35-4E0D-A170-62D79647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19AA-1508-4A3F-AFD1-AC663D9E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ED28-5220-4479-9DD5-A83C5567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2100-EE17-4C7D-BD1D-BBE60F58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5526-1252-44CD-A793-96B95CC5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9BDB-5166-4262-ADAD-D0CA67BB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B144-6DB9-4B49-88C5-BECE2ED0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9893-ADE1-445D-9CC0-F4C7F6F8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8081-79CA-4AEC-8162-B5B41507E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2287-E432-4F4A-9A1D-DB1952BAA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5C426-DB9D-4D87-A5B2-91092C73F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65E47-48BF-4CC5-9547-F2835F54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56E9A-D45D-4CCE-9748-D95A53BE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B77F7-9690-4C8F-8AFB-DC788D44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AA539-B1AE-4971-BB08-3AB50BB8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B9E3-2FE9-4811-BCAA-3841BFE7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9F3AB-BFD2-457F-BCF0-CE4BA13B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AF018-0FE3-4EDA-99B8-86DB20A9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2C253-B833-4405-81F3-DAADF16A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C390F-F13E-4091-B18D-F91AA00F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B5429-A1B3-4B90-B3F0-FE32E728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A89A1-B428-4EAE-A441-18B7C7FD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E7311-3B3F-46DD-A9D6-67B0A658A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0D2B7-804A-4752-8996-1E2B86FB8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390CA-539A-453A-A6E5-2EB334B1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86F58-FFB0-4457-9EFC-25ED51FD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5BE7-81BC-4DE2-AEAE-4D77DC8C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DF405-364A-4624-BFBC-37F0AB9B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61222-A89B-4753-8672-E99C1456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DC1B6-5C80-48BA-A9D5-7332187C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0A866-BCC8-4D9E-B97B-2EFB302F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754FC-D302-4B3B-95EA-5191B458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56936-9231-4EDB-A886-75BA00E8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5261B-9507-41C9-8716-03B8B509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5CDED-7A0D-4E75-B007-C4D2F9118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29145-83CE-48D2-B691-A947ED055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36B11-0FAC-410C-8DE2-24986B4B3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CA07-E6FE-4D2C-AFEE-0B8723FC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53823-5081-4823-8E16-01C011F5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50C44-83DC-44AB-8D52-CA945847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16E98-F30B-48A4-8C37-BA114960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BC6EE-18E7-40A1-A239-068C7C10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B1D1B-0071-4DF9-9217-2DF0912D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F9772-9DF5-466A-8037-9D3D1B25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3DFE4-AE6A-48E4-8348-A21305D2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10869-0FF2-46AE-AF38-AB9B452D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03EB9-6E7B-4BE0-B857-09E713EB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EA3F8-6994-4EEA-A31E-B8116954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F6A1-9722-47DF-8AAE-E7332224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FF519-F8D7-425D-8E66-770912560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4E537-29AD-427B-BD92-EA658A5A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A0A44-1C6C-475A-95D2-C94388FA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3DFE9-833C-401A-AC45-9A1E66C3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49453-D0B4-4442-90A4-DCED5BED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F4117-6EFD-4F90-93C0-7D35FCC7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C98E3-EEDB-46A0-86C3-73A30160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BC119-5158-4998-9D88-37F8AB76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7C769-8B59-446A-9467-2C2F6F66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B5BE0-3E29-4561-ADA6-85D1A910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2655-FDC1-4D7B-994D-7EE28329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90D42-7398-4931-86A7-9E5044D3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80C45-6043-4AB3-B904-787F86110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017C1-2C9A-424A-AEC8-F1537B198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A9EA62-B2CD-4807-A79A-3B83FE7E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1CA30D-8D77-4681-B3DA-513C02CD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6704E1-4AC5-4F52-AA4E-7AC62C4B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2D6AFF-0C16-4D55-A8CE-C5CC0484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165951-5BC0-420C-8EFA-01417B3D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0959C5-C73A-400A-B5F9-6A6E4162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0221AC-5D24-4C5A-9451-17830911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5C22-EE72-404A-B47A-25A5A98E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6E3D32-0F5A-412A-931F-055009B3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C77303-600D-4FE7-950A-9C4ABA2B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E170F9-92F4-4C6D-BAFD-63A9D703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E57DAE-215A-4B33-A557-B112DCFB0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E2694C-FB3D-44DA-A724-8ED406DA7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F65E4-E827-4670-B436-F8EB0A21F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D0923-E7DD-4C5B-8091-219E4ABB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17455-4AC2-4C2E-B9AF-DA0E70A3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97A4A-0D67-4208-9AE0-CB6B1D56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E7999-BACA-4163-845E-DD93D785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F7FB-35C5-4CE3-8387-49ACE459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EFFED-57D6-4A99-9B72-C0B5A457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AE5C5-5460-4666-8566-63E45C64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9461B-D037-4C90-8C6F-8121FC92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14037-E583-45E1-A29A-482EBC23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90944-8894-4719-99EE-F6E17A4B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4DE4B-A977-4948-8FB2-4088B817B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4E234-524D-4E58-A383-27DD7F578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2DE80B-05C9-48A3-B385-B3299FD16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64FA7-E980-46F4-99AE-47C310D6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BA168-D539-498A-9909-7924BB35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DC31-D8F3-4B9B-AFF0-1DCF415AFB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541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42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43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44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545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46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47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48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49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50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grpSp>
        <p:nvGrpSpPr>
          <p:cNvPr id="551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552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53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54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555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556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57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58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59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60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561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2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99A7-F4C3-4062-A9EA-61E4DC640EB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605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06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grpSp>
        <p:nvGrpSpPr>
          <p:cNvPr id="607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608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09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33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C608-D8F4-4602-82EE-C7FEBA77A40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6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6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6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7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7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7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7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7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7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sp>
          <p:nvSpPr>
            <p:cNvPr id="7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9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9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9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9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9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9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sp>
          <p:nvSpPr>
            <p:cNvPr id="9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C346-67B1-48E4-9CA0-21F49957A2F6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623C-1D50-4F8B-9035-3B049ACBA7E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0ED1-35F7-42E0-A4C1-EC415E1CB4C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9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20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20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20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20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0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0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grpSp>
            <p:nvGrpSpPr>
              <p:cNvPr id="20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0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21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21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21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21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21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21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21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</p:grpSp>
      </p:grpSp>
      <p:grpSp>
        <p:nvGrpSpPr>
          <p:cNvPr id="21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1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1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grpSp>
        <p:nvGrpSpPr>
          <p:cNvPr id="220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221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22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grpSp>
            <p:nvGrpSpPr>
              <p:cNvPr id="223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224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225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226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227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228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229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230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231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</p:grpSp>
        <p:sp>
          <p:nvSpPr>
            <p:cNvPr id="23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79E4-9E71-4AAB-AF67-7336B9B63C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1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1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1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31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1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1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B166-8978-4ABA-AA73-CF50206FF5D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59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60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361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362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63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364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65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66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67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68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69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sp>
          <p:nvSpPr>
            <p:cNvPr id="370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grpSp>
        <p:nvGrpSpPr>
          <p:cNvPr id="371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72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73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74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75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76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77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B81A-AE1D-4E11-82DD-C87DA999F9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20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21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22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423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24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25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26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27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28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29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30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31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32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33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34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35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36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sp>
          <p:nvSpPr>
            <p:cNvPr id="437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38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39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40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41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42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43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44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45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46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47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448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49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50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51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52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53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sp>
          <p:nvSpPr>
            <p:cNvPr id="454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55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90C7-AA29-454F-84B1-7DF611A1788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8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2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9AB7-2F38-49D4-B8B6-061FB026E23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2800" spc="-1" strike="noStrike">
                <a:solidFill>
                  <a:srgbClr val="e3e3ff"/>
                </a:solidFill>
                <a:latin typeface="Monotype Corsiva"/>
              </a:rPr>
              <a:t>Кугут Ирина Анатольевна, учитель географии 1 категории МОУ СОШ №32 «Эврика-развитие» г. Волжский Волгоградской области</a:t>
            </a:r>
            <a:br>
              <a:rPr sz="2800"/>
            </a:br>
            <a:br>
              <a:rPr sz="4800"/>
            </a:br>
            <a:r>
              <a:rPr b="0" lang="ru-RU" sz="4800" spc="-1" strike="noStrike">
                <a:solidFill>
                  <a:srgbClr val="e3e3ff"/>
                </a:solidFill>
                <a:latin typeface="Monotype Corsiva"/>
              </a:rPr>
              <a:t>СТРУКТУРИРОВАНИЕ</a:t>
            </a:r>
            <a:br>
              <a:rPr sz="4800"/>
            </a:br>
            <a:r>
              <a:rPr b="0" lang="ru-RU" sz="4800" spc="-1" strike="noStrike">
                <a:solidFill>
                  <a:srgbClr val="e3e3ff"/>
                </a:solidFill>
                <a:latin typeface="Monotype Corsiva"/>
              </a:rPr>
              <a:t>УРОКА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6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Organization Chart 82"/>
          <p:cNvGrpSpPr/>
          <p:nvPr/>
        </p:nvGrpSpPr>
        <p:grpSpPr>
          <a:xfrm>
            <a:off x="0" y="1544760"/>
            <a:ext cx="9143640" cy="3071520"/>
            <a:chOff x="0" y="1544760"/>
            <a:chExt cx="9143640" cy="3071520"/>
          </a:xfrm>
        </p:grpSpPr>
        <p:cxnSp>
          <p:nvCxnSpPr>
            <p:cNvPr id="669" name="_s1028"/>
            <p:cNvCxnSpPr>
              <a:stCxn id="670" idx="0"/>
              <a:endCxn id="671" idx="2"/>
            </p:cNvCxnSpPr>
            <p:nvPr/>
          </p:nvCxnSpPr>
          <p:spPr>
            <a:xfrm flipV="1" rot="16200000">
              <a:off x="6394680" y="390600"/>
              <a:ext cx="229320" cy="3876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2" name="_s1029"/>
            <p:cNvCxnSpPr>
              <a:stCxn id="673" idx="0"/>
              <a:endCxn id="671" idx="2"/>
            </p:cNvCxnSpPr>
            <p:nvPr/>
          </p:nvCxnSpPr>
          <p:spPr>
            <a:xfrm flipV="1" rot="16200000">
              <a:off x="5619960" y="1165320"/>
              <a:ext cx="229320" cy="2326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4" name="_s1030"/>
            <p:cNvCxnSpPr>
              <a:stCxn id="675" idx="0"/>
              <a:endCxn id="671" idx="2"/>
            </p:cNvCxnSpPr>
            <p:nvPr/>
          </p:nvCxnSpPr>
          <p:spPr>
            <a:xfrm flipV="1" rot="16200000">
              <a:off x="4844160" y="1941120"/>
              <a:ext cx="229320" cy="775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6" name="_s1031"/>
            <p:cNvCxnSpPr>
              <a:stCxn id="677" idx="0"/>
              <a:endCxn id="671" idx="2"/>
            </p:cNvCxnSpPr>
            <p:nvPr/>
          </p:nvCxnSpPr>
          <p:spPr>
            <a:xfrm flipH="1" flipV="1" rot="5400000">
              <a:off x="4070160" y="1941480"/>
              <a:ext cx="229320" cy="774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8" name="_s1032"/>
            <p:cNvCxnSpPr>
              <a:stCxn id="679" idx="0"/>
              <a:endCxn id="671" idx="2"/>
            </p:cNvCxnSpPr>
            <p:nvPr/>
          </p:nvCxnSpPr>
          <p:spPr>
            <a:xfrm flipH="1" flipV="1" rot="5400000">
              <a:off x="3294000" y="1166040"/>
              <a:ext cx="229320" cy="23256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0" name="_s1033"/>
            <p:cNvCxnSpPr>
              <a:stCxn id="681" idx="0"/>
              <a:endCxn id="671" idx="2"/>
            </p:cNvCxnSpPr>
            <p:nvPr/>
          </p:nvCxnSpPr>
          <p:spPr>
            <a:xfrm flipH="1" flipV="1" rot="5400000">
              <a:off x="2519280" y="390600"/>
              <a:ext cx="229320" cy="3876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71" name="_s1034"/>
            <p:cNvSpPr/>
            <p:nvPr/>
          </p:nvSpPr>
          <p:spPr>
            <a:xfrm>
              <a:off x="1441440" y="1544760"/>
              <a:ext cx="6260760" cy="66996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440" rIns="19440" tIns="9720" bIns="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3b812f"/>
                  </a:solidFill>
                  <a:latin typeface="Arial"/>
                </a:rPr>
                <a:t>Последовательность </a:t>
              </a:r>
              <a:endParaRPr b="0" lang="en-US" sz="19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3b812f"/>
                  </a:solidFill>
                  <a:latin typeface="Arial"/>
                </a:rPr>
                <a:t>действий учителя при разработке</a:t>
              </a:r>
              <a:r>
                <a:rPr b="1" lang="en-US" sz="1000" spc="-1" strike="noStrike">
                  <a:solidFill>
                    <a:srgbClr val="3b812f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3b812f"/>
                  </a:solidFill>
                  <a:latin typeface="Arial"/>
                </a:rPr>
                <a:t>структуры урока</a:t>
              </a:r>
              <a:endParaRPr b="0" lang="en-US" sz="19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81" name="_s1035"/>
            <p:cNvSpPr/>
            <p:nvPr/>
          </p:nvSpPr>
          <p:spPr>
            <a:xfrm>
              <a:off x="0" y="2443320"/>
              <a:ext cx="1393920" cy="2172960"/>
            </a:xfrm>
            <a:custGeom>
              <a:avLst/>
              <a:gdLst>
                <a:gd name="textAreaLeft" fmla="*/ 68040 w 1393920"/>
                <a:gd name="textAreaRight" fmla="*/ 1325880 w 1393920"/>
                <a:gd name="textAreaTop" fmla="*/ 68040 h 2172960"/>
                <a:gd name="textAreaBottom" fmla="*/ 2104920 h 2172960"/>
              </a:gdLst>
              <a:ahLst/>
              <a:rect l="textAreaLeft" t="textAreaTop" r="textAreaRight" b="textAreaBottom"/>
              <a:pathLst>
                <a:path w="21600" h="33669">
                  <a:moveTo>
                    <a:pt x="3600" y="0"/>
                  </a:moveTo>
                  <a:arcTo wR="3600" hR="3600" stAng="16200000" swAng="-5400000"/>
                  <a:lnTo>
                    <a:pt x="0" y="30069"/>
                  </a:lnTo>
                  <a:arcTo wR="3600" hR="3600" stAng="10800000" swAng="-5400000"/>
                  <a:lnTo>
                    <a:pt x="18000" y="336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440" rIns="19440" tIns="9720" bIns="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Формулировка 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целей 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урока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79" name="_s1036"/>
            <p:cNvSpPr/>
            <p:nvPr/>
          </p:nvSpPr>
          <p:spPr>
            <a:xfrm>
              <a:off x="1550160" y="2443320"/>
              <a:ext cx="1393560" cy="2172960"/>
            </a:xfrm>
            <a:custGeom>
              <a:avLst/>
              <a:gdLst>
                <a:gd name="textAreaLeft" fmla="*/ 68040 w 1393560"/>
                <a:gd name="textAreaRight" fmla="*/ 1325520 w 1393560"/>
                <a:gd name="textAreaTop" fmla="*/ 68040 h 2172960"/>
                <a:gd name="textAreaBottom" fmla="*/ 2104920 h 2172960"/>
              </a:gdLst>
              <a:ahLst/>
              <a:rect l="textAreaLeft" t="textAreaTop" r="textAreaRight" b="textAreaBottom"/>
              <a:pathLst>
                <a:path w="21600" h="33677">
                  <a:moveTo>
                    <a:pt x="3600" y="0"/>
                  </a:moveTo>
                  <a:arcTo wR="3600" hR="3600" stAng="16200000" swAng="-5400000"/>
                  <a:lnTo>
                    <a:pt x="0" y="30077"/>
                  </a:lnTo>
                  <a:arcTo wR="3600" hR="3600" stAng="10800000" swAng="-5400000"/>
                  <a:lnTo>
                    <a:pt x="18000" y="336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440" rIns="19440" tIns="9720" bIns="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Выбор 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модели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структуры 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урока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77" name="_s1037"/>
            <p:cNvSpPr/>
            <p:nvPr/>
          </p:nvSpPr>
          <p:spPr>
            <a:xfrm>
              <a:off x="3099960" y="2443320"/>
              <a:ext cx="1393920" cy="2172960"/>
            </a:xfrm>
            <a:custGeom>
              <a:avLst/>
              <a:gdLst>
                <a:gd name="textAreaLeft" fmla="*/ 68040 w 1393920"/>
                <a:gd name="textAreaRight" fmla="*/ 1325880 w 1393920"/>
                <a:gd name="textAreaTop" fmla="*/ 68040 h 2172960"/>
                <a:gd name="textAreaBottom" fmla="*/ 2104920 h 2172960"/>
              </a:gdLst>
              <a:ahLst/>
              <a:rect l="textAreaLeft" t="textAreaTop" r="textAreaRight" b="textAreaBottom"/>
              <a:pathLst>
                <a:path w="21600" h="33669">
                  <a:moveTo>
                    <a:pt x="3600" y="0"/>
                  </a:moveTo>
                  <a:arcTo wR="3600" hR="3600" stAng="16200000" swAng="-5400000"/>
                  <a:lnTo>
                    <a:pt x="0" y="30069"/>
                  </a:lnTo>
                  <a:arcTo wR="3600" hR="3600" stAng="10800000" swAng="-5400000"/>
                  <a:lnTo>
                    <a:pt x="18000" y="336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440" rIns="19440" tIns="9720" bIns="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Выделение 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смысловых 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блоков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75" name="_s1038"/>
            <p:cNvSpPr/>
            <p:nvPr/>
          </p:nvSpPr>
          <p:spPr>
            <a:xfrm>
              <a:off x="4650120" y="2443320"/>
              <a:ext cx="1393560" cy="2172960"/>
            </a:xfrm>
            <a:custGeom>
              <a:avLst/>
              <a:gdLst>
                <a:gd name="textAreaLeft" fmla="*/ 68040 w 1393560"/>
                <a:gd name="textAreaRight" fmla="*/ 1325520 w 1393560"/>
                <a:gd name="textAreaTop" fmla="*/ 68040 h 2172960"/>
                <a:gd name="textAreaBottom" fmla="*/ 2104920 h 2172960"/>
              </a:gdLst>
              <a:ahLst/>
              <a:rect l="textAreaLeft" t="textAreaTop" r="textAreaRight" b="textAreaBottom"/>
              <a:pathLst>
                <a:path w="21600" h="33677">
                  <a:moveTo>
                    <a:pt x="3600" y="0"/>
                  </a:moveTo>
                  <a:arcTo wR="3600" hR="3600" stAng="16200000" swAng="-5400000"/>
                  <a:lnTo>
                    <a:pt x="0" y="30077"/>
                  </a:lnTo>
                  <a:arcTo wR="3600" hR="3600" stAng="10800000" swAng="-5400000"/>
                  <a:lnTo>
                    <a:pt x="18000" y="336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440" rIns="19440" tIns="9720" bIns="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Формулировка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познавательных 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задач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73" name="_s1039"/>
            <p:cNvSpPr/>
            <p:nvPr/>
          </p:nvSpPr>
          <p:spPr>
            <a:xfrm>
              <a:off x="6199920" y="2443320"/>
              <a:ext cx="1393920" cy="2172960"/>
            </a:xfrm>
            <a:custGeom>
              <a:avLst/>
              <a:gdLst>
                <a:gd name="textAreaLeft" fmla="*/ 68040 w 1393920"/>
                <a:gd name="textAreaRight" fmla="*/ 1325880 w 1393920"/>
                <a:gd name="textAreaTop" fmla="*/ 68040 h 2172960"/>
                <a:gd name="textAreaBottom" fmla="*/ 2104920 h 2172960"/>
              </a:gdLst>
              <a:ahLst/>
              <a:rect l="textAreaLeft" t="textAreaTop" r="textAreaRight" b="textAreaBottom"/>
              <a:pathLst>
                <a:path w="21600" h="33669">
                  <a:moveTo>
                    <a:pt x="3600" y="0"/>
                  </a:moveTo>
                  <a:arcTo wR="3600" hR="3600" stAng="16200000" swAng="-5400000"/>
                  <a:lnTo>
                    <a:pt x="0" y="30069"/>
                  </a:lnTo>
                  <a:arcTo wR="3600" hR="3600" stAng="10800000" swAng="-5400000"/>
                  <a:lnTo>
                    <a:pt x="18000" y="336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440" rIns="19440" tIns="9720" bIns="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Планирование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познавательной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деятельности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учащихся 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применительно к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каждой задаче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(отбор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методов и 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форм 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организации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обучения) 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70" name="_s1040"/>
            <p:cNvSpPr/>
            <p:nvPr/>
          </p:nvSpPr>
          <p:spPr>
            <a:xfrm>
              <a:off x="7750080" y="2443320"/>
              <a:ext cx="1393560" cy="2172960"/>
            </a:xfrm>
            <a:custGeom>
              <a:avLst/>
              <a:gdLst>
                <a:gd name="textAreaLeft" fmla="*/ 68040 w 1393560"/>
                <a:gd name="textAreaRight" fmla="*/ 1325520 w 1393560"/>
                <a:gd name="textAreaTop" fmla="*/ 68040 h 2172960"/>
                <a:gd name="textAreaBottom" fmla="*/ 2104920 h 2172960"/>
              </a:gdLst>
              <a:ahLst/>
              <a:rect l="textAreaLeft" t="textAreaTop" r="textAreaRight" b="textAreaBottom"/>
              <a:pathLst>
                <a:path w="21600" h="33677">
                  <a:moveTo>
                    <a:pt x="3600" y="0"/>
                  </a:moveTo>
                  <a:arcTo wR="3600" hR="3600" stAng="16200000" swAng="-5400000"/>
                  <a:lnTo>
                    <a:pt x="0" y="30077"/>
                  </a:lnTo>
                  <a:arcTo wR="3600" hR="3600" stAng="10800000" swAng="-5400000"/>
                  <a:lnTo>
                    <a:pt x="18000" y="336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800" rIns="1980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Анализ хода 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урока с точки 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зрения того,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ведёт ли он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к достижению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выдвинутых 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целей;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внесение 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необходимых 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корректив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</p:spTree>
  </p:cSld>
  <p:transition>
    <p:wipe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" dur="100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551139"/>
                </a:solidFill>
                <a:latin typeface="Lucida Console"/>
              </a:rPr>
              <a:t>Разработка структуры урока и планирования познавательной деятельности учащихс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106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0660"/>
                </a:solidFill>
                <a:latin typeface="Arial"/>
              </a:rPr>
              <a:t>Структурирование урока по смысловым блокам с постановкой познавательных задач позволяет соединить содержательную и деятельностную стороны учебного проце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106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0660"/>
                </a:solidFill>
                <a:latin typeface="Arial"/>
              </a:rPr>
              <a:t>В проблемном уроке содержание и последовательность смысловых блоков определяется логикой решения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106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0660"/>
                </a:solidFill>
                <a:latin typeface="Arial"/>
              </a:rPr>
              <a:t>В географии возможна и такая модель, в которой образующие структуру урока смысловые блоки выстроены в логике рассуждения при проведении срав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175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Organization Chart 12"/>
          <p:cNvGrpSpPr/>
          <p:nvPr/>
        </p:nvGrpSpPr>
        <p:grpSpPr>
          <a:xfrm>
            <a:off x="431640" y="1089000"/>
            <a:ext cx="8261280" cy="3184560"/>
            <a:chOff x="431640" y="1089000"/>
            <a:chExt cx="8261280" cy="3184560"/>
          </a:xfrm>
        </p:grpSpPr>
        <p:cxnSp>
          <p:nvCxnSpPr>
            <p:cNvPr id="685" name="_s2052"/>
            <p:cNvCxnSpPr>
              <a:stCxn id="686" idx="0"/>
              <a:endCxn id="687" idx="2"/>
            </p:cNvCxnSpPr>
            <p:nvPr/>
          </p:nvCxnSpPr>
          <p:spPr>
            <a:xfrm flipV="1" rot="16200000">
              <a:off x="5862960" y="631800"/>
              <a:ext cx="229320" cy="2831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8" name="_s2053"/>
            <p:cNvCxnSpPr>
              <a:stCxn id="689" idx="0"/>
              <a:endCxn id="687" idx="2"/>
            </p:cNvCxnSpPr>
            <p:nvPr/>
          </p:nvCxnSpPr>
          <p:spPr>
            <a:xfrm flipV="1">
              <a:off x="4562640" y="1932840"/>
              <a:ext cx="216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0" name="_s2054"/>
            <p:cNvCxnSpPr>
              <a:stCxn id="691" idx="0"/>
              <a:endCxn id="687" idx="2"/>
            </p:cNvCxnSpPr>
            <p:nvPr/>
          </p:nvCxnSpPr>
          <p:spPr>
            <a:xfrm flipH="1" flipV="1" rot="5400000">
              <a:off x="3031920" y="632160"/>
              <a:ext cx="229320" cy="2831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87" name="_s2055"/>
            <p:cNvSpPr/>
            <p:nvPr/>
          </p:nvSpPr>
          <p:spPr>
            <a:xfrm>
              <a:off x="2796480" y="1089000"/>
              <a:ext cx="3531240" cy="844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Модели структуры урока географии,</a:t>
              </a: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образованные смысловыми блоками</a:t>
              </a: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91" name="_s2056"/>
            <p:cNvSpPr/>
            <p:nvPr/>
          </p:nvSpPr>
          <p:spPr>
            <a:xfrm>
              <a:off x="431640" y="2162160"/>
              <a:ext cx="2600280" cy="2111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На основе пунктов </a:t>
              </a: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типового плана </a:t>
              </a: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характеристик </a:t>
              </a: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компонента </a:t>
              </a: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природы, ПТК,</a:t>
              </a: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отраслей народного</a:t>
              </a: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Хозяйства, района</a:t>
              </a: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89" name="_s2057"/>
            <p:cNvSpPr/>
            <p:nvPr/>
          </p:nvSpPr>
          <p:spPr>
            <a:xfrm>
              <a:off x="3262320" y="2162160"/>
              <a:ext cx="2599920" cy="2111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Структура определяется</a:t>
              </a: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логикой решения</a:t>
              </a: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проблемы</a:t>
              </a: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86" name="_s2058"/>
            <p:cNvSpPr/>
            <p:nvPr/>
          </p:nvSpPr>
          <p:spPr>
            <a:xfrm>
              <a:off x="6092640" y="2162160"/>
              <a:ext cx="2600280" cy="2111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800" rIns="738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Структура определяется </a:t>
              </a: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логикой приёма </a:t>
              </a: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сравнения</a:t>
              </a:r>
              <a:endParaRPr b="0" lang="en-US" sz="15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4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50560" y="151920"/>
            <a:ext cx="8281800" cy="14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Выбор  методов обучения определяется местом обучения в курс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93" name=""/>
          <p:cNvGraphicFramePr/>
          <p:nvPr/>
        </p:nvGraphicFramePr>
        <p:xfrm>
          <a:off x="1187280" y="1700280"/>
          <a:ext cx="7488360" cy="4919760"/>
        </p:xfrm>
        <a:graphic>
          <a:graphicData uri="http://schemas.openxmlformats.org/drawingml/2006/table">
            <a:tbl>
              <a:tblPr/>
              <a:tblGrid>
                <a:gridCol w="4788000"/>
                <a:gridCol w="2700360"/>
              </a:tblGrid>
              <a:tr h="190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551139"/>
                          </a:solidFill>
                          <a:latin typeface="Arial Narrow"/>
                        </a:rPr>
                        <a:t>Прежде всего он должен решить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551139"/>
                          </a:solidFill>
                          <a:latin typeface="Arial Narrow"/>
                        </a:rPr>
                        <a:t>Факторы, влияющие на решение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788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В каких вопросах будут использованы типовые самостоятельные работы, а в каких – проблемные или творческие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Какой учебный материал будет дан в готовом виде, а какой будет изучен школьниками самостоятельно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Соответствуют ли отобранные методы обучения возрастным особенностям учащихся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 Blac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Цели уро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 Blac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Содержание урок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 Blac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одготовка учащихс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 Blac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Возрастные особенности учащихс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 Blac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Наличие средств обучения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Обобщение опыта по теме: «Структурирование урока география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4720" y="2016000"/>
            <a:ext cx="38880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Работая по теме «Структурирование уроков географии по смысловым блокам» разработала систему уроков по некоторым тем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 8-10 клас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11" descr="102649c50c5165e269d843ef5c68ae0f"/>
          <p:cNvPicPr/>
          <p:nvPr/>
        </p:nvPicPr>
        <p:blipFill>
          <a:blip r:embed="rId1"/>
          <a:stretch/>
        </p:blipFill>
        <p:spPr>
          <a:xfrm>
            <a:off x="4788000" y="1628640"/>
            <a:ext cx="403200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Monotype Corsiva"/>
              </a:rPr>
              <a:t>9 класс. Тема: «Природа Волгоградской област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179280" y="1341360"/>
          <a:ext cx="8785440" cy="5405400"/>
        </p:xfrm>
        <a:graphic>
          <a:graphicData uri="http://schemas.openxmlformats.org/drawingml/2006/table">
            <a:tbl>
              <a:tblPr/>
              <a:tblGrid>
                <a:gridCol w="2376720"/>
                <a:gridCol w="2952720"/>
                <a:gridCol w="34560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мысловые бло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ознавательные задач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Деятельность учащих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08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основания для утверждения о выгодности ЭГП Волгоградской област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ологическая истори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казать, что область: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 выгодна расположена относительно сырьевых баз страны, транспортных магистралей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) выгодность ЭГП положительно влияет на развитие хозяйства област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явить основные этапы формирования природы област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стоятельная работа по группам с картами и другими источниками для построения доказательств. ( 3 уровень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ваивают проблемное изложение учителя, составляют за ним схематичный конспект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1 уровень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9" name=""/>
          <p:cNvGraphicFramePr/>
          <p:nvPr/>
        </p:nvGraphicFramePr>
        <p:xfrm>
          <a:off x="250920" y="274680"/>
          <a:ext cx="8713800" cy="6400800"/>
        </p:xfrm>
        <a:graphic>
          <a:graphicData uri="http://schemas.openxmlformats.org/drawingml/2006/table">
            <a:tbl>
              <a:tblPr/>
              <a:tblGrid>
                <a:gridCol w="2160360"/>
                <a:gridCol w="3097440"/>
                <a:gridCol w="3456000"/>
              </a:tblGrid>
              <a:tr h="642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ология, рельеф и полезные ископаемы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    Климат, агроклиматические ресурс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    Реки, озёр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    Почвенно-растительные ресурсы. Животный ми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яснить связь между геологическим строением, современным рельефом и полезными ископаемыми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ить главные черты климата в зависимости от климатообразующих факторо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ь особенности внутренних вод , их зависимость от рельефа и климат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ить и объяснить главные черты природных зон, их смену в зависимости от климат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стоятельная работа с учебником, картами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 уровень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стоятельная работа по группам с картами, диаграммами, климатограммами и другими источниками. (2 уровень)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стоятельная работа с текстом учебника по заполнению сравнительной таблицы. (2 уровень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ваивают проблемное изложение учителя, заполняя  по ходу таблицу. (1 уровень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602"/>
            </a:gs>
            <a:gs pos="100000">
              <a:srgbClr val="9fd70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0" name=""/>
          <p:cNvGraphicFramePr/>
          <p:nvPr/>
        </p:nvGraphicFramePr>
        <p:xfrm>
          <a:off x="250920" y="274680"/>
          <a:ext cx="8642160" cy="6400800"/>
        </p:xfrm>
        <a:graphic>
          <a:graphicData uri="http://schemas.openxmlformats.org/drawingml/2006/table">
            <a:tbl>
              <a:tblPr/>
              <a:tblGrid>
                <a:gridCol w="1944720"/>
                <a:gridCol w="3024000"/>
                <a:gridCol w="3673440"/>
              </a:tblGrid>
              <a:tr h="670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    Природные комплексы област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      Охрана природ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      Памятники       природы Волгоградской област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    Природа Волгоградской обла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делить ПТК и дать их характеристику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явить особенности охраны атмосферы, гидросферы, биосферы, литосфер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знакомить с уголками природы област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общить полученные знан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бота в группах по оставлению характеристики, используя творческий подход к отчёту о проделанной работе. (3 уровень)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стоятельная работа по установлению причинно-следственных связей. (3 уровень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аствуют в семинаре, пишут эссе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аствуют в зачёте, выполняют тестовую работу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одержание и последовательность смысловых блоков отражает типовую схему изучения ПТ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5" descr="80db34f6112e72b3e46fdb737069490d"/>
          <p:cNvPicPr/>
          <p:nvPr/>
        </p:nvPicPr>
        <p:blipFill>
          <a:blip r:embed="rId1"/>
          <a:stretch/>
        </p:blipFill>
        <p:spPr>
          <a:xfrm>
            <a:off x="1692360" y="2205000"/>
            <a:ext cx="626436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89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99ff"/>
                </a:solidFill>
                <a:latin typeface="Monotype Corsiva"/>
              </a:rPr>
              <a:t>10 класс. Тема: «Промышленность- ведущая отрасль мирового хозяйства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 Black"/>
              </a:rPr>
              <a:t>Аналогично можно развернуть учебный материал при рассмотрении любого компонента природы, отрасли промышленности и т.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0" lang="ru-RU" sz="8000" spc="-1" strike="noStrike">
                <a:solidFill>
                  <a:srgbClr val="990000"/>
                </a:solidFill>
                <a:latin typeface="Arial Black"/>
              </a:rPr>
              <a:t>ЦЕЛЬ: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00"/>
                </a:solidFill>
                <a:latin typeface="Arial Narrow"/>
              </a:rPr>
              <a:t>  </a:t>
            </a:r>
            <a:r>
              <a:rPr b="0" lang="ru-RU" sz="4800" spc="-1" strike="noStrike">
                <a:solidFill>
                  <a:srgbClr val="003300"/>
                </a:solidFill>
                <a:latin typeface="Courier New"/>
              </a:rPr>
              <a:t>ОБОСНОВАТЬ РАЗНООБРАЗИЕ СТРУКТУРИРОВАНИЯ УРОКОВ ГЕОГРАФИИ ПО СМЫСЛОВЫМ БЛОКАМ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 Narrow"/>
              </a:rPr>
              <a:t>               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bb"/>
                </a:solidFill>
                <a:latin typeface="Monotype Corsiva"/>
              </a:rPr>
              <a:t>Урок №1 «Промышленность» (урок лекция</a:t>
            </a:r>
            <a:r>
              <a:rPr b="0" lang="ru-RU" sz="4000" spc="-1" strike="noStrike">
                <a:solidFill>
                  <a:srgbClr val="c000bb"/>
                </a:solidFill>
                <a:latin typeface="Monotype Corsiv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214200" y="1268280"/>
          <a:ext cx="8929800" cy="5353200"/>
        </p:xfrm>
        <a:graphic>
          <a:graphicData uri="http://schemas.openxmlformats.org/drawingml/2006/table">
            <a:tbl>
              <a:tblPr/>
              <a:tblGrid>
                <a:gridCol w="1871640"/>
                <a:gridCol w="2521080"/>
                <a:gridCol w="2952720"/>
                <a:gridCol w="158436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мысловые бло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знавательные задач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ятельность учащих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точники зна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868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Промышленность: история формирования, значение, основные функци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2.       Отраслевая структура промышлен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А) Выявить этапы становления промышленного производства в мир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Б) Определить значение и основные функции промышленност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Выявить отраслевой состав  и классифицировать по различным признака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сваивают проблемное изложение учителя и заполняют систематизирующую таблицу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Самостоятельная работа с учебником и дополнительным источником знаний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Самостоятельная работа с учебником и дополнительным источником знаний, составление схематичного конспекта «Классификация отраслей промышленности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Стр. 111 и  дополнительный тек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Стр.111-112 и дополнительный тек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bb"/>
                </a:solidFill>
                <a:latin typeface="Monotype Corsiva"/>
              </a:rPr>
              <a:t>Урок №1 «Промышленность» (урок лекция</a:t>
            </a:r>
            <a:r>
              <a:rPr b="0" lang="ru-RU" sz="4000" spc="-1" strike="noStrike">
                <a:solidFill>
                  <a:srgbClr val="c000bb"/>
                </a:solidFill>
                <a:latin typeface="Monotype Corsiva"/>
              </a:rPr>
              <a:t>)</a:t>
            </a:r>
            <a:br>
              <a:rPr sz="4000"/>
            </a:br>
            <a:r>
              <a:rPr b="0" lang="ru-RU" sz="1800" spc="-1" strike="noStrike">
                <a:solidFill>
                  <a:srgbClr val="808000"/>
                </a:solidFill>
                <a:latin typeface="Monotype Corsiva"/>
              </a:rPr>
              <a:t>продол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8" name=""/>
          <p:cNvGraphicFramePr/>
          <p:nvPr/>
        </p:nvGraphicFramePr>
        <p:xfrm>
          <a:off x="430200" y="1125360"/>
          <a:ext cx="8713800" cy="5732640"/>
        </p:xfrm>
        <a:graphic>
          <a:graphicData uri="http://schemas.openxmlformats.org/drawingml/2006/table">
            <a:tbl>
              <a:tblPr/>
              <a:tblGrid>
                <a:gridCol w="1981080"/>
                <a:gridCol w="2376720"/>
                <a:gridCol w="2771640"/>
                <a:gridCol w="1584360"/>
              </a:tblGrid>
              <a:tr h="606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Изменение отраслевой структуры в эпоху НТР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ровень развития промышленного производства в странах мира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Лидеры промышленного производств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Роль стран мира на мировом промышленном рынк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становить и объяснить изменения в отраслевой структуре промышленности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пределить страны с индустриальной структурой хозяйства, долю ВВП на промышленное производство некоторых стран мир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Выявить лидеров промышленного производств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пределить участие страны в МГРТ  по промышленной продукции и значение на мировом промышленном рынк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чащиеся усваивают проблемное изложение учителя, выполняя схематический конспект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Самостоятельная работа со статистическим материалом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Работа с дополнительным источником знани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Знакомятся с особенностями  творческой работы по теме и определяют страну, по которой будет выполнена работ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3300"/>
                          </a:solidFill>
                          <a:latin typeface="Franklin Gothic Medium"/>
                        </a:rPr>
                        <a:t>Творческая работа выполняется во внеурочное время и защищается на уроке №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Таблица в учебнике (приложе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Дополнительный текст, карты атлас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Дополнительная литература, ресурсы Интернет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cc"/>
                </a:solidFill>
                <a:latin typeface="Monotype Corsiva"/>
              </a:rPr>
              <a:t>Урок №2 «Топливно-энергетическая промышленность» (урок практикум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179280" y="1052640"/>
          <a:ext cx="8785440" cy="5602320"/>
        </p:xfrm>
        <a:graphic>
          <a:graphicData uri="http://schemas.openxmlformats.org/drawingml/2006/table">
            <a:tbl>
              <a:tblPr/>
              <a:tblGrid>
                <a:gridCol w="2160720"/>
                <a:gridCol w="2592360"/>
                <a:gridCol w="2879640"/>
                <a:gridCol w="1152720"/>
              </a:tblGrid>
              <a:tr h="659232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Значение, состав, структура, особенности, факторы ориентации отрасли промышленности. Взаимосвязь с другими отраслями мирового хозяйств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Нефтяная, газовая, угольная промышленности; электроэнергетик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Выявить значение, состав, структуру и особенности отрасли, установить взаимосвязь с другими отраслями мирового хозяйств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Выявить особенности, характеризующие отрасли промышленного производств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чащиеся составляют кляйстер по теме, опираясь на знания 9 класс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Работа по группам (4 группы) по карточкам-заданиям, с использованием учебника и дополнительных источников познания. учебник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тчёт о проделанноё работ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Текст учебника, атлас, картосхемы и таблиц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5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cc"/>
                </a:solidFill>
                <a:latin typeface="Monotype Corsiva"/>
              </a:rPr>
              <a:t>Урок №3 «горнодобывающая промышленность» (конференци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2" name=""/>
          <p:cNvGraphicFramePr/>
          <p:nvPr/>
        </p:nvGraphicFramePr>
        <p:xfrm>
          <a:off x="324000" y="1628640"/>
          <a:ext cx="8785080" cy="5297760"/>
        </p:xfrm>
        <a:graphic>
          <a:graphicData uri="http://schemas.openxmlformats.org/drawingml/2006/table">
            <a:tbl>
              <a:tblPr/>
              <a:tblGrid>
                <a:gridCol w="2808000"/>
                <a:gridCol w="1944720"/>
                <a:gridCol w="3095640"/>
                <a:gridCol w="936720"/>
              </a:tblGrid>
              <a:tr h="616428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Значение, состав, структура, особенности, факторы ориентации отрасли промышленности. Взаимосвязь с другими отраслями мирового хозяйств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Великие горнодобывающие стран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Страны с узкой горнодобывающей промышленностью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сновные грузопотоки полезных ископаемых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Горнодобывающая промышленность: подведение итог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Выявить значение, состав, структуру и особенности отрасли, установить взаимосвязь с другими отраслями мирового хозяйств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пределить роль и значение этих стран в МГРТ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пределить роль и значение этих стран в МГРТ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Выяснить оснавные направления грузопотоко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бобщить полученные знания по тем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чащиеся составляют кляйстер по теме, опираясь на знания 9 класс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сваивают проблемное изложение одноклассников, задают вопросы, делают записи в тетрадях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сваивают проблемное изложение одноклассников, задают вопросы, делают записи в тетрадя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Составляют картосхему основных грузопотоков полезных ископаемых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чащиеся пишут статью или эссэ по теме, используя свои записи и полученные ответы на поставленные вопрос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Карты атласа  и учебн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Стр.1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7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cc"/>
                </a:solidFill>
                <a:latin typeface="Monotype Corsiva"/>
              </a:rPr>
              <a:t>Урок №4 «Машиностроение, металлургия, химическая промышленность» (урок практикум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4" name=""/>
          <p:cNvGraphicFramePr/>
          <p:nvPr/>
        </p:nvGraphicFramePr>
        <p:xfrm>
          <a:off x="250920" y="1916280"/>
          <a:ext cx="8785080" cy="4773600"/>
        </p:xfrm>
        <a:graphic>
          <a:graphicData uri="http://schemas.openxmlformats.org/drawingml/2006/table">
            <a:tbl>
              <a:tblPr/>
              <a:tblGrid>
                <a:gridCol w="1944720"/>
                <a:gridCol w="2501640"/>
                <a:gridCol w="2767320"/>
                <a:gridCol w="1571400"/>
              </a:tblGrid>
              <a:tr h="550692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Значение, состав, структура, особенности, факторы ориентации  отраслей промышленности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Машиностроение, металлургия, химическая промышлен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Выявить значение, состав, структуру и особенности отраслей промышленного производств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Выявить особенности, характеризующие отрасли промышленного производств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чащиеся составляют кляйстер по вариантам (1-металлургия; 2-машиностроение; 3-химическая) кляйстер по теме, опираясь на знания 9 класс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Работа по группам (4 группы) по карточкам-заданиям, с использованием учебника и дополнительных источников познания. учебник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тчёт о проделанноё работ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Текст учебника, атлас, картосхемы и таблиц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9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Monotype Corsiva"/>
              </a:rPr>
              <a:t>Урок №5 «Лесная и лёгкая промышленность» ( урок-практикум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250920" y="1600200"/>
          <a:ext cx="8642160" cy="5065560"/>
        </p:xfrm>
        <a:graphic>
          <a:graphicData uri="http://schemas.openxmlformats.org/drawingml/2006/table">
            <a:tbl>
              <a:tblPr/>
              <a:tblGrid>
                <a:gridCol w="2160360"/>
                <a:gridCol w="2592360"/>
                <a:gridCol w="2448000"/>
                <a:gridCol w="1441440"/>
              </a:tblGrid>
              <a:tr h="507780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Значение, состав, структура, особенности,  факторы ориентации отраслей промышленност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Лесная и лёгкая промышленност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Выявить значение, состав, структуру и особенности отраслей промышленного производств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Выявить особенности, характеризующие отрасли промышленного производств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чащиеся составляют клейстер по теме, опираясь на знания 9 класс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Работа в парах (2 варианта) по карточкам-заданиям, с использованием учебника и дополнительных источников познания. учебник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тчёт о проделанноё работ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Текст учебника, атлас, картосхемы и таблиц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cc"/>
                </a:solidFill>
                <a:latin typeface="Monotype Corsiva"/>
              </a:rPr>
              <a:t>Урок №6 «Промышленность и окружающая среда» ( семинар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8" name=""/>
          <p:cNvGraphicFramePr/>
          <p:nvPr/>
        </p:nvGraphicFramePr>
        <p:xfrm>
          <a:off x="0" y="1052640"/>
          <a:ext cx="9144000" cy="5851440"/>
        </p:xfrm>
        <a:graphic>
          <a:graphicData uri="http://schemas.openxmlformats.org/drawingml/2006/table">
            <a:tbl>
              <a:tblPr/>
              <a:tblGrid>
                <a:gridCol w="2268360"/>
                <a:gridCol w="3095640"/>
                <a:gridCol w="2880000"/>
                <a:gridCol w="900000"/>
              </a:tblGrid>
              <a:tr h="628884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боснование для выделения проблем окружающей сред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Горнодобывающая промышленность и окружающая сред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Металлургия и окружающая сред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Химическая промышленность и окружающая сред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Лесная промышленность и окружающая сре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А) Доказать, сто промышлен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негативно влияет на окружающую среду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Б) Понять связь этой проблемы с промышленными отраслям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ценить влияние отрасли на окружающую среду и выявить причины и пути решения проблем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ценить влияние отрасли на окружающую среду и выявить причины и пути решения проблем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ценить влияние отрасли на окружающую среду и выявить причины и пути решения проблем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ценить влияние отрасли на окружающую среду и выявить причины и пути решения проблем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Самостоятельная работа с источниками знаний для построения доказательств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сваивают проблемное изложение учител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сваивают проблемное изложение одноклассников, отвечают на вопросы, участвуют в дискусси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сваивают проблемное изложение одноклассников, отвечают на вопросы, участвуют в дискусси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сваивают проблемное изложение одноклассников, отвечают на вопросы, участвуют в дискусси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сваивают проблемное изложение одноклассников, отвечают на вопросы, участвуют в дискусси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Стр. 1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3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bb"/>
                </a:solidFill>
                <a:latin typeface="Monotype Corsiva"/>
              </a:rPr>
              <a:t>Урок №7 «Территориальная структура промышленности» (урок-исследовани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250920" y="1600200"/>
          <a:ext cx="8642160" cy="4853160"/>
        </p:xfrm>
        <a:graphic>
          <a:graphicData uri="http://schemas.openxmlformats.org/drawingml/2006/table">
            <a:tbl>
              <a:tblPr/>
              <a:tblGrid>
                <a:gridCol w="2162160"/>
                <a:gridCol w="2538360"/>
                <a:gridCol w="2417760"/>
                <a:gridCol w="1523880"/>
              </a:tblGrid>
              <a:tr h="497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История формирования промышленных районов мир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Современные типы промышленных районов мира и их особенност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География промышленных районов мир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Выявить этапы формирования промышленных районов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пределить типы, базовые отрасли (факторы ориентации),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становить особенности размещения промышленных районов по странам мир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сваивают проблемное изложение учителя и заполняют систематизирующую таблицу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Усваивают проблемное изложение учителя и заполняют систематизирующую таблицу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Составляют картосхемы «Промышленные районы мира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Заполненная таблица и карты атлас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bb"/>
                </a:solidFill>
                <a:latin typeface="Monotype Corsiva"/>
              </a:rPr>
              <a:t>Урок №8 «Промышленность мира» (защита творческих работ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2" name=""/>
          <p:cNvGraphicFramePr/>
          <p:nvPr/>
        </p:nvGraphicFramePr>
        <p:xfrm>
          <a:off x="457200" y="1981080"/>
          <a:ext cx="8229600" cy="4432320"/>
        </p:xfrm>
        <a:graphic>
          <a:graphicData uri="http://schemas.openxmlformats.org/drawingml/2006/table">
            <a:tbl>
              <a:tblPr/>
              <a:tblGrid>
                <a:gridCol w="2057400"/>
                <a:gridCol w="2562120"/>
                <a:gridCol w="2232000"/>
                <a:gridCol w="1378080"/>
              </a:tblGrid>
              <a:tr h="449676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бобщение знаний по теме: «Промышленность – ведущая отрасль мирового хозяйства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Роль стран мира на мировом промышленном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рынк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бобщить полученные знания по теме «Промышленность – ведущая отрасль мирового хозяйства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пределить участие страны в МГРТ  по промышленной продукции и значение на мировом промышленном рынк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твечают на вопросы тест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Защита творческих рабо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7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3300"/>
                </a:solidFill>
                <a:latin typeface="Monotype Corsiva"/>
              </a:rPr>
              <a:t>Итог: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од структурой урока подразумевается его внутреннее строение, последовательность отдельных этап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рок сегодня рассматривается не столько с точки зрения формального сочетания и последовательности его этапов, сколько с позиций постановки и достижения целей, эффективности познавательной деятельности. Учитель сегодня свободен в выборе структуры урока, лишь бы она обеспечивала высокую результативность обучения и восп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8caf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2f1e48"/>
                </a:solidFill>
                <a:latin typeface="Courier New"/>
              </a:rPr>
              <a:t> </a:t>
            </a:r>
            <a:r>
              <a:rPr b="1" lang="ru-RU" sz="6600" spc="-1" strike="noStrike">
                <a:solidFill>
                  <a:srgbClr val="640223"/>
                </a:solidFill>
                <a:latin typeface="Courier New"/>
              </a:rPr>
              <a:t>задачи: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знакомить с разработкой структуры урока по смысловым блока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ределить особенности данной модели уро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ыявить последовательность действий учителя при разработке данной структур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общить опыт работы по данной теме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684360" y="260280"/>
            <a:ext cx="8229600" cy="81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уктурирование урока подразумевает включение исходного учебного материала в дидактическую структуру, являющуюся составной частью системы организации познаватель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дактическая структура урока объединяет передаваемое учащимся содержание, все используемые средства обучения, деятельность преподавателя и деятельность учащихся в определенной их последовательности и взаимосвяз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учебного занятия относится к числу элементов, существенно влияющих на организацию познавательной деятельности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структурного построения занятия обязательно влечет за собой и новое построение познавательного процесса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ff"/>
                </a:solidFill>
                <a:latin typeface="Monotype Corsiva"/>
              </a:rPr>
              <a:t>Актуальность: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 дидактике утвердилась идея о том, что структура урока не должна быть универсальной, раз и навсегда заданной при любых целях и содержании учебного материала. Структура урока может быть разнообразной, но при этом необходимо, чтобы она всегда была чётко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существлению этих требований помогает выделение по ходу урока смысловых блоков – относительно целостной части содержания, которую возможно выразить с помощью познавательного вопроса или задачи. Эти блоки, их последовательность и связи между ними образуют первичную структуру урока. Процесс усвоения, вся организация познавательной деятельности учащихся планируется применительно к этой структуре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Monotype Corsiva"/>
              </a:rPr>
              <a:t>Значение и структура урока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сновной формой организации учебной работы является урок, который имеет своё специфическое содержание, отличающее его от других. В этом содержании преломляются общие учебно-воспитательные задачи. Вместе с тем урок выполняет определённую роль в формировании знаний, умений и навык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истема уроков даёт возможность учителю последовательно развёртывать свой курс, позволяет применять различные методы обучения, сочетая систематическое изложение знаний с коллективной и индивидуальной самостоятельной работой учащихся, обеспечивая вооружение учащихся необходимыми умениями и навыками и развитие познавательных способностей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Под структурой урока</a:t>
            </a: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подразумевается его внутреннее строение, последовательность отдельных этап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Monotype Corsiva"/>
              </a:rPr>
              <a:t>Значение и структура урока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рок сегодня рассматривается не столько с точки зрения формального сочетания и последовательности его этапов, сколько с позиций постановки и достижения целей, эффективности познавательной деятельности. Учитель сегодня свободен в выборе структуры урока, лишь бы она обеспечивала высокую результативность обучения и воспитания. Важность этого нововведения можно понять, лишь сопоставляя прежние жёсткие требования обязательного соблюдения формальных ступеней урока с нынешними идеями свободного конструирования учебных занятий. Важным современным положением является то, что целесообразность тех или иных структур урока предлагается оценивать по эффективности всего учебно-воспитательного процесса, а не по структурному совершенству и завершённости отдельных урок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Monotype Corsiva"/>
              </a:rPr>
              <a:t>Значение и структура урока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труктурирование урока подразумевает включение исходного учебного материала в дидактическую структуру, являющуюся составной частью системы организации познавательной деятельности. </a:t>
            </a:r>
            <a:br>
              <a:rPr sz="2000"/>
            </a:b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Дидактическая структура урока объединяет передаваемое учащимся содержание, все используемые средства обучения, деятельность преподавателя и деятельность учащихся в определенной их последовательности и взаимосвязи. </a:t>
            </a:r>
            <a:br>
              <a:rPr sz="2000"/>
            </a:b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труктура учебного занятия относится к числу элементов, существенно влияющих на организацию познавательной деятельност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9900cc"/>
                </a:solidFill>
                <a:latin typeface="Monotype Corsiva"/>
              </a:rPr>
              <a:t>Современный уро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182600" y="1483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правлен на формирование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– это организатор учебной познавательной деятельности учащихся, их помощник и консульта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личие сотрудничества между учителем и учащимися, большое внимание к мотивации, деятельности шк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нтральное место – это применение знаний и умений в процессе решения учебных задач на всех этапах ур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ние между учащимися в процессе учебной работы, организация коллективной учеб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исключены межпредметные уроки, проводимые двумя-тремя учителями разных предм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сно связан с экскурсиями, полевыми практикумами,  работой на экологической тропе, в микрозаповедни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явления новых типов уроков: семинар, зачёт, конференция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учащимся части функций учи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551139"/>
                </a:solidFill>
                <a:latin typeface="Lucida Console"/>
              </a:rPr>
              <a:t>Разработка структуры урока и планирования познавательной деятельности учащихс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8000"/>
                </a:solidFill>
                <a:latin typeface="Arial"/>
              </a:rPr>
              <a:t>Структура урока не должна быть универсальной, а может быть разнообразной, но при этом необходимо, чтобы она всегда была очень чётк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8000"/>
                </a:solidFill>
                <a:latin typeface="Arial"/>
              </a:rPr>
              <a:t>Смысловые блоки</a:t>
            </a:r>
            <a:r>
              <a:rPr b="1" lang="ru-RU" sz="3000" spc="-1" strike="noStrike">
                <a:solidFill>
                  <a:srgbClr val="008000"/>
                </a:solidFill>
                <a:latin typeface="Arial"/>
              </a:rPr>
              <a:t> – </a:t>
            </a:r>
            <a:r>
              <a:rPr b="0" lang="ru-RU" sz="3000" spc="-1" strike="noStrike">
                <a:solidFill>
                  <a:srgbClr val="008000"/>
                </a:solidFill>
                <a:latin typeface="Arial"/>
              </a:rPr>
              <a:t>относительно целостные части содержания, которые возможно выразить с помощью познавательного вопроса или задач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9T12:13:24Z</dcterms:created>
  <dc:creator>Мама</dc:creator>
  <dc:description/>
  <dc:language>en-US</dc:language>
  <cp:lastModifiedBy>Коля</cp:lastModifiedBy>
  <dcterms:modified xsi:type="dcterms:W3CDTF">2013-04-16T16:47:16Z</dcterms:modified>
  <cp:revision>15</cp:revision>
  <dc:subject/>
  <dc:title>СТРУКТУРИРОВАНИЕ УРОКА</dc:title>
</cp:coreProperties>
</file>