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2F8-EC41-44A0-9EE1-EA7B726F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758-4C2E-4A0C-957B-D45E24EC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2BC4F-569D-41FC-BC6C-55F28D67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E4B79-4443-43FC-B352-0B540664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A9490-0F97-44B1-A824-D5306395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CF937-8E82-4398-A9BB-BA45BC0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FDAAF-A5D0-4E65-9799-85C01EA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64A0D-4178-418D-AD60-BB76C46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4AFAE-A5A0-4877-955B-96D129E3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20835-7526-487D-BEBB-08BE5201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991FD-C9A6-4F24-B59A-1DC5C5BC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ADA47-4187-4F48-AE09-063D7642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C58-9998-4315-841C-F7ADDE92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C7585-55C5-4ECF-B899-4AAC8C43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ACD72-46C6-4BE1-90CC-10271930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3BAA0-31AC-4AF6-A27D-0EF75AFD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2E78B-B59E-4ACA-BD9E-22D1018F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69F2C-4C22-4589-8B31-C5F0FE1B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4C542-9449-4823-A006-557EC8B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FAB12-79C3-4532-97B7-785A56F0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B0BCC-870D-4486-9460-870E92D5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4AB3D-13DC-4E11-84C8-A25E381A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6ADDC-18CF-4491-8A2A-C929CAB0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62E-5D0B-49BC-9B97-24B70192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E2A6C-EBC9-4701-956F-9464F20C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D3264-20D1-4413-8549-C2CB45CB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4095-E83D-46E3-BB3D-3895FA6E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9C627-33EA-47F9-8E34-9AFEA485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1040C-CC80-4CE2-8052-5A5D9FC7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9417B-E517-4602-B3B2-B2F90059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99151-9FAD-4E2F-A142-947BD4AC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1CF37-7E6A-4B4F-8600-B03E650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40698-DC1F-4A67-85CF-A561BBA4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C7926-4595-4D31-A748-C6C14759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20DA-66CA-4956-A80B-D8FB8A75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DA547-F080-454E-A843-A6F61669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D24F7-3B88-4967-BFE5-39BD7BEA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CE1F1-A876-4AC5-B83A-13C873B5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EF3B-0DEC-4C88-8FE7-E8D2BBAD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54B4-4F20-44F4-9144-06BBE940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4E20-B60D-4E8B-AC85-EBE49486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5350-A968-480C-A909-6BC664EC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2E3C-98D6-4863-8421-D5DA692F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CC78-E5D4-4D89-94E1-4F5708A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B76-D947-453A-BD1D-32C5A635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0998-E2E9-4E55-A0FC-7C76B1D7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E1E9-D011-415B-950F-41577C4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0AE8-2582-488B-89B1-745EDCCE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51B2-E744-4391-85B6-85A1145E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238A-9B70-4B2D-BA75-247CFA56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3CE4-B712-48A6-9EDF-39493A8B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8B18-CA39-496B-A203-22B4C564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6010-3607-40F4-B2EE-89AE1595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AD3B-20A5-4746-B1BF-13A7BB0E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A14B-D282-4786-9092-C0D92757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18D-212C-4855-ACAE-7C5E7D90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2537-54CD-4361-BC7E-8FF51ADD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F9C4-53A2-4C65-8112-931A9D0E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F6D9-2BFB-4D89-8328-D5E0F761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8F49-7173-4F50-A2D0-AF0CCE38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4DDE-B792-44DB-8F1B-041D70A1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1603-CDF2-478E-B77F-0310FB5F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1C0E-ABEC-49E9-83D5-B143EC21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619FF-1711-4A02-8D0A-8E5907C0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5E6C-E56E-4D57-94EC-8F15DFE5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819F-4699-4C20-BE4A-1EF4B863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D96-BFCB-41D0-9A94-006979C2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63E63-6900-44FD-A3E7-2BC7CA32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EF1F-81FB-427B-AF76-FBEC3149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68B53-E2D8-491E-ABEA-12FE83E4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AB4EB-6B7D-45EA-944B-0E12A14A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F6ABA-8305-40F6-BF47-07CE613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25B4E-2EF7-4297-B89A-CA013983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31D6-B887-491E-8FC9-84E84752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6160-3E14-4A7B-93AF-CB9AF5F9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2CAA7-4F11-4D73-9EDB-737D23A7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7DAB-F506-40E1-AA2D-749A0B20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26D-E5D9-4F8C-A4EC-CF7CED12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C590-5842-4833-AD8D-33171EF6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F4C7E-4A8F-4305-9253-D90D104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CE2A8-82E5-43BF-98F3-DD6BB259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731AD-C4B1-4DE5-BE78-687C8CCD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36924-46C8-4DFE-9777-7D50F97E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C1FF3-3F34-43F1-AAC6-67261FB9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BCB7-374A-45FF-9387-8640BA1E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F7920-4EEB-4AA7-8407-2062763A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B602B-A196-484A-B7E6-00174AA2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4865-A787-481D-B140-E4C7E583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691-40DD-4440-971C-259350B0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A6EAB-BD38-4004-97A2-41991031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FB54-892C-4485-8DF7-FD73755D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4419E-D121-45A7-B25E-5A93F157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A99C-F483-405D-AA6E-615EFFBA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3F58B-46B9-426E-ABC1-9D3CED69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1681E-2774-4D63-A32C-C74BE490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8B092-7F47-4965-A19C-8E936862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9AC16-55A7-4D16-8CE9-8B3D289C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CB32A-FE50-47B7-AC15-1C1C2921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8929B-9978-42BB-BC1D-87683AB8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0AC-741B-45D0-BF72-2BE9B0C1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FA705-A87F-4FE3-8613-E904CD4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D9D8E-FB02-4224-B001-BB9651C8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0937D-93DC-4952-897E-96B59CA9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A95AA-021D-4EBB-A069-52F409A3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EC8FB-01BC-4C2C-AE89-0F8ED355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26EF5-4AAD-4855-A916-1A333CFD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DE0E32-7F9C-4140-9894-61DC1FC9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A81E2-478C-4E7D-BBA3-B501BE0D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F696C-BB20-450C-8F0F-A628ED64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08019-03EB-4187-9236-4F558934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E92-1299-4198-AA44-7A1E818D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0DCCA-329C-4CA1-959D-34EEC383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AD574-1681-4C30-91B1-37026D4D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B55BF-C1DC-41CA-A211-D71DFDE2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47DB6-D8EB-4FF2-9061-BADB8DDC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37045-DC7B-4321-BA51-B0F55E50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5CA83-E5C6-424B-B42D-2BE2499A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58582-B826-400F-B1AB-5D691672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1A9D8-C948-4910-AEF7-AA4A30FC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DC65A-E370-48FD-8275-88473D95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5FF8B-9CA9-4FBD-95A6-1B00DC18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9F4-4A2D-431F-A075-83656FC5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6B897-CAEE-4C04-8886-707668AA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E6961-A4D6-4485-898E-3F437A43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A3DE7-C3B8-4562-BAD4-D8DE4594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792B7-BA81-4AA2-8EBE-A81865ED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C2493-FBBB-45FD-A78A-90A5995C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B59FA-961A-428A-A5AC-DDAACCF8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B974F-2FE6-4BF4-BF97-286BC8E4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CB4E9-D78D-4A68-9EEF-D09663DD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40F9C-193A-444A-B3D9-9D03C7AC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D3F05-07BA-4649-8B13-67DAD729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62A-73E6-47D2-BF0F-180D403B51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4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54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4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55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52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3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4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55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5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6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56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E6EC-664D-484C-8E2B-8D2A8A5F2FF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0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60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0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7618-2209-4C4C-8551-724FEA83FE7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6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7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9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9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8B88-25DF-4CCE-893D-E20803E9553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7FC4-8BB9-41E3-9498-A128018D8F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702C-C4EB-46AC-84A7-C18DAD01FCE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2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2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2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220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221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2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223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224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5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7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8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9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31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2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318C-4D67-4EB2-B857-75E1DF2BF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1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1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1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4CD5-07D5-4A9E-95F4-AE524646513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5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6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6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6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6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37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EA6C-72BB-4F61-A17E-9312983B3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4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4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1E79-4E73-4DE5-9C5C-3110337FE11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CD88-BE25-4D9E-9540-D215F4DD86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2800" spc="-1" strike="noStrike">
                <a:solidFill>
                  <a:srgbClr val="e3e3ff"/>
                </a:solidFill>
                <a:latin typeface="Monotype Corsiva"/>
              </a:rPr>
              <a:t>Кугут Ирина Анатольевна, учитель географии 1 категории МОУ СОШ №32 «Эврика-развитие» г. Волжский Волгоградской области</a:t>
            </a:r>
            <a:br>
              <a:rPr sz="2800"/>
            </a:b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Monotype Corsiva"/>
              </a:rPr>
              <a:t>СТРУКТУРИРОВАНИЕ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Monotype Corsiva"/>
              </a:rPr>
              <a:t>УРО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Organization Chart 82"/>
          <p:cNvGrpSpPr/>
          <p:nvPr/>
        </p:nvGrpSpPr>
        <p:grpSpPr>
          <a:xfrm>
            <a:off x="0" y="1544760"/>
            <a:ext cx="9143640" cy="3071520"/>
            <a:chOff x="0" y="1544760"/>
            <a:chExt cx="9143640" cy="3071520"/>
          </a:xfrm>
        </p:grpSpPr>
        <p:cxnSp>
          <p:nvCxnSpPr>
            <p:cNvPr id="669" name="_s1028"/>
            <p:cNvCxnSpPr>
              <a:stCxn id="670" idx="0"/>
              <a:endCxn id="671" idx="2"/>
            </p:cNvCxnSpPr>
            <p:nvPr/>
          </p:nvCxnSpPr>
          <p:spPr>
            <a:xfrm flipV="1" rot="16200000">
              <a:off x="6394680" y="390600"/>
              <a:ext cx="229320" cy="387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2" name="_s1029"/>
            <p:cNvCxnSpPr>
              <a:stCxn id="673" idx="0"/>
              <a:endCxn id="671" idx="2"/>
            </p:cNvCxnSpPr>
            <p:nvPr/>
          </p:nvCxnSpPr>
          <p:spPr>
            <a:xfrm flipV="1" rot="16200000">
              <a:off x="5619960" y="1165320"/>
              <a:ext cx="229320" cy="2326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4" name="_s1030"/>
            <p:cNvCxnSpPr>
              <a:stCxn id="675" idx="0"/>
              <a:endCxn id="671" idx="2"/>
            </p:cNvCxnSpPr>
            <p:nvPr/>
          </p:nvCxnSpPr>
          <p:spPr>
            <a:xfrm flipV="1" rot="16200000">
              <a:off x="4844160" y="1941120"/>
              <a:ext cx="229320" cy="77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6" name="_s1031"/>
            <p:cNvCxnSpPr>
              <a:stCxn id="677" idx="0"/>
              <a:endCxn id="671" idx="2"/>
            </p:cNvCxnSpPr>
            <p:nvPr/>
          </p:nvCxnSpPr>
          <p:spPr>
            <a:xfrm flipH="1" flipV="1" rot="5400000">
              <a:off x="4070160" y="1941480"/>
              <a:ext cx="229320" cy="774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8" name="_s1032"/>
            <p:cNvCxnSpPr>
              <a:stCxn id="679" idx="0"/>
              <a:endCxn id="671" idx="2"/>
            </p:cNvCxnSpPr>
            <p:nvPr/>
          </p:nvCxnSpPr>
          <p:spPr>
            <a:xfrm flipH="1" flipV="1" rot="5400000">
              <a:off x="3294000" y="1166040"/>
              <a:ext cx="229320" cy="2325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0" name="_s1033"/>
            <p:cNvCxnSpPr>
              <a:stCxn id="681" idx="0"/>
              <a:endCxn id="671" idx="2"/>
            </p:cNvCxnSpPr>
            <p:nvPr/>
          </p:nvCxnSpPr>
          <p:spPr>
            <a:xfrm flipH="1" flipV="1" rot="5400000">
              <a:off x="2519280" y="390600"/>
              <a:ext cx="229320" cy="387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71" name="_s1034"/>
            <p:cNvSpPr/>
            <p:nvPr/>
          </p:nvSpPr>
          <p:spPr>
            <a:xfrm>
              <a:off x="1441440" y="1544760"/>
              <a:ext cx="6260760" cy="6699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b812f"/>
                  </a:solidFill>
                  <a:latin typeface="Arial"/>
                </a:rPr>
                <a:t>Последовательность </a:t>
              </a:r>
              <a:endParaRPr b="0" lang="en-US" sz="19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b812f"/>
                  </a:solidFill>
                  <a:latin typeface="Arial"/>
                </a:rPr>
                <a:t>действий учителя при разработке</a:t>
              </a:r>
              <a:r>
                <a:rPr b="1" lang="en-US" sz="10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3b812f"/>
                  </a:solidFill>
                  <a:latin typeface="Arial"/>
                </a:rPr>
                <a:t>структуры урока</a:t>
              </a:r>
              <a:endParaRPr b="0" lang="en-US" sz="19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1" name="_s1035"/>
            <p:cNvSpPr/>
            <p:nvPr/>
          </p:nvSpPr>
          <p:spPr>
            <a:xfrm>
              <a:off x="0" y="2443320"/>
              <a:ext cx="1393920" cy="2172960"/>
            </a:xfrm>
            <a:custGeom>
              <a:avLst/>
              <a:gdLst>
                <a:gd name="textAreaLeft" fmla="*/ 68040 w 1393920"/>
                <a:gd name="textAreaRight" fmla="*/ 1325880 w 139392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69">
                  <a:moveTo>
                    <a:pt x="3600" y="0"/>
                  </a:moveTo>
                  <a:arcTo wR="3600" hR="3600" stAng="16200000" swAng="-5400000"/>
                  <a:lnTo>
                    <a:pt x="0" y="30069"/>
                  </a:lnTo>
                  <a:arcTo wR="3600" hR="3600" stAng="10800000" swAng="-5400000"/>
                  <a:lnTo>
                    <a:pt x="18000" y="33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Формулировка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целей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рока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9" name="_s1036"/>
            <p:cNvSpPr/>
            <p:nvPr/>
          </p:nvSpPr>
          <p:spPr>
            <a:xfrm>
              <a:off x="1550160" y="2443320"/>
              <a:ext cx="1393560" cy="2172960"/>
            </a:xfrm>
            <a:custGeom>
              <a:avLst/>
              <a:gdLst>
                <a:gd name="textAreaLeft" fmla="*/ 68040 w 1393560"/>
                <a:gd name="textAreaRight" fmla="*/ 1325520 w 139356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77">
                  <a:moveTo>
                    <a:pt x="3600" y="0"/>
                  </a:moveTo>
                  <a:arcTo wR="3600" hR="3600" stAng="16200000" swAng="-5400000"/>
                  <a:lnTo>
                    <a:pt x="0" y="30077"/>
                  </a:lnTo>
                  <a:arcTo wR="3600" hR="3600" stAng="10800000" swAng="-5400000"/>
                  <a:lnTo>
                    <a:pt x="18000" y="33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ыбор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модели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структуры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рока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7" name="_s1037"/>
            <p:cNvSpPr/>
            <p:nvPr/>
          </p:nvSpPr>
          <p:spPr>
            <a:xfrm>
              <a:off x="3099960" y="2443320"/>
              <a:ext cx="1393920" cy="2172960"/>
            </a:xfrm>
            <a:custGeom>
              <a:avLst/>
              <a:gdLst>
                <a:gd name="textAreaLeft" fmla="*/ 68040 w 1393920"/>
                <a:gd name="textAreaRight" fmla="*/ 1325880 w 139392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69">
                  <a:moveTo>
                    <a:pt x="3600" y="0"/>
                  </a:moveTo>
                  <a:arcTo wR="3600" hR="3600" stAng="16200000" swAng="-5400000"/>
                  <a:lnTo>
                    <a:pt x="0" y="30069"/>
                  </a:lnTo>
                  <a:arcTo wR="3600" hR="3600" stAng="10800000" swAng="-5400000"/>
                  <a:lnTo>
                    <a:pt x="18000" y="33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ыделение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смыслов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блоков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5" name="_s1038"/>
            <p:cNvSpPr/>
            <p:nvPr/>
          </p:nvSpPr>
          <p:spPr>
            <a:xfrm>
              <a:off x="4650120" y="2443320"/>
              <a:ext cx="1393560" cy="2172960"/>
            </a:xfrm>
            <a:custGeom>
              <a:avLst/>
              <a:gdLst>
                <a:gd name="textAreaLeft" fmla="*/ 68040 w 1393560"/>
                <a:gd name="textAreaRight" fmla="*/ 1325520 w 139356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77">
                  <a:moveTo>
                    <a:pt x="3600" y="0"/>
                  </a:moveTo>
                  <a:arcTo wR="3600" hR="3600" stAng="16200000" swAng="-5400000"/>
                  <a:lnTo>
                    <a:pt x="0" y="30077"/>
                  </a:lnTo>
                  <a:arcTo wR="3600" hR="3600" stAng="10800000" swAng="-5400000"/>
                  <a:lnTo>
                    <a:pt x="18000" y="33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Формулировка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ознавательн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задач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3" name="_s1039"/>
            <p:cNvSpPr/>
            <p:nvPr/>
          </p:nvSpPr>
          <p:spPr>
            <a:xfrm>
              <a:off x="6199920" y="2443320"/>
              <a:ext cx="1393920" cy="2172960"/>
            </a:xfrm>
            <a:custGeom>
              <a:avLst/>
              <a:gdLst>
                <a:gd name="textAreaLeft" fmla="*/ 68040 w 1393920"/>
                <a:gd name="textAreaRight" fmla="*/ 1325880 w 139392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69">
                  <a:moveTo>
                    <a:pt x="3600" y="0"/>
                  </a:moveTo>
                  <a:arcTo wR="3600" hR="3600" stAng="16200000" swAng="-5400000"/>
                  <a:lnTo>
                    <a:pt x="0" y="30069"/>
                  </a:lnTo>
                  <a:arcTo wR="3600" hR="3600" stAng="10800000" swAng="-5400000"/>
                  <a:lnTo>
                    <a:pt x="18000" y="33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ланирование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ознавательной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деятельности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чащихся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рименительно к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каждой задаче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отбор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методов и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форм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организации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обучения)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0" name="_s1040"/>
            <p:cNvSpPr/>
            <p:nvPr/>
          </p:nvSpPr>
          <p:spPr>
            <a:xfrm>
              <a:off x="7750080" y="2443320"/>
              <a:ext cx="1393560" cy="2172960"/>
            </a:xfrm>
            <a:custGeom>
              <a:avLst/>
              <a:gdLst>
                <a:gd name="textAreaLeft" fmla="*/ 68040 w 1393560"/>
                <a:gd name="textAreaRight" fmla="*/ 1325520 w 139356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77">
                  <a:moveTo>
                    <a:pt x="3600" y="0"/>
                  </a:moveTo>
                  <a:arcTo wR="3600" hR="3600" stAng="16200000" swAng="-5400000"/>
                  <a:lnTo>
                    <a:pt x="0" y="30077"/>
                  </a:lnTo>
                  <a:arcTo wR="3600" hR="3600" stAng="10800000" swAng="-5400000"/>
                  <a:lnTo>
                    <a:pt x="18000" y="33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800" rIns="198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Анализ хода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рока с точки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зрения того,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едёт ли он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к достижению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ыдвинут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целей;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несение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необходим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корректив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139"/>
                </a:solidFill>
                <a:latin typeface="Lucida Console"/>
              </a:rPr>
              <a:t>Разработка структуры урока и планирования познавательной деятельности учащих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06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660"/>
                </a:solidFill>
                <a:latin typeface="Arial"/>
              </a:rPr>
              <a:t>Структурирование урока по смысловым блокам с постановкой познавательных задач позволяет соединить содержательную и деятельностную стороны учеб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06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660"/>
                </a:solidFill>
                <a:latin typeface="Arial"/>
              </a:rPr>
              <a:t>В проблемном уроке содержание и последовательность смысловых блоков определяется логикой решения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06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660"/>
                </a:solidFill>
                <a:latin typeface="Arial"/>
              </a:rPr>
              <a:t>В географии возможна и такая модель, в которой образующие структуру урока смысловые блоки выстроены в логике рассуждения при проведении срав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175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Organization Chart 12"/>
          <p:cNvGrpSpPr/>
          <p:nvPr/>
        </p:nvGrpSpPr>
        <p:grpSpPr>
          <a:xfrm>
            <a:off x="431640" y="1089000"/>
            <a:ext cx="8261280" cy="3184560"/>
            <a:chOff x="431640" y="1089000"/>
            <a:chExt cx="8261280" cy="3184560"/>
          </a:xfrm>
        </p:grpSpPr>
        <p:cxnSp>
          <p:nvCxnSpPr>
            <p:cNvPr id="685" name="_s2052"/>
            <p:cNvCxnSpPr>
              <a:stCxn id="686" idx="0"/>
              <a:endCxn id="687" idx="2"/>
            </p:cNvCxnSpPr>
            <p:nvPr/>
          </p:nvCxnSpPr>
          <p:spPr>
            <a:xfrm flipV="1" rot="16200000">
              <a:off x="5862960" y="631800"/>
              <a:ext cx="229320" cy="2831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8" name="_s2053"/>
            <p:cNvCxnSpPr>
              <a:stCxn id="689" idx="0"/>
              <a:endCxn id="687" idx="2"/>
            </p:cNvCxnSpPr>
            <p:nvPr/>
          </p:nvCxnSpPr>
          <p:spPr>
            <a:xfrm flipV="1">
              <a:off x="4562640" y="193284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0" name="_s2054"/>
            <p:cNvCxnSpPr>
              <a:stCxn id="691" idx="0"/>
              <a:endCxn id="687" idx="2"/>
            </p:cNvCxnSpPr>
            <p:nvPr/>
          </p:nvCxnSpPr>
          <p:spPr>
            <a:xfrm flipH="1" flipV="1" rot="5400000">
              <a:off x="3031920" y="632160"/>
              <a:ext cx="229320" cy="2831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7" name="_s2055"/>
            <p:cNvSpPr/>
            <p:nvPr/>
          </p:nvSpPr>
          <p:spPr>
            <a:xfrm>
              <a:off x="2796480" y="1089000"/>
              <a:ext cx="3531240" cy="84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одели структуры урока географии,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образованные смысловыми блоками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91" name="_s2056"/>
            <p:cNvSpPr/>
            <p:nvPr/>
          </p:nvSpPr>
          <p:spPr>
            <a:xfrm>
              <a:off x="431640" y="2162160"/>
              <a:ext cx="260028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На основе пунктов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типового плана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характеристик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компонента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рироды, ПТК,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отраслей народного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Хозяйства, района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9" name="_s2057"/>
            <p:cNvSpPr/>
            <p:nvPr/>
          </p:nvSpPr>
          <p:spPr>
            <a:xfrm>
              <a:off x="3262320" y="2162160"/>
              <a:ext cx="259992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труктура определяется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логикой решения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6" name="_s2058"/>
            <p:cNvSpPr/>
            <p:nvPr/>
          </p:nvSpPr>
          <p:spPr>
            <a:xfrm>
              <a:off x="6092640" y="2162160"/>
              <a:ext cx="260028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труктура определяется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логикой приёма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равнения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2818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ыбор  методов обучения определяется местом обучения в кур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187280" y="1700280"/>
          <a:ext cx="7488360" cy="4919760"/>
        </p:xfrm>
        <a:graphic>
          <a:graphicData uri="http://schemas.openxmlformats.org/drawingml/2006/table">
            <a:tbl>
              <a:tblPr/>
              <a:tblGrid>
                <a:gridCol w="4788000"/>
                <a:gridCol w="2700360"/>
              </a:tblGrid>
              <a:tr h="19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51139"/>
                          </a:solidFill>
                          <a:latin typeface="Arial Narrow"/>
                        </a:rPr>
                        <a:t>Прежде всего он должен решить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51139"/>
                          </a:solidFill>
                          <a:latin typeface="Arial Narrow"/>
                        </a:rPr>
                        <a:t>Факторы, влияющие на решени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 каких вопросах будут использованы типовые самостоятельные работы, а в каких – проблемные или творческ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Какой учебный материал будет дан в готовом виде, а какой будет изучен школьниками самостоятельно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ответствуют ли отобранные методы обучения возрастным особенностям учащих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Цели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держание уро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дготовка учащих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озрастные особенности учащих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личие средств обучения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бобщение опыта по теме: «Структурирование урока география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4720" y="2016000"/>
            <a:ext cx="3888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ботая по теме «Структурирование уроков географии по смысловым блокам» разработала систему уроков по некоторым тем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 8-10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1" descr="102649c50c5165e269d843ef5c68ae0f"/>
          <p:cNvPicPr/>
          <p:nvPr/>
        </p:nvPicPr>
        <p:blipFill>
          <a:blip r:embed="rId1"/>
          <a:stretch/>
        </p:blipFill>
        <p:spPr>
          <a:xfrm>
            <a:off x="4788000" y="1628640"/>
            <a:ext cx="4032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9 класс. Тема: «Природа Волгоградской обла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79280" y="1341360"/>
          <a:ext cx="8785440" cy="5405400"/>
        </p:xfrm>
        <a:graphic>
          <a:graphicData uri="http://schemas.openxmlformats.org/drawingml/2006/table">
            <a:tbl>
              <a:tblPr/>
              <a:tblGrid>
                <a:gridCol w="2376720"/>
                <a:gridCol w="2952720"/>
                <a:gridCol w="3456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мысловые бл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знавательные 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0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снования для утверждения о выгодности ЭГП Волгоградской обла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ая истор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казать, что область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выгодна расположена относительно сырьевых баз страны, транспортных магистрал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выгодность ЭГП положительно влияет на развитие хозяйства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явить основные этапы формирования природы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по группам с картами и другими источниками для построения доказательств. ( 3 уровен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ваивают проблемное изложение учителя, составляют за ним схематичный конспект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9" name=""/>
          <p:cNvGraphicFramePr/>
          <p:nvPr/>
        </p:nvGraphicFramePr>
        <p:xfrm>
          <a:off x="250920" y="274680"/>
          <a:ext cx="8713800" cy="6400800"/>
        </p:xfrm>
        <a:graphic>
          <a:graphicData uri="http://schemas.openxmlformats.org/drawingml/2006/table">
            <a:tbl>
              <a:tblPr/>
              <a:tblGrid>
                <a:gridCol w="2160360"/>
                <a:gridCol w="3097440"/>
                <a:gridCol w="3456000"/>
              </a:tblGrid>
              <a:tr h="642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я, рельеф и полезные ископаемы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    Климат, агроклиматические ресурс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    Реки, озё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    Почвенно-растительные ресурсы. Животный ми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яснить связь между геологическим строением, современным рельефом и полезными ископаемы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ить главные черты климата в зависимости от климатообразующих фактор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ь особенности внутренних вод , их зависимость от рельефа и клима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ить и объяснить главные черты природных зон, их смену в зависимости от клима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с учебником, карта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по группам с картами, диаграммами, климатограммами и другими источниками. (2 уровень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с текстом учебника по заполнению сравнительной таблицы. (2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ваивают проблемное изложение учителя, заполняя  по ходу таблицу. (1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602"/>
            </a:gs>
            <a:gs pos="100000">
              <a:srgbClr val="9fd7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250920" y="274680"/>
          <a:ext cx="8642160" cy="6400800"/>
        </p:xfrm>
        <a:graphic>
          <a:graphicData uri="http://schemas.openxmlformats.org/drawingml/2006/table">
            <a:tbl>
              <a:tblPr/>
              <a:tblGrid>
                <a:gridCol w="1944720"/>
                <a:gridCol w="3024000"/>
                <a:gridCol w="3673440"/>
              </a:tblGrid>
              <a:tr h="67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    Природные комплексы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     Охрана природ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     Памятники       природы Волгоградской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    Природа Волгоградской об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делить ПТК и дать их характеристик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явить особенности охраны атмосферы, гидросферы, биосферы, литосфер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комить с уголками природы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бщить полученные зн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в группах по оставлению характеристики, используя творческий подход к отчёту о проделанной работе. (3 уровень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по установлению причинно-следственных связей. (3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вуют в семинаре, пишут эссе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вуют в зачёте, выполняют тестовую работ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держание и последовательность смысловых блоков отражает типовую схему изучения ПТ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5" descr="80db34f6112e72b3e46fdb737069490d"/>
          <p:cNvPicPr/>
          <p:nvPr/>
        </p:nvPicPr>
        <p:blipFill>
          <a:blip r:embed="rId1"/>
          <a:stretch/>
        </p:blipFill>
        <p:spPr>
          <a:xfrm>
            <a:off x="1692360" y="2205000"/>
            <a:ext cx="62643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9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99ff"/>
                </a:solidFill>
                <a:latin typeface="Monotype Corsiva"/>
              </a:rPr>
              <a:t>10 класс. Тема: «Промышленность- ведущая отрасль мирового хозяйств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Аналогично можно развернуть учебный материал при рассмотрении любого компонента природы, отрасли промышленности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ru-RU" sz="8000" spc="-1" strike="noStrike">
                <a:solidFill>
                  <a:srgbClr val="990000"/>
                </a:solidFill>
                <a:latin typeface="Arial Black"/>
              </a:rPr>
              <a:t>ЦЕЛЬ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 Narrow"/>
              </a:rPr>
              <a:t>  </a:t>
            </a:r>
            <a:r>
              <a:rPr b="0" lang="ru-RU" sz="4800" spc="-1" strike="noStrike">
                <a:solidFill>
                  <a:srgbClr val="003300"/>
                </a:solidFill>
                <a:latin typeface="Courier New"/>
              </a:rPr>
              <a:t>ОБОСНОВАТЬ РАЗНООБРАЗИЕ СТРУКТУРИРОВАНИЯ УРОКОВ ГЕОГРАФИИ ПО СМЫСЛОВЫМ БЛОКАМ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 Narrow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bb"/>
                </a:solidFill>
                <a:latin typeface="Monotype Corsiva"/>
              </a:rPr>
              <a:t>Урок №1 «Промышленность» (урок лекция</a:t>
            </a: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214200" y="1268280"/>
          <a:ext cx="8929800" cy="5353200"/>
        </p:xfrm>
        <a:graphic>
          <a:graphicData uri="http://schemas.openxmlformats.org/drawingml/2006/table">
            <a:tbl>
              <a:tblPr/>
              <a:tblGrid>
                <a:gridCol w="1871640"/>
                <a:gridCol w="2521080"/>
                <a:gridCol w="2952720"/>
                <a:gridCol w="15843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ысловые бло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ые задач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и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86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Промышленность: история формирования, значение, основные функц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2.       Отраслевая структура промышл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А) Выявить этапы становления промышленного производства в мир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Б) Определить значение и основные функции промышл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траслевой состав  и классифицировать по различным призна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 и заполняют систематизирующую таблиц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 учебником и дополнительным источником знан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 учебником и дополнительным источником знаний, составление схематичного конспекта «Классификация отраслей промышленности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 111 и  дополнительный тек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111-112 и дополнительный тек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bb"/>
                </a:solidFill>
                <a:latin typeface="Monotype Corsiva"/>
              </a:rPr>
              <a:t>Урок №1 «Промышленность» (урок лекция</a:t>
            </a: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)</a:t>
            </a:r>
            <a:br>
              <a:rPr sz="4000"/>
            </a:br>
            <a:r>
              <a:rPr b="0" lang="ru-RU" sz="1800" spc="-1" strike="noStrike">
                <a:solidFill>
                  <a:srgbClr val="808000"/>
                </a:solidFill>
                <a:latin typeface="Monotype Corsiva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30200" y="1125360"/>
          <a:ext cx="8713800" cy="5732640"/>
        </p:xfrm>
        <a:graphic>
          <a:graphicData uri="http://schemas.openxmlformats.org/drawingml/2006/table">
            <a:tbl>
              <a:tblPr/>
              <a:tblGrid>
                <a:gridCol w="1981080"/>
                <a:gridCol w="2376720"/>
                <a:gridCol w="2771640"/>
                <a:gridCol w="1584360"/>
              </a:tblGrid>
              <a:tr h="606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Изменение отраслевой структуры в эпоху НТ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ровень развития промышленного производства в странах мир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Лидеры промышленного производ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оль стран мира на мировом промышленном рын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тановить и объяснить изменения в отраслевой структуре промышленност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страны с индустриальной структурой хозяйства, долю ВВП на промышленное производство некоторых стран мир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лидеров промышленного производ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участие страны в МГРТ  по промышленной продукции и значение на мировом промышленном рын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усваивают проблемное изложение учителя, выполняя схематический конспек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о статистическим материал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с дополнительным источником зна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комятся с особенностями  творческой работы по теме и определяют страну, по которой будет выполнена рабо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3300"/>
                          </a:solidFill>
                          <a:latin typeface="Franklin Gothic Medium"/>
                        </a:rPr>
                        <a:t>Творческая работа выполняется во внеурочное время и защищается на уроке №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аблица в учебнике (приложе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Дополнительный текст, карты атлас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Дополнительная литература, ресурсы Интерне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Monotype Corsiva"/>
              </a:rPr>
              <a:t>Урок №2 «Топливно-энергетическая промышленность» (урок практику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79280" y="1052640"/>
          <a:ext cx="8785440" cy="5602320"/>
        </p:xfrm>
        <a:graphic>
          <a:graphicData uri="http://schemas.openxmlformats.org/drawingml/2006/table">
            <a:tbl>
              <a:tblPr/>
              <a:tblGrid>
                <a:gridCol w="2160720"/>
                <a:gridCol w="2592360"/>
                <a:gridCol w="2879640"/>
                <a:gridCol w="1152720"/>
              </a:tblGrid>
              <a:tr h="65923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факторы ориентации отрасли промышленности. Взаимосвязь с другими отраслями мирового хозяй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Нефтяная, газовая, угольная промышленности; электроэнергет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и, установить взаимосвязь с другими отраслями мирового хозяй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собенности, характеризующие отрасли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яйстер по теме, опираясь на знания 9 клас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по группам (4 группы) по карточкам-заданиям, с использованием учебника и дополнительных источников познания. учебн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чёт о проделанноё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ст учебника, атлас, карто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Monotype Corsiva"/>
              </a:rPr>
              <a:t>Урок №3 «горнодобывающая промышленность» (конференц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324000" y="1628640"/>
          <a:ext cx="8785080" cy="5297760"/>
        </p:xfrm>
        <a:graphic>
          <a:graphicData uri="http://schemas.openxmlformats.org/drawingml/2006/table">
            <a:tbl>
              <a:tblPr/>
              <a:tblGrid>
                <a:gridCol w="2808000"/>
                <a:gridCol w="1944720"/>
                <a:gridCol w="3095640"/>
                <a:gridCol w="936720"/>
              </a:tblGrid>
              <a:tr h="61642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факторы ориентации отрасли промышленности. Взаимосвязь с другими отраслями мирового хозяй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еликие горнодобывающие стра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аны с узкой горнодобывающей промышленност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сновные грузопотоки полезных ископаемы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Горнодобывающая промышленность: подведение итог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и, установить взаимосвязь с другими отраслями мирового хозяй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роль и значение этих стран в МГР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роль и значение этих стран в МГР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снить оснавные направления грузопоток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бщить полученные знания по тем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яйстер по теме, опираясь на знания 9 класс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задают вопросы, делают записи в тетрадя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задают вопросы, делают записи в тетрад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ставляют картосхему основных грузопотоков полезных ископаемы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пишут статью или эссэ по теме, используя свои записи и полученные ответы на поставленные вопрос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Карты атласа  и учеб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Monotype Corsiva"/>
              </a:rPr>
              <a:t>Урок №4 «Машиностроение, металлургия, химическая промышленность» (урок практику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250920" y="1916280"/>
          <a:ext cx="8785080" cy="4773600"/>
        </p:xfrm>
        <a:graphic>
          <a:graphicData uri="http://schemas.openxmlformats.org/drawingml/2006/table">
            <a:tbl>
              <a:tblPr/>
              <a:tblGrid>
                <a:gridCol w="1944720"/>
                <a:gridCol w="2501640"/>
                <a:gridCol w="2767320"/>
                <a:gridCol w="1571400"/>
              </a:tblGrid>
              <a:tr h="55069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факторы ориентации  отраслей промышленност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Машиностроение, металлургия, химическая промышлен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ей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собенности, характеризующие отрасли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яйстер по вариантам (1-металлургия; 2-машиностроение; 3-химическая) кляйстер по теме, опираясь на знания 9 клас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по группам (4 группы) по карточкам-заданиям, с использованием учебника и дополнительных источников познания. учебн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чёт о проделанноё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ст учебника, атлас, карто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Monotype Corsiva"/>
              </a:rPr>
              <a:t>Урок №5 «Лесная и лёгкая промышленность» ( урок-практику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50920" y="1600200"/>
          <a:ext cx="8642160" cy="5065560"/>
        </p:xfrm>
        <a:graphic>
          <a:graphicData uri="http://schemas.openxmlformats.org/drawingml/2006/table">
            <a:tbl>
              <a:tblPr/>
              <a:tblGrid>
                <a:gridCol w="2160360"/>
                <a:gridCol w="2592360"/>
                <a:gridCol w="2448000"/>
                <a:gridCol w="1441440"/>
              </a:tblGrid>
              <a:tr h="50778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 факторы ориентации отраслей промышл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Лесная и лёгкая промышл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ей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собенности, характеризующие отрасли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ейстер по теме, опираясь на знания 9 клас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в парах (2 варианта) по карточкам-заданиям, с использованием учебника и дополнительных источников познания. учебн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чёт о проделанноё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ст учебника, атлас, карто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Monotype Corsiva"/>
              </a:rPr>
              <a:t>Урок №6 «Промышленность и окружающая среда» ( семина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0" y="1052640"/>
          <a:ext cx="9144000" cy="5851440"/>
        </p:xfrm>
        <a:graphic>
          <a:graphicData uri="http://schemas.openxmlformats.org/drawingml/2006/table">
            <a:tbl>
              <a:tblPr/>
              <a:tblGrid>
                <a:gridCol w="2268360"/>
                <a:gridCol w="3095640"/>
                <a:gridCol w="2880000"/>
                <a:gridCol w="900000"/>
              </a:tblGrid>
              <a:tr h="62888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снование для выделения проблем окружающей сред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Горнодобывающая промышленность и окружающ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Металлургия и окружающ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Химическая промышленность и окружающ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Лесная промышленность и окружающа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А) Доказать, сто промышлен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негативно влияет на окружающую сред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Б) Понять связь этой проблемы с промышленными отрасля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 источниками знаний для построения доказатель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Урок №7 «Территориальная структура промышленности» (урок-исследов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50920" y="1600200"/>
          <a:ext cx="8642160" cy="4853160"/>
        </p:xfrm>
        <a:graphic>
          <a:graphicData uri="http://schemas.openxmlformats.org/drawingml/2006/table">
            <a:tbl>
              <a:tblPr/>
              <a:tblGrid>
                <a:gridCol w="2162160"/>
                <a:gridCol w="2538360"/>
                <a:gridCol w="2417760"/>
                <a:gridCol w="1523880"/>
              </a:tblGrid>
              <a:tr h="49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История формирования промышленных районов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временные типы промышленных районов мира и их особ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География промышленных районов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этапы формирования промышленных район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типы, базовые отрасли (факторы ориентации)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тановить особенности размещения промышленных районов по странам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 и заполняют систематизирующую таблиц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 и заполняют систематизирующую таблиц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ставляют картосхемы «Промышленные районы мир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аполненная таблица и карты атла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Урок №8 «Промышленность мира» (защита творческих работ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457200" y="1981080"/>
          <a:ext cx="8229600" cy="4432320"/>
        </p:xfrm>
        <a:graphic>
          <a:graphicData uri="http://schemas.openxmlformats.org/drawingml/2006/table">
            <a:tbl>
              <a:tblPr/>
              <a:tblGrid>
                <a:gridCol w="2057400"/>
                <a:gridCol w="2562120"/>
                <a:gridCol w="2232000"/>
                <a:gridCol w="1378080"/>
              </a:tblGrid>
              <a:tr h="44967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бщение знаний по теме: «Промышленность – ведущая отрасль мирового хозяйств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оль стран мира на мировом промышленном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ынк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бщить полученные знания по теме «Промышленность – ведущая отрасль мирового хозяйств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участие страны в МГРТ  по промышленной продукции и значение на мировом промышленном рынк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вечают на вопросы тес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ащита творческих раб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Итог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 структурой урока подразумевается его внутреннее строение, последовательность отдельных эта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к сегодня рассматривается не столько с точки зрения формального сочетания и последовательности его этапов, сколько с позиций постановки и достижения целей, эффективности познавательной деятельности. Учитель сегодня свободен в выборе структуры урока, лишь бы она обеспечивала высокую результативность обучения 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8ca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f1e48"/>
                </a:solidFill>
                <a:latin typeface="Courier New"/>
              </a:rPr>
              <a:t> </a:t>
            </a:r>
            <a:r>
              <a:rPr b="1" lang="ru-RU" sz="6600" spc="-1" strike="noStrike">
                <a:solidFill>
                  <a:srgbClr val="640223"/>
                </a:solidFill>
                <a:latin typeface="Courier New"/>
              </a:rPr>
              <a:t>задачи: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знакомить с разработкой структуры урока по смысловым блок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ить особенности данной модели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ить последовательность действий учителя при разработке данной струк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общить опыт работы по данной тем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29600" cy="81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ирование урока подразумевает включение исходного учебного материала в дидактическую структуру, являющуюся составной частью системы организации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дактическая структура урока объединяет передаваемое учащимся содержание, все используемые средства обучения, деятельность преподавателя и деятельность учащихся в определенной их последовательности и взаимосвя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чебного занятия относится к числу элементов, существенно влияющих на организацию познавательной деятельност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труктурного построения занятия обязательно влечет за собой и новое построение познавательного процесса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ff"/>
                </a:solidFill>
                <a:latin typeface="Monotype Corsiva"/>
              </a:rPr>
              <a:t>Актуальность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дидактике утвердилась идея о том, что структура урока не должна быть универсальной, раз и навсегда заданной при любых целях и содержании учебного материала. Структура урока может быть разнообразной, но при этом необходимо, чтобы она всегда была чёт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уществлению этих требований помогает выделение по ходу урока смысловых блоков – относительно целостной части содержания, которую возможно выразить с помощью познавательного вопроса или задачи. Эти блоки, их последовательность и связи между ними образуют первичную структуру урока. Процесс усвоения, вся организация познавательной деятельности учащихся планируется применительно к этой структу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Monotype Corsiva"/>
              </a:rPr>
              <a:t>Значение и структура урока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сновной формой организации учебной работы является урок, который имеет своё специфическое содержание, отличающее его от других. В этом содержании преломляются общие учебно-воспитательные задачи. Вместе с тем урок выполняет определённую роль в формировании знаний, умений и навык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истема уроков даёт возможность учителю последовательно развёртывать свой курс, позволяет применять различные методы обучения, сочетая систематическое изложение знаний с коллективной и индивидуальной самостоятельной работой учащихся, обеспечивая вооружение учащихся необходимыми умениями и навыками и развитие познавательных способност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Под структурой урока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подразумевается его внутреннее строение, последовательность отдельных этап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Monotype Corsiva"/>
              </a:rPr>
              <a:t>Значение и структура урока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рок сегодня рассматривается не столько с точки зрения формального сочетания и последовательности его этапов, сколько с позиций постановки и достижения целей, эффективности познавательной деятельности. Учитель сегодня свободен в выборе структуры урока, лишь бы она обеспечивала высокую результативность обучения и воспитания. Важность этого нововведения можно понять, лишь сопоставляя прежние жёсткие требования обязательного соблюдения формальных ступеней урока с нынешними идеями свободного конструирования учебных занятий. Важным современным положением является то, что целесообразность тех или иных структур урока предлагается оценивать по эффективности всего учебно-воспитательного процесса, а не по структурному совершенству и завершённости отдельных урок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Monotype Corsiva"/>
              </a:rPr>
              <a:t>Значение и структура урока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уктурирование урока подразумевает включение исходного учебного материала в дидактическую структуру, являющуюся составной частью системы организации познавательной деятельности. 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идактическая структура урока объединяет передаваемое учащимся содержание, все используемые средства обучения, деятельность преподавателя и деятельность учащихся в определенной их последовательности и взаимосвязи. 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уктура учебного занятия относится к числу элементов, существенно влияющих на организацию познавательной деятель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00cc"/>
                </a:solidFill>
                <a:latin typeface="Monotype Corsiva"/>
              </a:rPr>
              <a:t>Современный ур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 на формирован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– это организатор учебной познавательной деятельности учащихся, их помощник и консульта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ичие сотрудничества между учителем и учащимися, большое внимание к мотивации, деятельности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альное место – это применение знаний и умений в процессе решения учебных задач на всех этапах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 между учащимися в процессе учебной работы, организация коллективной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исключены межпредметные уроки, проводимые двумя-тремя учителями разных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но связан с экскурсиями, полевыми практикумами,  работой на экологической тропе, в микрозаповедни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ления новых типов уроков: семинар, зачёт, конференц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учащимся части функций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139"/>
                </a:solidFill>
                <a:latin typeface="Lucida Console"/>
              </a:rPr>
              <a:t>Разработка структуры урока и планирования познавательной деятельности учащих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Структура урока не должна быть универсальной, а может быть разнообразной, но при этом необходимо, чтобы она всегда была очень чётк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Arial"/>
              </a:rPr>
              <a:t>Смысловые блоки</a:t>
            </a: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относительно целостные части содержания, которые возможно выразить с помощью познавательного вопроса или зада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2:13:24Z</dcterms:created>
  <dc:creator>Мама</dc:creator>
  <dc:description/>
  <dc:language>en-US</dc:language>
  <cp:lastModifiedBy>Коля</cp:lastModifiedBy>
  <dcterms:modified xsi:type="dcterms:W3CDTF">2013-04-16T16:47:16Z</dcterms:modified>
  <cp:revision>15</cp:revision>
  <dc:subject/>
  <dc:title>СТРУКТУРИРОВАНИЕ УРОКА</dc:title>
</cp:coreProperties>
</file>