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BB16-8848-4F97-AFEC-0B733C6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560B-EAEF-4548-BF67-0A4062E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7A0F-153B-4987-B80B-58D10C24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6D84-86E4-499B-B4E9-21285C6D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E350-3767-43CF-ACE1-19BE2672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C25-7940-4E0C-9384-094DC50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B45B-F272-49E3-AC68-1B44643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485C-B8D4-4B3E-AC46-637564E9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003-1A21-4D73-93E8-9DED7EF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05C-8C90-4CC9-8F7F-7DD89679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2D4C-0237-48E1-98D2-F452AB7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DB7B-E9A0-449B-AEB9-8A8C5669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776-353E-4216-A5F7-2BACDEBF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5D4-A560-489E-B976-CD7B693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41EC-296B-4D81-9770-59C21344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4FF9-74E5-4A67-B800-4ABBD928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64B3-552C-4288-A202-48840C90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CA2F-BCF0-42A9-A3A3-BD6D13FD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33E1-BD28-451C-997C-7697772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7100-5614-434A-9753-12CE5FC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5E67-34DC-46AA-B1A3-0670600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8C96-C77B-4A9C-B74B-27EA3FC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2835-272C-4B6A-8B90-2A3DB3D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1C55-0008-4306-8E4E-3CA8ACBE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C75-97B5-4190-94EC-51F94AC93D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20B-F14C-407E-B5AD-2DD89B5073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Семантика чисел в   «Повести о том, как один мужик двух генералов 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прокормил»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М.Е.Салтыкова-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Щедрина</a:t>
            </a:r>
            <a:br>
              <a:rPr sz="3600"/>
            </a:br>
            <a:r>
              <a:rPr b="0" i="1" lang="en-US" sz="36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754b68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3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189000"/>
            <a:ext cx="748836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два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 мифологии «двойка»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имволизировала «злое начал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У древних народов это числ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тожествлялось с «изменчивы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неблагоприятным начал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989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91628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635280" y="4581360"/>
            <a:ext cx="187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2182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Это ген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51004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8848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8117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И здесь число «два» художественно обосн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радиционно квалифицируется как «совершенное число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имволизирует гармонию,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овершен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Число «три» может заменять собою число «один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286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333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три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00000" y="4797360"/>
            <a:ext cx="17337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=1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1480" y="4581360"/>
            <a:ext cx="45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Христианская Троица соединяет в едином Боге Отце Сына и Святого Духа, то есть число «три» может заменять собою число «оди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581360"/>
            <a:ext cx="47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41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Почему писатель не использует это число</a:t>
            </a:r>
            <a:r>
              <a:rPr b="0" lang="en-US" sz="40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«Это возможно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при обозначении многопланового и мощного союз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                                       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(Словарь симво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Но такого союза в «Повести…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089080" cy="213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20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аким образом, отсутствие «Тройки» позволяет нам увидеть в персонажах «Повести…» людей, в которых одно из начал (это добро и зло) преувеличено за счёт отказа от друг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Нет гармонии внутри человека – не может быть её и в общест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«Повесть о том, как один мужик двух генералов прокормил» -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это философское произведение о человеке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вообще, о сосуществовании в нём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разнонаправленных начал,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установление гармонии между которыми – задача и сегодняшнег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дня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92360" y="1989000"/>
            <a:ext cx="5616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Он был умён, честен, суров и никогда не замалчивал правды, как бы она ни была прискорбна…</a:t>
            </a: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                                                                 М. Гор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436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М.Е.Салтыкова - Щедрина  можно назвать одним из величайших русских сатириков. В своём творчестве он развил традиции таких писателей, как Д.И.Фонвизин, И.А.Крылов, Н.В.Гого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Чрезвычайно острые произведения писателя были направлены на обличение многих пороков современного ему общ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846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Цель исследова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Выявить черты щедринского  метода, связанные с его стремлением выйти за пределы жизненного правдоподобия в изображении современной ему действи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на основе  «Повести о том, как один мужик двух генералов прокормил» М.Салтыкова-Щедрина    определить обоснованность семантики чисел, используемых писател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обраться в художественной  семантике чисел, используемых автором в произведении; доказать, что числа у писателя художественно обоснован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Доказать, что «Повесть о том, как один мужик двух генералов прокормил», - это произведение о человеке вообще, о существовании в нём разнонаправленных начал, установление гармонии между которыми – задача и сегодняшнего д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недрах сатиры Щедрина возникает сказка.</a:t>
            </a: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ковы причины его интереса к этому жанр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вия ценз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действие на писателя фольклорной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ение нового читателя, представляющего демократические слои русского общ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пулярность сказки как излюбленного жанра пропагандистской литерат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ческая близость сказки художественному методу Салтыкова-Щедрин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1700280"/>
            <a:ext cx="12891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br>
              <a:rPr sz="3800"/>
            </a:b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«Повесть о том, как один мужик двух  </a:t>
            </a:r>
            <a:br>
              <a:rPr sz="2800"/>
            </a:b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              генералов прокормил» </a:t>
            </a:r>
            <a:br>
              <a:rPr sz="2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1280" y="2060640"/>
            <a:ext cx="38844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альная проблематика «Повести…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кст Салтыкова-Щедрина прежде всего художественное произведение, позволяющее читателю увидеть угнетение одного сословия други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ой приём, использованный автором в этой сказке, – приём антитез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 этом заявлено уже в названии текста: число «один» противопоставлено числу «два», мужик – генерала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1628640"/>
            <a:ext cx="4100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 важнейшим противопоставлениям относится и антитеза «город - остров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чь идёт не просто о городе, а о Петербурге, который представлен как своеобразный город абсурда, город «неорганичного, искусственного…вызванного к жизни некой насильственной волей в соответствии с предумышленной схемой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тербургу противостоит остров, как органичное и естественное жизненное пространст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Название  произведения напоминает начало ряда чисел первого десятка: один, два, три, четыре…Но после первых двух членов этот ряд писателем обрыва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1640" y="1589040"/>
            <a:ext cx="8208720" cy="4462560"/>
            <a:chOff x="431640" y="1589040"/>
            <a:chExt cx="8208720" cy="4462560"/>
          </a:xfrm>
        </p:grpSpPr>
        <p:cxnSp>
          <p:nvCxnSpPr>
            <p:cNvPr id="144" name="_s49167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85480" y="222336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49165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621320" y="328752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49164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3558600" y="328860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49163"/>
            <p:cNvCxnSpPr>
              <a:stCxn id="152" idx="0"/>
              <a:endCxn id="146" idx="2"/>
            </p:cNvCxnSpPr>
            <p:nvPr/>
          </p:nvCxnSpPr>
          <p:spPr>
            <a:xfrm flipH="1" flipV="1" rot="5400000">
              <a:off x="2493360" y="222336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49159"/>
            <p:cNvSpPr/>
            <p:nvPr/>
          </p:nvSpPr>
          <p:spPr>
            <a:xfrm>
              <a:off x="3624120" y="1589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Есть ли в тек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другие числ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9160"/>
            <p:cNvSpPr/>
            <p:nvPr/>
          </p:nvSpPr>
          <p:spPr>
            <a:xfrm>
              <a:off x="4316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4503c"/>
                  </a:solidFill>
                  <a:latin typeface="Tahoma"/>
                </a:rPr>
                <a:t> </a:t>
              </a: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Четвёртого класс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9161"/>
            <p:cNvSpPr/>
            <p:nvPr/>
          </p:nvSpPr>
          <p:spPr>
            <a:xfrm>
              <a:off x="255960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Пятак серебр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9162"/>
            <p:cNvSpPr/>
            <p:nvPr/>
          </p:nvSpPr>
          <p:spPr>
            <a:xfrm>
              <a:off x="468792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Десяток спел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ябло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9166"/>
            <p:cNvSpPr/>
            <p:nvPr/>
          </p:nvSpPr>
          <p:spPr>
            <a:xfrm>
              <a:off x="68162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Стол на ст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челове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132000" y="4508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ница в  использовании чисел: к «двойке»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исатель обращается постоя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ба – д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дин   друг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двое – дву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ругие числа встречаются однократ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994920" y="3572640"/>
            <a:ext cx="865440" cy="720720"/>
          </a:xfrm>
          <a:prstGeom prst="rightArrow">
            <a:avLst>
              <a:gd name="adj1" fmla="val 50000"/>
              <a:gd name="adj2" fmla="val 300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800" spc="-1" strike="noStrike">
                <a:solidFill>
                  <a:srgbClr val="6666ff"/>
                </a:solidFill>
                <a:latin typeface="Tahoma"/>
              </a:rPr>
              <a:t>один</a:t>
            </a: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800"/>
            </a:b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Значения числа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целостность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источник жизн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сущность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эмблема начала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знак человеческого «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Эти оттенки семантики числа «один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присутствуют в образе «мужичин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12000" y="2133720"/>
            <a:ext cx="280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28:17Z</dcterms:created>
  <dc:creator>Наташа</dc:creator>
  <dc:description/>
  <dc:language>en-US</dc:language>
  <cp:lastModifiedBy>Пользователь</cp:lastModifiedBy>
  <dcterms:modified xsi:type="dcterms:W3CDTF">2011-04-21T10:12:02Z</dcterms:modified>
  <cp:revision>31</cp:revision>
  <dc:subject/>
  <dc:title>Пушкин и Моцарт: автор и литературный герой.</dc:title>
</cp:coreProperties>
</file>