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0E0870-F563-4B50-AE51-AE6A1D9E8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E09A68-35B5-4F53-9B0D-FB0F29F2B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089A65-0524-4A6A-9348-702343CEE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9C3E13-5A9B-4CBB-B725-0EE611896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9D388-109A-488F-8B70-6488E2E3F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3FBA4-E1CE-4D84-8193-2539044D2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DD6F7-6A80-4114-A856-827285F56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65476-665D-4451-9130-7844BC074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B3514-1D95-4EA8-B9B9-25C856ED4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07A2D-77A2-4649-9087-E5D45B93D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4284E-F8A3-4B1A-9998-67B071BC0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2BCD50-61D0-4863-A6B9-FC94E2E26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7DD3E-8963-44AC-AE48-586BD9CBB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9F681-021F-49B3-AF0C-DC0689A99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E1597-64BC-42C7-8FC2-377F2E624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E404C-815F-4D92-B1ED-A1E8C589F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42909-2731-4403-AABE-0FE47DD0B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83FF87-3FCE-4A2A-BDED-915F449F4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E895EE-C203-4C45-B7C6-CC13DFFDE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8E2324-CC08-4128-B9C9-B8459C292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45D020-2895-4FDB-B51C-1CDADBD8E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3D854F-ACDB-4BB3-833F-5C961F8B5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6FD9AA-41F2-4426-841D-97F74758E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7E65EB-BB9F-4A41-8480-3EA5AD2A7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b3b095"/>
                </a:gs>
                <a:gs pos="100000">
                  <a:srgbClr val="b0ac9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dddc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dddc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dddc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dddcc5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dddcc5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50000">
                  <a:srgbClr val="a9a78b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9d9b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dddcc5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dddc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c9c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c9c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50000">
                  <a:srgbClr val="c1bf9f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b0ac90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50000">
                  <a:srgbClr val="dddcc5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dddc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50000">
                  <a:srgbClr val="c1bf9f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dddcc5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dddc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b0ac9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b0ac90"/>
                </a:gs>
                <a:gs pos="50000">
                  <a:srgbClr val="b1ad92"/>
                </a:gs>
                <a:gs pos="100000">
                  <a:srgbClr val="b0ac9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905c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104F5-F26E-47E0-B6F2-84C34477C32A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b3b095"/>
                </a:gs>
                <a:gs pos="100000">
                  <a:srgbClr val="b0ac9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dddc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dddc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dddc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dddcc5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dddcc5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50000">
                  <a:srgbClr val="a9a78b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9d9b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dddcc5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dddc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c9c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c9c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50000">
                  <a:srgbClr val="c1bf9f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b0ac90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50000">
                  <a:srgbClr val="dddcc5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dddc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50000">
                  <a:srgbClr val="c1bf9f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dddcc5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dddc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b0ac9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b0ac90"/>
                </a:gs>
                <a:gs pos="50000">
                  <a:srgbClr val="b1ad92"/>
                </a:gs>
                <a:gs pos="100000">
                  <a:srgbClr val="b0ac9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17B45-AD35-45D7-BFC3-9B9C1F4AF2E8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55640" y="692280"/>
            <a:ext cx="77724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i="1" lang="en-US" sz="4400" spc="-1" strike="noStrike">
                <a:solidFill>
                  <a:srgbClr val="905c80"/>
                </a:solidFill>
                <a:latin typeface="Arial Rounded MT Bold"/>
              </a:rPr>
              <a:t> </a:t>
            </a:r>
            <a:r>
              <a:rPr b="0" i="1" lang="en-US" sz="3600" spc="-1" strike="noStrike">
                <a:solidFill>
                  <a:srgbClr val="660066"/>
                </a:solidFill>
                <a:latin typeface="Arial Rounded MT Bold"/>
              </a:rPr>
              <a:t>Семантика чисел в   «Повести о том, как один мужик двух генералов </a:t>
            </a:r>
            <a:br>
              <a:rPr sz="3600"/>
            </a:br>
            <a:r>
              <a:rPr b="0" i="1" lang="en-US" sz="3600" spc="-1" strike="noStrike">
                <a:solidFill>
                  <a:srgbClr val="660066"/>
                </a:solidFill>
                <a:latin typeface="Arial Rounded MT Bold"/>
              </a:rPr>
              <a:t>прокормил»</a:t>
            </a:r>
            <a:br>
              <a:rPr sz="3600"/>
            </a:br>
            <a:r>
              <a:rPr b="0" i="1" lang="en-US" sz="3600" spc="-1" strike="noStrike">
                <a:solidFill>
                  <a:srgbClr val="660066"/>
                </a:solidFill>
                <a:latin typeface="Arial Rounded MT Bold"/>
              </a:rPr>
              <a:t>М.Е.Салтыкова-</a:t>
            </a:r>
            <a:br>
              <a:rPr sz="3600"/>
            </a:br>
            <a:r>
              <a:rPr b="0" i="1" lang="en-US" sz="3600" spc="-1" strike="noStrike">
                <a:solidFill>
                  <a:srgbClr val="660066"/>
                </a:solidFill>
                <a:latin typeface="Arial Rounded MT Bold"/>
              </a:rPr>
              <a:t>Щедрина</a:t>
            </a:r>
            <a:br>
              <a:rPr sz="3600"/>
            </a:br>
            <a:r>
              <a:rPr b="0" i="1" lang="en-US" sz="3600" spc="-1" strike="noStrike">
                <a:solidFill>
                  <a:srgbClr val="905c80"/>
                </a:solidFill>
                <a:latin typeface="Arial Rounded MT Bold"/>
              </a:rPr>
              <a:t> </a:t>
            </a:r>
            <a:r>
              <a:rPr b="0" i="1" lang="en-US" sz="3600" spc="-1" strike="noStrike">
                <a:solidFill>
                  <a:srgbClr val="754b68"/>
                </a:solidFill>
                <a:latin typeface="Arial Rounded MT Bold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83528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16000" y="189000"/>
            <a:ext cx="7488360" cy="832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99"/>
                </a:solidFill>
                <a:latin typeface="Tahoma"/>
              </a:rPr>
              <a:t>                               </a:t>
            </a:r>
            <a:r>
              <a:rPr b="0" lang="en-US" sz="3600" spc="-1" strike="noStrike">
                <a:solidFill>
                  <a:srgbClr val="666699"/>
                </a:solidFill>
                <a:latin typeface="Tahoma"/>
              </a:rPr>
              <a:t>Число «</a:t>
            </a:r>
            <a:r>
              <a:rPr b="0" lang="en-US" sz="3600" spc="-1" strike="noStrike">
                <a:solidFill>
                  <a:srgbClr val="6666ff"/>
                </a:solidFill>
                <a:latin typeface="Tahoma"/>
              </a:rPr>
              <a:t>два</a:t>
            </a:r>
            <a:r>
              <a:rPr b="0" lang="en-US" sz="3600" spc="-1" strike="noStrike">
                <a:solidFill>
                  <a:srgbClr val="666699"/>
                </a:solidFill>
                <a:latin typeface="Tahoma"/>
              </a:rPr>
              <a:t>».</a:t>
            </a:r>
            <a:br>
              <a:rPr sz="3600"/>
            </a:br>
            <a:r>
              <a:rPr b="0" lang="en-US" sz="3600" spc="-1" strike="noStrike">
                <a:solidFill>
                  <a:srgbClr val="666699"/>
                </a:solidFill>
                <a:latin typeface="Tahoma"/>
              </a:rPr>
              <a:t>           Значения числа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66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В мифологии «двойка»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     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символизировала «злое начало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У древних народов это число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     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отожествлялось с «изменчивым 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     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неблагоприятным началом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24000" y="1628640"/>
            <a:ext cx="799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95280" y="1989000"/>
            <a:ext cx="842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332000" y="1916280"/>
            <a:ext cx="6840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ahoma"/>
              </a:rPr>
              <a:t>                         </a:t>
            </a: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635280" y="4581360"/>
            <a:ext cx="1871640" cy="172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2</a:t>
            </a:r>
            <a:endParaRPr b="0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826920" y="5218200"/>
            <a:ext cx="244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ahoma"/>
              </a:rPr>
              <a:t>Это генерал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900000" y="5100480"/>
            <a:ext cx="259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084720" y="4884840"/>
            <a:ext cx="223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940360" y="4811760"/>
            <a:ext cx="223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Tahoma"/>
              </a:rPr>
              <a:t>И здесь число «два» художественно обоснован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666699"/>
                </a:solidFill>
                <a:latin typeface="Tahoma"/>
              </a:rPr>
              <a:t>    </a:t>
            </a: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4247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99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666699"/>
                </a:solidFill>
                <a:latin typeface="Tahoma"/>
              </a:rPr>
              <a:t>Традиционно квалифицируется как «совершенное число»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99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666699"/>
                </a:solidFill>
                <a:latin typeface="Tahoma"/>
              </a:rPr>
              <a:t>Символизирует гармонию,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99"/>
                </a:solidFill>
                <a:latin typeface="Tahoma"/>
              </a:rPr>
              <a:t>    </a:t>
            </a:r>
            <a:r>
              <a:rPr b="0" lang="en-US" sz="3200" spc="-1" strike="noStrike">
                <a:solidFill>
                  <a:srgbClr val="666699"/>
                </a:solidFill>
                <a:latin typeface="Tahoma"/>
              </a:rPr>
              <a:t>совершенство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99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666699"/>
                </a:solidFill>
                <a:latin typeface="Tahoma"/>
              </a:rPr>
              <a:t>Число «три» может заменять собою число «один»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99"/>
                </a:solidFill>
                <a:latin typeface="Tahoma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1128600" cy="136836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332000" y="333360"/>
            <a:ext cx="734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Tahoma"/>
              </a:rPr>
              <a:t>             </a:t>
            </a:r>
            <a:r>
              <a:rPr b="0" lang="en-US" sz="3600" spc="-1" strike="noStrike">
                <a:solidFill>
                  <a:srgbClr val="666699"/>
                </a:solidFill>
                <a:latin typeface="Tahoma"/>
              </a:rPr>
              <a:t>Число «</a:t>
            </a:r>
            <a:r>
              <a:rPr b="0" lang="en-US" sz="3600" spc="-1" strike="noStrike">
                <a:solidFill>
                  <a:srgbClr val="6666ff"/>
                </a:solidFill>
                <a:latin typeface="Tahoma"/>
              </a:rPr>
              <a:t>три</a:t>
            </a:r>
            <a:r>
              <a:rPr b="0" lang="en-US" sz="3600" spc="-1" strike="noStrike">
                <a:solidFill>
                  <a:srgbClr val="666699"/>
                </a:solidFill>
                <a:latin typeface="Tahoma"/>
              </a:rPr>
              <a:t>».</a:t>
            </a:r>
            <a:br>
              <a:rPr sz="3600"/>
            </a:br>
            <a:r>
              <a:rPr b="0" lang="en-US" sz="3600" spc="-1" strike="noStrike">
                <a:solidFill>
                  <a:srgbClr val="666699"/>
                </a:solidFill>
                <a:latin typeface="Tahoma"/>
              </a:rPr>
              <a:t>           Значения числа: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900000" y="4797360"/>
            <a:ext cx="1733760" cy="113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3=1</a:t>
            </a:r>
            <a:endParaRPr b="0" lang="en-US" sz="80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011480" y="4581360"/>
            <a:ext cx="4521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Tahoma"/>
              </a:rPr>
              <a:t>Христианская Троица соединяет в едином Боге Отце Сына и Святого Духа, то есть число «три» может заменять собою число «один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924360" y="4581360"/>
            <a:ext cx="473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539640" y="404640"/>
            <a:ext cx="84132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360" y="549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699"/>
                </a:solidFill>
                <a:latin typeface="Tahoma"/>
              </a:rPr>
              <a:t>Почему писатель не использует это число</a:t>
            </a:r>
            <a:r>
              <a:rPr b="0" lang="en-US" sz="4000" spc="-1" strike="noStrike">
                <a:solidFill>
                  <a:srgbClr val="6666ff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666699"/>
                </a:solidFill>
                <a:latin typeface="Tahoma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3200" spc="-1" strike="noStrike">
                <a:solidFill>
                  <a:srgbClr val="666699"/>
                </a:solidFill>
                <a:latin typeface="Tahoma"/>
              </a:rPr>
              <a:t>«Это возможно</a:t>
            </a:r>
            <a:r>
              <a:rPr b="0" lang="en-US" sz="2800" spc="-1" strike="noStrike">
                <a:solidFill>
                  <a:srgbClr val="666699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666699"/>
                </a:solidFill>
                <a:latin typeface="Tahoma"/>
              </a:rPr>
              <a:t>при обозначении многопланового и мощного союза»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99"/>
                </a:solidFill>
                <a:latin typeface="Tahoma"/>
              </a:rPr>
              <a:t>                                        </a:t>
            </a:r>
            <a:r>
              <a:rPr b="0" lang="en-US" sz="2800" spc="-1" strike="noStrike">
                <a:solidFill>
                  <a:srgbClr val="666699"/>
                </a:solidFill>
                <a:latin typeface="Tahoma"/>
              </a:rPr>
              <a:t>(Словарь символов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4000" spc="-1" strike="noStrike">
                <a:solidFill>
                  <a:srgbClr val="ff0066"/>
                </a:solidFill>
                <a:latin typeface="Tahoma"/>
              </a:rPr>
              <a:t>Но такого союза в «Повести…»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Tahoma"/>
              </a:rPr>
              <a:t>                     </a:t>
            </a:r>
            <a:r>
              <a:rPr b="0" lang="en-US" sz="4800" spc="-1" strike="noStrike">
                <a:solidFill>
                  <a:srgbClr val="ff0066"/>
                </a:solidFill>
                <a:latin typeface="Tahoma"/>
              </a:rPr>
              <a:t>нет!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1042920" y="4365720"/>
            <a:ext cx="2089080" cy="213984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5867280" y="4365720"/>
            <a:ext cx="201636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3399"/>
                </a:solidFill>
                <a:latin typeface="Tahoma"/>
              </a:rPr>
              <a:t>Вывод:</a:t>
            </a: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99"/>
                </a:solidFill>
                <a:latin typeface="Tahoma"/>
              </a:rPr>
              <a:t>Таким образом, отсутствие «Тройки» позволяет нам увидеть в персонажах «Повести…» людей, в которых одно из начал (это добро и зло) преувеличено за счёт отказа от другого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99"/>
                </a:solidFill>
                <a:latin typeface="Tahoma"/>
              </a:rPr>
              <a:t>Нет гармонии внутри человека – не может быть её и в обществе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666699"/>
                </a:solidFill>
                <a:latin typeface="Tahoma"/>
              </a:rPr>
              <a:t>«Повесть о том, как один мужик двух генералов прокормил» -</a:t>
            </a: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3600" spc="-1" strike="noStrike">
                <a:solidFill>
                  <a:srgbClr val="666699"/>
                </a:solidFill>
                <a:latin typeface="Tahoma"/>
              </a:rPr>
              <a:t>это философское произведение о человеке   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2904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Tahoma"/>
              </a:rPr>
              <a:t>    </a:t>
            </a:r>
            <a:r>
              <a:rPr b="0" lang="en-US" sz="3600" spc="-1" strike="noStrike">
                <a:solidFill>
                  <a:srgbClr val="666699"/>
                </a:solidFill>
                <a:latin typeface="Tahoma"/>
              </a:rPr>
              <a:t>вообще, о сосуществовании в нём 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2904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Tahoma"/>
              </a:rPr>
              <a:t>   </a:t>
            </a:r>
            <a:r>
              <a:rPr b="0" lang="en-US" sz="3600" spc="-1" strike="noStrike">
                <a:solidFill>
                  <a:srgbClr val="666699"/>
                </a:solidFill>
                <a:latin typeface="Tahoma"/>
              </a:rPr>
              <a:t>разнонаправленных начал, 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2904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Tahoma"/>
              </a:rPr>
              <a:t>       </a:t>
            </a:r>
            <a:r>
              <a:rPr b="0" lang="en-US" sz="3600" spc="-1" strike="noStrike">
                <a:solidFill>
                  <a:srgbClr val="666699"/>
                </a:solidFill>
                <a:latin typeface="Tahoma"/>
              </a:rPr>
              <a:t>установление гармонии между которыми – задача и сегодняшнего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2904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Tahoma"/>
              </a:rPr>
              <a:t>    </a:t>
            </a:r>
            <a:r>
              <a:rPr b="0" lang="en-US" sz="3600" spc="-1" strike="noStrike">
                <a:solidFill>
                  <a:srgbClr val="666699"/>
                </a:solidFill>
                <a:latin typeface="Tahoma"/>
              </a:rPr>
              <a:t>дня!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1692360" y="1989000"/>
            <a:ext cx="5616360" cy="27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3333ff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пасибо за внимание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3333ff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i="1" lang="en-US" sz="2400" spc="-1" strike="noStrike">
                <a:solidFill>
                  <a:srgbClr val="e50727"/>
                </a:solidFill>
                <a:latin typeface="Script MT Bold"/>
              </a:rPr>
              <a:t>Он был умён, честен, суров и никогда не замалчивал правды, как бы она ни была прискорбна…</a:t>
            </a:r>
            <a:br>
              <a:rPr sz="2400"/>
            </a:br>
            <a:r>
              <a:rPr b="0" i="1" lang="en-US" sz="2400" spc="-1" strike="noStrike">
                <a:solidFill>
                  <a:srgbClr val="e50727"/>
                </a:solidFill>
                <a:latin typeface="Script MT Bold"/>
              </a:rPr>
              <a:t>                                                                 М. Горький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23640" y="1628640"/>
            <a:ext cx="8064360" cy="43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Tahoma"/>
              </a:rPr>
              <a:t>М.Е.Салтыкова - Щедрина  можно назвать одним из величайших русских сатириков. В своём творчестве он развил традиции таких писателей, как Д.И.Фонвизин, И.А.Крылов, Н.В.Гоголь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Tahoma"/>
              </a:rPr>
              <a:t>Чрезвычайно острые произведения писателя были направлены на обличение многих пороков современного ему общества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419640" y="3573360"/>
            <a:ext cx="1846080" cy="21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660066"/>
                </a:solidFill>
                <a:latin typeface="Arial Rounded MT Bold"/>
              </a:rPr>
              <a:t>Цель исследования: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54b68"/>
                </a:solidFill>
                <a:latin typeface="Tahoma"/>
              </a:rPr>
              <a:t>Выявить черты щедринского  метода, связанные с его стремлением выйти за пределы жизненного правдоподобия в изображении современной ему действительности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54b68"/>
                </a:solidFill>
                <a:latin typeface="Tahoma"/>
              </a:rPr>
              <a:t>на основе  «Повести о том, как один мужик двух генералов прокормил» М.Салтыкова-Щедрина    определить обоснованность семантики чисел, используемых писателем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660066"/>
                </a:solidFill>
                <a:latin typeface="Arial Rounded MT Bold"/>
              </a:rPr>
              <a:t>Задачи: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Разобраться в художественной  семантике чисел, используемых автором в произведении; доказать, что числа у писателя художественно обоснованы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Доказать, что «Повесть о том, как один мужик двух генералов прокормил», - это произведение о человеке вообще, о существовании в нём разнонаправленных начал, установление гармонии между которыми – задача и сегодняшнего дня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5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В недрах сатиры Щедрина возникает сказка.</a:t>
            </a:r>
            <a:br>
              <a:rPr sz="2800"/>
            </a:b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Каковы причины его интереса к этому жанру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11280" y="1916280"/>
            <a:ext cx="7921440" cy="438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Условия цензуры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Воздействие на писателя фольклорной и литературной традиции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Появление нового читателя, представляющего демократические слои русского общества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Популярность сказки как излюбленного жанра пропагандистской литературы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Органическая близость сказки художественному методу Салтыкова-Щедрина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7308720" y="1700280"/>
            <a:ext cx="1289160" cy="11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79280" y="333360"/>
            <a:ext cx="850752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905c80"/>
                </a:solidFill>
                <a:latin typeface="Tahoma"/>
              </a:rPr>
              <a:t>           </a:t>
            </a:r>
            <a:br>
              <a:rPr sz="3800"/>
            </a:br>
            <a:r>
              <a:rPr b="0" lang="en-US" sz="3800" spc="-1" strike="noStrike">
                <a:solidFill>
                  <a:srgbClr val="905c80"/>
                </a:solidFill>
                <a:latin typeface="Tahoma"/>
              </a:rPr>
              <a:t>           </a:t>
            </a:r>
            <a:r>
              <a:rPr b="0" lang="en-US" sz="2800" spc="-1" strike="noStrike">
                <a:solidFill>
                  <a:srgbClr val="905c80"/>
                </a:solidFill>
                <a:latin typeface="Tahoma"/>
              </a:rPr>
              <a:t>«Повесть о том, как один мужик двух  </a:t>
            </a:r>
            <a:br>
              <a:rPr sz="2800"/>
            </a:br>
            <a:r>
              <a:rPr b="0" lang="en-US" sz="2800" spc="-1" strike="noStrike">
                <a:solidFill>
                  <a:srgbClr val="905c80"/>
                </a:solidFill>
                <a:latin typeface="Tahoma"/>
              </a:rPr>
              <a:t>              генералов прокормил» </a:t>
            </a:r>
            <a:br>
              <a:rPr sz="2800"/>
            </a:b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 </a:t>
            </a:r>
            <a:r>
              <a:rPr b="0" lang="en-US" sz="3800" spc="-1" strike="noStrike">
                <a:solidFill>
                  <a:srgbClr val="905c80"/>
                </a:solidFill>
                <a:latin typeface="Tahoma"/>
              </a:rPr>
              <a:t>      </a:t>
            </a: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11280" y="2060640"/>
            <a:ext cx="3884400" cy="40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451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Социальная проблематика «Повести…»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451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Текст Салтыкова-Щедрина прежде всего художественное произведение, позволяющее читателю увидеть угнетение одного сословия другим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451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Основной приём, использованный автором в этой сказке, – приём антитезы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451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Об этом заявлено уже в названии текста: число «один» противопоставлено числу «два», мужик – генералам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00720" y="1628640"/>
            <a:ext cx="41004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451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К важнейшим противопоставлениям относится и антитеза «город - остров»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451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Речь идёт не просто о городе, а о Петербурге, который представлен как своеобразный город абсурда, город «неорганичного, искусственного…вызванного к жизни некой насильственной волей в соответствии с предумышленной схемой»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451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Петербургу противостоит остров, как органичное и естественное жизненное пространство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451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1726920" cy="149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Tahoma"/>
              </a:rPr>
              <a:t>Название  произведения напоминает начало ряда чисел первого десятка: один, два, три, четыре…Но после первых двух членов этот ряд писателем обрывается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431640" y="1589040"/>
            <a:ext cx="8208720" cy="4462560"/>
            <a:chOff x="431640" y="1589040"/>
            <a:chExt cx="8208720" cy="4462560"/>
          </a:xfrm>
        </p:grpSpPr>
        <p:cxnSp>
          <p:nvCxnSpPr>
            <p:cNvPr id="144" name="_s49167"/>
            <p:cNvCxnSpPr>
              <a:stCxn id="145" idx="0"/>
              <a:endCxn id="146" idx="2"/>
            </p:cNvCxnSpPr>
            <p:nvPr/>
          </p:nvCxnSpPr>
          <p:spPr>
            <a:xfrm flipV="1" rot="16200000">
              <a:off x="5685480" y="2223360"/>
              <a:ext cx="893160" cy="3192840"/>
            </a:xfrm>
            <a:prstGeom prst="bentConnector3">
              <a:avLst>
                <a:gd name="adj1" fmla="val 127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7" name="_s49165"/>
            <p:cNvCxnSpPr>
              <a:stCxn id="148" idx="0"/>
              <a:endCxn id="146" idx="2"/>
            </p:cNvCxnSpPr>
            <p:nvPr/>
          </p:nvCxnSpPr>
          <p:spPr>
            <a:xfrm flipV="1" rot="16200000">
              <a:off x="4621320" y="3287520"/>
              <a:ext cx="893160" cy="1064520"/>
            </a:xfrm>
            <a:prstGeom prst="bentConnector3">
              <a:avLst>
                <a:gd name="adj1" fmla="val 127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9" name="_s49164"/>
            <p:cNvCxnSpPr>
              <a:stCxn id="150" idx="0"/>
              <a:endCxn id="146" idx="2"/>
            </p:cNvCxnSpPr>
            <p:nvPr/>
          </p:nvCxnSpPr>
          <p:spPr>
            <a:xfrm flipH="1" flipV="1" rot="5400000">
              <a:off x="3558600" y="3288600"/>
              <a:ext cx="893160" cy="1062360"/>
            </a:xfrm>
            <a:prstGeom prst="bentConnector3">
              <a:avLst>
                <a:gd name="adj1" fmla="val 127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1" name="_s49163"/>
            <p:cNvCxnSpPr>
              <a:stCxn id="152" idx="0"/>
              <a:endCxn id="146" idx="2"/>
            </p:cNvCxnSpPr>
            <p:nvPr/>
          </p:nvCxnSpPr>
          <p:spPr>
            <a:xfrm flipH="1" flipV="1" rot="5400000">
              <a:off x="2493360" y="2223360"/>
              <a:ext cx="893160" cy="3193200"/>
            </a:xfrm>
            <a:prstGeom prst="bentConnector3">
              <a:avLst>
                <a:gd name="adj1" fmla="val 127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46" name="_s49159"/>
            <p:cNvSpPr/>
            <p:nvPr/>
          </p:nvSpPr>
          <p:spPr>
            <a:xfrm>
              <a:off x="3624120" y="1589040"/>
              <a:ext cx="1824120" cy="1784880"/>
            </a:xfrm>
            <a:prstGeom prst="roundRect">
              <a:avLst>
                <a:gd name="adj" fmla="val 16667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00"/>
                  </a:solidFill>
                  <a:latin typeface="Tahoma"/>
                </a:rPr>
                <a:t>Есть ли в текст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00"/>
                  </a:solidFill>
                  <a:latin typeface="Tahoma"/>
                </a:rPr>
                <a:t> </a:t>
              </a:r>
              <a:r>
                <a:rPr b="0" lang="en-US" sz="1800" spc="-1" strike="noStrike">
                  <a:solidFill>
                    <a:srgbClr val="003300"/>
                  </a:solidFill>
                  <a:latin typeface="Tahoma"/>
                </a:rPr>
                <a:t>другие числа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_s49160"/>
            <p:cNvSpPr/>
            <p:nvPr/>
          </p:nvSpPr>
          <p:spPr>
            <a:xfrm>
              <a:off x="431640" y="4266720"/>
              <a:ext cx="1824120" cy="1784880"/>
            </a:xfrm>
            <a:prstGeom prst="roundRect">
              <a:avLst>
                <a:gd name="adj" fmla="val 16667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4503c"/>
                  </a:solidFill>
                  <a:latin typeface="Tahoma"/>
                </a:rPr>
                <a:t> </a:t>
              </a:r>
              <a:r>
                <a:rPr b="0" lang="en-US" sz="4000" spc="-1" strike="noStrike">
                  <a:solidFill>
                    <a:srgbClr val="04503c"/>
                  </a:solidFill>
                  <a:latin typeface="Tahoma"/>
                </a:rPr>
                <a:t>4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ahoma"/>
                </a:rPr>
                <a:t>«Четвёртого класса»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_s49161"/>
            <p:cNvSpPr/>
            <p:nvPr/>
          </p:nvSpPr>
          <p:spPr>
            <a:xfrm>
              <a:off x="2559600" y="4266720"/>
              <a:ext cx="1824120" cy="1784880"/>
            </a:xfrm>
            <a:prstGeom prst="roundRect">
              <a:avLst>
                <a:gd name="adj" fmla="val 16667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ahoma"/>
                </a:rPr>
                <a:t>«Пятак серебра»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_s49162"/>
            <p:cNvSpPr/>
            <p:nvPr/>
          </p:nvSpPr>
          <p:spPr>
            <a:xfrm>
              <a:off x="4687920" y="4266720"/>
              <a:ext cx="1824120" cy="1784880"/>
            </a:xfrm>
            <a:prstGeom prst="roundRect">
              <a:avLst>
                <a:gd name="adj" fmla="val 16667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4503c"/>
                  </a:solidFill>
                  <a:latin typeface="Tahoma"/>
                </a:rPr>
                <a:t>10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ahoma"/>
                </a:rPr>
                <a:t>«Десяток спелых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i="1" lang="en-US" sz="1500" spc="-1" strike="noStrike">
                  <a:solidFill>
                    <a:srgbClr val="000000"/>
                  </a:solidFill>
                  <a:latin typeface="Tahoma"/>
                </a:rPr>
                <a:t>яблок»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_s49166"/>
            <p:cNvSpPr/>
            <p:nvPr/>
          </p:nvSpPr>
          <p:spPr>
            <a:xfrm>
              <a:off x="6816240" y="4266720"/>
              <a:ext cx="1824120" cy="1784880"/>
            </a:xfrm>
            <a:prstGeom prst="roundRect">
              <a:avLst>
                <a:gd name="adj" fmla="val 16667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4503c"/>
                  </a:solidFill>
                  <a:latin typeface="Tahoma"/>
                </a:rPr>
                <a:t>100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ahoma"/>
                </a:rPr>
                <a:t>«Стол на сто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ahoma"/>
                </a:rPr>
                <a:t>человек»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"/>
          <p:cNvSpPr/>
          <p:nvPr/>
        </p:nvSpPr>
        <p:spPr>
          <a:xfrm>
            <a:off x="3132000" y="4508640"/>
            <a:ext cx="79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503c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04503c"/>
                </a:solidFill>
                <a:latin typeface="Tahoma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Разница в  использовании чисел: к «двойке»</a:t>
            </a:r>
            <a:br>
              <a:rPr sz="2800"/>
            </a:b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писатель обращается постоянно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Оба – дв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один   другому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двое – двум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Другие числа встречаются однократно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Почему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 rot="5400000">
            <a:off x="3994920" y="3572640"/>
            <a:ext cx="865440" cy="720720"/>
          </a:xfrm>
          <a:prstGeom prst="rightArrow">
            <a:avLst>
              <a:gd name="adj1" fmla="val 50000"/>
              <a:gd name="adj2" fmla="val 3002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666699"/>
                </a:solidFill>
                <a:latin typeface="Tahoma"/>
              </a:rPr>
              <a:t>Число «</a:t>
            </a:r>
            <a:r>
              <a:rPr b="0" lang="en-US" sz="3800" spc="-1" strike="noStrike">
                <a:solidFill>
                  <a:srgbClr val="6666ff"/>
                </a:solidFill>
                <a:latin typeface="Tahoma"/>
              </a:rPr>
              <a:t>один</a:t>
            </a:r>
            <a:r>
              <a:rPr b="0" lang="en-US" sz="3800" spc="-1" strike="noStrike">
                <a:solidFill>
                  <a:srgbClr val="666699"/>
                </a:solidFill>
                <a:latin typeface="Tahoma"/>
              </a:rPr>
              <a:t>».</a:t>
            </a:r>
            <a:br>
              <a:rPr sz="3800"/>
            </a:br>
            <a:r>
              <a:rPr b="0" lang="en-US" sz="3800" spc="-1" strike="noStrike">
                <a:solidFill>
                  <a:srgbClr val="666699"/>
                </a:solidFill>
                <a:latin typeface="Tahoma"/>
              </a:rPr>
              <a:t>Значения числа:</a:t>
            </a: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16000" y="1484280"/>
            <a:ext cx="82296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«Первичная целостность»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«</a:t>
            </a:r>
            <a:r>
              <a:rPr b="0" lang="en-US" sz="3200" spc="-1" strike="noStrike">
                <a:solidFill>
                  <a:srgbClr val="ff0066"/>
                </a:solidFill>
                <a:latin typeface="Tahoma"/>
              </a:rPr>
              <a:t>источник жизни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»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«первичная сущность»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«эмблема начала»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«знак человеческого «я»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3333ff"/>
                </a:solidFill>
                <a:latin typeface="Tahoma"/>
              </a:rPr>
              <a:t>Эти оттенки семантики числа «один»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Tahoma"/>
              </a:rPr>
              <a:t>присутствуют в образе «мужичины»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012000" y="2133720"/>
            <a:ext cx="2808000" cy="25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Monotype Corsiva"/>
              </a:rPr>
              <a:t> </a:t>
            </a: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Monotype Corsiva"/>
              </a:rPr>
              <a:t>1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28:17Z</dcterms:created>
  <dc:creator>Наташа</dc:creator>
  <dc:description/>
  <dc:language>en-US</dc:language>
  <cp:lastModifiedBy>Пользователь</cp:lastModifiedBy>
  <dcterms:modified xsi:type="dcterms:W3CDTF">2011-04-21T10:12:02Z</dcterms:modified>
  <cp:revision>31</cp:revision>
  <dc:subject/>
  <dc:title>Пушкин и Моцарт: автор и литературный герой.</dc:title>
</cp:coreProperties>
</file>