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E9182-DA26-4BBC-B1AB-4ED333A5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1F27-5BD7-4118-8319-3F95578B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D448-CFFE-4346-8A04-F762A500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C4B64-C801-42B0-96E3-7A9F09B4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6E73-AB18-40F7-AF8F-CB4A7265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A72D-6E87-4462-A567-27B73644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39D6-2603-4ACD-A75C-35B71FF0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8164-2B62-4BFC-B7B8-DC6ADDDC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64FC-BD30-4B1F-8BA3-B7AFAAFF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EFDA-8B17-417C-BEE3-AD16E229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3CE7-1E37-4BF6-BBF5-FA38D8B5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D295B-DD29-4A56-95B4-FC14020C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6D1F-402A-4604-A662-67AE2A58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F2DF-F5CA-466D-BCFF-61A65E74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E66B-07E1-4D57-8218-06399B3E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132C-9726-486D-87F4-08BB7FDC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E6C7-65CE-49D5-857B-20D67974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341FE-7AF3-4BDD-87B6-EC3020A4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BC32A-2713-4C71-ABD9-32FB691D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895E-F3C6-467F-97B7-E220AE2E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AC5DC-A7C2-4E65-862E-7326BE84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DB2AC-1506-426B-8796-2B9E35FE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F0489-EF34-4BD0-B471-7E3A24BE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C1C31-419D-4243-A173-831E41A7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FE0E-450B-4265-B902-4716AD96CBC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05E8-67A7-41F2-998C-0FD18328A00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905c80"/>
                </a:solidFill>
                <a:latin typeface="Arial Rounded MT Bold"/>
              </a:rPr>
              <a:t> </a:t>
            </a:r>
            <a:r>
              <a:rPr b="0" i="1" lang="en-US" sz="3600" spc="-1" strike="noStrike">
                <a:solidFill>
                  <a:srgbClr val="660066"/>
                </a:solidFill>
                <a:latin typeface="Arial Rounded MT Bold"/>
              </a:rPr>
              <a:t>Семантика чисел в   «Повести о том, как один мужик двух генералов </a:t>
            </a:r>
            <a:br>
              <a:rPr sz="3600"/>
            </a:br>
            <a:r>
              <a:rPr b="0" i="1" lang="en-US" sz="3600" spc="-1" strike="noStrike">
                <a:solidFill>
                  <a:srgbClr val="660066"/>
                </a:solidFill>
                <a:latin typeface="Arial Rounded MT Bold"/>
              </a:rPr>
              <a:t>прокормил»</a:t>
            </a:r>
            <a:br>
              <a:rPr sz="3600"/>
            </a:br>
            <a:r>
              <a:rPr b="0" i="1" lang="en-US" sz="3600" spc="-1" strike="noStrike">
                <a:solidFill>
                  <a:srgbClr val="660066"/>
                </a:solidFill>
                <a:latin typeface="Arial Rounded MT Bold"/>
              </a:rPr>
              <a:t>М.Е.Салтыкова-</a:t>
            </a:r>
            <a:br>
              <a:rPr sz="3600"/>
            </a:br>
            <a:r>
              <a:rPr b="0" i="1" lang="en-US" sz="3600" spc="-1" strike="noStrike">
                <a:solidFill>
                  <a:srgbClr val="660066"/>
                </a:solidFill>
                <a:latin typeface="Arial Rounded MT Bold"/>
              </a:rPr>
              <a:t>Щедрина</a:t>
            </a:r>
            <a:br>
              <a:rPr sz="3600"/>
            </a:br>
            <a:r>
              <a:rPr b="0" i="1" lang="en-US" sz="3600" spc="-1" strike="noStrike">
                <a:solidFill>
                  <a:srgbClr val="905c80"/>
                </a:solidFill>
                <a:latin typeface="Arial Rounded MT Bold"/>
              </a:rPr>
              <a:t> </a:t>
            </a:r>
            <a:r>
              <a:rPr b="0" i="1" lang="en-US" sz="3600" spc="-1" strike="noStrike">
                <a:solidFill>
                  <a:srgbClr val="754b68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83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16000" y="189000"/>
            <a:ext cx="7488360" cy="83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ahoma"/>
              </a:rPr>
              <a:t>                            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Число «</a:t>
            </a:r>
            <a:r>
              <a:rPr b="0" lang="en-US" sz="3600" spc="-1" strike="noStrike">
                <a:solidFill>
                  <a:srgbClr val="6666ff"/>
                </a:solidFill>
                <a:latin typeface="Tahoma"/>
              </a:rPr>
              <a:t>два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».</a:t>
            </a:r>
            <a:br>
              <a:rPr sz="3600"/>
            </a:b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        Значения числ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В мифологии «двойка»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символизировала «злое начало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У древних народов это число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отожествлялось с «изменчивым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неблагоприятным началом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62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9890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32000" y="1916280"/>
            <a:ext cx="68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635280" y="4581360"/>
            <a:ext cx="1871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52182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Это генер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510048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4884840"/>
            <a:ext cx="22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40360" y="48117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И здесь число «два» художественно обоснова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99"/>
                </a:solidFill>
                <a:latin typeface="Tahoma"/>
              </a:rPr>
              <a:t>   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Традиционно квалифицируется как «совершенное число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Символизирует гармонию,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совершенство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Число «три» может заменять собою число «один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128600" cy="1368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332000" y="333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       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Число «</a:t>
            </a:r>
            <a:r>
              <a:rPr b="0" lang="en-US" sz="3600" spc="-1" strike="noStrike">
                <a:solidFill>
                  <a:srgbClr val="6666ff"/>
                </a:solidFill>
                <a:latin typeface="Tahoma"/>
              </a:rPr>
              <a:t>три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».</a:t>
            </a:r>
            <a:br>
              <a:rPr sz="3600"/>
            </a:b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        Значения числа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00000" y="4797360"/>
            <a:ext cx="173376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=1</a:t>
            </a:r>
            <a:endParaRPr b="0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11480" y="4581360"/>
            <a:ext cx="45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Христианская Троица соединяет в едином Боге Отце Сына и Святого Духа, то есть число «три» может заменять собою число «оди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24360" y="4581360"/>
            <a:ext cx="473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413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ahoma"/>
              </a:rPr>
              <a:t>Почему писатель не использует это число</a:t>
            </a:r>
            <a:r>
              <a:rPr b="0" lang="en-US" sz="4000" spc="-1" strike="noStrike">
                <a:solidFill>
                  <a:srgbClr val="6666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666699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«Это возможно</a:t>
            </a:r>
            <a:r>
              <a:rPr b="0" lang="en-US" sz="2800" spc="-1" strike="noStrike">
                <a:solidFill>
                  <a:srgbClr val="6666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при обозначении многопланового и мощного союз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ahoma"/>
              </a:rPr>
              <a:t>                                        </a:t>
            </a:r>
            <a:r>
              <a:rPr b="0" lang="en-US" sz="2800" spc="-1" strike="noStrike">
                <a:solidFill>
                  <a:srgbClr val="666699"/>
                </a:solidFill>
                <a:latin typeface="Tahoma"/>
              </a:rPr>
              <a:t>(Словарь символ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Но такого союза в «Повести…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                     </a:t>
            </a:r>
            <a:r>
              <a:rPr b="0" lang="en-US" sz="4800" spc="-1" strike="noStrike">
                <a:solidFill>
                  <a:srgbClr val="ff0066"/>
                </a:solidFill>
                <a:latin typeface="Tahoma"/>
              </a:rPr>
              <a:t>нет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42920" y="4365720"/>
            <a:ext cx="2089080" cy="2139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867280" y="4365720"/>
            <a:ext cx="2016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Вывод: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Таким образом, отсутствие «Тройки» позволяет нам увидеть в персонажах «Повести…» людей, в которых одно из начал (это добро и зло) преувеличено за счёт отказа от друго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ahoma"/>
              </a:rPr>
              <a:t>Нет гармонии внутри человека – не может быть её и в обществ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99"/>
                </a:solidFill>
                <a:latin typeface="Tahoma"/>
              </a:rPr>
              <a:t>«Повесть о том, как один мужик двух генералов прокормил» -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это философское произведение о человеке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вообще, о сосуществовании в нём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разнонаправленных начал,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 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установление гармонии между которыми – задача и сегодняшнего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666699"/>
                </a:solidFill>
                <a:latin typeface="Tahoma"/>
              </a:rPr>
              <a:t>дня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92360" y="1989000"/>
            <a:ext cx="5616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3333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e50727"/>
                </a:solidFill>
                <a:latin typeface="Script MT Bold"/>
              </a:rPr>
              <a:t>Он был умён, честен, суров и никогда не замалчивал правды, как бы она ни была прискорбна…</a:t>
            </a:r>
            <a:br>
              <a:rPr sz="2400"/>
            </a:br>
            <a:r>
              <a:rPr b="0" i="1" lang="en-US" sz="2400" spc="-1" strike="noStrike">
                <a:solidFill>
                  <a:srgbClr val="e50727"/>
                </a:solidFill>
                <a:latin typeface="Script MT Bold"/>
              </a:rPr>
              <a:t>                                                                 М. Горь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06436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М.Е.Салтыкова - Щедрина  можно назвать одним из величайших русских сатириков. В своём творчестве он развил традиции таких писателей, как Д.И.Фонвизин, И.А.Крылов, Н.В.Гогол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Чрезвычайно острые произведения писателя были направлены на обличение многих пороков современного ему общест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19640" y="3573360"/>
            <a:ext cx="184608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66"/>
                </a:solidFill>
                <a:latin typeface="Arial Rounded MT Bold"/>
              </a:rPr>
              <a:t>Цель исследования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4b68"/>
                </a:solidFill>
                <a:latin typeface="Tahoma"/>
              </a:rPr>
              <a:t>Выявить черты щедринского  метода, связанные с его стремлением выйти за пределы жизненного правдоподобия в изображении современной ему действи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4b68"/>
                </a:solidFill>
                <a:latin typeface="Tahoma"/>
              </a:rPr>
              <a:t>на основе  «Повести о том, как один мужик двух генералов прокормил» М.Салтыкова-Щедрина    определить обоснованность семантики чисел, используемых писателе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66"/>
                </a:solidFill>
                <a:latin typeface="Arial Rounded MT Bold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Разобраться в художественной  семантике чисел, используемых автором в произведении; доказать, что числа у писателя художественно обоснован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Доказать, что «Повесть о том, как один мужик двух генералов прокормил», - это произведение о человеке вообще, о существовании в нём разнонаправленных начал, установление гармонии между которыми – задача и сегодняшнего дн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В недрах сатиры Щедрина возникает сказка.</a:t>
            </a:r>
            <a:br>
              <a:rPr sz="2800"/>
            </a:b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Каковы причины его интереса к этому жанр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92144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ловия цензур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здействие на писателя фольклорной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явление нового читателя, представляющего демократические слои русского обще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пулярность сказки как излюбленного жанра пропагандистской литератур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рганическая близость сказки художественному методу Салтыкова-Щедрин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08720" y="1700280"/>
            <a:ext cx="12891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50752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05c80"/>
                </a:solidFill>
                <a:latin typeface="Tahoma"/>
              </a:rPr>
              <a:t>           </a:t>
            </a:r>
            <a:br>
              <a:rPr sz="3800"/>
            </a:br>
            <a:r>
              <a:rPr b="0" lang="en-US" sz="3800" spc="-1" strike="noStrike">
                <a:solidFill>
                  <a:srgbClr val="905c8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905c80"/>
                </a:solidFill>
                <a:latin typeface="Tahoma"/>
              </a:rPr>
              <a:t>«Повесть о том, как один мужик двух  </a:t>
            </a:r>
            <a:br>
              <a:rPr sz="2800"/>
            </a:br>
            <a:r>
              <a:rPr b="0" lang="en-US" sz="2800" spc="-1" strike="noStrike">
                <a:solidFill>
                  <a:srgbClr val="905c80"/>
                </a:solidFill>
                <a:latin typeface="Tahoma"/>
              </a:rPr>
              <a:t>              генералов прокормил» </a:t>
            </a:r>
            <a:br>
              <a:rPr sz="2800"/>
            </a:b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3800" spc="-1" strike="noStrike">
                <a:solidFill>
                  <a:srgbClr val="905c80"/>
                </a:solidFill>
                <a:latin typeface="Tahoma"/>
              </a:rPr>
              <a:t>     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11280" y="2060640"/>
            <a:ext cx="38844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циальная проблематика «Повести…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екст Салтыкова-Щедрина прежде всего художественное произведение, позволяющее читателю увидеть угнетение одного сословия други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сновной приём, использованный автором в этой сказке, – приём антитез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 этом заявлено уже в названии текста: число «один» противопоставлено числу «два», мужик – генералам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00720" y="1628640"/>
            <a:ext cx="4100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 важнейшим противопоставлениям относится и антитеза «город - остров»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чь идёт не просто о городе, а о Петербурге, который представлен как своеобразный город абсурда, город «неорганичного, искусственного…вызванного к жизни некой насильственной волей в соответствии с предумышленной схемой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тербургу противостоит остров, как органичное и естественное жизненное пространств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72692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Название  произведения напоминает начало ряда чисел первого десятка: один, два, три, четыре…Но после первых двух членов этот ряд писателем обрывае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31640" y="1589040"/>
            <a:ext cx="8208720" cy="4462560"/>
            <a:chOff x="431640" y="1589040"/>
            <a:chExt cx="8208720" cy="4462560"/>
          </a:xfrm>
        </p:grpSpPr>
        <p:cxnSp>
          <p:nvCxnSpPr>
            <p:cNvPr id="144" name="_s49167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5685480" y="2223360"/>
              <a:ext cx="893160" cy="31928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49165"/>
            <p:cNvCxnSpPr>
              <a:stCxn id="148" idx="0"/>
              <a:endCxn id="146" idx="2"/>
            </p:cNvCxnSpPr>
            <p:nvPr/>
          </p:nvCxnSpPr>
          <p:spPr>
            <a:xfrm flipV="1" rot="16200000">
              <a:off x="4621320" y="3287520"/>
              <a:ext cx="893160" cy="1064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49164"/>
            <p:cNvCxnSpPr>
              <a:stCxn id="150" idx="0"/>
              <a:endCxn id="146" idx="2"/>
            </p:cNvCxnSpPr>
            <p:nvPr/>
          </p:nvCxnSpPr>
          <p:spPr>
            <a:xfrm flipH="1" flipV="1" rot="5400000">
              <a:off x="3558600" y="3288600"/>
              <a:ext cx="893160" cy="10623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49163"/>
            <p:cNvCxnSpPr>
              <a:stCxn id="152" idx="0"/>
              <a:endCxn id="146" idx="2"/>
            </p:cNvCxnSpPr>
            <p:nvPr/>
          </p:nvCxnSpPr>
          <p:spPr>
            <a:xfrm flipH="1" flipV="1" rot="5400000">
              <a:off x="2493360" y="2223360"/>
              <a:ext cx="893160" cy="31932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49159"/>
            <p:cNvSpPr/>
            <p:nvPr/>
          </p:nvSpPr>
          <p:spPr>
            <a:xfrm>
              <a:off x="3624120" y="158904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Есть ли в текс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3300"/>
                  </a:solidFill>
                  <a:latin typeface="Tahoma"/>
                </a:rPr>
                <a:t>другие числа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49160"/>
            <p:cNvSpPr/>
            <p:nvPr/>
          </p:nvSpPr>
          <p:spPr>
            <a:xfrm>
              <a:off x="431640" y="426672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4503c"/>
                  </a:solidFill>
                  <a:latin typeface="Tahoma"/>
                </a:rPr>
                <a:t> </a:t>
              </a:r>
              <a:r>
                <a:rPr b="0" lang="en-US" sz="4000" spc="-1" strike="noStrike">
                  <a:solidFill>
                    <a:srgbClr val="04503c"/>
                  </a:solidFill>
                  <a:latin typeface="Tahom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«Четвёртого класса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9161"/>
            <p:cNvSpPr/>
            <p:nvPr/>
          </p:nvSpPr>
          <p:spPr>
            <a:xfrm>
              <a:off x="2559600" y="426672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«Пятак серебра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49162"/>
            <p:cNvSpPr/>
            <p:nvPr/>
          </p:nvSpPr>
          <p:spPr>
            <a:xfrm>
              <a:off x="4687920" y="426672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4503c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«Десяток спелы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яблок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49166"/>
            <p:cNvSpPr/>
            <p:nvPr/>
          </p:nvSpPr>
          <p:spPr>
            <a:xfrm>
              <a:off x="6816240" y="426672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4503c"/>
                  </a:solidFill>
                  <a:latin typeface="Tahoma"/>
                </a:rPr>
                <a:t>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«Стол на ст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ahoma"/>
                </a:rPr>
                <a:t>человек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132000" y="4508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503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4503c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Разница в  использовании чисел: к «двойке»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писатель обращается постоянн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Оба – д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один   другом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двое – двум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Другие числа встречаются однократн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3994920" y="3572640"/>
            <a:ext cx="865440" cy="720720"/>
          </a:xfrm>
          <a:prstGeom prst="rightArrow">
            <a:avLst>
              <a:gd name="adj1" fmla="val 50000"/>
              <a:gd name="adj2" fmla="val 3002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99"/>
                </a:solidFill>
                <a:latin typeface="Tahoma"/>
              </a:rPr>
              <a:t>Число «</a:t>
            </a:r>
            <a:r>
              <a:rPr b="0" lang="en-US" sz="3800" spc="-1" strike="noStrike">
                <a:solidFill>
                  <a:srgbClr val="6666ff"/>
                </a:solidFill>
                <a:latin typeface="Tahoma"/>
              </a:rPr>
              <a:t>один</a:t>
            </a:r>
            <a:r>
              <a:rPr b="0" lang="en-US" sz="3800" spc="-1" strike="noStrike">
                <a:solidFill>
                  <a:srgbClr val="666699"/>
                </a:solidFill>
                <a:latin typeface="Tahoma"/>
              </a:rPr>
              <a:t>».</a:t>
            </a:r>
            <a:br>
              <a:rPr sz="3800"/>
            </a:br>
            <a:r>
              <a:rPr b="0" lang="en-US" sz="3800" spc="-1" strike="noStrike">
                <a:solidFill>
                  <a:srgbClr val="666699"/>
                </a:solidFill>
                <a:latin typeface="Tahoma"/>
              </a:rPr>
              <a:t>Значения числа: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4842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«Первичная целостность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источник жизни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«первичная сущность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«эмблема начала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«знак человеческого «я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Эти оттенки семантики числа «один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присутствуют в образе «мужичины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012000" y="2133720"/>
            <a:ext cx="28080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28:17Z</dcterms:created>
  <dc:creator>Наташа</dc:creator>
  <dc:description/>
  <dc:language>en-US</dc:language>
  <cp:lastModifiedBy>Пользователь</cp:lastModifiedBy>
  <dcterms:modified xsi:type="dcterms:W3CDTF">2011-04-21T10:12:02Z</dcterms:modified>
  <cp:revision>31</cp:revision>
  <dc:subject/>
  <dc:title>Пушкин и Моцарт: автор и литературный герой.</dc:title>
</cp:coreProperties>
</file>