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1468-95E5-4594-85A8-DEA616FC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5C24-F414-4ED2-AAC8-D8FC2A6B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443D-2153-4E67-A504-B63A4239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93C7-3F85-4BCB-BF84-9A4D8CBF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A7DE-5802-4F1C-8C66-21DE2B88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1C92-3EC1-43F2-B6AC-D72224E0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8293-14D2-4643-ADF8-04C957A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40CF-C21A-49FA-9E37-6AD82D89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8A67-839C-44BB-BF13-684082F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EDF3-1334-47EE-978E-D8C59A6B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4547-35DB-472B-9ACD-972F717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EA7F-CD06-4FAB-80D0-CE887C60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F2F1-465F-43DB-AEE4-9620731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B643-F077-4B5A-9FD1-3BE9F1BB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FEDC-B9B2-4890-B165-438D57F4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D109-712F-4D09-A038-0C1BA3C4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F297-613A-4AC3-B1F3-2629A140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A559-ACDD-4445-8D15-77CE63A9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3D5A-8578-438F-AAE9-D8242A7D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024D-1BAD-4A89-9302-8D7A47E7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6BB8-278D-444A-A829-92374101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15CC-A34E-479D-99D1-1929E840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23F3-FA10-40DA-BC4B-117D582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F735-070D-4CC1-B88F-1F3E75BF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18C4-2334-4E4F-9795-0F7404A54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F41B-DEAF-479C-BA42-4E4F53D75B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7"/>
          <p:cNvSpPr txBox="1"/>
          <p:nvPr/>
        </p:nvSpPr>
        <p:spPr>
          <a:xfrm>
            <a:off x="2050920" y="177336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WordArt 8"/>
          <p:cNvSpPr txBox="1"/>
          <p:nvPr/>
        </p:nvSpPr>
        <p:spPr>
          <a:xfrm>
            <a:off x="324000" y="-171360"/>
            <a:ext cx="684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ременное представление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WordArt 9"/>
          <p:cNvSpPr txBox="1"/>
          <p:nvPr/>
        </p:nvSpPr>
        <p:spPr>
          <a:xfrm>
            <a:off x="0" y="907920"/>
            <a:ext cx="774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 механизмах и закономерностя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250920" y="3284640"/>
            <a:ext cx="5833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 уро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знакомить учащихся с происхождением, развитием и основными положениями синтетической теории э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250920" y="1916280"/>
            <a:ext cx="32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Чистый дарвинизм»           ( Л.С.Берг)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4572000" y="184464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тетическая теория ( Н.И.Воронц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395280" y="2852640"/>
            <a:ext cx="295272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1.Все организмы развивались из одной или  немногих первичных фор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2. Развитие шло дивергент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3. Развитие шло на основе случайных вари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4.Факторами прогресса служат борьба за существование и естественный отбо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5. Процесс эволюции заключается в образовании новых признаков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6. Вымирание организмов происходит от внешних причин: борьбы за существования и выживание более приспособленн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4716360" y="2511360"/>
            <a:ext cx="381636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1.   Наименьшая единица эволюции- популяц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2.    Основным движущим фактором эволюции служит естественный отбор случайных и мелких мут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3.    Эволюция носит дивергент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4.    Эволюция носит постепенный и длитель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ждая систематическая единица должна иметь единственный корень. Это обязательное условие для самого права на существование. Эволюционная систематика строит классификацию исходя из род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За пределами вида эволюция прекращае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ид политипич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Изменчивость носит случай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Эволюция непредсказуем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15"/>
          <p:cNvSpPr/>
          <p:nvPr/>
        </p:nvSpPr>
        <p:spPr>
          <a:xfrm flipH="1">
            <a:off x="3132000" y="1844640"/>
            <a:ext cx="719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7"/>
          <p:cNvSpPr/>
          <p:nvPr/>
        </p:nvSpPr>
        <p:spPr>
          <a:xfrm>
            <a:off x="3924360" y="1844640"/>
            <a:ext cx="647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WordArt 24"/>
          <p:cNvSpPr txBox="1"/>
          <p:nvPr/>
        </p:nvSpPr>
        <p:spPr>
          <a:xfrm>
            <a:off x="250920" y="-243000"/>
            <a:ext cx="8569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авнительная характеристика теорий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WordArt 4"/>
          <p:cNvSpPr txBox="1"/>
          <p:nvPr/>
        </p:nvSpPr>
        <p:spPr>
          <a:xfrm>
            <a:off x="971640" y="-243000"/>
            <a:ext cx="684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ти сходства и различия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250920" y="404640"/>
            <a:ext cx="84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основных положениях теорий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WordArt 6"/>
          <p:cNvSpPr txBox="1"/>
          <p:nvPr/>
        </p:nvSpPr>
        <p:spPr>
          <a:xfrm>
            <a:off x="0" y="1197000"/>
            <a:ext cx="8604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истого дарвинизма" и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Line 7"/>
          <p:cNvSpPr/>
          <p:nvPr/>
        </p:nvSpPr>
        <p:spPr>
          <a:xfrm flipH="1">
            <a:off x="1476000" y="2421000"/>
            <a:ext cx="25909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5076720" y="2421000"/>
            <a:ext cx="215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0" y="350028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о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6588000" y="357336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0" y="4365720"/>
            <a:ext cx="262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6659640" y="4437000"/>
            <a:ext cx="201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WordArt 4"/>
          <p:cNvSpPr txBox="1"/>
          <p:nvPr/>
        </p:nvSpPr>
        <p:spPr>
          <a:xfrm>
            <a:off x="179280" y="-603360"/>
            <a:ext cx="8713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итика синтетической теории 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468360" y="177336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250920" y="1773360"/>
            <a:ext cx="86421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тетическая теория эволюции не вызывает сомнений у большинства биологов. Считается, что эволюция в целом удовлетворительно объясняется этой теорией. Тем не менее за последние два десятилетия возросло число публикаций, в которых отмечается, что СТЭ неадекватна современным знаниям о ходе эволюционн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одного из наиболее часто критикуемых положений СТЭ можно привести ее подход  к объяснению вторичного сх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о неодарвинизму, все признаки живых существ полностью определяются составом генотипа и характером отбора. Поэтому параллелизм объясняется тем, что организмы унаследовали большое количество  одинаковых генов от своего  предка, а происхождение конвергентных признаков целиком приписывается действию отбора. Вместе с тем, хорошо известно, что черты сходства, развивающиеся в достаточно удаленных линиях, часто бывают неадаптивны и поэтому не могут быть правдоподобно объяснены  ни естественным отбором, ни общим наследованием. Независимое наследование  одинаковых генов и их сочетание заведомо исключается, поскольку мутации и рекомбинации – случайные процессы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0" y="1196640"/>
            <a:ext cx="734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тетическая теория эволюции (СТЭ) – современная эволюционная теория, которая является синтезом различных дисциплин, прежде всего, генетики и дарвинизма и опирается на палеонтологию, систематику, молекулярную биоло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сторонники синтетической теории признают участие в эволюции трех фактор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тационный                      Рекомбина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лекционны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WordArt 4"/>
          <p:cNvSpPr txBox="1"/>
          <p:nvPr/>
        </p:nvSpPr>
        <p:spPr>
          <a:xfrm>
            <a:off x="324000" y="-892080"/>
            <a:ext cx="705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тетическая теория 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0" y="566100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нерирующий новые варианты ге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2771640" y="5661000"/>
            <a:ext cx="201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пределяющий соответствие  данным условиям обит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5508720" y="5516640"/>
            <a:ext cx="172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здающий новые фенотипы особ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1116000" y="5013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3635280" y="5373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15"/>
          <p:cNvSpPr/>
          <p:nvPr/>
        </p:nvSpPr>
        <p:spPr>
          <a:xfrm>
            <a:off x="6156360" y="5013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7236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интетическая теория в ее нынешнем виде образовалась 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в результате  трансформации взглядов Вейсмана в моргановскую хромосомную генетику: приспособительные отличия  передаются от родителей потомкам с хромосомами в виде новых генов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Вследствии естественного отбор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WordArt 6"/>
          <p:cNvSpPr txBox="1"/>
          <p:nvPr/>
        </p:nvSpPr>
        <p:spPr>
          <a:xfrm>
            <a:off x="395280" y="-243000"/>
            <a:ext cx="70581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схождение СТЭ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Picture 7" descr="0 (98)"/>
          <p:cNvPicPr/>
          <p:nvPr/>
        </p:nvPicPr>
        <p:blipFill>
          <a:blip r:embed="rId3"/>
          <a:stretch/>
        </p:blipFill>
        <p:spPr>
          <a:xfrm>
            <a:off x="250920" y="5084640"/>
            <a:ext cx="2449440" cy="1773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0 (8)"/>
          <p:cNvPicPr/>
          <p:nvPr/>
        </p:nvPicPr>
        <p:blipFill>
          <a:blip r:embed="rId4"/>
          <a:stretch/>
        </p:blipFill>
        <p:spPr>
          <a:xfrm>
            <a:off x="3059280" y="5084640"/>
            <a:ext cx="2520720" cy="1773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0 (61)"/>
          <p:cNvPicPr/>
          <p:nvPr/>
        </p:nvPicPr>
        <p:blipFill>
          <a:blip r:embed="rId5"/>
          <a:stretch/>
        </p:blipFill>
        <p:spPr>
          <a:xfrm>
            <a:off x="6227640" y="5059440"/>
            <a:ext cx="2448000" cy="1798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        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Rectangle 50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51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WordArt 55"/>
          <p:cNvSpPr txBox="1"/>
          <p:nvPr/>
        </p:nvSpPr>
        <p:spPr>
          <a:xfrm>
            <a:off x="395280" y="-243000"/>
            <a:ext cx="770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витие СТЭ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539640" y="191628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7"/>
          <p:cNvSpPr/>
          <p:nvPr/>
        </p:nvSpPr>
        <p:spPr>
          <a:xfrm>
            <a:off x="1619280" y="1341360"/>
            <a:ext cx="6624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чок к развитию синтетической теории дала гипотеза о рецессивности новых генов. Эта гипотеза предполагала, что в каждой воспроизводящейся группе  организмов во время созревания гамет в результате ошибок при репликации ДНК постоянно возникают мутации – новые варианты ге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91" descr="0 (78)"/>
          <p:cNvPicPr/>
          <p:nvPr/>
        </p:nvPicPr>
        <p:blipFill>
          <a:blip r:embed="rId3"/>
          <a:stretch/>
        </p:blipFill>
        <p:spPr>
          <a:xfrm>
            <a:off x="1547640" y="3645000"/>
            <a:ext cx="6193080" cy="321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404640"/>
            <a:ext cx="8745480" cy="1368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.С Четве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И. Шмальгауз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В. Тимофеев-Рес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Ф. Гау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П.Дуби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Л. Тахтаджя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К.Кольц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Г.Добржа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WordArt 4"/>
          <p:cNvSpPr txBox="1"/>
          <p:nvPr/>
        </p:nvSpPr>
        <p:spPr>
          <a:xfrm>
            <a:off x="684360" y="-243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ад русских ученых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5"/>
          <p:cNvSpPr txBox="1"/>
          <p:nvPr/>
        </p:nvSpPr>
        <p:spPr>
          <a:xfrm>
            <a:off x="2268360" y="-819000"/>
            <a:ext cx="4032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развитие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. Май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. Бау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. Циммерм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ж. Симпс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. Людви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. Фиш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WordArt 6"/>
          <p:cNvSpPr txBox="1"/>
          <p:nvPr/>
        </p:nvSpPr>
        <p:spPr>
          <a:xfrm>
            <a:off x="395280" y="260280"/>
            <a:ext cx="820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ад зарубежных ученых в развитие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79280" y="476280"/>
            <a:ext cx="896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ните фамилии русских и зарубежны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WordArt 5"/>
          <p:cNvSpPr txBox="1"/>
          <p:nvPr/>
        </p:nvSpPr>
        <p:spPr>
          <a:xfrm>
            <a:off x="971640" y="1628640"/>
            <a:ext cx="7458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ых , которые внесли свой вклад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9" name="WordArt 6"/>
          <p:cNvSpPr txBox="1"/>
          <p:nvPr/>
        </p:nvSpPr>
        <p:spPr>
          <a:xfrm>
            <a:off x="2771640" y="3143160"/>
            <a:ext cx="3384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2527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развитие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2527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14"/>
          <p:cNvSpPr txBox="1"/>
          <p:nvPr/>
        </p:nvSpPr>
        <p:spPr>
          <a:xfrm>
            <a:off x="395280" y="0"/>
            <a:ext cx="203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WordArt 16"/>
          <p:cNvSpPr txBox="1"/>
          <p:nvPr/>
        </p:nvSpPr>
        <p:spPr>
          <a:xfrm>
            <a:off x="0" y="2421000"/>
            <a:ext cx="3067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ТЕТИЧЕСКОЙ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WordArt 17"/>
          <p:cNvSpPr txBox="1"/>
          <p:nvPr/>
        </p:nvSpPr>
        <p:spPr>
          <a:xfrm>
            <a:off x="684360" y="350028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3" name="WordArt 18"/>
          <p:cNvSpPr txBox="1"/>
          <p:nvPr/>
        </p:nvSpPr>
        <p:spPr>
          <a:xfrm>
            <a:off x="250920" y="5013360"/>
            <a:ext cx="2133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4" name="WordArt 19"/>
          <p:cNvSpPr txBox="1"/>
          <p:nvPr/>
        </p:nvSpPr>
        <p:spPr>
          <a:xfrm>
            <a:off x="250920" y="1197000"/>
            <a:ext cx="230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ОЖЕНИЯ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3635280" y="404640"/>
            <a:ext cx="3889440" cy="65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ЭЛЕМЕНТАРНОЙ ЕДИНИЦЕЙ ЭВОЛЮЦИИ СЧИТАЕТСЯ ЛОКАЛЬНАЯ ПОПУЛЯ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МАТЕРИАЛОМ ДЛЯ ЭВОЛЮЦИИ СЧИТАЕТСЯ МУТАЦИОННАЯ И РЕКОМБИНАЦИОННАЯ ИЗМЕНЧИВОС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ЕСТЕСТВЕННЫЙ ОТБОР РАССМАТРИВАЕТСЯ КАК ГЛАВНАЯ ПРИЧИНА РАЗВИТИЯ АДАПТАЦИЙ, ВИДООБРАЗОВАНИЯ И ПРОИСХОЖДЕНИЯ НАДВИДОВЫХ ТАКСО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ДРЕЙФ ГЕНОВ И  ПРИНЦИП ОСНОВАТЕЛЯ ВЫСТУПАЮТ ПРИЧИНАМИ ФОРМИРОВАНИЯ НЕЙТРАЛЬНЫХ ПРИЗНА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. ВИД ЕСТЬ СИСТЕМА ПОПУЛЯЦИЙ, РЕПРОДУКТИВНО ИЗОЛИРОВАННЫХ ОТ ПОПУЛЯЦИЙ ДРУГИХ ВИДОВ, И КАЖДЫЙ ВИД ЭКОЛОГИЧЕСКИ ОБОСОБЛЕ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. ВИДООБРАЗОВАНИЕ ЗАКЛЮЧАЕТСЯ В ВОЗНИКНОВЕНИИ ГЕНЕТИЧЕСКИХ ИЗОЛИРУЮЩИХ МЕХАНИЗМОВ И ОСУЩЕСТВЛЯЕТСЯ ПРЕИМУЩЕСТВЕННО В УСЛОВИЯХ ГЕОГРАФИЧЕСКОЙ ИЗОЛЯ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45"/>
          <p:cNvSpPr/>
          <p:nvPr/>
        </p:nvSpPr>
        <p:spPr>
          <a:xfrm>
            <a:off x="2484360" y="836640"/>
            <a:ext cx="86364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46"/>
          <p:cNvSpPr/>
          <p:nvPr/>
        </p:nvSpPr>
        <p:spPr>
          <a:xfrm flipH="1">
            <a:off x="2484000" y="3500280"/>
            <a:ext cx="86364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50"/>
          <p:cNvSpPr/>
          <p:nvPr/>
        </p:nvSpPr>
        <p:spPr>
          <a:xfrm flipV="1">
            <a:off x="2843280" y="54936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52"/>
          <p:cNvSpPr/>
          <p:nvPr/>
        </p:nvSpPr>
        <p:spPr>
          <a:xfrm flipV="1">
            <a:off x="2843280" y="126792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53"/>
          <p:cNvSpPr/>
          <p:nvPr/>
        </p:nvSpPr>
        <p:spPr>
          <a:xfrm>
            <a:off x="2843280" y="1844640"/>
            <a:ext cx="792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54"/>
          <p:cNvSpPr/>
          <p:nvPr/>
        </p:nvSpPr>
        <p:spPr>
          <a:xfrm flipV="1">
            <a:off x="2843280" y="4292280"/>
            <a:ext cx="8650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55"/>
          <p:cNvSpPr/>
          <p:nvPr/>
        </p:nvSpPr>
        <p:spPr>
          <a:xfrm>
            <a:off x="2987640" y="4724280"/>
            <a:ext cx="647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57"/>
          <p:cNvSpPr/>
          <p:nvPr/>
        </p:nvSpPr>
        <p:spPr>
          <a:xfrm flipV="1">
            <a:off x="2987640" y="3429000"/>
            <a:ext cx="6476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1125360"/>
          <a:ext cx="9144000" cy="944640"/>
        </p:xfrm>
        <a:graphic>
          <a:graphicData uri="http://schemas.openxmlformats.org/drawingml/2006/table">
            <a:tbl>
              <a:tblPr/>
              <a:tblGrid>
                <a:gridCol w="506520"/>
                <a:gridCol w="511200"/>
                <a:gridCol w="506160"/>
                <a:gridCol w="506520"/>
                <a:gridCol w="509760"/>
                <a:gridCol w="507960"/>
                <a:gridCol w="507960"/>
                <a:gridCol w="507960"/>
                <a:gridCol w="509400"/>
                <a:gridCol w="506520"/>
                <a:gridCol w="507960"/>
                <a:gridCol w="507960"/>
                <a:gridCol w="507960"/>
                <a:gridCol w="509760"/>
                <a:gridCol w="506520"/>
                <a:gridCol w="506160"/>
                <a:gridCol w="511200"/>
                <a:gridCol w="5065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395280" y="2133720"/>
          <a:ext cx="8209080" cy="9442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433440"/>
                <a:gridCol w="503280"/>
                <a:gridCol w="576360"/>
                <a:gridCol w="502920"/>
                <a:gridCol w="433440"/>
                <a:gridCol w="576360"/>
                <a:gridCol w="503280"/>
                <a:gridCol w="431640"/>
                <a:gridCol w="576360"/>
                <a:gridCol w="504720"/>
                <a:gridCol w="503280"/>
                <a:gridCol w="505080"/>
                <a:gridCol w="502920"/>
                <a:gridCol w="505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900000" y="3213000"/>
          <a:ext cx="7201080" cy="944640"/>
        </p:xfrm>
        <a:graphic>
          <a:graphicData uri="http://schemas.openxmlformats.org/drawingml/2006/table">
            <a:tbl>
              <a:tblPr/>
              <a:tblGrid>
                <a:gridCol w="524160"/>
                <a:gridCol w="626760"/>
                <a:gridCol w="424080"/>
                <a:gridCol w="523800"/>
                <a:gridCol w="523800"/>
                <a:gridCol w="525600"/>
                <a:gridCol w="452520"/>
                <a:gridCol w="502920"/>
                <a:gridCol w="433440"/>
                <a:gridCol w="574920"/>
                <a:gridCol w="504720"/>
                <a:gridCol w="576360"/>
                <a:gridCol w="503280"/>
                <a:gridCol w="50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547640" y="4149720"/>
          <a:ext cx="6120000" cy="944640"/>
        </p:xfrm>
        <a:graphic>
          <a:graphicData uri="http://schemas.openxmlformats.org/drawingml/2006/table">
            <a:tbl>
              <a:tblPr/>
              <a:tblGrid>
                <a:gridCol w="505080"/>
                <a:gridCol w="431640"/>
                <a:gridCol w="576360"/>
                <a:gridCol w="503280"/>
                <a:gridCol w="504720"/>
                <a:gridCol w="503280"/>
                <a:gridCol w="504720"/>
                <a:gridCol w="503280"/>
                <a:gridCol w="504720"/>
                <a:gridCol w="487440"/>
                <a:gridCol w="592200"/>
                <a:gridCol w="503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050920" y="5157720"/>
          <a:ext cx="5113440" cy="944640"/>
        </p:xfrm>
        <a:graphic>
          <a:graphicData uri="http://schemas.openxmlformats.org/drawingml/2006/table">
            <a:tbl>
              <a:tblPr/>
              <a:tblGrid>
                <a:gridCol w="432000"/>
                <a:gridCol w="504720"/>
                <a:gridCol w="576360"/>
                <a:gridCol w="503280"/>
                <a:gridCol w="504720"/>
                <a:gridCol w="503280"/>
                <a:gridCol w="576360"/>
                <a:gridCol w="576000"/>
                <a:gridCol w="432000"/>
                <a:gridCol w="50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WordArt 339"/>
          <p:cNvSpPr txBox="1"/>
          <p:nvPr/>
        </p:nvSpPr>
        <p:spPr>
          <a:xfrm>
            <a:off x="324000" y="-571680"/>
            <a:ext cx="802620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"Основные положения СТЭ"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AutoShape 416"/>
          <p:cNvSpPr/>
          <p:nvPr/>
        </p:nvSpPr>
        <p:spPr>
          <a:xfrm>
            <a:off x="7667640" y="5445000"/>
            <a:ext cx="1008000" cy="1008360"/>
          </a:xfrm>
          <a:prstGeom prst="smileyFace">
            <a:avLst>
              <a:gd name="adj" fmla="val 928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AutoShape 417"/>
          <p:cNvSpPr/>
          <p:nvPr/>
        </p:nvSpPr>
        <p:spPr>
          <a:xfrm>
            <a:off x="8675640" y="1341360"/>
            <a:ext cx="468360" cy="503280"/>
          </a:xfrm>
          <a:prstGeom prst="sun">
            <a:avLst>
              <a:gd name="adj" fmla="val 25000"/>
            </a:avLst>
          </a:prstGeom>
          <a:solidFill>
            <a:srgbClr val="dee177"/>
          </a:solidFill>
          <a:ln w="9360">
            <a:solidFill>
              <a:srgbClr val="dee1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418"/>
          <p:cNvSpPr/>
          <p:nvPr/>
        </p:nvSpPr>
        <p:spPr>
          <a:xfrm>
            <a:off x="8101080" y="2421000"/>
            <a:ext cx="468360" cy="431640"/>
          </a:xfrm>
          <a:custGeom>
            <a:avLst/>
            <a:gdLst>
              <a:gd name="textAreaLeft" fmla="*/ 109080 w 468360"/>
              <a:gd name="textAreaRight" fmla="*/ 359280 w 46836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240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420"/>
          <p:cNvSpPr/>
          <p:nvPr/>
        </p:nvSpPr>
        <p:spPr>
          <a:xfrm>
            <a:off x="7812000" y="3429000"/>
            <a:ext cx="216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ee1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439"/>
          <p:cNvSpPr/>
          <p:nvPr/>
        </p:nvSpPr>
        <p:spPr>
          <a:xfrm>
            <a:off x="5508720" y="3141720"/>
            <a:ext cx="530280" cy="576360"/>
          </a:xfrm>
          <a:custGeom>
            <a:avLst/>
            <a:gdLst/>
            <a:ahLst/>
            <a:rect l="l" t="t" r="r" b="b"/>
            <a:pathLst>
              <a:path w="530225" h="576262">
                <a:moveTo>
                  <a:pt x="1" y="220112"/>
                </a:moveTo>
                <a:lnTo>
                  <a:pt x="202529" y="220113"/>
                </a:lnTo>
                <a:lnTo>
                  <a:pt x="265113" y="0"/>
                </a:lnTo>
                <a:lnTo>
                  <a:pt x="327696" y="220113"/>
                </a:lnTo>
                <a:lnTo>
                  <a:pt x="530224" y="220112"/>
                </a:lnTo>
                <a:lnTo>
                  <a:pt x="366375" y="356148"/>
                </a:lnTo>
                <a:lnTo>
                  <a:pt x="428961" y="576261"/>
                </a:lnTo>
                <a:lnTo>
                  <a:pt x="265113" y="440222"/>
                </a:lnTo>
                <a:lnTo>
                  <a:pt x="101264" y="576261"/>
                </a:lnTo>
                <a:lnTo>
                  <a:pt x="163850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d240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6:59:03Z</dcterms:created>
  <dc:creator>Олег</dc:creator>
  <dc:description/>
  <dc:language>en-US</dc:language>
  <cp:lastModifiedBy>Коля</cp:lastModifiedBy>
  <dcterms:modified xsi:type="dcterms:W3CDTF">2013-05-15T18:07:08Z</dcterms:modified>
  <cp:revision>67</cp:revision>
  <dc:subject/>
  <dc:title>Слайд 1</dc:title>
</cp:coreProperties>
</file>