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6BAB-53EE-4C7A-A012-06EE3C0C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AC90-89E2-4462-A4E5-FF8B2FF8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97C5-B680-430C-84CB-EBEB8C4F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FFA3-CBBF-4772-8A0B-99479CE4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F539-13D0-4C5D-81FC-FC46A129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59CC-5C4E-4024-892B-86B07ACD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8903-FFAA-4C4E-B39A-EBF15A96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8ADE-068C-422C-800D-CBD3D366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56BB-2122-4426-B849-6A5A7925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6339-9084-46CC-8CC3-0E72C3BF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6EEA-2ABA-4912-8ADB-E493F918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F576-D0C5-4286-AB9C-C499676C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74F3-EA8F-4209-9C18-2C567619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F535-0019-4B57-9CEC-FE9EB236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0C75-4624-483F-A09D-9DA4C482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10F6-96A8-4C7D-A79F-8B75C0E5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B84F-561A-4CB9-9505-58F79621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0E34-4A2A-41DE-9966-74EB23CA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F2CC-758C-4DE9-BEAC-24D9CDBC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E969-0BDB-4319-BCDE-5BB0FB67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C17D-4624-4F12-BD78-32B06863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F065-F9E3-440D-BB72-F34C899A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520B-DC60-4C07-A196-EDD4F457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C8440-CBFE-4345-B0D8-4C52D42F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94ED-FECC-4D74-86EE-D45F9CC893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7B85-C57F-40EF-8C6C-47462C52AD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7"/>
          <p:cNvSpPr txBox="1"/>
          <p:nvPr/>
        </p:nvSpPr>
        <p:spPr>
          <a:xfrm>
            <a:off x="2050920" y="1773360"/>
            <a:ext cx="259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волюции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5" name="WordArt 8"/>
          <p:cNvSpPr txBox="1"/>
          <p:nvPr/>
        </p:nvSpPr>
        <p:spPr>
          <a:xfrm>
            <a:off x="324000" y="-171360"/>
            <a:ext cx="684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5b5b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5b5b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5b5b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временное представление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5b5b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6" name="WordArt 9"/>
          <p:cNvSpPr txBox="1"/>
          <p:nvPr/>
        </p:nvSpPr>
        <p:spPr>
          <a:xfrm>
            <a:off x="0" y="907920"/>
            <a:ext cx="7740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  механизмах и закономерностях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7" name="Text Box 11"/>
          <p:cNvSpPr/>
          <p:nvPr/>
        </p:nvSpPr>
        <p:spPr>
          <a:xfrm>
            <a:off x="250920" y="3284640"/>
            <a:ext cx="58338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и урок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знакомить учащихся с происхождением, развитием и основными положениями синтетической теории эволю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250920" y="1916280"/>
            <a:ext cx="32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Чистый дарвинизм»           ( Л.С.Берг)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4572000" y="184464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тетическая теория ( Н.И.Воронц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395280" y="2852640"/>
            <a:ext cx="2952720" cy="44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1.Все организмы развивались из одной или  немногих первичных фор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2. Развитие шло дивергент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3. Развитие шло на основе случайных вари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4.Факторами прогресса служат борьба за существование и естественный отбо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5. Процесс эволюции заключается в образовании новых признаков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6. Вымирание организмов происходит от внешних причин: борьбы за существования и выживание более приспособленны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14"/>
          <p:cNvSpPr/>
          <p:nvPr/>
        </p:nvSpPr>
        <p:spPr>
          <a:xfrm>
            <a:off x="4716360" y="2511360"/>
            <a:ext cx="3816360" cy="58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1.   Наименьшая единица эволюции- популяц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2.    Основным движущим фактором эволюции служит естественный отбор случайных и мелких мут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3.    Эволюция носит дивергентный характе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4.    Эволюция носит постепенный и длительный характе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Каждая систематическая единица должна иметь единственный корень. Это обязательное условие для самого права на существование. Эволюционная систематика строит классификацию исходя из род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За пределами вида эволюция прекращае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Вид политипич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Изменчивость носит случайный характе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Эволюция непредсказуем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15"/>
          <p:cNvSpPr/>
          <p:nvPr/>
        </p:nvSpPr>
        <p:spPr>
          <a:xfrm flipH="1">
            <a:off x="3132000" y="1844640"/>
            <a:ext cx="719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17"/>
          <p:cNvSpPr/>
          <p:nvPr/>
        </p:nvSpPr>
        <p:spPr>
          <a:xfrm>
            <a:off x="3924360" y="1844640"/>
            <a:ext cx="647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WordArt 24"/>
          <p:cNvSpPr txBox="1"/>
          <p:nvPr/>
        </p:nvSpPr>
        <p:spPr>
          <a:xfrm>
            <a:off x="250920" y="-243000"/>
            <a:ext cx="856908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авнительная характеристика теорий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WordArt 4"/>
          <p:cNvSpPr txBox="1"/>
          <p:nvPr/>
        </p:nvSpPr>
        <p:spPr>
          <a:xfrm>
            <a:off x="971640" y="-243000"/>
            <a:ext cx="6840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ти сходства и различия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9" name="WordArt 5"/>
          <p:cNvSpPr txBox="1"/>
          <p:nvPr/>
        </p:nvSpPr>
        <p:spPr>
          <a:xfrm>
            <a:off x="250920" y="404640"/>
            <a:ext cx="842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основных положениях теорий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0" name="WordArt 6"/>
          <p:cNvSpPr txBox="1"/>
          <p:nvPr/>
        </p:nvSpPr>
        <p:spPr>
          <a:xfrm>
            <a:off x="0" y="1197000"/>
            <a:ext cx="8604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чистого дарвинизма" и СТЭ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1" name="Line 7"/>
          <p:cNvSpPr/>
          <p:nvPr/>
        </p:nvSpPr>
        <p:spPr>
          <a:xfrm flipH="1">
            <a:off x="1476000" y="2421000"/>
            <a:ext cx="259092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9"/>
          <p:cNvSpPr/>
          <p:nvPr/>
        </p:nvSpPr>
        <p:spPr>
          <a:xfrm>
            <a:off x="5076720" y="2421000"/>
            <a:ext cx="215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0" y="350028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хо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6588000" y="3573360"/>
            <a:ext cx="25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0" y="4365720"/>
            <a:ext cx="2627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6659640" y="4437000"/>
            <a:ext cx="201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WordArt 4"/>
          <p:cNvSpPr txBox="1"/>
          <p:nvPr/>
        </p:nvSpPr>
        <p:spPr>
          <a:xfrm>
            <a:off x="179280" y="-603360"/>
            <a:ext cx="87138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итика синтетической теории эволюции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468360" y="1773360"/>
            <a:ext cx="83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250920" y="1773360"/>
            <a:ext cx="864216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нтетическая теория эволюции не вызывает сомнений у большинства биологов. Считается, что эволюция в целом удовлетворительно объясняется этой теорией. Тем не менее за последние два десятилетия возросло число публикаций, в которых отмечается, что СТЭ неадекватна современным знаниям о ходе эволюционного проце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 качестве одного из наиболее часто критикуемых положений СТЭ можно привести ее подход  к объяснению вторичного сх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По неодарвинизму, все признаки живых существ полностью определяются составом генотипа и характером отбора. Поэтому параллелизм объясняется тем, что организмы унаследовали большое количество  одинаковых генов от своего  предка, а происхождение конвергентных признаков целиком приписывается действию отбора. Вместе с тем, хорошо известно, что черты сходства, развивающиеся в достаточно удаленных линиях, часто бывают неадаптивны и поэтому не могут быть правдоподобно объяснены  ни естественным отбором, ни общим наследованием. Независимое наследование  одинаковых генов и их сочетание заведомо исключается, поскольку мутации и рекомбинации – случайные процессы.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0" y="1196640"/>
            <a:ext cx="734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нтетическая теория эволюции (СТЭ) – современная эволюционная теория, которая является синтезом различных дисциплин, прежде всего, генетики и дарвинизма и опирается на палеонтологию, систематику, молекулярную биолог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сторонники синтетической теории признают участие в эволюции трех фактор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тационный                      Рекомбинацио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лекционны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WordArt 4"/>
          <p:cNvSpPr txBox="1"/>
          <p:nvPr/>
        </p:nvSpPr>
        <p:spPr>
          <a:xfrm>
            <a:off x="324000" y="-892080"/>
            <a:ext cx="705636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нтетическая теория эволюции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0" y="5661000"/>
            <a:ext cx="24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нерирующий новые варианты ген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0"/>
          <p:cNvSpPr/>
          <p:nvPr/>
        </p:nvSpPr>
        <p:spPr>
          <a:xfrm>
            <a:off x="2771640" y="5661000"/>
            <a:ext cx="201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пределяющий соответствие  данным условиям обит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5508720" y="5516640"/>
            <a:ext cx="172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здающий новые фенотипы особ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13"/>
          <p:cNvSpPr/>
          <p:nvPr/>
        </p:nvSpPr>
        <p:spPr>
          <a:xfrm>
            <a:off x="1116000" y="5013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14"/>
          <p:cNvSpPr/>
          <p:nvPr/>
        </p:nvSpPr>
        <p:spPr>
          <a:xfrm>
            <a:off x="3635280" y="5373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15"/>
          <p:cNvSpPr/>
          <p:nvPr/>
        </p:nvSpPr>
        <p:spPr>
          <a:xfrm>
            <a:off x="6156360" y="5013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7236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Синтетическая теория в ее нынешнем виде образовалась 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21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в результате  трансформации взглядов Вейсмана в моргановскую хромосомную генетику: приспособительные отличия  передаются от родителей потомкам с хромосомами в виде новых генов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21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Вследствии естественного отбор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WordArt 6"/>
          <p:cNvSpPr txBox="1"/>
          <p:nvPr/>
        </p:nvSpPr>
        <p:spPr>
          <a:xfrm>
            <a:off x="395280" y="-243000"/>
            <a:ext cx="70581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исхождение СТЭ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8" name="Picture 7" descr="0 (98)"/>
          <p:cNvPicPr/>
          <p:nvPr/>
        </p:nvPicPr>
        <p:blipFill>
          <a:blip r:embed="rId3"/>
          <a:stretch/>
        </p:blipFill>
        <p:spPr>
          <a:xfrm>
            <a:off x="250920" y="5084640"/>
            <a:ext cx="2449440" cy="17733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" descr="0 (8)"/>
          <p:cNvPicPr/>
          <p:nvPr/>
        </p:nvPicPr>
        <p:blipFill>
          <a:blip r:embed="rId4"/>
          <a:stretch/>
        </p:blipFill>
        <p:spPr>
          <a:xfrm>
            <a:off x="3059280" y="5084640"/>
            <a:ext cx="2520720" cy="17733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0 (61)"/>
          <p:cNvPicPr/>
          <p:nvPr/>
        </p:nvPicPr>
        <p:blipFill>
          <a:blip r:embed="rId5"/>
          <a:stretch/>
        </p:blipFill>
        <p:spPr>
          <a:xfrm>
            <a:off x="6227640" y="5059440"/>
            <a:ext cx="2448000" cy="1798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fdef6"/>
                </a:solidFill>
                <a:latin typeface="Arial"/>
              </a:rPr>
              <a:t>        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Rectangle 50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51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WordArt 55"/>
          <p:cNvSpPr txBox="1"/>
          <p:nvPr/>
        </p:nvSpPr>
        <p:spPr>
          <a:xfrm>
            <a:off x="395280" y="-243000"/>
            <a:ext cx="7705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витие СТЭ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5" name="Text Box 56"/>
          <p:cNvSpPr/>
          <p:nvPr/>
        </p:nvSpPr>
        <p:spPr>
          <a:xfrm>
            <a:off x="539640" y="191628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57"/>
          <p:cNvSpPr/>
          <p:nvPr/>
        </p:nvSpPr>
        <p:spPr>
          <a:xfrm>
            <a:off x="1619280" y="1341360"/>
            <a:ext cx="6624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лчок к развитию синтетической теории дала гипотеза о рецессивности новых генов. Эта гипотеза предполагала, что в каждой воспроизводящейся группе  организмов во время созревания гамет в результате ошибок при репликации ДНК постоянно возникают мутации – новые варианты ген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91" descr="0 (78)"/>
          <p:cNvPicPr/>
          <p:nvPr/>
        </p:nvPicPr>
        <p:blipFill>
          <a:blip r:embed="rId3"/>
          <a:stretch/>
        </p:blipFill>
        <p:spPr>
          <a:xfrm>
            <a:off x="1547640" y="3645000"/>
            <a:ext cx="6193080" cy="321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18880" y="404640"/>
            <a:ext cx="8745480" cy="1368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.С Четвер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.И. Шмальгауз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В. Тимофеев-Ресов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Ф. Гау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П.Дуби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Л. Тахтаджя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К.Кольц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.Г.Добржа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WordArt 4"/>
          <p:cNvSpPr txBox="1"/>
          <p:nvPr/>
        </p:nvSpPr>
        <p:spPr>
          <a:xfrm>
            <a:off x="684360" y="-24300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клад русских ученых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WordArt 5"/>
          <p:cNvSpPr txBox="1"/>
          <p:nvPr/>
        </p:nvSpPr>
        <p:spPr>
          <a:xfrm>
            <a:off x="2268360" y="-819000"/>
            <a:ext cx="40323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развитие стэ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. Май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. Бау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. Циммерм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ж. Симпс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. Людви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. Фиш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WordArt 6"/>
          <p:cNvSpPr txBox="1"/>
          <p:nvPr/>
        </p:nvSpPr>
        <p:spPr>
          <a:xfrm>
            <a:off x="395280" y="260280"/>
            <a:ext cx="820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5b5b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клад зарубежных ученых в развитие СТЭ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5b5b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WordArt 4"/>
          <p:cNvSpPr txBox="1"/>
          <p:nvPr/>
        </p:nvSpPr>
        <p:spPr>
          <a:xfrm>
            <a:off x="179280" y="476280"/>
            <a:ext cx="896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5b5b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помните фамилии русских и зарубежных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5b5b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8" name="WordArt 5"/>
          <p:cNvSpPr txBox="1"/>
          <p:nvPr/>
        </p:nvSpPr>
        <p:spPr>
          <a:xfrm>
            <a:off x="971640" y="1628640"/>
            <a:ext cx="7458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5b5b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еных , которые внесли свой вклад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5b5b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9" name="WordArt 6"/>
          <p:cNvSpPr txBox="1"/>
          <p:nvPr/>
        </p:nvSpPr>
        <p:spPr>
          <a:xfrm>
            <a:off x="2771640" y="3143160"/>
            <a:ext cx="3384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52527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развитие СТЭ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52527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WordArt 14"/>
          <p:cNvSpPr txBox="1"/>
          <p:nvPr/>
        </p:nvSpPr>
        <p:spPr>
          <a:xfrm>
            <a:off x="395280" y="0"/>
            <a:ext cx="2038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1" name="WordArt 16"/>
          <p:cNvSpPr txBox="1"/>
          <p:nvPr/>
        </p:nvSpPr>
        <p:spPr>
          <a:xfrm>
            <a:off x="0" y="2421000"/>
            <a:ext cx="3067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НТЕТИЧЕСКОЙ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2" name="WordArt 17"/>
          <p:cNvSpPr txBox="1"/>
          <p:nvPr/>
        </p:nvSpPr>
        <p:spPr>
          <a:xfrm>
            <a:off x="684360" y="3500280"/>
            <a:ext cx="13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И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3" name="WordArt 18"/>
          <p:cNvSpPr txBox="1"/>
          <p:nvPr/>
        </p:nvSpPr>
        <p:spPr>
          <a:xfrm>
            <a:off x="250920" y="5013360"/>
            <a:ext cx="2133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ВОЛЮЦИИ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4" name="WordArt 19"/>
          <p:cNvSpPr txBox="1"/>
          <p:nvPr/>
        </p:nvSpPr>
        <p:spPr>
          <a:xfrm>
            <a:off x="250920" y="1197000"/>
            <a:ext cx="2305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ОЖЕНИЯ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5" name="Text Box 20"/>
          <p:cNvSpPr/>
          <p:nvPr/>
        </p:nvSpPr>
        <p:spPr>
          <a:xfrm>
            <a:off x="3635280" y="404640"/>
            <a:ext cx="3889440" cy="65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ЭЛЕМЕНТАРНОЙ ЕДИНИЦЕЙ ЭВОЛЮЦИИ СЧИТАЕТСЯ ЛОКАЛЬНАЯ ПОПУЛЯ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 МАТЕРИАЛОМ ДЛЯ ЭВОЛЮЦИИ СЧИТАЕТСЯ МУТАЦИОННАЯ И РЕКОМБИНАЦИОННАЯ ИЗМЕНЧИВОСТЬ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 ЕСТЕСТВЕННЫЙ ОТБОР РАССМАТРИВАЕТСЯ КАК ГЛАВНАЯ ПРИЧИНА РАЗВИТИЯ АДАПТАЦИЙ, ВИДООБРАЗОВАНИЯ И ПРОИСХОЖДЕНИЯ НАДВИДОВЫХ ТАКСОН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. ДРЕЙФ ГЕНОВ И  ПРИНЦИП ОСНОВАТЕЛЯ ВЫСТУПАЮТ ПРИЧИНАМИ ФОРМИРОВАНИЯ НЕЙТРАЛЬНЫХ ПРИЗНАК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. ВИД ЕСТЬ СИСТЕМА ПОПУЛЯЦИЙ, РЕПРОДУКТИВНО ИЗОЛИРОВАННЫХ ОТ ПОПУЛЯЦИЙ ДРУГИХ ВИДОВ, И КАЖДЫЙ ВИД ЭКОЛОГИЧЕСКИ ОБОСОБЛЕН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. ВИДООБРАЗОВАНИЕ ЗАКЛЮЧАЕТСЯ В ВОЗНИКНОВЕНИИ ГЕНЕТИЧЕСКИХ ИЗОЛИРУЮЩИХ МЕХАНИЗМОВ И ОСУЩЕСТВЛЯЕТСЯ ПРЕИМУЩЕСТВЕННО В УСЛОВИЯХ ГЕОГРАФИЧЕСКОЙ ИЗОЛЯ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45"/>
          <p:cNvSpPr/>
          <p:nvPr/>
        </p:nvSpPr>
        <p:spPr>
          <a:xfrm>
            <a:off x="2484360" y="836640"/>
            <a:ext cx="86364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46"/>
          <p:cNvSpPr/>
          <p:nvPr/>
        </p:nvSpPr>
        <p:spPr>
          <a:xfrm flipH="1">
            <a:off x="2484000" y="3500280"/>
            <a:ext cx="86364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50"/>
          <p:cNvSpPr/>
          <p:nvPr/>
        </p:nvSpPr>
        <p:spPr>
          <a:xfrm flipV="1">
            <a:off x="2843280" y="549360"/>
            <a:ext cx="79200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52"/>
          <p:cNvSpPr/>
          <p:nvPr/>
        </p:nvSpPr>
        <p:spPr>
          <a:xfrm flipV="1">
            <a:off x="2843280" y="1267920"/>
            <a:ext cx="79200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53"/>
          <p:cNvSpPr/>
          <p:nvPr/>
        </p:nvSpPr>
        <p:spPr>
          <a:xfrm>
            <a:off x="2843280" y="1844640"/>
            <a:ext cx="792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Line 54"/>
          <p:cNvSpPr/>
          <p:nvPr/>
        </p:nvSpPr>
        <p:spPr>
          <a:xfrm flipV="1">
            <a:off x="2843280" y="4292280"/>
            <a:ext cx="86508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55"/>
          <p:cNvSpPr/>
          <p:nvPr/>
        </p:nvSpPr>
        <p:spPr>
          <a:xfrm>
            <a:off x="2987640" y="4724280"/>
            <a:ext cx="647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57"/>
          <p:cNvSpPr/>
          <p:nvPr/>
        </p:nvSpPr>
        <p:spPr>
          <a:xfrm flipV="1">
            <a:off x="2987640" y="3429000"/>
            <a:ext cx="64764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0" y="1125360"/>
          <a:ext cx="9144000" cy="944640"/>
        </p:xfrm>
        <a:graphic>
          <a:graphicData uri="http://schemas.openxmlformats.org/drawingml/2006/table">
            <a:tbl>
              <a:tblPr/>
              <a:tblGrid>
                <a:gridCol w="506520"/>
                <a:gridCol w="511200"/>
                <a:gridCol w="506160"/>
                <a:gridCol w="506520"/>
                <a:gridCol w="509760"/>
                <a:gridCol w="507960"/>
                <a:gridCol w="507960"/>
                <a:gridCol w="507960"/>
                <a:gridCol w="509400"/>
                <a:gridCol w="506520"/>
                <a:gridCol w="507960"/>
                <a:gridCol w="507960"/>
                <a:gridCol w="507960"/>
                <a:gridCol w="509760"/>
                <a:gridCol w="506520"/>
                <a:gridCol w="506160"/>
                <a:gridCol w="511200"/>
                <a:gridCol w="50652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395280" y="2133720"/>
          <a:ext cx="8209080" cy="9442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433440"/>
                <a:gridCol w="503280"/>
                <a:gridCol w="576360"/>
                <a:gridCol w="502920"/>
                <a:gridCol w="433440"/>
                <a:gridCol w="576360"/>
                <a:gridCol w="503280"/>
                <a:gridCol w="431640"/>
                <a:gridCol w="576360"/>
                <a:gridCol w="504720"/>
                <a:gridCol w="503280"/>
                <a:gridCol w="505080"/>
                <a:gridCol w="502920"/>
                <a:gridCol w="50508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900000" y="3213000"/>
          <a:ext cx="7201080" cy="944640"/>
        </p:xfrm>
        <a:graphic>
          <a:graphicData uri="http://schemas.openxmlformats.org/drawingml/2006/table">
            <a:tbl>
              <a:tblPr/>
              <a:tblGrid>
                <a:gridCol w="524160"/>
                <a:gridCol w="626760"/>
                <a:gridCol w="424080"/>
                <a:gridCol w="523800"/>
                <a:gridCol w="523800"/>
                <a:gridCol w="525600"/>
                <a:gridCol w="452520"/>
                <a:gridCol w="502920"/>
                <a:gridCol w="433440"/>
                <a:gridCol w="574920"/>
                <a:gridCol w="504720"/>
                <a:gridCol w="576360"/>
                <a:gridCol w="503280"/>
                <a:gridCol w="50472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1547640" y="4149720"/>
          <a:ext cx="6120000" cy="944640"/>
        </p:xfrm>
        <a:graphic>
          <a:graphicData uri="http://schemas.openxmlformats.org/drawingml/2006/table">
            <a:tbl>
              <a:tblPr/>
              <a:tblGrid>
                <a:gridCol w="505080"/>
                <a:gridCol w="431640"/>
                <a:gridCol w="576360"/>
                <a:gridCol w="503280"/>
                <a:gridCol w="504720"/>
                <a:gridCol w="503280"/>
                <a:gridCol w="504720"/>
                <a:gridCol w="503280"/>
                <a:gridCol w="504720"/>
                <a:gridCol w="487440"/>
                <a:gridCol w="592200"/>
                <a:gridCol w="5032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2050920" y="5157720"/>
          <a:ext cx="5113440" cy="944640"/>
        </p:xfrm>
        <a:graphic>
          <a:graphicData uri="http://schemas.openxmlformats.org/drawingml/2006/table">
            <a:tbl>
              <a:tblPr/>
              <a:tblGrid>
                <a:gridCol w="432000"/>
                <a:gridCol w="504720"/>
                <a:gridCol w="576360"/>
                <a:gridCol w="503280"/>
                <a:gridCol w="504720"/>
                <a:gridCol w="503280"/>
                <a:gridCol w="576360"/>
                <a:gridCol w="576000"/>
                <a:gridCol w="432000"/>
                <a:gridCol w="50472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1" name="WordArt 339"/>
          <p:cNvSpPr txBox="1"/>
          <p:nvPr/>
        </p:nvSpPr>
        <p:spPr>
          <a:xfrm>
            <a:off x="324000" y="-571680"/>
            <a:ext cx="8026200" cy="15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ссворд "Основные положения СТЭ"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2" name="AutoShape 416"/>
          <p:cNvSpPr/>
          <p:nvPr/>
        </p:nvSpPr>
        <p:spPr>
          <a:xfrm>
            <a:off x="7667640" y="5445000"/>
            <a:ext cx="1008000" cy="1008360"/>
          </a:xfrm>
          <a:prstGeom prst="smileyFace">
            <a:avLst>
              <a:gd name="adj" fmla="val 928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AutoShape 417"/>
          <p:cNvSpPr/>
          <p:nvPr/>
        </p:nvSpPr>
        <p:spPr>
          <a:xfrm>
            <a:off x="8675640" y="1341360"/>
            <a:ext cx="468360" cy="503280"/>
          </a:xfrm>
          <a:prstGeom prst="sun">
            <a:avLst>
              <a:gd name="adj" fmla="val 25000"/>
            </a:avLst>
          </a:prstGeom>
          <a:solidFill>
            <a:srgbClr val="dee177"/>
          </a:solidFill>
          <a:ln w="9360">
            <a:solidFill>
              <a:srgbClr val="dee1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AutoShape 418"/>
          <p:cNvSpPr/>
          <p:nvPr/>
        </p:nvSpPr>
        <p:spPr>
          <a:xfrm>
            <a:off x="8101080" y="2421000"/>
            <a:ext cx="468360" cy="431640"/>
          </a:xfrm>
          <a:custGeom>
            <a:avLst/>
            <a:gdLst>
              <a:gd name="textAreaLeft" fmla="*/ 109080 w 468360"/>
              <a:gd name="textAreaRight" fmla="*/ 359280 w 468360"/>
              <a:gd name="textAreaTop" fmla="*/ 45360 h 431640"/>
              <a:gd name="textAreaBottom" fmla="*/ 273240 h 431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d240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AutoShape 420"/>
          <p:cNvSpPr/>
          <p:nvPr/>
        </p:nvSpPr>
        <p:spPr>
          <a:xfrm>
            <a:off x="7812000" y="3429000"/>
            <a:ext cx="2160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ee1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AutoShape 439"/>
          <p:cNvSpPr/>
          <p:nvPr/>
        </p:nvSpPr>
        <p:spPr>
          <a:xfrm>
            <a:off x="5508720" y="3141720"/>
            <a:ext cx="530280" cy="576360"/>
          </a:xfrm>
          <a:custGeom>
            <a:avLst/>
            <a:gdLst/>
            <a:ahLst/>
            <a:rect l="l" t="t" r="r" b="b"/>
            <a:pathLst>
              <a:path w="530225" h="576262">
                <a:moveTo>
                  <a:pt x="1" y="220112"/>
                </a:moveTo>
                <a:lnTo>
                  <a:pt x="202529" y="220113"/>
                </a:lnTo>
                <a:lnTo>
                  <a:pt x="265113" y="0"/>
                </a:lnTo>
                <a:lnTo>
                  <a:pt x="327696" y="220113"/>
                </a:lnTo>
                <a:lnTo>
                  <a:pt x="530224" y="220112"/>
                </a:lnTo>
                <a:lnTo>
                  <a:pt x="366375" y="356148"/>
                </a:lnTo>
                <a:lnTo>
                  <a:pt x="428961" y="576261"/>
                </a:lnTo>
                <a:lnTo>
                  <a:pt x="265113" y="440222"/>
                </a:lnTo>
                <a:lnTo>
                  <a:pt x="101264" y="576261"/>
                </a:lnTo>
                <a:lnTo>
                  <a:pt x="163850" y="356148"/>
                </a:lnTo>
                <a:lnTo>
                  <a:pt x="1" y="220112"/>
                </a:lnTo>
                <a:close/>
              </a:path>
            </a:pathLst>
          </a:custGeom>
          <a:solidFill>
            <a:srgbClr val="d240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6:59:03Z</dcterms:created>
  <dc:creator>Олег</dc:creator>
  <dc:description/>
  <dc:language>en-US</dc:language>
  <cp:lastModifiedBy>Коля</cp:lastModifiedBy>
  <dcterms:modified xsi:type="dcterms:W3CDTF">2013-05-15T18:07:08Z</dcterms:modified>
  <cp:revision>67</cp:revision>
  <dc:subject/>
  <dc:title>Слайд 1</dc:title>
</cp:coreProperties>
</file>