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1.wmf" ContentType="image/x-wmf"/>
  <Override PartName="/ppt/media/image26.png" ContentType="image/png"/>
  <Override PartName="/ppt/media/image23.png" ContentType="image/png"/>
  <Override PartName="/ppt/media/image22.png" ContentType="image/png"/>
  <Override PartName="/ppt/media/image6.wmf" ContentType="image/x-wmf"/>
  <Override PartName="/ppt/media/image11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30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4.wmf" ContentType="image/x-wmf"/>
  <Override PartName="/ppt/media/image14.png" ContentType="image/png"/>
  <Override PartName="/ppt/media/image15.png" ContentType="image/png"/>
  <Override PartName="/ppt/media/image35.wmf" ContentType="image/x-wmf"/>
  <Override PartName="/ppt/media/image5.wmf" ContentType="image/x-wmf"/>
  <Override PartName="/ppt/media/image33.wmf" ContentType="image/x-wmf"/>
  <Override PartName="/ppt/media/image3.wmf" ContentType="image/x-wmf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EF37-4ADF-4298-870B-A526D80A35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A634-4C98-4DCF-BCE9-8EA352E812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уважаемые коллеги. Я представляю гимназию №10 г.Усть-Каменогор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оящий разговор о информатизации может занять несколько часов. Поэтому в отведенное мне время попытаюсь обозначить ключевые моменты в реализации программы информатизации  исходя из многолетнего опыта работы гимназии в этом на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FEDF-2A78-4B86-8B86-FB22CD2015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6CAD-6EA2-49D4-9898-9F9783F25A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2E9-E971-47F8-A91D-AC9A26A4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D01-DD86-4A2B-902A-5D676CEC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78D-90A2-4CC7-A188-D4676A3C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547-237A-4794-85EF-BE5B35C4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EAE2-6C1C-4B65-B4C0-0FC9A0A1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14C5-791E-4EFA-BC30-403AC0DF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2FCD-4F3D-41F3-A98F-FA9B45C6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FB20-3DB4-422B-BECC-944BD2DA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AA17-A841-4F1C-907B-6AAAC5D0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3CBD-00CE-4795-80C8-21C05E6B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AE75-6540-46B7-9D80-8A324CC4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327-1F05-4DD2-B033-E57A452E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1B9A-BD36-4187-8FC4-3BFA12C8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C8BC-7B78-4E46-855C-4B0C8995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3584-7196-4346-9EC6-B79FDA92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4047-07CF-4987-A266-1C14920F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E359-04DD-48D6-A28E-C7632587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AE6-F788-460E-A94F-C9B69A1D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A82-C0CA-4637-A28E-18C59067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246-1613-4D8E-954D-AE47AE73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114-5F27-4046-868F-F26407B7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6C0-7520-4997-B17F-938900DF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F2C2-9FA8-4F0D-BBEB-7EFC665C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D56-2E18-4E9D-BFDA-FCC16512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C2F4-E945-42EC-882E-FDD6520F45B6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6A2E-0E07-4ADB-80B0-30DB4627C30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-146160" y="1700280"/>
            <a:ext cx="9290160" cy="1871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Comic Sans MS"/>
              </a:rPr>
              <a:t>«Технологии самостоятельной работы обучающихс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1763640" y="333360"/>
            <a:ext cx="582444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БОУ «Гимназия №5 г. Сергиева Поса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3449520" y="4869000"/>
            <a:ext cx="5724720" cy="642600"/>
          </a:xfrm>
          <a:prstGeom prst="rect">
            <a:avLst/>
          </a:prstGeom>
          <a:solidFill>
            <a:srgbClr val="d1d1f0"/>
          </a:solidFill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инк Т.Е.  – 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348520" cy="295272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2" descr=""/>
          <p:cNvPicPr/>
          <p:nvPr/>
        </p:nvPicPr>
        <p:blipFill>
          <a:blip r:embed="rId2"/>
          <a:stretch/>
        </p:blipFill>
        <p:spPr>
          <a:xfrm>
            <a:off x="1494000" y="487440"/>
            <a:ext cx="6906960" cy="5983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 rot="21295800">
            <a:off x="196560" y="1413000"/>
            <a:ext cx="2303280" cy="368280"/>
          </a:xfrm>
          <a:prstGeom prst="rect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идео-р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3"/>
          <a:stretch/>
        </p:blipFill>
        <p:spPr>
          <a:xfrm rot="20677800">
            <a:off x="4698720" y="3408120"/>
            <a:ext cx="4011480" cy="2754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904000" cy="58705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2"/>
          <p:cNvSpPr/>
          <p:nvPr/>
        </p:nvSpPr>
        <p:spPr>
          <a:xfrm rot="2243400">
            <a:off x="3995640" y="2694240"/>
            <a:ext cx="52419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ешение задач по алгорит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3" descr=""/>
          <p:cNvPicPr/>
          <p:nvPr/>
        </p:nvPicPr>
        <p:blipFill>
          <a:blip r:embed="rId2"/>
          <a:stretch/>
        </p:blipFill>
        <p:spPr>
          <a:xfrm>
            <a:off x="1257480" y="395280"/>
            <a:ext cx="6773760" cy="530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541440" y="1916280"/>
            <a:ext cx="8124840" cy="417672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2" descr=""/>
          <p:cNvPicPr/>
          <p:nvPr/>
        </p:nvPicPr>
        <p:blipFill>
          <a:blip r:embed="rId2"/>
          <a:stretch/>
        </p:blipFill>
        <p:spPr>
          <a:xfrm>
            <a:off x="2571840" y="268200"/>
            <a:ext cx="4346640" cy="59688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3"/>
          <p:cNvSpPr/>
          <p:nvPr/>
        </p:nvSpPr>
        <p:spPr>
          <a:xfrm rot="20941800">
            <a:off x="11880" y="1303200"/>
            <a:ext cx="4572000" cy="642600"/>
          </a:xfrm>
          <a:prstGeom prst="rect">
            <a:avLst/>
          </a:prstGeom>
          <a:solidFill>
            <a:srgbClr val="2d2d8a"/>
          </a:solidFill>
          <a:ln w="1260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Задание на распознание различных объектов и свой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1" descr=""/>
          <p:cNvPicPr/>
          <p:nvPr/>
        </p:nvPicPr>
        <p:blipFill>
          <a:blip r:embed="rId1"/>
          <a:stretch/>
        </p:blipFill>
        <p:spPr>
          <a:xfrm>
            <a:off x="2577960" y="268200"/>
            <a:ext cx="4335480" cy="5907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3" descr=""/>
          <p:cNvPicPr/>
          <p:nvPr/>
        </p:nvPicPr>
        <p:blipFill>
          <a:blip r:embed="rId2"/>
          <a:stretch/>
        </p:blipFill>
        <p:spPr>
          <a:xfrm>
            <a:off x="279360" y="855720"/>
            <a:ext cx="4897440" cy="26463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"/>
          <p:cNvPicPr/>
          <p:nvPr/>
        </p:nvPicPr>
        <p:blipFill>
          <a:blip r:embed="rId3"/>
          <a:stretch/>
        </p:blipFill>
        <p:spPr>
          <a:xfrm>
            <a:off x="4140360" y="1379520"/>
            <a:ext cx="4273560" cy="23083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"/>
          <p:cNvPicPr/>
          <p:nvPr/>
        </p:nvPicPr>
        <p:blipFill>
          <a:blip r:embed="rId4"/>
          <a:stretch/>
        </p:blipFill>
        <p:spPr>
          <a:xfrm>
            <a:off x="179280" y="4005360"/>
            <a:ext cx="3421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5"/>
          <a:stretch/>
        </p:blipFill>
        <p:spPr>
          <a:xfrm>
            <a:off x="3630600" y="3486240"/>
            <a:ext cx="2876400" cy="23018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2"/>
          <p:cNvSpPr/>
          <p:nvPr/>
        </p:nvSpPr>
        <p:spPr>
          <a:xfrm rot="20941800">
            <a:off x="299160" y="3281400"/>
            <a:ext cx="4572000" cy="642600"/>
          </a:xfrm>
          <a:prstGeom prst="rect">
            <a:avLst/>
          </a:prstGeom>
          <a:solidFill>
            <a:srgbClr val="2d2d8a"/>
          </a:solidFill>
          <a:ln w="1260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Участие в научно-практических конферен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6"/>
          <a:stretch/>
        </p:blipFill>
        <p:spPr>
          <a:xfrm>
            <a:off x="6443640" y="4437000"/>
            <a:ext cx="243036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оугольник 1"/>
          <p:cNvGrpSpPr/>
          <p:nvPr/>
        </p:nvGrpSpPr>
        <p:grpSpPr>
          <a:xfrm>
            <a:off x="1341360" y="92160"/>
            <a:ext cx="6308640" cy="1133280"/>
            <a:chOff x="1341360" y="92160"/>
            <a:chExt cx="6308640" cy="1133280"/>
          </a:xfrm>
        </p:grpSpPr>
        <p:pic>
          <p:nvPicPr>
            <p:cNvPr id="154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341360" y="92160"/>
              <a:ext cx="630864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403280" y="189000"/>
              <a:ext cx="619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Calibri"/>
                </a:rPr>
                <a:t>При самостоятельном обучении у школьников формируютс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Схема 2" descr=""/>
          <p:cNvPicPr/>
          <p:nvPr/>
        </p:nvPicPr>
        <p:blipFill>
          <a:blip r:embed="rId2"/>
          <a:stretch/>
        </p:blipFill>
        <p:spPr>
          <a:xfrm>
            <a:off x="590400" y="1122480"/>
            <a:ext cx="7950240" cy="54864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3" descr=""/>
          <p:cNvPicPr/>
          <p:nvPr/>
        </p:nvPicPr>
        <p:blipFill>
          <a:blip r:embed="rId3"/>
          <a:stretch/>
        </p:blipFill>
        <p:spPr>
          <a:xfrm>
            <a:off x="250920" y="2754360"/>
            <a:ext cx="1657080" cy="3602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0" y="255600"/>
            <a:ext cx="9144000" cy="94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и самостоятельной работы обучаю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Схема 3" descr=""/>
          <p:cNvPicPr/>
          <p:nvPr/>
        </p:nvPicPr>
        <p:blipFill>
          <a:blip r:embed="rId1"/>
          <a:stretch/>
        </p:blipFill>
        <p:spPr>
          <a:xfrm>
            <a:off x="1517760" y="1359000"/>
            <a:ext cx="6108480" cy="41209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1589400" cy="17938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"/>
          <p:cNvPicPr/>
          <p:nvPr/>
        </p:nvPicPr>
        <p:blipFill>
          <a:blip r:embed="rId3"/>
          <a:stretch/>
        </p:blipFill>
        <p:spPr>
          <a:xfrm flipH="1">
            <a:off x="6804000" y="3657600"/>
            <a:ext cx="1944720" cy="2344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1476360" y="836640"/>
            <a:ext cx="55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3" descr=""/>
          <p:cNvPicPr/>
          <p:nvPr/>
        </p:nvPicPr>
        <p:blipFill>
          <a:blip r:embed="rId1"/>
          <a:stretch/>
        </p:blipFill>
        <p:spPr>
          <a:xfrm>
            <a:off x="3919680" y="3357720"/>
            <a:ext cx="5241960" cy="333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8"/>
          <p:cNvSpPr txBox="1"/>
          <p:nvPr/>
        </p:nvSpPr>
        <p:spPr>
          <a:xfrm rot="20995200">
            <a:off x="7205400" y="1859040"/>
            <a:ext cx="215892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b5b"/>
                  </a:solidFill>
                  <a:miter/>
                </a:ln>
                <a:gradFill rotWithShape="0">
                  <a:gsLst>
                    <a:gs pos="0">
                      <a:srgbClr val="ff8585"/>
                    </a:gs>
                    <a:gs pos="100000">
                      <a:srgbClr val="ff5b5b"/>
                    </a:gs>
                  </a:gsLst>
                  <a:lin ang="600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!</a:t>
            </a:r>
            <a:endParaRPr b="0" lang="en-US" sz="1800" spc="1" strike="noStrike">
              <a:ln w="9360">
                <a:solidFill>
                  <a:srgbClr val="ff5b5b"/>
                </a:solidFill>
                <a:miter/>
              </a:ln>
              <a:gradFill rotWithShape="0">
                <a:gsLst>
                  <a:gs pos="0">
                    <a:srgbClr val="ff8585"/>
                  </a:gs>
                  <a:gs pos="100000">
                    <a:srgbClr val="ff5b5b"/>
                  </a:gs>
                </a:gsLst>
                <a:lin ang="600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93" name="Схема 2" descr=""/>
          <p:cNvPicPr/>
          <p:nvPr/>
        </p:nvPicPr>
        <p:blipFill>
          <a:blip r:embed="rId1"/>
          <a:stretch/>
        </p:blipFill>
        <p:spPr>
          <a:xfrm>
            <a:off x="152280" y="378000"/>
            <a:ext cx="840132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"/>
          <p:cNvPicPr/>
          <p:nvPr/>
        </p:nvPicPr>
        <p:blipFill>
          <a:blip r:embed="rId2"/>
          <a:stretch/>
        </p:blipFill>
        <p:spPr>
          <a:xfrm>
            <a:off x="3059280" y="4076640"/>
            <a:ext cx="3384360" cy="2652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Вит"/>
          <p:cNvPicPr/>
          <p:nvPr/>
        </p:nvPicPr>
        <p:blipFill>
          <a:blip r:embed="rId1"/>
          <a:stretch/>
        </p:blipFill>
        <p:spPr>
          <a:xfrm>
            <a:off x="2987640" y="144792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-181080" y="63360"/>
            <a:ext cx="9577440" cy="10994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mic Sans MS"/>
              </a:rPr>
              <a:t>В меняющемся мире система образования должна формиров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mic Sans MS"/>
              </a:rPr>
              <a:t>новые качества выпускни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661720" y="284076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нициативность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51640" y="2840760"/>
            <a:ext cx="26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3601080" y="104040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мобильность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368720" y="4712400"/>
            <a:ext cx="150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гибкость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6480000" y="4425120"/>
            <a:ext cx="15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инамизм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3504600" y="6080400"/>
            <a:ext cx="30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амосто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39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5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57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Вит"/>
          <p:cNvPicPr/>
          <p:nvPr/>
        </p:nvPicPr>
        <p:blipFill>
          <a:blip r:embed="rId1"/>
          <a:stretch/>
        </p:blipFill>
        <p:spPr>
          <a:xfrm>
            <a:off x="3132000" y="2565360"/>
            <a:ext cx="3035520" cy="4292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0" y="6336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удущий профессионал долж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3"/>
          <p:cNvGrpSpPr/>
          <p:nvPr/>
        </p:nvGrpSpPr>
        <p:grpSpPr>
          <a:xfrm>
            <a:off x="0" y="3500280"/>
            <a:ext cx="3384720" cy="3024360"/>
            <a:chOff x="0" y="3500280"/>
            <a:chExt cx="3384720" cy="3024360"/>
          </a:xfrm>
        </p:grpSpPr>
        <p:grpSp>
          <p:nvGrpSpPr>
            <p:cNvPr id="106" name="Group 16"/>
            <p:cNvGrpSpPr/>
            <p:nvPr/>
          </p:nvGrpSpPr>
          <p:grpSpPr>
            <a:xfrm>
              <a:off x="608400" y="3500280"/>
              <a:ext cx="1987920" cy="2836080"/>
              <a:chOff x="608400" y="3500280"/>
              <a:chExt cx="1987920" cy="2836080"/>
            </a:xfrm>
          </p:grpSpPr>
          <p:sp>
            <p:nvSpPr>
              <p:cNvPr id="107" name="Rectangle 10"/>
              <p:cNvSpPr/>
              <p:nvPr/>
            </p:nvSpPr>
            <p:spPr>
              <a:xfrm>
                <a:off x="608400" y="5816160"/>
                <a:ext cx="187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стремиться 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самообразованию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" name="Picture 14" descr="ACCOUNTA"/>
              <p:cNvPicPr/>
              <p:nvPr/>
            </p:nvPicPr>
            <p:blipFill>
              <a:blip r:embed="rId2"/>
              <a:stretch/>
            </p:blipFill>
            <p:spPr>
              <a:xfrm>
                <a:off x="657360" y="3500280"/>
                <a:ext cx="1938960" cy="227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AutoShape 25"/>
            <p:cNvSpPr/>
            <p:nvPr/>
          </p:nvSpPr>
          <p:spPr>
            <a:xfrm>
              <a:off x="0" y="3573360"/>
              <a:ext cx="3384720" cy="2951280"/>
            </a:xfrm>
            <a:prstGeom prst="wedgeEllipseCallout">
              <a:avLst>
                <a:gd name="adj1" fmla="val 65148"/>
                <a:gd name="adj2" fmla="val -45212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32"/>
          <p:cNvGrpSpPr/>
          <p:nvPr/>
        </p:nvGrpSpPr>
        <p:grpSpPr>
          <a:xfrm>
            <a:off x="5435640" y="2781360"/>
            <a:ext cx="3708360" cy="3816360"/>
            <a:chOff x="5435640" y="2781360"/>
            <a:chExt cx="3708360" cy="3816360"/>
          </a:xfrm>
        </p:grpSpPr>
        <p:grpSp>
          <p:nvGrpSpPr>
            <p:cNvPr id="111" name="Group 29"/>
            <p:cNvGrpSpPr/>
            <p:nvPr/>
          </p:nvGrpSpPr>
          <p:grpSpPr>
            <a:xfrm>
              <a:off x="5936400" y="2781360"/>
              <a:ext cx="2894760" cy="3315960"/>
              <a:chOff x="5936400" y="2781360"/>
              <a:chExt cx="2894760" cy="3315960"/>
            </a:xfrm>
          </p:grpSpPr>
          <p:sp>
            <p:nvSpPr>
              <p:cNvPr id="112" name="Rectangle 21"/>
              <p:cNvSpPr/>
              <p:nvPr/>
            </p:nvSpPr>
            <p:spPr>
              <a:xfrm>
                <a:off x="5936400" y="5790240"/>
                <a:ext cx="280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быть готовым к перегрузкам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Picture 22" descr="SHERO004"/>
              <p:cNvPicPr/>
              <p:nvPr/>
            </p:nvPicPr>
            <p:blipFill>
              <a:blip r:embed="rId3"/>
              <a:stretch/>
            </p:blipFill>
            <p:spPr>
              <a:xfrm>
                <a:off x="6227640" y="2781360"/>
                <a:ext cx="2603520" cy="3097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" name="AutoShape 26"/>
            <p:cNvSpPr/>
            <p:nvPr/>
          </p:nvSpPr>
          <p:spPr>
            <a:xfrm>
              <a:off x="5435640" y="2781360"/>
              <a:ext cx="3708360" cy="3816360"/>
            </a:xfrm>
            <a:prstGeom prst="wedgeEllipseCallout">
              <a:avLst>
                <a:gd name="adj1" fmla="val -53722"/>
                <a:gd name="adj2" fmla="val -34773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0"/>
          <p:cNvGrpSpPr/>
          <p:nvPr/>
        </p:nvGrpSpPr>
        <p:grpSpPr>
          <a:xfrm>
            <a:off x="900000" y="549360"/>
            <a:ext cx="3384720" cy="2950920"/>
            <a:chOff x="900000" y="549360"/>
            <a:chExt cx="3384720" cy="2950920"/>
          </a:xfrm>
        </p:grpSpPr>
        <p:grpSp>
          <p:nvGrpSpPr>
            <p:cNvPr id="116" name="Group 17"/>
            <p:cNvGrpSpPr/>
            <p:nvPr/>
          </p:nvGrpSpPr>
          <p:grpSpPr>
            <a:xfrm>
              <a:off x="1692360" y="692280"/>
              <a:ext cx="2003040" cy="2288880"/>
              <a:chOff x="1692360" y="692280"/>
              <a:chExt cx="2003040" cy="2288880"/>
            </a:xfrm>
          </p:grpSpPr>
          <p:sp>
            <p:nvSpPr>
              <p:cNvPr id="117" name="Rectangle 11"/>
              <p:cNvSpPr/>
              <p:nvPr/>
            </p:nvSpPr>
            <p:spPr>
              <a:xfrm>
                <a:off x="1739880" y="2460960"/>
                <a:ext cx="1681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владеть новым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технологиями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" name="Picture 15" descr="MYNET086"/>
              <p:cNvPicPr/>
              <p:nvPr/>
            </p:nvPicPr>
            <p:blipFill>
              <a:blip r:embed="rId4"/>
              <a:stretch/>
            </p:blipFill>
            <p:spPr>
              <a:xfrm>
                <a:off x="1692360" y="692280"/>
                <a:ext cx="2003040" cy="1740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AutoShape 27"/>
            <p:cNvSpPr/>
            <p:nvPr/>
          </p:nvSpPr>
          <p:spPr>
            <a:xfrm>
              <a:off x="900000" y="549360"/>
              <a:ext cx="3384720" cy="2950920"/>
            </a:xfrm>
            <a:prstGeom prst="wedgeEllipseCallout">
              <a:avLst>
                <a:gd name="adj1" fmla="val 45310"/>
                <a:gd name="adj2" fmla="val 47796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1"/>
          <p:cNvGrpSpPr/>
          <p:nvPr/>
        </p:nvGrpSpPr>
        <p:grpSpPr>
          <a:xfrm>
            <a:off x="5003640" y="620640"/>
            <a:ext cx="3889440" cy="2160720"/>
            <a:chOff x="5003640" y="620640"/>
            <a:chExt cx="3889440" cy="2160720"/>
          </a:xfrm>
        </p:grpSpPr>
        <p:grpSp>
          <p:nvGrpSpPr>
            <p:cNvPr id="121" name="Group 20"/>
            <p:cNvGrpSpPr/>
            <p:nvPr/>
          </p:nvGrpSpPr>
          <p:grpSpPr>
            <a:xfrm>
              <a:off x="5360400" y="765000"/>
              <a:ext cx="3115800" cy="1814400"/>
              <a:chOff x="5360400" y="765000"/>
              <a:chExt cx="3115800" cy="1814400"/>
            </a:xfrm>
          </p:grpSpPr>
          <p:pic>
            <p:nvPicPr>
              <p:cNvPr id="122" name="Picture 18" descr="CASHCOLO"/>
              <p:cNvPicPr/>
              <p:nvPr/>
            </p:nvPicPr>
            <p:blipFill>
              <a:blip r:embed="rId5"/>
              <a:stretch/>
            </p:blipFill>
            <p:spPr>
              <a:xfrm>
                <a:off x="5843520" y="765000"/>
                <a:ext cx="1875960" cy="140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Rectangle 19"/>
              <p:cNvSpPr/>
              <p:nvPr/>
            </p:nvSpPr>
            <p:spPr>
              <a:xfrm>
                <a:off x="5360400" y="2059200"/>
                <a:ext cx="3115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адаптироваться в социальной и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профессиональной сфер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utoShape 28"/>
            <p:cNvSpPr/>
            <p:nvPr/>
          </p:nvSpPr>
          <p:spPr>
            <a:xfrm>
              <a:off x="5003640" y="620640"/>
              <a:ext cx="3889440" cy="2160720"/>
            </a:xfrm>
            <a:prstGeom prst="wedgeEllipseCallout">
              <a:avLst>
                <a:gd name="adj1" fmla="val -43879"/>
                <a:gd name="adj2" fmla="val 68148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0" y="1440"/>
            <a:ext cx="9144000" cy="1739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Формир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амостоятельн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хема 2" descr=""/>
          <p:cNvPicPr/>
          <p:nvPr/>
        </p:nvPicPr>
        <p:blipFill>
          <a:blip r:embed="rId1"/>
          <a:stretch/>
        </p:blipFill>
        <p:spPr>
          <a:xfrm>
            <a:off x="-255600" y="1908000"/>
            <a:ext cx="8210520" cy="40784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"/>
          <p:cNvPicPr/>
          <p:nvPr/>
        </p:nvPicPr>
        <p:blipFill>
          <a:blip r:embed="rId2"/>
          <a:stretch/>
        </p:blipFill>
        <p:spPr>
          <a:xfrm>
            <a:off x="0" y="4869000"/>
            <a:ext cx="1649520" cy="1716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0" y="189720"/>
            <a:ext cx="914400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начение самостоятель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хема 1" descr=""/>
          <p:cNvPicPr/>
          <p:nvPr/>
        </p:nvPicPr>
        <p:blipFill>
          <a:blip r:embed="rId1"/>
          <a:stretch/>
        </p:blipFill>
        <p:spPr>
          <a:xfrm>
            <a:off x="-60480" y="1042920"/>
            <a:ext cx="9228240" cy="5437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SURVEYCO"/>
          <p:cNvPicPr/>
          <p:nvPr/>
        </p:nvPicPr>
        <p:blipFill>
          <a:blip r:embed="rId2"/>
          <a:stretch/>
        </p:blipFill>
        <p:spPr>
          <a:xfrm>
            <a:off x="-324000" y="3487680"/>
            <a:ext cx="3257640" cy="3382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5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42480"/>
            <a:ext cx="9144000" cy="1373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хнология организации самостоятельной работы учащихся может включать в себя следующие пунк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Схема 1" descr=""/>
          <p:cNvPicPr/>
          <p:nvPr/>
        </p:nvPicPr>
        <p:blipFill>
          <a:blip r:embed="rId1"/>
          <a:stretch/>
        </p:blipFill>
        <p:spPr>
          <a:xfrm>
            <a:off x="49320" y="1463760"/>
            <a:ext cx="8637480" cy="4717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4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6"/>
          <p:cNvSpPr/>
          <p:nvPr/>
        </p:nvSpPr>
        <p:spPr>
          <a:xfrm>
            <a:off x="2636280" y="11592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самостоятельны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Таблица 8" descr=""/>
          <p:cNvPicPr/>
          <p:nvPr/>
        </p:nvPicPr>
        <p:blipFill>
          <a:blip r:embed="rId1"/>
          <a:stretch/>
        </p:blipFill>
        <p:spPr>
          <a:xfrm>
            <a:off x="249120" y="401760"/>
            <a:ext cx="8967960" cy="6132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Таблица 2" descr=""/>
          <p:cNvPicPr/>
          <p:nvPr/>
        </p:nvPicPr>
        <p:blipFill>
          <a:blip r:embed="rId1"/>
          <a:stretch/>
        </p:blipFill>
        <p:spPr>
          <a:xfrm>
            <a:off x="324000" y="762120"/>
            <a:ext cx="8643960" cy="4645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4:53:17Z</dcterms:created>
  <dc:creator>User</dc:creator>
  <dc:description/>
  <dc:language>en-US</dc:language>
  <cp:lastModifiedBy>20207</cp:lastModifiedBy>
  <dcterms:modified xsi:type="dcterms:W3CDTF">2014-02-20T17:27:43Z</dcterms:modified>
  <cp:revision>32</cp:revision>
  <dc:subject/>
  <dc:title>Слайд 1</dc:title>
</cp:coreProperties>
</file>