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1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6.wmf" ContentType="image/x-wmf"/>
  <Override PartName="/ppt/media/image11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30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15.png" ContentType="image/png"/>
  <Override PartName="/ppt/media/image35.wmf" ContentType="image/x-wmf"/>
  <Override PartName="/ppt/media/image5.wmf" ContentType="image/x-wmf"/>
  <Override PartName="/ppt/media/image33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A6C3-484C-4C37-A558-B75CB41FD0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A5F6-625A-4EEF-8AA3-32E083986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уважаемые коллеги. Я представляю гимназию №10 г.Усть-Каменогор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оящий разговор о информатизации может занять несколько часов. Поэтому в отведенное мне время попытаюсь обозначить ключевые моменты в реализации программы информатизации  исходя из многолетнего опыта работы гимназии в этом на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4414-6448-42AE-9E03-EDECB849E4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DC2A-6E80-4200-8757-D60F364FD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42E-F847-489A-BCFD-0A8D6007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7E3-823F-4553-AEDA-CCC5E3B9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CA5-5397-4328-B3BE-6469DC36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633-3DCD-44AA-9061-B71838B6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7F8D-770D-4880-B4E4-837812F2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925C-C9B9-4A63-9DF0-70EF371B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3FD0-9BA8-4360-96B7-F7C8330D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C0D9-09DC-4609-8DB7-084066DA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2E52-5079-4159-B30F-9A23E50C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FA3D-08A8-4A7A-85AE-76A10F48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259F-1D8D-490F-B97C-E008F142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D34-5984-400D-9F26-FBFBDD2F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0F6B-0D5B-43FA-81A0-F3E88C2E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D25B-477F-4F96-BE93-3E5AEC91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E25D-3A43-4464-B9FC-E5157EE6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C417-9B79-4BD3-A920-6F99CACF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60BD-2F29-402A-AE2D-71184535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076-78B1-4448-8517-BF7B70FC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B86-5600-40F7-97B0-12D189C8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DAA-F7AC-4340-A3C0-87582D6F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EFC-445E-40E4-8EE2-ADB4F77A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B50-3343-452A-A51B-7DB73BCF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7B6-01DF-4333-982B-EAD457BC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B38-A8C2-4A34-8653-D22BFF8E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9DDC-2D02-4861-A6B3-E113F8B71D6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B8FF-8F61-4383-AC91-80DBE2477D4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-146160" y="1700280"/>
            <a:ext cx="9290160" cy="1871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Comic Sans MS"/>
              </a:rPr>
              <a:t>«Технологии самостоятельной работы обучающихс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1763640" y="333360"/>
            <a:ext cx="582444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БОУ «Гимназия №5 г. Сергиева Поса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3449520" y="4869000"/>
            <a:ext cx="5724720" cy="642600"/>
          </a:xfrm>
          <a:prstGeom prst="rect">
            <a:avLst/>
          </a:prstGeom>
          <a:solidFill>
            <a:srgbClr val="d1d1f0"/>
          </a:solidFill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инк Т.Е.  –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348520" cy="295272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" descr=""/>
          <p:cNvPicPr/>
          <p:nvPr/>
        </p:nvPicPr>
        <p:blipFill>
          <a:blip r:embed="rId2"/>
          <a:stretch/>
        </p:blipFill>
        <p:spPr>
          <a:xfrm>
            <a:off x="1494000" y="487440"/>
            <a:ext cx="6906960" cy="5983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 rot="21295800">
            <a:off x="196560" y="1413000"/>
            <a:ext cx="2303280" cy="368280"/>
          </a:xfrm>
          <a:prstGeom prst="rect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идео-р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3"/>
          <a:stretch/>
        </p:blipFill>
        <p:spPr>
          <a:xfrm rot="20677800">
            <a:off x="4698720" y="3408120"/>
            <a:ext cx="401148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904000" cy="58705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"/>
          <p:cNvSpPr/>
          <p:nvPr/>
        </p:nvSpPr>
        <p:spPr>
          <a:xfrm rot="2243400">
            <a:off x="3995640" y="2694240"/>
            <a:ext cx="52419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шение задач по алгорит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2"/>
          <a:stretch/>
        </p:blipFill>
        <p:spPr>
          <a:xfrm>
            <a:off x="1257480" y="395280"/>
            <a:ext cx="6773760" cy="530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541440" y="1916280"/>
            <a:ext cx="8124840" cy="417672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2" descr=""/>
          <p:cNvPicPr/>
          <p:nvPr/>
        </p:nvPicPr>
        <p:blipFill>
          <a:blip r:embed="rId2"/>
          <a:stretch/>
        </p:blipFill>
        <p:spPr>
          <a:xfrm>
            <a:off x="2571840" y="268200"/>
            <a:ext cx="4346640" cy="5968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 rot="20941800">
            <a:off x="11880" y="1303200"/>
            <a:ext cx="4572000" cy="642600"/>
          </a:xfrm>
          <a:prstGeom prst="rect">
            <a:avLst/>
          </a:prstGeom>
          <a:solidFill>
            <a:srgbClr val="2d2d8a"/>
          </a:solidFill>
          <a:ln w="1260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Задание на распознание различных объектов и свой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2577960" y="268200"/>
            <a:ext cx="4335480" cy="5907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" descr=""/>
          <p:cNvPicPr/>
          <p:nvPr/>
        </p:nvPicPr>
        <p:blipFill>
          <a:blip r:embed="rId2"/>
          <a:stretch/>
        </p:blipFill>
        <p:spPr>
          <a:xfrm>
            <a:off x="279360" y="855720"/>
            <a:ext cx="4897440" cy="2646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"/>
          <p:cNvPicPr/>
          <p:nvPr/>
        </p:nvPicPr>
        <p:blipFill>
          <a:blip r:embed="rId3"/>
          <a:stretch/>
        </p:blipFill>
        <p:spPr>
          <a:xfrm>
            <a:off x="4140360" y="1379520"/>
            <a:ext cx="4273560" cy="23083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"/>
          <p:cNvPicPr/>
          <p:nvPr/>
        </p:nvPicPr>
        <p:blipFill>
          <a:blip r:embed="rId4"/>
          <a:stretch/>
        </p:blipFill>
        <p:spPr>
          <a:xfrm>
            <a:off x="179280" y="4005360"/>
            <a:ext cx="3421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5"/>
          <a:stretch/>
        </p:blipFill>
        <p:spPr>
          <a:xfrm>
            <a:off x="3630600" y="3486240"/>
            <a:ext cx="2876400" cy="23018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"/>
          <p:cNvSpPr/>
          <p:nvPr/>
        </p:nvSpPr>
        <p:spPr>
          <a:xfrm rot="20941800">
            <a:off x="299160" y="3281400"/>
            <a:ext cx="4572000" cy="642600"/>
          </a:xfrm>
          <a:prstGeom prst="rect">
            <a:avLst/>
          </a:prstGeom>
          <a:solidFill>
            <a:srgbClr val="2d2d8a"/>
          </a:solidFill>
          <a:ln w="1260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Участие в научно-практических конферен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6"/>
          <a:stretch/>
        </p:blipFill>
        <p:spPr>
          <a:xfrm>
            <a:off x="6443640" y="4437000"/>
            <a:ext cx="243036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оугольник 1"/>
          <p:cNvGrpSpPr/>
          <p:nvPr/>
        </p:nvGrpSpPr>
        <p:grpSpPr>
          <a:xfrm>
            <a:off x="1341360" y="92160"/>
            <a:ext cx="6308640" cy="1133280"/>
            <a:chOff x="1341360" y="92160"/>
            <a:chExt cx="6308640" cy="1133280"/>
          </a:xfrm>
        </p:grpSpPr>
        <p:pic>
          <p:nvPicPr>
            <p:cNvPr id="154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41360" y="92160"/>
              <a:ext cx="630864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403280" y="189000"/>
              <a:ext cx="619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Calibri"/>
                </a:rPr>
                <a:t>При самостоятельном обучении у школьников формируют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Схема 2" descr=""/>
          <p:cNvPicPr/>
          <p:nvPr/>
        </p:nvPicPr>
        <p:blipFill>
          <a:blip r:embed="rId2"/>
          <a:stretch/>
        </p:blipFill>
        <p:spPr>
          <a:xfrm>
            <a:off x="590400" y="1122480"/>
            <a:ext cx="7950240" cy="54864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"/>
          <p:cNvPicPr/>
          <p:nvPr/>
        </p:nvPicPr>
        <p:blipFill>
          <a:blip r:embed="rId3"/>
          <a:stretch/>
        </p:blipFill>
        <p:spPr>
          <a:xfrm>
            <a:off x="250920" y="2754360"/>
            <a:ext cx="1657080" cy="3602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0" y="255600"/>
            <a:ext cx="9144000" cy="94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самостоятельной работы обучаю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Схема 3" descr=""/>
          <p:cNvPicPr/>
          <p:nvPr/>
        </p:nvPicPr>
        <p:blipFill>
          <a:blip r:embed="rId1"/>
          <a:stretch/>
        </p:blipFill>
        <p:spPr>
          <a:xfrm>
            <a:off x="1517760" y="1359000"/>
            <a:ext cx="6108480" cy="41209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1589400" cy="17938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"/>
          <p:cNvPicPr/>
          <p:nvPr/>
        </p:nvPicPr>
        <p:blipFill>
          <a:blip r:embed="rId3"/>
          <a:stretch/>
        </p:blipFill>
        <p:spPr>
          <a:xfrm flipH="1">
            <a:off x="6804000" y="3657600"/>
            <a:ext cx="194472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476360" y="836640"/>
            <a:ext cx="55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3" descr=""/>
          <p:cNvPicPr/>
          <p:nvPr/>
        </p:nvPicPr>
        <p:blipFill>
          <a:blip r:embed="rId1"/>
          <a:stretch/>
        </p:blipFill>
        <p:spPr>
          <a:xfrm>
            <a:off x="3919680" y="3357720"/>
            <a:ext cx="5241960" cy="333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8"/>
          <p:cNvSpPr txBox="1"/>
          <p:nvPr/>
        </p:nvSpPr>
        <p:spPr>
          <a:xfrm rot="20995200">
            <a:off x="7205400" y="1859040"/>
            <a:ext cx="215892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b5b"/>
                  </a:solidFill>
                  <a:miter/>
                </a:ln>
                <a:gradFill rotWithShape="0">
                  <a:gsLst>
                    <a:gs pos="0">
                      <a:srgbClr val="ff8585"/>
                    </a:gs>
                    <a:gs pos="100000">
                      <a:srgbClr val="ff5b5b"/>
                    </a:gs>
                  </a:gsLst>
                  <a:lin ang="600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!</a:t>
            </a:r>
            <a:endParaRPr b="0" lang="en-US" sz="1800" spc="1" strike="noStrike">
              <a:ln w="9360">
                <a:solidFill>
                  <a:srgbClr val="ff5b5b"/>
                </a:solidFill>
                <a:miter/>
              </a:ln>
              <a:gradFill rotWithShape="0">
                <a:gsLst>
                  <a:gs pos="0">
                    <a:srgbClr val="ff8585"/>
                  </a:gs>
                  <a:gs pos="100000">
                    <a:srgbClr val="ff5b5b"/>
                  </a:gs>
                </a:gsLst>
                <a:lin ang="600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93" name="Схема 2" descr=""/>
          <p:cNvPicPr/>
          <p:nvPr/>
        </p:nvPicPr>
        <p:blipFill>
          <a:blip r:embed="rId1"/>
          <a:stretch/>
        </p:blipFill>
        <p:spPr>
          <a:xfrm>
            <a:off x="152280" y="378000"/>
            <a:ext cx="840132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"/>
          <p:cNvPicPr/>
          <p:nvPr/>
        </p:nvPicPr>
        <p:blipFill>
          <a:blip r:embed="rId2"/>
          <a:stretch/>
        </p:blipFill>
        <p:spPr>
          <a:xfrm>
            <a:off x="3059280" y="4076640"/>
            <a:ext cx="3384360" cy="2652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Вит"/>
          <p:cNvPicPr/>
          <p:nvPr/>
        </p:nvPicPr>
        <p:blipFill>
          <a:blip r:embed="rId1"/>
          <a:stretch/>
        </p:blipFill>
        <p:spPr>
          <a:xfrm>
            <a:off x="2987640" y="144792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-181080" y="63360"/>
            <a:ext cx="9577440" cy="1099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mic Sans MS"/>
              </a:rPr>
              <a:t>В меняющемся мире система образования должна формиро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mic Sans MS"/>
              </a:rPr>
              <a:t>новые качества выпускни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661720" y="284076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нициативн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51640" y="2840760"/>
            <a:ext cx="26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601080" y="104040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мобильн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368720" y="4712400"/>
            <a:ext cx="150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гибкость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6480000" y="4425120"/>
            <a:ext cx="15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инамизм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504600" y="608040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амосто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39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5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5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Вит"/>
          <p:cNvPicPr/>
          <p:nvPr/>
        </p:nvPicPr>
        <p:blipFill>
          <a:blip r:embed="rId1"/>
          <a:stretch/>
        </p:blipFill>
        <p:spPr>
          <a:xfrm>
            <a:off x="3132000" y="2565360"/>
            <a:ext cx="3035520" cy="4292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6336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удущий профессионал дол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0" y="3500280"/>
            <a:ext cx="3384720" cy="3024360"/>
            <a:chOff x="0" y="3500280"/>
            <a:chExt cx="3384720" cy="3024360"/>
          </a:xfrm>
        </p:grpSpPr>
        <p:grpSp>
          <p:nvGrpSpPr>
            <p:cNvPr id="106" name="Group 16"/>
            <p:cNvGrpSpPr/>
            <p:nvPr/>
          </p:nvGrpSpPr>
          <p:grpSpPr>
            <a:xfrm>
              <a:off x="608400" y="3500280"/>
              <a:ext cx="1987920" cy="2836080"/>
              <a:chOff x="608400" y="3500280"/>
              <a:chExt cx="1987920" cy="2836080"/>
            </a:xfrm>
          </p:grpSpPr>
          <p:sp>
            <p:nvSpPr>
              <p:cNvPr id="107" name="Rectangle 10"/>
              <p:cNvSpPr/>
              <p:nvPr/>
            </p:nvSpPr>
            <p:spPr>
              <a:xfrm>
                <a:off x="608400" y="5816160"/>
                <a:ext cx="187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стремиться 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самообразованию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Picture 14" descr="ACCOUNTA"/>
              <p:cNvPicPr/>
              <p:nvPr/>
            </p:nvPicPr>
            <p:blipFill>
              <a:blip r:embed="rId2"/>
              <a:stretch/>
            </p:blipFill>
            <p:spPr>
              <a:xfrm>
                <a:off x="657360" y="3500280"/>
                <a:ext cx="1938960" cy="227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AutoShape 25"/>
            <p:cNvSpPr/>
            <p:nvPr/>
          </p:nvSpPr>
          <p:spPr>
            <a:xfrm>
              <a:off x="0" y="3573360"/>
              <a:ext cx="3384720" cy="2951280"/>
            </a:xfrm>
            <a:prstGeom prst="wedgeEllipseCallout">
              <a:avLst>
                <a:gd name="adj1" fmla="val 65148"/>
                <a:gd name="adj2" fmla="val -45212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32"/>
          <p:cNvGrpSpPr/>
          <p:nvPr/>
        </p:nvGrpSpPr>
        <p:grpSpPr>
          <a:xfrm>
            <a:off x="5435640" y="2781360"/>
            <a:ext cx="3708360" cy="3816360"/>
            <a:chOff x="5435640" y="2781360"/>
            <a:chExt cx="3708360" cy="3816360"/>
          </a:xfrm>
        </p:grpSpPr>
        <p:grpSp>
          <p:nvGrpSpPr>
            <p:cNvPr id="111" name="Group 29"/>
            <p:cNvGrpSpPr/>
            <p:nvPr/>
          </p:nvGrpSpPr>
          <p:grpSpPr>
            <a:xfrm>
              <a:off x="5936400" y="2781360"/>
              <a:ext cx="2894760" cy="3315960"/>
              <a:chOff x="5936400" y="2781360"/>
              <a:chExt cx="2894760" cy="3315960"/>
            </a:xfrm>
          </p:grpSpPr>
          <p:sp>
            <p:nvSpPr>
              <p:cNvPr id="112" name="Rectangle 21"/>
              <p:cNvSpPr/>
              <p:nvPr/>
            </p:nvSpPr>
            <p:spPr>
              <a:xfrm>
                <a:off x="5936400" y="5790240"/>
                <a:ext cx="28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быть готовым к перегрузкам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Picture 22" descr="SHERO004"/>
              <p:cNvPicPr/>
              <p:nvPr/>
            </p:nvPicPr>
            <p:blipFill>
              <a:blip r:embed="rId3"/>
              <a:stretch/>
            </p:blipFill>
            <p:spPr>
              <a:xfrm>
                <a:off x="6227640" y="2781360"/>
                <a:ext cx="2603520" cy="309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" name="AutoShape 26"/>
            <p:cNvSpPr/>
            <p:nvPr/>
          </p:nvSpPr>
          <p:spPr>
            <a:xfrm>
              <a:off x="5435640" y="2781360"/>
              <a:ext cx="3708360" cy="3816360"/>
            </a:xfrm>
            <a:prstGeom prst="wedgeEllipseCallout">
              <a:avLst>
                <a:gd name="adj1" fmla="val -53722"/>
                <a:gd name="adj2" fmla="val -34773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0"/>
          <p:cNvGrpSpPr/>
          <p:nvPr/>
        </p:nvGrpSpPr>
        <p:grpSpPr>
          <a:xfrm>
            <a:off x="900000" y="549360"/>
            <a:ext cx="3384720" cy="2950920"/>
            <a:chOff x="900000" y="549360"/>
            <a:chExt cx="3384720" cy="2950920"/>
          </a:xfrm>
        </p:grpSpPr>
        <p:grpSp>
          <p:nvGrpSpPr>
            <p:cNvPr id="116" name="Group 17"/>
            <p:cNvGrpSpPr/>
            <p:nvPr/>
          </p:nvGrpSpPr>
          <p:grpSpPr>
            <a:xfrm>
              <a:off x="1692360" y="692280"/>
              <a:ext cx="2003040" cy="2288880"/>
              <a:chOff x="1692360" y="692280"/>
              <a:chExt cx="2003040" cy="2288880"/>
            </a:xfrm>
          </p:grpSpPr>
          <p:sp>
            <p:nvSpPr>
              <p:cNvPr id="117" name="Rectangle 11"/>
              <p:cNvSpPr/>
              <p:nvPr/>
            </p:nvSpPr>
            <p:spPr>
              <a:xfrm>
                <a:off x="1739880" y="2460960"/>
                <a:ext cx="1681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владеть новым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технологиями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" name="Picture 15" descr="MYNET086"/>
              <p:cNvPicPr/>
              <p:nvPr/>
            </p:nvPicPr>
            <p:blipFill>
              <a:blip r:embed="rId4"/>
              <a:stretch/>
            </p:blipFill>
            <p:spPr>
              <a:xfrm>
                <a:off x="1692360" y="692280"/>
                <a:ext cx="2003040" cy="1740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AutoShape 27"/>
            <p:cNvSpPr/>
            <p:nvPr/>
          </p:nvSpPr>
          <p:spPr>
            <a:xfrm>
              <a:off x="900000" y="549360"/>
              <a:ext cx="3384720" cy="2950920"/>
            </a:xfrm>
            <a:prstGeom prst="wedgeEllipseCallout">
              <a:avLst>
                <a:gd name="adj1" fmla="val 45310"/>
                <a:gd name="adj2" fmla="val 47796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1"/>
          <p:cNvGrpSpPr/>
          <p:nvPr/>
        </p:nvGrpSpPr>
        <p:grpSpPr>
          <a:xfrm>
            <a:off x="5003640" y="620640"/>
            <a:ext cx="3889440" cy="2160720"/>
            <a:chOff x="5003640" y="620640"/>
            <a:chExt cx="3889440" cy="2160720"/>
          </a:xfrm>
        </p:grpSpPr>
        <p:grpSp>
          <p:nvGrpSpPr>
            <p:cNvPr id="121" name="Group 20"/>
            <p:cNvGrpSpPr/>
            <p:nvPr/>
          </p:nvGrpSpPr>
          <p:grpSpPr>
            <a:xfrm>
              <a:off x="5360400" y="765000"/>
              <a:ext cx="3115800" cy="1814400"/>
              <a:chOff x="5360400" y="765000"/>
              <a:chExt cx="3115800" cy="1814400"/>
            </a:xfrm>
          </p:grpSpPr>
          <p:pic>
            <p:nvPicPr>
              <p:cNvPr id="122" name="Picture 18" descr="CASHCOLO"/>
              <p:cNvPicPr/>
              <p:nvPr/>
            </p:nvPicPr>
            <p:blipFill>
              <a:blip r:embed="rId5"/>
              <a:stretch/>
            </p:blipFill>
            <p:spPr>
              <a:xfrm>
                <a:off x="5843520" y="765000"/>
                <a:ext cx="1875960" cy="140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Rectangle 19"/>
              <p:cNvSpPr/>
              <p:nvPr/>
            </p:nvSpPr>
            <p:spPr>
              <a:xfrm>
                <a:off x="5360400" y="2059200"/>
                <a:ext cx="3115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адаптироваться в социальной и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профессиональной сфер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utoShape 28"/>
            <p:cNvSpPr/>
            <p:nvPr/>
          </p:nvSpPr>
          <p:spPr>
            <a:xfrm>
              <a:off x="5003640" y="620640"/>
              <a:ext cx="3889440" cy="2160720"/>
            </a:xfrm>
            <a:prstGeom prst="wedgeEllipseCallout">
              <a:avLst>
                <a:gd name="adj1" fmla="val -43879"/>
                <a:gd name="adj2" fmla="val 68148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0" y="1440"/>
            <a:ext cx="91440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Формир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амостоятель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хема 2" descr=""/>
          <p:cNvPicPr/>
          <p:nvPr/>
        </p:nvPicPr>
        <p:blipFill>
          <a:blip r:embed="rId1"/>
          <a:stretch/>
        </p:blipFill>
        <p:spPr>
          <a:xfrm>
            <a:off x="-255600" y="1908000"/>
            <a:ext cx="8210520" cy="40784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"/>
          <p:cNvPicPr/>
          <p:nvPr/>
        </p:nvPicPr>
        <p:blipFill>
          <a:blip r:embed="rId2"/>
          <a:stretch/>
        </p:blipFill>
        <p:spPr>
          <a:xfrm>
            <a:off x="0" y="4869000"/>
            <a:ext cx="1649520" cy="1716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0" y="189720"/>
            <a:ext cx="91440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чение самостоятель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хема 1" descr=""/>
          <p:cNvPicPr/>
          <p:nvPr/>
        </p:nvPicPr>
        <p:blipFill>
          <a:blip r:embed="rId1"/>
          <a:stretch/>
        </p:blipFill>
        <p:spPr>
          <a:xfrm>
            <a:off x="-60480" y="1042920"/>
            <a:ext cx="9228240" cy="5437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SURVEYCO"/>
          <p:cNvPicPr/>
          <p:nvPr/>
        </p:nvPicPr>
        <p:blipFill>
          <a:blip r:embed="rId2"/>
          <a:stretch/>
        </p:blipFill>
        <p:spPr>
          <a:xfrm>
            <a:off x="-324000" y="3487680"/>
            <a:ext cx="3257640" cy="3382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5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42480"/>
            <a:ext cx="9144000" cy="1373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я организации самостоятельной работы учащихся может включать в себя следующие пунк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хема 1" descr=""/>
          <p:cNvPicPr/>
          <p:nvPr/>
        </p:nvPicPr>
        <p:blipFill>
          <a:blip r:embed="rId1"/>
          <a:stretch/>
        </p:blipFill>
        <p:spPr>
          <a:xfrm>
            <a:off x="49320" y="1463760"/>
            <a:ext cx="8637480" cy="4717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4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2636280" y="11592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самостоятель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Таблица 8" descr=""/>
          <p:cNvPicPr/>
          <p:nvPr/>
        </p:nvPicPr>
        <p:blipFill>
          <a:blip r:embed="rId1"/>
          <a:stretch/>
        </p:blipFill>
        <p:spPr>
          <a:xfrm>
            <a:off x="249120" y="401760"/>
            <a:ext cx="8967960" cy="6132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Таблица 2" descr=""/>
          <p:cNvPicPr/>
          <p:nvPr/>
        </p:nvPicPr>
        <p:blipFill>
          <a:blip r:embed="rId1"/>
          <a:stretch/>
        </p:blipFill>
        <p:spPr>
          <a:xfrm>
            <a:off x="324000" y="762120"/>
            <a:ext cx="8643960" cy="4645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4:53:17Z</dcterms:created>
  <dc:creator>User</dc:creator>
  <dc:description/>
  <dc:language>en-US</dc:language>
  <cp:lastModifiedBy>20207</cp:lastModifiedBy>
  <dcterms:modified xsi:type="dcterms:W3CDTF">2014-02-20T17:27:43Z</dcterms:modified>
  <cp:revision>32</cp:revision>
  <dc:subject/>
  <dc:title>Слайд 1</dc:title>
</cp:coreProperties>
</file>