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50B9-6E36-4F01-BFE8-49A54907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0CB3-D547-40C4-BB5D-D6AD362B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FDD2-E37B-4424-BCA5-C297AEFE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5AC0-02C7-423B-8893-5E0E0B69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6BCC-17F4-4846-A7E8-44F1E7E2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37C6-D541-4E33-A546-B661B1BD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D4FB-F1B0-4FB6-8EE3-2822F87B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C45E-6EFC-4D1B-A4E7-AF29457D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1DF6-07DE-48FE-A7B8-06C8E443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93B5-4A4E-43D7-A265-BAC67B69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DA70-88DC-4681-A18A-C2D975B5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CD3-25B8-439F-AE5C-8262502E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B95A-1AAE-47CF-8841-248BD056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A062-6587-462C-98D2-3E7CA013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20D8-E4D8-4C75-B3FB-0B9085F5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CCE0-CAD7-42B6-9B37-781FCA47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8B13-D47A-407E-8869-B0F80797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BC1-9D69-4D0A-B35C-8DDB5A6A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1EC4-B23B-46C5-A25C-E4A7451C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310-55E5-4110-938A-176F3D33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2B6-165B-492B-A171-DCD1E046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177-D9E7-422D-9A49-5B91D2C9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9CD2-D019-47E9-8F63-D9D84FDF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72C-B33F-4E73-BE33-CC604091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25C2-3467-4C48-AE58-87C29A22281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BC9E-3DA2-414D-8A32-8FDC8231CB8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ыжки в высоту с разбега способом  «перешагивание»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5 класс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280" y="5638680"/>
            <a:ext cx="563904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ргунова Е.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БОУ « Гимназия № 30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сточники дополнительных сведени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.В. Маслов ., В.С. Кузнецов.,Г.А. Колодницкий « Внеурочная деятельность учащихся» Легкая атлетика. 2011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.Г. Арзуманов « Физическое воспитание в школе»2008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ехника прыжка в высоту 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Основные части :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бе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талкива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еход через план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зем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uzzle2"/>
          <p:cNvSpPr/>
          <p:nvPr/>
        </p:nvSpPr>
        <p:spPr>
          <a:xfrm>
            <a:off x="2286000" y="4876920"/>
            <a:ext cx="3048120" cy="1981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33"/>
                </a:solidFill>
                <a:latin typeface="Times New Roman"/>
              </a:rPr>
              <a:t>Разбе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uzzle3"/>
          <p:cNvSpPr/>
          <p:nvPr/>
        </p:nvSpPr>
        <p:spPr>
          <a:xfrm>
            <a:off x="1066680" y="4343400"/>
            <a:ext cx="2057400" cy="228600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33"/>
                </a:solidFill>
                <a:latin typeface="Times New Roman"/>
              </a:rPr>
              <a:t>5 класс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uzzle3"/>
          <p:cNvSpPr/>
          <p:nvPr/>
        </p:nvSpPr>
        <p:spPr>
          <a:xfrm>
            <a:off x="4572000" y="4038480"/>
            <a:ext cx="2057400" cy="28195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33"/>
                </a:solidFill>
                <a:latin typeface="Times New Roman"/>
              </a:rPr>
              <a:t>Отталки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33"/>
                </a:solidFill>
                <a:latin typeface="Times New Roman"/>
              </a:rPr>
              <a:t>прыжок в высоту с разбега способом «перешагивание»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077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бег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-8 беговых шагов по прямой линии под углом 30-45 к планке со стороны маховой ног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упни ног ставятся прямолинейно вдоль линии разбег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ки работают в обычной беговой координ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мый длинный шаг- предпослед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опа толчковой ноги активно и быстро с пятки и сразу же включается отталк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бородок прижат к груди, руки на последнем шаге отводятся наза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тталкива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изводится дальней от планки ногой на расстоянии60-80 см от проекции пла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толчке левой ногой планка находится справа от прыгу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ирокое и быстрое маховое движение правой / левой/ ногой, после отрыва ее от опоры в последнем шаг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х прямой ногой / ускоренно, с большой амплитудой/в высшей точке может слегка согнуться в коле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уловище вертикально , руки слегка согнуты, активно вверх -вперед на уровень головы или чуть выш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х одновременно руками и ног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талкивание заканчивается полным выпрямлением толчковой ног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Прыжки в высоту с разбега способом  «перешагивание»5 класс /разбег, отталкивание/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077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етодические указания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сто толчка, подойти к основанию ближней стойки, встать к ней спиной и отмерить 2-2,5 стопы от планки /перпендикулярно ей/ на расстоянии вытянутой ру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места толчка отмерить в сторону разбега 10-18 прогулочных шагов/ четное число/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бег выполняется по прямой в умеренном темп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тталкивании важно согласованность маховых движений ноги и рук с работой толчковой ног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чинать обучение с маховых движений свободной ногой / носок стопы взят на себя/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2560" y="609480"/>
            <a:ext cx="8080560" cy="5486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33"/>
                </a:solidFill>
                <a:latin typeface="Times New Roman"/>
              </a:rPr>
              <a:t>Обучение прыжкам в высоту с разбега способом «перешагивание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772400" cy="4038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Упражнения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5000"/>
          </a:bodyPr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Имитация техники перехода через планку                            « перешагивани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оя боком к планке на скамейке, поднять прямую маховую ногу и опустить ее за скамейку, сразу же поднимая прямую толчковую ног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Переход через планку « перешагиванием» в ходь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С отталкиванием вверх- вперед и махом вдоль планки/ без перехода через планку/.Приземление на толчковую ног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ыжок со сменой положения ног в воздухе / ножницы/ и и.п.- толчковая впереди, маховая сзад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Маховые движения свободной ногой вперед-вверх, держась рукой за рейку гимнастической ст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 же , в сочетании с маховым движением одноименной руки и подъемом на переднюю часть стопы толчковой ноги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ена</cp:lastModifiedBy>
  <dcterms:modified xsi:type="dcterms:W3CDTF">2012-04-15T04:53:3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