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51DC-5072-499C-9758-449882449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BB50-8ECD-44D5-AB35-E6BA0088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9321-39D8-4440-B16B-DE2AD92FF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4C51-76F9-455C-B26A-54671AB30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13DA-D8A2-4451-8418-C8FAB5430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89E1-6B7E-455D-9961-C411FB41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C1988-F841-490C-AFB1-1E7677FF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BC4D-E139-4AD6-A70A-0021FE28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D0CF7-AA98-4EAA-9589-5CD49E9A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724A-C8BF-4E75-AA0F-8D2C3032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453D-3FCF-4EA2-8AAB-A9D41BF3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5E0A-6C2F-4CFC-9564-D02C95FD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A4DC-CE23-4F56-8B67-D8A7AE4F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71887-30E1-4F11-B202-EF94F474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4F936-C2A6-4561-99A8-F4D52B06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2EBE-03B4-4FF8-9DA4-7B7631055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A15C-D7BD-4DAA-B749-F14E231FA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377B-0DE7-4993-9818-30E9744A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360B-A373-415F-A381-4EC96069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B4AE-83D4-4A6D-B547-B60FA674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DECA-26C0-4181-9837-7F21ACF7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1DE4-FC17-4FAC-ACFE-C2EB13DC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55FD-0A38-4E87-9C82-EB2C8563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B9F4-02B1-4D06-939F-36A6883E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6EE7-BD3D-44AD-BDCA-9F127295AE2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CFD0-D69E-45B8-9371-4369D2012FA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рыжки в высоту с разбега способом  «перешагивание»</a:t>
            </a: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5 класс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52280" y="5638680"/>
            <a:ext cx="563904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ргунова Е.В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БОУ « Гимназия № 30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Источники дополнительных сведений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.В. Маслов ., В.С. Кузнецов.,Г.А. Колодницкий « Внеурочная деятельность учащихся» Легкая атлетика. 2011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.Г. Арзуманов « Физическое воспитание в школе»2008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Техника прыжка в высоту 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Основные части :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бе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талкиван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ереход через планк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земл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uzzle2"/>
          <p:cNvSpPr/>
          <p:nvPr/>
        </p:nvSpPr>
        <p:spPr>
          <a:xfrm>
            <a:off x="2286000" y="4876920"/>
            <a:ext cx="3048120" cy="1981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33"/>
                </a:solidFill>
                <a:latin typeface="Times New Roman"/>
              </a:rPr>
              <a:t>Разбе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uzzle3"/>
          <p:cNvSpPr/>
          <p:nvPr/>
        </p:nvSpPr>
        <p:spPr>
          <a:xfrm>
            <a:off x="1066680" y="4343400"/>
            <a:ext cx="2057400" cy="2286000"/>
          </a:xfrm>
          <a:prstGeom prst="pi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33"/>
                </a:solidFill>
                <a:latin typeface="Times New Roman"/>
              </a:rPr>
              <a:t>5 класс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uzzle3"/>
          <p:cNvSpPr/>
          <p:nvPr/>
        </p:nvSpPr>
        <p:spPr>
          <a:xfrm>
            <a:off x="4572000" y="4038480"/>
            <a:ext cx="2057400" cy="281952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33"/>
                </a:solidFill>
                <a:latin typeface="Times New Roman"/>
              </a:rPr>
              <a:t>Отталкива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33"/>
                </a:solidFill>
                <a:latin typeface="Times New Roman"/>
              </a:rPr>
              <a:t>прыжок в высоту с разбега способом «перешагивание»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8077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бег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6-8 беговых шагов по прямой линии под углом 30-45 к планке со стороны маховой ног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упни ног ставятся прямолинейно вдоль линии разбег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уки работают в обычной беговой координац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амый длинный шаг- предпослед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опа толчковой ноги активно и быстро с пятки и сразу же включается отталкив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бородок прижат к груди, руки на последнем шаге отводятся наза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Отталкива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изводится дальней от планки ногой на расстоянии60-80 см от проекции план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толчке левой ногой планка находится справа от прыгун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Широкое и быстрое маховое движение правой / левой/ ногой, после отрыва ее от опоры в последнем шаг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х прямой ногой / ускоренно, с большой амплитудой/в высшей точке может слегка согнуться в колен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уловище вертикально , руки слегка согнуты, активно вверх -вперед на уровень головы или чуть выш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х одновременно руками и ног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талкивание заканчивается полным выпрямлением толчковой ног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Прыжки в высоту с разбега способом  «перешагивание»5 класс /разбег, отталкивание/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8077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Методические указания: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сто толчка, подойти к основанию ближней стойки, встать к ней спиной и отмерить 2-2,5 стопы от планки /перпендикулярно ей/ на расстоянии вытянутой ру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 места толчка отмерить в сторону разбега 10-18 прогулочных шагов/ четное число/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бег выполняется по прямой в умеренном темп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отталкивании важно согласованность маховых движений ноги и рук с работой толчковой ног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чинать обучение с маховых движений свободной ногой / носок стопы взят на себя/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82560" y="609480"/>
            <a:ext cx="8080560" cy="5486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33"/>
                </a:solidFill>
                <a:latin typeface="Times New Roman"/>
              </a:rPr>
              <a:t>Обучение прыжкам в высоту с разбега способом «перешагивание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772400" cy="40388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Упражнения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85000"/>
          </a:bodyPr>
          <a:p>
            <a:pPr marL="2916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Имитация техники перехода через планку                            « перешагивание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оя боком к планке на скамейке, поднять прямую маховую ногу и опустить ее за скамейку, сразу же поднимая прямую толчковую ног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Переход через планку « перешагиванием» в ходьб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С отталкиванием вверх- вперед и махом вдоль планки/ без перехода через планку/.Приземление на толчковую ног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ыжок со сменой положения ног в воздухе / ножницы/ и и.п.- толчковая впереди, маховая сзад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 Маховые движения свободной ногой вперед-вверх, держась рукой за рейку гимнастической стен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о же , в сочетании с маховым движением одноименной руки и подъемом на переднюю часть стопы толчковой ноги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ена</cp:lastModifiedBy>
  <dcterms:modified xsi:type="dcterms:W3CDTF">2012-04-15T04:53:3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