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B0D-13DE-4033-8BDA-7AB8D0F2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632-BA12-4040-8705-1BE21C62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AF2-A4F8-4771-A5F8-F54D671D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4FB-5BB7-4E92-84A3-7F3F0F4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CD5A-BC44-4E18-9ED7-61A727B0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4A3-AB8B-4C0F-8067-8D5946BC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55C-C849-45DA-8444-6FC1E0F3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DD6D-6C5A-4CFC-8520-46EFE674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9964-3F59-4CF1-84B9-2193061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7E4-BA88-4E12-9C85-56A01FFC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104-EA6A-43A2-B966-4CE56F7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BC5-ED82-4FDE-AA26-3789F8F7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8225-5A55-4A8B-8CEB-FC31995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76F1-E6BA-4EAA-8C05-8416377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F3EC-BECF-46D1-B77F-7E1A93AD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2C97-F790-463A-88A3-B40AC795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A1D1-E44E-4245-B7E2-827A543A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1CA-8E8A-4C4B-9060-4FE95E83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349-344D-4F1E-BC1B-42298269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486-D435-481C-8C83-E5BB7AF3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FC8-A172-477F-B7D5-13CFDC1F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C71-3A55-4CB9-9B10-EE2A4C1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F5A-A247-4A4C-AB35-6CE1581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CCC-4C4B-4D8A-AEA8-BD5E961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CA72-CEEA-40C8-9F65-CE192C2951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2701-A5A7-48C4-B3FD-B90D56F799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ыжки в высоту с разбега способом  «перешагивание»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5 клас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5638680"/>
            <a:ext cx="56390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гунова Е.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БОУ « Гимназия № 30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сточники дополнительных свед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.В. Маслов ., В.С. Кузнецов.,Г.А. Колодницкий « Внеурочная деятельность учащихся» Легкая атлетика. 2011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Г. Арзуманов « Физическое воспитание в школе»2008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хника прыжка в высоту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сновные част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е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талкив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 через план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ем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uzzle2"/>
          <p:cNvSpPr/>
          <p:nvPr/>
        </p:nvSpPr>
        <p:spPr>
          <a:xfrm>
            <a:off x="2286000" y="4876920"/>
            <a:ext cx="3048120" cy="19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Разбе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uzzle3"/>
          <p:cNvSpPr/>
          <p:nvPr/>
        </p:nvSpPr>
        <p:spPr>
          <a:xfrm>
            <a:off x="1066680" y="4343400"/>
            <a:ext cx="2057400" cy="2286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5 класс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uzzle3"/>
          <p:cNvSpPr/>
          <p:nvPr/>
        </p:nvSpPr>
        <p:spPr>
          <a:xfrm>
            <a:off x="4572000" y="4038480"/>
            <a:ext cx="2057400" cy="28195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тталки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Times New Roman"/>
              </a:rPr>
              <a:t>прыжок в высоту с разбега способом «перешагивание»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б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8 беговых шагов по прямой линии под углом 30-45 к планке со стороны мах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пни ног ставятся прямолинейно вдоль линии разбе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и работают в обычной беговой координ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длинный шаг- предпослед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па толчковой ноги активно и быстро с пятки и сразу же включается отталк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бородок прижат к груди, руки на последнем шаге отводятся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тталки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зводится дальней от планки ногой на расстоянии60-80 см от проекции пла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олчке левой ногой планка находится справа от прыгу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ирокое и быстрое маховое движение правой / левой/ ногой, после отрыва ее от опоры в последнем ша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прямой ногой / ускоренно, с большой амплитудой/в высшей точке может слегка согнуться в коле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ловище вертикально , руки слегка согнуты, активно вверх -вперед на уровень головы или чуть вы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одновременно руками и но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талкивание заканчивается полным выпрямлением толчковой но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ыжки в высоту с разбега способом  «перешагивание»5 класс /разбег, отталкивание/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одические указания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толчка, подойти к основанию ближней стойки, встать к ней спиной и отмерить 2-2,5 стопы от планки /перпендикулярно ей/ на расстоянии вытянутой ру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места толчка отмерить в сторону разбега 10-18 прогулочных шагов/ четное число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бег выполняется по прямой в умеренном тем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талкивании важно согласованность маховых движений ноги и рук с работой толчк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инать обучение с маховых движений свободной ногой / носок стопы взят на себя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2560" y="609480"/>
            <a:ext cx="808056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33"/>
                </a:solidFill>
                <a:latin typeface="Times New Roman"/>
              </a:rPr>
              <a:t>Обучение прыжкам в высоту с разбега способом «перешагивани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пражнен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5000"/>
          </a:bodyPr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Имитация техники перехода через планку                            « перешагива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я боком к планке на скамейке, поднять прямую маховую ногу и опустить ее за скамейку, сразу же поднимая прямую толчковую ног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ереход через планку « перешагиванием» в ходь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С отталкиванием вверх- вперед и махом вдоль планки/ без перехода через планку/.Приземление на толчковую н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ыжок со сменой положения ног в воздухе / ножницы/ и и.п.- толчковая впереди, маховая сзад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Маховые движения свободной ногой вперед-вверх, держась рукой за рейку гимнастической ст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 же , в сочетании с маховым движением одноименной руки и подъемом на переднюю часть стопы толчковой ног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2-04-15T04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