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E5C-D161-4E0F-9DE1-E338DD21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D2B-7EA3-41A0-9D3C-748B4B7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0C7-8F0E-4DC2-A351-D64D59E1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CC5-05B4-4777-B113-4F08D03B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AB4-5882-4CD7-8B6C-A8050C4A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3B58-E250-4944-A7CD-8A29B51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2D15-D7A3-42D5-8A41-A7CF2D1A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865-9108-46C9-AA5B-009520A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E4C-B4CF-4125-A5F3-F27B8A6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1776-797C-4286-8A32-5F9857F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931D-AEC6-413B-9F85-D036B78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11E-B000-43DE-99A5-F3EFB0D5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0CC5-1A04-4613-9C97-C17D6BC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C80F-5399-473D-BC97-3460757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258D-F8EF-4359-9F9A-2F70CF44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F13-A16C-4710-A207-92CFE4CE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D160-839C-43B2-A370-D5F77629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253-5747-4F3A-B7ED-394C3331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9DE-40AC-4814-BC0F-01EF6E0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F79-DD8E-4263-8706-BB523226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6B5-4C4E-4684-9501-3E7C864B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F2D-1511-4102-8E2C-D3EB7A64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E52-71B6-4BBA-A5E3-E11FFC2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0DA-AC20-44E4-93D0-3C6DFC6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A95B-E7E6-4B28-8285-4553CA70A6CB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5941-5524-4F3F-83AA-136EF3A800AE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200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ebra &amp; Geomet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ertai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916360" y="3429000"/>
            <a:ext cx="180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m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3429000"/>
            <a:ext cx="201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. Shevchenk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. Trushenk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4248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60360" y="909360"/>
            <a:ext cx="741528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ндр- тело ограниченное цилиндрической                 поверхностью и двумя окружностями, расположенных в  параллельных плоскостях, с границам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068640"/>
            <a:ext cx="2160360" cy="936720"/>
          </a:xfrm>
          <a:prstGeom prst="ellipse">
            <a:avLst/>
          </a:prstGeom>
          <a:solidFill>
            <a:srgbClr val="c0c0c0">
              <a:alpha val="6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5229360"/>
            <a:ext cx="2160360" cy="936360"/>
          </a:xfrm>
          <a:prstGeom prst="ellipse">
            <a:avLst/>
          </a:prstGeom>
          <a:solidFill>
            <a:srgbClr val="c0c0c0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500280"/>
            <a:ext cx="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3500280"/>
            <a:ext cx="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86064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933720"/>
            <a:ext cx="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3933720"/>
            <a:ext cx="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86064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3962520"/>
            <a:ext cx="163800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9040" y="3962520"/>
            <a:ext cx="179568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4610160"/>
            <a:ext cx="150804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снования цили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581360"/>
            <a:ext cx="914400" cy="6098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492280"/>
            <a:ext cx="0" cy="4365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6248520"/>
            <a:ext cx="2016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729" y="4050"/>
                </a:moveTo>
                <a:lnTo>
                  <a:pt x="-816" y="40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сь цили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350028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573408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537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22920" y="261000"/>
            <a:ext cx="510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Понятие цилиндра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97360"/>
            <a:ext cx="2736720" cy="338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421000"/>
            <a:ext cx="0" cy="4437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00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09300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3500280"/>
            <a:ext cx="1368360" cy="25927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3141720"/>
            <a:ext cx="1584360" cy="3095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3500280"/>
            <a:ext cx="1584360" cy="2376720"/>
          </a:xfrm>
          <a:prstGeom prst="rect">
            <a:avLst/>
          </a:prstGeom>
          <a:solidFill>
            <a:srgbClr val="3366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34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илиндр может быть получен вращением прямоугольника вокруг одной из его сто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2565360"/>
            <a:ext cx="0" cy="410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019640" y="3500280"/>
            <a:ext cx="158436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19640" y="3500280"/>
            <a:ext cx="129708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20000" y="3500280"/>
            <a:ext cx="1008000" cy="15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020000" y="3500280"/>
            <a:ext cx="720720" cy="100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019640" y="3500280"/>
            <a:ext cx="36036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08360" y="3933720"/>
            <a:ext cx="1295640" cy="194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67640" y="4365720"/>
            <a:ext cx="93672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956360" y="4797360"/>
            <a:ext cx="64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243640" y="53737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евое с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5445000"/>
            <a:ext cx="2016360" cy="0"/>
          </a:xfrm>
          <a:prstGeom prst="line">
            <a:avLst/>
          </a:prstGeom>
          <a:ln w="57240">
            <a:solidFill>
              <a:srgbClr val="928c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308720" y="3213000"/>
            <a:ext cx="503280" cy="2872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13000"/>
            <a:ext cx="11527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87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020000" y="3500280"/>
            <a:ext cx="0" cy="2376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500280"/>
            <a:ext cx="0" cy="2376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508640"/>
            <a:ext cx="1009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6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26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44444E-006 -1.04046E-006 C -0.01059 0.00555 -0.01614 0.0215 -0.02638 0.02659 C -0.04253 0.05387 -0.08628 0.0333 -0.09756 0.03283 C -0.11788 0.0215 -0.13993 0.01318 -0.16128 0.00879 C -0.16527 -0.01017 -0.15816 -0.03006 -0.14635 -0.03815 C -0.12795 -0.05063 -0.10798 -0.05457 -0.08836 -0.0585 C -0.07274 -0.0578 -0.05694 -0.05757 -0.04131 -0.05595 C -0.03524 -0.05526 -0.03559 -0.05063 -0.03003 -0.0467 C -0.02638 -0.04439 -0.01875 -0.04092 -0.01875 -0.04069 C -0.0177 -0.03815 -0.01684 -0.03468 -0.01527 -0.03237 C -0.01006 -0.02566 -0.00503 -0.02774 -0.00208 -0.01457 C -0.00104 -0.00994 -0.00086 -0.00462 -4.44444E-006 -1.04046E-006 Z">
                                      <p:cBhvr>
                                        <p:cTn id="1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26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260"/>
                            </p:stCondLst>
                            <p:childTnLst>
                              <p:par>
                                <p:cTn id="1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67240" y="876600"/>
            <a:ext cx="7844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роны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 представляют собой 2 края разреза боковой поверхности цилинд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4076640"/>
            <a:ext cx="5327640" cy="108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076640"/>
            <a:ext cx="57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5157720"/>
            <a:ext cx="57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35280" y="4076280"/>
            <a:ext cx="0" cy="10810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4076640"/>
            <a:ext cx="0" cy="10810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4076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76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5373720"/>
            <a:ext cx="532764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23640" y="5373720"/>
            <a:ext cx="532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4437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54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  <a:ea typeface="Arial"/>
              </a:rPr>
              <a:t>¶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421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прямоугольник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зывается разверткой цилиндра по образующ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Общие формулы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26542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¶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цил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=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¶r(r+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338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 :             L. Kinzabulat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:             A. Shevc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. Trushen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выражаем большую благодарность всем тем кто принимал участие в съёмках фильма, в частности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r. Dr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 предоставленный саундтрек, написанный специально к премьере нашего филь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8:04:18Z</dcterms:created>
  <dc:creator>Роман Анатольевич</dc:creator>
  <dc:description/>
  <dc:language>en-US</dc:language>
  <cp:lastModifiedBy>1</cp:lastModifiedBy>
  <dcterms:modified xsi:type="dcterms:W3CDTF">2008-11-06T16:04:21Z</dcterms:modified>
  <cp:revision>10</cp:revision>
  <dc:subject/>
  <dc:title>Цилиндр</dc:title>
</cp:coreProperties>
</file>