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E50-C086-4130-B636-384E56D1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563-80FA-47DD-AB74-1E2DD5EA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E73-74C8-4C77-ABDD-C0BB947F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5B3-4AE7-4126-A58E-7E366BB3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642B-4DDE-4C75-9FF7-90C5F67B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A995-F9CB-4A52-862A-6A7D731C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7BF8-AE14-4B94-B64B-10144BD3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81C3-6872-4E5C-A1E6-BEDF1A51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81CD-E84B-4EB8-8153-D2954EA6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12B3-24DE-4AB6-9834-2C653BE2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EC5A-8FE3-4FFD-8307-6FDEADEF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0BB-AB09-4389-B0E5-C8003744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E8EC-AA3C-4F69-9E54-EF22A7FB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166E-5035-405C-A709-0BCC2593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88F2-3080-4D54-BF9D-C38454AA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39FA-2653-4838-9593-D348078F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D464-D549-4697-A9B2-7C85B94C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3B8-C94A-464E-BC69-C8B4B514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145-3E9D-48BA-9898-C21AB897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0E2-DCEB-4E4A-A331-841CAA49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046-7847-423D-A678-9C861415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CA2-DE80-4D01-A04A-9A0426ED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424-3F28-471F-90B1-F1B72C9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F7B-187A-4E98-A4F5-C95B1EC8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3E8C-231A-4F52-BEF7-A96779D29596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55F5-C4DF-454F-8596-A1508EE29E07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7672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2000" y="908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ebra &amp; Geometri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tertai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916360" y="3429000"/>
            <a:ext cx="180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m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3429000"/>
            <a:ext cx="201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. Shevchenk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. Trushenk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987640" y="4724280"/>
            <a:ext cx="4248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60360" y="909360"/>
            <a:ext cx="741528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линдр- тело ограниченное цилиндрической                 поверхностью и двумя окружностями, расположенных в  параллельных плоскостях, с границам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068640"/>
            <a:ext cx="2160360" cy="936720"/>
          </a:xfrm>
          <a:prstGeom prst="ellipse">
            <a:avLst/>
          </a:prstGeom>
          <a:solidFill>
            <a:srgbClr val="c0c0c0">
              <a:alpha val="6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5229360"/>
            <a:ext cx="2160360" cy="936360"/>
          </a:xfrm>
          <a:prstGeom prst="ellipse">
            <a:avLst/>
          </a:prstGeom>
          <a:solidFill>
            <a:srgbClr val="c0c0c0">
              <a:alpha val="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3500280"/>
            <a:ext cx="0" cy="223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3500280"/>
            <a:ext cx="0" cy="223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860640"/>
            <a:ext cx="0" cy="20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3933720"/>
            <a:ext cx="0" cy="21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4005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4005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4005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3933720"/>
            <a:ext cx="0" cy="21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3860640"/>
            <a:ext cx="0" cy="20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3962520"/>
            <a:ext cx="1638000" cy="609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9040" y="3962520"/>
            <a:ext cx="1795680" cy="609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4610160"/>
            <a:ext cx="1508040" cy="60948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Основания цили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581360"/>
            <a:ext cx="914400" cy="6098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492280"/>
            <a:ext cx="0" cy="4365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6248520"/>
            <a:ext cx="20160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729" y="4050"/>
                </a:moveTo>
                <a:lnTo>
                  <a:pt x="-816" y="40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Ось цили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306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350028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573408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5373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122920" y="261000"/>
            <a:ext cx="510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Понятие цилиндра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997360"/>
            <a:ext cx="2736720" cy="3384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2421000"/>
            <a:ext cx="0" cy="4437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002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09300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3500280"/>
            <a:ext cx="1368360" cy="25927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20000" y="3141720"/>
            <a:ext cx="1584360" cy="3095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20000" y="3500280"/>
            <a:ext cx="1584360" cy="2376720"/>
          </a:xfrm>
          <a:prstGeom prst="rect">
            <a:avLst/>
          </a:prstGeom>
          <a:solidFill>
            <a:srgbClr val="3366ff">
              <a:alpha val="1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341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илиндр может быть получен вращением прямоугольника вокруг одной из его стор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2565360"/>
            <a:ext cx="0" cy="410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019640" y="3500280"/>
            <a:ext cx="158436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019640" y="3500280"/>
            <a:ext cx="129708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20000" y="3500280"/>
            <a:ext cx="1008000" cy="15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020000" y="3500280"/>
            <a:ext cx="720720" cy="100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019640" y="3500280"/>
            <a:ext cx="36036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08360" y="3933720"/>
            <a:ext cx="1295640" cy="194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67640" y="4365720"/>
            <a:ext cx="93672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956360" y="4797360"/>
            <a:ext cx="6476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8243640" y="5373720"/>
            <a:ext cx="3603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евое с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5445000"/>
            <a:ext cx="2016360" cy="0"/>
          </a:xfrm>
          <a:prstGeom prst="line">
            <a:avLst/>
          </a:prstGeom>
          <a:ln w="57240">
            <a:solidFill>
              <a:srgbClr val="928c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308720" y="3213000"/>
            <a:ext cx="503280" cy="28728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13000"/>
            <a:ext cx="115272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587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020000" y="3500280"/>
            <a:ext cx="0" cy="23767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500280"/>
            <a:ext cx="0" cy="23767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4508640"/>
            <a:ext cx="10098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26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26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4.44444E-006 -1.04046E-006 C -0.01059 0.00555 -0.01614 0.0215 -0.02638 0.02659 C -0.04253 0.05387 -0.08628 0.0333 -0.09756 0.03283 C -0.11788 0.0215 -0.13993 0.01318 -0.16128 0.00879 C -0.16527 -0.01017 -0.15816 -0.03006 -0.14635 -0.03815 C -0.12795 -0.05063 -0.10798 -0.05457 -0.08836 -0.0585 C -0.07274 -0.0578 -0.05694 -0.05757 -0.04131 -0.05595 C -0.03524 -0.05526 -0.03559 -0.05063 -0.03003 -0.0467 C -0.02638 -0.04439 -0.01875 -0.04092 -0.01875 -0.04069 C -0.0177 -0.03815 -0.01684 -0.03468 -0.01527 -0.03237 C -0.01006 -0.02566 -0.00503 -0.02774 -0.00208 -0.01457 C -0.00104 -0.00994 -0.00086 -0.00462 -4.44444E-006 -1.04046E-006 Z">
                                      <p:cBhvr>
                                        <p:cTn id="15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260"/>
                            </p:stCondLst>
                            <p:childTnLst>
                              <p:par>
                                <p:cTn id="1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260"/>
                            </p:stCondLst>
                            <p:childTnLst>
                              <p:par>
                                <p:cTn id="1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67240" y="876600"/>
            <a:ext cx="7844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роны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- представляют собой 2 края разреза боковой поверхности цилиндр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4076640"/>
            <a:ext cx="5327640" cy="108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4076640"/>
            <a:ext cx="57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5157720"/>
            <a:ext cx="57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35280" y="4076280"/>
            <a:ext cx="0" cy="10810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4076640"/>
            <a:ext cx="0" cy="10810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4076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7664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5373720"/>
            <a:ext cx="5327640" cy="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123640" y="5373720"/>
            <a:ext cx="532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4437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544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  <a:ea typeface="Arial"/>
              </a:rPr>
              <a:t>¶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421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т прямоугольник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B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зывается разверткой цилиндра по образующе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Общие формулы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265428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ок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¶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цил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=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¶r(r+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3338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 :             L. Kinzabulat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:             A. Shevchen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. Trushenk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же выражаем большую благодарность всем тем кто принимал участие в съёмках фильма, в частности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r. Dr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за предоставленный саундтрек, написанный специально к премьере нашего филь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8:04:18Z</dcterms:created>
  <dc:creator>Роман Анатольевич</dc:creator>
  <dc:description/>
  <dc:language>en-US</dc:language>
  <cp:lastModifiedBy>1</cp:lastModifiedBy>
  <dcterms:modified xsi:type="dcterms:W3CDTF">2008-11-06T16:04:21Z</dcterms:modified>
  <cp:revision>10</cp:revision>
  <dc:subject/>
  <dc:title>Цилиндр</dc:title>
</cp:coreProperties>
</file>