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9E3-3882-4ADD-8E60-7C2E0BD2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F3A-B05B-4573-87B5-1514C21A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4F8-236A-4886-8481-5AE51901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DEE-2071-4110-A3B5-D7FB34F5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2ACB-2998-40B0-8765-765851CC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8991-7473-4F90-82E8-B4242498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1AE5-82A3-43ED-9168-9E0D190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C5CA-295E-4639-88C9-AAB96171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2691-E19B-4DE2-83B3-3DC79E58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79F7-0B0F-4837-974A-1251B368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BD26-C610-44E5-9963-99B3979D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B2A-C593-4531-9768-31DFF564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018A-8EE9-4463-AD04-AC331DD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26F2-5FA9-4008-92C9-1A61F1E4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7EF3-86BD-4311-854E-B109D36C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70D4-248E-4495-9B7F-77DFF980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D6BC-247E-4BC0-91EC-810BB465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E83-5724-423D-99AE-B871D62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178-F082-423F-BFBD-6B1347E5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01F-8423-4066-B259-8D72EC59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F66-79FF-40B4-95CF-4755927B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0E1-AF5E-4620-94FB-C43453EF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B5C-B7F5-4DE0-B4F7-9BD49A96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E7E-C752-4A62-9954-AFA56B64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6F90-6B17-4BEB-AB45-3772167AE74E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BEBE-5DA3-4F16-B60E-35A85EB5803D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2000" y="908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ebra &amp; Geometri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ertai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916360" y="3429000"/>
            <a:ext cx="180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m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3429000"/>
            <a:ext cx="201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. Shevchenk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. Trushenk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4248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60360" y="909360"/>
            <a:ext cx="741528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ндр- тело ограниченное цилиндрической                 поверхностью и двумя окружностями, расположенных в  параллельных плоскостях, с границам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068640"/>
            <a:ext cx="2160360" cy="936720"/>
          </a:xfrm>
          <a:prstGeom prst="ellipse">
            <a:avLst/>
          </a:prstGeom>
          <a:solidFill>
            <a:srgbClr val="c0c0c0">
              <a:alpha val="6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5229360"/>
            <a:ext cx="2160360" cy="936360"/>
          </a:xfrm>
          <a:prstGeom prst="ellipse">
            <a:avLst/>
          </a:prstGeom>
          <a:solidFill>
            <a:srgbClr val="c0c0c0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500280"/>
            <a:ext cx="0" cy="223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3500280"/>
            <a:ext cx="0" cy="223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860640"/>
            <a:ext cx="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933720"/>
            <a:ext cx="0" cy="21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4005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4005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4005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3933720"/>
            <a:ext cx="0" cy="21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3860640"/>
            <a:ext cx="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3962520"/>
            <a:ext cx="163800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9040" y="3962520"/>
            <a:ext cx="179568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4610160"/>
            <a:ext cx="150804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Основания цили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581360"/>
            <a:ext cx="914400" cy="6098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492280"/>
            <a:ext cx="0" cy="4365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6248520"/>
            <a:ext cx="20160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729" y="4050"/>
                </a:moveTo>
                <a:lnTo>
                  <a:pt x="-816" y="40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Ось цили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350028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573408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5373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122920" y="261000"/>
            <a:ext cx="510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Понятие цилиндра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997360"/>
            <a:ext cx="2736720" cy="3384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2421000"/>
            <a:ext cx="0" cy="4437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002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09300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3500280"/>
            <a:ext cx="1368360" cy="25927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3141720"/>
            <a:ext cx="1584360" cy="3095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3500280"/>
            <a:ext cx="1584360" cy="2376720"/>
          </a:xfrm>
          <a:prstGeom prst="rect">
            <a:avLst/>
          </a:prstGeom>
          <a:solidFill>
            <a:srgbClr val="3366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341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илиндр может быть получен вращением прямоугольника вокруг одной из его стор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2565360"/>
            <a:ext cx="0" cy="410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019640" y="3500280"/>
            <a:ext cx="158436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019640" y="3500280"/>
            <a:ext cx="129708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20000" y="3500280"/>
            <a:ext cx="1008000" cy="15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020000" y="3500280"/>
            <a:ext cx="720720" cy="100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019640" y="3500280"/>
            <a:ext cx="36036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08360" y="3933720"/>
            <a:ext cx="1295640" cy="194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67640" y="4365720"/>
            <a:ext cx="93672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956360" y="4797360"/>
            <a:ext cx="6476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8243640" y="5373720"/>
            <a:ext cx="360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евое с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5445000"/>
            <a:ext cx="2016360" cy="0"/>
          </a:xfrm>
          <a:prstGeom prst="line">
            <a:avLst/>
          </a:prstGeom>
          <a:ln w="57240">
            <a:solidFill>
              <a:srgbClr val="928c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308720" y="3213000"/>
            <a:ext cx="503280" cy="2872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13000"/>
            <a:ext cx="11527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87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020000" y="3500280"/>
            <a:ext cx="0" cy="2376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500280"/>
            <a:ext cx="0" cy="2376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4508640"/>
            <a:ext cx="10098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26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26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4.44444E-006 -1.04046E-006 C -0.01059 0.00555 -0.01614 0.0215 -0.02638 0.02659 C -0.04253 0.05387 -0.08628 0.0333 -0.09756 0.03283 C -0.11788 0.0215 -0.13993 0.01318 -0.16128 0.00879 C -0.16527 -0.01017 -0.15816 -0.03006 -0.14635 -0.03815 C -0.12795 -0.05063 -0.10798 -0.05457 -0.08836 -0.0585 C -0.07274 -0.0578 -0.05694 -0.05757 -0.04131 -0.05595 C -0.03524 -0.05526 -0.03559 -0.05063 -0.03003 -0.0467 C -0.02638 -0.04439 -0.01875 -0.04092 -0.01875 -0.04069 C -0.0177 -0.03815 -0.01684 -0.03468 -0.01527 -0.03237 C -0.01006 -0.02566 -0.00503 -0.02774 -0.00208 -0.01457 C -0.00104 -0.00994 -0.00086 -0.00462 -4.44444E-006 -1.04046E-006 Z">
                                      <p:cBhvr>
                                        <p:cTn id="15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26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260"/>
                            </p:stCondLst>
                            <p:childTnLst>
                              <p:par>
                                <p:cTn id="1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67240" y="876600"/>
            <a:ext cx="7844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роны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- представляют собой 2 края разреза боковой поверхности цилиндр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4076640"/>
            <a:ext cx="5327640" cy="108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4076640"/>
            <a:ext cx="57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5157720"/>
            <a:ext cx="57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35280" y="4076280"/>
            <a:ext cx="0" cy="10810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4076640"/>
            <a:ext cx="0" cy="10810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4076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76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5373720"/>
            <a:ext cx="532764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123640" y="5373720"/>
            <a:ext cx="532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4437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544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  <a:ea typeface="Arial"/>
              </a:rPr>
              <a:t>¶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421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т прямоугольник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B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зывается разверткой цилиндра по образующе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Общие формулы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26542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ок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¶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цил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=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¶r(r+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3338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 :             L. Kinzabulat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:             A. Shevchen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. Trushen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же выражаем большую благодарность всем тем кто принимал участие в съёмках фильма, в частности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r. Dr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 предоставленный саундтрек, написанный специально к премьере нашего филь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8:04:18Z</dcterms:created>
  <dc:creator>Роман Анатольевич</dc:creator>
  <dc:description/>
  <dc:language>en-US</dc:language>
  <cp:lastModifiedBy>1</cp:lastModifiedBy>
  <dcterms:modified xsi:type="dcterms:W3CDTF">2008-11-06T16:04:21Z</dcterms:modified>
  <cp:revision>10</cp:revision>
  <dc:subject/>
  <dc:title>Цилиндр</dc:title>
</cp:coreProperties>
</file>