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8B2-8AEF-4F6D-B181-4446D7B7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350-ABAA-431A-AD29-9A731C5E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F95-3ED2-4197-8E51-ADCDF687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07F-A5EA-422F-940E-6D6042A3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629-E8B0-402C-8C29-26EF2BCF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7F3-07EA-495D-9517-11028AAD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726-6EA3-4218-ABAF-EBAC7026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284-71EA-4187-A0D5-0F3295BD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4E6-B6D1-4865-8187-324CE74D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476-47E0-45B5-80FF-87AA797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07A-21CE-4321-9FE8-0B640C90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5F9-C0C9-402B-A81C-52E90A9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655A-CE0E-4DD6-8714-33D03599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готовка к изл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nnabelle"/>
              </a:rPr>
              <a:t>«Берёз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ston"/>
              </a:rPr>
              <a:t>Кульми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201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ston"/>
              </a:rPr>
              <a:t>Развя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ston"/>
              </a:rPr>
              <a:t>Составление </a:t>
            </a:r>
            <a:br>
              <a:rPr sz="4800"/>
            </a:br>
            <a:r>
              <a:rPr b="1" lang="en-US" sz="4800" spc="-1" strike="noStrike">
                <a:solidFill>
                  <a:srgbClr val="008000"/>
                </a:solidFill>
                <a:latin typeface="Ariston"/>
              </a:rPr>
              <a:t>текста-опис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51280" y="18864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nnabelle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51640" y="1341360"/>
            <a:ext cx="3241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елоство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нкоство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трой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тв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ря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звес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кид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вет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умч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543564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3544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96000" y="2743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nnabelle"/>
              </a:rPr>
              <a:t>Вет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б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н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и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nnabelle"/>
              </a:rPr>
              <a:t>Ли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2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р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ыш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у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ез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Ство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белый, прямой, свет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Орфографический </a:t>
            </a:r>
            <a:br>
              <a:rPr sz="4400"/>
            </a:b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5856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л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ц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вш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337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жн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03280" y="1989000"/>
            <a:ext cx="5832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</a:t>
            </a:r>
            <a:r>
              <a:rPr b="0" i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</a:t>
            </a:r>
            <a:r>
              <a:rPr b="0" i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о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подготовиться к изложению текста с элементами опи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Обратимся к упр. 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560" y="2133720"/>
            <a:ext cx="482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рё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- берёз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ш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ь - лошади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о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-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5834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ж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5834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аж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клад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ы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5834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ерёзк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деревн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дя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Пунктуационный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анализ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7079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nabelle"/>
              </a:rPr>
              <a:t>«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П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омню, помню берёзку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, -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с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казал рыбак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. –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О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т дождя укрывала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.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nnabelle"/>
              </a:rPr>
              <a:t>П</a:t>
            </a:r>
            <a:r>
              <a:rPr b="1" lang="en-US" sz="4000" spc="-1" strike="noStrike">
                <a:solidFill>
                  <a:srgbClr val="008000"/>
                </a:solidFill>
                <a:latin typeface="Annabelle"/>
              </a:rPr>
              <a:t>ошли к бригадиру</a:t>
            </a:r>
            <a:r>
              <a:rPr b="1" lang="en-US" sz="4000" spc="-1" strike="noStrike">
                <a:solidFill>
                  <a:srgbClr val="cc0000"/>
                </a:solidFill>
                <a:latin typeface="Annabelle"/>
              </a:rPr>
              <a:t>!</a:t>
            </a:r>
            <a:r>
              <a:rPr b="1" lang="en-US" sz="4000" spc="-1" strike="noStrike">
                <a:solidFill>
                  <a:srgbClr val="0000cc"/>
                </a:solidFill>
                <a:latin typeface="Annabel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Дружба с берёз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Берёза упала в р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Берёзе нужно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Берёза ож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nnabelle"/>
                <a:hlinkClick r:id="rId2" action="ppaction://hlinksldjump"/>
              </a:rPr>
              <a:t>1. Дружба с берёз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де росла берё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берёза спасала ребят от ж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ое настроение создавала берёза осен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ребята зимой играли с дере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720" y="907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nabelle"/>
              </a:rPr>
              <a:t>2. Берёза упала в ре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6697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произошло 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nnabelle"/>
              </a:rPr>
              <a:t>3. Берёзе нужно пом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чему рыбак дядя Прокопий сразу откликнулся на просьбу реб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то ещё помог ребятам в спасении берё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ребята ухаживали за дере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nnabelle"/>
              </a:rPr>
              <a:t>4. Берёза ож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6697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ой была благодарность берё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nnabelle"/>
              </a:rPr>
              <a:t>Определите 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nnabelle"/>
              </a:rPr>
              <a:t>тип речи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nabelle"/>
              </a:rPr>
              <a:t>Повествование с элементами 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ston"/>
              </a:rPr>
              <a:t>Завяз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8:46:19Z</dcterms:created>
  <dc:creator>Admin</dc:creator>
  <dc:description/>
  <dc:language>en-US</dc:language>
  <cp:lastModifiedBy>Admin</cp:lastModifiedBy>
  <dcterms:modified xsi:type="dcterms:W3CDTF">2012-09-22T20:06:12Z</dcterms:modified>
  <cp:revision>20</cp:revision>
  <dc:subject/>
  <dc:title>Подготовка к изложению</dc:title>
</cp:coreProperties>
</file>