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6682-ED02-49C1-A021-571E3D20C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2EA4-DD1C-4DBE-84AC-3E7044ACB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3E3B-33DA-4298-BDF8-6797F2D80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61C5-76F1-45A1-9F1F-AD806ED8C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A527-94FF-4635-B923-1601DC7F6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2D53-E3B5-4059-9C76-A19388BEF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8C40-3F51-4E8F-A2FA-F6807BA98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B372-0FFA-404C-9FD9-7DDC5D2CE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3FEE-F3BA-4BE8-A42F-CB09241F6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1760-0CF8-41AD-AED8-55B05C68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D4E4-149E-4047-BD82-A9494F73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2761-2DE5-45F0-AF18-5D0DDE43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78A8E-8C2D-4510-A213-59E9B84A02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Подготовка к изложе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58920" y="2924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00"/>
                </a:solidFill>
                <a:latin typeface="Annabelle"/>
              </a:rPr>
              <a:t>«Берёза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ston"/>
              </a:rPr>
              <a:t>Кульмин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7620120" cy="51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96000" y="764640"/>
            <a:ext cx="289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ston"/>
              </a:rPr>
              <a:t>Развяз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477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Ariston"/>
              </a:rPr>
              <a:t>Составление </a:t>
            </a:r>
            <a:br>
              <a:rPr sz="4800"/>
            </a:br>
            <a:r>
              <a:rPr b="1" lang="en-US" sz="4800" spc="-1" strike="noStrike">
                <a:solidFill>
                  <a:srgbClr val="008000"/>
                </a:solidFill>
                <a:latin typeface="Ariston"/>
              </a:rPr>
              <a:t>текста-описа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80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651280" y="188640"/>
            <a:ext cx="332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nnabelle"/>
              </a:rPr>
              <a:t>Берё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651640" y="1341360"/>
            <a:ext cx="3241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белоство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тонкоство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строй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ысо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етвист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наряд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развесист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раскидист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светл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мил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рус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задумчи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3573360"/>
            <a:ext cx="5435640" cy="32846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435640" cy="35449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96000" y="274320"/>
            <a:ext cx="289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nnabelle"/>
              </a:rPr>
              <a:t>Ветв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796000" y="1600200"/>
            <a:ext cx="289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гиб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тон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си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36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292720" y="274320"/>
            <a:ext cx="339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nnabelle"/>
              </a:rPr>
              <a:t>Ли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508360" y="1628640"/>
            <a:ext cx="332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зелё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яр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пыш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густ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рез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nnabelle"/>
              </a:rPr>
              <a:t>Ство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белый, прямой, светл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4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6600"/>
                </a:solidFill>
                <a:latin typeface="Arial"/>
              </a:rPr>
              <a:t>Орфографический </a:t>
            </a:r>
            <a:br>
              <a:rPr sz="4400"/>
            </a:br>
            <a:r>
              <a:rPr b="0" i="1" lang="en-US" sz="4400" spc="-1" strike="noStrike">
                <a:solidFill>
                  <a:srgbClr val="006600"/>
                </a:solidFill>
                <a:latin typeface="Arial"/>
              </a:rPr>
              <a:t>анализ тек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258560" y="1600200"/>
            <a:ext cx="323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а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</a:t>
            </a:r>
            <a:r>
              <a:rPr b="0" i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i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ил</a:t>
            </a:r>
            <a:r>
              <a:rPr b="0" i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0" i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i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я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ц</a:t>
            </a:r>
            <a:r>
              <a:rPr b="0" i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ивш</a:t>
            </a:r>
            <a:r>
              <a:rPr b="0" i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i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i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к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р</a:t>
            </a:r>
            <a:r>
              <a:rPr b="0" i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i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и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i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а</a:t>
            </a:r>
            <a:r>
              <a:rPr b="0" i="1" lang="en-US" sz="2800" spc="-1" strike="noStrike" u="sng">
                <a:solidFill>
                  <a:srgbClr val="0000cc"/>
                </a:solidFill>
                <a:uFillTx/>
                <a:latin typeface="Arial"/>
              </a:rPr>
              <a:t>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i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ши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3379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т</a:t>
            </a:r>
            <a:r>
              <a:rPr b="0" i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у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</a:t>
            </a:r>
            <a:r>
              <a:rPr b="0" i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ожн</a:t>
            </a:r>
            <a:r>
              <a:rPr b="0" i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i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е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в</a:t>
            </a:r>
            <a:r>
              <a:rPr b="0" i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i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i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i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i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т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i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i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а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403280" y="1989000"/>
            <a:ext cx="583272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б</a:t>
            </a:r>
            <a:r>
              <a:rPr b="0" i="1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л</a:t>
            </a:r>
            <a:r>
              <a:rPr b="0" i="1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о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564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Цель: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подготовиться к изложению текста с элементами опис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2997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00"/>
                </a:solidFill>
                <a:latin typeface="Arial"/>
              </a:rPr>
              <a:t>Обратимся к упр. 9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258560" y="2133720"/>
            <a:ext cx="482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ерё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 - берёзов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оша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ь - лошади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во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 - воз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258920" y="2492280"/>
            <a:ext cx="583416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пр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ежа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пр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ш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258920" y="2492280"/>
            <a:ext cx="583416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саж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и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и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клад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ы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258920" y="2492280"/>
            <a:ext cx="583416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 берёзк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 деревн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 дяд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58560" y="2420640"/>
            <a:ext cx="669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nnabelle"/>
              </a:rPr>
              <a:t>Пунктуационный </a:t>
            </a:r>
            <a:br>
              <a:rPr sz="4000"/>
            </a:br>
            <a:r>
              <a:rPr b="1" lang="en-US" sz="4000" spc="-1" strike="noStrike">
                <a:solidFill>
                  <a:srgbClr val="008000"/>
                </a:solidFill>
                <a:latin typeface="Annabelle"/>
              </a:rPr>
              <a:t>анализ текс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58560" y="2707920"/>
            <a:ext cx="669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nnabelle"/>
              </a:rPr>
              <a:t>«</a:t>
            </a:r>
            <a:r>
              <a:rPr b="1" lang="en-US" sz="4000" spc="-1" strike="noStrike" u="sng">
                <a:solidFill>
                  <a:srgbClr val="cc0000"/>
                </a:solidFill>
                <a:uFillTx/>
                <a:latin typeface="Annabelle"/>
              </a:rPr>
              <a:t>П</a:t>
            </a:r>
            <a:r>
              <a:rPr b="1" lang="en-US" sz="4000" spc="-1" strike="noStrike">
                <a:solidFill>
                  <a:srgbClr val="008000"/>
                </a:solidFill>
                <a:latin typeface="Annabelle"/>
              </a:rPr>
              <a:t>омню, помню берёзку</a:t>
            </a:r>
            <a:r>
              <a:rPr b="1" lang="en-US" sz="4000" spc="-1" strike="noStrike">
                <a:solidFill>
                  <a:srgbClr val="cc0000"/>
                </a:solidFill>
                <a:latin typeface="Annabelle"/>
              </a:rPr>
              <a:t>, -</a:t>
            </a:r>
            <a:r>
              <a:rPr b="1" lang="en-US" sz="4000" spc="-1" strike="noStrike">
                <a:solidFill>
                  <a:srgbClr val="008000"/>
                </a:solidFill>
                <a:latin typeface="Annabelle"/>
              </a:rPr>
              <a:t> </a:t>
            </a:r>
            <a:r>
              <a:rPr b="1" lang="en-US" sz="4000" spc="-1" strike="noStrike" u="sng">
                <a:solidFill>
                  <a:srgbClr val="cc0000"/>
                </a:solidFill>
                <a:uFillTx/>
                <a:latin typeface="Annabelle"/>
              </a:rPr>
              <a:t>с</a:t>
            </a:r>
            <a:r>
              <a:rPr b="1" lang="en-US" sz="4000" spc="-1" strike="noStrike">
                <a:solidFill>
                  <a:srgbClr val="008000"/>
                </a:solidFill>
                <a:latin typeface="Annabelle"/>
              </a:rPr>
              <a:t>казал рыбак</a:t>
            </a:r>
            <a:r>
              <a:rPr b="1" lang="en-US" sz="4000" spc="-1" strike="noStrike">
                <a:solidFill>
                  <a:srgbClr val="cc0000"/>
                </a:solidFill>
                <a:latin typeface="Annabelle"/>
              </a:rPr>
              <a:t>. –</a:t>
            </a:r>
            <a:r>
              <a:rPr b="1" lang="en-US" sz="4000" spc="-1" strike="noStrike">
                <a:solidFill>
                  <a:srgbClr val="008000"/>
                </a:solidFill>
                <a:latin typeface="Annabelle"/>
              </a:rPr>
              <a:t> </a:t>
            </a:r>
            <a:r>
              <a:rPr b="1" lang="en-US" sz="4000" spc="-1" strike="noStrike" u="sng">
                <a:solidFill>
                  <a:srgbClr val="cc0000"/>
                </a:solidFill>
                <a:uFillTx/>
                <a:latin typeface="Annabelle"/>
              </a:rPr>
              <a:t>О</a:t>
            </a:r>
            <a:r>
              <a:rPr b="1" lang="en-US" sz="4000" spc="-1" strike="noStrike">
                <a:solidFill>
                  <a:srgbClr val="008000"/>
                </a:solidFill>
                <a:latin typeface="Annabelle"/>
              </a:rPr>
              <a:t>т дождя укрывала</a:t>
            </a:r>
            <a:r>
              <a:rPr b="1" lang="en-US" sz="4000" spc="-1" strike="noStrike">
                <a:solidFill>
                  <a:srgbClr val="cc0000"/>
                </a:solidFill>
                <a:latin typeface="Annabelle"/>
              </a:rPr>
              <a:t>.</a:t>
            </a:r>
            <a:r>
              <a:rPr b="1" lang="en-US" sz="4000" spc="-1" strike="noStrike">
                <a:solidFill>
                  <a:srgbClr val="008000"/>
                </a:solidFill>
                <a:latin typeface="Annabelle"/>
              </a:rPr>
              <a:t> </a:t>
            </a:r>
            <a:r>
              <a:rPr b="1" lang="en-US" sz="4000" spc="-1" strike="noStrike" u="sng">
                <a:solidFill>
                  <a:srgbClr val="cc0000"/>
                </a:solidFill>
                <a:uFillTx/>
                <a:latin typeface="Annabelle"/>
              </a:rPr>
              <a:t>П</a:t>
            </a:r>
            <a:r>
              <a:rPr b="1" lang="en-US" sz="4000" spc="-1" strike="noStrike">
                <a:solidFill>
                  <a:srgbClr val="008000"/>
                </a:solidFill>
                <a:latin typeface="Annabelle"/>
              </a:rPr>
              <a:t>ошли к бригадиру</a:t>
            </a:r>
            <a:r>
              <a:rPr b="1" lang="en-US" sz="4000" spc="-1" strike="noStrike">
                <a:solidFill>
                  <a:srgbClr val="cc0000"/>
                </a:solidFill>
                <a:latin typeface="Annabelle"/>
              </a:rPr>
              <a:t>!</a:t>
            </a:r>
            <a:r>
              <a:rPr b="1" lang="en-US" sz="4000" spc="-1" strike="noStrike">
                <a:solidFill>
                  <a:srgbClr val="0000cc"/>
                </a:solidFill>
                <a:latin typeface="Annabelle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9900"/>
                </a:solidFill>
                <a:latin typeface="Arial"/>
              </a:rPr>
              <a:t>Пл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58560" y="2060640"/>
            <a:ext cx="6769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00"/>
                </a:solidFill>
                <a:latin typeface="Arial"/>
              </a:rPr>
              <a:t>Дружба с берёз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00"/>
                </a:solidFill>
                <a:latin typeface="Arial"/>
              </a:rPr>
              <a:t>Берёза упала в ре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00"/>
                </a:solidFill>
                <a:latin typeface="Arial"/>
              </a:rPr>
              <a:t>Берёзе нужно помоч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00"/>
                </a:solidFill>
                <a:latin typeface="Arial"/>
              </a:rPr>
              <a:t>Берёза ожи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76720" y="620280"/>
            <a:ext cx="468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nnabelle"/>
                <a:hlinkClick r:id="rId2" action="ppaction://hlinksldjump"/>
              </a:rPr>
              <a:t>1. Дружба с берёз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58560" y="1600200"/>
            <a:ext cx="669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Где росла берёз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Как берёза спасала ребят от жар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Какое настроение создавала берёза осень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Как ребята зимой играли с дерев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76720" y="907560"/>
            <a:ext cx="468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nnabelle"/>
              </a:rPr>
              <a:t>2. Берёза упала в ре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58560" y="2565360"/>
            <a:ext cx="669780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Что произошло весн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76720" y="620280"/>
            <a:ext cx="468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nnabelle"/>
              </a:rPr>
              <a:t>3. Берёзе нужно помоч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58560" y="1773360"/>
            <a:ext cx="669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очему рыбак дядя Прокопий сразу откликнулся на просьбу ребя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то ещё помог ребятам в спасении берёз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ак ребята ухаживали за дерев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76720" y="620280"/>
            <a:ext cx="468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nnabelle"/>
              </a:rPr>
              <a:t>4. Берёза ожи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6920" y="1988640"/>
            <a:ext cx="66978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Какой была благодарность берёз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nnabelle"/>
              </a:rPr>
              <a:t>Определите </a:t>
            </a:r>
            <a:br>
              <a:rPr sz="4400"/>
            </a:br>
            <a:r>
              <a:rPr b="0" lang="en-US" sz="4400" spc="-1" strike="noStrike">
                <a:solidFill>
                  <a:srgbClr val="006600"/>
                </a:solidFill>
                <a:latin typeface="Annabelle"/>
              </a:rPr>
              <a:t>тип речи тек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320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nnabelle"/>
              </a:rPr>
              <a:t>Повествование с элементами опис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Ariston"/>
              </a:rPr>
              <a:t>Завяз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2T18:46:19Z</dcterms:created>
  <dc:creator>Admin</dc:creator>
  <dc:description/>
  <dc:language>en-US</dc:language>
  <cp:lastModifiedBy>Admin</cp:lastModifiedBy>
  <dcterms:modified xsi:type="dcterms:W3CDTF">2012-09-22T20:06:12Z</dcterms:modified>
  <cp:revision>20</cp:revision>
  <dc:subject/>
  <dc:title>Подготовка к изложению</dc:title>
</cp:coreProperties>
</file>