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4E4-0A1A-45DE-997B-9CB5DB97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419-C059-49CB-91DC-A0701997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D94-145B-4B93-8074-0E9448FC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2FD-F412-4C5C-BDA8-6F9D3FF1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119-78C4-4F82-9D7C-356F1513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E63-C351-4CFA-9765-0B28672A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58D-BD8A-46D6-93E5-49E6D5F9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0EB-342E-41E4-8EB1-2012D51E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8DF-7EA8-4D79-8A94-D96C40A9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D21-692D-46F2-88BD-90F064EF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918-6F73-4B9B-9FA3-6AB4413F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56C-BA5F-48B3-A89C-ED8EE4AF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EAA9-D0E5-4F3C-8AE0-AA8C32918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дготовка к излож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Annabelle"/>
              </a:rPr>
              <a:t>«Берёз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ston"/>
              </a:rPr>
              <a:t>Кульмин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6201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ston"/>
              </a:rPr>
              <a:t>Развяз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7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ston"/>
              </a:rPr>
              <a:t>Составление </a:t>
            </a:r>
            <a:br>
              <a:rPr sz="4800"/>
            </a:br>
            <a:r>
              <a:rPr b="1" lang="en-US" sz="4800" spc="-1" strike="noStrike">
                <a:solidFill>
                  <a:srgbClr val="008000"/>
                </a:solidFill>
                <a:latin typeface="Ariston"/>
              </a:rPr>
              <a:t>текста-опис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51280" y="18864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nnabelle"/>
              </a:rPr>
              <a:t>Бе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51640" y="1341360"/>
            <a:ext cx="3241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елоство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онкоство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трой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етв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ря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звес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кид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ветл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л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думч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5435640" cy="3284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3544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96000" y="27432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nnabelle"/>
              </a:rPr>
              <a:t>Вет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б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он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и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72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nnabelle"/>
              </a:rPr>
              <a:t>Ли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08360" y="1628640"/>
            <a:ext cx="332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р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ыш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у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ез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Ство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белый, прямой, свет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00"/>
                </a:solidFill>
                <a:latin typeface="Arial"/>
              </a:rPr>
              <a:t>Орфографический </a:t>
            </a:r>
            <a:br>
              <a:rPr sz="4400"/>
            </a:br>
            <a:r>
              <a:rPr b="0" i="1" lang="en-US" sz="4400" spc="-1" strike="noStrike">
                <a:solidFill>
                  <a:srgbClr val="006600"/>
                </a:solidFill>
                <a:latin typeface="Arial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58560" y="1600200"/>
            <a:ext cx="323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л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я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ц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вш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а</a:t>
            </a:r>
            <a:r>
              <a:rPr b="0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3379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т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жн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403280" y="1989000"/>
            <a:ext cx="5832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</a:t>
            </a:r>
            <a:r>
              <a:rPr b="0" i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</a:t>
            </a:r>
            <a:r>
              <a:rPr b="0" i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подготовиться к изложению текста с элементами опис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Обратимся к упр. 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58560" y="2133720"/>
            <a:ext cx="482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рё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 - берёз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ш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ь - лошади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о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 - воз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58920" y="2492280"/>
            <a:ext cx="583416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ж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58920" y="2492280"/>
            <a:ext cx="583416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аж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клад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ы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258920" y="2492280"/>
            <a:ext cx="583416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берёзк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деревн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дяд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242064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Пунктуационный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анализ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7079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nabelle"/>
              </a:rPr>
              <a:t>«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nnabelle"/>
              </a:rPr>
              <a:t>П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омню, помню берёзку</a:t>
            </a:r>
            <a:r>
              <a:rPr b="1" lang="en-US" sz="4000" spc="-1" strike="noStrike">
                <a:solidFill>
                  <a:srgbClr val="cc0000"/>
                </a:solidFill>
                <a:latin typeface="Annabelle"/>
              </a:rPr>
              <a:t>, -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nnabelle"/>
              </a:rPr>
              <a:t>с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казал рыбак</a:t>
            </a:r>
            <a:r>
              <a:rPr b="1" lang="en-US" sz="4000" spc="-1" strike="noStrike">
                <a:solidFill>
                  <a:srgbClr val="cc0000"/>
                </a:solidFill>
                <a:latin typeface="Annabelle"/>
              </a:rPr>
              <a:t>. –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nnabelle"/>
              </a:rPr>
              <a:t>О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т дождя укрывала</a:t>
            </a:r>
            <a:r>
              <a:rPr b="1" lang="en-US" sz="4000" spc="-1" strike="noStrike">
                <a:solidFill>
                  <a:srgbClr val="cc0000"/>
                </a:solidFill>
                <a:latin typeface="Annabelle"/>
              </a:rPr>
              <a:t>.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nnabelle"/>
              </a:rPr>
              <a:t>П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ошли к бригадиру</a:t>
            </a:r>
            <a:r>
              <a:rPr b="1" lang="en-US" sz="4000" spc="-1" strike="noStrike">
                <a:solidFill>
                  <a:srgbClr val="cc0000"/>
                </a:solidFill>
                <a:latin typeface="Annabelle"/>
              </a:rPr>
              <a:t>!</a:t>
            </a:r>
            <a:r>
              <a:rPr b="1" lang="en-US" sz="4000" spc="-1" strike="noStrike">
                <a:solidFill>
                  <a:srgbClr val="0000cc"/>
                </a:solidFill>
                <a:latin typeface="Annabelle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58560" y="2060640"/>
            <a:ext cx="67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Дружба с берёз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Берёза упала в ре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Берёзе нужно пом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Берёза ож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76720" y="62028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nnabelle"/>
                <a:hlinkClick r:id="rId2" action="ppaction://hlinksldjump"/>
              </a:rPr>
              <a:t>1. Дружба с берёз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де росла берёз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 берёза спасала ребят от жа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ое настроение создавала берёза осен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 ребята зимой играли с дере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76720" y="907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nnabelle"/>
              </a:rPr>
              <a:t>2. Берёза упала в ре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8560" y="2565360"/>
            <a:ext cx="66978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то произошло 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76720" y="62028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nnabelle"/>
              </a:rPr>
              <a:t>3. Берёзе нужно пом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8560" y="177336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чему рыбак дядя Прокопий сразу откликнулся на просьбу ребя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то ещё помог ребятам в спасении берёз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ребята ухаживали за дере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76720" y="62028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nnabelle"/>
              </a:rPr>
              <a:t>4. Берёза ож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988640"/>
            <a:ext cx="6697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ой была благодарность берёз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nnabelle"/>
              </a:rPr>
              <a:t>Определите 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nnabelle"/>
              </a:rPr>
              <a:t>тип речи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nnabelle"/>
              </a:rPr>
              <a:t>Повествование с элементами о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ston"/>
              </a:rPr>
              <a:t>Завяз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18:46:19Z</dcterms:created>
  <dc:creator>Admin</dc:creator>
  <dc:description/>
  <dc:language>en-US</dc:language>
  <cp:lastModifiedBy>Admin</cp:lastModifiedBy>
  <dcterms:modified xsi:type="dcterms:W3CDTF">2012-09-22T20:06:12Z</dcterms:modified>
  <cp:revision>20</cp:revision>
  <dc:subject/>
  <dc:title>Подготовка к изложению</dc:title>
</cp:coreProperties>
</file>