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09C-6E33-4823-AF56-1BAD745A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80B-CCE1-42E1-B320-2D4F0B74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2C5-15CD-4185-A039-3231875D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429-2632-4D01-B96A-85A14907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1B2-E5A9-4956-A997-6404CFC6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710-ED08-4326-9D34-F8491165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5E9-A70B-485C-93DB-74C54EBE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14D-443D-4093-BB51-292320F0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0AB-E184-49A4-A1AE-40BA296A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7FD-7EE0-4844-ABC7-8387D5D6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6A6-62F1-47A4-8CAA-48FCE2C5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AB8-F89B-4671-A650-722B3BEF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AD13-3898-48BB-A6EB-0B014C452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нним утром пионер Петя выходит на ул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6167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ысоком дереве сидит его знакомая Птичк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ая, заметив Петю, слетает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75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открытую калитку пробирается У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правляется к пруду, чтобы попла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начинает спорить с Птичкой о 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у считаться настоящей птицей ― Утке, которая не летает, но плавает, или Птичке, которая плавать не уме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6880" y="1125000"/>
            <a:ext cx="67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ними наблюдает Кошка, готовая поймать одну из ни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ко птичка, предупреждённая Петей, взлетает на дере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утка оказывается в пруду, и Кошка остаётся ни с ч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6760" y="2833560"/>
            <a:ext cx="64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одит Петин дедушка. Он начинает ворчать на вну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упреждая его о том, что в лесу ходит большой се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, и, несмотря на заверения Пети о том, что пион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боятся волков, уводит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коре действительно появляется Волк. Кошка быстро залезает на дерево, а Утка выскакивает из пруда, но волк настигает её и проглат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тя с помощью верёвки перебирается через забор и оказывается на высоком дереве. Он просит птичку отвлечь волка, и, когда тот пытается её поймать, накидывает волку на хвост петлю. Волк пытается освободиться, но Петя привязывает другой конец верёвки к дереву, и петля затягивается на хвосте Волка ещё ту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леса выходят Охотники, которые давно следили за Волком. Петя помогает им связать Волка и отвести его в зоопар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едение завершается всеобщим шествием, в котором участвуют все его персонажи: впереди идёт Петя, за ним Охотники ведут Волка, над ними летит Птичка, а сзади ― дедушка с кошкой, продолжающий ворчать. Слышно тихое кряканье: это подаёт голос Утка, сидящая в животе Волка, который так торопился, что проглотил её живь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0" y="6364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― струнные инструменты (преимущественно скрипки), C-dur, свободная и открытая мелодия в духе пионерского мар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флейта в высоком регистре, G-dur, виртуозные пасс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гобой, Es-dur/As-dur, «крякающая» мелодия в нижнем регис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кларнет, G-dur, тема изображает грацию и мягкую поступь 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ду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фагот, тема в h-moll, пунктирный ритм в нижнем и среднем регистре, имитирующий ворч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три валторны, тема в g-m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от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литавры и большой барабан (изображение выстрелов), духовые инструменты (финальный марш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6920" y="-1908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6720" y="60930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я - скри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22200" y="61657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тичка - фле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573408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ка – г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6838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2920" y="5877000"/>
            <a:ext cx="22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шка - кла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6008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42560" y="5780160"/>
            <a:ext cx="232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душка – фаг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04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73440" y="5877000"/>
            <a:ext cx="269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лторна – 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7960" y="609300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отники - литав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8:31:52Z</dcterms:created>
  <dc:creator>Loner-XP</dc:creator>
  <dc:description/>
  <dc:language>en-US</dc:language>
  <cp:lastModifiedBy>Loner-XP</cp:lastModifiedBy>
  <dcterms:modified xsi:type="dcterms:W3CDTF">2011-12-09T19:36:36Z</dcterms:modified>
  <cp:revision>19</cp:revision>
  <dc:subject/>
  <dc:title>Петя и волк Сергей Прокофьев</dc:title>
</cp:coreProperties>
</file>