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501-530E-4738-8F99-1CFC7F59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CB4-2580-46D7-ADC2-C398A912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5AE-7448-413E-BA6E-19EDAAB2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EE3-8E85-4D64-97AA-5EAE9E51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D54-ADCE-4FBA-97A0-46753734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5E1-7AC0-4D03-8DDA-09122C2C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A101-8FF1-4EF8-9E2B-ADA7F327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4BF-D5FB-41E1-97E1-DC4B9E99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E49-AA01-4179-80C8-9F6E3164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CE8-A285-478D-975F-E945499E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59F-2A86-4801-A74F-2F3CDC3E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C06-1EAD-4920-ABB8-01DA0E92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5418-9E1F-4E2A-BDA0-514CF3DF6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нним утром пионер Петя выходит на ул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61672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ысоком дереве сидит его знакомая Птичка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ая, заметив Петю, слетает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75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открытую калитку пробирается У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правляется к пруду, чтобы попла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начинает спорить с Птичкой о т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у считаться настоящей птицей ― Утке, которая не летает, но плавает, или Птичке, которая плавать не уме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6880" y="1125000"/>
            <a:ext cx="67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ними наблюдает Кошка, готовая поймать одну из ни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ко птичка, предупреждённая Петей, взлетает на дере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утка оказывается в пруду, и Кошка остаётся ни с ч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6760" y="2833560"/>
            <a:ext cx="64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ходит Петин дедушка. Он начинает ворчать на вну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упреждая его о том, что в лесу ходит большой се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, и, несмотря на заверения Пети о том, что пион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боятся волков, уводит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коре действительно появляется Волк. Кошка быстро залезает на дерево, а Утка выскакивает из пруда, но волк настигает её и проглат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тя с помощью верёвки перебирается через забор и оказывается на высоком дереве. Он просит птичку отвлечь волка, и, когда тот пытается её поймать, накидывает волку на хвост петлю. Волк пытается освободиться, но Петя привязывает другой конец верёвки к дереву, и петля затягивается на хвосте Волка ещё ту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леса выходят Охотники, которые давно следили за Волком. Петя помогает им связать Волка и отвести его в зоопар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едение завершается всеобщим шествием, в котором участвуют все его персонажи: впереди идёт Петя, за ним Охотники ведут Волка, над ними летит Птичка, а сзади ― дедушка с кошкой, продолжающий ворчать. Слышно тихое кряканье: это подаёт голос Утка, сидящая в животе Волка, который так торопился, что проглотил её живь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0" y="63648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т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― струнные инструменты (преимущественно скрипки), C-dur, свободная и открытая мелодия в духе пионерского мар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флейта в высоком регистре, G-dur, виртуозные пасс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гобой, Es-dur/As-dur, «крякающая» мелодия в нижнем регис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кларнет, G-dur, тема изображает грацию и мягкую поступь к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ду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фагот, тема в h-moll, пунктирный ритм в нижнем и среднем регистре, имитирующий ворч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три валторны, тема в g-m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хот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― литавры и большой барабан (изображение выстрелов), духовые инструменты (финальный марш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6920" y="-1908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6720" y="609300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я - скри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622200" y="61657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тичка - фле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573408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ка – г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68389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2920" y="5877000"/>
            <a:ext cx="22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шка - кла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6008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42560" y="5780160"/>
            <a:ext cx="232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душка – фаг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04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73440" y="5877000"/>
            <a:ext cx="269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лторна – 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429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7960" y="609300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отники - литав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8:31:52Z</dcterms:created>
  <dc:creator>Loner-XP</dc:creator>
  <dc:description/>
  <dc:language>en-US</dc:language>
  <cp:lastModifiedBy>Loner-XP</cp:lastModifiedBy>
  <dcterms:modified xsi:type="dcterms:W3CDTF">2011-12-09T19:36:36Z</dcterms:modified>
  <cp:revision>19</cp:revision>
  <dc:subject/>
  <dc:title>Петя и волк Сергей Прокофьев</dc:title>
</cp:coreProperties>
</file>