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ECE-5095-4583-AACB-F624B143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D46-08FE-4D43-A693-8DC7F6E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5CA-F8E3-4312-9EA9-9D5B7C47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95A-4CD3-4A68-B43E-77F3B0A4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EF6-A663-4AAF-B8CF-015FDDE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3BE-C0C5-4588-941F-F684039C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6F8-9C0F-4752-9E68-B80430E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01F-DBAE-41DD-BEC4-63A376EC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CAA-3B2B-422A-85B6-33813222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DDC-AB6C-405A-ABF2-0B52EBD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CCD-4665-4137-8906-BFC5DFE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DE7-6534-4CB2-9231-9B2AF6B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704-E157-4C36-A14B-E39566080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им утром пионер Петя выходит на у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6167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оком дереве сидит его знакомая Птич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, заметив Петю, слетает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открытую калитку пробирается 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правляется к пруду, чтобы по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чинает спорить с Птичкой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считаться настоящей птицей ― Утке, которая не летает, но плавает, или Птичке, которая плавать не уме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6880" y="11250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ними наблюдает Кошка, готовая поймать одну из н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тичка, предупреждённая Петей, взлетает на 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утка оказывается в пруду, и Кошка остаётся ни с 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6760" y="2833560"/>
            <a:ext cx="64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Петин дедушка. Он начинает ворчать на вн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преждая его о том, что в лесу ходит большой се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, и, несмотря на заверения Пети о том, что пион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боятся волков, увод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действительно появляется Волк. Кошка быстро залезает на дерево, а Утка выскакивает из пруда, но волк настигает её и проглат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с помощью верёвки перебирается через забор и оказывается на высоком дереве. Он просит птичку отвлечь волка, и, когда тот пытается её поймать, накидывает волку на хвост петлю. Волк пытается освободиться, но Петя привязывает другой конец верёвки к дереву, и петля затягивается на хвосте Волка ещё т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 выходят Охотники, которые давно следили за Волком. Петя помогает им связать Волка и отвести его в зоопар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е завершается всеобщим шествием, в котором участвуют все его персонажи: впереди идёт Петя, за ним Охотники ведут Волка, над ними летит Птичка, а сзади ― дедушка с кошкой, продолжающий ворчать. Слышно тихое кряканье: это подаёт голос Утка, сидящая в животе Волка, который так торопился, что проглотил её живь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― струнные инструменты (преимущественно скрипки), C-dur, свободная и открытая мелодия в духе пионерского мар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лейта в высоком регистре, G-dur, виртуозные пасс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гобой, Es-dur/As-dur, «крякающая» мелодия в нижнем реги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кларнет, G-dur, тема изображает грацию и мягкую поступь 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агот, тема в h-moll, пунктирный ритм в нижнем и среднем регистре, имитирующий ворч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три валторны, тема в g-m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литавры и большой барабан (изображение выстрелов), духовые инструменты (финальный мар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720" y="6093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- 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2200" y="61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тичка - 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73408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ка – 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683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2920" y="587700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шка - кла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600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42560" y="578016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душка – фаг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3440" y="5877000"/>
            <a:ext cx="269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торна –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960" y="6093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ки - лит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1:52Z</dcterms:created>
  <dc:creator>Loner-XP</dc:creator>
  <dc:description/>
  <dc:language>en-US</dc:language>
  <cp:lastModifiedBy>Loner-XP</cp:lastModifiedBy>
  <dcterms:modified xsi:type="dcterms:W3CDTF">2011-12-09T19:36:36Z</dcterms:modified>
  <cp:revision>19</cp:revision>
  <dc:subject/>
  <dc:title>Петя и волк Сергей Прокофьев</dc:title>
</cp:coreProperties>
</file>