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1E0E-1029-4900-AFD1-408E931FB7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BE31-B16E-43AA-9B1E-09A5C15645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4B1-118B-412C-B43B-565F84F5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144-CBA0-46E4-856A-F026B241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DF5-A663-4B2E-8007-5CC8301C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138-3CF1-47BC-B5CA-B02E0A55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D7D-CF1A-4A62-9B66-F7A650E3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3F2-467B-4EF5-9ED2-90E78E25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E6D-6499-4219-957C-42F040A5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87B-B3C0-4478-85F4-40B64A8B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9FA-CE12-4153-BD6E-219130BA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21F-810C-4411-9C1C-16741353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ACA-E93A-46E5-8FFC-CEDA8BD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AB3-9BC8-402C-B3B7-D3308A0F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4568-476D-4203-BD09-2D8D656732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8840" y="500040"/>
            <a:ext cx="647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Государствен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Центр образования № 133 Невского рай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665280" y="1865160"/>
            <a:ext cx="7673760" cy="1189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71680" y="3429000"/>
            <a:ext cx="7929360" cy="3445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58ed5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«Современный учитель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офессиональная компетент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овременного учителя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714680" y="6143760"/>
            <a:ext cx="550044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кт-Петербург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10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214200" y="596880"/>
            <a:ext cx="864396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имый учитель сегодня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одноврем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фессионал и личн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стать значимым, сегодня необходимо практическое овладение теми видами педагогической культуры, к которым учитель готов чаще всего только теоретичес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5840" y="319680"/>
            <a:ext cx="8429400" cy="63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Выделяется семь групп умений составляющих методическое</a:t>
            </a: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мастерство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Перцептивные умения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а)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понять состояние учащегося, проникнуть в его внутренний мир; б) умение видеть всех и каждого (распределение внимания, боковое зрение); в) умение отличать текущую информацию об ученике от устойчивых его характеристик; г) умение воспринимать ситуацию общения в контексте деятельности (видеть статус ученика в коллективе); распознавать межличностные отношения в классе; д) умение распределять внимание между различными компонентами процесса обучения; е) умение подмечать и оценивать положительное и отрицательное в деятельности (в том числе и речевой) учащихся; ж) умение видеть, в какой помощи нуждается ученик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2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. Проектировоч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планировать уроки разных видов; б) умение предвидеть результаты планирования; в) умение отбирать необходимый для урока материал; г) умение предугадать поведение речевого (учебного) партнера; д) умение анализировать учебную ситуацию и выбрать верное решение; е) умение делать логические переходы в этапах урока, в этапах работы над темой и т.д.; ж) умение распределять учебный материал; з) умение определять необходимую дозу теории в практике обучения различным сторонам общения; и) умение предвидеть и предупреждать утомление или спад в усвоении учебного материала; к) умение импровизировать в неожиданных учебных ситуаци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Адаптационные умения: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подбирать приемы обучения (упражнения, задания), адекватные той или иной цели (любого уровня); б) умение использовать приемы работы, материал и т.п. соответственно индивидуальности учащегося (адаптация к индивидуальности); в) умение адаптировать свою речь в зависимости от класса и уровня его подготовленности; г) умение подходить к решению методических вопросов в зависимости от условий обучения (адаптация к условиям); д) умение контролировать, не нарушая взаимоотношений речевого партнерств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4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. Коммуникативные ум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 умение устанавливать речевые взаимоотношения (речевую атмосферу); б) умение быть коммуникабельным; в) умение настроится на урок соответственно его содержанию и характеру; г) умение настроить соответствующим образом учащихся; д) умение выражать все необходимое с помощью речи, мимики, пантомимы; е) умение говорить выразительно и эмоционально; ж) умение говорить экспромтно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Организацион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организовать работу в парах; б) умение организовать групповую работу; в) умение организовать коллективное общение; г) умение организовать класс, когда отвечает один ученик; д) умение быстро распределять задания ( с учетом условий, индивидуальных способностей учащихся); е) умение организовать индивидуальную самостоятельную работу в классе; ж) умение организовать самостоятельную работу учащихся дома; з) умение найти помощника среди учащихся; и) умение требовать; к) умение организовать внеклассную воспитательную работ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Познаватель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мение анализировать деятельность коллег; б) умение анализировать собственную деятельность; в) умение подготовить научный доклад по проблемам обучения иностранным языкам; г) умение воспринимать новое в методике и претворять методические рекомендации; д) умение вести научную работу, участвовать в исследованиях; е) умение вести работу по самообразованию и самосовершенствова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7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Вспомогательные ум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рисовать, играть на музыкальных инструментах, хорошо стрелять, мастерить, что-то коллекционировать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Скругленный прямоугольник 1"/>
          <p:cNvSpPr/>
          <p:nvPr/>
        </p:nvSpPr>
        <p:spPr>
          <a:xfrm>
            <a:off x="714240" y="571680"/>
            <a:ext cx="7358040" cy="928440"/>
          </a:xfrm>
          <a:prstGeom prst="roundRect">
            <a:avLst>
              <a:gd name="adj" fmla="val 16667"/>
            </a:avLst>
          </a:prstGeom>
          <a:solidFill>
            <a:srgbClr val="20ece7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НОВАЦИОННЫЙ 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2"/>
          <p:cNvSpPr/>
          <p:nvPr/>
        </p:nvSpPr>
        <p:spPr>
          <a:xfrm>
            <a:off x="142920" y="2786040"/>
            <a:ext cx="3643200" cy="928800"/>
          </a:xfrm>
          <a:prstGeom prst="roundRect">
            <a:avLst>
              <a:gd name="adj" fmla="val 16667"/>
            </a:avLst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З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4929120" y="2786040"/>
            <a:ext cx="3643560" cy="928800"/>
          </a:xfrm>
          <a:prstGeom prst="roundRect">
            <a:avLst>
              <a:gd name="adj" fmla="val 16667"/>
            </a:avLst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СВО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1357200" y="4357800"/>
            <a:ext cx="6143760" cy="928440"/>
          </a:xfrm>
          <a:prstGeom prst="roundRect">
            <a:avLst>
              <a:gd name="adj" fmla="val 16667"/>
            </a:avLst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МЕНЕНИЕ  НОВШ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Прямая со стрелкой 6"/>
          <p:cNvCxnSpPr>
            <a:stCxn id="67" idx="2"/>
            <a:endCxn id="70" idx="0"/>
          </p:cNvCxnSpPr>
          <p:nvPr/>
        </p:nvCxnSpPr>
        <p:spPr>
          <a:xfrm>
            <a:off x="4391640" y="1500120"/>
            <a:ext cx="37080" cy="2858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Прямая со стрелкой 8"/>
          <p:cNvCxnSpPr>
            <a:stCxn id="67" idx="2"/>
            <a:endCxn id="69" idx="0"/>
          </p:cNvCxnSpPr>
          <p:nvPr/>
        </p:nvCxnSpPr>
        <p:spPr>
          <a:xfrm>
            <a:off x="4391640" y="1500120"/>
            <a:ext cx="2359800" cy="1286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Прямая со стрелкой 11"/>
          <p:cNvCxnSpPr>
            <a:stCxn id="67" idx="2"/>
            <a:endCxn id="68" idx="0"/>
          </p:cNvCxnSpPr>
          <p:nvPr/>
        </p:nvCxnSpPr>
        <p:spPr>
          <a:xfrm flipH="1">
            <a:off x="1963080" y="1500120"/>
            <a:ext cx="2429640" cy="1286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ятиугольник 1" descr=""/>
          <p:cNvPicPr/>
          <p:nvPr/>
        </p:nvPicPr>
        <p:blipFill>
          <a:blip r:embed="rId1"/>
          <a:stretch/>
        </p:blipFill>
        <p:spPr>
          <a:xfrm>
            <a:off x="768240" y="407880"/>
            <a:ext cx="7534440" cy="203688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ый прямоугольник 2"/>
          <p:cNvSpPr/>
          <p:nvPr/>
        </p:nvSpPr>
        <p:spPr>
          <a:xfrm>
            <a:off x="857160" y="2500200"/>
            <a:ext cx="7429680" cy="1357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сновным функциям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новационной деятельности относятся изменения компонентов педагогического процесса: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мысла, целей, содержания образования, форм, методов, технологий, средств обучения, системы управлении и т.п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ятиугольник 3"/>
          <p:cNvSpPr/>
          <p:nvPr/>
        </p:nvSpPr>
        <p:spPr>
          <a:xfrm rot="16200000">
            <a:off x="3357360" y="1571040"/>
            <a:ext cx="2500200" cy="7500960"/>
          </a:xfrm>
          <a:custGeom>
            <a:avLst/>
            <a:gdLst>
              <a:gd name="textAreaLeft" fmla="*/ 0 w 2500200"/>
              <a:gd name="textAreaRight" fmla="*/ 2500560 w 2500200"/>
              <a:gd name="textAreaTop" fmla="*/ 0 h 7500960"/>
              <a:gd name="textAreaBottom" fmla="*/ 7501320 h 750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12" y="0"/>
                </a:lnTo>
                <a:lnTo>
                  <a:pt x="21600" y="10800"/>
                </a:lnTo>
                <a:lnTo>
                  <a:pt x="130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новационный процесс представляет собой совокупность процедур и средств, с помощью которых педагогическое открытие или идея превращаются в социальное, в том числе, образовательное нововвед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642960" y="1214280"/>
            <a:ext cx="7858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новацион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 образован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ссматрива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 трех основных аспекта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оциально-экономическом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сихолого-педагогическом 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рганизационно-управленческ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1571760"/>
            <a:ext cx="7643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ая Инноватика-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учение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о создании педагогических новшеств , их оценке и освоении педагогическим сообществом , использовании и применении на практи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нутый угол 1"/>
          <p:cNvSpPr/>
          <p:nvPr/>
        </p:nvSpPr>
        <p:spPr>
          <a:xfrm>
            <a:off x="428760" y="357120"/>
            <a:ext cx="8215200" cy="6215040"/>
          </a:xfrm>
          <a:prstGeom prst="foldedCorner">
            <a:avLst>
              <a:gd name="adj" fmla="val 16666"/>
            </a:avLst>
          </a:prstGeom>
          <a:solidFill>
            <a:srgbClr val="c3d69b">
              <a:alpha val="2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систематике педагогические нововведения подразделяются на следующие типы и подтипы: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отношению к структурным элементам образовательных систем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По отношению к личностному становлению субъектов образования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области педагогического применения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типам взаимодействия участников педагогического процесса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функциональным возможностям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способам осуществления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масштабности распространения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социально-педагогической значимости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объёму новаторских мероприятий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степени предполагаемых преобразов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42920" y="321120"/>
            <a:ext cx="88581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кторы, препятствующие нововведениям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Это у нас уже есть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о, приводится сходное нововведение. В данном случае задачей оппонента является необходимость доказательства обманчивости сходства и значимости различий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у нас не получится"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тверждение данного тезиса обычно приводятся объективные, на взгляд говорящего, условия, делающие введение конкретного новшества невозможным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Это не решает главных проблем".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утверждение делается как бы с радикальных позиций. Новшество в этом случае получает образ паллиатива, а инноватор - черты недостаточно смелого проводника подлинного прогресса. Поскольку разведение главного и второстепенного - дело интерпретации, возможность отвода почти гарантирована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Это требует доработки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словно, каждое новшество, каждый проект нуждается в доработке. И, выдвигая этот тезис, действительно указываются слабые места нововведения. Новшество наделяется характеристикой "сырого" и поэтому проводить его в жизнь вроде бы не следует. </a:t>
            </a: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Здесь не все равноценно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сечь некоторые детали у новшества, то ощутимого запланированного эффекта уже не предвидится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и другие предложения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 подразумевается альтернатива данному новшеству, но вовсе не с целью предложить лучшее решение, а лишь для того, чтобы вообще отвлечь внимание от применения новшеств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1090440"/>
            <a:ext cx="8400960" cy="5596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463680"/>
            <a:ext cx="8437680" cy="6559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-311040" y="420840"/>
            <a:ext cx="9839160" cy="6261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100800"/>
            <a:ext cx="73134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828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илософский словарь дает такое толкование категории каче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есть существенная определенность предмета, в силу которой он является данным, а не иным предметом и отличается от других предметов. Качество предмета, как правило, не сводится к отдельным его свойствам. Оно связано с предметом как целым, охватывает его полностью и неотделимо от него. Поэтому понятие качества связывается с бытием предмета. Предмет не может, оставаясь самим собой, потерять свое качеств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вышение качества образования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– одна из основных задач, декларируемых Концепцией модернизации российского образования на период до 2010 года. В качестве условий достижения «нового современного качества дошкольного, общего и профессионального образования» определе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0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ведение в действие государственных образовательных стандартов и вариативного базисного учебного плана, позволяющего учитывать особенности регионов и вариативность общеобразовательных учреждений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птимизация учебной, психологической и физической нагрузки учащихся,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роведение в образовательных учреждениях работы, направленной на сохранение и укрепление здоровья обучающихс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, в том числе за счет разгрузки содержания общего образования,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использования эффективных методов обучен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, увеличения количества и повышения качества занятий физической культуры, организации мониторинга состояния здоровья учащихся, повышения качества отдыха детей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обеспечение дифференциации и индивидуализации обучен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более полное использование нравственного потенциала искусства как средства духовного развития личности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ведение профильного обучения в старшей школе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силение роли дисциплин, обеспечивающих социализацию учащихся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еспечение знания выпускниками средней школы иностранного языка на уровне функциональной грамотности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азвитие дистанционного образован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осударственная поддержка школ для одаренных детей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здание эффективной государственно-общественной системы экспертизы и контроля качества учебной литератур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здание государственной системы оценки качества образования и др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Для учащихся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хорошее качество образования связано, в первую очередь: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возможностями в будущем достигнуть успехов в карьере, достигнуть цели, поставленной в жизни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хорошими знаниями по всем предметам, когда по окончании школы ученик без проблем может поступить в ВУЗ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профессионализмом педагогов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умением учащихся применить полученные знания в жизни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дополнительным знанием, обучением, пониманием предметов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Для учителей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хорошее качество образования связано, в первую очередь: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 школой, которая учитывает индивидуальные особенности школьника, способности и потребности детей; где учителя придерживаются гуманистического принципа воспитания, где есть творческие педагоги и мудрое руководство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умением ученика самостоятельно мыслить, анализировать,  работать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профессиональной позицией и самоощущением учителя, когда он четко представляет свои цели, знает как их достичь и чувствует душевный комфорт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умением подготовить школьника в ВУЗ, глубоким раскрытием наиболее интересных вопросов науки, подготовкой ученика не только умственно, но и нравственно (морально)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Качество образовательного процесса синтезируется из следующих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качест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образовательной програм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потенциала педагогического состава, задействованного в образовательном процесс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потенциала обучаю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средств образовательного процесса (материально-технической, лабораторно-экспериментальной базы, учебно-методического обеспечения, учебных кабинетов, транслируемых знаний и др.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образовательных технолог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а управления образовательными системами и процессами (управленческих технологий в образовани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14200" y="285840"/>
            <a:ext cx="84297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ТОДИЧЕСКАЯ  ТЕМА  ШКОЛЫ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 Дистанционное обучение как фактор развития современного инновационного образовательного учрежд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010-2011, 2011-2012, 2012-2013 г.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212760" y="1725480"/>
            <a:ext cx="8894880" cy="435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7:05:17Z</dcterms:created>
  <dc:creator>Даша</dc:creator>
  <dc:description/>
  <dc:language>en-US</dc:language>
  <cp:lastModifiedBy>Кондратова</cp:lastModifiedBy>
  <dcterms:modified xsi:type="dcterms:W3CDTF">2012-01-12T11:37:09Z</dcterms:modified>
  <cp:revision>103</cp:revision>
  <dc:subject/>
  <dc:title>Слайд 1</dc:title>
</cp:coreProperties>
</file>