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06F-BA44-45FF-9CDD-8A3A21F3B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F7F-E49A-49C4-9ACB-2BDD2CA57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E24-6EDD-4ED1-9258-7078F130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A5B-B424-455D-B91D-72E63EF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A63-FA52-40AF-8036-4FF308CC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98A-9719-410C-BE4A-B5EE5617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63-D317-4CA3-95FC-3559D5C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6FA-DCBD-4765-9EF9-5EC604A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69F-9A2A-4C95-8D14-3E4D879B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48F-9539-41A6-9306-C728862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78F-FB14-4661-B23D-2DD3E084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AE2-052E-4A0E-8B12-550962F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F57-6A3E-4CBD-AC74-E36BDC7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3DF-8B39-4B9A-9B3B-8412254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01B-DA09-4446-B3AD-F816AAECA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8840" y="500040"/>
            <a:ext cx="647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Государствен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Центр образования № 133 Не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665280" y="1865160"/>
            <a:ext cx="767376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71680" y="3429000"/>
            <a:ext cx="7929360" cy="3445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58ed5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овременный учитель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фессиональная компетент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временного учител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714680" y="6143760"/>
            <a:ext cx="550044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0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214200" y="596880"/>
            <a:ext cx="864396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ый учитель сегодня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одновре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 и лич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стать значимым, сегодня необходимо практическое овладение теми видами педагогической культуры, к которым учитель готов чаще всего только теоретичес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5840" y="319680"/>
            <a:ext cx="842940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Выделяется семь групп умений составляющих методическое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мастерство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ерцептивные умения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)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понять состояние учащегося, проникнуть в его внутренний мир; б) умение видеть всех и каждого (распределение внимания, боковое зрение); в) умение отличать текущую информацию об ученике от устойчивых его характеристик; г) умение воспринимать ситуацию общения в контексте деятельности (видеть статус ученика в коллективе); распознавать межличностные отношения в классе; д) умение распределять внимание между различными компонентами процесса обучения; е) умение подмечать и оценивать положительное и отрицательное в деятельности (в том числе и речевой) учащихся; ж) умение видеть, в какой помощи нуждается учени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2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Проектировоч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ланировать уроки разных видов; б) умение предвидеть результаты планирования; в) умение отбирать необходимый для урока материал; г) умение предугадать поведение речевого (учебного) партнера; д) умение анализировать учебную ситуацию и выбрать верное решение; е) умение делать логические переходы в этапах урока, в этапах работы над темой и т.д.; ж) умение распределять учебный материал; з) умение определять необходимую дозу теории в практике обучения различным сторонам общения; и) умение предвидеть и предупреждать утомление или спад в усвоении учебного материала; к) умение импровизировать в неожиданных учебных ситуаци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Адаптационные умения: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одбирать приемы обучения (упражнения, задания), адекватные той или иной цели (любого уровня); б) умение использовать приемы работы, материал и т.п. соответственно индивидуальности учащегося (адаптация к индивидуальности); в) умение адаптировать свою речь в зависимости от класса и уровня его подготовленности; г) умение подходить к решению методических вопросов в зависимости от условий обучения (адаптация к условиям); д) умение контролировать, не нарушая взаимоотношений речевого партнерств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4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Коммуникативные ум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 умение устанавливать речевые взаимоотношения (речевую атмосферу); б) умение быть коммуникабельным; в) умение настроится на урок соответственно его содержанию и характеру; г) умение настроить соответствующим образом учащихся; д) умение выражать все необходимое с помощью речи, мимики, пантомимы; е) умение говорить выразительно и эмоционально; ж) умение говорить экспромтно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Организацион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организовать работу в парах; б) умение организовать групповую работу; в) умение организовать коллективное общение; г) умение организовать класс, когда отвечает один ученик; д) умение быстро распределять задания ( с учетом условий, индивидуальных способностей учащихся); е) умение организовать индивидуальную самостоятельную работу в классе; ж) умение организовать самостоятельную работу учащихся дома; з) умение найти помощника среди учащихся; и) умение требовать; к) умение организовать внеклассную воспитательную работ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ознав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анализировать деятельность коллег; б) умение анализировать собственную деятельность; в) умение подготовить научный доклад по проблемам обучения иностранным языкам; г) умение воспринимать новое в методике и претворять методические рекомендации; д) умение вести научную работу, участвовать в исследованиях; е) умение вести работу по самообразованию и самосовершенствова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Вспомог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рисовать, играть на музыкальных инструментах, хорошо стрелять, мастерить, что-то коллекционировать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1"/>
          <p:cNvSpPr/>
          <p:nvPr/>
        </p:nvSpPr>
        <p:spPr>
          <a:xfrm>
            <a:off x="714240" y="571680"/>
            <a:ext cx="7358040" cy="928440"/>
          </a:xfrm>
          <a:prstGeom prst="roundRect">
            <a:avLst>
              <a:gd name="adj" fmla="val 16667"/>
            </a:avLst>
          </a:prstGeom>
          <a:solidFill>
            <a:srgbClr val="20ece7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НОВАЦИОННЫЙ 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2"/>
          <p:cNvSpPr/>
          <p:nvPr/>
        </p:nvSpPr>
        <p:spPr>
          <a:xfrm>
            <a:off x="142920" y="2786040"/>
            <a:ext cx="364320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4929120" y="2786040"/>
            <a:ext cx="364356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В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357200" y="4357800"/>
            <a:ext cx="6143760" cy="92844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МЕНЕНИЕ  НОВШ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6"/>
          <p:cNvCxnSpPr>
            <a:stCxn id="67" idx="2"/>
            <a:endCxn id="70" idx="0"/>
          </p:cNvCxnSpPr>
          <p:nvPr/>
        </p:nvCxnSpPr>
        <p:spPr>
          <a:xfrm>
            <a:off x="4391640" y="1500120"/>
            <a:ext cx="37080" cy="285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Прямая со стрелкой 8"/>
          <p:cNvCxnSpPr>
            <a:stCxn id="67" idx="2"/>
            <a:endCxn id="69" idx="0"/>
          </p:cNvCxnSpPr>
          <p:nvPr/>
        </p:nvCxnSpPr>
        <p:spPr>
          <a:xfrm>
            <a:off x="4391640" y="1500120"/>
            <a:ext cx="235980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11"/>
          <p:cNvCxnSpPr>
            <a:stCxn id="67" idx="2"/>
            <a:endCxn id="68" idx="0"/>
          </p:cNvCxnSpPr>
          <p:nvPr/>
        </p:nvCxnSpPr>
        <p:spPr>
          <a:xfrm flipH="1">
            <a:off x="1963080" y="1500120"/>
            <a:ext cx="242964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ятиугольник 1" descr=""/>
          <p:cNvPicPr/>
          <p:nvPr/>
        </p:nvPicPr>
        <p:blipFill>
          <a:blip r:embed="rId1"/>
          <a:stretch/>
        </p:blipFill>
        <p:spPr>
          <a:xfrm>
            <a:off x="768240" y="407880"/>
            <a:ext cx="7534440" cy="203688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2"/>
          <p:cNvSpPr/>
          <p:nvPr/>
        </p:nvSpPr>
        <p:spPr>
          <a:xfrm>
            <a:off x="857160" y="2500200"/>
            <a:ext cx="7429680" cy="1357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ым функция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новационной деятельности относятся изменения компонентов педагогического процесса: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мысла, целей, содержания образования, форм, методов, технологий, средств обучения, системы управлении и т.п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иугольник 3"/>
          <p:cNvSpPr/>
          <p:nvPr/>
        </p:nvSpPr>
        <p:spPr>
          <a:xfrm rot="16200000">
            <a:off x="3357360" y="1571040"/>
            <a:ext cx="2500200" cy="750096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7500960"/>
              <a:gd name="textAreaBottom" fmla="*/ 7501320 h 750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12" y="0"/>
                </a:lnTo>
                <a:lnTo>
                  <a:pt x="21600" y="10800"/>
                </a:lnTo>
                <a:lnTo>
                  <a:pt x="130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новационный процесс представляет собой совокупность процедур и средств, с помощью которых педагогическое открытие или идея превращаются в социальное, в том числе, образовательное новов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42960" y="1214280"/>
            <a:ext cx="7858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новацион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атр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рех основных аспект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циально-экономическом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сихолого-педагогическом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рганизационно-управленческ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1571760"/>
            <a:ext cx="7643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ая Инноватика-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чение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о создании педагогических новшеств , их оценке и освоении педагогическим сообществом , использовании и применении на практи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нутый угол 1"/>
          <p:cNvSpPr/>
          <p:nvPr/>
        </p:nvSpPr>
        <p:spPr>
          <a:xfrm>
            <a:off x="428760" y="357120"/>
            <a:ext cx="8215200" cy="6215040"/>
          </a:xfrm>
          <a:prstGeom prst="foldedCorner">
            <a:avLst>
              <a:gd name="adj" fmla="val 16666"/>
            </a:avLst>
          </a:prstGeom>
          <a:solidFill>
            <a:srgbClr val="c3d69b">
              <a:alpha val="2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систематике педагогические нововведения подразделяются на следующие типы и подтипы: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тношению к структурным элементам образовательных систем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о отношению к личностному становлению субъектов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ласти педагогического примен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ипам взаимодействия участников педагогического процесса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функциональным возможностям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пособам осуществл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масштабности распространения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оциально-педагогической значимости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ъёму новаторских мероприятий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тепени предполагаемых преобразо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42920" y="321120"/>
            <a:ext cx="88581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кторы, препятствующие нововведениям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у нас уже есть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приводится сходное нововведение. В данном случае задачей оппонента является необходимость доказательства обманчивости сходства и значимости различий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у нас не получится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тверждение данного тезиса обычно приводятся объективные, на взгляд говорящего, условия, делающие введение конкретного новшества невозможным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не решает главных проблем"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утверждение делается как бы с радикальных позиций. Новшество в этом случае получает образ паллиатива, а инноватор - черты недостаточно смелого проводника подлинного прогресса. Поскольку разведение главного и второстепенного - дело интерпретации, возможность отвода почти гарантирована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требует доработки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каждое новшество, каждый проект нуждается в доработке. И, выдвигая этот тезис, действительно указываются слабые места нововведения. Новшество наделяется характеристикой "сырого" и поэтому проводить его в жизнь вроде бы не следует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Здесь не все равноценно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сечь некоторые детали у новшества, то ощутимого запланированного эффекта уже не предвидится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и другие предложения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подразумевается альтернатива данному новшеству, но вовсе не с целью предложить лучшее решение, а лишь для того, чтобы вообще отвлечь внимание от применения новшеств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090440"/>
            <a:ext cx="8400960" cy="559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463680"/>
            <a:ext cx="8437680" cy="655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-311040" y="420840"/>
            <a:ext cx="9839160" cy="626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100800"/>
            <a:ext cx="73134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828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илософский словарь дает такое толкование категории каче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ть существенная определенность предмета, в силу которой он является данным, а не иным предметом и отличается от других предметов. Качество предмета, как правило, не сводится к отдельным его свойствам. Оно связано с предметом как целым, охватывает его полностью и неотделимо от него. Поэтому понятие качества связывается с бытием предмета. Предмет не может, оставаясь самим собой, потерять свое качеств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вышение качества образования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– одна из основных задач, декларируемых Концепцией модернизации российского образования на период до 2010 года. В качестве условий достижения «нового современного качества дошкольного, общего и профессионального образования» определ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в действие государственных образовательных стандартов и вариативного базисного учебного плана, позволяющего учитывать особенности регионов и вариативность общеобразовательных учреждени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тимизация учебной, психологической и физической нагрузки учащихс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оведение в образовательных учреждениях работы, направленной на сохранение и укрепление здоровья обучающихс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в том числе за счет разгрузки содержания общего образовани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спользования эффективных методов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увеличения количества и повышения качества занятий физической культуры, организации мониторинга состояния здоровья учащихся, повышения качества отдыха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обеспечение дифференциации и индивидуализации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более полное использование нравственного потенциала искусства как средства духовного развития личност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профильного обучения в старшей школе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иление роли дисциплин, обеспечивающих социализацию учащихся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е знания выпускниками средней школы иностранного языка на уровне функциональной грамотност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тие дистанционного образова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ударственная поддержка школ для одаренных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эффективной государственно-общественной системы экспертизы и контроля качества учебной литератур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государственной системы оценки качества образования и др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ля учащихся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озможностями в будущем достигнуть успехов в карьере, достигнуть цели, поставленной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хорошими знаниями по всем предметам, когда по окончании школы ученик без проблем может поступить в ВУЗ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измом педагогов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ащихся применить полученные знания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дополнительным знанием, обучением, пониманием предметов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Для учител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 школой, которая учитывает индивидуальные особенности школьника, способности и потребности детей; где учителя придерживаются гуманистического принципа воспитания, где есть творческие педагоги и мудрое руководство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еника самостоятельно мыслить, анализировать,  работать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ьной позицией и самоощущением учителя, когда он четко представляет свои цели, знает как их достичь и чувствует душевный комфор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подготовить школьника в ВУЗ, глубоким раскрытием наиболее интересных вопросов науки, подготовкой ученика не только умственно, но и нравственно (морально)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ачество образовательного процесса синтезируется из следующих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качест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ой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педагогического состава, задействованного в образовательном процесс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обучаю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средств образовательного процесса (материально-технической, лабораторно-экспериментальной базы, учебно-методического обеспечения, учебных кабинетов, транслируемых знаний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ых технолог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управления образовательными системами и процессами (управленческих технологий в образовани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14200" y="285840"/>
            <a:ext cx="8429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ТОДИЧЕСКАЯ  ТЕМА  ШКОЛЫ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 Дистанционное обучение как фактор развития современного инновационного образовательного учре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010-2011, 2011-2012, 2012-2013 г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1725480"/>
            <a:ext cx="889488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7:05:17Z</dcterms:created>
  <dc:creator>Даша</dc:creator>
  <dc:description/>
  <dc:language>en-US</dc:language>
  <cp:lastModifiedBy>Кондратова</cp:lastModifiedBy>
  <dcterms:modified xsi:type="dcterms:W3CDTF">2012-01-12T11:37:09Z</dcterms:modified>
  <cp:revision>103</cp:revision>
  <dc:subject/>
  <dc:title>Слайд 1</dc:title>
</cp:coreProperties>
</file>