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19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25A02-2F97-4F2C-B808-7789D620527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D60B0-419E-4D8F-9F22-144F5ADEB90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7C8A-FDD4-4625-B38C-0E4BE5556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1326-8FAC-4310-85E9-4057D1582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F545-7F5E-4F91-8CD1-7CE536E51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FD0C-4C57-4BE1-B653-9F5ACE0C4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C1DB-2682-4BB6-9A46-11BA3F082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0525-065F-4C91-BA7B-E6F67D632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FB35-8D74-4C04-B017-3201E21D3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C291-8765-48A6-8FE2-818125C14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EC63-02F0-4D1D-9163-7BFDA2AFF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544A-B619-48F6-98D0-D6E9AF0CB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031C-77DB-4071-9055-A22EBEAF8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88B5-7BBB-4A68-8579-66269D56A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B8C00-A686-4B45-BE25-5E0B54F3F2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1428840" y="500040"/>
            <a:ext cx="647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Calibri"/>
              </a:rPr>
              <a:t>Государственное общеобразовательное учрежде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Calibri"/>
              </a:rPr>
              <a:t>Центр образования № 133 Невского райо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Calibri"/>
              </a:rPr>
              <a:t>Санкт-Петербург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Прямоугольник 2" descr=""/>
          <p:cNvPicPr/>
          <p:nvPr/>
        </p:nvPicPr>
        <p:blipFill>
          <a:blip r:embed="rId2"/>
          <a:stretch/>
        </p:blipFill>
        <p:spPr>
          <a:xfrm>
            <a:off x="665280" y="1865160"/>
            <a:ext cx="7673760" cy="118908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571680" y="3429000"/>
            <a:ext cx="7929360" cy="34455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58ed5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«Современный учитель</a:t>
            </a: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профессиональная компетентность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современного учителя»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1714680" y="6143760"/>
            <a:ext cx="5500440" cy="64260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анкт-Петербург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010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5"/>
          <p:cNvSpPr/>
          <p:nvPr/>
        </p:nvSpPr>
        <p:spPr>
          <a:xfrm>
            <a:off x="214200" y="596880"/>
            <a:ext cx="8643960" cy="52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начимый учитель сегодня –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то одновременн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фессионал и личность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того чтобы стать значимым, сегодня необходимо практическое овладение теми видами педагогической культуры, к которым учитель готов чаще всего только теоретичес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285840" y="319680"/>
            <a:ext cx="8429400" cy="63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b050"/>
                </a:solidFill>
                <a:latin typeface="Arial"/>
                <a:ea typeface="Times New Roman"/>
              </a:rPr>
              <a:t>Выделяется семь групп умений составляющих методическое</a:t>
            </a:r>
            <a:r>
              <a:rPr b="1" lang="en-US" sz="1400" spc="-1" strike="noStrike">
                <a:solidFill>
                  <a:srgbClr val="00b050"/>
                </a:solidFill>
                <a:latin typeface="Arial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b050"/>
                </a:solidFill>
                <a:latin typeface="Arial"/>
                <a:ea typeface="Times New Roman"/>
              </a:rPr>
              <a:t>мастерство</a:t>
            </a:r>
            <a:r>
              <a:rPr b="1" lang="ru-RU" sz="1400" spc="-1" strike="noStrike">
                <a:solidFill>
                  <a:srgbClr val="00b05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1f497d"/>
                </a:solidFill>
                <a:uFillTx/>
                <a:latin typeface="Arial"/>
                <a:ea typeface="Times New Roman"/>
              </a:rPr>
              <a:t>Перцептивные умения</a:t>
            </a:r>
            <a:r>
              <a:rPr b="1" lang="ru-RU" sz="1200" spc="-1" strike="noStrike">
                <a:solidFill>
                  <a:srgbClr val="1f497d"/>
                </a:solidFill>
                <a:latin typeface="Arial"/>
                <a:ea typeface="Times New Roman"/>
              </a:rPr>
              <a:t>: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а)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умение понять состояние учащегося, проникнуть в его внутренний мир; б) умение видеть всех и каждого (распределение внимания, боковое зрение); в) умение отличать текущую информацию об ученике от устойчивых его характеристик; г) умение воспринимать ситуацию общения в контексте деятельности (видеть статус ученика в коллективе); распознавать межличностные отношения в классе; д) умение распределять внимание между различными компонентами процесса обучения; е) умение подмечать и оценивать положительное и отрицательное в деятельности (в том числе и речевой) учащихся; ж) умение видеть, в какой помощи нуждается ученик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Arial"/>
                <a:ea typeface="Times New Roman"/>
              </a:rPr>
              <a:t>2</a:t>
            </a:r>
            <a:r>
              <a:rPr b="1" lang="ru-RU" sz="1200" spc="-1" strike="noStrike" u="sng">
                <a:solidFill>
                  <a:srgbClr val="1f497d"/>
                </a:solidFill>
                <a:uFillTx/>
                <a:latin typeface="Arial"/>
                <a:ea typeface="Times New Roman"/>
              </a:rPr>
              <a:t>. Проектировочные умени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а) умение планировать уроки разных видов; б) умение предвидеть результаты планирования; в) умение отбирать необходимый для урока материал; г) умение предугадать поведение речевого (учебного) партнера; д) умение анализировать учебную ситуацию и выбрать верное решение; е) умение делать логические переходы в этапах урока, в этапах работы над темой и т.д.; ж) умение распределять учебный материал; з) умение определять необходимую дозу теории в практике обучения различным сторонам общения; и) умение предвидеть и предупреждать утомление или спад в усвоении учебного материала; к) умение импровизировать в неожиданных учебных ситуациях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Arial"/>
                <a:ea typeface="Times New Roman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ru-RU" sz="1200" spc="-1" strike="noStrike" u="sng">
                <a:solidFill>
                  <a:srgbClr val="1f497d"/>
                </a:solidFill>
                <a:uFillTx/>
                <a:latin typeface="Arial"/>
                <a:ea typeface="Times New Roman"/>
              </a:rPr>
              <a:t>Адаптационные умения:</a:t>
            </a:r>
            <a:r>
              <a:rPr b="0" lang="ru-RU" sz="1200" spc="-1" strike="noStrike" u="sng">
                <a:solidFill>
                  <a:srgbClr val="1f497d"/>
                </a:solidFill>
                <a:uFillTx/>
                <a:latin typeface="Arial"/>
                <a:ea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а) умение подбирать приемы обучения (упражнения, задания), адекватные той или иной цели (любого уровня); б) умение использовать приемы работы, материал и т.п. соответственно индивидуальности учащегося (адаптация к индивидуальности); в) умение адаптировать свою речь в зависимости от класса и уровня его подготовленности; г) умение подходить к решению методических вопросов в зависимости от условий обучения (адаптация к условиям); д) умение контролировать, не нарушая взаимоотношений речевого партнерства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Arial"/>
                <a:ea typeface="Times New Roman"/>
              </a:rPr>
              <a:t>4</a:t>
            </a:r>
            <a:r>
              <a:rPr b="1" lang="ru-RU" sz="1200" spc="-1" strike="noStrike" u="sng">
                <a:solidFill>
                  <a:srgbClr val="1f497d"/>
                </a:solidFill>
                <a:uFillTx/>
                <a:latin typeface="Arial"/>
                <a:ea typeface="Times New Roman"/>
              </a:rPr>
              <a:t>. Коммуникативные умен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: а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) умение устанавливать речевые взаимоотношения (речевую атмосферу); б) умение быть коммуникабельным; в) умение настроится на урок соответственно его содержанию и характеру; г) умение настроить соответствующим образом учащихся; д) умение выражать все необходимое с помощью речи, мимики, пантомимы; е) умение говорить выразительно и эмоционально; ж) умение говорить экспромтно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Arial"/>
                <a:ea typeface="Times New Roman"/>
              </a:rPr>
              <a:t>5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ru-RU" sz="1200" spc="-1" strike="noStrike" u="sng">
                <a:solidFill>
                  <a:srgbClr val="1f497d"/>
                </a:solidFill>
                <a:uFillTx/>
                <a:latin typeface="Arial"/>
                <a:ea typeface="Times New Roman"/>
              </a:rPr>
              <a:t>Организационные умени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а) умение организовать работу в парах; б) умение организовать групповую работу; в) умение организовать коллективное общение; г) умение организовать класс, когда отвечает один ученик; д) умение быстро распределять задания ( с учетом условий, индивидуальных способностей учащихся); е) умение организовать индивидуальную самостоятельную работу в классе; ж) умение организовать самостоятельную работу учащихся дома; з) умение найти помощника среди учащихся; и) умение требовать; к) умение организовать внеклассную воспитательную работу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Arial"/>
                <a:ea typeface="Times New Roman"/>
              </a:rPr>
              <a:t>6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ru-RU" sz="1200" spc="-1" strike="noStrike" u="sng">
                <a:solidFill>
                  <a:srgbClr val="1f497d"/>
                </a:solidFill>
                <a:uFillTx/>
                <a:latin typeface="Arial"/>
                <a:ea typeface="Times New Roman"/>
              </a:rPr>
              <a:t>Познавательные умени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а) умение анализировать деятельность коллег; б) умение анализировать собственную деятельность; в) умение подготовить научный доклад по проблемам обучения иностранным языкам; г) умение воспринимать новое в методике и претворять методические рекомендации; д) умение вести научную работу, участвовать в исследованиях; е) умение вести работу по самообразованию и самосовершенствованию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Arial"/>
                <a:ea typeface="Times New Roman"/>
              </a:rPr>
              <a:t>7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ru-RU" sz="1200" spc="-1" strike="noStrike" u="sng">
                <a:solidFill>
                  <a:srgbClr val="1f497d"/>
                </a:solidFill>
                <a:uFillTx/>
                <a:latin typeface="Arial"/>
                <a:ea typeface="Times New Roman"/>
              </a:rPr>
              <a:t>Вспомогательные умени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умение рисовать, играть на музыкальных инструментах, хорошо стрелять, мастерить, что-то коллекционировать и т.д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Скругленный прямоугольник 1"/>
          <p:cNvSpPr/>
          <p:nvPr/>
        </p:nvSpPr>
        <p:spPr>
          <a:xfrm>
            <a:off x="714240" y="571680"/>
            <a:ext cx="7358040" cy="928440"/>
          </a:xfrm>
          <a:prstGeom prst="roundRect">
            <a:avLst>
              <a:gd name="adj" fmla="val 16667"/>
            </a:avLst>
          </a:prstGeom>
          <a:solidFill>
            <a:srgbClr val="20ece7">
              <a:alpha val="54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ИННОВАЦИОННЫЙ  ПРОЦЕС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Скругленный прямоугольник 2"/>
          <p:cNvSpPr/>
          <p:nvPr/>
        </p:nvSpPr>
        <p:spPr>
          <a:xfrm>
            <a:off x="142920" y="2786040"/>
            <a:ext cx="3643200" cy="928800"/>
          </a:xfrm>
          <a:prstGeom prst="roundRect">
            <a:avLst>
              <a:gd name="adj" fmla="val 16667"/>
            </a:avLst>
          </a:prstGeom>
          <a:solidFill>
            <a:srgbClr val="4f81bd">
              <a:alpha val="5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ОЗДА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Скругленный прямоугольник 3"/>
          <p:cNvSpPr/>
          <p:nvPr/>
        </p:nvSpPr>
        <p:spPr>
          <a:xfrm>
            <a:off x="4929120" y="2786040"/>
            <a:ext cx="3643560" cy="928800"/>
          </a:xfrm>
          <a:prstGeom prst="roundRect">
            <a:avLst>
              <a:gd name="adj" fmla="val 16667"/>
            </a:avLst>
          </a:prstGeom>
          <a:solidFill>
            <a:srgbClr val="4f81bd">
              <a:alpha val="5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ОСВОЕ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Скругленный прямоугольник 4"/>
          <p:cNvSpPr/>
          <p:nvPr/>
        </p:nvSpPr>
        <p:spPr>
          <a:xfrm>
            <a:off x="1357200" y="4357800"/>
            <a:ext cx="6143760" cy="928440"/>
          </a:xfrm>
          <a:prstGeom prst="roundRect">
            <a:avLst>
              <a:gd name="adj" fmla="val 16667"/>
            </a:avLst>
          </a:prstGeom>
          <a:solidFill>
            <a:srgbClr val="4f81bd">
              <a:alpha val="5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ПРИМЕНЕНИЕ  НОВШЕСТ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1" name="Прямая со стрелкой 6"/>
          <p:cNvCxnSpPr>
            <a:stCxn id="67" idx="2"/>
            <a:endCxn id="70" idx="0"/>
          </p:cNvCxnSpPr>
          <p:nvPr/>
        </p:nvCxnSpPr>
        <p:spPr>
          <a:xfrm>
            <a:off x="4391640" y="1500120"/>
            <a:ext cx="37080" cy="2858400"/>
          </a:xfrm>
          <a:prstGeom prst="straightConnector1">
            <a:avLst/>
          </a:prstGeom>
          <a:ln w="381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2" name="Прямая со стрелкой 8"/>
          <p:cNvCxnSpPr>
            <a:stCxn id="67" idx="2"/>
            <a:endCxn id="69" idx="0"/>
          </p:cNvCxnSpPr>
          <p:nvPr/>
        </p:nvCxnSpPr>
        <p:spPr>
          <a:xfrm>
            <a:off x="4391640" y="1500120"/>
            <a:ext cx="2359800" cy="1286640"/>
          </a:xfrm>
          <a:prstGeom prst="straightConnector1">
            <a:avLst/>
          </a:prstGeom>
          <a:ln w="381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3" name="Прямая со стрелкой 11"/>
          <p:cNvCxnSpPr>
            <a:stCxn id="67" idx="2"/>
            <a:endCxn id="68" idx="0"/>
          </p:cNvCxnSpPr>
          <p:nvPr/>
        </p:nvCxnSpPr>
        <p:spPr>
          <a:xfrm flipH="1">
            <a:off x="1963080" y="1500120"/>
            <a:ext cx="2429640" cy="1286640"/>
          </a:xfrm>
          <a:prstGeom prst="straightConnector1">
            <a:avLst/>
          </a:prstGeom>
          <a:ln w="381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Пятиугольник 1" descr=""/>
          <p:cNvPicPr/>
          <p:nvPr/>
        </p:nvPicPr>
        <p:blipFill>
          <a:blip r:embed="rId1"/>
          <a:stretch/>
        </p:blipFill>
        <p:spPr>
          <a:xfrm>
            <a:off x="768240" y="407880"/>
            <a:ext cx="7534440" cy="2036880"/>
          </a:xfrm>
          <a:prstGeom prst="rect">
            <a:avLst/>
          </a:prstGeom>
          <a:ln w="0">
            <a:noFill/>
          </a:ln>
        </p:spPr>
      </p:pic>
      <p:sp>
        <p:nvSpPr>
          <p:cNvPr id="75" name="Скругленный прямоугольник 2"/>
          <p:cNvSpPr/>
          <p:nvPr/>
        </p:nvSpPr>
        <p:spPr>
          <a:xfrm>
            <a:off x="857160" y="2500200"/>
            <a:ext cx="7429680" cy="13575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К 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основным функциям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инновационной деятельности относятся изменения компонентов педагогического процесса: 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мысла, целей, содержания образования, форм, методов, технологий, средств обучения, системы управлении и т.п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ятиугольник 3"/>
          <p:cNvSpPr/>
          <p:nvPr/>
        </p:nvSpPr>
        <p:spPr>
          <a:xfrm rot="16200000">
            <a:off x="3357360" y="1571040"/>
            <a:ext cx="2500200" cy="7500960"/>
          </a:xfrm>
          <a:custGeom>
            <a:avLst/>
            <a:gdLst>
              <a:gd name="textAreaLeft" fmla="*/ 0 w 2500200"/>
              <a:gd name="textAreaRight" fmla="*/ 2500560 w 2500200"/>
              <a:gd name="textAreaTop" fmla="*/ 0 h 7500960"/>
              <a:gd name="textAreaBottom" fmla="*/ 7501320 h 750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012" y="0"/>
                </a:lnTo>
                <a:lnTo>
                  <a:pt x="21600" y="10800"/>
                </a:lnTo>
                <a:lnTo>
                  <a:pt x="1301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Инновационный процесс представляет собой совокупность процедур и средств, с помощью которых педагогическое открытие или идея превращаются в социальное, в том числе, образовательное нововведе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1"/>
          <p:cNvSpPr/>
          <p:nvPr/>
        </p:nvSpPr>
        <p:spPr>
          <a:xfrm>
            <a:off x="642960" y="1214280"/>
            <a:ext cx="7858080" cy="41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Инновационные процесс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в образовани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рассматриваютс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в трех основных аспектах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социально-экономическом</a:t>
            </a: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психолого-педагогическом 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рганизационно-управленческо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1"/>
          <p:cNvSpPr/>
          <p:nvPr/>
        </p:nvSpPr>
        <p:spPr>
          <a:xfrm>
            <a:off x="428760" y="1571760"/>
            <a:ext cx="76435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Педагогическая Инноватика-</a:t>
            </a:r>
            <a:r>
              <a:rPr b="1" lang="ru-RU" sz="4000" spc="-1" strike="noStrike">
                <a:solidFill>
                  <a:srgbClr val="17375e"/>
                </a:solidFill>
                <a:latin typeface="Calibri"/>
              </a:rPr>
              <a:t>учение</a:t>
            </a:r>
            <a:r>
              <a:rPr b="1" lang="ru-RU" sz="40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17375e"/>
                </a:solidFill>
                <a:latin typeface="Calibri"/>
              </a:rPr>
              <a:t>о создании педагогических новшеств , их оценке и освоении педагогическим сообществом , использовании и применении на практик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Загнутый угол 1"/>
          <p:cNvSpPr/>
          <p:nvPr/>
        </p:nvSpPr>
        <p:spPr>
          <a:xfrm>
            <a:off x="428760" y="357120"/>
            <a:ext cx="8215200" cy="6215040"/>
          </a:xfrm>
          <a:prstGeom prst="foldedCorner">
            <a:avLst>
              <a:gd name="adj" fmla="val 16666"/>
            </a:avLst>
          </a:prstGeom>
          <a:solidFill>
            <a:srgbClr val="c3d69b">
              <a:alpha val="22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 систематике педагогические нововведения подразделяются на следующие типы и подтипы: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о отношению к структурным элементам образовательных систем</a:t>
            </a:r>
            <a:br>
              <a:rPr sz="2000"/>
            </a:b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- По отношению к личностному становлению субъектов образования</a:t>
            </a:r>
            <a:br>
              <a:rPr sz="2000"/>
            </a:br>
            <a:r>
              <a:rPr b="0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- </a:t>
            </a: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о области педагогического применения</a:t>
            </a:r>
            <a:br>
              <a:rPr sz="2000"/>
            </a:br>
            <a:r>
              <a:rPr b="0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- </a:t>
            </a: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о типам взаимодействия участников педагогического процесса</a:t>
            </a:r>
            <a:r>
              <a:rPr b="0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- </a:t>
            </a: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о функциональным возможностям</a:t>
            </a:r>
            <a:br>
              <a:rPr sz="2000"/>
            </a:br>
            <a:r>
              <a:rPr b="0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- </a:t>
            </a: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о способам осуществления</a:t>
            </a:r>
            <a:br>
              <a:rPr sz="2000"/>
            </a:br>
            <a:r>
              <a:rPr b="0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- </a:t>
            </a: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о масштабности распространения</a:t>
            </a:r>
            <a:r>
              <a:rPr b="0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r>
              <a:rPr b="0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- </a:t>
            </a: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о социально-педагогической значимости</a:t>
            </a:r>
            <a:r>
              <a:rPr b="0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r>
              <a:rPr b="0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- </a:t>
            </a: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о объёму новаторских мероприятий</a:t>
            </a:r>
            <a:br>
              <a:rPr sz="2000"/>
            </a:br>
            <a:r>
              <a:rPr b="0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- </a:t>
            </a: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о степени предполагаемых преобразова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"/>
          <p:cNvSpPr/>
          <p:nvPr/>
        </p:nvSpPr>
        <p:spPr>
          <a:xfrm>
            <a:off x="142920" y="321120"/>
            <a:ext cx="8858160" cy="70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акторы, препятствующие нововведениям 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"Это у нас уже есть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".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равило, приводится сходное нововведение. В данном случае задачей оппонента является необходимость доказательства обманчивости сходства и значимости различий. </a:t>
            </a:r>
            <a:br>
              <a:rPr sz="1400"/>
            </a:br>
            <a:br>
              <a:rPr sz="14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"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то у нас не получится"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дтверждение данного тезиса обычно приводятся объективные, на взгляд говорящего, условия, делающие введение конкретного новшества невозможным. </a:t>
            </a:r>
            <a:br>
              <a:rPr sz="1400"/>
            </a:br>
            <a:br>
              <a:rPr sz="14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"Это не решает главных проблем".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е утверждение делается как бы с радикальных позиций. Новшество в этом случае получает образ паллиатива, а инноватор - черты недостаточно смелого проводника подлинного прогресса. Поскольку разведение главного и второстепенного - дело интерпретации, возможность отвода почти гарантирована. </a:t>
            </a:r>
            <a:br>
              <a:rPr sz="1400"/>
            </a:br>
            <a:br>
              <a:rPr sz="14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"Это требует доработки".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условно, каждое новшество, каждый проект нуждается в доработке. И, выдвигая этот тезис, действительно указываются слабые места нововведения. Новшество наделяется характеристикой "сырого" и поэтому проводить его в жизнь вроде бы не следует. </a:t>
            </a:r>
            <a:br>
              <a:rPr sz="1400"/>
            </a:br>
            <a:br>
              <a:rPr sz="14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"Здесь не все равноценно".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отсечь некоторые детали у новшества, то ощутимого запланированного эффекта уже не предвидится. 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"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сть и другие предложения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".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м случае подразумевается альтернатива данному новшеству, но вовсе не с целью предложить лучшее решение, а лишь для того, чтобы вообще отвлечь внимание от применения новшеств. 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Прямоугольник 1" descr=""/>
          <p:cNvPicPr/>
          <p:nvPr/>
        </p:nvPicPr>
        <p:blipFill>
          <a:blip r:embed="rId1"/>
          <a:stretch/>
        </p:blipFill>
        <p:spPr>
          <a:xfrm>
            <a:off x="146160" y="1090440"/>
            <a:ext cx="8400960" cy="55962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Прямоугольник 1" descr=""/>
          <p:cNvPicPr/>
          <p:nvPr/>
        </p:nvPicPr>
        <p:blipFill>
          <a:blip r:embed="rId1"/>
          <a:stretch/>
        </p:blipFill>
        <p:spPr>
          <a:xfrm>
            <a:off x="706320" y="463680"/>
            <a:ext cx="8437680" cy="65595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Прямоугольник 1" descr=""/>
          <p:cNvPicPr/>
          <p:nvPr/>
        </p:nvPicPr>
        <p:blipFill>
          <a:blip r:embed="rId1"/>
          <a:stretch/>
        </p:blipFill>
        <p:spPr>
          <a:xfrm>
            <a:off x="-311040" y="420840"/>
            <a:ext cx="9839160" cy="62611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100800"/>
            <a:ext cx="7313400" cy="5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57120" y="928800"/>
            <a:ext cx="82821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Философский словарь дает такое толкование категории качеств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 «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честв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есть существенная определенность предмета, в силу которой он является данным, а не иным предметом и отличается от других предметов. Качество предмета, как правило, не сводится к отдельным его свойствам. Оно связано с предметом как целым, охватывает его полностью и неотделимо от него. Поэтому понятие качества связывается с бытием предмета. Предмет не может, оставаясь самим собой, потерять свое качество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Повышение качества образования 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– одна из основных задач, декларируемых Концепцией модернизации российского образования на период до 2010 года. В качестве условий достижения «нового современного качества дошкольного, общего и профессионального образования» определен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00000" y="1483920"/>
            <a:ext cx="8064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введение в действие государственных образовательных стандартов и вариативного базисного учебного плана, позволяющего учитывать особенности регионов и вариативность общеобразовательных учреждений;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оптимизация учебной, психологической и физической нагрузки учащихся, 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проведение в образовательных учреждениях работы, направленной на сохранение и укрепление здоровья обучающихся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, в том числе за счет разгрузки содержания общего образования, 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использования эффективных методов обучения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, увеличения количества и повышения качества занятий физической культуры, организации мониторинга состояния здоровья учащихся, повышения качества отдыха детей;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обеспечение дифференциации и индивидуализации обучения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более полное использование нравственного потенциала искусства как средства духовного развития личности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введение профильного обучения в старшей школе;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усиление роли дисциплин, обеспечивающих социализацию учащихся;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обеспечение знания выпускниками средней школы иностранного языка на уровне функциональной грамотности;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развитие дистанционного образования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государственная поддержка школ для одаренных детей;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создание эффективной государственно-общественной системы экспертизы и контроля качества учебной литературы;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создание государственной системы оценки качества образования и др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Для учащихся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хорошее качество образования связано, в первую очередь: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с возможностями в будущем достигнуть успехов в карьере, достигнуть цели, поставленной в жизни;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с хорошими знаниями по всем предметам, когда по окончании школы ученик без проблем может поступить в ВУЗ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с профессионализмом педагогов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с умением учащихся применить полученные знания в жизни;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с дополнительным знанием, обучением, пониманием предметов;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Calibri"/>
              </a:rPr>
              <a:t>Для учителей</a:t>
            </a: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 хорошее качество образования связано, в первую очередь:</a:t>
            </a: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со школой, которая учитывает индивидуальные особенности школьника, способности и потребности детей; где учителя придерживаются гуманистического принципа воспитания, где есть творческие педагоги и мудрое руководство;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с умением ученика самостоятельно мыслить, анализировать,  работать;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с профессиональной позицией и самоощущением учителя, когда он четко представляет свои цели, знает как их достичь и чувствует душевный комфорт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с умением подготовить школьника в ВУЗ, глубоким раскрытием наиболее интересных вопросов науки, подготовкой ученика не только умственно, но и нравственно (морально);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Качество образовательного процесса синтезируется из следующих </a:t>
            </a:r>
            <a:r>
              <a:rPr b="1" i="1" lang="ru-RU" sz="2400" spc="-1" strike="noStrike">
                <a:solidFill>
                  <a:srgbClr val="00b050"/>
                </a:solidFill>
                <a:latin typeface="Calibri"/>
              </a:rPr>
              <a:t>качеств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чества образовательной программы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чества потенциала педагогического состава, задействованного в образовательном процессе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чества потенциала обучающихся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чества средств образовательного процесса (материально-технической, лабораторно-экспериментальной базы, учебно-методического обеспечения, учебных кабинетов, транслируемых знаний и др.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чества образовательных технологий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чества управления образовательными системами и процессами (управленческих технологий в образовании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"/>
          <p:cNvSpPr/>
          <p:nvPr/>
        </p:nvSpPr>
        <p:spPr>
          <a:xfrm>
            <a:off x="214200" y="285840"/>
            <a:ext cx="842976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МЕТОДИЧЕСКАЯ  ТЕМА  ШКОЛЫ </a:t>
            </a: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« Дистанционное обучение как фактор развития современного инновационного образовательного учреждения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2010-2011, 2011-2012, 2012-2013 г.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Прямоугольник 2" descr=""/>
          <p:cNvPicPr/>
          <p:nvPr/>
        </p:nvPicPr>
        <p:blipFill>
          <a:blip r:embed="rId2"/>
          <a:stretch/>
        </p:blipFill>
        <p:spPr>
          <a:xfrm>
            <a:off x="212760" y="1725480"/>
            <a:ext cx="8894880" cy="43513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6T17:05:17Z</dcterms:created>
  <dc:creator>Даша</dc:creator>
  <dc:description/>
  <dc:language>en-US</dc:language>
  <cp:lastModifiedBy>Кондратова</cp:lastModifiedBy>
  <dcterms:modified xsi:type="dcterms:W3CDTF">2012-01-12T11:37:09Z</dcterms:modified>
  <cp:revision>103</cp:revision>
  <dc:subject/>
  <dc:title>Слайд 1</dc:title>
</cp:coreProperties>
</file>