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16B-87E9-4874-9C3D-473E64DD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08C-2EA0-4C03-BEE7-8DF98DFB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E09-EBA4-4596-B8BD-001691CD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C98-F36F-4B18-B60F-B09E3568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5F7-1A7D-4448-8CF9-07E985C4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B31-7B0B-4C2A-AE41-92A7DC18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708-755B-403D-86D2-24D518AD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719-9F7C-4182-B667-744BA1C2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704-6B70-4347-8A10-4EABE04A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986-2B57-4DBF-8F55-C03488AD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041-BA17-4540-8E0F-A9AD5685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8A0-3001-4F8A-86F4-27222274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226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Object 15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Rectangle 16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AEA6-9265-4BD5-BAA6-2A23B8B75BC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226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4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920000" cy="25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Verdana"/>
              </a:rPr>
              <a:t>ОБРАЗОВАНИЕ 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Verdana"/>
              </a:rPr>
              <a:t>ДЕТЕЙ 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Verdana"/>
              </a:rPr>
              <a:t>С  ЗАДЕРЖКОЙ ПСИХИЧЕСКОГО РАЗВИТ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4" descr="P1060227"/>
          <p:cNvPicPr/>
          <p:nvPr/>
        </p:nvPicPr>
        <p:blipFill>
          <a:blip r:embed="rId1"/>
          <a:stretch/>
        </p:blipFill>
        <p:spPr>
          <a:xfrm>
            <a:off x="4211640" y="3716280"/>
            <a:ext cx="3024360" cy="196524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  <p:pic>
        <p:nvPicPr>
          <p:cNvPr id="86" name="Picture 6" descr="P1000762"/>
          <p:cNvPicPr/>
          <p:nvPr/>
        </p:nvPicPr>
        <p:blipFill>
          <a:blip r:embed="rId2"/>
          <a:stretch/>
        </p:blipFill>
        <p:spPr>
          <a:xfrm>
            <a:off x="2484360" y="4941720"/>
            <a:ext cx="2300400" cy="172404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4"/>
          <p:cNvGrpSpPr/>
          <p:nvPr/>
        </p:nvGrpSpPr>
        <p:grpSpPr>
          <a:xfrm>
            <a:off x="2627280" y="0"/>
            <a:ext cx="6191640" cy="6741360"/>
            <a:chOff x="2627280" y="0"/>
            <a:chExt cx="6191640" cy="6741360"/>
          </a:xfrm>
        </p:grpSpPr>
        <p:sp>
          <p:nvSpPr>
            <p:cNvPr id="222" name="AutoShape 5"/>
            <p:cNvSpPr/>
            <p:nvPr/>
          </p:nvSpPr>
          <p:spPr>
            <a:xfrm>
              <a:off x="2627280" y="514080"/>
              <a:ext cx="6173280" cy="477396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6"/>
            <p:cNvSpPr/>
            <p:nvPr/>
          </p:nvSpPr>
          <p:spPr>
            <a:xfrm>
              <a:off x="2722680" y="527760"/>
              <a:ext cx="5987520" cy="46828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7"/>
            <p:cNvSpPr/>
            <p:nvPr/>
          </p:nvSpPr>
          <p:spPr>
            <a:xfrm>
              <a:off x="2772000" y="3975120"/>
              <a:ext cx="5906160" cy="11851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8"/>
            <p:cNvSpPr/>
            <p:nvPr/>
          </p:nvSpPr>
          <p:spPr>
            <a:xfrm>
              <a:off x="2772000" y="564480"/>
              <a:ext cx="5906160" cy="11829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6" name="AutoShape 9"/>
            <p:cNvSpPr/>
            <p:nvPr/>
          </p:nvSpPr>
          <p:spPr>
            <a:xfrm>
              <a:off x="2645640" y="5288040"/>
              <a:ext cx="6173280" cy="145332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7" name="AutoShape 10"/>
            <p:cNvSpPr/>
            <p:nvPr/>
          </p:nvSpPr>
          <p:spPr>
            <a:xfrm>
              <a:off x="2772000" y="5327640"/>
              <a:ext cx="5906160" cy="129168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чины: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еблагоприятные условия воспитания: несогласованность и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отиворечивое влияние семьи и образовательных учреждений,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нфликтная обстановка в семье, безнадзорность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гноз: успеш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 условии коррекционно-воспитательной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ы с ребенком и с семьей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28" name="Group 11"/>
            <p:cNvGrpSpPr/>
            <p:nvPr/>
          </p:nvGrpSpPr>
          <p:grpSpPr>
            <a:xfrm>
              <a:off x="4751280" y="0"/>
              <a:ext cx="1834200" cy="1073520"/>
              <a:chOff x="4751280" y="0"/>
              <a:chExt cx="1834200" cy="1073520"/>
            </a:xfrm>
          </p:grpSpPr>
          <p:sp>
            <p:nvSpPr>
              <p:cNvPr id="229" name="Oval 12"/>
              <p:cNvSpPr/>
              <p:nvPr/>
            </p:nvSpPr>
            <p:spPr>
              <a:xfrm>
                <a:off x="4751280" y="0"/>
                <a:ext cx="1834200" cy="107352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0" name="Oval 13"/>
              <p:cNvSpPr/>
              <p:nvPr/>
            </p:nvSpPr>
            <p:spPr>
              <a:xfrm>
                <a:off x="4770360" y="8280"/>
                <a:ext cx="1773720" cy="10396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1" name="Oval 14"/>
              <p:cNvSpPr/>
              <p:nvPr/>
            </p:nvSpPr>
            <p:spPr>
              <a:xfrm>
                <a:off x="4792320" y="14400"/>
                <a:ext cx="1732680" cy="1014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2" name="Oval 15"/>
              <p:cNvSpPr/>
              <p:nvPr/>
            </p:nvSpPr>
            <p:spPr>
              <a:xfrm>
                <a:off x="4811400" y="24120"/>
                <a:ext cx="1647360" cy="94644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3" name="Oval 16"/>
              <p:cNvSpPr/>
              <p:nvPr/>
            </p:nvSpPr>
            <p:spPr>
              <a:xfrm>
                <a:off x="4907520" y="49680"/>
                <a:ext cx="1463760" cy="769680"/>
              </a:xfrm>
              <a:prstGeom prst="ellipse">
                <a:avLst/>
              </a:prstGeom>
              <a:solidFill>
                <a:srgbClr val="c4791e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34" name="Text Box 17"/>
            <p:cNvSpPr/>
            <p:nvPr/>
          </p:nvSpPr>
          <p:spPr>
            <a:xfrm>
              <a:off x="5475600" y="15372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Text Box 18"/>
            <p:cNvSpPr/>
            <p:nvPr/>
          </p:nvSpPr>
          <p:spPr>
            <a:xfrm>
              <a:off x="2844720" y="1272960"/>
              <a:ext cx="5870520" cy="3380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П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сихогенного происхождения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рудности в формировании учебно-познавательной деятельности и нарушения  поведении проявляется в отсутствии любознательности, усидчивости, трудолюбии, заинтересованности в успешном выполнении заданий, чувства долга и ответственности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оцесс формирования психики определяется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социально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ситуацией развития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условиях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гиперопеки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и при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психотравмирующих условиях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воспитания проявления личностной незрелости сочетаются с агрессивно-защитными или пассивно-защитными реакциями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 детей отмечаются: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) черты патологической незрелости эмоционально-волевой сферы: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ффективная лабильность, импульсивность, повышенная внушаемость;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) недостаточный уровень знаний, умений и</a:t>
              </a:r>
              <a:r>
                <a:rPr b="0" lang="ru-RU" sz="12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выков, необходимых для успешного усвоения школьной программы;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) неспособность к систематическому труду, раздражительность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36" name="Picture 20" descr="Рисунок1"/>
          <p:cNvPicPr/>
          <p:nvPr/>
        </p:nvPicPr>
        <p:blipFill>
          <a:blip r:embed="rId1"/>
          <a:stretch/>
        </p:blipFill>
        <p:spPr>
          <a:xfrm>
            <a:off x="250920" y="2421000"/>
            <a:ext cx="2190600" cy="2790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2556000" y="0"/>
            <a:ext cx="6586920" cy="6668640"/>
            <a:chOff x="2556000" y="0"/>
            <a:chExt cx="6586920" cy="6668640"/>
          </a:xfrm>
        </p:grpSpPr>
        <p:sp>
          <p:nvSpPr>
            <p:cNvPr id="238" name="AutoShape 3"/>
            <p:cNvSpPr/>
            <p:nvPr/>
          </p:nvSpPr>
          <p:spPr>
            <a:xfrm>
              <a:off x="2556000" y="508320"/>
              <a:ext cx="6567480" cy="472212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AutoShape 4"/>
            <p:cNvSpPr/>
            <p:nvPr/>
          </p:nvSpPr>
          <p:spPr>
            <a:xfrm>
              <a:off x="2657520" y="522000"/>
              <a:ext cx="6369480" cy="46321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AutoShape 5"/>
            <p:cNvSpPr/>
            <p:nvPr/>
          </p:nvSpPr>
          <p:spPr>
            <a:xfrm>
              <a:off x="2710080" y="3931920"/>
              <a:ext cx="6283440" cy="11725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AutoShape 6"/>
            <p:cNvSpPr/>
            <p:nvPr/>
          </p:nvSpPr>
          <p:spPr>
            <a:xfrm>
              <a:off x="2710080" y="558360"/>
              <a:ext cx="6283440" cy="11700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AutoShape 7"/>
            <p:cNvSpPr/>
            <p:nvPr/>
          </p:nvSpPr>
          <p:spPr>
            <a:xfrm>
              <a:off x="2575440" y="5230800"/>
              <a:ext cx="6567480" cy="143784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3" name="AutoShape 8"/>
            <p:cNvSpPr/>
            <p:nvPr/>
          </p:nvSpPr>
          <p:spPr>
            <a:xfrm>
              <a:off x="2710080" y="5270040"/>
              <a:ext cx="6283440" cy="127764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чины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: негрубая органическая недостаточность нервной системы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резидуального (остаточного) характера вследствие патологии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беременности, родов, постнатальных инфекций и др.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ноз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: зависит от организации специального обучения в школах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для детей с ЗПР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44" name="Group 9"/>
            <p:cNvGrpSpPr/>
            <p:nvPr/>
          </p:nvGrpSpPr>
          <p:grpSpPr>
            <a:xfrm>
              <a:off x="4815720" y="0"/>
              <a:ext cx="1951200" cy="1062000"/>
              <a:chOff x="4815720" y="0"/>
              <a:chExt cx="1951200" cy="1062000"/>
            </a:xfrm>
          </p:grpSpPr>
          <p:sp>
            <p:nvSpPr>
              <p:cNvPr id="245" name="Oval 10"/>
              <p:cNvSpPr/>
              <p:nvPr/>
            </p:nvSpPr>
            <p:spPr>
              <a:xfrm>
                <a:off x="4815720" y="0"/>
                <a:ext cx="1951200" cy="106200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6" name="Oval 11"/>
              <p:cNvSpPr/>
              <p:nvPr/>
            </p:nvSpPr>
            <p:spPr>
              <a:xfrm>
                <a:off x="4836240" y="8280"/>
                <a:ext cx="1886760" cy="102852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7" name="Oval 12"/>
              <p:cNvSpPr/>
              <p:nvPr/>
            </p:nvSpPr>
            <p:spPr>
              <a:xfrm>
                <a:off x="4859280" y="14400"/>
                <a:ext cx="1843200" cy="1003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8" name="Oval 13"/>
              <p:cNvSpPr/>
              <p:nvPr/>
            </p:nvSpPr>
            <p:spPr>
              <a:xfrm>
                <a:off x="4879800" y="24120"/>
                <a:ext cx="1752480" cy="93636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9" name="Oval 14"/>
              <p:cNvSpPr/>
              <p:nvPr/>
            </p:nvSpPr>
            <p:spPr>
              <a:xfrm>
                <a:off x="4981680" y="49320"/>
                <a:ext cx="1557000" cy="761400"/>
              </a:xfrm>
              <a:prstGeom prst="ellipse">
                <a:avLst/>
              </a:prstGeom>
              <a:solidFill>
                <a:srgbClr val="660066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0" name="Text Box 15"/>
            <p:cNvSpPr/>
            <p:nvPr/>
          </p:nvSpPr>
          <p:spPr>
            <a:xfrm>
              <a:off x="5597280" y="15228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Text Box 16"/>
            <p:cNvSpPr/>
            <p:nvPr/>
          </p:nvSpPr>
          <p:spPr>
            <a:xfrm>
              <a:off x="2787480" y="1259280"/>
              <a:ext cx="6244920" cy="3597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П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церебрально-органического происхождения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У детей отмечается замедленное формирование двигательных функций, речи, этапов игровой деятельности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Эмоционально-волевая незрелость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предстает в форме органического инфантилизма, который проявляется в двух вариантах: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еустойчивом – с психомоторной расторможенностью и импульсивностью;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тормозимом – с преобладанием пониженного фона настроения, нерешительностью и боязливостью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Нарушения познавательной деятельности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проявляются в недостаточной сформированности восприятия, внимания, памяти, мыслительных процессов и речи, в замедленности и пониженной переключаемости психических процессов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Эта группа детей требует отграничения от умственно отсталых  детей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52" name="Picture 18" descr="P1000787"/>
          <p:cNvPicPr/>
          <p:nvPr/>
        </p:nvPicPr>
        <p:blipFill>
          <a:blip r:embed="rId1"/>
          <a:stretch/>
        </p:blipFill>
        <p:spPr>
          <a:xfrm>
            <a:off x="0" y="2565360"/>
            <a:ext cx="2376360" cy="1820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87"/>
                </a:solidFill>
                <a:latin typeface="Verdana"/>
              </a:rPr>
              <a:t>Психолого-педагогическая характеристика детей с ЗПР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1197000"/>
            <a:ext cx="6084720" cy="79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5508720" y="1052640"/>
            <a:ext cx="1098000" cy="1001160"/>
            <a:chOff x="5508720" y="1052640"/>
            <a:chExt cx="1098000" cy="1001160"/>
          </a:xfrm>
        </p:grpSpPr>
        <p:grpSp>
          <p:nvGrpSpPr>
            <p:cNvPr id="256" name="Group 5"/>
            <p:cNvGrpSpPr/>
            <p:nvPr/>
          </p:nvGrpSpPr>
          <p:grpSpPr>
            <a:xfrm>
              <a:off x="5508720" y="1052640"/>
              <a:ext cx="1098000" cy="1001160"/>
              <a:chOff x="5508720" y="1052640"/>
              <a:chExt cx="1098000" cy="1001160"/>
            </a:xfrm>
          </p:grpSpPr>
          <p:sp>
            <p:nvSpPr>
              <p:cNvPr id="257" name="Oval 6"/>
              <p:cNvSpPr/>
              <p:nvPr/>
            </p:nvSpPr>
            <p:spPr>
              <a:xfrm>
                <a:off x="5508720" y="1052640"/>
                <a:ext cx="1098000" cy="10011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8" name="Freeform 7"/>
              <p:cNvSpPr/>
              <p:nvPr/>
            </p:nvSpPr>
            <p:spPr>
              <a:xfrm>
                <a:off x="5634000" y="1069200"/>
                <a:ext cx="8470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9" name="Text Box 8"/>
            <p:cNvSpPr/>
            <p:nvPr/>
          </p:nvSpPr>
          <p:spPr>
            <a:xfrm>
              <a:off x="5988600" y="1163880"/>
              <a:ext cx="1854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0" name="Text Box 9"/>
          <p:cNvSpPr/>
          <p:nvPr/>
        </p:nvSpPr>
        <p:spPr>
          <a:xfrm>
            <a:off x="0" y="1197000"/>
            <a:ext cx="6084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тставание в психическом  развитии во всех 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ферах психической  деятельности</a:t>
            </a:r>
            <a:r>
              <a:rPr b="0" lang="en-US" sz="15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5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ачалу школьного возраста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0" y="2205000"/>
            <a:ext cx="621360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62" name="Group 11"/>
          <p:cNvGrpSpPr/>
          <p:nvPr/>
        </p:nvGrpSpPr>
        <p:grpSpPr>
          <a:xfrm>
            <a:off x="5796000" y="2060640"/>
            <a:ext cx="1087200" cy="1006200"/>
            <a:chOff x="5796000" y="2060640"/>
            <a:chExt cx="1087200" cy="1006200"/>
          </a:xfrm>
        </p:grpSpPr>
        <p:grpSp>
          <p:nvGrpSpPr>
            <p:cNvPr id="263" name="Group 12"/>
            <p:cNvGrpSpPr/>
            <p:nvPr/>
          </p:nvGrpSpPr>
          <p:grpSpPr>
            <a:xfrm>
              <a:off x="5796000" y="2060640"/>
              <a:ext cx="1087200" cy="1006200"/>
              <a:chOff x="5796000" y="2060640"/>
              <a:chExt cx="1087200" cy="1006200"/>
            </a:xfrm>
          </p:grpSpPr>
          <p:sp>
            <p:nvSpPr>
              <p:cNvPr id="264" name="Oval 13"/>
              <p:cNvSpPr/>
              <p:nvPr/>
            </p:nvSpPr>
            <p:spPr>
              <a:xfrm>
                <a:off x="5796000" y="206064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5" name="Freeform 14"/>
              <p:cNvSpPr/>
              <p:nvPr/>
            </p:nvSpPr>
            <p:spPr>
              <a:xfrm>
                <a:off x="5920200" y="2077200"/>
                <a:ext cx="838800" cy="379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66" name="Text Box 15"/>
            <p:cNvSpPr/>
            <p:nvPr/>
          </p:nvSpPr>
          <p:spPr>
            <a:xfrm>
              <a:off x="6238440" y="2198880"/>
              <a:ext cx="18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7" name="Text Box 16"/>
          <p:cNvSpPr/>
          <p:nvPr/>
        </p:nvSpPr>
        <p:spPr>
          <a:xfrm>
            <a:off x="0" y="2349360"/>
            <a:ext cx="55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дленная скорость  приёма и переработки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нсорной информаци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Rectangle 17"/>
          <p:cNvSpPr/>
          <p:nvPr/>
        </p:nvSpPr>
        <p:spPr>
          <a:xfrm>
            <a:off x="0" y="3141720"/>
            <a:ext cx="708984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42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6372360" y="2997360"/>
            <a:ext cx="1098000" cy="1012320"/>
            <a:chOff x="6372360" y="2997360"/>
            <a:chExt cx="1098000" cy="1012320"/>
          </a:xfrm>
        </p:grpSpPr>
        <p:grpSp>
          <p:nvGrpSpPr>
            <p:cNvPr id="270" name="Group 19"/>
            <p:cNvGrpSpPr/>
            <p:nvPr/>
          </p:nvGrpSpPr>
          <p:grpSpPr>
            <a:xfrm>
              <a:off x="6372360" y="2997360"/>
              <a:ext cx="1098000" cy="1012320"/>
              <a:chOff x="6372360" y="2997360"/>
              <a:chExt cx="1098000" cy="1012320"/>
            </a:xfrm>
          </p:grpSpPr>
          <p:sp>
            <p:nvSpPr>
              <p:cNvPr id="271" name="Oval 20"/>
              <p:cNvSpPr/>
              <p:nvPr/>
            </p:nvSpPr>
            <p:spPr>
              <a:xfrm>
                <a:off x="6372360" y="2997360"/>
                <a:ext cx="1098000" cy="1012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2" name="Freeform 21"/>
              <p:cNvSpPr/>
              <p:nvPr/>
            </p:nvSpPr>
            <p:spPr>
              <a:xfrm>
                <a:off x="6497640" y="3013920"/>
                <a:ext cx="847080" cy="381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73" name="Text Box 22"/>
            <p:cNvSpPr/>
            <p:nvPr/>
          </p:nvSpPr>
          <p:spPr>
            <a:xfrm>
              <a:off x="6886440" y="3051720"/>
              <a:ext cx="1843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4" name="Text Box 23"/>
          <p:cNvSpPr/>
          <p:nvPr/>
        </p:nvSpPr>
        <p:spPr>
          <a:xfrm>
            <a:off x="0" y="3429000"/>
            <a:ext cx="63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достаточная  сформированность  умственных операций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Rectangle 24"/>
          <p:cNvSpPr/>
          <p:nvPr/>
        </p:nvSpPr>
        <p:spPr>
          <a:xfrm>
            <a:off x="0" y="4076640"/>
            <a:ext cx="763272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6" name="Group 25"/>
          <p:cNvGrpSpPr/>
          <p:nvPr/>
        </p:nvGrpSpPr>
        <p:grpSpPr>
          <a:xfrm>
            <a:off x="6948360" y="3933720"/>
            <a:ext cx="1103400" cy="1019160"/>
            <a:chOff x="6948360" y="3933720"/>
            <a:chExt cx="1103400" cy="1019160"/>
          </a:xfrm>
        </p:grpSpPr>
        <p:sp>
          <p:nvSpPr>
            <p:cNvPr id="277" name="Oval 26"/>
            <p:cNvSpPr/>
            <p:nvPr/>
          </p:nvSpPr>
          <p:spPr>
            <a:xfrm>
              <a:off x="6948360" y="3933720"/>
              <a:ext cx="110340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Freeform 27"/>
            <p:cNvSpPr/>
            <p:nvPr/>
          </p:nvSpPr>
          <p:spPr>
            <a:xfrm>
              <a:off x="7074360" y="3950640"/>
              <a:ext cx="851040" cy="384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9" name="Text Box 29"/>
          <p:cNvSpPr/>
          <p:nvPr/>
        </p:nvSpPr>
        <p:spPr>
          <a:xfrm>
            <a:off x="0" y="4149720"/>
            <a:ext cx="565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зкая познавательн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ность и слабость познавательных интересов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AutoShape 30"/>
          <p:cNvSpPr/>
          <p:nvPr/>
        </p:nvSpPr>
        <p:spPr>
          <a:xfrm>
            <a:off x="6877080" y="907920"/>
            <a:ext cx="1738440" cy="960480"/>
          </a:xfrm>
          <a:prstGeom prst="wedgeRoundRectCallout">
            <a:avLst>
              <a:gd name="adj1" fmla="val -59407"/>
              <a:gd name="adj2" fmla="val 127518"/>
              <a:gd name="adj3" fmla="val 16667"/>
            </a:avLst>
          </a:prstGeom>
          <a:solidFill>
            <a:srgbClr val="fdfd8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е признак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Rectangle 31"/>
          <p:cNvSpPr/>
          <p:nvPr/>
        </p:nvSpPr>
        <p:spPr>
          <a:xfrm>
            <a:off x="0" y="5013360"/>
            <a:ext cx="8136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раниченность, отрывочность знаний  и представлений об окружающем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2" name="Group 32"/>
          <p:cNvGrpSpPr/>
          <p:nvPr/>
        </p:nvGrpSpPr>
        <p:grpSpPr>
          <a:xfrm>
            <a:off x="7524720" y="4869000"/>
            <a:ext cx="1098360" cy="1001160"/>
            <a:chOff x="7524720" y="4869000"/>
            <a:chExt cx="1098360" cy="1001160"/>
          </a:xfrm>
        </p:grpSpPr>
        <p:grpSp>
          <p:nvGrpSpPr>
            <p:cNvPr id="283" name="Group 33"/>
            <p:cNvGrpSpPr/>
            <p:nvPr/>
          </p:nvGrpSpPr>
          <p:grpSpPr>
            <a:xfrm>
              <a:off x="7524720" y="4869000"/>
              <a:ext cx="1098360" cy="1001160"/>
              <a:chOff x="7524720" y="4869000"/>
              <a:chExt cx="1098360" cy="1001160"/>
            </a:xfrm>
          </p:grpSpPr>
          <p:sp>
            <p:nvSpPr>
              <p:cNvPr id="284" name="Oval 34"/>
              <p:cNvSpPr/>
              <p:nvPr/>
            </p:nvSpPr>
            <p:spPr>
              <a:xfrm>
                <a:off x="7524720" y="4869000"/>
                <a:ext cx="1098360" cy="10011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5" name="Freeform 35"/>
              <p:cNvSpPr/>
              <p:nvPr/>
            </p:nvSpPr>
            <p:spPr>
              <a:xfrm>
                <a:off x="7650000" y="4885560"/>
                <a:ext cx="84744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86" name="Text Box 36"/>
            <p:cNvSpPr/>
            <p:nvPr/>
          </p:nvSpPr>
          <p:spPr>
            <a:xfrm>
              <a:off x="8004960" y="4980240"/>
              <a:ext cx="1854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37"/>
          <p:cNvSpPr/>
          <p:nvPr/>
        </p:nvSpPr>
        <p:spPr>
          <a:xfrm>
            <a:off x="0" y="5950080"/>
            <a:ext cx="864072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ставание в речевом развитии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достатки произношения, аграмматизмы, ограниченность словар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38"/>
          <p:cNvGrpSpPr/>
          <p:nvPr/>
        </p:nvGrpSpPr>
        <p:grpSpPr>
          <a:xfrm>
            <a:off x="8056440" y="5851440"/>
            <a:ext cx="1087200" cy="1006200"/>
            <a:chOff x="8056440" y="5851440"/>
            <a:chExt cx="1087200" cy="1006200"/>
          </a:xfrm>
        </p:grpSpPr>
        <p:grpSp>
          <p:nvGrpSpPr>
            <p:cNvPr id="289" name="Group 39"/>
            <p:cNvGrpSpPr/>
            <p:nvPr/>
          </p:nvGrpSpPr>
          <p:grpSpPr>
            <a:xfrm>
              <a:off x="8056440" y="5851440"/>
              <a:ext cx="1087200" cy="1006200"/>
              <a:chOff x="8056440" y="5851440"/>
              <a:chExt cx="1087200" cy="1006200"/>
            </a:xfrm>
          </p:grpSpPr>
          <p:sp>
            <p:nvSpPr>
              <p:cNvPr id="290" name="Oval 40"/>
              <p:cNvSpPr/>
              <p:nvPr/>
            </p:nvSpPr>
            <p:spPr>
              <a:xfrm>
                <a:off x="8056440" y="585144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Freeform 41"/>
              <p:cNvSpPr/>
              <p:nvPr/>
            </p:nvSpPr>
            <p:spPr>
              <a:xfrm>
                <a:off x="8180640" y="5868000"/>
                <a:ext cx="838800" cy="379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92" name="Text Box 42"/>
            <p:cNvSpPr/>
            <p:nvPr/>
          </p:nvSpPr>
          <p:spPr>
            <a:xfrm>
              <a:off x="8498880" y="5989680"/>
              <a:ext cx="18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1"/>
          <p:cNvGrpSpPr/>
          <p:nvPr/>
        </p:nvGrpSpPr>
        <p:grpSpPr>
          <a:xfrm>
            <a:off x="1252440" y="1291320"/>
            <a:ext cx="6598800" cy="4675320"/>
            <a:chOff x="1252440" y="1291320"/>
            <a:chExt cx="6598800" cy="4675320"/>
          </a:xfrm>
        </p:grpSpPr>
        <p:sp>
          <p:nvSpPr>
            <p:cNvPr id="294" name="Oval 3"/>
            <p:cNvSpPr/>
            <p:nvPr/>
          </p:nvSpPr>
          <p:spPr>
            <a:xfrm>
              <a:off x="2288880" y="4302000"/>
              <a:ext cx="5562360" cy="13251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Oval 4"/>
            <p:cNvSpPr/>
            <p:nvPr/>
          </p:nvSpPr>
          <p:spPr>
            <a:xfrm rot="20601600">
              <a:off x="1563480" y="2188440"/>
              <a:ext cx="5762160" cy="301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6" name="Oval 5"/>
            <p:cNvSpPr/>
            <p:nvPr/>
          </p:nvSpPr>
          <p:spPr>
            <a:xfrm rot="20601600">
              <a:off x="1620000" y="202644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7" name="Arc 6"/>
            <p:cNvSpPr/>
            <p:nvPr/>
          </p:nvSpPr>
          <p:spPr>
            <a:xfrm rot="20601600">
              <a:off x="4276440" y="1915920"/>
              <a:ext cx="2849040" cy="19663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9edf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rc 7"/>
            <p:cNvSpPr/>
            <p:nvPr/>
          </p:nvSpPr>
          <p:spPr>
            <a:xfrm flipH="1" rot="20602200">
              <a:off x="1864080" y="3790800"/>
              <a:ext cx="3280680" cy="1476360"/>
            </a:xfrm>
            <a:prstGeom prst="pie">
              <a:avLst/>
            </a:prstGeom>
            <a:gradFill rotWithShape="0">
              <a:gsLst>
                <a:gs pos="0">
                  <a:srgbClr val="136b97"/>
                </a:gs>
                <a:gs pos="100000">
                  <a:srgbClr val="1b9ad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rc 8"/>
            <p:cNvSpPr/>
            <p:nvPr/>
          </p:nvSpPr>
          <p:spPr>
            <a:xfrm rot="20601600">
              <a:off x="2872800" y="1961640"/>
              <a:ext cx="3228480" cy="1417320"/>
            </a:xfrm>
            <a:prstGeom prst="pie">
              <a:avLst/>
            </a:prstGeom>
            <a:gradFill rotWithShape="0">
              <a:gsLst>
                <a:gs pos="0">
                  <a:srgbClr val="4182a2"/>
                </a:gs>
                <a:gs pos="100000">
                  <a:srgbClr val="66ccf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ррекционны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лок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Arc 9"/>
            <p:cNvSpPr/>
            <p:nvPr/>
          </p:nvSpPr>
          <p:spPr>
            <a:xfrm flipH="1" rot="20602200">
              <a:off x="1521360" y="2555640"/>
              <a:ext cx="2850840" cy="2066400"/>
            </a:xfrm>
            <a:prstGeom prst="pie">
              <a:avLst/>
            </a:prstGeom>
            <a:gradFill rotWithShape="0">
              <a:gsLst>
                <a:gs pos="0">
                  <a:srgbClr val="e4a04e"/>
                </a:gs>
                <a:gs pos="100000">
                  <a:srgbClr val="6a4a24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Freeform 10"/>
            <p:cNvSpPr/>
            <p:nvPr/>
          </p:nvSpPr>
          <p:spPr>
            <a:xfrm>
              <a:off x="5614560" y="3458880"/>
              <a:ext cx="1753920" cy="1777680"/>
            </a:xfrm>
            <a:prstGeom prst="pie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rc 11"/>
            <p:cNvSpPr/>
            <p:nvPr/>
          </p:nvSpPr>
          <p:spPr>
            <a:xfrm rot="20539200">
              <a:off x="4659120" y="2847600"/>
              <a:ext cx="2728440" cy="1858680"/>
            </a:xfrm>
            <a:prstGeom prst="pi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Freeform 12"/>
            <p:cNvSpPr/>
            <p:nvPr/>
          </p:nvSpPr>
          <p:spPr>
            <a:xfrm>
              <a:off x="4625640" y="3798720"/>
              <a:ext cx="1028520" cy="1472760"/>
            </a:xfrm>
            <a:prstGeom prst="pie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 rot="20601600">
              <a:off x="3080880" y="2741400"/>
              <a:ext cx="2695320" cy="1339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Text Box 14"/>
            <p:cNvSpPr/>
            <p:nvPr/>
          </p:nvSpPr>
          <p:spPr>
            <a:xfrm>
              <a:off x="1407600" y="3425400"/>
              <a:ext cx="2151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лок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спитательны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дач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6" name="Text Box 15"/>
            <p:cNvSpPr/>
            <p:nvPr/>
          </p:nvSpPr>
          <p:spPr>
            <a:xfrm>
              <a:off x="4298760" y="2230200"/>
              <a:ext cx="18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7" name="Text Box 16"/>
            <p:cNvSpPr/>
            <p:nvPr/>
          </p:nvSpPr>
          <p:spPr>
            <a:xfrm>
              <a:off x="5266440" y="2511000"/>
              <a:ext cx="232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лок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здоровительны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дач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8" name="Text Box 17"/>
            <p:cNvSpPr/>
            <p:nvPr/>
          </p:nvSpPr>
          <p:spPr>
            <a:xfrm>
              <a:off x="4815360" y="3730320"/>
              <a:ext cx="2206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иагностически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лок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9" name="Text Box 18"/>
            <p:cNvSpPr/>
            <p:nvPr/>
          </p:nvSpPr>
          <p:spPr>
            <a:xfrm>
              <a:off x="2678760" y="4439880"/>
              <a:ext cx="205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Блок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разовательных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адач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0" name="Freeform 19"/>
            <p:cNvSpPr/>
            <p:nvPr/>
          </p:nvSpPr>
          <p:spPr>
            <a:xfrm>
              <a:off x="4544640" y="4014360"/>
              <a:ext cx="863280" cy="1079280"/>
            </a:xfrm>
            <a:prstGeom prst="pie">
              <a:avLst/>
            </a:prstGeom>
            <a:gradFill rotWithShape="0">
              <a:gsLst>
                <a:gs pos="0">
                  <a:srgbClr val="66ccff">
                    <a:alpha val="19215"/>
                  </a:srgbClr>
                </a:gs>
                <a:gs pos="100000">
                  <a:srgbClr val="99d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Oval 20"/>
            <p:cNvSpPr/>
            <p:nvPr/>
          </p:nvSpPr>
          <p:spPr>
            <a:xfrm rot="20601600">
              <a:off x="3182760" y="2993760"/>
              <a:ext cx="2585520" cy="109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Школа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I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вид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79640" y="318960"/>
            <a:ext cx="5905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Arial"/>
              </a:rPr>
              <a:t>Обучение детей с ЗП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26" descr="P1000787"/>
          <p:cNvPicPr/>
          <p:nvPr/>
        </p:nvPicPr>
        <p:blipFill>
          <a:blip r:embed="rId1"/>
          <a:stretch/>
        </p:blipFill>
        <p:spPr>
          <a:xfrm>
            <a:off x="7093080" y="987480"/>
            <a:ext cx="1871640" cy="1433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" descr="P1000773"/>
          <p:cNvPicPr/>
          <p:nvPr/>
        </p:nvPicPr>
        <p:blipFill>
          <a:blip r:embed="rId2"/>
          <a:stretch/>
        </p:blipFill>
        <p:spPr>
          <a:xfrm>
            <a:off x="324000" y="5229360"/>
            <a:ext cx="2189160" cy="1287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8" descr="P1000749"/>
          <p:cNvPicPr/>
          <p:nvPr/>
        </p:nvPicPr>
        <p:blipFill>
          <a:blip r:embed="rId3"/>
          <a:stretch/>
        </p:blipFill>
        <p:spPr>
          <a:xfrm>
            <a:off x="7020000" y="5083200"/>
            <a:ext cx="1800000" cy="1450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9" descr="r4t45"/>
          <p:cNvPicPr/>
          <p:nvPr/>
        </p:nvPicPr>
        <p:blipFill>
          <a:blip r:embed="rId4"/>
          <a:stretch/>
        </p:blipFill>
        <p:spPr>
          <a:xfrm>
            <a:off x="322200" y="692280"/>
            <a:ext cx="1811520" cy="201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d87"/>
                </a:solidFill>
                <a:latin typeface="Verdana"/>
              </a:rPr>
              <a:t>Коррекционная направленность обучения детей с ЗП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1547640" y="4875120"/>
            <a:ext cx="7062120" cy="1290240"/>
            <a:chOff x="1547640" y="4875120"/>
            <a:chExt cx="7062120" cy="1290240"/>
          </a:xfrm>
        </p:grpSpPr>
        <p:sp>
          <p:nvSpPr>
            <p:cNvPr id="319" name="Freeform 4"/>
            <p:cNvSpPr/>
            <p:nvPr/>
          </p:nvSpPr>
          <p:spPr>
            <a:xfrm>
              <a:off x="7364160" y="4875120"/>
              <a:ext cx="1245600" cy="1288800"/>
            </a:xfrm>
            <a:prstGeom prst="pie">
              <a:avLst/>
            </a:pr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0" name="Freeform 5"/>
            <p:cNvSpPr/>
            <p:nvPr/>
          </p:nvSpPr>
          <p:spPr>
            <a:xfrm>
              <a:off x="2112120" y="4875120"/>
              <a:ext cx="5803920" cy="549000"/>
            </a:xfrm>
            <a:prstGeom prst="pi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1" name="Freeform 6"/>
            <p:cNvSpPr/>
            <p:nvPr/>
          </p:nvSpPr>
          <p:spPr>
            <a:xfrm>
              <a:off x="1547640" y="5421240"/>
              <a:ext cx="6406560" cy="744120"/>
            </a:xfrm>
            <a:prstGeom prst="pi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22" name="Group 7"/>
          <p:cNvGrpSpPr/>
          <p:nvPr/>
        </p:nvGrpSpPr>
        <p:grpSpPr>
          <a:xfrm>
            <a:off x="2195640" y="4092480"/>
            <a:ext cx="5833440" cy="1136880"/>
            <a:chOff x="2195640" y="4092480"/>
            <a:chExt cx="5833440" cy="1136880"/>
          </a:xfrm>
        </p:grpSpPr>
        <p:sp>
          <p:nvSpPr>
            <p:cNvPr id="323" name="Freeform 8"/>
            <p:cNvSpPr/>
            <p:nvPr/>
          </p:nvSpPr>
          <p:spPr>
            <a:xfrm>
              <a:off x="6881400" y="4092480"/>
              <a:ext cx="1147680" cy="1136880"/>
            </a:xfrm>
            <a:prstGeom prst="pie">
              <a:avLst/>
            </a:pr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4" name="Freeform 9"/>
            <p:cNvSpPr/>
            <p:nvPr/>
          </p:nvSpPr>
          <p:spPr>
            <a:xfrm>
              <a:off x="2770200" y="4092480"/>
              <a:ext cx="4546080" cy="399960"/>
            </a:xfrm>
            <a:prstGeom prst="pi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5" name="Freeform 10"/>
            <p:cNvSpPr/>
            <p:nvPr/>
          </p:nvSpPr>
          <p:spPr>
            <a:xfrm>
              <a:off x="2195640" y="4491000"/>
              <a:ext cx="5277600" cy="738000"/>
            </a:xfrm>
            <a:prstGeom prst="pie">
              <a:avLst/>
            </a:pr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26" name="Group 11"/>
          <p:cNvGrpSpPr/>
          <p:nvPr/>
        </p:nvGrpSpPr>
        <p:grpSpPr>
          <a:xfrm>
            <a:off x="2916360" y="3284640"/>
            <a:ext cx="4534920" cy="1008000"/>
            <a:chOff x="2916360" y="3284640"/>
            <a:chExt cx="4534920" cy="1008000"/>
          </a:xfrm>
        </p:grpSpPr>
        <p:sp>
          <p:nvSpPr>
            <p:cNvPr id="327" name="Freeform 12"/>
            <p:cNvSpPr/>
            <p:nvPr/>
          </p:nvSpPr>
          <p:spPr>
            <a:xfrm>
              <a:off x="6400800" y="3284640"/>
              <a:ext cx="1050480" cy="1008000"/>
            </a:xfrm>
            <a:prstGeom prst="pie">
              <a:avLst/>
            </a:pr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8" name="Freeform 13"/>
            <p:cNvSpPr/>
            <p:nvPr/>
          </p:nvSpPr>
          <p:spPr>
            <a:xfrm>
              <a:off x="3527640" y="3284640"/>
              <a:ext cx="3173040" cy="272160"/>
            </a:xfrm>
            <a:prstGeom prst="pie">
              <a:avLst/>
            </a:pr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Freeform 14"/>
            <p:cNvSpPr/>
            <p:nvPr/>
          </p:nvSpPr>
          <p:spPr>
            <a:xfrm>
              <a:off x="2916360" y="3555360"/>
              <a:ext cx="4105800" cy="736920"/>
            </a:xfrm>
            <a:prstGeom prst="pie">
              <a:avLst/>
            </a:pr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30" name="Group 15"/>
          <p:cNvGrpSpPr/>
          <p:nvPr/>
        </p:nvGrpSpPr>
        <p:grpSpPr>
          <a:xfrm>
            <a:off x="3635280" y="2525760"/>
            <a:ext cx="2952360" cy="903240"/>
            <a:chOff x="3635280" y="2525760"/>
            <a:chExt cx="2952360" cy="903240"/>
          </a:xfrm>
        </p:grpSpPr>
        <p:sp>
          <p:nvSpPr>
            <p:cNvPr id="331" name="Freeform 16"/>
            <p:cNvSpPr/>
            <p:nvPr/>
          </p:nvSpPr>
          <p:spPr>
            <a:xfrm>
              <a:off x="5684400" y="2525760"/>
              <a:ext cx="903240" cy="903240"/>
            </a:xfrm>
            <a:prstGeom prst="pie">
              <a:avLst/>
            </a:pr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4257360" y="2525760"/>
              <a:ext cx="1580760" cy="135360"/>
            </a:xfrm>
            <a:prstGeom prst="pie">
              <a:avLst/>
            </a:pr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3635280" y="2659680"/>
              <a:ext cx="2669400" cy="768960"/>
            </a:xfrm>
            <a:prstGeom prst="pie">
              <a:avLst/>
            </a:pr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34" name="Group 19"/>
          <p:cNvGrpSpPr/>
          <p:nvPr/>
        </p:nvGrpSpPr>
        <p:grpSpPr>
          <a:xfrm>
            <a:off x="4356000" y="1738440"/>
            <a:ext cx="1584000" cy="826560"/>
            <a:chOff x="4356000" y="1738440"/>
            <a:chExt cx="1584000" cy="826560"/>
          </a:xfrm>
        </p:grpSpPr>
        <p:sp>
          <p:nvSpPr>
            <p:cNvPr id="335" name="Freeform 20"/>
            <p:cNvSpPr/>
            <p:nvPr/>
          </p:nvSpPr>
          <p:spPr>
            <a:xfrm>
              <a:off x="5064480" y="1738440"/>
              <a:ext cx="875520" cy="826560"/>
            </a:xfrm>
            <a:prstGeom prst="pie">
              <a:avLst/>
            </a:prstGeom>
            <a:solidFill>
              <a:srgbClr val="fdf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4356000" y="1738440"/>
              <a:ext cx="1419120" cy="826560"/>
            </a:xfrm>
            <a:prstGeom prst="pie">
              <a:avLst/>
            </a:prstGeom>
            <a:solidFill>
              <a:srgbClr val="fdf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7" name="Text Box 39"/>
          <p:cNvSpPr/>
          <p:nvPr/>
        </p:nvSpPr>
        <p:spPr>
          <a:xfrm>
            <a:off x="4216680" y="2060640"/>
            <a:ext cx="210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ый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ок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Text Box 40"/>
          <p:cNvSpPr/>
          <p:nvPr/>
        </p:nvSpPr>
        <p:spPr>
          <a:xfrm>
            <a:off x="3958920" y="275760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ный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Text Box 41"/>
          <p:cNvSpPr/>
          <p:nvPr/>
        </p:nvSpPr>
        <p:spPr>
          <a:xfrm>
            <a:off x="3507120" y="374004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онный блок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3285360" y="5516640"/>
            <a:ext cx="36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ностический бло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3201480" y="4581360"/>
            <a:ext cx="32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здоровительный блок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12"/>
          <p:cNvSpPr/>
          <p:nvPr/>
        </p:nvSpPr>
        <p:spPr>
          <a:xfrm flipH="1">
            <a:off x="3203640" y="4076640"/>
            <a:ext cx="100800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Диагностический бл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50920" y="1628640"/>
            <a:ext cx="86407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лексное  медико-психолого-педагогическое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уч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ебенка в целя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точнения диагноз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д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работки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дивидуально-ориентированно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я ребен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771920" y="4724280"/>
            <a:ext cx="19548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сихолог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3932280" y="4724280"/>
            <a:ext cx="23983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фектолог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6564240" y="4724280"/>
            <a:ext cx="25704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спитатель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193040" y="5589720"/>
            <a:ext cx="24361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узыкальны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уководитель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083200" y="5589720"/>
            <a:ext cx="261756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структор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 физкультуре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Line 10"/>
          <p:cNvSpPr/>
          <p:nvPr/>
        </p:nvSpPr>
        <p:spPr>
          <a:xfrm flipH="1">
            <a:off x="1476360" y="4005360"/>
            <a:ext cx="273528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4427640" y="4076640"/>
            <a:ext cx="136836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4284720" y="4005360"/>
            <a:ext cx="259236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4356000" y="4076640"/>
            <a:ext cx="93672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331560" y="4724280"/>
            <a:ext cx="11559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ач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Line 16"/>
          <p:cNvSpPr/>
          <p:nvPr/>
        </p:nvSpPr>
        <p:spPr>
          <a:xfrm flipH="1">
            <a:off x="2626920" y="4076640"/>
            <a:ext cx="151308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Оздоровительный бл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1191960" y="3284640"/>
            <a:ext cx="672012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уществляется  комплекс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ечебно-профилактических мероприят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ых для детей с ЗП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28320" y="1125360"/>
            <a:ext cx="5721840" cy="192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яютс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услов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ые дл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щиты,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хранения и укрепления здоровь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ждого воспитанника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школьного учреждения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1695960" y="5084640"/>
            <a:ext cx="729180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яются задачи формирования у дете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дставлений о здоровом образе жизн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конкретных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ах укрепления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оего здоровь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6516720" y="184464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4226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8101080" y="386064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4226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Коррекционный бл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85760" y="1197000"/>
            <a:ext cx="4781520" cy="192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витие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пенсаторных механизмо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новления психики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деятельности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ного ребен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4431960" y="3068640"/>
            <a:ext cx="44280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филактика и коррекция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торичных отклонени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5" name="AutoShape 6"/>
          <p:cNvSpPr/>
          <p:nvPr/>
        </p:nvSpPr>
        <p:spPr>
          <a:xfrm>
            <a:off x="4500720" y="4149720"/>
            <a:ext cx="431640" cy="576360"/>
          </a:xfrm>
          <a:prstGeom prst="downArrow">
            <a:avLst>
              <a:gd name="adj1" fmla="val 50000"/>
              <a:gd name="adj2" fmla="val 33382"/>
            </a:avLst>
          </a:prstGeom>
          <a:solidFill>
            <a:srgbClr val="74226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1256400" y="5013360"/>
            <a:ext cx="652032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та осуществля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ми специалистам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школьного учреждения 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сной взаимосвяз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снове распределен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о согласованию,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фессиональной деятельности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280" y="318960"/>
            <a:ext cx="8964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Воспитательный блок</a:t>
            </a: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842480" y="1773360"/>
            <a:ext cx="3688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циализация ребен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1763640" y="2565360"/>
            <a:ext cx="6912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мостоятельности ребен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769040" y="3357720"/>
            <a:ext cx="50515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автоном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бен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769040" y="4221000"/>
            <a:ext cx="47707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автономии семь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726560" y="5229360"/>
            <a:ext cx="61840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итани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бенка положительны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ых качеств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755640" y="1268280"/>
            <a:ext cx="576360" cy="5400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Образовательный бл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910480" y="3068640"/>
            <a:ext cx="266940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готовк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 школьному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учени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2993760" y="1557360"/>
            <a:ext cx="355932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учение дете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ам усвоения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щественного опыт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833040" y="3068640"/>
            <a:ext cx="275472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знавательно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ктивност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138120" y="4581360"/>
            <a:ext cx="367524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х видов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тской деятельност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AutoShape 11"/>
          <p:cNvSpPr/>
          <p:nvPr/>
        </p:nvSpPr>
        <p:spPr>
          <a:xfrm>
            <a:off x="4500720" y="3573360"/>
            <a:ext cx="502920" cy="576360"/>
          </a:xfrm>
          <a:custGeom>
            <a:avLst/>
            <a:gdLst>
              <a:gd name="textAreaLeft" fmla="*/ 207360 w 502920"/>
              <a:gd name="textAreaRight" fmla="*/ 295560 w 50292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4226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AutoShape 46"/>
          <p:cNvSpPr/>
          <p:nvPr/>
        </p:nvSpPr>
        <p:spPr>
          <a:xfrm rot="5400000">
            <a:off x="-2422440" y="1474200"/>
            <a:ext cx="4824360" cy="4770360"/>
          </a:xfrm>
          <a:prstGeom prst="pie">
            <a:avLst/>
          </a:pr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 flipH="1" rot="5400000">
            <a:off x="-2016720" y="1910520"/>
            <a:ext cx="4032000" cy="3929040"/>
          </a:xfrm>
          <a:prstGeom prst="pie">
            <a:avLst/>
          </a:prstGeom>
          <a:gradFill rotWithShape="0">
            <a:gsLst>
              <a:gs pos="0">
                <a:srgbClr val="66ccff">
                  <a:alpha val="36078"/>
                </a:srgbClr>
              </a:gs>
              <a:gs pos="100000">
                <a:srgbClr val="cbe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Е   ДЕТЕЙ  С  ЗПР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ИХОЛОГО-ПЕДАГОГИЧЕСК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ИСТИКА ДЕТЕЙ С ЗПР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ИНЫ ЗПР. КЛАССИФИКАЦИ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ТЕЙ С ЗПР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АЯ СПРАВК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AutoShape 52"/>
          <p:cNvSpPr/>
          <p:nvPr/>
        </p:nvSpPr>
        <p:spPr>
          <a:xfrm>
            <a:off x="1765440" y="1820880"/>
            <a:ext cx="54705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ЗАДЕРЖКИ ПСИХИЧЕСКОГО РАЗВИТ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6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7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8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" name="Oval 56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" name="Oval 58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3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4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6" name="Oval 63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Oval 65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0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1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Oval 70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4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5" name="Oval 72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6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7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8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9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0" name="Oval 77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2" name="Oval 79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24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5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Oval 84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9" name="Oval 86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0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Обучение детей педагог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620440" y="1146240"/>
            <a:ext cx="44265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спределение заняти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545760" y="1989000"/>
            <a:ext cx="3792600" cy="43916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питатель проводит: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занятия здоровья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лепка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аппликация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исов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конструиров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учной труд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физическое воспит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трудовое воспит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обучение игр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социальное развитие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знакомление с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ружающим миром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859280" y="1989000"/>
            <a:ext cx="3745080" cy="411732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фектолог проводит: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социальное развит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познавательное развит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ознакомление с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ружающим миром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обучение игр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математика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азвитие речи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азвитие тонкой ручно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торики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подготовка к обучению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амоте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AutoShape 7"/>
          <p:cNvSpPr/>
          <p:nvPr/>
        </p:nvSpPr>
        <p:spPr>
          <a:xfrm>
            <a:off x="4356000" y="1989000"/>
            <a:ext cx="503280" cy="503280"/>
          </a:xfrm>
          <a:custGeom>
            <a:avLst/>
            <a:gdLst>
              <a:gd name="textAreaLeft" fmla="*/ 207360 w 503280"/>
              <a:gd name="textAreaRight" fmla="*/ 295920 w 50328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42262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d87"/>
                </a:solidFill>
                <a:latin typeface="Verdana"/>
              </a:rPr>
              <a:t>Использованные источн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9280" y="1076400"/>
            <a:ext cx="856944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неев А.Д.  Основы коррекционной педагогики [Текст]:  учеб. Пособие для студ. высш. пед. учебных заведений / А.Д. Гонеев. - М.. 1999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рекционная педагогика в начальном образовании  [Текст] : Учеб. пособ. /  Под ред. Кумариной Г.Ф. -М, 2001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занов   Б.П.,   Селиверстов   В.И. Коррекционная   педагогика:   Основы обучения и воспитания детей с отклонениями в развитии [Текст] / Б.П. Пузанов, В.И. Селиверстов  - М., 2002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ециальная педагогика [Текст] /Под ред.Н.М.Назаровой.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-е изд., -М., 2002.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ециальная дошкольная педагогика  [Текст] /  Под ред. Е.А. Стребелевой.- М,   2001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3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9" dur="5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2" dur="500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2133720" y="5181480"/>
            <a:ext cx="683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р-составитель: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еподаватель общепрофессиональных дисциплин Губенко А.М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WordArt 4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cc"/>
                  </a:solidFill>
                  <a:miter/>
                </a:ln>
                <a:solidFill>
                  <a:srgbClr val="fdfd87"/>
                </a:soli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9080">
                <a:solidFill>
                  <a:srgbClr val="ffcccc"/>
                </a:solidFill>
                <a:miter/>
              </a:ln>
              <a:solidFill>
                <a:srgbClr val="fdfd87"/>
              </a:soli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in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2f7fc"/>
                </a:solidFill>
                <a:latin typeface="Verdana"/>
              </a:rPr>
              <a:t>Понятие  «задержанное развитие» ввел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.В.Лебединский  на основании обобщённых результатов исследований  психологов, дефектологов и психиатров. По его мнению, тип нарушения психического развития зависит от: 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) функциональной локализации нарушения;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) времени поражения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21844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d87"/>
                </a:solidFill>
                <a:latin typeface="Arial"/>
              </a:rPr>
              <a:t>ОПРЕДЕЛЕНИЕ ПОНЯТИЯ </a:t>
            </a:r>
            <a:br>
              <a:rPr sz="2800"/>
            </a:br>
            <a:r>
              <a:rPr b="1" lang="ru-RU" sz="2800" spc="-1" strike="noStrike">
                <a:solidFill>
                  <a:srgbClr val="fdfd87"/>
                </a:solidFill>
                <a:latin typeface="Arial"/>
              </a:rPr>
              <a:t>«ЗАДЕРЖКА ПСИХИЧЕСКОГО РАЗВИТ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Задержанное развитие – замедление темпа формирования познавательной и эмоциональной сфер с их временной фиксацией на более ранних возрастных этапах. Наблюдается мозаичность поражения, когда с наряду с недостаточно развитыми функциями имеются и сохранные. 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(В.В.Лебединский)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2f7fc"/>
                </a:solidFill>
                <a:latin typeface="Arial"/>
              </a:rPr>
              <a:t>Задержка психического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носится к «пограничной» форме дизонтогенеза и выражается в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медленном темпе созрев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личных психических функций. 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.М.Назарова)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60960" y="5803920"/>
            <a:ext cx="648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66ccff"/>
                </a:solidFill>
                <a:uFillTx/>
                <a:latin typeface="Arial"/>
              </a:rPr>
              <a:t>ДИЗОНТОГЕНЕЗ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1" lang="ru-RU" sz="1200" spc="-1" strike="noStrike">
                <a:solidFill>
                  <a:srgbClr val="eaeaea"/>
                </a:solidFill>
                <a:latin typeface="Arial"/>
              </a:rPr>
              <a:t>НАРУШЕНИЕ ИНДИВИДУАЛЬНОГО  РАЗВИТИЯ  ОРГАНИЗМ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3"/>
          <p:cNvSpPr/>
          <p:nvPr/>
        </p:nvSpPr>
        <p:spPr>
          <a:xfrm>
            <a:off x="5580000" y="1700280"/>
            <a:ext cx="3384720" cy="4824360"/>
          </a:xfrm>
          <a:custGeom>
            <a:avLst/>
            <a:gdLst>
              <a:gd name="textAreaLeft" fmla="*/ 165240 w 3384720"/>
              <a:gd name="textAreaRight" fmla="*/ 3219480 w 3384720"/>
              <a:gd name="textAreaTop" fmla="*/ 165240 h 4824360"/>
              <a:gd name="textAreaBottom" fmla="*/ 4659120 h 4824360"/>
            </a:gdLst>
            <a:ahLst/>
            <a:rect l="textAreaLeft" t="textAreaTop" r="textAreaRight" b="textAreaBottom"/>
            <a:pathLst>
              <a:path w="21600" h="30786">
                <a:moveTo>
                  <a:pt x="3600" y="0"/>
                </a:moveTo>
                <a:arcTo wR="3600" hR="3600" stAng="16200000" swAng="-5400000"/>
                <a:lnTo>
                  <a:pt x="0" y="27186"/>
                </a:lnTo>
                <a:arcTo wR="3600" hR="3600" stAng="10800000" swAng="-5400000"/>
                <a:lnTo>
                  <a:pt x="18000" y="30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250920" y="1557360"/>
            <a:ext cx="3600360" cy="496728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4967280"/>
              <a:gd name="textAreaBottom" fmla="*/ 4791600 h 4967280"/>
            </a:gdLst>
            <a:ahLst/>
            <a:rect l="textAreaLeft" t="textAreaTop" r="textAreaRight" b="textAreaBottom"/>
            <a:pathLst>
              <a:path w="21600" h="29800">
                <a:moveTo>
                  <a:pt x="3600" y="0"/>
                </a:moveTo>
                <a:arcTo wR="3600" hR="3600" stAng="16200000" swAng="-5400000"/>
                <a:lnTo>
                  <a:pt x="0" y="26200"/>
                </a:lnTo>
                <a:arcTo wR="3600" hR="3600" stAng="10800000" swAng="-5400000"/>
                <a:lnTo>
                  <a:pt x="18000" y="29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9640" y="1989000"/>
            <a:ext cx="3168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зкий темп психической активности (корковая незрелость),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фицит внимания с гиперактивностью (незрелость подкорковых структур),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ргетическое истощение нервных клеток (на фоне хронического стресса) и др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3708360" y="2133720"/>
            <a:ext cx="903240" cy="1241280"/>
          </a:xfrm>
          <a:prstGeom prst="pie">
            <a:avLst/>
          </a:prstGeom>
          <a:gradFill rotWithShape="0">
            <a:gsLst>
              <a:gs pos="0">
                <a:srgbClr val="e4a04e"/>
              </a:gs>
              <a:gs pos="100000">
                <a:srgbClr val="eec3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Freeform 9"/>
          <p:cNvSpPr/>
          <p:nvPr/>
        </p:nvSpPr>
        <p:spPr>
          <a:xfrm flipH="1">
            <a:off x="4643280" y="2133720"/>
            <a:ext cx="903600" cy="124128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2987640" y="404640"/>
            <a:ext cx="3239280" cy="1601640"/>
            <a:chOff x="2987640" y="404640"/>
            <a:chExt cx="3239280" cy="1601640"/>
          </a:xfrm>
        </p:grpSpPr>
        <p:grpSp>
          <p:nvGrpSpPr>
            <p:cNvPr id="142" name="Group 11"/>
            <p:cNvGrpSpPr/>
            <p:nvPr/>
          </p:nvGrpSpPr>
          <p:grpSpPr>
            <a:xfrm>
              <a:off x="2987640" y="547560"/>
              <a:ext cx="3239280" cy="1458720"/>
              <a:chOff x="2987640" y="547560"/>
              <a:chExt cx="3239280" cy="145872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3022920" y="594000"/>
                <a:ext cx="320400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ccff"/>
                  </a:gs>
                  <a:gs pos="100000">
                    <a:srgbClr val="3263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2987640" y="547560"/>
                <a:ext cx="320400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e8ff"/>
                  </a:gs>
                  <a:gs pos="100000">
                    <a:srgbClr val="66cc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5" name="Oval 14"/>
            <p:cNvSpPr/>
            <p:nvPr/>
          </p:nvSpPr>
          <p:spPr>
            <a:xfrm>
              <a:off x="3140280" y="404640"/>
              <a:ext cx="2900160" cy="1341720"/>
            </a:xfrm>
            <a:prstGeom prst="ellipse">
              <a:avLst/>
            </a:prstGeom>
            <a:gradFill rotWithShape="0">
              <a:gsLst>
                <a:gs pos="0">
                  <a:srgbClr val="0d4764"/>
                </a:gs>
                <a:gs pos="100000">
                  <a:srgbClr val="1b9a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15"/>
            <p:cNvSpPr/>
            <p:nvPr/>
          </p:nvSpPr>
          <p:spPr>
            <a:xfrm>
              <a:off x="3178080" y="412560"/>
              <a:ext cx="2829960" cy="1308240"/>
            </a:xfrm>
            <a:prstGeom prst="ellipse">
              <a:avLst/>
            </a:prstGeom>
            <a:gradFill rotWithShape="0">
              <a:gsLst>
                <a:gs pos="0">
                  <a:srgbClr val="1b9ad9">
                    <a:alpha val="0"/>
                  </a:srgbClr>
                </a:gs>
                <a:gs pos="100000">
                  <a:srgbClr val="afdc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207240" y="425520"/>
              <a:ext cx="2692440" cy="1222200"/>
            </a:xfrm>
            <a:prstGeom prst="ellipse">
              <a:avLst/>
            </a:prstGeom>
            <a:gradFill rotWithShape="0">
              <a:gsLst>
                <a:gs pos="0">
                  <a:srgbClr val="157aac"/>
                </a:gs>
                <a:gs pos="100000">
                  <a:srgbClr val="1b9ad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349440" y="452520"/>
              <a:ext cx="23702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9ad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3764520" y="641520"/>
            <a:ext cx="180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ЧИНЫ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2262"/>
                </a:solidFill>
                <a:latin typeface="Arial"/>
              </a:rPr>
              <a:t>ЗП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940360" y="1989000"/>
            <a:ext cx="2870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гетативная лабильность (неустойчивость) на фоне соматической ослабленности (в силу незрелости самой вегетативной нервной системы на фоне социальных, экологических, биологических причин)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87"/>
                </a:solidFill>
                <a:latin typeface="Arial"/>
              </a:rPr>
              <a:t>Классификация детей с задержкой психического развития по Т.А.Власовой, М.С.Певзн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395280" y="1341360"/>
            <a:ext cx="3599640" cy="5111640"/>
            <a:chOff x="395280" y="1341360"/>
            <a:chExt cx="3599640" cy="5111640"/>
          </a:xfrm>
        </p:grpSpPr>
        <p:sp>
          <p:nvSpPr>
            <p:cNvPr id="153" name="AutoShape 4"/>
            <p:cNvSpPr/>
            <p:nvPr/>
          </p:nvSpPr>
          <p:spPr>
            <a:xfrm>
              <a:off x="395280" y="1731240"/>
              <a:ext cx="3589200" cy="3619800"/>
            </a:xfrm>
            <a:custGeom>
              <a:avLst/>
              <a:gdLst>
                <a:gd name="textAreaLeft" fmla="*/ 183960 w 3589200"/>
                <a:gd name="textAreaRight" fmla="*/ 3405240 w 3589200"/>
                <a:gd name="textAreaTop" fmla="*/ 183960 h 3619800"/>
                <a:gd name="textAreaBottom" fmla="*/ 3435840 h 3619800"/>
              </a:gdLst>
              <a:ahLst/>
              <a:rect l="textAreaLeft" t="textAreaTop" r="textAreaRight" b="textAreaBottom"/>
              <a:pathLst>
                <a:path w="21600" h="21784">
                  <a:moveTo>
                    <a:pt x="3782" y="0"/>
                  </a:moveTo>
                  <a:arcTo wR="3782" hR="3782" stAng="16200000" swAng="-5400000"/>
                  <a:lnTo>
                    <a:pt x="0" y="18002"/>
                  </a:lnTo>
                  <a:arcTo wR="3782" hR="3782" stAng="10800000" swAng="-5400000"/>
                  <a:lnTo>
                    <a:pt x="17818" y="2178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450720" y="1741680"/>
              <a:ext cx="3481200" cy="3550680"/>
            </a:xfrm>
            <a:custGeom>
              <a:avLst/>
              <a:gdLst>
                <a:gd name="textAreaLeft" fmla="*/ 169920 w 3481200"/>
                <a:gd name="textAreaRight" fmla="*/ 3311280 w 3481200"/>
                <a:gd name="textAreaTop" fmla="*/ 169920 h 3550680"/>
                <a:gd name="textAreaBottom" fmla="*/ 3380760 h 3550680"/>
              </a:gdLst>
              <a:ahLst/>
              <a:rect l="textAreaLeft" t="textAreaTop" r="textAreaRight" b="textAreaBottom"/>
              <a:pathLst>
                <a:path w="21600" h="22031">
                  <a:moveTo>
                    <a:pt x="3600" y="0"/>
                  </a:moveTo>
                  <a:arcTo wR="3600" hR="3600" stAng="16200000" swAng="-5400000"/>
                  <a:lnTo>
                    <a:pt x="0" y="18431"/>
                  </a:lnTo>
                  <a:arcTo wR="3600" hR="3600" stAng="10800000" swAng="-5400000"/>
                  <a:lnTo>
                    <a:pt x="18000" y="22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AutoShape 6"/>
            <p:cNvSpPr/>
            <p:nvPr/>
          </p:nvSpPr>
          <p:spPr>
            <a:xfrm>
              <a:off x="479160" y="4355280"/>
              <a:ext cx="3434040" cy="898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7"/>
            <p:cNvSpPr/>
            <p:nvPr/>
          </p:nvSpPr>
          <p:spPr>
            <a:xfrm>
              <a:off x="479160" y="1769400"/>
              <a:ext cx="3434040" cy="89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8"/>
            <p:cNvSpPr/>
            <p:nvPr/>
          </p:nvSpPr>
          <p:spPr>
            <a:xfrm>
              <a:off x="405720" y="5351040"/>
              <a:ext cx="3589200" cy="11019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AutoShape 9"/>
            <p:cNvSpPr/>
            <p:nvPr/>
          </p:nvSpPr>
          <p:spPr>
            <a:xfrm>
              <a:off x="479160" y="5380920"/>
              <a:ext cx="3434040" cy="97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742262"/>
                  </a:solidFill>
                  <a:latin typeface="Arial"/>
                </a:rPr>
                <a:t>Инфантилиз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стояние,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 котором в психике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 поведении ребенка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храняются черты, присущие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нней ступени развития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59" name="Group 10"/>
            <p:cNvGrpSpPr/>
            <p:nvPr/>
          </p:nvGrpSpPr>
          <p:grpSpPr>
            <a:xfrm>
              <a:off x="1630080" y="1341360"/>
              <a:ext cx="1065960" cy="814320"/>
              <a:chOff x="1630080" y="1341360"/>
              <a:chExt cx="1065960" cy="814320"/>
            </a:xfrm>
          </p:grpSpPr>
          <p:sp>
            <p:nvSpPr>
              <p:cNvPr id="160" name="Oval 11"/>
              <p:cNvSpPr/>
              <p:nvPr/>
            </p:nvSpPr>
            <p:spPr>
              <a:xfrm>
                <a:off x="1630080" y="1341360"/>
                <a:ext cx="1065960" cy="8143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1" name="Oval 12"/>
              <p:cNvSpPr/>
              <p:nvPr/>
            </p:nvSpPr>
            <p:spPr>
              <a:xfrm>
                <a:off x="1641240" y="1347480"/>
                <a:ext cx="1031040" cy="788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2" name="Oval 13"/>
              <p:cNvSpPr/>
              <p:nvPr/>
            </p:nvSpPr>
            <p:spPr>
              <a:xfrm>
                <a:off x="1653840" y="1352160"/>
                <a:ext cx="1007280" cy="76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3" name="Oval 14"/>
              <p:cNvSpPr/>
              <p:nvPr/>
            </p:nvSpPr>
            <p:spPr>
              <a:xfrm>
                <a:off x="1665000" y="1359720"/>
                <a:ext cx="957600" cy="717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4" name="Oval 15"/>
              <p:cNvSpPr/>
              <p:nvPr/>
            </p:nvSpPr>
            <p:spPr>
              <a:xfrm>
                <a:off x="1720800" y="1379160"/>
                <a:ext cx="850680" cy="58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65" name="Text Box 16"/>
            <p:cNvSpPr/>
            <p:nvPr/>
          </p:nvSpPr>
          <p:spPr>
            <a:xfrm>
              <a:off x="1976760" y="145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521640" y="2306520"/>
              <a:ext cx="34131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ПР, сопровождающаяся  психическим и психофизическим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инфантилизмом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гармоническим или дисгармоническим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67" name="Group 47"/>
          <p:cNvGrpSpPr/>
          <p:nvPr/>
        </p:nvGrpSpPr>
        <p:grpSpPr>
          <a:xfrm>
            <a:off x="5003640" y="1341360"/>
            <a:ext cx="3888720" cy="5256000"/>
            <a:chOff x="5003640" y="1341360"/>
            <a:chExt cx="3888720" cy="5256000"/>
          </a:xfrm>
        </p:grpSpPr>
        <p:sp>
          <p:nvSpPr>
            <p:cNvPr id="168" name="AutoShape 48"/>
            <p:cNvSpPr/>
            <p:nvPr/>
          </p:nvSpPr>
          <p:spPr>
            <a:xfrm>
              <a:off x="5003640" y="1742040"/>
              <a:ext cx="3877200" cy="3722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AutoShape 49"/>
            <p:cNvSpPr/>
            <p:nvPr/>
          </p:nvSpPr>
          <p:spPr>
            <a:xfrm>
              <a:off x="5063400" y="1752840"/>
              <a:ext cx="3760560" cy="36511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AutoShape 50"/>
            <p:cNvSpPr/>
            <p:nvPr/>
          </p:nvSpPr>
          <p:spPr>
            <a:xfrm>
              <a:off x="5094360" y="4440600"/>
              <a:ext cx="3709440" cy="924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AutoShape 51"/>
            <p:cNvSpPr/>
            <p:nvPr/>
          </p:nvSpPr>
          <p:spPr>
            <a:xfrm>
              <a:off x="5094360" y="1781640"/>
              <a:ext cx="3709440" cy="9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AutoShape 52"/>
            <p:cNvSpPr/>
            <p:nvPr/>
          </p:nvSpPr>
          <p:spPr>
            <a:xfrm>
              <a:off x="5015160" y="5464080"/>
              <a:ext cx="3877200" cy="11332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AutoShape 53"/>
            <p:cNvSpPr/>
            <p:nvPr/>
          </p:nvSpPr>
          <p:spPr>
            <a:xfrm>
              <a:off x="5094360" y="5495040"/>
              <a:ext cx="3709440" cy="100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742262"/>
                  </a:solidFill>
                  <a:latin typeface="Arial"/>
                </a:rPr>
                <a:t>Церебральная</a:t>
              </a:r>
              <a:r>
                <a:rPr b="1" lang="ru-RU" sz="1600" spc="-1" strike="noStrike">
                  <a:solidFill>
                    <a:srgbClr val="1d528d"/>
                  </a:solidFill>
                  <a:latin typeface="Arial"/>
                </a:rPr>
                <a:t> –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озговая;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742262"/>
                  </a:solidFill>
                  <a:latin typeface="Arial"/>
                </a:rPr>
                <a:t>астения</a:t>
              </a:r>
              <a:r>
                <a:rPr b="1" lang="ru-RU" sz="1600" spc="-1" strike="noStrike">
                  <a:solidFill>
                    <a:srgbClr val="1d528d"/>
                  </a:solidFill>
                  <a:latin typeface="Arial"/>
                </a:rPr>
                <a:t> –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слабленность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74" name="Group 54"/>
            <p:cNvGrpSpPr/>
            <p:nvPr/>
          </p:nvGrpSpPr>
          <p:grpSpPr>
            <a:xfrm>
              <a:off x="6337800" y="1341360"/>
              <a:ext cx="1151640" cy="837360"/>
              <a:chOff x="6337800" y="1341360"/>
              <a:chExt cx="1151640" cy="837360"/>
            </a:xfrm>
          </p:grpSpPr>
          <p:sp>
            <p:nvSpPr>
              <p:cNvPr id="175" name="Oval 55"/>
              <p:cNvSpPr/>
              <p:nvPr/>
            </p:nvSpPr>
            <p:spPr>
              <a:xfrm>
                <a:off x="6337800" y="1341360"/>
                <a:ext cx="1151640" cy="837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6" name="Oval 56"/>
              <p:cNvSpPr/>
              <p:nvPr/>
            </p:nvSpPr>
            <p:spPr>
              <a:xfrm>
                <a:off x="6349680" y="1347840"/>
                <a:ext cx="1113840" cy="81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7" name="Oval 57"/>
              <p:cNvSpPr/>
              <p:nvPr/>
            </p:nvSpPr>
            <p:spPr>
              <a:xfrm>
                <a:off x="6363360" y="1352520"/>
                <a:ext cx="1087920" cy="790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8" name="Oval 58"/>
              <p:cNvSpPr/>
              <p:nvPr/>
            </p:nvSpPr>
            <p:spPr>
              <a:xfrm>
                <a:off x="6375600" y="1360080"/>
                <a:ext cx="1034640" cy="738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9" name="Oval 59"/>
              <p:cNvSpPr/>
              <p:nvPr/>
            </p:nvSpPr>
            <p:spPr>
              <a:xfrm>
                <a:off x="6435720" y="1380240"/>
                <a:ext cx="919080" cy="600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80" name="Text Box 60"/>
            <p:cNvSpPr/>
            <p:nvPr/>
          </p:nvSpPr>
          <p:spPr>
            <a:xfrm>
              <a:off x="6726240" y="1461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Text Box 61"/>
            <p:cNvSpPr/>
            <p:nvPr/>
          </p:nvSpPr>
          <p:spPr>
            <a:xfrm>
              <a:off x="5140080" y="2333880"/>
              <a:ext cx="368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ПР со стойкой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церебральной астенией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d87"/>
                </a:solidFill>
                <a:latin typeface="Arial"/>
              </a:rPr>
              <a:t>Классификация детей с задержкой психического развития по К.С.Лебединск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380880" y="1052640"/>
            <a:ext cx="6062760" cy="5805360"/>
          </a:xfrm>
          <a:prstGeom prst="rightArrow">
            <a:avLst>
              <a:gd name="adj1" fmla="val 79306"/>
              <a:gd name="adj2" fmla="val 25867"/>
            </a:avLst>
          </a:prstGeom>
          <a:gradFill rotWithShape="0">
            <a:gsLst>
              <a:gs pos="0">
                <a:srgbClr val="ffffff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755640" y="1773360"/>
            <a:ext cx="4025880" cy="115236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итуционального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755640" y="3068640"/>
            <a:ext cx="4032360" cy="86508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матогенного происхожд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684360" y="4076640"/>
            <a:ext cx="4032000" cy="79236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генного происхожд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6443640" y="3284640"/>
            <a:ext cx="2514600" cy="1295280"/>
          </a:xfrm>
          <a:prstGeom prst="roundRect">
            <a:avLst>
              <a:gd name="adj" fmla="val 9106"/>
            </a:avLst>
          </a:prstGeom>
          <a:noFill/>
          <a:ln w="255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dfd87"/>
                </a:solidFill>
                <a:latin typeface="Arial"/>
              </a:rPr>
              <a:t>Группы детей с ЗП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684360" y="5013360"/>
            <a:ext cx="4103640" cy="1008000"/>
          </a:xfrm>
          <a:prstGeom prst="roundRect">
            <a:avLst>
              <a:gd name="adj" fmla="val 9106"/>
            </a:avLst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ребрально-органического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4"/>
          <p:cNvGrpSpPr/>
          <p:nvPr/>
        </p:nvGrpSpPr>
        <p:grpSpPr>
          <a:xfrm>
            <a:off x="2268360" y="0"/>
            <a:ext cx="6695280" cy="6668640"/>
            <a:chOff x="2268360" y="0"/>
            <a:chExt cx="6695280" cy="6668640"/>
          </a:xfrm>
        </p:grpSpPr>
        <p:sp>
          <p:nvSpPr>
            <p:cNvPr id="190" name="AutoShape 5"/>
            <p:cNvSpPr/>
            <p:nvPr/>
          </p:nvSpPr>
          <p:spPr>
            <a:xfrm>
              <a:off x="2268360" y="508320"/>
              <a:ext cx="6675480" cy="472212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AutoShape 6"/>
            <p:cNvSpPr/>
            <p:nvPr/>
          </p:nvSpPr>
          <p:spPr>
            <a:xfrm>
              <a:off x="2371320" y="522000"/>
              <a:ext cx="6474240" cy="46321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AutoShape 7"/>
            <p:cNvSpPr/>
            <p:nvPr/>
          </p:nvSpPr>
          <p:spPr>
            <a:xfrm>
              <a:off x="2424960" y="3931920"/>
              <a:ext cx="6386760" cy="11725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AutoShape 8"/>
            <p:cNvSpPr/>
            <p:nvPr/>
          </p:nvSpPr>
          <p:spPr>
            <a:xfrm>
              <a:off x="2424960" y="558360"/>
              <a:ext cx="6386760" cy="11700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AutoShape 9"/>
            <p:cNvSpPr/>
            <p:nvPr/>
          </p:nvSpPr>
          <p:spPr>
            <a:xfrm>
              <a:off x="2288160" y="5230800"/>
              <a:ext cx="6675480" cy="143784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AutoShape 10"/>
            <p:cNvSpPr/>
            <p:nvPr/>
          </p:nvSpPr>
          <p:spPr>
            <a:xfrm>
              <a:off x="2424960" y="5270040"/>
              <a:ext cx="6386760" cy="127764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чины: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следственность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огноз: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спеш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 условии своевременного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регулярного педагогического воздействия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96" name="Group 11"/>
            <p:cNvGrpSpPr/>
            <p:nvPr/>
          </p:nvGrpSpPr>
          <p:grpSpPr>
            <a:xfrm>
              <a:off x="4565160" y="0"/>
              <a:ext cx="1983240" cy="1062000"/>
              <a:chOff x="4565160" y="0"/>
              <a:chExt cx="1983240" cy="1062000"/>
            </a:xfrm>
          </p:grpSpPr>
          <p:sp>
            <p:nvSpPr>
              <p:cNvPr id="197" name="Oval 12"/>
              <p:cNvSpPr/>
              <p:nvPr/>
            </p:nvSpPr>
            <p:spPr>
              <a:xfrm>
                <a:off x="4565160" y="0"/>
                <a:ext cx="1983240" cy="106200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8" name="Oval 13"/>
              <p:cNvSpPr/>
              <p:nvPr/>
            </p:nvSpPr>
            <p:spPr>
              <a:xfrm>
                <a:off x="4585680" y="8280"/>
                <a:ext cx="1917720" cy="102852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9" name="Oval 14"/>
              <p:cNvSpPr/>
              <p:nvPr/>
            </p:nvSpPr>
            <p:spPr>
              <a:xfrm>
                <a:off x="4609440" y="14400"/>
                <a:ext cx="1873440" cy="1003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0" name="Oval 15"/>
              <p:cNvSpPr/>
              <p:nvPr/>
            </p:nvSpPr>
            <p:spPr>
              <a:xfrm>
                <a:off x="4630320" y="24120"/>
                <a:ext cx="1781280" cy="93636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1" name="Oval 16"/>
              <p:cNvSpPr/>
              <p:nvPr/>
            </p:nvSpPr>
            <p:spPr>
              <a:xfrm>
                <a:off x="4734000" y="49320"/>
                <a:ext cx="1582560" cy="761400"/>
              </a:xfrm>
              <a:prstGeom prst="ellipse">
                <a:avLst/>
              </a:prstGeom>
              <a:solidFill>
                <a:srgbClr val="c4791e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02" name="Text Box 17"/>
            <p:cNvSpPr/>
            <p:nvPr/>
          </p:nvSpPr>
          <p:spPr>
            <a:xfrm>
              <a:off x="5362560" y="15228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2503800" y="1259280"/>
              <a:ext cx="6347880" cy="444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ПР конституционального происхождения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психический и психофизический инфантилизм по классификации М.С.Певзнер и Т.А.Власовой)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Выделяется два варианта: гармонический и дисгармонический.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Дисгармонический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относят к патологическим варианта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 с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гармоническим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фантилизмом по психическим и физическим особенностям отстают от своих сверстников на полтора-два года. Для них характерны: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епосредственность, повышенная жизнерадостность, «сенсорная жадность», неутомимость в игре;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 выполнении учебных заданий, умственном напряжении, у ребенка быстро наступает утомление;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 усваивают учебный материал поверхностно, навыки носят неустойчивый характер. У школьников преобладают игровые интересы, быстрая пресыщаемость и стремление делать только то, что нравится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тсутствие чувства ответственности и стойких привязанностей, снижение  критичности к себе негативно сказывается на взаимоотношениях ребенка с одноклассниками, учителями, родными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04" name="Picture 19" descr="P1160297"/>
          <p:cNvPicPr/>
          <p:nvPr/>
        </p:nvPicPr>
        <p:blipFill>
          <a:blip r:embed="rId1"/>
          <a:stretch/>
        </p:blipFill>
        <p:spPr>
          <a:xfrm>
            <a:off x="179280" y="3933720"/>
            <a:ext cx="1824120" cy="2519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4"/>
          <p:cNvGrpSpPr/>
          <p:nvPr/>
        </p:nvGrpSpPr>
        <p:grpSpPr>
          <a:xfrm>
            <a:off x="250920" y="0"/>
            <a:ext cx="6696360" cy="6857640"/>
            <a:chOff x="250920" y="0"/>
            <a:chExt cx="6696360" cy="6857640"/>
          </a:xfrm>
        </p:grpSpPr>
        <p:sp>
          <p:nvSpPr>
            <p:cNvPr id="206" name="AutoShape 5"/>
            <p:cNvSpPr/>
            <p:nvPr/>
          </p:nvSpPr>
          <p:spPr>
            <a:xfrm>
              <a:off x="250920" y="522720"/>
              <a:ext cx="6676560" cy="485604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53880" y="536760"/>
              <a:ext cx="6475320" cy="4763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407520" y="4043520"/>
              <a:ext cx="6387840" cy="120564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407520" y="574200"/>
              <a:ext cx="6387840" cy="12031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270720" y="5379120"/>
              <a:ext cx="6676560" cy="147852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407520" y="5419440"/>
              <a:ext cx="6387840" cy="131400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чины: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ительная соматическая недостаточность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зличного происхождения: хронические инфекции, аллергические состояния;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рожденные и приобретенные пороки развития внутренних органов (сердце,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чки, легкие и др.)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гноз: успеш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 условии строгого соблюдения режима,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лечения, охраны и укреплении здоровья ребенка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12" name="Group 11"/>
            <p:cNvGrpSpPr/>
            <p:nvPr/>
          </p:nvGrpSpPr>
          <p:grpSpPr>
            <a:xfrm>
              <a:off x="2548080" y="0"/>
              <a:ext cx="1983600" cy="1091880"/>
              <a:chOff x="2548080" y="0"/>
              <a:chExt cx="1983600" cy="1091880"/>
            </a:xfrm>
          </p:grpSpPr>
          <p:sp>
            <p:nvSpPr>
              <p:cNvPr id="213" name="Oval 12"/>
              <p:cNvSpPr/>
              <p:nvPr/>
            </p:nvSpPr>
            <p:spPr>
              <a:xfrm>
                <a:off x="2548080" y="0"/>
                <a:ext cx="1983600" cy="109188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4" name="Oval 13"/>
              <p:cNvSpPr/>
              <p:nvPr/>
            </p:nvSpPr>
            <p:spPr>
              <a:xfrm>
                <a:off x="2568600" y="8280"/>
                <a:ext cx="1918080" cy="10576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5" name="Oval 14"/>
              <p:cNvSpPr/>
              <p:nvPr/>
            </p:nvSpPr>
            <p:spPr>
              <a:xfrm>
                <a:off x="2592360" y="14760"/>
                <a:ext cx="1873800" cy="103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6" name="Oval 15"/>
              <p:cNvSpPr/>
              <p:nvPr/>
            </p:nvSpPr>
            <p:spPr>
              <a:xfrm>
                <a:off x="2613240" y="24840"/>
                <a:ext cx="1781640" cy="96264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7" name="Oval 16"/>
              <p:cNvSpPr/>
              <p:nvPr/>
            </p:nvSpPr>
            <p:spPr>
              <a:xfrm>
                <a:off x="2716920" y="50760"/>
                <a:ext cx="1582920" cy="783000"/>
              </a:xfrm>
              <a:prstGeom prst="ellipse">
                <a:avLst/>
              </a:prstGeom>
              <a:solidFill>
                <a:srgbClr val="c4791e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18" name="Text Box 17"/>
            <p:cNvSpPr/>
            <p:nvPr/>
          </p:nvSpPr>
          <p:spPr>
            <a:xfrm>
              <a:off x="3342960" y="15660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Text Box 18"/>
            <p:cNvSpPr/>
            <p:nvPr/>
          </p:nvSpPr>
          <p:spPr>
            <a:xfrm>
              <a:off x="486360" y="1294920"/>
              <a:ext cx="6348960" cy="3839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П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матогенного происхождения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«сомато» – тело.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 замедлению темпа психического развития приводит стойкая </a:t>
              </a: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астения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, болезненное состояние, которое характеризуется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вышенной утомляемостью, истощаемостью, неспособностью к длительному умственному и физическому напряжению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теллектуальная недостаточность проявляется в снижении памяти, концентрации внимания,  в замедлении темпа мыслительной деятельности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моциональные нарушения выражаются в повышенной раздражительности, обидчивости, плаксивости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 плохо переносят жару, шум, яркий свет; жалуются на головные боли и усталость; у них нарушается сон и аппетит, к концу учебных занятий резко падает работоспособность.  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20" name="Picture 21" descr="P1060223"/>
          <p:cNvPicPr/>
          <p:nvPr/>
        </p:nvPicPr>
        <p:blipFill>
          <a:blip r:embed="rId1"/>
          <a:stretch/>
        </p:blipFill>
        <p:spPr>
          <a:xfrm>
            <a:off x="7093080" y="2205000"/>
            <a:ext cx="1860480" cy="2685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8:15:18Z</dcterms:created>
  <dc:creator>Александр</dc:creator>
  <dc:description/>
  <dc:language>en-US</dc:language>
  <cp:lastModifiedBy>Каб17</cp:lastModifiedBy>
  <dcterms:modified xsi:type="dcterms:W3CDTF">2012-02-10T13:55:17Z</dcterms:modified>
  <cp:revision>26</cp:revision>
  <dc:subject/>
  <dc:title>ОБРАЗОВАНИЕ  ДЕТЕЙ  С  ЗАДЕРЖКОЙ ПСИХИЧЕСКОГО РАЗВИТИЯ</dc:title>
</cp:coreProperties>
</file>