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C0F-0453-44B2-9594-D5A933C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A05-B65C-4886-8C0F-9DFB429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7DB-1725-4111-9B3E-8576F495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63E-C8EB-40EC-83A8-8D4AB792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FB7-CAE1-4313-9E91-0663188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A80-2D76-4283-929F-2FB007B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C90-E56F-4D8B-A728-130CCEC2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85E-4DC0-4E66-A813-53A8699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97D-4C1A-486B-A44B-F1A9467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70F-AFE6-4F6B-82FF-B530F6E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7DE-C100-4031-99A5-646ECDE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24A-2DC8-498C-B1CB-5B03C48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B51-AC3E-488C-AFA5-686E03C3A4D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25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ОБРАЗОВАНИЕ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ДЕТЕЙ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С 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P1060227"/>
          <p:cNvPicPr/>
          <p:nvPr/>
        </p:nvPicPr>
        <p:blipFill>
          <a:blip r:embed="rId1"/>
          <a:stretch/>
        </p:blipFill>
        <p:spPr>
          <a:xfrm>
            <a:off x="4211640" y="3716280"/>
            <a:ext cx="3024360" cy="19652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86" name="Picture 6" descr="P1000762"/>
          <p:cNvPicPr/>
          <p:nvPr/>
        </p:nvPicPr>
        <p:blipFill>
          <a:blip r:embed="rId2"/>
          <a:stretch/>
        </p:blipFill>
        <p:spPr>
          <a:xfrm>
            <a:off x="2484360" y="4941720"/>
            <a:ext cx="2300400" cy="17240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2627280" y="0"/>
            <a:ext cx="6191640" cy="6741360"/>
            <a:chOff x="2627280" y="0"/>
            <a:chExt cx="6191640" cy="6741360"/>
          </a:xfrm>
        </p:grpSpPr>
        <p:sp>
          <p:nvSpPr>
            <p:cNvPr id="222" name="AutoShape 5"/>
            <p:cNvSpPr/>
            <p:nvPr/>
          </p:nvSpPr>
          <p:spPr>
            <a:xfrm>
              <a:off x="2627280" y="514080"/>
              <a:ext cx="6173280" cy="477396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722680" y="527760"/>
              <a:ext cx="5987520" cy="4682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2772000" y="3975120"/>
              <a:ext cx="5906160" cy="1185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772000" y="564480"/>
              <a:ext cx="5906160" cy="1182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45640" y="5288040"/>
              <a:ext cx="6173280" cy="14533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2772000" y="5327640"/>
              <a:ext cx="5906160" cy="129168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благоприятные условия воспитания: несогласованность и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тиворечивое влияние семьи и образовательных учреждений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фликтная обстановка в семье, безнадзорность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коррекционно-воспитательной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ы с ребенком и с семьей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8" name="Group 11"/>
            <p:cNvGrpSpPr/>
            <p:nvPr/>
          </p:nvGrpSpPr>
          <p:grpSpPr>
            <a:xfrm>
              <a:off x="4751280" y="0"/>
              <a:ext cx="1834200" cy="1073520"/>
              <a:chOff x="4751280" y="0"/>
              <a:chExt cx="1834200" cy="1073520"/>
            </a:xfrm>
          </p:grpSpPr>
          <p:sp>
            <p:nvSpPr>
              <p:cNvPr id="229" name="Oval 12"/>
              <p:cNvSpPr/>
              <p:nvPr/>
            </p:nvSpPr>
            <p:spPr>
              <a:xfrm>
                <a:off x="4751280" y="0"/>
                <a:ext cx="1834200" cy="10735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4770360" y="8280"/>
                <a:ext cx="1773720" cy="1039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4792320" y="14400"/>
                <a:ext cx="1732680" cy="1014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4811400" y="24120"/>
                <a:ext cx="1647360" cy="9464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4907520" y="49680"/>
                <a:ext cx="1463760" cy="76968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5475600" y="15372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2844720" y="1272960"/>
              <a:ext cx="5870520" cy="338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генн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рудности в формировании учебно-познавательной деятельности и нарушения  поведении проявляется в отсутствии любознательности, усидчивости, трудолюбии, заинтересованности в успешном выполнении заданий, чувства долга и ответственности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цесс формирования психики определяется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социально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ситуацией развития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условиях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гиперопек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и пр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сихотравмирующих условиях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воспитания проявления личностной незрелости сочетаются с агрессивно-защитными или пассивно-защитными реакциями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детей отмечаются: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) черты патологической незрелости эмоционально-волевой сферы: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ффективная лабильность, импульсивность, повышенная внушаемость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) недостаточный уровень знаний, умений и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выков, необходимых для успешного усвоения школьной программы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) неспособность к систематическому труду, раздражительность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36" name="Picture 20" descr="Рисунок1"/>
          <p:cNvPicPr/>
          <p:nvPr/>
        </p:nvPicPr>
        <p:blipFill>
          <a:blip r:embed="rId1"/>
          <a:stretch/>
        </p:blipFill>
        <p:spPr>
          <a:xfrm>
            <a:off x="250920" y="2421000"/>
            <a:ext cx="2190600" cy="279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2556000" y="0"/>
            <a:ext cx="6586920" cy="6668640"/>
            <a:chOff x="2556000" y="0"/>
            <a:chExt cx="6586920" cy="6668640"/>
          </a:xfrm>
        </p:grpSpPr>
        <p:sp>
          <p:nvSpPr>
            <p:cNvPr id="238" name="AutoShape 3"/>
            <p:cNvSpPr/>
            <p:nvPr/>
          </p:nvSpPr>
          <p:spPr>
            <a:xfrm>
              <a:off x="2556000" y="508320"/>
              <a:ext cx="6567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>
              <a:off x="2657520" y="522000"/>
              <a:ext cx="636948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5"/>
            <p:cNvSpPr/>
            <p:nvPr/>
          </p:nvSpPr>
          <p:spPr>
            <a:xfrm>
              <a:off x="2710080" y="3931920"/>
              <a:ext cx="628344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>
              <a:off x="2710080" y="558360"/>
              <a:ext cx="628344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2575440" y="5230800"/>
              <a:ext cx="6567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2710080" y="5270040"/>
              <a:ext cx="628344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чины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негрубая органическая недостаточность нервной системы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езидуального (остаточного) характера вследствие патологии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еременности, родов, постнатальных инфекций и др.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зависит от организации специального обучения в школах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для детей с ЗПР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4" name="Group 9"/>
            <p:cNvGrpSpPr/>
            <p:nvPr/>
          </p:nvGrpSpPr>
          <p:grpSpPr>
            <a:xfrm>
              <a:off x="4815720" y="0"/>
              <a:ext cx="1951200" cy="1062000"/>
              <a:chOff x="4815720" y="0"/>
              <a:chExt cx="1951200" cy="1062000"/>
            </a:xfrm>
          </p:grpSpPr>
          <p:sp>
            <p:nvSpPr>
              <p:cNvPr id="245" name="Oval 10"/>
              <p:cNvSpPr/>
              <p:nvPr/>
            </p:nvSpPr>
            <p:spPr>
              <a:xfrm>
                <a:off x="4815720" y="0"/>
                <a:ext cx="195120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Oval 11"/>
              <p:cNvSpPr/>
              <p:nvPr/>
            </p:nvSpPr>
            <p:spPr>
              <a:xfrm>
                <a:off x="4836240" y="8280"/>
                <a:ext cx="188676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>
                <a:off x="4859280" y="14400"/>
                <a:ext cx="184320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Oval 13"/>
              <p:cNvSpPr/>
              <p:nvPr/>
            </p:nvSpPr>
            <p:spPr>
              <a:xfrm>
                <a:off x="4879800" y="24120"/>
                <a:ext cx="17524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Oval 14"/>
              <p:cNvSpPr/>
              <p:nvPr/>
            </p:nvSpPr>
            <p:spPr>
              <a:xfrm>
                <a:off x="4981680" y="49320"/>
                <a:ext cx="1557000" cy="761400"/>
              </a:xfrm>
              <a:prstGeom prst="ellipse">
                <a:avLst/>
              </a:prstGeom>
              <a:solidFill>
                <a:srgbClr val="660066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0" name="Text Box 15"/>
            <p:cNvSpPr/>
            <p:nvPr/>
          </p:nvSpPr>
          <p:spPr>
            <a:xfrm>
              <a:off x="559728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Text Box 16"/>
            <p:cNvSpPr/>
            <p:nvPr/>
          </p:nvSpPr>
          <p:spPr>
            <a:xfrm>
              <a:off x="2787480" y="1259280"/>
              <a:ext cx="6244920" cy="3597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ребрально-органическ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 детей отмечается замедленное формирование двигательных функций, речи, этапов игровой деятельности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Эмоционально-волевая незрелость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едстает в форме органического инфантилизма, который проявляется в двух вариантах: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еустойчивом – с психомоторной расторможенностью и импульсивностью;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ормозимом – с преобладанием пониженного фона настроения, нерешительностью и боязливостью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Нарушения познавательной деятельности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оявляются в недостаточной сформированности восприятия, внимания, памяти, мыслительных процессов и речи, в замедленности и пониженной переключаемости психических процессов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Эта группа детей требует отграничения от умственно отсталых  детей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52" name="Picture 18" descr="P1000787"/>
          <p:cNvPicPr/>
          <p:nvPr/>
        </p:nvPicPr>
        <p:blipFill>
          <a:blip r:embed="rId1"/>
          <a:stretch/>
        </p:blipFill>
        <p:spPr>
          <a:xfrm>
            <a:off x="0" y="2565360"/>
            <a:ext cx="237636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Verdana"/>
              </a:rPr>
              <a:t>Психолого-педагогическая характеристика детей с ЗП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197000"/>
            <a:ext cx="608472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5508720" y="1052640"/>
            <a:ext cx="1098000" cy="1001160"/>
            <a:chOff x="5508720" y="1052640"/>
            <a:chExt cx="1098000" cy="1001160"/>
          </a:xfrm>
        </p:grpSpPr>
        <p:grpSp>
          <p:nvGrpSpPr>
            <p:cNvPr id="256" name="Group 5"/>
            <p:cNvGrpSpPr/>
            <p:nvPr/>
          </p:nvGrpSpPr>
          <p:grpSpPr>
            <a:xfrm>
              <a:off x="5508720" y="1052640"/>
              <a:ext cx="1098000" cy="1001160"/>
              <a:chOff x="5508720" y="1052640"/>
              <a:chExt cx="1098000" cy="1001160"/>
            </a:xfrm>
          </p:grpSpPr>
          <p:sp>
            <p:nvSpPr>
              <p:cNvPr id="257" name="Oval 6"/>
              <p:cNvSpPr/>
              <p:nvPr/>
            </p:nvSpPr>
            <p:spPr>
              <a:xfrm>
                <a:off x="5508720" y="105264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8" name="Freeform 7"/>
              <p:cNvSpPr/>
              <p:nvPr/>
            </p:nvSpPr>
            <p:spPr>
              <a:xfrm>
                <a:off x="5634000" y="1069200"/>
                <a:ext cx="8470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9" name="Text Box 8"/>
            <p:cNvSpPr/>
            <p:nvPr/>
          </p:nvSpPr>
          <p:spPr>
            <a:xfrm>
              <a:off x="5988600" y="116388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0" y="1197000"/>
            <a:ext cx="608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ставание в психическом  развитии во всех 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ферах психической  деятельности</a:t>
            </a:r>
            <a:r>
              <a:rPr b="0" lang="en-US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чалу школьного возраста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2205000"/>
            <a:ext cx="62136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5796000" y="2060640"/>
            <a:ext cx="1087200" cy="1006200"/>
            <a:chOff x="5796000" y="2060640"/>
            <a:chExt cx="1087200" cy="1006200"/>
          </a:xfrm>
        </p:grpSpPr>
        <p:grpSp>
          <p:nvGrpSpPr>
            <p:cNvPr id="263" name="Group 12"/>
            <p:cNvGrpSpPr/>
            <p:nvPr/>
          </p:nvGrpSpPr>
          <p:grpSpPr>
            <a:xfrm>
              <a:off x="5796000" y="2060640"/>
              <a:ext cx="1087200" cy="1006200"/>
              <a:chOff x="5796000" y="2060640"/>
              <a:chExt cx="1087200" cy="1006200"/>
            </a:xfrm>
          </p:grpSpPr>
          <p:sp>
            <p:nvSpPr>
              <p:cNvPr id="264" name="Oval 13"/>
              <p:cNvSpPr/>
              <p:nvPr/>
            </p:nvSpPr>
            <p:spPr>
              <a:xfrm>
                <a:off x="5796000" y="20606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5920200" y="20772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6" name="Text Box 15"/>
            <p:cNvSpPr/>
            <p:nvPr/>
          </p:nvSpPr>
          <p:spPr>
            <a:xfrm>
              <a:off x="6238440" y="21988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7" name="Text Box 16"/>
          <p:cNvSpPr/>
          <p:nvPr/>
        </p:nvSpPr>
        <p:spPr>
          <a:xfrm>
            <a:off x="0" y="2349360"/>
            <a:ext cx="55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дленная скорость  приёма и переработки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нсорной информаци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0" y="3141720"/>
            <a:ext cx="70898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6372360" y="2997360"/>
            <a:ext cx="1098000" cy="1012320"/>
            <a:chOff x="6372360" y="2997360"/>
            <a:chExt cx="1098000" cy="1012320"/>
          </a:xfrm>
        </p:grpSpPr>
        <p:grpSp>
          <p:nvGrpSpPr>
            <p:cNvPr id="270" name="Group 19"/>
            <p:cNvGrpSpPr/>
            <p:nvPr/>
          </p:nvGrpSpPr>
          <p:grpSpPr>
            <a:xfrm>
              <a:off x="6372360" y="2997360"/>
              <a:ext cx="1098000" cy="1012320"/>
              <a:chOff x="6372360" y="2997360"/>
              <a:chExt cx="1098000" cy="101232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6372360" y="299736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>
                <a:off x="6497640" y="3013920"/>
                <a:ext cx="847080" cy="38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6886440" y="3051720"/>
              <a:ext cx="1843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4" name="Text Box 23"/>
          <p:cNvSpPr/>
          <p:nvPr/>
        </p:nvSpPr>
        <p:spPr>
          <a:xfrm>
            <a:off x="0" y="342900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очная  сформированность  умственных операц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0" y="4076640"/>
            <a:ext cx="7632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948360" y="3933720"/>
            <a:ext cx="1103400" cy="1019160"/>
            <a:chOff x="6948360" y="3933720"/>
            <a:chExt cx="1103400" cy="1019160"/>
          </a:xfrm>
        </p:grpSpPr>
        <p:sp>
          <p:nvSpPr>
            <p:cNvPr id="277" name="Oval 26"/>
            <p:cNvSpPr/>
            <p:nvPr/>
          </p:nvSpPr>
          <p:spPr>
            <a:xfrm>
              <a:off x="6948360" y="393372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Freeform 27"/>
            <p:cNvSpPr/>
            <p:nvPr/>
          </p:nvSpPr>
          <p:spPr>
            <a:xfrm>
              <a:off x="7074360" y="3950640"/>
              <a:ext cx="851040" cy="3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9" name="Text Box 29"/>
          <p:cNvSpPr/>
          <p:nvPr/>
        </p:nvSpPr>
        <p:spPr>
          <a:xfrm>
            <a:off x="0" y="4149720"/>
            <a:ext cx="565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ознавательн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и слабость познавательных интересов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AutoShape 30"/>
          <p:cNvSpPr/>
          <p:nvPr/>
        </p:nvSpPr>
        <p:spPr>
          <a:xfrm>
            <a:off x="6877080" y="907920"/>
            <a:ext cx="1738440" cy="960480"/>
          </a:xfrm>
          <a:prstGeom prst="wedgeRoundRectCallout">
            <a:avLst>
              <a:gd name="adj1" fmla="val -59407"/>
              <a:gd name="adj2" fmla="val 127518"/>
              <a:gd name="adj3" fmla="val 16667"/>
            </a:avLst>
          </a:prstGeom>
          <a:solidFill>
            <a:srgbClr val="fdfd8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ризна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0" y="5013360"/>
            <a:ext cx="8136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енность, отрывочность знаний  и представлений об окружающ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2" name="Group 32"/>
          <p:cNvGrpSpPr/>
          <p:nvPr/>
        </p:nvGrpSpPr>
        <p:grpSpPr>
          <a:xfrm>
            <a:off x="7524720" y="4869000"/>
            <a:ext cx="1098360" cy="1001160"/>
            <a:chOff x="7524720" y="4869000"/>
            <a:chExt cx="1098360" cy="1001160"/>
          </a:xfrm>
        </p:grpSpPr>
        <p:grpSp>
          <p:nvGrpSpPr>
            <p:cNvPr id="283" name="Group 33"/>
            <p:cNvGrpSpPr/>
            <p:nvPr/>
          </p:nvGrpSpPr>
          <p:grpSpPr>
            <a:xfrm>
              <a:off x="7524720" y="4869000"/>
              <a:ext cx="1098360" cy="1001160"/>
              <a:chOff x="7524720" y="4869000"/>
              <a:chExt cx="1098360" cy="1001160"/>
            </a:xfrm>
          </p:grpSpPr>
          <p:sp>
            <p:nvSpPr>
              <p:cNvPr id="284" name="Oval 34"/>
              <p:cNvSpPr/>
              <p:nvPr/>
            </p:nvSpPr>
            <p:spPr>
              <a:xfrm>
                <a:off x="7524720" y="486900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Freeform 35"/>
              <p:cNvSpPr/>
              <p:nvPr/>
            </p:nvSpPr>
            <p:spPr>
              <a:xfrm>
                <a:off x="7650000" y="4885560"/>
                <a:ext cx="84744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6" name="Text Box 36"/>
            <p:cNvSpPr/>
            <p:nvPr/>
          </p:nvSpPr>
          <p:spPr>
            <a:xfrm>
              <a:off x="8004960" y="498024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37"/>
          <p:cNvSpPr/>
          <p:nvPr/>
        </p:nvSpPr>
        <p:spPr>
          <a:xfrm>
            <a:off x="0" y="5950080"/>
            <a:ext cx="864072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тавание в речевом развити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 произношения, аграмматизмы, ограниченность словар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38"/>
          <p:cNvGrpSpPr/>
          <p:nvPr/>
        </p:nvGrpSpPr>
        <p:grpSpPr>
          <a:xfrm>
            <a:off x="8056440" y="5851440"/>
            <a:ext cx="1087200" cy="1006200"/>
            <a:chOff x="8056440" y="5851440"/>
            <a:chExt cx="1087200" cy="1006200"/>
          </a:xfrm>
        </p:grpSpPr>
        <p:grpSp>
          <p:nvGrpSpPr>
            <p:cNvPr id="289" name="Group 39"/>
            <p:cNvGrpSpPr/>
            <p:nvPr/>
          </p:nvGrpSpPr>
          <p:grpSpPr>
            <a:xfrm>
              <a:off x="8056440" y="5851440"/>
              <a:ext cx="1087200" cy="1006200"/>
              <a:chOff x="8056440" y="5851440"/>
              <a:chExt cx="1087200" cy="1006200"/>
            </a:xfrm>
          </p:grpSpPr>
          <p:sp>
            <p:nvSpPr>
              <p:cNvPr id="290" name="Oval 40"/>
              <p:cNvSpPr/>
              <p:nvPr/>
            </p:nvSpPr>
            <p:spPr>
              <a:xfrm>
                <a:off x="8056440" y="58514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Freeform 41"/>
              <p:cNvSpPr/>
              <p:nvPr/>
            </p:nvSpPr>
            <p:spPr>
              <a:xfrm>
                <a:off x="8180640" y="58680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2" name="Text Box 42"/>
            <p:cNvSpPr/>
            <p:nvPr/>
          </p:nvSpPr>
          <p:spPr>
            <a:xfrm>
              <a:off x="8498880" y="59896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1"/>
          <p:cNvGrpSpPr/>
          <p:nvPr/>
        </p:nvGrpSpPr>
        <p:grpSpPr>
          <a:xfrm>
            <a:off x="1252440" y="1291320"/>
            <a:ext cx="6598800" cy="4675320"/>
            <a:chOff x="1252440" y="1291320"/>
            <a:chExt cx="6598800" cy="4675320"/>
          </a:xfrm>
        </p:grpSpPr>
        <p:sp>
          <p:nvSpPr>
            <p:cNvPr id="294" name="Oval 3"/>
            <p:cNvSpPr/>
            <p:nvPr/>
          </p:nvSpPr>
          <p:spPr>
            <a:xfrm>
              <a:off x="2288880" y="4302000"/>
              <a:ext cx="5562360" cy="13251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 rot="20601600">
              <a:off x="1563480" y="218844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Oval 5"/>
            <p:cNvSpPr/>
            <p:nvPr/>
          </p:nvSpPr>
          <p:spPr>
            <a:xfrm rot="20601600">
              <a:off x="1620000" y="20264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Arc 6"/>
            <p:cNvSpPr/>
            <p:nvPr/>
          </p:nvSpPr>
          <p:spPr>
            <a:xfrm rot="20601600">
              <a:off x="4276440" y="1915920"/>
              <a:ext cx="2849040" cy="19663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9edf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rc 7"/>
            <p:cNvSpPr/>
            <p:nvPr/>
          </p:nvSpPr>
          <p:spPr>
            <a:xfrm flipH="1" rot="20602200">
              <a:off x="1864080" y="3790800"/>
              <a:ext cx="3280680" cy="1476360"/>
            </a:xfrm>
            <a:prstGeom prst="pie">
              <a:avLst/>
            </a:prstGeom>
            <a:gradFill rotWithShape="0">
              <a:gsLst>
                <a:gs pos="0">
                  <a:srgbClr val="136b97"/>
                </a:gs>
                <a:gs pos="100000">
                  <a:srgbClr val="1b9ad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rc 8"/>
            <p:cNvSpPr/>
            <p:nvPr/>
          </p:nvSpPr>
          <p:spPr>
            <a:xfrm rot="20601600">
              <a:off x="2872800" y="1961640"/>
              <a:ext cx="3228480" cy="1417320"/>
            </a:xfrm>
            <a:prstGeom prst="pie">
              <a:avLst/>
            </a:prstGeom>
            <a:gradFill rotWithShape="0">
              <a:gsLst>
                <a:gs pos="0">
                  <a:srgbClr val="4182a2"/>
                </a:gs>
                <a:gs pos="100000">
                  <a:srgbClr val="66ccf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рекционны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Arc 9"/>
            <p:cNvSpPr/>
            <p:nvPr/>
          </p:nvSpPr>
          <p:spPr>
            <a:xfrm flipH="1" rot="20602200">
              <a:off x="1521360" y="2555640"/>
              <a:ext cx="2850840" cy="2066400"/>
            </a:xfrm>
            <a:prstGeom prst="pi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6a4a2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5614560" y="3458880"/>
              <a:ext cx="1753920" cy="177768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rc 11"/>
            <p:cNvSpPr/>
            <p:nvPr/>
          </p:nvSpPr>
          <p:spPr>
            <a:xfrm rot="20539200">
              <a:off x="4659120" y="2847600"/>
              <a:ext cx="2728440" cy="1858680"/>
            </a:xfrm>
            <a:prstGeom prst="pi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4625640" y="3798720"/>
              <a:ext cx="1028520" cy="147276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 rot="20601600">
              <a:off x="3080880" y="274140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Text Box 14"/>
            <p:cNvSpPr/>
            <p:nvPr/>
          </p:nvSpPr>
          <p:spPr>
            <a:xfrm>
              <a:off x="1407600" y="3425400"/>
              <a:ext cx="215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пита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6" name="Text Box 15"/>
            <p:cNvSpPr/>
            <p:nvPr/>
          </p:nvSpPr>
          <p:spPr>
            <a:xfrm>
              <a:off x="4298760" y="223020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5266440" y="2511000"/>
              <a:ext cx="23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дорови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8" name="Text Box 17"/>
            <p:cNvSpPr/>
            <p:nvPr/>
          </p:nvSpPr>
          <p:spPr>
            <a:xfrm>
              <a:off x="4815360" y="3730320"/>
              <a:ext cx="220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агностически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Text Box 18"/>
            <p:cNvSpPr/>
            <p:nvPr/>
          </p:nvSpPr>
          <p:spPr>
            <a:xfrm>
              <a:off x="2678760" y="4439880"/>
              <a:ext cx="205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зовательных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544640" y="4014360"/>
              <a:ext cx="863280" cy="1079280"/>
            </a:xfrm>
            <a:prstGeom prst="pie">
              <a:avLst/>
            </a:pr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9d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Oval 20"/>
            <p:cNvSpPr/>
            <p:nvPr/>
          </p:nvSpPr>
          <p:spPr>
            <a:xfrm rot="20601600">
              <a:off x="3182760" y="2993760"/>
              <a:ext cx="2585520" cy="10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Школа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I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ид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79640" y="318960"/>
            <a:ext cx="5905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Arial"/>
              </a:rPr>
              <a:t>Обучение детей с ЗП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26" descr="P1000787"/>
          <p:cNvPicPr/>
          <p:nvPr/>
        </p:nvPicPr>
        <p:blipFill>
          <a:blip r:embed="rId1"/>
          <a:stretch/>
        </p:blipFill>
        <p:spPr>
          <a:xfrm>
            <a:off x="7093080" y="987480"/>
            <a:ext cx="1871640" cy="143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" descr="P1000773"/>
          <p:cNvPicPr/>
          <p:nvPr/>
        </p:nvPicPr>
        <p:blipFill>
          <a:blip r:embed="rId2"/>
          <a:stretch/>
        </p:blipFill>
        <p:spPr>
          <a:xfrm>
            <a:off x="324000" y="5229360"/>
            <a:ext cx="2189160" cy="1287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8" descr="P1000749"/>
          <p:cNvPicPr/>
          <p:nvPr/>
        </p:nvPicPr>
        <p:blipFill>
          <a:blip r:embed="rId3"/>
          <a:stretch/>
        </p:blipFill>
        <p:spPr>
          <a:xfrm>
            <a:off x="7020000" y="508320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9" descr="r4t45"/>
          <p:cNvPicPr/>
          <p:nvPr/>
        </p:nvPicPr>
        <p:blipFill>
          <a:blip r:embed="rId4"/>
          <a:stretch/>
        </p:blipFill>
        <p:spPr>
          <a:xfrm>
            <a:off x="322200" y="692280"/>
            <a:ext cx="1811520" cy="201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Коррекционная направленность обучения детей с ЗП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1547640" y="4875120"/>
            <a:ext cx="7062120" cy="1290240"/>
            <a:chOff x="1547640" y="4875120"/>
            <a:chExt cx="7062120" cy="1290240"/>
          </a:xfrm>
        </p:grpSpPr>
        <p:sp>
          <p:nvSpPr>
            <p:cNvPr id="319" name="Freeform 4"/>
            <p:cNvSpPr/>
            <p:nvPr/>
          </p:nvSpPr>
          <p:spPr>
            <a:xfrm>
              <a:off x="7364160" y="4875120"/>
              <a:ext cx="1245600" cy="1288800"/>
            </a:xfrm>
            <a:prstGeom prst="pie">
              <a:avLst/>
            </a:pr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2112120" y="4875120"/>
              <a:ext cx="5803920" cy="549000"/>
            </a:xfrm>
            <a:prstGeom prst="pi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1547640" y="5421240"/>
              <a:ext cx="6406560" cy="74412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2" name="Group 7"/>
          <p:cNvGrpSpPr/>
          <p:nvPr/>
        </p:nvGrpSpPr>
        <p:grpSpPr>
          <a:xfrm>
            <a:off x="2195640" y="4092480"/>
            <a:ext cx="5833440" cy="1136880"/>
            <a:chOff x="2195640" y="4092480"/>
            <a:chExt cx="5833440" cy="1136880"/>
          </a:xfrm>
        </p:grpSpPr>
        <p:sp>
          <p:nvSpPr>
            <p:cNvPr id="323" name="Freeform 8"/>
            <p:cNvSpPr/>
            <p:nvPr/>
          </p:nvSpPr>
          <p:spPr>
            <a:xfrm>
              <a:off x="6881400" y="4092480"/>
              <a:ext cx="1147680" cy="1136880"/>
            </a:xfrm>
            <a:prstGeom prst="pie">
              <a:avLst/>
            </a:pr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2770200" y="4092480"/>
              <a:ext cx="4546080" cy="39996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2195640" y="4491000"/>
              <a:ext cx="5277600" cy="738000"/>
            </a:xfrm>
            <a:prstGeom prst="pie">
              <a:avLst/>
            </a:pr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2916360" y="3284640"/>
            <a:ext cx="4534920" cy="1008000"/>
            <a:chOff x="2916360" y="3284640"/>
            <a:chExt cx="4534920" cy="1008000"/>
          </a:xfrm>
        </p:grpSpPr>
        <p:sp>
          <p:nvSpPr>
            <p:cNvPr id="327" name="Freeform 12"/>
            <p:cNvSpPr/>
            <p:nvPr/>
          </p:nvSpPr>
          <p:spPr>
            <a:xfrm>
              <a:off x="6400800" y="3284640"/>
              <a:ext cx="1050480" cy="1008000"/>
            </a:xfrm>
            <a:prstGeom prst="pie">
              <a:avLst/>
            </a:pr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3527640" y="3284640"/>
              <a:ext cx="3173040" cy="272160"/>
            </a:xfrm>
            <a:prstGeom prst="pie">
              <a:avLst/>
            </a:pr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2916360" y="3555360"/>
              <a:ext cx="4105800" cy="736920"/>
            </a:xfrm>
            <a:prstGeom prst="pie">
              <a:avLst/>
            </a:pr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3635280" y="2525760"/>
            <a:ext cx="2952360" cy="903240"/>
            <a:chOff x="3635280" y="2525760"/>
            <a:chExt cx="2952360" cy="903240"/>
          </a:xfrm>
        </p:grpSpPr>
        <p:sp>
          <p:nvSpPr>
            <p:cNvPr id="331" name="Freeform 16"/>
            <p:cNvSpPr/>
            <p:nvPr/>
          </p:nvSpPr>
          <p:spPr>
            <a:xfrm>
              <a:off x="5684400" y="2525760"/>
              <a:ext cx="903240" cy="903240"/>
            </a:xfrm>
            <a:prstGeom prst="pie">
              <a:avLst/>
            </a:pr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4257360" y="2525760"/>
              <a:ext cx="1580760" cy="135360"/>
            </a:xfrm>
            <a:prstGeom prst="pie">
              <a:avLst/>
            </a:pr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3635280" y="2659680"/>
              <a:ext cx="2669400" cy="768960"/>
            </a:xfrm>
            <a:prstGeom prst="pie">
              <a:avLst/>
            </a:pr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4356000" y="1738440"/>
            <a:ext cx="1584000" cy="826560"/>
            <a:chOff x="4356000" y="1738440"/>
            <a:chExt cx="1584000" cy="826560"/>
          </a:xfrm>
        </p:grpSpPr>
        <p:sp>
          <p:nvSpPr>
            <p:cNvPr id="335" name="Freeform 20"/>
            <p:cNvSpPr/>
            <p:nvPr/>
          </p:nvSpPr>
          <p:spPr>
            <a:xfrm>
              <a:off x="5064480" y="1738440"/>
              <a:ext cx="8755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4356000" y="1738440"/>
              <a:ext cx="14191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7" name="Text Box 39"/>
          <p:cNvSpPr/>
          <p:nvPr/>
        </p:nvSpPr>
        <p:spPr>
          <a:xfrm>
            <a:off x="4216680" y="2060640"/>
            <a:ext cx="21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Text Box 40"/>
          <p:cNvSpPr/>
          <p:nvPr/>
        </p:nvSpPr>
        <p:spPr>
          <a:xfrm>
            <a:off x="3958920" y="275760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ы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Text Box 41"/>
          <p:cNvSpPr/>
          <p:nvPr/>
        </p:nvSpPr>
        <p:spPr>
          <a:xfrm>
            <a:off x="3507120" y="37400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3285360" y="551664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ческий бло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3201480" y="4581360"/>
            <a:ext cx="32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доровитель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12"/>
          <p:cNvSpPr/>
          <p:nvPr/>
        </p:nvSpPr>
        <p:spPr>
          <a:xfrm flipH="1">
            <a:off x="3203640" y="4076640"/>
            <a:ext cx="100800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Диагностически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50920" y="1628640"/>
            <a:ext cx="86407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ное  медико-психолого-педагогическо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уч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бенка в цел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точнения диагно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работ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о-ориентирован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771920" y="4724280"/>
            <a:ext cx="1954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сих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932280" y="4724280"/>
            <a:ext cx="23983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фект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564240" y="4724280"/>
            <a:ext cx="2570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питатель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193040" y="5589720"/>
            <a:ext cx="24361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083200" y="5589720"/>
            <a:ext cx="2617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ор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физкультур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1476360" y="4005360"/>
            <a:ext cx="2735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4427640" y="407664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4284720" y="4005360"/>
            <a:ext cx="259236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356000" y="4076640"/>
            <a:ext cx="93672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31560" y="4724280"/>
            <a:ext cx="1155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ач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H="1">
            <a:off x="2626920" y="4076640"/>
            <a:ext cx="15130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здорови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91960" y="3284640"/>
            <a:ext cx="67201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ляется  комплекс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чебно-профилактических мероприят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х для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28320" y="1125360"/>
            <a:ext cx="572184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услов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е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щиты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хранения и укрепления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го воспитанника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школьного учреждения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695960" y="5084640"/>
            <a:ext cx="72918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 задачи формирования у дете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ставлений о здоровом образе жизн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конкретных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х укрепл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его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6516720" y="184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101080" y="3860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Коррекцион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85760" y="1197000"/>
            <a:ext cx="478152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енсаторных механизм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овления психи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еятельност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ого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31960" y="3068640"/>
            <a:ext cx="4428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илактика и коррекц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ичных отклонени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4500720" y="414972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256400" y="5013360"/>
            <a:ext cx="65203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осущест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и специалист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ого учреждения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сной взаимосвяз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е распределе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согласованию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фессиональной деятельност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31896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Воспитательный блок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842480" y="1773360"/>
            <a:ext cx="3688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изац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763640" y="2565360"/>
            <a:ext cx="6912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стоятельности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769040" y="3357720"/>
            <a:ext cx="5051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769040" y="4221000"/>
            <a:ext cx="4770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 семь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726560" y="5229360"/>
            <a:ext cx="6184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 положитель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х качест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755640" y="1268280"/>
            <a:ext cx="576360" cy="540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разова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910480" y="3068640"/>
            <a:ext cx="26694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школьному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чени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993760" y="1557360"/>
            <a:ext cx="35593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дете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м усво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ественного опыт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833040" y="3068640"/>
            <a:ext cx="27547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ив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138120" y="4581360"/>
            <a:ext cx="36752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х видо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тской деятель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500720" y="3573360"/>
            <a:ext cx="502920" cy="576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Е   ДЕТЕЙ  С 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ЛОГО-ПЕДАГОГИЧЕСК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ИСТИКА 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ИНЫ ЗПР. КЛАССИФИКАЦИ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AutoShape 52"/>
          <p:cNvSpPr/>
          <p:nvPr/>
        </p:nvSpPr>
        <p:spPr>
          <a:xfrm>
            <a:off x="1765440" y="1820880"/>
            <a:ext cx="54705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ЗАДЕРЖКИ ПСИХИЧЕСКОГО РАЗВИТ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7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3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4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5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1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7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8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9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4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5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учение детей педагог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620440" y="1146240"/>
            <a:ext cx="4426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пределение занят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545760" y="1989000"/>
            <a:ext cx="3792600" cy="43916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занятия здоровь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леп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аппликаци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ис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конструир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учной труд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физическ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трудов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859280" y="1989000"/>
            <a:ext cx="3745080" cy="41173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фектолог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знавате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математи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реч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тонкой ручно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ик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дготовка к обучению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оте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4356000" y="198900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Использованные источ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694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неев А.Д.  Основы коррекционной педагогики [Текст]:  учеб. Пособие для студ. высш. пед. учебных заведений / А.Д. Гонеев. - М.. 1999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рекционная педагогика в начальном образовании  [Текст] : Учеб. пособ. /  Под ред. Кумариной Г.Ф. -М,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занов   Б.П.,   Селиверстов   В.И. Коррекционная   педагогика:   Основы обучения и воспитания детей с отклонениями в развитии [Текст] / Б.П. Пузанов, В.И. Селиверстов  - М., 2002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педагогика [Текст] /Под ред.Н.М.Назаровой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 изд., -М., 2002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дошкольная педагогика  [Текст] /  Под ред. Е.А. Стребелевой.- М,  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133720" y="5181480"/>
            <a:ext cx="683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р-составитель: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подаватель общепрофессиональных дисциплин Губенко А.М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cc"/>
                  </a:solidFill>
                  <a:miter/>
                </a:ln>
                <a:solidFill>
                  <a:srgbClr val="fdfd87"/>
                </a:soli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9080">
                <a:solidFill>
                  <a:srgbClr val="ffcccc"/>
                </a:solidFill>
                <a:miter/>
              </a:ln>
              <a:solidFill>
                <a:srgbClr val="fdfd87"/>
              </a:soli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2f7fc"/>
                </a:solidFill>
                <a:latin typeface="Verdana"/>
              </a:rPr>
              <a:t>Понятие  «задержанное развитие» ввел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В.Лебединский  на основании обобщённых результатов исследований  психологов, дефектологов и психиатров. По его мнению, тип нарушения психического развития зависит от: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функциональной локализации нарушения;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времени поражения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21844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ОПРЕДЕЛЕНИЕ ПОНЯТИЯ </a:t>
            </a:r>
            <a:br>
              <a:rPr sz="2800"/>
            </a:b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«ЗАДЕРЖКА ПСИХИЧЕСКОГО РАЗВИТ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анное развитие – замедление темпа формирования познавательной и эмоциональной сфер с их временной фиксацией на более ранних возрастных этапах. Наблюдается мозаичность поражения, когда с наряду с недостаточно развитыми функциями имеются и сохранные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(В.В.Лебединский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ка псих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носится к «пограничной» форме дизонтогенеза и выражается в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медленном темпе созре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личных психических функций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.М.Назарова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60960" y="5803920"/>
            <a:ext cx="648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ccff"/>
                </a:solidFill>
                <a:uFillTx/>
                <a:latin typeface="Arial"/>
              </a:rPr>
              <a:t>ДИЗОНТОГЕНЕЗ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eaeaea"/>
                </a:solidFill>
                <a:latin typeface="Arial"/>
              </a:rPr>
              <a:t>НАРУШЕНИЕ ИНДИВИДУАЛЬНОГО  РАЗВИТИЯ  ОРГАНИЗМ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3"/>
          <p:cNvSpPr/>
          <p:nvPr/>
        </p:nvSpPr>
        <p:spPr>
          <a:xfrm>
            <a:off x="5580000" y="1700280"/>
            <a:ext cx="3384720" cy="4824360"/>
          </a:xfrm>
          <a:custGeom>
            <a:avLst/>
            <a:gdLst>
              <a:gd name="textAreaLeft" fmla="*/ 165240 w 3384720"/>
              <a:gd name="textAreaRight" fmla="*/ 3219480 w 3384720"/>
              <a:gd name="textAreaTop" fmla="*/ 165240 h 4824360"/>
              <a:gd name="textAreaBottom" fmla="*/ 4659120 h 4824360"/>
            </a:gdLst>
            <a:ahLst/>
            <a:rect l="textAreaLeft" t="textAreaTop" r="textAreaRight" b="textAreaBottom"/>
            <a:pathLst>
              <a:path w="21600" h="30786">
                <a:moveTo>
                  <a:pt x="3600" y="0"/>
                </a:moveTo>
                <a:arcTo wR="3600" hR="3600" stAng="16200000" swAng="-5400000"/>
                <a:lnTo>
                  <a:pt x="0" y="27186"/>
                </a:lnTo>
                <a:arcTo wR="3600" hR="3600" stAng="10800000" swAng="-5400000"/>
                <a:lnTo>
                  <a:pt x="18000" y="3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50920" y="1557360"/>
            <a:ext cx="3600360" cy="49672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967280"/>
              <a:gd name="textAreaBottom" fmla="*/ 4791600 h 4967280"/>
            </a:gdLst>
            <a:ahLst/>
            <a:rect l="textAreaLeft" t="textAreaTop" r="textAreaRight" b="textAreaBottom"/>
            <a:pathLst>
              <a:path w="21600" h="29800">
                <a:moveTo>
                  <a:pt x="3600" y="0"/>
                </a:moveTo>
                <a:arcTo wR="3600" hR="3600" stAng="16200000" swAng="-5400000"/>
                <a:lnTo>
                  <a:pt x="0" y="26200"/>
                </a:lnTo>
                <a:arcTo wR="3600" hR="3600" stAng="10800000" swAng="-5400000"/>
                <a:lnTo>
                  <a:pt x="18000" y="29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9640" y="1989000"/>
            <a:ext cx="316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зкий темп психической активности (корковая незрелость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фицит внимания с гиперактивностью (незрелость подкорковых структур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ргетическое истощение нервных клеток (на фоне хронического стресса) и др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708360" y="2133720"/>
            <a:ext cx="903240" cy="1241280"/>
          </a:xfrm>
          <a:prstGeom prst="pie">
            <a:avLst/>
          </a:pr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643280" y="2133720"/>
            <a:ext cx="903600" cy="12412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987640" y="404640"/>
            <a:ext cx="3239280" cy="1601640"/>
            <a:chOff x="2987640" y="404640"/>
            <a:chExt cx="323928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2987640" y="547560"/>
              <a:ext cx="3239280" cy="1458720"/>
              <a:chOff x="2987640" y="547560"/>
              <a:chExt cx="323928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22920" y="594000"/>
                <a:ext cx="320400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263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2987640" y="547560"/>
                <a:ext cx="320400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8ff"/>
                  </a:gs>
                  <a:gs pos="100000">
                    <a:srgbClr val="66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40280" y="404640"/>
              <a:ext cx="2900160" cy="1341720"/>
            </a:xfrm>
            <a:prstGeom prst="ellipse">
              <a:avLst/>
            </a:prstGeom>
            <a:gradFill rotWithShape="0">
              <a:gsLst>
                <a:gs pos="0">
                  <a:srgbClr val="0d4764"/>
                </a:gs>
                <a:gs pos="100000">
                  <a:srgbClr val="1b9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178080" y="412560"/>
              <a:ext cx="2829960" cy="130824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0"/>
                  </a:srgbClr>
                </a:gs>
                <a:gs pos="100000">
                  <a:srgbClr val="afdc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07240" y="425520"/>
              <a:ext cx="2692440" cy="1222200"/>
            </a:xfrm>
            <a:prstGeom prst="ellipse">
              <a:avLst/>
            </a:prstGeom>
            <a:gradFill rotWithShape="0">
              <a:gsLst>
                <a:gs pos="0">
                  <a:srgbClr val="157aac"/>
                </a:gs>
                <a:gs pos="100000">
                  <a:srgbClr val="1b9a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49440" y="452520"/>
              <a:ext cx="23702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9a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764520" y="641520"/>
            <a:ext cx="180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ИН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2262"/>
                </a:solidFill>
                <a:latin typeface="Arial"/>
              </a:rPr>
              <a:t>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940360" y="1989000"/>
            <a:ext cx="287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гетативная лабильность (неустойчивость) на фоне соматической ослабленности (в силу незрелости самой вегетативной нервной системы на фоне социальных, экологических, биологических причин)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Т.А.Власовой, М.С.Певзн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95280" y="1341360"/>
            <a:ext cx="3599640" cy="5111640"/>
            <a:chOff x="395280" y="1341360"/>
            <a:chExt cx="3599640" cy="5111640"/>
          </a:xfrm>
        </p:grpSpPr>
        <p:sp>
          <p:nvSpPr>
            <p:cNvPr id="153" name="AutoShape 4"/>
            <p:cNvSpPr/>
            <p:nvPr/>
          </p:nvSpPr>
          <p:spPr>
            <a:xfrm>
              <a:off x="395280" y="1731240"/>
              <a:ext cx="3589200" cy="3619800"/>
            </a:xfrm>
            <a:custGeom>
              <a:avLst/>
              <a:gdLst>
                <a:gd name="textAreaLeft" fmla="*/ 183960 w 3589200"/>
                <a:gd name="textAreaRight" fmla="*/ 3405240 w 3589200"/>
                <a:gd name="textAreaTop" fmla="*/ 183960 h 3619800"/>
                <a:gd name="textAreaBottom" fmla="*/ 3435840 h 3619800"/>
              </a:gdLst>
              <a:ahLst/>
              <a:rect l="textAreaLeft" t="textAreaTop" r="textAreaRight" b="textAreaBottom"/>
              <a:pathLst>
                <a:path w="21600" h="21784">
                  <a:moveTo>
                    <a:pt x="3782" y="0"/>
                  </a:moveTo>
                  <a:arcTo wR="3782" hR="3782" stAng="16200000" swAng="-5400000"/>
                  <a:lnTo>
                    <a:pt x="0" y="18002"/>
                  </a:lnTo>
                  <a:arcTo wR="3782" hR="3782" stAng="10800000" swAng="-5400000"/>
                  <a:lnTo>
                    <a:pt x="17818" y="2178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450720" y="1741680"/>
              <a:ext cx="3481200" cy="3550680"/>
            </a:xfrm>
            <a:custGeom>
              <a:avLst/>
              <a:gdLst>
                <a:gd name="textAreaLeft" fmla="*/ 169920 w 3481200"/>
                <a:gd name="textAreaRight" fmla="*/ 3311280 w 3481200"/>
                <a:gd name="textAreaTop" fmla="*/ 169920 h 3550680"/>
                <a:gd name="textAreaBottom" fmla="*/ 3380760 h 3550680"/>
              </a:gdLst>
              <a:ahLst/>
              <a:rect l="textAreaLeft" t="textAreaTop" r="textAreaRight" b="textAreaBottom"/>
              <a:pathLst>
                <a:path w="21600" h="22031">
                  <a:moveTo>
                    <a:pt x="3600" y="0"/>
                  </a:moveTo>
                  <a:arcTo wR="3600" hR="3600" stAng="16200000" swAng="-5400000"/>
                  <a:lnTo>
                    <a:pt x="0" y="18431"/>
                  </a:lnTo>
                  <a:arcTo wR="3600" hR="3600" stAng="10800000" swAng="-5400000"/>
                  <a:lnTo>
                    <a:pt x="18000" y="22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479160" y="4355280"/>
              <a:ext cx="343404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>
              <a:off x="479160" y="1769400"/>
              <a:ext cx="343404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405720" y="5351040"/>
              <a:ext cx="35892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479160" y="5380920"/>
              <a:ext cx="3434040" cy="97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742262"/>
                  </a:solidFill>
                  <a:latin typeface="Arial"/>
                </a:rPr>
                <a:t>Инфантилиз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стояние,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котором в психик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поведении ребенка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храняются черты, присущи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нней ступени развития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9" name="Group 10"/>
            <p:cNvGrpSpPr/>
            <p:nvPr/>
          </p:nvGrpSpPr>
          <p:grpSpPr>
            <a:xfrm>
              <a:off x="1630080" y="1341360"/>
              <a:ext cx="1065960" cy="814320"/>
              <a:chOff x="1630080" y="1341360"/>
              <a:chExt cx="1065960" cy="814320"/>
            </a:xfrm>
          </p:grpSpPr>
          <p:sp>
            <p:nvSpPr>
              <p:cNvPr id="160" name="Oval 11"/>
              <p:cNvSpPr/>
              <p:nvPr/>
            </p:nvSpPr>
            <p:spPr>
              <a:xfrm>
                <a:off x="1630080" y="1341360"/>
                <a:ext cx="1065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Oval 12"/>
              <p:cNvSpPr/>
              <p:nvPr/>
            </p:nvSpPr>
            <p:spPr>
              <a:xfrm>
                <a:off x="1641240" y="1347480"/>
                <a:ext cx="103104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Oval 13"/>
              <p:cNvSpPr/>
              <p:nvPr/>
            </p:nvSpPr>
            <p:spPr>
              <a:xfrm>
                <a:off x="1653840" y="1352160"/>
                <a:ext cx="100728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Oval 14"/>
              <p:cNvSpPr/>
              <p:nvPr/>
            </p:nvSpPr>
            <p:spPr>
              <a:xfrm>
                <a:off x="1665000" y="1359720"/>
                <a:ext cx="95760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Oval 15"/>
              <p:cNvSpPr/>
              <p:nvPr/>
            </p:nvSpPr>
            <p:spPr>
              <a:xfrm>
                <a:off x="1720800" y="1379160"/>
                <a:ext cx="85068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5" name="Text Box 16"/>
            <p:cNvSpPr/>
            <p:nvPr/>
          </p:nvSpPr>
          <p:spPr>
            <a:xfrm>
              <a:off x="1976760" y="145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521640" y="2306520"/>
              <a:ext cx="34131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, сопровождающаяся  психическим и психофизическим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инфантилизмо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гармоническим или дисгармоническим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7" name="Group 47"/>
          <p:cNvGrpSpPr/>
          <p:nvPr/>
        </p:nvGrpSpPr>
        <p:grpSpPr>
          <a:xfrm>
            <a:off x="5003640" y="1341360"/>
            <a:ext cx="3888720" cy="5256000"/>
            <a:chOff x="5003640" y="1341360"/>
            <a:chExt cx="3888720" cy="5256000"/>
          </a:xfrm>
        </p:grpSpPr>
        <p:sp>
          <p:nvSpPr>
            <p:cNvPr id="168" name="AutoShape 48"/>
            <p:cNvSpPr/>
            <p:nvPr/>
          </p:nvSpPr>
          <p:spPr>
            <a:xfrm>
              <a:off x="5003640" y="1742040"/>
              <a:ext cx="3877200" cy="3722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AutoShape 49"/>
            <p:cNvSpPr/>
            <p:nvPr/>
          </p:nvSpPr>
          <p:spPr>
            <a:xfrm>
              <a:off x="5063400" y="1752840"/>
              <a:ext cx="3760560" cy="36511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AutoShape 50"/>
            <p:cNvSpPr/>
            <p:nvPr/>
          </p:nvSpPr>
          <p:spPr>
            <a:xfrm>
              <a:off x="5094360" y="4440600"/>
              <a:ext cx="3709440" cy="92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AutoShape 51"/>
            <p:cNvSpPr/>
            <p:nvPr/>
          </p:nvSpPr>
          <p:spPr>
            <a:xfrm>
              <a:off x="5094360" y="1781640"/>
              <a:ext cx="3709440" cy="9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AutoShape 52"/>
            <p:cNvSpPr/>
            <p:nvPr/>
          </p:nvSpPr>
          <p:spPr>
            <a:xfrm>
              <a:off x="5015160" y="5464080"/>
              <a:ext cx="3877200" cy="1133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AutoShape 53"/>
            <p:cNvSpPr/>
            <p:nvPr/>
          </p:nvSpPr>
          <p:spPr>
            <a:xfrm>
              <a:off x="5094360" y="5495040"/>
              <a:ext cx="3709440" cy="100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Церебральна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зговая;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астени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лабленност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4" name="Group 54"/>
            <p:cNvGrpSpPr/>
            <p:nvPr/>
          </p:nvGrpSpPr>
          <p:grpSpPr>
            <a:xfrm>
              <a:off x="6337800" y="1341360"/>
              <a:ext cx="1151640" cy="837360"/>
              <a:chOff x="6337800" y="1341360"/>
              <a:chExt cx="1151640" cy="837360"/>
            </a:xfrm>
          </p:grpSpPr>
          <p:sp>
            <p:nvSpPr>
              <p:cNvPr id="175" name="Oval 55"/>
              <p:cNvSpPr/>
              <p:nvPr/>
            </p:nvSpPr>
            <p:spPr>
              <a:xfrm>
                <a:off x="6337800" y="1341360"/>
                <a:ext cx="1151640" cy="837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Oval 56"/>
              <p:cNvSpPr/>
              <p:nvPr/>
            </p:nvSpPr>
            <p:spPr>
              <a:xfrm>
                <a:off x="6349680" y="1347840"/>
                <a:ext cx="1113840" cy="81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Oval 57"/>
              <p:cNvSpPr/>
              <p:nvPr/>
            </p:nvSpPr>
            <p:spPr>
              <a:xfrm>
                <a:off x="6363360" y="1352520"/>
                <a:ext cx="1087920" cy="790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Oval 58"/>
              <p:cNvSpPr/>
              <p:nvPr/>
            </p:nvSpPr>
            <p:spPr>
              <a:xfrm>
                <a:off x="6375600" y="1360080"/>
                <a:ext cx="1034640" cy="738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Oval 59"/>
              <p:cNvSpPr/>
              <p:nvPr/>
            </p:nvSpPr>
            <p:spPr>
              <a:xfrm>
                <a:off x="6435720" y="1380240"/>
                <a:ext cx="919080" cy="60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0" name="Text Box 60"/>
            <p:cNvSpPr/>
            <p:nvPr/>
          </p:nvSpPr>
          <p:spPr>
            <a:xfrm>
              <a:off x="6726240" y="146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Text Box 61"/>
            <p:cNvSpPr/>
            <p:nvPr/>
          </p:nvSpPr>
          <p:spPr>
            <a:xfrm>
              <a:off x="5140080" y="2333880"/>
              <a:ext cx="368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со стойкой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церебральной астенией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К.С.Лебедин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80880" y="1052640"/>
            <a:ext cx="6062760" cy="5805360"/>
          </a:xfrm>
          <a:prstGeom prst="rightArrow">
            <a:avLst>
              <a:gd name="adj1" fmla="val 79306"/>
              <a:gd name="adj2" fmla="val 2586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5640" y="1773360"/>
            <a:ext cx="4025880" cy="115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755640" y="3068640"/>
            <a:ext cx="4032360" cy="86508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84360" y="4076640"/>
            <a:ext cx="4032000" cy="79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443640" y="3284640"/>
            <a:ext cx="2514600" cy="1295280"/>
          </a:xfrm>
          <a:prstGeom prst="roundRect">
            <a:avLst>
              <a:gd name="adj" fmla="val 9106"/>
            </a:avLst>
          </a:prstGeom>
          <a:noFill/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Группы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84360" y="5013360"/>
            <a:ext cx="4103640" cy="1008000"/>
          </a:xfrm>
          <a:prstGeom prst="roundRect">
            <a:avLst>
              <a:gd name="adj" fmla="val 9106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ально-органическ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4"/>
          <p:cNvGrpSpPr/>
          <p:nvPr/>
        </p:nvGrpSpPr>
        <p:grpSpPr>
          <a:xfrm>
            <a:off x="2268360" y="0"/>
            <a:ext cx="6695280" cy="6668640"/>
            <a:chOff x="2268360" y="0"/>
            <a:chExt cx="6695280" cy="6668640"/>
          </a:xfrm>
        </p:grpSpPr>
        <p:sp>
          <p:nvSpPr>
            <p:cNvPr id="190" name="AutoShape 5"/>
            <p:cNvSpPr/>
            <p:nvPr/>
          </p:nvSpPr>
          <p:spPr>
            <a:xfrm>
              <a:off x="2268360" y="508320"/>
              <a:ext cx="6675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2371320" y="522000"/>
              <a:ext cx="647424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2424960" y="3931920"/>
              <a:ext cx="638676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>
              <a:off x="2424960" y="558360"/>
              <a:ext cx="638676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2288160" y="5230800"/>
              <a:ext cx="6675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2424960" y="5270040"/>
              <a:ext cx="638676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следственность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ноз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воевременного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регулярного педагогического воздействия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6" name="Group 11"/>
            <p:cNvGrpSpPr/>
            <p:nvPr/>
          </p:nvGrpSpPr>
          <p:grpSpPr>
            <a:xfrm>
              <a:off x="4565160" y="0"/>
              <a:ext cx="1983240" cy="1062000"/>
              <a:chOff x="4565160" y="0"/>
              <a:chExt cx="1983240" cy="1062000"/>
            </a:xfrm>
          </p:grpSpPr>
          <p:sp>
            <p:nvSpPr>
              <p:cNvPr id="197" name="Oval 12"/>
              <p:cNvSpPr/>
              <p:nvPr/>
            </p:nvSpPr>
            <p:spPr>
              <a:xfrm>
                <a:off x="4565160" y="0"/>
                <a:ext cx="198324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>
                <a:off x="4585680" y="8280"/>
                <a:ext cx="191772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Oval 14"/>
              <p:cNvSpPr/>
              <p:nvPr/>
            </p:nvSpPr>
            <p:spPr>
              <a:xfrm>
                <a:off x="4609440" y="14400"/>
                <a:ext cx="187344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Oval 15"/>
              <p:cNvSpPr/>
              <p:nvPr/>
            </p:nvSpPr>
            <p:spPr>
              <a:xfrm>
                <a:off x="4630320" y="24120"/>
                <a:ext cx="17812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Oval 16"/>
              <p:cNvSpPr/>
              <p:nvPr/>
            </p:nvSpPr>
            <p:spPr>
              <a:xfrm>
                <a:off x="4734000" y="49320"/>
                <a:ext cx="1582560" cy="7614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2" name="Text Box 17"/>
            <p:cNvSpPr/>
            <p:nvPr/>
          </p:nvSpPr>
          <p:spPr>
            <a:xfrm>
              <a:off x="536256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2503800" y="1259280"/>
              <a:ext cx="6347880" cy="444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конституциональ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сихический и психофизический инфантилизм по классификации М.С.Певзнер и Т.А.Власовой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деляется два варианта: гармонический и дисгармонический.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исгармонический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относят к патологическим варианта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с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гармоническим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антилизмом по психическим и физическим особенностям отстают от своих сверстников на полтора-два года. Для них характерны: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епосредственность, повышенная жизнерадостность, «сенсорная жадность», неутомимость в игр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выполнении учебных заданий, умственном напряжении, у ребенка быстро наступает утомлени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усваивают учебный материал поверхностно, навыки носят неустойчивый характер. У школьников преобладают игровые интересы, быстрая пресыщаемость и стремление делать только то, что нравится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сутствие чувства ответственности и стойких привязанностей, снижение  критичности к себе негативно сказывается на взаимоотношениях ребенка с одноклассниками, учителями, родными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04" name="Picture 19" descr="P1160297"/>
          <p:cNvPicPr/>
          <p:nvPr/>
        </p:nvPicPr>
        <p:blipFill>
          <a:blip r:embed="rId1"/>
          <a:stretch/>
        </p:blipFill>
        <p:spPr>
          <a:xfrm>
            <a:off x="179280" y="3933720"/>
            <a:ext cx="1824120" cy="251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250920" y="0"/>
            <a:ext cx="6696360" cy="6857640"/>
            <a:chOff x="250920" y="0"/>
            <a:chExt cx="6696360" cy="6857640"/>
          </a:xfrm>
        </p:grpSpPr>
        <p:sp>
          <p:nvSpPr>
            <p:cNvPr id="206" name="AutoShape 5"/>
            <p:cNvSpPr/>
            <p:nvPr/>
          </p:nvSpPr>
          <p:spPr>
            <a:xfrm>
              <a:off x="250920" y="522720"/>
              <a:ext cx="6676560" cy="485604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53880" y="536760"/>
              <a:ext cx="6475320" cy="476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407520" y="4043520"/>
              <a:ext cx="6387840" cy="1205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407520" y="574200"/>
              <a:ext cx="6387840" cy="1203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270720" y="5379120"/>
              <a:ext cx="6676560" cy="14785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407520" y="5419440"/>
              <a:ext cx="6387840" cy="131400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ительная соматическая недостаточность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личного происхождения: хронические инфекции, аллергические состояния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рожденные и приобретенные пороки развития внутренних органов (сердце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чки, легкие и др.)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трогого соблюдения режима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ечения, охраны и укреплении здоровья ребенка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2" name="Group 11"/>
            <p:cNvGrpSpPr/>
            <p:nvPr/>
          </p:nvGrpSpPr>
          <p:grpSpPr>
            <a:xfrm>
              <a:off x="2548080" y="0"/>
              <a:ext cx="1983600" cy="1091880"/>
              <a:chOff x="2548080" y="0"/>
              <a:chExt cx="1983600" cy="1091880"/>
            </a:xfrm>
          </p:grpSpPr>
          <p:sp>
            <p:nvSpPr>
              <p:cNvPr id="213" name="Oval 12"/>
              <p:cNvSpPr/>
              <p:nvPr/>
            </p:nvSpPr>
            <p:spPr>
              <a:xfrm>
                <a:off x="2548080" y="0"/>
                <a:ext cx="1983600" cy="1091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2568600" y="8280"/>
                <a:ext cx="1918080" cy="1057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Oval 14"/>
              <p:cNvSpPr/>
              <p:nvPr/>
            </p:nvSpPr>
            <p:spPr>
              <a:xfrm>
                <a:off x="2592360" y="14760"/>
                <a:ext cx="1873800" cy="103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Oval 15"/>
              <p:cNvSpPr/>
              <p:nvPr/>
            </p:nvSpPr>
            <p:spPr>
              <a:xfrm>
                <a:off x="2613240" y="24840"/>
                <a:ext cx="1781640" cy="9626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16"/>
              <p:cNvSpPr/>
              <p:nvPr/>
            </p:nvSpPr>
            <p:spPr>
              <a:xfrm>
                <a:off x="2716920" y="50760"/>
                <a:ext cx="1582920" cy="7830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8" name="Text Box 17"/>
            <p:cNvSpPr/>
            <p:nvPr/>
          </p:nvSpPr>
          <p:spPr>
            <a:xfrm>
              <a:off x="3342960" y="15660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486360" y="1294920"/>
              <a:ext cx="6348960" cy="383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матоген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сомато» – тело.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замедлению темпа психического развития приводит стойкая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аст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болезненное состояние, которое характеризуетс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ной утомляемостью, истощаемостью, неспособностью к длительному умственному и физическому напряжению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ллектуальная недостаточность проявляется в снижении памяти, концентрации внимания,  в замедлении темпа мыслительной деятельн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моциональные нарушения выражаются в повышенной раздражительности, обидчивости, плаксив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плохо переносят жару, шум, яркий свет; жалуются на головные боли и усталость; у них нарушается сон и аппетит, к концу учебных занятий резко падает работоспособность.  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20" name="Picture 21" descr="P1060223"/>
          <p:cNvPicPr/>
          <p:nvPr/>
        </p:nvPicPr>
        <p:blipFill>
          <a:blip r:embed="rId1"/>
          <a:stretch/>
        </p:blipFill>
        <p:spPr>
          <a:xfrm>
            <a:off x="7093080" y="2205000"/>
            <a:ext cx="1860480" cy="2685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15:18Z</dcterms:created>
  <dc:creator>Александр</dc:creator>
  <dc:description/>
  <dc:language>en-US</dc:language>
  <cp:lastModifiedBy>Каб17</cp:lastModifiedBy>
  <dcterms:modified xsi:type="dcterms:W3CDTF">2012-02-10T13:55:17Z</dcterms:modified>
  <cp:revision>26</cp:revision>
  <dc:subject/>
  <dc:title>ОБРАЗОВАНИЕ  ДЕТЕЙ  С  ЗАДЕРЖКОЙ ПСИХИЧЕСКОГО РАЗВИТИЯ</dc:title>
</cp:coreProperties>
</file>