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wmf" ContentType="image/x-wmf"/>
  <Override PartName="/ppt/media/image4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8BC-2AD0-4CD5-9516-63414B79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2259-DE35-4948-8DE6-DF67AE2A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B07-88B9-4E53-BFFC-C3561417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6DE-C30A-4D6A-B8AA-FBC16D25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CD97-5ED6-4543-BFBA-554DB29F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958D-8F8F-428F-8779-C7ED0BD6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FA0A-151F-4228-B803-BBB1FF00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1474-51A3-41DB-84F3-FBB7749D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A24D-AFC2-4C8C-B679-931F834E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D163-A30B-442F-8138-0C7D801E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5ABE-8905-491B-9CE8-2236B5D9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CD0-29F7-4E70-8E3B-8D39FDE3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9ABE-A21C-4696-93F4-AD89CFCF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ED33-A17E-422C-BAFD-4F250EA8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27D3-FC51-49A5-8D38-C0F06EBD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8ABF-5B99-4A67-AD51-34CA22CC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2CE7-8E84-4E1D-902C-3BC18221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F57F-A669-41FB-B301-29FB9DA9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862-1E56-4C21-BB1A-B63BFBC0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089-42F0-4018-9277-1BC6319D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2FF-0E87-46DD-A726-B4985306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3BD-0B46-40FB-8D11-F18463B3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731A-362F-4272-853C-E45BFCDA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130-AF89-4D1C-8CB0-CA4351BF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EBA3-8E1D-4D19-8085-EF0FF07F7417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B824-9F33-4928-B9B7-C97A87184007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ikalova-ms.narod.ru/portrety_matemaikov.htm" TargetMode="External"/><Relationship Id="rId3" Type="http://schemas.openxmlformats.org/officeDocument/2006/relationships/hyperlink" Target="http://pikalova-ms.narod.ru/portrety_matemaikov.htm" TargetMode="External"/><Relationship Id="rId4" Type="http://schemas.openxmlformats.org/officeDocument/2006/relationships/hyperlink" Target="http://pikalova-ms.narod.ru/portrety_matemaikov.htm" TargetMode="External"/><Relationship Id="rId5" Type="http://schemas.openxmlformats.org/officeDocument/2006/relationships/hyperlink" Target="http://pikalova-ms.narod.ru/portrety_matemaikov.htm" TargetMode="External"/><Relationship Id="rId6" Type="http://schemas.openxmlformats.org/officeDocument/2006/relationships/hyperlink" Target="http://pikalova-ms.narod.ru/portrety_matemaikov.htm" TargetMode="External"/><Relationship Id="rId7" Type="http://schemas.openxmlformats.org/officeDocument/2006/relationships/hyperlink" Target="http://www.biografguru.ru/by/matematik/?q=9&amp;psn=76" TargetMode="External"/><Relationship Id="rId8" Type="http://schemas.openxmlformats.org/officeDocument/2006/relationships/hyperlink" Target="http://www.biografguru.ru/by/matematik/?q=9&amp;psn=76" TargetMode="External"/><Relationship Id="rId9" Type="http://schemas.openxmlformats.org/officeDocument/2006/relationships/hyperlink" Target="http://www.biografguru.ru/by/matematik/?q=9&amp;psn=76" TargetMode="External"/><Relationship Id="rId10" Type="http://schemas.openxmlformats.org/officeDocument/2006/relationships/hyperlink" Target="http://www.biografguru.ru/by/matematik/?q=9&amp;psn=76" TargetMode="External"/><Relationship Id="rId11" Type="http://schemas.openxmlformats.org/officeDocument/2006/relationships/hyperlink" Target="http://www.biografguru.ru/by/matematik/?q=9&amp;psn=76" TargetMode="External"/><Relationship Id="rId12" Type="http://schemas.openxmlformats.org/officeDocument/2006/relationships/hyperlink" Target="http://www.biografguru.ru/by/matematik/?q=9&amp;psn=76" TargetMode="External"/><Relationship Id="rId13" Type="http://schemas.openxmlformats.org/officeDocument/2006/relationships/hyperlink" Target="http://www.biografguru.ru/by/matematik/?q=9&amp;psn=76" TargetMode="External"/><Relationship Id="rId14" Type="http://schemas.openxmlformats.org/officeDocument/2006/relationships/hyperlink" Target="http://www.biografguru.ru/by/matematik/?q=9&amp;psn=76" TargetMode="External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692360" y="333360"/>
            <a:ext cx="7272360" cy="54910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2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 Параллелограм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692000" y="2997360"/>
            <a:ext cx="745164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др.греч. 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παραλληλόγραμμον от παράλληλος</a:t>
            </a: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 — параллельный 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иγραμμή</a:t>
            </a: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 — линия)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 — это четырёхугольник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у которого противоположные стороны попарно параллельны, то есть лежат на параллельных прямых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 rot="5400000">
            <a:off x="-2223720" y="309492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03640" y="1341360"/>
            <a:ext cx="4321080" cy="1727280"/>
          </a:xfrm>
          <a:prstGeom prst="parallelogram">
            <a:avLst>
              <a:gd name="adj" fmla="val 62542"/>
            </a:avLst>
          </a:prstGeom>
          <a:solidFill>
            <a:srgbClr val="80808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76360" y="115920"/>
            <a:ext cx="7491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2</a:t>
            </a: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 Параллелограм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6920" y="4365360"/>
            <a:ext cx="7417080" cy="24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В «Началах» Евклида доказывается следующая теорема: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в параллелограмме противоположные сторон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равны и противоположные углы равны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а диагональ разделяет его пополам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 rot="5400000">
            <a:off x="-2331720" y="3131280"/>
            <a:ext cx="5977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onotype Corsiva"/>
              </a:rPr>
              <a:t>из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2916360" y="836640"/>
            <a:ext cx="3887640" cy="23479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476360" y="3141720"/>
            <a:ext cx="7199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Ватиканский манускрипт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т.1, 38v — 39r. Euclid I prop. 47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2</a:t>
            </a: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 Параллелограм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79640" y="4149360"/>
            <a:ext cx="6696000" cy="27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вкли́д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вкли́д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др.-греч. Εὐκλείδης, ок. 300 г. до н. э.) 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Древнегреческий математик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Мировую известность приобрёл благодаря сочинению по основам математики «Начала» (Στοιχεῖα </a:t>
            </a: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букв.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 элементы)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4067280" y="981000"/>
            <a:ext cx="255096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476360" y="83628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Четырёхугольник, вершины которого совпадают с серединами сторон произвольного четырёхугольника, является параллелограммом, стороны которого параллельны диагоналям исходного четырёхугольник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652400" y="115920"/>
            <a:ext cx="74912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2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 Параллелограм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 rot="5400000">
            <a:off x="-2280600" y="3008880"/>
            <a:ext cx="5732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Теоре́ма Вариньо́н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88000" y="4653000"/>
            <a:ext cx="100980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700360" y="3860280"/>
            <a:ext cx="223200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32360" y="3860640"/>
            <a:ext cx="266400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00360" y="5157720"/>
            <a:ext cx="3887640" cy="5032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851280" y="4292640"/>
            <a:ext cx="24494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716360" y="5157720"/>
            <a:ext cx="237672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51280" y="4508640"/>
            <a:ext cx="865080" cy="865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300720" y="4292640"/>
            <a:ext cx="792360" cy="865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700360" y="4653000"/>
            <a:ext cx="4896000" cy="50472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32360" y="3860640"/>
            <a:ext cx="1655640" cy="180036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74916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2</a:t>
            </a: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 Параллелограм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851280" y="692280"/>
            <a:ext cx="2505240" cy="28810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547640" y="3573360"/>
            <a:ext cx="748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ьер Вариньон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фр. Pierre Varignon, Кан, 1654 —1722, Париж)  Французский математик ,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член Парижской Академии наук,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рофессор математики коллежа Мазарини   профессор Коллеж де Франс.  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Основной вклад Вариньон совершил в статику и механику.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49160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3</a:t>
            </a:r>
            <a:r>
              <a:rPr b="0" i="1" lang="en-US" sz="4000" spc="-1" strike="noStrike">
                <a:solidFill>
                  <a:srgbClr val="333300"/>
                </a:solidFill>
                <a:latin typeface="Monotype Corsiva"/>
              </a:rPr>
              <a:t>   </a:t>
            </a:r>
            <a:r>
              <a:rPr b="1" i="1" lang="en-US" sz="4000" spc="-1" strike="noStrike">
                <a:solidFill>
                  <a:srgbClr val="333300"/>
                </a:solidFill>
                <a:latin typeface="Monotype Corsiva"/>
              </a:rPr>
              <a:t>   Трапе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652400" y="3429000"/>
            <a:ext cx="7491240" cy="25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от др.-греч. 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τραπέζιον 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— «столик»; 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τράπεζα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 — «стол, еда») —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четырёхугольник, у которого только одна пара противолежащих сторон параллельн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«Трапеция» в нашем смысле встречается впервые у древнегреческого математика Посидония  (1в.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 rot="5400000">
            <a:off x="-2223720" y="309492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48000" y="907920"/>
            <a:ext cx="3960720" cy="2016360"/>
          </a:xfrm>
          <a:custGeom>
            <a:avLst/>
            <a:gdLst>
              <a:gd name="textAreaLeft" fmla="*/ 870840 w 3960720"/>
              <a:gd name="textAreaRight" fmla="*/ 3089880 w 3960720"/>
              <a:gd name="textAreaTop" fmla="*/ 443160 h 2016360"/>
              <a:gd name="textAreaBottom" fmla="*/ 15732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16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2</a:t>
            </a:r>
            <a:r>
              <a:rPr b="0" i="1" lang="en-US" sz="4000" spc="-1" strike="noStrike">
                <a:solidFill>
                  <a:srgbClr val="333300"/>
                </a:solidFill>
                <a:latin typeface="Monotype Corsiva"/>
              </a:rPr>
              <a:t>   </a:t>
            </a:r>
            <a:r>
              <a:rPr b="1" i="1" lang="en-US" sz="4000" spc="-1" strike="noStrike">
                <a:solidFill>
                  <a:srgbClr val="333300"/>
                </a:solidFill>
                <a:latin typeface="Monotype Corsiva"/>
              </a:rPr>
              <a:t>   Трапе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-53276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43280" y="3347280"/>
            <a:ext cx="496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идо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—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одился в Апамее в Сирии в 135 г.,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р в Риме в 50 г. до Р. Хр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матик и астроном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Жил долго в Родосе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 учителем Цицерона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естен второй попыткой определить размеры земного шара.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20" name="" descr="Посидоний"/>
          <p:cNvPicPr/>
          <p:nvPr/>
        </p:nvPicPr>
        <p:blipFill>
          <a:blip r:embed="rId4"/>
          <a:stretch/>
        </p:blipFill>
        <p:spPr>
          <a:xfrm>
            <a:off x="3995640" y="620640"/>
            <a:ext cx="22892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619280" y="1413000"/>
            <a:ext cx="58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92360" y="981000"/>
            <a:ext cx="698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Средняя линия трапеции равна полусумме ее оснований    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в трудах Герона Александрийского)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916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2</a:t>
            </a: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   Трапе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 rot="5400000">
            <a:off x="-2331720" y="3131280"/>
            <a:ext cx="5977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onotype Corsiva"/>
              </a:rPr>
              <a:t>из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325" name=""/>
          <p:cNvSpPr/>
          <p:nvPr/>
        </p:nvSpPr>
        <p:spPr>
          <a:xfrm rot="10800000">
            <a:off x="3708360" y="2707560"/>
            <a:ext cx="3168720" cy="2089080"/>
          </a:xfrm>
          <a:custGeom>
            <a:avLst/>
            <a:gdLst>
              <a:gd name="textAreaLeft" fmla="*/ 696600 w 3168720"/>
              <a:gd name="textAreaRight" fmla="*/ 2472120 w 3168720"/>
              <a:gd name="textAreaTop" fmla="*/ 459360 h 2089080"/>
              <a:gd name="textAreaBottom" fmla="*/ 1629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08360" y="4797360"/>
            <a:ext cx="3168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00720" y="2708280"/>
            <a:ext cx="158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40360" y="3573360"/>
            <a:ext cx="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40360" y="3716280"/>
            <a:ext cx="2303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03640" y="2276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03640" y="4292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76720" y="3213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067280" y="5084640"/>
                <a:ext cx="24480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16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00"/>
                </a:solidFill>
                <a:latin typeface="Monotype Corsiva"/>
              </a:rPr>
              <a:t>Зал №3</a:t>
            </a:r>
            <a:r>
              <a:rPr b="0" i="1" lang="en-US" sz="4400" spc="-1" strike="noStrike">
                <a:solidFill>
                  <a:srgbClr val="333300"/>
                </a:solidFill>
                <a:latin typeface="Monotype Corsiva"/>
              </a:rPr>
              <a:t>   </a:t>
            </a:r>
            <a:r>
              <a:rPr b="1" i="1" lang="en-US" sz="4400" spc="-1" strike="noStrike">
                <a:solidFill>
                  <a:srgbClr val="333300"/>
                </a:solidFill>
                <a:latin typeface="Monotype Corsiva"/>
              </a:rPr>
              <a:t>   Трапе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3924360" y="836640"/>
            <a:ext cx="2415960" cy="30970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908000" y="3789360"/>
            <a:ext cx="7056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Герон Александрийский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Heron, I в. н. э.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Греческий механик и математик.   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Занимался геометрией, механикой, гидростатикой, оптикой; изобрел прототип паровой машины и точные нивелировочные инструменты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47640" y="115920"/>
            <a:ext cx="74916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4</a:t>
            </a:r>
            <a:r>
              <a:rPr b="0" i="1" lang="en-US" sz="4000" spc="-1" strike="noStrike">
                <a:solidFill>
                  <a:srgbClr val="333300"/>
                </a:solidFill>
                <a:latin typeface="Monotype Corsiva"/>
              </a:rPr>
              <a:t>       </a:t>
            </a:r>
            <a:r>
              <a:rPr b="1" i="1" lang="en-US" sz="4000" spc="-1" strike="noStrike">
                <a:solidFill>
                  <a:srgbClr val="333300"/>
                </a:solidFill>
                <a:latin typeface="Monotype Corsiva"/>
              </a:rPr>
              <a:t>Ром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652400" y="4005360"/>
            <a:ext cx="7491240" cy="28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Термин «ромб» происходит от др.-греч. 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ῥόμβος 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— «бубен»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Слово «ромб» впервые употребляется у Герона и Паппа Александрийского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 rot="5400000">
            <a:off x="-2223720" y="309492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11640" y="692280"/>
            <a:ext cx="2160720" cy="3168360"/>
          </a:xfrm>
          <a:prstGeom prst="diamond">
            <a:avLst/>
          </a:prstGeom>
          <a:solidFill>
            <a:srgbClr val="80808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76360" y="1266120"/>
            <a:ext cx="75247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етырёхугольни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это геометрическая фигура, состоящая из четырёх точек,  не лежащих на одной прямой, и четырёх отрезков, попарно соединяющих эти точки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1  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 rot="5400000">
            <a:off x="-2536920" y="3120840"/>
            <a:ext cx="6480000" cy="615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Гостин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5640" y="3068640"/>
            <a:ext cx="201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уклые                  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3068640"/>
            <a:ext cx="23749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ыпуклы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902600">
            <a:off x="1763280" y="3789000"/>
            <a:ext cx="3240000" cy="2232000"/>
          </a:xfrm>
          <a:prstGeom prst="pentagon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946400">
            <a:off x="5724000" y="3716280"/>
            <a:ext cx="3313440" cy="2235240"/>
          </a:xfrm>
          <a:prstGeom prst="star5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16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4</a:t>
            </a:r>
            <a:r>
              <a:rPr b="0" i="1" lang="en-US" sz="4000" spc="-1" strike="noStrike">
                <a:solidFill>
                  <a:srgbClr val="333300"/>
                </a:solidFill>
                <a:latin typeface="Monotype Corsiva"/>
              </a:rPr>
              <a:t>     </a:t>
            </a:r>
            <a:r>
              <a:rPr b="1" i="1" lang="en-US" sz="4000" spc="-1" strike="noStrike">
                <a:solidFill>
                  <a:srgbClr val="333300"/>
                </a:solidFill>
                <a:latin typeface="Monotype Corsiva"/>
              </a:rPr>
              <a:t>Ром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214452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5" name=""/>
          <p:cNvSpPr/>
          <p:nvPr/>
        </p:nvSpPr>
        <p:spPr>
          <a:xfrm>
            <a:off x="1835280" y="3430800"/>
            <a:ext cx="691344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«Собрание» (</a:t>
            </a:r>
            <a:r>
              <a:rPr b="0" lang="el-GR" sz="2400" spc="-1" strike="noStrike">
                <a:solidFill>
                  <a:srgbClr val="333300"/>
                </a:solidFill>
                <a:latin typeface="Arial"/>
              </a:rPr>
              <a:t>συναγωγή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Автор Папп Александри́йский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др.-греч. Πάππος ὁ Ἀλεξανδρεύς) — древнегреческий математик второй половины III века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Изложено содержание ряда трудов более древних авторов,добавлены собственные теоремы Паппа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32000" y="640080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00"/>
                </a:solidFill>
                <a:latin typeface="Times New Roman"/>
              </a:rPr>
              <a:t>Портрет учёного не найден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692360" y="4581360"/>
            <a:ext cx="7084800" cy="22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Мозаика Пенроуза, плитки Пенроуза -непериодическое разбиение плоскости, апериодические регулярные структуры, замощение плоскости ромбами двух типов — с углами 72° и 108°  и 36° и 144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916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4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Ром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 rot="5400000">
            <a:off x="-2438640" y="2951280"/>
            <a:ext cx="60483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интересные факт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3564000" y="907920"/>
            <a:ext cx="3024000" cy="3527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5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Прямоуголь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47640" y="3715920"/>
            <a:ext cx="74916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рямоугольник (перевод  с греч.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ορθογώνιο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.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 rot="5400000">
            <a:off x="-2223720" y="309492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08000" y="479736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Первые геометры мыслили прямоугольник вписанным в круг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64000" y="836640"/>
            <a:ext cx="2737080" cy="266364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51640" y="1341360"/>
            <a:ext cx="2160360" cy="1657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92360" y="1197000"/>
            <a:ext cx="3168720" cy="1728720"/>
          </a:xfrm>
          <a:prstGeom prst="rect">
            <a:avLst/>
          </a:prstGeom>
          <a:solidFill>
            <a:srgbClr val="80808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6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Квадра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640" y="4221000"/>
            <a:ext cx="749160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От латинского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quadratum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quadrare - сделать четырехугольным)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еревод с греческого “тетрагонон” - четырехугольник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 rot="5400000">
            <a:off x="-2223720" y="309492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08360" y="1052640"/>
            <a:ext cx="3024360" cy="27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2"/>
          <a:srcRect l="0" t="0" r="0" b="69771"/>
          <a:stretch/>
        </p:blipFill>
        <p:spPr>
          <a:xfrm>
            <a:off x="2843280" y="1628640"/>
            <a:ext cx="5040360" cy="3807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619280" y="765000"/>
            <a:ext cx="752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Центры квадратов, построенных на сторонах параллелограмма, лежат в вершинах квадрата  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749124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6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Квадра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 rot="5400000">
            <a:off x="-2078280" y="3022560"/>
            <a:ext cx="5616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Теоремы Те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92360" y="580536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Monotype Corsiva"/>
              </a:rPr>
              <a:t>Теоремы названы в честь французского учёного Виктора Тебо ( начало 20 века)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9789200">
            <a:off x="3859200" y="2796840"/>
            <a:ext cx="1566720" cy="1584360"/>
          </a:xfrm>
          <a:prstGeom prst="rect">
            <a:avLst/>
          </a:prstGeom>
          <a:solidFill>
            <a:srgbClr val="ff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 rot="5400000">
            <a:off x="-2078280" y="3022560"/>
            <a:ext cx="5616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Теоремы Те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76360" y="115920"/>
            <a:ext cx="749160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6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Квадра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rcRect l="0" t="30235" r="0" b="36504"/>
          <a:stretch/>
        </p:blipFill>
        <p:spPr>
          <a:xfrm>
            <a:off x="3059280" y="620640"/>
            <a:ext cx="4103640" cy="3402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438200" y="4076640"/>
            <a:ext cx="770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Если на каждой из двух соседних сторон квадрата построить по равностороннему треугольнику (либо оба внутрь, либо оба вовне квадрата), то вершины этих двух треугольников, не являющиеся вершинами квадрата, и вершина квадрата, не являющаяся вершиной треугольников, образуют равносторонний треугольник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51640" y="1125360"/>
            <a:ext cx="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2692800">
            <a:off x="3551040" y="360360"/>
            <a:ext cx="3314520" cy="2735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9885600">
            <a:off x="5508360" y="836280"/>
            <a:ext cx="792000" cy="70632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74916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7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А знаете ли в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47280" y="484200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 -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площадь многоугольника с целочисленными вершинами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 - количество целочисленных точек внутри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Г — количество целочисленных точек на границе многоугольник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 rot="5400000">
            <a:off x="-2295000" y="3094560"/>
            <a:ext cx="5904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опро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2268360" y="1268280"/>
            <a:ext cx="3165480" cy="35276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059280" y="765000"/>
            <a:ext cx="53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00"/>
                </a:solidFill>
                <a:latin typeface="Monotype Corsiv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Назовите автора данной формулы</a:t>
            </a:r>
            <a:r>
              <a:rPr b="1" i="1" lang="en-US" sz="2800" spc="-1" strike="noStrike">
                <a:solidFill>
                  <a:srgbClr val="3333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92360" y="836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1вопрос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12000" y="2565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S=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В + Г/2 − 1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7    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А знаете ли в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2 вопрос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92360" y="2205000"/>
            <a:ext cx="64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00"/>
                </a:solidFill>
                <a:latin typeface="Monotype Corsiva"/>
              </a:rPr>
              <a:t>Какая фигура называется дельтоидом? 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64000" y="3357720"/>
            <a:ext cx="18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3 вопрос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63640" y="4005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Monotype Corsiva"/>
              </a:rPr>
              <a:t>Какая мышца человека носит название четырёхугольника?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 rot="5400000">
            <a:off x="-2295000" y="3094560"/>
            <a:ext cx="5904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опро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547640" y="40428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Литература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Я познаю мир. Математика сост. Савин А.П, Станцо В.В, Котова А.Ю. - АСТ, 1995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Энциклопедический словарь юного математика/Сост. Э-68 А. П. Савин. - М.: Педагогика, 1989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Глейзер Г.И. История математики в школе. М.: Просвещение, 1981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.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нтернет ресурсы: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http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://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pikalova-ms.narod.ru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portrety_matemaikov.htm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http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://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www.biografguru.ru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/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by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/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matematik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/?q=9&amp;psn=76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979640" y="115920"/>
            <a:ext cx="6480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1  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 rot="5400000">
            <a:off x="-2536920" y="3120840"/>
            <a:ext cx="6480000" cy="615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Гостин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Cyclic_quadrilateral" descr="Cyclic quadrilateral.png"/>
          <p:cNvPicPr/>
          <p:nvPr/>
        </p:nvPicPr>
        <p:blipFill>
          <a:blip r:embed="rId4"/>
          <a:stretch/>
        </p:blipFill>
        <p:spPr>
          <a:xfrm>
            <a:off x="1258920" y="5784840"/>
            <a:ext cx="1430280" cy="1073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6" name="Tangent_quadrilateral" descr="Tangent quadrilateral.png"/>
          <p:cNvPicPr/>
          <p:nvPr/>
        </p:nvPicPr>
        <p:blipFill>
          <a:blip r:embed="rId5"/>
          <a:srcRect l="9475" t="18904" r="0" b="0"/>
          <a:stretch/>
        </p:blipFill>
        <p:spPr>
          <a:xfrm>
            <a:off x="7524720" y="5770440"/>
            <a:ext cx="1619280" cy="108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708000" y="2205000"/>
            <a:ext cx="792360" cy="36036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3573360"/>
            <a:ext cx="935280" cy="21600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27640" y="4724280"/>
            <a:ext cx="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195640" y="3573360"/>
            <a:ext cx="1008000" cy="28908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372360" y="3500280"/>
            <a:ext cx="576000" cy="43200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80360" y="3500280"/>
            <a:ext cx="792000" cy="43200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92360" y="3860640"/>
            <a:ext cx="1582560" cy="1006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2565360"/>
            <a:ext cx="2448000" cy="1008000"/>
          </a:xfrm>
          <a:prstGeom prst="parallelogram">
            <a:avLst>
              <a:gd name="adj" fmla="val 60714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04000" y="2781360"/>
            <a:ext cx="122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659280" y="2852640"/>
            <a:ext cx="144360" cy="64764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59640" y="350028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01080" y="3500280"/>
            <a:ext cx="43164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8027640" y="2781000"/>
            <a:ext cx="576360" cy="71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659640" y="2781000"/>
            <a:ext cx="144360" cy="71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5508360" y="3933360"/>
            <a:ext cx="1584360" cy="1366920"/>
          </a:xfrm>
          <a:custGeom>
            <a:avLst/>
            <a:gdLst>
              <a:gd name="textAreaLeft" fmla="*/ 348480 w 1584360"/>
              <a:gd name="textAreaRight" fmla="*/ 1235880 w 1584360"/>
              <a:gd name="textAreaTop" fmla="*/ 300600 h 1366920"/>
              <a:gd name="textAreaBottom" fmla="*/ 106632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67640" y="3933720"/>
            <a:ext cx="100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67640" y="3933720"/>
            <a:ext cx="21744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67640" y="3933720"/>
            <a:ext cx="0" cy="1366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67640" y="5300640"/>
            <a:ext cx="12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75640" y="3933720"/>
            <a:ext cx="289080" cy="1366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5229360"/>
            <a:ext cx="1081080" cy="1079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51280" y="3789360"/>
            <a:ext cx="1152360" cy="1511280"/>
          </a:xfrm>
          <a:prstGeom prst="diamond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4869000"/>
            <a:ext cx="936720" cy="93636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067280" y="5229360"/>
            <a:ext cx="288720" cy="57600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00720" y="2205000"/>
            <a:ext cx="2950920" cy="57636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132000" y="1125360"/>
            <a:ext cx="1368720" cy="5032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720" y="1125360"/>
            <a:ext cx="863280" cy="7192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500720" y="1844640"/>
            <a:ext cx="863280" cy="36036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1628640"/>
            <a:ext cx="1368720" cy="57636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516720" y="907920"/>
            <a:ext cx="792000" cy="72072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6720" y="1628640"/>
            <a:ext cx="1871640" cy="57636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08720" y="907920"/>
            <a:ext cx="216000" cy="6494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24720" y="1557360"/>
            <a:ext cx="863640" cy="6476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500720" y="2204640"/>
            <a:ext cx="0" cy="7164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59280" y="623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Monotype Corsiva"/>
              </a:rPr>
              <a:t>Приглашаем в путешествие!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52400" y="54900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5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95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Если никакие  стороны четырёхугольника не параллельны, то середина отрезка, соединяющего точки пересечения противоположных сторон, лежит на прямой, соединяющей середины диагоналей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95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Эта прямая называется 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прямой Гаусса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5400000">
            <a:off x="-2511000" y="3094920"/>
            <a:ext cx="6335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ямая Гау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8000" y="11592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1</a:t>
            </a: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  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2" name="" descr="Gauss line.svg"/>
          <p:cNvPicPr/>
          <p:nvPr/>
        </p:nvPicPr>
        <p:blipFill>
          <a:blip r:embed="rId4"/>
          <a:stretch/>
        </p:blipFill>
        <p:spPr>
          <a:xfrm>
            <a:off x="2556000" y="3645000"/>
            <a:ext cx="4033800" cy="30668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700360" y="6093000"/>
            <a:ext cx="1655640" cy="21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700360" y="4437000"/>
            <a:ext cx="1440000" cy="165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4437000"/>
            <a:ext cx="36036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479736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356000" y="4797360"/>
            <a:ext cx="216000" cy="151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4720" y="6237360"/>
            <a:ext cx="71280" cy="7308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00720" y="4797360"/>
            <a:ext cx="71280" cy="7164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00360" y="6021360"/>
            <a:ext cx="71280" cy="7164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0360" y="4437000"/>
            <a:ext cx="71280" cy="7164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556000" y="5084280"/>
            <a:ext cx="4032000" cy="505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16360" y="3860640"/>
            <a:ext cx="1727280" cy="2737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40360" y="4508640"/>
            <a:ext cx="144360" cy="1728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700360" y="4869000"/>
            <a:ext cx="1800360" cy="1224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64000" y="5373720"/>
            <a:ext cx="144360" cy="14292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40360" y="5300640"/>
            <a:ext cx="144360" cy="14436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08720" y="5157720"/>
            <a:ext cx="142920" cy="14292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32000" y="3573360"/>
            <a:ext cx="7345440" cy="32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Иоганн Карл Фри́дрих Га́усс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нем. Johann Carl Friedrich Gauß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1777,Брауншвейг  —   1855, Гёттинген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Немецкий математик, астроном и   физик,   величайший математик всех времён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«король математики»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42" name="" descr="Carl Friedrich Gauss.jpg"/>
          <p:cNvPicPr/>
          <p:nvPr/>
        </p:nvPicPr>
        <p:blipFill>
          <a:blip r:embed="rId4"/>
          <a:stretch/>
        </p:blipFill>
        <p:spPr>
          <a:xfrm>
            <a:off x="4067280" y="836640"/>
            <a:ext cx="1979640" cy="2521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547640" y="0"/>
            <a:ext cx="7491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1  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476360" y="112500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 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Вокруг четырехугольника можно описать окружность тогда и только тогда, когда произведение его диагоналей равно сумме произведений его противоположных сторон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500120" y="-360"/>
            <a:ext cx="74916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1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Четырёхугольн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 rot="5400000">
            <a:off x="-2151000" y="3166920"/>
            <a:ext cx="590544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Теорема Птолеме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2852640"/>
            <a:ext cx="3024360" cy="302436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005360"/>
            <a:ext cx="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16360" y="3429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35640" y="278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5013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84720" y="587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5877000"/>
            <a:ext cx="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276720" y="3141720"/>
            <a:ext cx="2232000" cy="574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3716280"/>
            <a:ext cx="1295280" cy="216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572000" y="5084280"/>
            <a:ext cx="1368360" cy="792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08720" y="3141720"/>
            <a:ext cx="431640" cy="1942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3716280"/>
            <a:ext cx="2663640" cy="136836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572000" y="3141720"/>
            <a:ext cx="936720" cy="273528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835280" y="6237360"/>
                <a:ext cx="59767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1  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095640" cy="2239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187280" y="3933720"/>
            <a:ext cx="7740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Клавдий Птолемей,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живший в конце первого — начале второго века н.э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Древнегреческий ученый  -  астроном, математик, астролог, географ, оптик и теоретик музыки.  . Основной труд Птолемея — “Альмагест”, в котором он изложил сведения по астрономии.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2268360" y="1197000"/>
            <a:ext cx="228132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74916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1  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03280" y="9075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Если вписанный четырёхугольник имеет перпендикулярные диагонали, пересекающиеся в точке M, то прямая, проходящая через точку M и перпендикулярная одной из его сторон, делит противоположную ей сторону пополам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1476360" y="285264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 rot="5400000">
            <a:off x="-2376720" y="3105000"/>
            <a:ext cx="60487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Теоре́ма Брахмагу́пты 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36320" y="38606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Формула Брахмагупты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32000" y="5445000"/>
            <a:ext cx="0" cy="2160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24000" y="5013360"/>
            <a:ext cx="0" cy="2160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3419640" y="5877000"/>
                <a:ext cx="55800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003640" y="4437000"/>
                <a:ext cx="338472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52400" y="115920"/>
            <a:ext cx="749124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00"/>
                </a:solidFill>
                <a:latin typeface="Monotype Corsiva"/>
              </a:rPr>
              <a:t>Зал №1   </a:t>
            </a:r>
            <a:r>
              <a:rPr b="1" i="1" lang="en-US" sz="44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43280" y="4149720"/>
            <a:ext cx="489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00 0598 - 00 0660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ндийский математик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 астроном Брахмагупта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Основные труды: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«Брахма-спхута-сиддханта»    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«Кхандакхадьяка»  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4067280" y="620640"/>
            <a:ext cx="228096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5:52:07Z</dcterms:created>
  <dc:creator>Дом 2</dc:creator>
  <dc:description/>
  <dc:language>en-US</dc:language>
  <cp:lastModifiedBy>Мама</cp:lastModifiedBy>
  <dcterms:modified xsi:type="dcterms:W3CDTF">2013-05-05T08:39:52Z</dcterms:modified>
  <cp:revision>18</cp:revision>
  <dc:subject/>
  <dc:title>Слайд 1</dc:title>
</cp:coreProperties>
</file>