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3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10.png" ContentType="image/png"/>
  <Override PartName="/ppt/media/image2.wmf" ContentType="image/x-wmf"/>
  <Override PartName="/ppt/media/image4.png" ContentType="image/png"/>
  <Override PartName="/ppt/media/image5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71C4-AD9E-4779-A743-D6476EFB0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532A-0085-4734-B2AE-F8E899C4D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5C2C-4787-4A39-81C6-0BD6DCDD5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866F-36E5-46A0-8EE7-81EE3AC10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DB998-CC2B-4976-95C5-7B0CFCBC1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225D1-574C-4C64-A0C5-7CA27628A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C592B-D046-41FA-ABCB-6DC3C133F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5E803-5BD9-450E-97DC-2D827F252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16A6B-78B0-4B4C-A228-FAE61B302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2A4EF-334A-49E3-AB36-74EC525A9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B4EFC-6951-4533-B159-0E80D194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F63B-0041-4A18-BD8F-281358C12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D8C86-BA66-431C-84A8-504643CC4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30E1B-D866-4337-81CE-15AF8BADB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C3CEF-3EB3-40E2-A679-D84089B23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92FAE-C3A0-456C-B3BC-4FBEEC964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FD295-C947-4E5F-A39A-CB5C454F9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6410-B4DD-42D8-AB2C-997313BB9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868B-1EE2-44A2-8A71-74028D5F4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714F-31F4-4187-922D-0B39BAAB1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9944-AD7A-48A9-80B4-444480D91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BBD4-DF07-4129-928C-4173B3DE7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6221-5646-4176-BE7F-816A92573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3AF3-C954-417A-A624-B84B2746D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FE8EB-8393-440F-8A0A-84DA44D54587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A5FD2-4826-4C45-B6C5-D66246197BA4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ikalova-ms.narod.ru/portrety_matemaikov.htm" TargetMode="External"/><Relationship Id="rId3" Type="http://schemas.openxmlformats.org/officeDocument/2006/relationships/hyperlink" Target="http://pikalova-ms.narod.ru/portrety_matemaikov.htm" TargetMode="External"/><Relationship Id="rId4" Type="http://schemas.openxmlformats.org/officeDocument/2006/relationships/hyperlink" Target="http://pikalova-ms.narod.ru/portrety_matemaikov.htm" TargetMode="External"/><Relationship Id="rId5" Type="http://schemas.openxmlformats.org/officeDocument/2006/relationships/hyperlink" Target="http://pikalova-ms.narod.ru/portrety_matemaikov.htm" TargetMode="External"/><Relationship Id="rId6" Type="http://schemas.openxmlformats.org/officeDocument/2006/relationships/hyperlink" Target="http://pikalova-ms.narod.ru/portrety_matemaikov.htm" TargetMode="External"/><Relationship Id="rId7" Type="http://schemas.openxmlformats.org/officeDocument/2006/relationships/hyperlink" Target="http://www.biografguru.ru/by/matematik/?q=9&amp;psn=76" TargetMode="External"/><Relationship Id="rId8" Type="http://schemas.openxmlformats.org/officeDocument/2006/relationships/hyperlink" Target="http://www.biografguru.ru/by/matematik/?q=9&amp;psn=76" TargetMode="External"/><Relationship Id="rId9" Type="http://schemas.openxmlformats.org/officeDocument/2006/relationships/hyperlink" Target="http://www.biografguru.ru/by/matematik/?q=9&amp;psn=76" TargetMode="External"/><Relationship Id="rId10" Type="http://schemas.openxmlformats.org/officeDocument/2006/relationships/hyperlink" Target="http://www.biografguru.ru/by/matematik/?q=9&amp;psn=76" TargetMode="External"/><Relationship Id="rId11" Type="http://schemas.openxmlformats.org/officeDocument/2006/relationships/hyperlink" Target="http://www.biografguru.ru/by/matematik/?q=9&amp;psn=76" TargetMode="External"/><Relationship Id="rId12" Type="http://schemas.openxmlformats.org/officeDocument/2006/relationships/hyperlink" Target="http://www.biografguru.ru/by/matematik/?q=9&amp;psn=76" TargetMode="External"/><Relationship Id="rId13" Type="http://schemas.openxmlformats.org/officeDocument/2006/relationships/hyperlink" Target="http://www.biografguru.ru/by/matematik/?q=9&amp;psn=76" TargetMode="External"/><Relationship Id="rId14" Type="http://schemas.openxmlformats.org/officeDocument/2006/relationships/hyperlink" Target="http://www.biografguru.ru/by/matematik/?q=9&amp;psn=76" TargetMode="External"/><Relationship Id="rId1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1692360" y="333360"/>
            <a:ext cx="7272360" cy="54910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76360" y="-36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00"/>
                </a:solidFill>
                <a:latin typeface="Monotype Corsiva"/>
              </a:rPr>
              <a:t>Зал №2 </a:t>
            </a:r>
            <a:r>
              <a:rPr b="1" i="1" lang="en-US" sz="4800" spc="-1" strike="noStrike">
                <a:solidFill>
                  <a:srgbClr val="333300"/>
                </a:solidFill>
                <a:latin typeface="Monotype Corsiva"/>
              </a:rPr>
              <a:t> Параллелограмм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692000" y="2997360"/>
            <a:ext cx="7451640" cy="386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(др.греч. </a:t>
            </a:r>
            <a:r>
              <a:rPr b="0" i="1" lang="ru-RU" sz="2400" spc="-1" strike="noStrike">
                <a:solidFill>
                  <a:srgbClr val="cc3300"/>
                </a:solidFill>
                <a:latin typeface="Arial"/>
              </a:rPr>
              <a:t>παραλληλόγραμμον от παράλληλος</a:t>
            </a:r>
            <a:r>
              <a:rPr b="0" i="1" lang="ru-RU" sz="2400" spc="-1" strike="noStrike">
                <a:solidFill>
                  <a:srgbClr val="333300"/>
                </a:solidFill>
                <a:latin typeface="Arial"/>
              </a:rPr>
              <a:t> — параллельный 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иγραμμή</a:t>
            </a:r>
            <a:r>
              <a:rPr b="0" i="1" lang="ru-RU" sz="2400" spc="-1" strike="noStrike">
                <a:solidFill>
                  <a:srgbClr val="333300"/>
                </a:solidFill>
                <a:latin typeface="Arial"/>
              </a:rPr>
              <a:t> — линия)</a:t>
            </a: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 — это четырёхугольник,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у которого противоположные стороны попарно параллельны, то есть лежат на параллельных прямых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 rot="5400000">
            <a:off x="-2223720" y="3094920"/>
            <a:ext cx="576108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Этимолог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203640" y="1341360"/>
            <a:ext cx="4321080" cy="1727280"/>
          </a:xfrm>
          <a:prstGeom prst="parallelogram">
            <a:avLst>
              <a:gd name="adj" fmla="val 62542"/>
            </a:avLst>
          </a:prstGeom>
          <a:solidFill>
            <a:srgbClr val="80808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76360" y="115920"/>
            <a:ext cx="74916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Monotype Corsiva"/>
              </a:rPr>
              <a:t>Зал №2</a:t>
            </a:r>
            <a:r>
              <a:rPr b="0" i="1" lang="en-US" sz="44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i="1" lang="en-US" sz="4400" spc="-1" strike="noStrike">
                <a:solidFill>
                  <a:srgbClr val="000000"/>
                </a:solidFill>
                <a:latin typeface="Monotype Corsiva"/>
              </a:rPr>
              <a:t> Параллелограм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86920" y="4365360"/>
            <a:ext cx="7417080" cy="249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В «Началах» Евклида доказывается следующая теорема: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в параллелограмме противоположные стороны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равны и противоположные углы равны,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а диагональ разделяет его пополам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 rot="5400000">
            <a:off x="-2331720" y="3131280"/>
            <a:ext cx="597708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Monotype Corsiva"/>
              </a:rPr>
              <a:t>из истор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4"/>
          <a:stretch/>
        </p:blipFill>
        <p:spPr>
          <a:xfrm>
            <a:off x="2916360" y="836640"/>
            <a:ext cx="3887640" cy="234792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1476360" y="3141720"/>
            <a:ext cx="71992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Ватиканский манускрипт 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т.1, 38v — 39r. Euclid I prop. 47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76360" y="-36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Monotype Corsiva"/>
              </a:rPr>
              <a:t>Зал №2</a:t>
            </a:r>
            <a:r>
              <a:rPr b="0" i="1" lang="en-US" sz="44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i="1" lang="en-US" sz="4400" spc="-1" strike="noStrike">
                <a:solidFill>
                  <a:srgbClr val="000000"/>
                </a:solidFill>
                <a:latin typeface="Monotype Corsiva"/>
              </a:rPr>
              <a:t> Параллелограм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979640" y="4149360"/>
            <a:ext cx="6696000" cy="270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Евкли́д</a:t>
            </a: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 </a:t>
            </a:r>
            <a:r>
              <a:rPr b="0" i="1" lang="ru-RU" sz="2400" spc="-1" strike="noStrike">
                <a:solidFill>
                  <a:srgbClr val="333300"/>
                </a:solidFill>
                <a:latin typeface="Arial"/>
              </a:rPr>
              <a:t>или</a:t>
            </a: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Эвкли́д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(др.-греч. Εὐκλείδης, ок. 300 г. до н. э.) 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Древнегреческий математик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Мировую известность приобрёл благодаря сочинению по основам математики «Начала» (Στοιχεῖα </a:t>
            </a:r>
            <a:r>
              <a:rPr b="0" i="1" lang="ru-RU" sz="2400" spc="-1" strike="noStrike">
                <a:solidFill>
                  <a:srgbClr val="333300"/>
                </a:solidFill>
                <a:latin typeface="Arial"/>
              </a:rPr>
              <a:t>букв.</a:t>
            </a: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 элементы).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 rot="5400000">
            <a:off x="-2043360" y="3130560"/>
            <a:ext cx="540072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Учёны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4"/>
          <a:stretch/>
        </p:blipFill>
        <p:spPr>
          <a:xfrm>
            <a:off x="4067280" y="981000"/>
            <a:ext cx="2550960" cy="30243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1476360" y="83628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Четырёхугольник, вершины которого совпадают с серединами сторон произвольного четырёхугольника, является параллелограммом, стороны которого параллельны диагоналям исходного четырёхугольника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   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1652400" y="115920"/>
            <a:ext cx="749124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Monotype Corsiva"/>
              </a:rPr>
              <a:t>Зал №2</a:t>
            </a:r>
            <a:r>
              <a:rPr b="0" i="1" lang="en-US" sz="40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i="1" lang="en-US" sz="4000" spc="-1" strike="noStrike">
                <a:solidFill>
                  <a:srgbClr val="000000"/>
                </a:solidFill>
                <a:latin typeface="Monotype Corsiva"/>
              </a:rPr>
              <a:t> Параллелограм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 rot="5400000">
            <a:off x="-2280600" y="3008880"/>
            <a:ext cx="573264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Теоре́ма Вариньо́н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6588000" y="4653000"/>
            <a:ext cx="1009800" cy="100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2700360" y="3860280"/>
            <a:ext cx="2232000" cy="129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932360" y="3860640"/>
            <a:ext cx="2664000" cy="79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700360" y="5157720"/>
            <a:ext cx="3887640" cy="503280"/>
          </a:xfrm>
          <a:prstGeom prst="line">
            <a:avLst/>
          </a:prstGeom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3851280" y="4292640"/>
            <a:ext cx="2449440" cy="21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4716360" y="5157720"/>
            <a:ext cx="2376720" cy="21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851280" y="4508640"/>
            <a:ext cx="865080" cy="865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300720" y="4292640"/>
            <a:ext cx="792360" cy="865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2700360" y="4653000"/>
            <a:ext cx="4896000" cy="50472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932360" y="3860640"/>
            <a:ext cx="1655640" cy="180036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476360" y="0"/>
            <a:ext cx="749160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Monotype Corsiva"/>
              </a:rPr>
              <a:t>Зал №2</a:t>
            </a:r>
            <a:r>
              <a:rPr b="0" i="1" lang="en-US" sz="44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1" i="1" lang="en-US" sz="4400" spc="-1" strike="noStrike">
                <a:solidFill>
                  <a:srgbClr val="000000"/>
                </a:solidFill>
                <a:latin typeface="Monotype Corsiva"/>
              </a:rPr>
              <a:t> Параллелограм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 rot="5400000">
            <a:off x="-2043360" y="3130560"/>
            <a:ext cx="540072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Учёны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851280" y="692280"/>
            <a:ext cx="2505240" cy="288108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1547640" y="3573360"/>
            <a:ext cx="7488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Пьер Вариньон 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(фр. Pierre Varignon, Кан, 1654 —1722, Париж)  Французский математик , 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член Парижской Академии наук, 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профессор математики коллежа Мазарини   профессор Коллеж де Франс.    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Основной вклад Вариньон совершил в статику и механику.  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476360" y="188640"/>
            <a:ext cx="7491600" cy="71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00"/>
                </a:solidFill>
                <a:latin typeface="Monotype Corsiva"/>
              </a:rPr>
              <a:t>Зал №3</a:t>
            </a:r>
            <a:r>
              <a:rPr b="0" i="1" lang="en-US" sz="4000" spc="-1" strike="noStrike">
                <a:solidFill>
                  <a:srgbClr val="333300"/>
                </a:solidFill>
                <a:latin typeface="Monotype Corsiva"/>
              </a:rPr>
              <a:t>   </a:t>
            </a:r>
            <a:r>
              <a:rPr b="1" i="1" lang="en-US" sz="4000" spc="-1" strike="noStrike">
                <a:solidFill>
                  <a:srgbClr val="333300"/>
                </a:solidFill>
                <a:latin typeface="Monotype Corsiva"/>
              </a:rPr>
              <a:t>   Трапец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652400" y="3429000"/>
            <a:ext cx="7491240" cy="251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(от др.-греч. 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τραπέζιον </a:t>
            </a: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— «столик»; 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τράπεζα</a:t>
            </a: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 — «стол, еда») —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четырёхугольник, у которого только одна пара противолежащих сторон параллельна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«Трапеция» в нашем смысле встречается впервые у древнегреческого математика Посидония  (1в.)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 rot="5400000">
            <a:off x="-2223720" y="3094920"/>
            <a:ext cx="576108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Этимолог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348000" y="907920"/>
            <a:ext cx="3960720" cy="2016360"/>
          </a:xfrm>
          <a:custGeom>
            <a:avLst/>
            <a:gdLst>
              <a:gd name="textAreaLeft" fmla="*/ 870840 w 3960720"/>
              <a:gd name="textAreaRight" fmla="*/ 3089880 w 3960720"/>
              <a:gd name="textAreaTop" fmla="*/ 443160 h 2016360"/>
              <a:gd name="textAreaBottom" fmla="*/ 1573200 h 201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476360" y="-360"/>
            <a:ext cx="7491600" cy="67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00"/>
                </a:solidFill>
                <a:latin typeface="Monotype Corsiva"/>
              </a:rPr>
              <a:t>Зал №2</a:t>
            </a:r>
            <a:r>
              <a:rPr b="0" i="1" lang="en-US" sz="4000" spc="-1" strike="noStrike">
                <a:solidFill>
                  <a:srgbClr val="333300"/>
                </a:solidFill>
                <a:latin typeface="Monotype Corsiva"/>
              </a:rPr>
              <a:t>   </a:t>
            </a:r>
            <a:r>
              <a:rPr b="1" i="1" lang="en-US" sz="4000" spc="-1" strike="noStrike">
                <a:solidFill>
                  <a:srgbClr val="333300"/>
                </a:solidFill>
                <a:latin typeface="Monotype Corsiva"/>
              </a:rPr>
              <a:t>   Трапец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-532764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843280" y="3347280"/>
            <a:ext cx="496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сидон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—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одился в Апамее в Сирии в 135 г., 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умер в Риме в 50 г. до Р. Хр. 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атематик и астроном. 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Жил долго в Родосе. 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Был учителем Цицерона. 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звестен второй попыткой определить размеры земного шара.  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 rot="5400000">
            <a:off x="-2043360" y="3130560"/>
            <a:ext cx="540072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Учёны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320" name="" descr="Посидоний"/>
          <p:cNvPicPr/>
          <p:nvPr/>
        </p:nvPicPr>
        <p:blipFill>
          <a:blip r:embed="rId4"/>
          <a:stretch/>
        </p:blipFill>
        <p:spPr>
          <a:xfrm>
            <a:off x="3995640" y="620640"/>
            <a:ext cx="2289240" cy="31687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1619280" y="1413000"/>
            <a:ext cx="58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692360" y="981000"/>
            <a:ext cx="69832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Средняя линия трапеции равна полусумме ее оснований      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(в трудах Герона Александрийского) 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4916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Monotype Corsiva"/>
              </a:rPr>
              <a:t>Зал №2</a:t>
            </a:r>
            <a:r>
              <a:rPr b="0" i="1" lang="en-US" sz="44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1" i="1" lang="en-US" sz="4400" spc="-1" strike="noStrike">
                <a:solidFill>
                  <a:srgbClr val="000000"/>
                </a:solidFill>
                <a:latin typeface="Monotype Corsiva"/>
              </a:rPr>
              <a:t>   Трапец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 rot="5400000">
            <a:off x="-2331720" y="3131280"/>
            <a:ext cx="597708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Monotype Corsiva"/>
              </a:rPr>
              <a:t>из истор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</p:txBody>
      </p:sp>
      <p:sp>
        <p:nvSpPr>
          <p:cNvPr id="325" name=""/>
          <p:cNvSpPr/>
          <p:nvPr/>
        </p:nvSpPr>
        <p:spPr>
          <a:xfrm rot="10800000">
            <a:off x="3708360" y="2707560"/>
            <a:ext cx="3168720" cy="2089080"/>
          </a:xfrm>
          <a:custGeom>
            <a:avLst/>
            <a:gdLst>
              <a:gd name="textAreaLeft" fmla="*/ 696600 w 3168720"/>
              <a:gd name="textAreaRight" fmla="*/ 2472120 w 3168720"/>
              <a:gd name="textAreaTop" fmla="*/ 459360 h 2089080"/>
              <a:gd name="textAreaBottom" fmla="*/ 1629720 h 20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708360" y="4797360"/>
            <a:ext cx="3168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500720" y="2708280"/>
            <a:ext cx="158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40360" y="3573360"/>
            <a:ext cx="0" cy="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140360" y="3716280"/>
            <a:ext cx="23032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03640" y="227664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003640" y="4292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76720" y="321300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4067280" y="5084640"/>
                <a:ext cx="2448000" cy="14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76360" y="-360"/>
            <a:ext cx="74916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00"/>
                </a:solidFill>
                <a:latin typeface="Monotype Corsiva"/>
              </a:rPr>
              <a:t>Зал №3</a:t>
            </a:r>
            <a:r>
              <a:rPr b="0" i="1" lang="en-US" sz="4400" spc="-1" strike="noStrike">
                <a:solidFill>
                  <a:srgbClr val="333300"/>
                </a:solidFill>
                <a:latin typeface="Monotype Corsiva"/>
              </a:rPr>
              <a:t>   </a:t>
            </a:r>
            <a:r>
              <a:rPr b="1" i="1" lang="en-US" sz="4400" spc="-1" strike="noStrike">
                <a:solidFill>
                  <a:srgbClr val="333300"/>
                </a:solidFill>
                <a:latin typeface="Monotype Corsiva"/>
              </a:rPr>
              <a:t>   Трапец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3924360" y="836640"/>
            <a:ext cx="2415960" cy="309708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1908000" y="3789360"/>
            <a:ext cx="7056720" cy="281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Times New Roman"/>
              </a:rPr>
              <a:t>Герон Александрийский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(</a:t>
            </a: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Heron, I в. н. э.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Греческий механик и математик.     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Занимался геометрией, механикой, гидростатикой, оптикой; изобрел прототип паровой машины и точные нивелировочные инструменты</a:t>
            </a: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 rot="5400000">
            <a:off x="-2043360" y="3130560"/>
            <a:ext cx="540072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Учёны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 spd="med"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547640" y="115920"/>
            <a:ext cx="7491600" cy="752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00"/>
                </a:solidFill>
                <a:latin typeface="Monotype Corsiva"/>
              </a:rPr>
              <a:t>Зал №4</a:t>
            </a:r>
            <a:r>
              <a:rPr b="0" i="1" lang="en-US" sz="4000" spc="-1" strike="noStrike">
                <a:solidFill>
                  <a:srgbClr val="333300"/>
                </a:solidFill>
                <a:latin typeface="Monotype Corsiva"/>
              </a:rPr>
              <a:t>       </a:t>
            </a:r>
            <a:r>
              <a:rPr b="1" i="1" lang="en-US" sz="4000" spc="-1" strike="noStrike">
                <a:solidFill>
                  <a:srgbClr val="333300"/>
                </a:solidFill>
                <a:latin typeface="Monotype Corsiva"/>
              </a:rPr>
              <a:t>Ром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652400" y="4005360"/>
            <a:ext cx="7491240" cy="285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Термин «ромб» происходит от др.-греч. 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ῥόμβος </a:t>
            </a: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— «бубен»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Слово «ромб» впервые употребляется у Герона и Паппа Александрийского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 rot="5400000">
            <a:off x="-2223720" y="3094920"/>
            <a:ext cx="576108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Этимолог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211640" y="692280"/>
            <a:ext cx="2160720" cy="3168360"/>
          </a:xfrm>
          <a:prstGeom prst="diamond">
            <a:avLst/>
          </a:prstGeom>
          <a:solidFill>
            <a:srgbClr val="80808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476360" y="1266120"/>
            <a:ext cx="7524720" cy="21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42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Четырёхугольни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— это геометрическая фигура, состоящая из четырёх точек,  не лежащих на одной прямой, и четырёх отрезков, попарно соединяющих эти точки. 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42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42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76360" y="-36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00"/>
                </a:solidFill>
                <a:latin typeface="Monotype Corsiva"/>
              </a:rPr>
              <a:t>Зал №1   </a:t>
            </a:r>
            <a:r>
              <a:rPr b="1" i="1" lang="en-US" sz="4800" spc="-1" strike="noStrike">
                <a:solidFill>
                  <a:srgbClr val="333300"/>
                </a:solidFill>
                <a:latin typeface="Monotype Corsiva"/>
              </a:rPr>
              <a:t>Четырёхугольник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 rot="5400000">
            <a:off x="-2536920" y="3120840"/>
            <a:ext cx="6480000" cy="615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Гостинн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95640" y="3068640"/>
            <a:ext cx="2016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пуклые                  </a:t>
            </a: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724360" y="3068640"/>
            <a:ext cx="237492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ыпуклы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rot="1902600">
            <a:off x="1763280" y="3789000"/>
            <a:ext cx="3240000" cy="2232000"/>
          </a:xfrm>
          <a:prstGeom prst="pentagon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rot="1946400">
            <a:off x="5724000" y="3716280"/>
            <a:ext cx="3313440" cy="2235240"/>
          </a:xfrm>
          <a:prstGeom prst="star5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76360" y="-360"/>
            <a:ext cx="7491600" cy="5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00"/>
                </a:solidFill>
                <a:latin typeface="Monotype Corsiva"/>
              </a:rPr>
              <a:t>Зал №4</a:t>
            </a:r>
            <a:r>
              <a:rPr b="0" i="1" lang="en-US" sz="4000" spc="-1" strike="noStrike">
                <a:solidFill>
                  <a:srgbClr val="333300"/>
                </a:solidFill>
                <a:latin typeface="Monotype Corsiva"/>
              </a:rPr>
              <a:t>     </a:t>
            </a:r>
            <a:r>
              <a:rPr b="1" i="1" lang="en-US" sz="4000" spc="-1" strike="noStrike">
                <a:solidFill>
                  <a:srgbClr val="333300"/>
                </a:solidFill>
                <a:latin typeface="Monotype Corsiva"/>
              </a:rPr>
              <a:t>Ром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4140360" y="549360"/>
            <a:ext cx="2144520" cy="2952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45" name=""/>
          <p:cNvSpPr/>
          <p:nvPr/>
        </p:nvSpPr>
        <p:spPr>
          <a:xfrm>
            <a:off x="1835280" y="3430800"/>
            <a:ext cx="6913440" cy="30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2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«Собрание» (</a:t>
            </a:r>
            <a:r>
              <a:rPr b="0" lang="el-GR" sz="2400" spc="-1" strike="noStrike">
                <a:solidFill>
                  <a:srgbClr val="333300"/>
                </a:solidFill>
                <a:latin typeface="Arial"/>
              </a:rPr>
              <a:t>συναγωγή</a:t>
            </a: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Автор Папп Александри́йский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(др.-греч. Πάππος ὁ Ἀλεξανδρεύς) — древнегреческий математик второй половины III века.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Изложено содержание ряда трудов более древних авторов,добавлены собственные теоремы Паппа. 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 rot="5400000">
            <a:off x="-2043360" y="3130560"/>
            <a:ext cx="540072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Учёны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132000" y="6400800"/>
            <a:ext cx="43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00"/>
                </a:solidFill>
                <a:latin typeface="Times New Roman"/>
              </a:rPr>
              <a:t>Портрет учёного не найден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1692360" y="4581360"/>
            <a:ext cx="7084800" cy="227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Мозаика Пенроуза, плитки Пенроуза -непериодическое разбиение плоскости, апериодические регулярные структуры, замощение плоскости ромбами двух типов — с углами 72° и 108°  и 36° и 144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49160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Monotype Corsiva"/>
              </a:rPr>
              <a:t>Зал №4</a:t>
            </a:r>
            <a:r>
              <a:rPr b="0" i="1" lang="en-US" sz="40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r>
              <a:rPr b="1" i="1" lang="en-US" sz="4000" spc="-1" strike="noStrike">
                <a:solidFill>
                  <a:srgbClr val="000000"/>
                </a:solidFill>
                <a:latin typeface="Monotype Corsiva"/>
              </a:rPr>
              <a:t>Ром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 txBox="1"/>
          <p:nvPr/>
        </p:nvSpPr>
        <p:spPr>
          <a:xfrm rot="5400000">
            <a:off x="-2438640" y="2951280"/>
            <a:ext cx="604836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интересные факты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4"/>
          <a:stretch/>
        </p:blipFill>
        <p:spPr>
          <a:xfrm>
            <a:off x="3564000" y="907920"/>
            <a:ext cx="3024000" cy="352764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Monotype Corsiva"/>
              </a:rPr>
              <a:t>Зал №5</a:t>
            </a:r>
            <a:r>
              <a:rPr b="0" i="1" lang="en-US" sz="40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1" i="1" lang="en-US" sz="4000" spc="-1" strike="noStrike">
                <a:solidFill>
                  <a:srgbClr val="000000"/>
                </a:solidFill>
                <a:latin typeface="Monotype Corsiva"/>
              </a:rPr>
              <a:t>Прямоугольни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547640" y="3715920"/>
            <a:ext cx="74916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Прямоугольник (перевод  с греч.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ορθογώνιο</a:t>
            </a: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.)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 rot="5400000">
            <a:off x="-2223720" y="3094920"/>
            <a:ext cx="576108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Этимолог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908000" y="4797360"/>
            <a:ext cx="62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Первые геометры мыслили прямоугольник вписанным в круг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364000" y="836640"/>
            <a:ext cx="2737080" cy="2663640"/>
          </a:xfrm>
          <a:prstGeom prst="ellipse">
            <a:avLst/>
          </a:prstGeom>
          <a:noFill/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651640" y="1341360"/>
            <a:ext cx="2160360" cy="16574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692360" y="1197000"/>
            <a:ext cx="3168720" cy="1728720"/>
          </a:xfrm>
          <a:prstGeom prst="rect">
            <a:avLst/>
          </a:prstGeom>
          <a:solidFill>
            <a:srgbClr val="80808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67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Monotype Corsiva"/>
              </a:rPr>
              <a:t>Зал №6</a:t>
            </a:r>
            <a:r>
              <a:rPr b="0" i="1" lang="en-US" sz="40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1" i="1" lang="en-US" sz="4000" spc="-1" strike="noStrike">
                <a:solidFill>
                  <a:srgbClr val="000000"/>
                </a:solidFill>
                <a:latin typeface="Monotype Corsiva"/>
              </a:rPr>
              <a:t>Квадра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763640" y="4221000"/>
            <a:ext cx="7491600" cy="18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6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От латинского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quadratum</a:t>
            </a: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(quadrare - сделать четырехугольным),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перевод с греческого “тетрагонон” - четырехугольник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 rot="5400000">
            <a:off x="-2223720" y="3094920"/>
            <a:ext cx="576108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Этимолог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708360" y="1052640"/>
            <a:ext cx="3024360" cy="2735280"/>
          </a:xfrm>
          <a:prstGeom prst="rect">
            <a:avLst/>
          </a:prstGeom>
          <a:solidFill>
            <a:srgbClr val="80808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" descr=""/>
          <p:cNvPicPr/>
          <p:nvPr/>
        </p:nvPicPr>
        <p:blipFill>
          <a:blip r:embed="rId2"/>
          <a:srcRect l="0" t="0" r="0" b="69771"/>
          <a:stretch/>
        </p:blipFill>
        <p:spPr>
          <a:xfrm>
            <a:off x="2843280" y="1628640"/>
            <a:ext cx="5040360" cy="380700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1619280" y="765000"/>
            <a:ext cx="7524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Центры квадратов, построенных на сторонах параллелограмма, лежат в вершинах квадрата  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331640" y="115560"/>
            <a:ext cx="7491240" cy="64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Monotype Corsiva"/>
              </a:rPr>
              <a:t>Зал №6</a:t>
            </a:r>
            <a:r>
              <a:rPr b="0" i="1" lang="en-US" sz="40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1" i="1" lang="en-US" sz="4000" spc="-1" strike="noStrike">
                <a:solidFill>
                  <a:srgbClr val="000000"/>
                </a:solidFill>
                <a:latin typeface="Monotype Corsiva"/>
              </a:rPr>
              <a:t>Квадра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 rot="5400000">
            <a:off x="-2078280" y="3022560"/>
            <a:ext cx="561672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Теоремы Теб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692360" y="5805360"/>
            <a:ext cx="691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Monotype Corsiva"/>
              </a:rPr>
              <a:t>Теоремы названы в честь французского учёного Виктора Тебо ( начало 20 века)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rot="19789200">
            <a:off x="3859200" y="2796840"/>
            <a:ext cx="1566720" cy="1584360"/>
          </a:xfrm>
          <a:prstGeom prst="rect">
            <a:avLst/>
          </a:prstGeom>
          <a:solidFill>
            <a:srgbClr val="ff33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 rot="5400000">
            <a:off x="-2078280" y="3022560"/>
            <a:ext cx="561672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Теоремы Теб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76360" y="115920"/>
            <a:ext cx="7491600" cy="53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Monotype Corsiva"/>
              </a:rPr>
              <a:t>Зал №6</a:t>
            </a:r>
            <a:r>
              <a:rPr b="0" i="1" lang="en-US" sz="40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1" i="1" lang="en-US" sz="4000" spc="-1" strike="noStrike">
                <a:solidFill>
                  <a:srgbClr val="000000"/>
                </a:solidFill>
                <a:latin typeface="Monotype Corsiva"/>
              </a:rPr>
              <a:t>Квадра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4"/>
          <a:srcRect l="0" t="30235" r="0" b="36504"/>
          <a:stretch/>
        </p:blipFill>
        <p:spPr>
          <a:xfrm>
            <a:off x="3059280" y="620640"/>
            <a:ext cx="4103640" cy="340200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1438200" y="4076640"/>
            <a:ext cx="7705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Если на каждой из двух соседних сторон квадрата построить по равностороннему треугольнику (либо оба внутрь, либо оба вовне квадрата), то вершины этих двух треугольников, не являющиеся вершинами квадрата, и вершина квадрата, не являющаяся вершиной треугольников, образуют равносторонний треугольник.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651640" y="1125360"/>
            <a:ext cx="0" cy="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rot="2692800">
            <a:off x="3551040" y="360360"/>
            <a:ext cx="3314520" cy="27352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rot="9885600">
            <a:off x="5508360" y="836280"/>
            <a:ext cx="792000" cy="706320"/>
          </a:xfrm>
          <a:prstGeom prst="triangle">
            <a:avLst>
              <a:gd name="adj" fmla="val 50000"/>
            </a:avLst>
          </a:prstGeom>
          <a:solidFill>
            <a:srgbClr val="00ccff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476360" y="0"/>
            <a:ext cx="7491600" cy="752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Monotype Corsiva"/>
              </a:rPr>
              <a:t>Зал №7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А знаете ли вы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547280" y="4842000"/>
            <a:ext cx="7272360" cy="201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S -</a:t>
            </a: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 площадь многоугольника с целочисленными вершинами 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В - количество целочисленных точек внутри 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Г — количество целочисленных точек на границе многоугольника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 rot="5400000">
            <a:off x="-2295000" y="3094560"/>
            <a:ext cx="590400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Вопрос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4"/>
          <a:stretch/>
        </p:blipFill>
        <p:spPr>
          <a:xfrm>
            <a:off x="2268360" y="1268280"/>
            <a:ext cx="3165480" cy="352764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/>
          <p:nvPr/>
        </p:nvSpPr>
        <p:spPr>
          <a:xfrm>
            <a:off x="3059280" y="765000"/>
            <a:ext cx="532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00"/>
                </a:solidFill>
                <a:latin typeface="Monotype Corsiva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Monotype Corsiva"/>
              </a:rPr>
              <a:t>Назовите автора данной формулы</a:t>
            </a:r>
            <a:r>
              <a:rPr b="1" i="1" lang="en-US" sz="2800" spc="-1" strike="noStrike">
                <a:solidFill>
                  <a:srgbClr val="333300"/>
                </a:solidFill>
                <a:latin typeface="Monotype Corsiva"/>
              </a:rPr>
              <a:t>.</a:t>
            </a: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692360" y="83664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1вопрос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012000" y="256536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S= </a:t>
            </a: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В + Г/2 − 1</a:t>
            </a: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Monotype Corsiva"/>
              </a:rPr>
              <a:t>Зал №7    </a:t>
            </a:r>
            <a:r>
              <a:rPr b="1" i="1" lang="en-US" sz="3600" spc="-1" strike="noStrike">
                <a:solidFill>
                  <a:srgbClr val="000000"/>
                </a:solidFill>
                <a:latin typeface="Monotype Corsiva"/>
              </a:rPr>
              <a:t>А знаете ли вы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2 вопрос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692360" y="2205000"/>
            <a:ext cx="648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00"/>
                </a:solidFill>
                <a:latin typeface="Monotype Corsiva"/>
              </a:rPr>
              <a:t>Какая фигура называется дельтоидом? </a:t>
            </a: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764000" y="3357720"/>
            <a:ext cx="18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3 вопрос</a:t>
            </a: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763640" y="4005360"/>
            <a:ext cx="69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00"/>
                </a:solidFill>
                <a:latin typeface="Monotype Corsiva"/>
              </a:rPr>
              <a:t>Какая мышца человека носит название четырёхугольника?</a:t>
            </a: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 rot="5400000">
            <a:off x="-2295000" y="3094560"/>
            <a:ext cx="590400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Вопрос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 spd="med">
    <p:diamond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1547640" y="40428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Литература: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Я познаю мир. Математика сост. Савин А.П, Станцо В.В, Котова А.Ю. - АСТ, 1995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Энциклопедический словарь юного математика/Сост. Э-68 А. П. Савин. - М.: Педагогика, 1989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Глейзер Г.И. История математики в школе. М.: Просвещение, 1981</a:t>
            </a:r>
            <a:r>
              <a:rPr b="0" lang="ru-RU" sz="2000" spc="-1" strike="noStrike">
                <a:solidFill>
                  <a:srgbClr val="333300"/>
                </a:solidFill>
                <a:latin typeface="Arial"/>
              </a:rPr>
              <a:t>.  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    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Интернет ресурсы: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999933"/>
                </a:solidFill>
                <a:uFillTx/>
                <a:latin typeface="Arial"/>
                <a:hlinkClick r:id="rId2"/>
              </a:rPr>
              <a:t>http</a:t>
            </a:r>
            <a:r>
              <a:rPr b="1" lang="ru-RU" sz="2000" spc="-1" strike="noStrike" u="sng">
                <a:solidFill>
                  <a:srgbClr val="999933"/>
                </a:solidFill>
                <a:uFillTx/>
                <a:latin typeface="Arial"/>
                <a:hlinkClick r:id="rId3"/>
              </a:rPr>
              <a:t>://</a:t>
            </a:r>
            <a:r>
              <a:rPr b="1" lang="ru-RU" sz="2000" spc="-1" strike="noStrike" u="sng">
                <a:solidFill>
                  <a:srgbClr val="999933"/>
                </a:solidFill>
                <a:uFillTx/>
                <a:latin typeface="Arial"/>
                <a:hlinkClick r:id="rId4"/>
              </a:rPr>
              <a:t>pikalova-ms.narod.ru</a:t>
            </a:r>
            <a:r>
              <a:rPr b="1" lang="ru-RU" sz="2000" spc="-1" strike="noStrike" u="sng">
                <a:solidFill>
                  <a:srgbClr val="999933"/>
                </a:solidFill>
                <a:uFillTx/>
                <a:latin typeface="Arial"/>
                <a:hlinkClick r:id="rId5"/>
              </a:rPr>
              <a:t>/</a:t>
            </a:r>
            <a:r>
              <a:rPr b="1" lang="ru-RU" sz="2000" spc="-1" strike="noStrike" u="sng">
                <a:solidFill>
                  <a:srgbClr val="999933"/>
                </a:solidFill>
                <a:uFillTx/>
                <a:latin typeface="Arial"/>
                <a:hlinkClick r:id="rId6"/>
              </a:rPr>
              <a:t>portrety_matemaikov.htm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999933"/>
                </a:solidFill>
                <a:uFillTx/>
                <a:latin typeface="Arial"/>
                <a:hlinkClick r:id="rId7"/>
              </a:rPr>
              <a:t>http</a:t>
            </a:r>
            <a:r>
              <a:rPr b="1" lang="ru-RU" sz="2000" spc="-1" strike="noStrike" u="sng">
                <a:solidFill>
                  <a:srgbClr val="999933"/>
                </a:solidFill>
                <a:uFillTx/>
                <a:latin typeface="Arial"/>
                <a:hlinkClick r:id="rId8"/>
              </a:rPr>
              <a:t>://</a:t>
            </a:r>
            <a:r>
              <a:rPr b="1" lang="ru-RU" sz="2000" spc="-1" strike="noStrike" u="sng">
                <a:solidFill>
                  <a:srgbClr val="999933"/>
                </a:solidFill>
                <a:uFillTx/>
                <a:latin typeface="Arial"/>
                <a:hlinkClick r:id="rId9"/>
              </a:rPr>
              <a:t>www.biografguru.ru</a:t>
            </a:r>
            <a:r>
              <a:rPr b="1" lang="ru-RU" sz="2000" spc="-1" strike="noStrike" u="sng">
                <a:solidFill>
                  <a:srgbClr val="999933"/>
                </a:solidFill>
                <a:uFillTx/>
                <a:latin typeface="Arial"/>
                <a:hlinkClick r:id="rId10"/>
              </a:rPr>
              <a:t>/</a:t>
            </a:r>
            <a:r>
              <a:rPr b="1" lang="ru-RU" sz="2000" spc="-1" strike="noStrike" u="sng">
                <a:solidFill>
                  <a:srgbClr val="999933"/>
                </a:solidFill>
                <a:uFillTx/>
                <a:latin typeface="Arial"/>
                <a:hlinkClick r:id="rId11"/>
              </a:rPr>
              <a:t>by</a:t>
            </a:r>
            <a:r>
              <a:rPr b="1" lang="ru-RU" sz="2000" spc="-1" strike="noStrike" u="sng">
                <a:solidFill>
                  <a:srgbClr val="999933"/>
                </a:solidFill>
                <a:uFillTx/>
                <a:latin typeface="Arial"/>
                <a:hlinkClick r:id="rId12"/>
              </a:rPr>
              <a:t>/</a:t>
            </a:r>
            <a:r>
              <a:rPr b="1" lang="ru-RU" sz="2000" spc="-1" strike="noStrike" u="sng">
                <a:solidFill>
                  <a:srgbClr val="999933"/>
                </a:solidFill>
                <a:uFillTx/>
                <a:latin typeface="Arial"/>
                <a:hlinkClick r:id="rId13"/>
              </a:rPr>
              <a:t>matematik</a:t>
            </a:r>
            <a:r>
              <a:rPr b="1" lang="ru-RU" sz="2000" spc="-1" strike="noStrike" u="sng">
                <a:solidFill>
                  <a:srgbClr val="999933"/>
                </a:solidFill>
                <a:uFillTx/>
                <a:latin typeface="Arial"/>
                <a:hlinkClick r:id="rId14"/>
              </a:rPr>
              <a:t>/?q=9&amp;psn=76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979640" y="115920"/>
            <a:ext cx="64800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00"/>
                </a:solidFill>
                <a:latin typeface="Monotype Corsiva"/>
              </a:rPr>
              <a:t>Зал №1   </a:t>
            </a:r>
            <a:r>
              <a:rPr b="1" i="1" lang="en-US" sz="4800" spc="-1" strike="noStrike">
                <a:solidFill>
                  <a:srgbClr val="333300"/>
                </a:solidFill>
                <a:latin typeface="Monotype Corsiva"/>
              </a:rPr>
              <a:t>Четырёхугольники</a:t>
            </a:r>
            <a:endParaRPr b="0" lang="en-US" sz="4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 rot="5400000">
            <a:off x="-2536920" y="3120840"/>
            <a:ext cx="6480000" cy="615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Гостинн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111276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111276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73" name="Cyclic_quadrilateral" descr="Cyclic quadrilateral.png"/>
          <p:cNvPicPr/>
          <p:nvPr/>
        </p:nvPicPr>
        <p:blipFill>
          <a:blip r:embed="rId4"/>
          <a:stretch/>
        </p:blipFill>
        <p:spPr>
          <a:xfrm>
            <a:off x="1258920" y="5784840"/>
            <a:ext cx="1430280" cy="10731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0" y="111276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111276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76" name="Tangent_quadrilateral" descr="Tangent quadrilateral.png"/>
          <p:cNvPicPr/>
          <p:nvPr/>
        </p:nvPicPr>
        <p:blipFill>
          <a:blip r:embed="rId5"/>
          <a:srcRect l="9475" t="18904" r="0" b="0"/>
          <a:stretch/>
        </p:blipFill>
        <p:spPr>
          <a:xfrm>
            <a:off x="7524720" y="5770440"/>
            <a:ext cx="1619280" cy="10875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0" y="111276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111276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111276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111276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111276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111276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3708000" y="2205000"/>
            <a:ext cx="792360" cy="360360"/>
          </a:xfrm>
          <a:prstGeom prst="line">
            <a:avLst/>
          </a:prstGeom>
          <a:ln w="3816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492360" y="3573360"/>
            <a:ext cx="935280" cy="216000"/>
          </a:xfrm>
          <a:prstGeom prst="line">
            <a:avLst/>
          </a:prstGeom>
          <a:ln w="3816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427640" y="4724280"/>
            <a:ext cx="0" cy="0"/>
          </a:xfrm>
          <a:prstGeom prst="line">
            <a:avLst/>
          </a:prstGeom>
          <a:ln w="936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2195640" y="3573360"/>
            <a:ext cx="1008000" cy="289080"/>
          </a:xfrm>
          <a:prstGeom prst="line">
            <a:avLst/>
          </a:prstGeom>
          <a:ln w="3816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6372360" y="3500280"/>
            <a:ext cx="576000" cy="432000"/>
          </a:xfrm>
          <a:prstGeom prst="line">
            <a:avLst/>
          </a:prstGeom>
          <a:ln w="3816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380360" y="3500280"/>
            <a:ext cx="792000" cy="432000"/>
          </a:xfrm>
          <a:prstGeom prst="line">
            <a:avLst/>
          </a:prstGeom>
          <a:ln w="3816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92360" y="3860640"/>
            <a:ext cx="1582560" cy="100656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4000" y="2565360"/>
            <a:ext cx="2448000" cy="1008000"/>
          </a:xfrm>
          <a:prstGeom prst="parallelogram">
            <a:avLst>
              <a:gd name="adj" fmla="val 60714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804000" y="2781360"/>
            <a:ext cx="122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6659280" y="2852640"/>
            <a:ext cx="144360" cy="64764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659640" y="3500280"/>
            <a:ext cx="1944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101080" y="3500280"/>
            <a:ext cx="431640" cy="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8027640" y="2781000"/>
            <a:ext cx="576360" cy="718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6659640" y="2781000"/>
            <a:ext cx="144360" cy="718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rot="10800000">
            <a:off x="5508360" y="3933360"/>
            <a:ext cx="1584360" cy="1366920"/>
          </a:xfrm>
          <a:custGeom>
            <a:avLst/>
            <a:gdLst>
              <a:gd name="textAreaLeft" fmla="*/ 348480 w 1584360"/>
              <a:gd name="textAreaRight" fmla="*/ 1235880 w 1584360"/>
              <a:gd name="textAreaTop" fmla="*/ 300600 h 1366920"/>
              <a:gd name="textAreaBottom" fmla="*/ 106632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667640" y="3933720"/>
            <a:ext cx="1008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667640" y="3933720"/>
            <a:ext cx="217440" cy="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667640" y="3933720"/>
            <a:ext cx="0" cy="1366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667640" y="5300640"/>
            <a:ext cx="1297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675640" y="3933720"/>
            <a:ext cx="289080" cy="1366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987640" y="5229360"/>
            <a:ext cx="1081080" cy="10792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851280" y="3789360"/>
            <a:ext cx="1152360" cy="1511280"/>
          </a:xfrm>
          <a:prstGeom prst="diamond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050920" y="4869000"/>
            <a:ext cx="936720" cy="936360"/>
          </a:xfrm>
          <a:prstGeom prst="line">
            <a:avLst/>
          </a:prstGeom>
          <a:ln w="3816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4067280" y="5229360"/>
            <a:ext cx="288720" cy="576000"/>
          </a:xfrm>
          <a:prstGeom prst="line">
            <a:avLst/>
          </a:prstGeom>
          <a:ln w="3816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500720" y="2205000"/>
            <a:ext cx="2950920" cy="576360"/>
          </a:xfrm>
          <a:prstGeom prst="line">
            <a:avLst/>
          </a:prstGeom>
          <a:ln w="3816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3132000" y="1125360"/>
            <a:ext cx="1368720" cy="503280"/>
          </a:xfrm>
          <a:prstGeom prst="line">
            <a:avLst/>
          </a:prstGeom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500720" y="1125360"/>
            <a:ext cx="863280" cy="719280"/>
          </a:xfrm>
          <a:prstGeom prst="line">
            <a:avLst/>
          </a:prstGeom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500720" y="1844640"/>
            <a:ext cx="863280" cy="360360"/>
          </a:xfrm>
          <a:prstGeom prst="line">
            <a:avLst/>
          </a:prstGeom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132000" y="1628640"/>
            <a:ext cx="1368720" cy="576360"/>
          </a:xfrm>
          <a:prstGeom prst="line">
            <a:avLst/>
          </a:prstGeom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516720" y="907920"/>
            <a:ext cx="792000" cy="720720"/>
          </a:xfrm>
          <a:prstGeom prst="line">
            <a:avLst/>
          </a:prstGeom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16720" y="1628640"/>
            <a:ext cx="1871640" cy="576360"/>
          </a:xfrm>
          <a:prstGeom prst="line">
            <a:avLst/>
          </a:prstGeom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308720" y="907920"/>
            <a:ext cx="216000" cy="649440"/>
          </a:xfrm>
          <a:prstGeom prst="line">
            <a:avLst/>
          </a:prstGeom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524720" y="1557360"/>
            <a:ext cx="863640" cy="647640"/>
          </a:xfrm>
          <a:prstGeom prst="line">
            <a:avLst/>
          </a:prstGeom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500720" y="2204640"/>
            <a:ext cx="0" cy="7164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059280" y="6237360"/>
            <a:ext cx="41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00"/>
                </a:solidFill>
                <a:latin typeface="Monotype Corsiva"/>
              </a:rPr>
              <a:t>Приглашаем в путешествие!</a:t>
            </a: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652400" y="549000"/>
            <a:ext cx="74912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95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95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Если никакие  стороны четырёхугольника не параллельны, то середина отрезка, соединяющего точки пересечения противоположных сторон, лежит на прямой, соединяющей середины диагоналей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95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Эта прямая называется </a:t>
            </a: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прямой Гаусса</a:t>
            </a: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 rot="5400000">
            <a:off x="-2511000" y="3094920"/>
            <a:ext cx="633564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Прямая Гаусс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908000" y="115920"/>
            <a:ext cx="648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Monotype Corsiva"/>
              </a:rPr>
              <a:t>Зал №1</a:t>
            </a:r>
            <a:r>
              <a:rPr b="0" i="1" lang="en-US" sz="3200" spc="-1" strike="noStrike">
                <a:solidFill>
                  <a:srgbClr val="333300"/>
                </a:solidFill>
                <a:latin typeface="Monotype Corsiva"/>
              </a:rPr>
              <a:t>   </a:t>
            </a:r>
            <a:r>
              <a:rPr b="1" i="1" lang="en-US" sz="4800" spc="-1" strike="noStrike">
                <a:solidFill>
                  <a:srgbClr val="333300"/>
                </a:solidFill>
                <a:latin typeface="Monotype Corsiva"/>
              </a:rPr>
              <a:t>Четырёхугольники</a:t>
            </a:r>
            <a:endParaRPr b="0" lang="en-US" sz="4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22" name="" descr="Gauss line.svg"/>
          <p:cNvPicPr/>
          <p:nvPr/>
        </p:nvPicPr>
        <p:blipFill>
          <a:blip r:embed="rId4"/>
          <a:stretch/>
        </p:blipFill>
        <p:spPr>
          <a:xfrm>
            <a:off x="2556000" y="3645000"/>
            <a:ext cx="4033800" cy="306684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2700360" y="6093000"/>
            <a:ext cx="1655640" cy="215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2700360" y="4437000"/>
            <a:ext cx="1440000" cy="1656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140360" y="4437000"/>
            <a:ext cx="360360" cy="360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500720" y="4797360"/>
            <a:ext cx="71280" cy="7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4356000" y="4797360"/>
            <a:ext cx="216000" cy="1511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284720" y="6237360"/>
            <a:ext cx="71280" cy="73080"/>
          </a:xfrm>
          <a:prstGeom prst="ellipse">
            <a:avLst/>
          </a:prstGeom>
          <a:solidFill>
            <a:srgbClr val="e5d58a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500720" y="4797360"/>
            <a:ext cx="71280" cy="71640"/>
          </a:xfrm>
          <a:prstGeom prst="ellipse">
            <a:avLst/>
          </a:prstGeom>
          <a:solidFill>
            <a:srgbClr val="e5d58a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700360" y="6021360"/>
            <a:ext cx="71280" cy="71640"/>
          </a:xfrm>
          <a:prstGeom prst="ellipse">
            <a:avLst/>
          </a:prstGeom>
          <a:solidFill>
            <a:srgbClr val="e5d58a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140360" y="4437000"/>
            <a:ext cx="71280" cy="71640"/>
          </a:xfrm>
          <a:prstGeom prst="ellipse">
            <a:avLst/>
          </a:prstGeom>
          <a:solidFill>
            <a:srgbClr val="e5d58a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2556000" y="5084280"/>
            <a:ext cx="4032000" cy="50508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716360" y="3860640"/>
            <a:ext cx="1727280" cy="2737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40360" y="4508640"/>
            <a:ext cx="144360" cy="1728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2700360" y="4869000"/>
            <a:ext cx="1800360" cy="1224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564000" y="5373720"/>
            <a:ext cx="144360" cy="142920"/>
          </a:xfrm>
          <a:prstGeom prst="ellipse">
            <a:avLst/>
          </a:prstGeom>
          <a:solidFill>
            <a:srgbClr val="e5d58a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140360" y="5300640"/>
            <a:ext cx="144360" cy="144360"/>
          </a:xfrm>
          <a:prstGeom prst="ellipse">
            <a:avLst/>
          </a:prstGeom>
          <a:solidFill>
            <a:srgbClr val="e5d58a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508720" y="5157720"/>
            <a:ext cx="142920" cy="142920"/>
          </a:xfrm>
          <a:prstGeom prst="ellipse">
            <a:avLst/>
          </a:prstGeom>
          <a:solidFill>
            <a:srgbClr val="e5d58a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32000" y="3573360"/>
            <a:ext cx="7345440" cy="328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Иоганн Карл Фри́дрих Га́усс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(нем. Johann Carl Friedrich Gauß)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1777,Брауншвейг  —   1855, Гёттинген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Немецкий математик, астроном и   физик,   величайший математик всех времён,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«король математики»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 rot="5400000">
            <a:off x="-2043360" y="3130560"/>
            <a:ext cx="540072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Учёны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242" name="" descr="Carl Friedrich Gauss.jpg"/>
          <p:cNvPicPr/>
          <p:nvPr/>
        </p:nvPicPr>
        <p:blipFill>
          <a:blip r:embed="rId4"/>
          <a:stretch/>
        </p:blipFill>
        <p:spPr>
          <a:xfrm>
            <a:off x="4067280" y="836640"/>
            <a:ext cx="1979640" cy="252108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1547640" y="0"/>
            <a:ext cx="74916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00"/>
                </a:solidFill>
                <a:latin typeface="Monotype Corsiva"/>
              </a:rPr>
              <a:t>Зал №1   </a:t>
            </a:r>
            <a:r>
              <a:rPr b="1" i="1" lang="en-US" sz="4800" spc="-1" strike="noStrike">
                <a:solidFill>
                  <a:srgbClr val="333300"/>
                </a:solidFill>
                <a:latin typeface="Monotype Corsiva"/>
              </a:rPr>
              <a:t>Четырёхугольники</a:t>
            </a:r>
            <a:endParaRPr b="0" lang="en-US" sz="4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1476360" y="112500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   </a:t>
            </a: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Вокруг четырехугольника можно описать окружность тогда и только тогда, когда произведение его диагоналей равно сумме произведений его противоположных сторон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1500120" y="-360"/>
            <a:ext cx="749160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Monotype Corsiva"/>
              </a:rPr>
              <a:t>Зал №1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4400" spc="-1" strike="noStrike">
                <a:solidFill>
                  <a:srgbClr val="000000"/>
                </a:solidFill>
                <a:latin typeface="Monotype Corsiva"/>
              </a:rPr>
              <a:t>Четырёхугольни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 rot="5400000">
            <a:off x="-2151000" y="3166920"/>
            <a:ext cx="5905440" cy="524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Теорема Птолеме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2852640"/>
            <a:ext cx="3024360" cy="3024360"/>
          </a:xfrm>
          <a:prstGeom prst="ellipse">
            <a:avLst/>
          </a:prstGeom>
          <a:noFill/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005360"/>
            <a:ext cx="0" cy="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916360" y="342900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435640" y="27813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501336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84720" y="58770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572000" y="5877000"/>
            <a:ext cx="0" cy="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3276720" y="3141720"/>
            <a:ext cx="2232000" cy="5745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3716280"/>
            <a:ext cx="1295280" cy="2160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4572000" y="5084280"/>
            <a:ext cx="1368360" cy="7923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508720" y="3141720"/>
            <a:ext cx="431640" cy="19429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276720" y="3716280"/>
            <a:ext cx="2663640" cy="136836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4572000" y="3141720"/>
            <a:ext cx="936720" cy="273528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1835280" y="6237360"/>
                <a:ext cx="597672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B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CD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C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AD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00"/>
                </a:solidFill>
                <a:latin typeface="Monotype Corsiva"/>
              </a:rPr>
              <a:t>Зал №1   </a:t>
            </a:r>
            <a:r>
              <a:rPr b="1" i="1" lang="en-US" sz="4800" spc="-1" strike="noStrike">
                <a:solidFill>
                  <a:srgbClr val="333300"/>
                </a:solidFill>
                <a:latin typeface="Monotype Corsiva"/>
              </a:rPr>
              <a:t>Четырёхугольник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5364000" y="1628640"/>
            <a:ext cx="3095640" cy="223992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1187280" y="3933720"/>
            <a:ext cx="774072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Клавдий Птолемей,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живший в конце первого — начале второго века н.э. 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Древнегреческий ученый  -  астроном, математик, астролог, географ, оптик и теоретик музыки.  . Основной труд Птолемея — “Альмагест”, в котором он изложил сведения по астрономии.  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 rot="5400000">
            <a:off x="-2043360" y="3130560"/>
            <a:ext cx="540072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Учёны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5"/>
          <a:stretch/>
        </p:blipFill>
        <p:spPr>
          <a:xfrm>
            <a:off x="2268360" y="1197000"/>
            <a:ext cx="2281320" cy="27367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476360" y="0"/>
            <a:ext cx="7491600" cy="95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00"/>
                </a:solidFill>
                <a:latin typeface="Monotype Corsiva"/>
              </a:rPr>
              <a:t>Зал №1   </a:t>
            </a:r>
            <a:r>
              <a:rPr b="1" i="1" lang="en-US" sz="4800" spc="-1" strike="noStrike">
                <a:solidFill>
                  <a:srgbClr val="333300"/>
                </a:solidFill>
                <a:latin typeface="Monotype Corsiva"/>
              </a:rPr>
              <a:t>Четырёхугольник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403280" y="90756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Если вписанный четырёхугольник имеет перпендикулярные диагонали, пересекающиеся в точке M, то прямая, проходящая через точку M и перпендикулярная одной из его сторон, делит противоположную ей сторону пополам</a:t>
            </a: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1476360" y="2852640"/>
            <a:ext cx="3168720" cy="316872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 txBox="1"/>
          <p:nvPr/>
        </p:nvSpPr>
        <p:spPr>
          <a:xfrm rot="5400000">
            <a:off x="-2376720" y="3105000"/>
            <a:ext cx="604872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Теоре́ма Брахмагу́пты 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936320" y="3860640"/>
            <a:ext cx="34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Times New Roman"/>
              </a:rPr>
              <a:t>Формула Брахмагупты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132000" y="5445000"/>
            <a:ext cx="0" cy="216000"/>
          </a:xfrm>
          <a:prstGeom prst="line">
            <a:avLst/>
          </a:prstGeom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124000" y="5013360"/>
            <a:ext cx="0" cy="216000"/>
          </a:xfrm>
          <a:prstGeom prst="line">
            <a:avLst/>
          </a:prstGeom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3419640" y="5877000"/>
                <a:ext cx="5580000" cy="6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76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5003640" y="4437000"/>
                <a:ext cx="3384720" cy="120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r>
                          <m:t xml:space="preserve">d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52400" y="115920"/>
            <a:ext cx="7491240" cy="53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00"/>
                </a:solidFill>
                <a:latin typeface="Monotype Corsiva"/>
              </a:rPr>
              <a:t>Зал №1   </a:t>
            </a:r>
            <a:r>
              <a:rPr b="1" i="1" lang="en-US" sz="4400" spc="-1" strike="noStrike">
                <a:solidFill>
                  <a:srgbClr val="333300"/>
                </a:solidFill>
                <a:latin typeface="Monotype Corsiva"/>
              </a:rPr>
              <a:t>Четырёхугольни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843280" y="4149720"/>
            <a:ext cx="489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333300"/>
                </a:solidFill>
                <a:latin typeface="Arial"/>
              </a:rPr>
              <a:t>00 0598 - 00 0660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индийский математик 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и астроном Брахмагупта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Основные труды: 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«Брахма-спхута-сиддханта»      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«Кхандакхадьяка»    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 rot="5400000">
            <a:off x="-2043360" y="3130560"/>
            <a:ext cx="540072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Учёны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4"/>
          <a:stretch/>
        </p:blipFill>
        <p:spPr>
          <a:xfrm>
            <a:off x="4067280" y="620640"/>
            <a:ext cx="2280960" cy="34560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7T15:52:07Z</dcterms:created>
  <dc:creator>Дом 2</dc:creator>
  <dc:description/>
  <dc:language>en-US</dc:language>
  <cp:lastModifiedBy>Мама</cp:lastModifiedBy>
  <dcterms:modified xsi:type="dcterms:W3CDTF">2013-05-05T08:39:52Z</dcterms:modified>
  <cp:revision>18</cp:revision>
  <dc:subject/>
  <dc:title>Слайд 1</dc:title>
</cp:coreProperties>
</file>