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D29-5378-48DF-AC50-087F9293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B95-3ED4-4F85-BA95-284AEAB6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44D-57B3-4023-8D55-0D10410D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6DC-303F-48B9-AE2A-47E89C7D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D57F-EC99-4989-B37D-EFD0A0A1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E1D6-3BA6-4B41-8C3E-CD7351AC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22BD-8CEF-40DF-A232-E89D06BE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A2E-5578-4383-BA4B-AD1F903E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5D1A-D6AB-4E62-9170-ED3FF149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879-2CC2-41A9-B749-9FF223A2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8B0C-02D5-44F5-AF55-C676BBE1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765-6119-4A48-A85F-CE734E81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C1F3-1974-4729-BF92-1F6C66FA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0C2-10A2-4EEF-9635-463E1496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E38A-6D04-41D4-8E12-356E6474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2CF9-F28D-4501-B0B8-1E1E9F88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A013-9F49-4256-A9AA-585E067A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5D9-F2F9-43B0-8165-8C1FB13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3F0-617E-47FB-BC97-966EAC31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12A-54EF-4D69-812B-E9CF6312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05D-522D-4EC2-982E-35044105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C8C-0850-4895-9164-4C2921E6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CAA-F6C8-41B0-8C52-50D144B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B0E-3C9F-45BE-A83A-842CBEBA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764C-6A2C-4BFB-97A8-0AE917F87B5D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E485-89C7-4409-BCD9-C853F7B613D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kalova-ms.narod.ru/portrety_matemaikov.htm" TargetMode="External"/><Relationship Id="rId3" Type="http://schemas.openxmlformats.org/officeDocument/2006/relationships/hyperlink" Target="http://pikalova-ms.narod.ru/portrety_matemaikov.htm" TargetMode="External"/><Relationship Id="rId4" Type="http://schemas.openxmlformats.org/officeDocument/2006/relationships/hyperlink" Target="http://pikalova-ms.narod.ru/portrety_matemaikov.htm" TargetMode="External"/><Relationship Id="rId5" Type="http://schemas.openxmlformats.org/officeDocument/2006/relationships/hyperlink" Target="http://pikalova-ms.narod.ru/portrety_matemaikov.htm" TargetMode="External"/><Relationship Id="rId6" Type="http://schemas.openxmlformats.org/officeDocument/2006/relationships/hyperlink" Target="http://pikalova-ms.narod.ru/portrety_matemaikov.htm" TargetMode="External"/><Relationship Id="rId7" Type="http://schemas.openxmlformats.org/officeDocument/2006/relationships/hyperlink" Target="http://www.biografguru.ru/by/matematik/?q=9&amp;psn=76" TargetMode="External"/><Relationship Id="rId8" Type="http://schemas.openxmlformats.org/officeDocument/2006/relationships/hyperlink" Target="http://www.biografguru.ru/by/matematik/?q=9&amp;psn=76" TargetMode="External"/><Relationship Id="rId9" Type="http://schemas.openxmlformats.org/officeDocument/2006/relationships/hyperlink" Target="http://www.biografguru.ru/by/matematik/?q=9&amp;psn=76" TargetMode="External"/><Relationship Id="rId10" Type="http://schemas.openxmlformats.org/officeDocument/2006/relationships/hyperlink" Target="http://www.biografguru.ru/by/matematik/?q=9&amp;psn=76" TargetMode="External"/><Relationship Id="rId11" Type="http://schemas.openxmlformats.org/officeDocument/2006/relationships/hyperlink" Target="http://www.biografguru.ru/by/matematik/?q=9&amp;psn=76" TargetMode="External"/><Relationship Id="rId12" Type="http://schemas.openxmlformats.org/officeDocument/2006/relationships/hyperlink" Target="http://www.biografguru.ru/by/matematik/?q=9&amp;psn=76" TargetMode="External"/><Relationship Id="rId13" Type="http://schemas.openxmlformats.org/officeDocument/2006/relationships/hyperlink" Target="http://www.biografguru.ru/by/matematik/?q=9&amp;psn=76" TargetMode="External"/><Relationship Id="rId14" Type="http://schemas.openxmlformats.org/officeDocument/2006/relationships/hyperlink" Target="http://www.biografguru.ru/by/matematik/?q=9&amp;psn=76" TargetMode="Externa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7272360" cy="5491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2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 Параллелограм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692000" y="2997360"/>
            <a:ext cx="74516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греч. 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παραλληλόγραμμον от παράλληλος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 — параллельный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иγραμμή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 — линия)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— это четырёхугольник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у которого противоположные стороны попарно параллельны, то есть лежат на параллельных прямы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1341360"/>
            <a:ext cx="4321080" cy="1727280"/>
          </a:xfrm>
          <a:prstGeom prst="parallelogram">
            <a:avLst>
              <a:gd name="adj" fmla="val 62542"/>
            </a:avLst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91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6920" y="4365360"/>
            <a:ext cx="741708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 «Началах» Евклида доказывается следующая теорема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 параллелограмме противоположные стороны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равны и противоположные углы равны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а диагональ разделяет его попола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 rot="5400000">
            <a:off x="-2331720" y="3131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из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916360" y="836640"/>
            <a:ext cx="3887640" cy="2347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76360" y="3141720"/>
            <a:ext cx="7199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атиканский манускрипт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т.1, 38v — 39r. Euclid I prop. 47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79640" y="4149360"/>
            <a:ext cx="6696000" cy="27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вкли́д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-греч. Εὐκλείδης, ок. 300 г. до н. э.) 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ревнегреческий математ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ировую известность приобрёл благодаря сочинению по основам математики «Начала» (Στοιχεῖα 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букв.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элементы)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067280" y="981000"/>
            <a:ext cx="25509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Четырёхугольник, вершины которого совпадают с серединами сторон произвольного четырёхугольника, является параллелограммом, стороны которого параллельны диагоналям исходного четырёхугольни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652400" y="115920"/>
            <a:ext cx="74912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 rot="5400000">
            <a:off x="-2280600" y="3008880"/>
            <a:ext cx="5732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́ма Вариньо́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88000" y="4653000"/>
            <a:ext cx="10098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700360" y="3860280"/>
            <a:ext cx="223200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32360" y="3860640"/>
            <a:ext cx="266400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5157720"/>
            <a:ext cx="3887640" cy="503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51280" y="4292640"/>
            <a:ext cx="244944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716360" y="5157720"/>
            <a:ext cx="237672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1280" y="4508640"/>
            <a:ext cx="86508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00720" y="4292640"/>
            <a:ext cx="792360" cy="865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700360" y="4653000"/>
            <a:ext cx="4896000" cy="50472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32360" y="3860640"/>
            <a:ext cx="1655640" cy="1800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Параллелограм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851280" y="692280"/>
            <a:ext cx="2505240" cy="2881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547640" y="357336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ьер Вариньон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фр. Pierre Varignon, Кан, 1654 —1722, Париж)  Французский математик 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лен Парижской Академии наук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офессор математики коллежа Мазарини   профессор Коллеж де Франс.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новной вклад Вариньон совершил в статику и механику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916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3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652400" y="3429000"/>
            <a:ext cx="749124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от др.-греч.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τραπέζιον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— «столик»;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τράπεζα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 — «стол, еда») —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четырёхугольник, у которого только одна пара противолежащих сторон параллельн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Трапеция» в нашем смысле встречается впервые у древнегреческого математика Посидония  (1в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48000" y="907920"/>
            <a:ext cx="3960720" cy="2016360"/>
          </a:xfrm>
          <a:custGeom>
            <a:avLst/>
            <a:gdLst>
              <a:gd name="textAreaLeft" fmla="*/ 870840 w 3960720"/>
              <a:gd name="textAreaRight" fmla="*/ 3089880 w 3960720"/>
              <a:gd name="textAreaTop" fmla="*/ 443160 h 2016360"/>
              <a:gd name="textAreaBottom" fmla="*/ 15732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2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53276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334728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идо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—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Апамее в Сирии в 135 г.,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р в Риме в 50 г. до Р. Хр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к и астроном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 долго в Родосе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 учителем Цицерона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естен второй попыткой определить размеры земного шара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20" name="" descr="Посидоний"/>
          <p:cNvPicPr/>
          <p:nvPr/>
        </p:nvPicPr>
        <p:blipFill>
          <a:blip r:embed="rId4"/>
          <a:stretch/>
        </p:blipFill>
        <p:spPr>
          <a:xfrm>
            <a:off x="3995640" y="620640"/>
            <a:ext cx="22892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619280" y="1413000"/>
            <a:ext cx="58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981000"/>
            <a:ext cx="698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редняя линия трапеции равна полусумме ее оснований 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в трудах Герона Александрийского)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1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2</a:t>
            </a:r>
            <a:r>
              <a:rPr b="0" i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   Трапе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 rot="5400000">
            <a:off x="-2331720" y="3131280"/>
            <a:ext cx="5977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из ис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3708360" y="2707560"/>
            <a:ext cx="3168720" cy="2089080"/>
          </a:xfrm>
          <a:custGeom>
            <a:avLst/>
            <a:gdLst>
              <a:gd name="textAreaLeft" fmla="*/ 696600 w 3168720"/>
              <a:gd name="textAreaRight" fmla="*/ 2472120 w 3168720"/>
              <a:gd name="textAreaTop" fmla="*/ 459360 h 2089080"/>
              <a:gd name="textAreaBottom" fmla="*/ 1629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4797360"/>
            <a:ext cx="3168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2708280"/>
            <a:ext cx="158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40360" y="3573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40360" y="3716280"/>
            <a:ext cx="2303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03640" y="22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03640" y="429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76720" y="321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067280" y="5084640"/>
                <a:ext cx="24480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00"/>
                </a:solidFill>
                <a:latin typeface="Monotype Corsiva"/>
              </a:rPr>
              <a:t>Зал №3</a:t>
            </a:r>
            <a:r>
              <a:rPr b="0" i="1" lang="en-US" sz="44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400" spc="-1" strike="noStrike">
                <a:solidFill>
                  <a:srgbClr val="333300"/>
                </a:solidFill>
                <a:latin typeface="Monotype Corsiva"/>
              </a:rPr>
              <a:t>   Трапе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2415960" cy="3097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908000" y="3789360"/>
            <a:ext cx="7056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Герон Александрийский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Heron, I в. н. э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Греческий механик и математик.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Занимался геометрией, механикой, гидростатикой, оптикой; изобрел прототип паровой машины и точные нивелировочные инструменты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47640" y="11592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 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652400" y="4005360"/>
            <a:ext cx="7491240" cy="28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Термин «ромб» происходит от др.-греч. 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ῥόμβος 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— «бубен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Слово «ромб» впервые употребляется у Герона и Паппа Александрийского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11640" y="692280"/>
            <a:ext cx="2160720" cy="3168360"/>
          </a:xfrm>
          <a:prstGeom prst="diamond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76360" y="1266120"/>
            <a:ext cx="75247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етырёх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— это геометрическая фигура, состоящая из четырёх точек,  не лежащих на одной прямой, и четырёх отрезков, попарно соединяющих эти точки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2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 rot="5400000">
            <a:off x="-2536920" y="3120840"/>
            <a:ext cx="64800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ости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3068640"/>
            <a:ext cx="201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уклые                  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3068640"/>
            <a:ext cx="2374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02600">
            <a:off x="1763280" y="3789000"/>
            <a:ext cx="3240000" cy="2232000"/>
          </a:xfrm>
          <a:prstGeom prst="pentag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46400">
            <a:off x="5724000" y="3716280"/>
            <a:ext cx="3313440" cy="2235240"/>
          </a:xfrm>
          <a:prstGeom prst="star5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916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333300"/>
                </a:solidFill>
                <a:latin typeface="Monotype Corsiva"/>
              </a:rPr>
              <a:t>     </a:t>
            </a:r>
            <a:r>
              <a:rPr b="1" i="1" lang="en-US" sz="4000" spc="-1" strike="noStrike">
                <a:solidFill>
                  <a:srgbClr val="3333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21445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"/>
          <p:cNvSpPr/>
          <p:nvPr/>
        </p:nvSpPr>
        <p:spPr>
          <a:xfrm>
            <a:off x="1835280" y="3430800"/>
            <a:ext cx="6913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2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Собрание» (</a:t>
            </a:r>
            <a:r>
              <a:rPr b="0" lang="el-GR" sz="2400" spc="-1" strike="noStrike">
                <a:solidFill>
                  <a:srgbClr val="333300"/>
                </a:solidFill>
                <a:latin typeface="Arial"/>
              </a:rPr>
              <a:t>συναγωγή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втор Папп Александри́йский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др.-греч. Πάππος ὁ Ἀλεξανδρεύς) — древнегреческий математик второй половины III века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зложено содержание ряда трудов более древних авторов,добавлены собственные теоремы Паппа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64008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00"/>
                </a:solidFill>
                <a:latin typeface="Times New Roman"/>
              </a:rPr>
              <a:t>Портрет учёного не найден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692360" y="4581360"/>
            <a:ext cx="7084800" cy="22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озаика Пенроуза, плитки Пенроуза -непериодическое разбиение плоскости, апериодические регулярные структуры, замощение плоскости ромбами двух типов — с углами 72° и 108°  и 36° и 14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16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4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 rot="5400000">
            <a:off x="-2438640" y="295128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интересные факт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3564000" y="907920"/>
            <a:ext cx="302400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5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47640" y="3715920"/>
            <a:ext cx="74916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рямоугольник (перевод  с греч.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ορθογώνιο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08000" y="4797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Первые геометры мыслили прямоугольник вписанным в круг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4000" y="836640"/>
            <a:ext cx="2737080" cy="2663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1341360"/>
            <a:ext cx="2160360" cy="1657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92360" y="1197000"/>
            <a:ext cx="3168720" cy="172872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640" y="4221000"/>
            <a:ext cx="749160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т латинского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quadratum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quadrare - сделать четырехугольным)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еревод с греческого “тетрагонон” - четырехугольник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 rot="5400000">
            <a:off x="-222372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08360" y="1052640"/>
            <a:ext cx="3024360" cy="2735280"/>
          </a:xfrm>
          <a:prstGeom prst="rect">
            <a:avLst/>
          </a:prstGeom>
          <a:solidFill>
            <a:srgbClr val="80808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rcRect l="0" t="0" r="0" b="69771"/>
          <a:stretch/>
        </p:blipFill>
        <p:spPr>
          <a:xfrm>
            <a:off x="2843280" y="1628640"/>
            <a:ext cx="5040360" cy="3807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619280" y="765000"/>
            <a:ext cx="75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Центры квадратов, построенных на сторонах параллелограмма, лежат в вершинах квадрата  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49124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 rot="5400000">
            <a:off x="-2078280" y="302256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оремы Т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92360" y="5805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Monotype Corsiva"/>
              </a:rPr>
              <a:t>Теоремы названы в честь французского учёного Виктора Тебо ( начало 20 века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9789200">
            <a:off x="3859200" y="2796840"/>
            <a:ext cx="1566720" cy="1584360"/>
          </a:xfrm>
          <a:prstGeom prst="rect">
            <a:avLst/>
          </a:prstGeom>
          <a:solidFill>
            <a:srgbClr val="ff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 rot="5400000">
            <a:off x="-2078280" y="302256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мы Те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6</a:t>
            </a:r>
            <a:r>
              <a:rPr b="0" i="1" lang="en-US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rcRect l="0" t="30235" r="0" b="36504"/>
          <a:stretch/>
        </p:blipFill>
        <p:spPr>
          <a:xfrm>
            <a:off x="3059280" y="620640"/>
            <a:ext cx="4103640" cy="3402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438200" y="407664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на каждой из двух соседних сторон квадрата построить по равностороннему треугольнику (либо оба внутрь, либо оба вовне квадрата), то вершины этих двух треугольников, не являющиеся вершинами квадрата, и вершина квадрата, не являющаяся вершиной треугольников, образуют равносторонний треугольник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51640" y="1125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692800">
            <a:off x="3551040" y="360360"/>
            <a:ext cx="3314520" cy="2735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9885600">
            <a:off x="5508360" y="836280"/>
            <a:ext cx="792000" cy="70632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Зал №7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 знаете ли в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47280" y="484200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 -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площадь многоугольника с целочисленными вершинам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 - количество целочисленных точек внутри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 — количество целочисленных точек на границе многоугольни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 rot="5400000">
            <a:off x="-2295000" y="309456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2268360" y="1268280"/>
            <a:ext cx="3165480" cy="3527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059280" y="76500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Monotype Corsiv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Назовите автора данной формулы</a:t>
            </a:r>
            <a:r>
              <a:rPr b="1" i="1" lang="en-US" sz="2800" spc="-1" strike="noStrike">
                <a:solidFill>
                  <a:srgbClr val="3333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92360" y="836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1вопрос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256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=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В + Г/2 − 1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7    </a:t>
            </a: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А знаете ли в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2 вопрос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92360" y="220500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00"/>
                </a:solidFill>
                <a:latin typeface="Monotype Corsiva"/>
              </a:rPr>
              <a:t>Какая фигура называется дельтоидом? 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64000" y="335772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3 вопрос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4005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Monotype Corsiva"/>
              </a:rPr>
              <a:t>Какая мышца человека носит название четырёхугольника?</a:t>
            </a:r>
            <a:endParaRPr b="0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 rot="5400000">
            <a:off x="-2295000" y="3094560"/>
            <a:ext cx="5904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опро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547640" y="40428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итература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Я познаю мир. Математика сост. Савин А.П, Станцо В.В, Котова А.Ю. - АСТ, 1995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Энциклопедический словарь юного математика/Сост. Э-68 А. П. Савин. - М.: Педагогика, 1989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лейзер Г.И. История математики в школе. М.: Просвещение, 1981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Интернет ресурсы: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http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:/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ikalova-ms.narod.ru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portrety_matemaikov.htm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http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:/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www.biografguru.ru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by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/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matematik</a:t>
            </a:r>
            <a:r>
              <a:rPr b="1" lang="ru-RU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/?q=9&amp;psn=76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979640" y="115920"/>
            <a:ext cx="64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-2536920" y="3120840"/>
            <a:ext cx="64800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Гости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Cyclic_quadrilateral" descr="Cyclic quadrilateral.png"/>
          <p:cNvPicPr/>
          <p:nvPr/>
        </p:nvPicPr>
        <p:blipFill>
          <a:blip r:embed="rId4"/>
          <a:stretch/>
        </p:blipFill>
        <p:spPr>
          <a:xfrm>
            <a:off x="1258920" y="5784840"/>
            <a:ext cx="1430280" cy="1073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6" name="Tangent_quadrilateral" descr="Tangent quadrilateral.png"/>
          <p:cNvPicPr/>
          <p:nvPr/>
        </p:nvPicPr>
        <p:blipFill>
          <a:blip r:embed="rId5"/>
          <a:srcRect l="9475" t="18904" r="0" b="0"/>
          <a:stretch/>
        </p:blipFill>
        <p:spPr>
          <a:xfrm>
            <a:off x="7524720" y="5770440"/>
            <a:ext cx="1619280" cy="108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12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708000" y="2205000"/>
            <a:ext cx="792360" cy="360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3573360"/>
            <a:ext cx="935280" cy="216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472428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195640" y="3573360"/>
            <a:ext cx="1008000" cy="28908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72360" y="3500280"/>
            <a:ext cx="576000" cy="432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80360" y="3500280"/>
            <a:ext cx="792000" cy="432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3860640"/>
            <a:ext cx="1582560" cy="1006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565360"/>
            <a:ext cx="2448000" cy="1008000"/>
          </a:xfrm>
          <a:prstGeom prst="parallelogram">
            <a:avLst>
              <a:gd name="adj" fmla="val 60714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4000" y="2781360"/>
            <a:ext cx="122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659280" y="2852640"/>
            <a:ext cx="144360" cy="6476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59640" y="350028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01080" y="3500280"/>
            <a:ext cx="43164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8027640" y="2781000"/>
            <a:ext cx="576360" cy="71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59640" y="2781000"/>
            <a:ext cx="144360" cy="71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5508360" y="3933360"/>
            <a:ext cx="1584360" cy="136692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300600 h 1366920"/>
              <a:gd name="textAreaBottom" fmla="*/ 106632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67640" y="393372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67640" y="3933720"/>
            <a:ext cx="21744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3933720"/>
            <a:ext cx="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67640" y="5300640"/>
            <a:ext cx="1297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75640" y="3933720"/>
            <a:ext cx="28908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5229360"/>
            <a:ext cx="1081080" cy="1079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789360"/>
            <a:ext cx="1152360" cy="1511280"/>
          </a:xfrm>
          <a:prstGeom prst="diamond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4869000"/>
            <a:ext cx="936720" cy="936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67280" y="5229360"/>
            <a:ext cx="288720" cy="57600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2205000"/>
            <a:ext cx="2950920" cy="57636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132000" y="1125360"/>
            <a:ext cx="1368720" cy="503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1125360"/>
            <a:ext cx="863280" cy="71928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500720" y="1844640"/>
            <a:ext cx="863280" cy="360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1628640"/>
            <a:ext cx="1368720" cy="576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516720" y="907920"/>
            <a:ext cx="792000" cy="72072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1628640"/>
            <a:ext cx="1871640" cy="57636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08720" y="907920"/>
            <a:ext cx="216000" cy="6494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24720" y="1557360"/>
            <a:ext cx="863640" cy="647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00720" y="2204640"/>
            <a:ext cx="0" cy="716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59280" y="623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Monotype Corsiva"/>
              </a:rPr>
              <a:t>Приглашаем в путешествие!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52400" y="54900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никакие  стороны четырёхугольника не параллельны, то середина отрезка, соединяющего точки пересечения противоположных сторон, лежит на прямой, соединяющей середины диагоналей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Эта прямая называется 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прямой Гаусса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5400000">
            <a:off x="-2511000" y="3094920"/>
            <a:ext cx="6335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ямая Гау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8000" y="11592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1</a:t>
            </a: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22" name="" descr="Gauss line.svg"/>
          <p:cNvPicPr/>
          <p:nvPr/>
        </p:nvPicPr>
        <p:blipFill>
          <a:blip r:embed="rId4"/>
          <a:stretch/>
        </p:blipFill>
        <p:spPr>
          <a:xfrm>
            <a:off x="2556000" y="3645000"/>
            <a:ext cx="4033800" cy="3066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700360" y="6093000"/>
            <a:ext cx="1655640" cy="21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00360" y="4437000"/>
            <a:ext cx="144000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4437000"/>
            <a:ext cx="36036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479736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356000" y="4797360"/>
            <a:ext cx="216000" cy="15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6237360"/>
            <a:ext cx="71280" cy="7308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479736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602136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4437000"/>
            <a:ext cx="71280" cy="71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556000" y="5084280"/>
            <a:ext cx="4032000" cy="505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3860640"/>
            <a:ext cx="1727280" cy="2737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40360" y="4508640"/>
            <a:ext cx="144360" cy="1728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00360" y="4869000"/>
            <a:ext cx="1800360" cy="1224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64000" y="5373720"/>
            <a:ext cx="144360" cy="1429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40360" y="5300640"/>
            <a:ext cx="144360" cy="14436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08720" y="5157720"/>
            <a:ext cx="142920" cy="14292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32000" y="3573360"/>
            <a:ext cx="7345440" cy="32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Иоганн Карл Фри́дрих Га́усс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(нем. Johann Carl Friedrich Gauß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1777,Брауншвейг  —   1855, Гёттинген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Немецкий математик, астроном и   физик,   величайший математик всех времён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король математики»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42" name="" descr="Carl Friedrich Gauss.jpg"/>
          <p:cNvPicPr/>
          <p:nvPr/>
        </p:nvPicPr>
        <p:blipFill>
          <a:blip r:embed="rId4"/>
          <a:stretch/>
        </p:blipFill>
        <p:spPr>
          <a:xfrm>
            <a:off x="4067280" y="836640"/>
            <a:ext cx="1979640" cy="252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547640" y="0"/>
            <a:ext cx="7491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476360" y="1125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 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Вокруг четырехугольника можно описать окружность тогда и только тогда, когда произведение его диагоналей равно сумме произведений его противоположных сторон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500120" y="-360"/>
            <a:ext cx="74916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Зал №1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-2151000" y="3166920"/>
            <a:ext cx="590544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еорема Птолем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2852640"/>
            <a:ext cx="3024360" cy="302436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00536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6360" y="3429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501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8472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5877000"/>
            <a:ext cx="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3141720"/>
            <a:ext cx="2232000" cy="57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3716280"/>
            <a:ext cx="1295280" cy="216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72000" y="5084280"/>
            <a:ext cx="1368360" cy="792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08720" y="3141720"/>
            <a:ext cx="431640" cy="19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3716280"/>
            <a:ext cx="2663640" cy="1368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572000" y="3141720"/>
            <a:ext cx="936720" cy="273528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835280" y="6237360"/>
                <a:ext cx="5976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095640" cy="2239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187280" y="3933720"/>
            <a:ext cx="7740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Клавдий Птолемей,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живший в конце первого — начале второго века н.э.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Древнегреческий ученый  -  астроном, математик, астролог, географ, оптик и теоретик музыки.  . Основной труд Птолемея — “Альмагест”, в котором он изложил сведения по астрономии.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2268360" y="1197000"/>
            <a:ext cx="22813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74916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8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Если вписанный четырёхугольник имеет перпендикулярные диагонали, пересекающиеся в точке M, то прямая, проходящая через точку M и перпендикулярная одной из его сторон, делит противоположную ей сторону пополам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 rot="5400000">
            <a:off x="-2376720" y="3105000"/>
            <a:ext cx="6048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еоре́ма Брахмагу́пты 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36320" y="38606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Формула Брахмагупты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5445000"/>
            <a:ext cx="0" cy="2160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5013360"/>
            <a:ext cx="0" cy="21600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419640" y="5877000"/>
                <a:ext cx="55800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003640" y="4437000"/>
                <a:ext cx="3384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52400" y="115920"/>
            <a:ext cx="749124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00"/>
                </a:solidFill>
                <a:latin typeface="Monotype Corsiva"/>
              </a:rPr>
              <a:t>Зал №1   </a:t>
            </a:r>
            <a:r>
              <a:rPr b="1" i="1" lang="en-US" sz="4400" spc="-1" strike="noStrike">
                <a:solidFill>
                  <a:srgbClr val="333300"/>
                </a:solidFill>
                <a:latin typeface="Monotype Corsiva"/>
              </a:rPr>
              <a:t>Четырёхуголь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43280" y="414972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00"/>
                </a:solidFill>
                <a:latin typeface="Arial"/>
              </a:rPr>
              <a:t>00 0598 - 00 0660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ндийский математик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и астроном Брахмагупта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Основные труды: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Брахма-спхута-сиддханта»  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«Кхандакхадьяка»   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 rot="5400000">
            <a:off x="-2043360" y="3130560"/>
            <a:ext cx="5400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ч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067280" y="620640"/>
            <a:ext cx="22809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5:52:07Z</dcterms:created>
  <dc:creator>Дом 2</dc:creator>
  <dc:description/>
  <dc:language>en-US</dc:language>
  <cp:lastModifiedBy>Мама</cp:lastModifiedBy>
  <dcterms:modified xsi:type="dcterms:W3CDTF">2013-05-05T08:39:52Z</dcterms:modified>
  <cp:revision>18</cp:revision>
  <dc:subject/>
  <dc:title>Слайд 1</dc:title>
</cp:coreProperties>
</file>