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27D-CE94-4291-BE69-7E016DA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21B-EB23-4E83-A121-9B866480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8CC-E1D4-46D3-9166-46A7EE60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DCD-30DC-438C-874A-1CCDA4A4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09B2-CA84-4393-BCF6-ACA61A20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DD66-E13B-4F6C-88DF-16178D1C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9E7F-DA56-43BC-9210-AECE984A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F61-4B4F-477F-9CA5-E3B75A8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4401-F4E4-4811-8986-917F948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FC20-777D-4EE2-8AA8-05F08F4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573A-AE31-43A2-B616-C3CD1CE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0F0-B7E7-4716-B0B2-2D7A0733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FCDF-8859-4306-8E4D-F8C9386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48FF-3051-4F16-8931-A743FF3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78F8-061A-4B78-AA0A-7913684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091-96A4-4486-9F45-DC48CE64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56CF-9656-43B3-84BA-895190AF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FD7D-4556-4851-9575-FE9EF449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8E7C-FDD2-4375-87E1-99B092A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9AD6-C285-416C-AB31-96810C6E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0947-0BFC-413B-BD30-5A732BD1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096C-5F60-4ADC-A9AB-C0285950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FDB-82BE-4E61-B250-E681E5D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6535-D69A-4346-897A-EFE3981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74D5-4189-4F66-A952-238A9BE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620C-6CD9-470F-9E30-F9A44F18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578A8-C0C1-4EB8-B6E1-B306EE0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F063-FA76-418A-82DE-BD2A11AB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9568-654F-427C-8D35-38EC662D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603B-BC5B-4E38-ABAA-610342BD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FC641-9767-4ED1-B775-FDFDE696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1EEA-2C54-4628-90BA-DCDD55FB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7816-2433-49ED-91AC-F582934D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931-2980-44ED-8201-D0287FA7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FBAD6-B9F4-4AF7-9C5D-3CF9058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5D70-CBB0-4593-91CC-4A5DACA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2855-2511-4B13-84AF-6EF3D1DB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8F310-DA2C-47E3-8B94-44A4C52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C1C6-5518-4172-A13E-C139881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F0F7-D86D-43C3-8825-36D7D41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A4983-3604-4492-A5B5-27D10D30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536F-6EA8-4170-AEC6-5AB30E1E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B461-050F-4048-82BC-17E9DBBE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8C02-876F-464C-843E-20E5E0E4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437-44ED-4C79-A898-A5E2F975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400C-FD63-46B0-B85B-965675C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9A9E5-DD8E-430E-AC8F-2144EA4A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B9A7A-2B77-4BD0-AED2-A7479D83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4DF8-AE1E-4C6F-AA5F-F280CBA4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16A7C-879E-4654-B7A1-01F98E90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1FE2-DDB5-43AD-AFE1-F9B03B04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4F7A-B212-46F7-9373-5209A86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BB0F8-6F1F-41F5-8BBD-53DA62E1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B383-00EA-41AC-ACA3-597D16E9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295A-ED70-47F5-8AD6-3CDC8021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ED38-8353-4169-B8DA-9B5018D4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3822-F571-4CC4-9F1A-7E9B6E9A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99C-2DCC-4B8C-A77A-1F8A9272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1E8-6C28-4490-BA20-D75C3E1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47A-101C-40B1-8EC9-374209E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C1AA-5B31-4F37-8B76-943F56CFF9C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902-A353-4D76-895B-948E33259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6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8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3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54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5212-22EC-449B-A91C-6A228BFE82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9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9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0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1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1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1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2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2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2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2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3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2FB0-21E7-4E79-91FB-CC715B7D490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80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6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8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0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2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4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5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6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8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309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310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11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312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313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314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5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6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7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318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19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1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323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4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5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6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7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28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6FBC-DCC9-4BE7-8B18-313CE96B20AA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45840" y="2708280"/>
            <a:ext cx="8497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66"/>
                </a:solidFill>
                <a:latin typeface="Felix Titling"/>
              </a:rPr>
              <a:t>Моцарт</a:t>
            </a:r>
            <a:endParaRPr b="0" lang="en-US" sz="57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Kozuka Gothic Pro H"/>
              </a:rPr>
              <a:t>Попробуем представить себе старый Зальцбург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" descr="D:\Начальная школа\Анимация!\Анимация 1\Животные, птицы\bird5-4.gif"/>
          <p:cNvPicPr/>
          <p:nvPr/>
        </p:nvPicPr>
        <p:blipFill>
          <a:blip r:embed="rId2"/>
          <a:stretch/>
        </p:blipFill>
        <p:spPr>
          <a:xfrm>
            <a:off x="0" y="3860640"/>
            <a:ext cx="1181160" cy="1105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3"/>
          <a:srcRect l="33566" t="25389" r="33145" b="25837"/>
          <a:stretch/>
        </p:blipFill>
        <p:spPr>
          <a:xfrm>
            <a:off x="1403280" y="1700280"/>
            <a:ext cx="6121440" cy="47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8560" y="1916280"/>
            <a:ext cx="761508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8" descr="Интересные факты из жизни Моцарта"/>
          <p:cNvPicPr/>
          <p:nvPr/>
        </p:nvPicPr>
        <p:blipFill>
          <a:blip r:embed="rId1"/>
          <a:stretch/>
        </p:blipFill>
        <p:spPr>
          <a:xfrm>
            <a:off x="395280" y="0"/>
            <a:ext cx="2589120" cy="3456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Интересные факты из жизни Моцарта"/>
          <p:cNvPicPr/>
          <p:nvPr/>
        </p:nvPicPr>
        <p:blipFill>
          <a:blip r:embed="rId2"/>
          <a:stretch/>
        </p:blipFill>
        <p:spPr>
          <a:xfrm>
            <a:off x="6286680" y="3429000"/>
            <a:ext cx="2857320" cy="3429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Интересные факты из жизни Моцарта"/>
          <p:cNvPicPr/>
          <p:nvPr/>
        </p:nvPicPr>
        <p:blipFill>
          <a:blip r:embed="rId3"/>
          <a:stretch/>
        </p:blipFill>
        <p:spPr>
          <a:xfrm>
            <a:off x="2771640" y="476280"/>
            <a:ext cx="395460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olas"/>
              </a:rPr>
              <a:t>Так выглядел клавесин, на котором гениальный Моцарт исполнял свои произве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rcRect l="30835" t="21093" r="30587" b="20620"/>
          <a:stretch/>
        </p:blipFill>
        <p:spPr>
          <a:xfrm>
            <a:off x="1619280" y="2205000"/>
            <a:ext cx="5878440" cy="440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922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1922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1922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3078" fill="hold">
                                          <p:stCondLst>
                                            <p:cond delay="192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rcRect l="26129" t="24341" r="26856" b="24552"/>
          <a:stretch/>
        </p:blipFill>
        <p:spPr>
          <a:xfrm>
            <a:off x="539640" y="189000"/>
            <a:ext cx="7956720" cy="64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rcRect l="19378" t="51850" r="65371" b="30743"/>
          <a:stretch/>
        </p:blipFill>
        <p:spPr>
          <a:xfrm>
            <a:off x="6948360" y="4869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565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Благодарю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006666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2286000" y="2690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«Вечный солнечный свет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в музыке,-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  </a:t>
            </a:r>
            <a:br>
              <a:rPr sz="1800"/>
            </a:br>
            <a:r>
              <a:rPr b="1" i="1" lang="ru-RU" sz="1800" spc="-1" strike="noStrike">
                <a:solidFill>
                  <a:srgbClr val="006699"/>
                </a:solidFill>
                <a:latin typeface="Felix Titling"/>
              </a:rPr>
              <a:t>имя тебе - Моцарт!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8:17:10Z</dcterms:created>
  <dc:creator>Admin</dc:creator>
  <dc:description/>
  <dc:language>en-US</dc:language>
  <cp:lastModifiedBy>Пользователь</cp:lastModifiedBy>
  <dcterms:modified xsi:type="dcterms:W3CDTF">2014-01-21T09:39:42Z</dcterms:modified>
  <cp:revision>10</cp:revision>
  <dc:subject/>
  <dc:title>Слайд 1</dc:title>
</cp:coreProperties>
</file>