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B7B-FA30-406D-BC5A-D143859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B4D-6C35-4F9D-9D66-3F0C63A6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AB9-8D47-4563-B1DF-873AA982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2FE-8B6B-4527-B0D4-45E492FD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085B-62EE-4066-88C9-59DFA456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628-CD7B-4A4A-B289-70548917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135-124F-4B90-BE76-2BED625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5C17-68F0-49E2-9723-1BDD6FB6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A55-0372-442A-91C5-4978AE4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5740-A1A5-47A5-902A-E425CB03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02D6-7BBB-4393-935A-23A01338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CC6-3EFB-48F1-A131-B067D80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C356-86CF-48EC-8B35-1025B7B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B3D0-E1D3-473F-BF51-F16290C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B239-694A-425C-81D9-67E71D4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4495-5E6C-4B1A-B8F4-72F6D15F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CE0A-3EE7-43FC-8D0B-B847F825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FA690-959F-4C9C-A6A8-A5DC536B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88FF-EFCF-46D0-A56D-C253D600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118D-36C8-4061-9341-AF62BAB4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0FB1-B37C-46F9-8AEB-44722FF2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983F-98CC-4375-8EAC-48C4CD7B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9AC-F71B-4A9F-91DA-E9F6304A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1160-DF0D-4267-95C9-78FD04AB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A6FF-1A2D-4CB6-831A-9BAF745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2E82-CB8B-4668-ABC9-9EA3681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5D61-1DA6-41F6-BA38-FCAF133A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17B1-6F73-44B8-974F-D7E3FBB8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A4BE-B23D-400F-98E4-8B354B90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CFF0-2494-43C7-B866-BB522CF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F1DA-3317-4823-8D64-98E1E6CC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9BA6-4013-43B0-8DF0-9C3EFF07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6D70-E60E-4BAB-949D-E474CBEA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2AF-592A-4173-B20F-5A5AE4C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2C0F-9559-4CA2-8937-A1AF0A1E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370F-7643-4402-B5C6-5DE244DC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6AA1-6514-4951-ACC3-209BA6DE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482A-94A5-421E-8C60-BC666EE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9B45C-96A8-4D5C-8801-0F8CF14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AB84-90F1-45CE-ACA6-EB29E8A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F0B9-4DEF-4B88-BFB7-C11C8455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84D4-3568-4E42-B6F1-CACA2605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9C93-40EE-4ADF-92D1-770CB47B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F03A0-15AC-4A98-8B0A-1D85424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7A9-C676-4B6E-99B4-80F6E92E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FACFD-64AD-4F08-942D-688516D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A4F2-3F5F-403C-8C36-64CF870B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2BA1-6AE3-4B91-AC5D-631A46D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6191-88D3-4BA3-B607-E5ACAEFD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628A-9D43-4869-875B-FBEB7042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B9AFD-1EEB-42D0-9AF3-6F350ED1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2697-94C5-4858-AF01-6C73D87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EFB0-A467-4274-BF54-F76DB763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78490-7722-43EC-97D7-3B85026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5792-B0CC-4021-8CCD-16DF7EC5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032-B374-45FB-A929-9A65A76F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BCB5-4ED8-4DAF-A896-004ED3D0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0F3-A711-4C8F-9482-1FAC6EF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ACD-9326-4019-9F93-6AD80965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D4C-D6E1-4771-8BCD-FDC995D0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A489-4F93-41D4-A5C6-4349A4F00F1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0E52-CE9B-4800-B880-02457BFA7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6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FE6-C6DC-4DDC-9E65-CF6BDC41F8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9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9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0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1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1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5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16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7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8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2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2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2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3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7FA9-8F6D-485E-ACF4-EDFE45E0023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8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31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1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31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31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31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1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32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5B6C-0CA1-44E7-8770-87BD5B935C90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5840" y="270828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66"/>
                </a:solidFill>
                <a:latin typeface="Felix Titling"/>
              </a:rPr>
              <a:t>Моцарт</a:t>
            </a:r>
            <a:endParaRPr b="0" lang="en-US" sz="57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Kozuka Gothic Pro H"/>
              </a:rPr>
              <a:t>Попробуем представить себе старый Зальцбург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" descr="D:\Начальная школа\Анимация!\Анимация 1\Животные, птицы\bird5-4.gif"/>
          <p:cNvPicPr/>
          <p:nvPr/>
        </p:nvPicPr>
        <p:blipFill>
          <a:blip r:embed="rId2"/>
          <a:stretch/>
        </p:blipFill>
        <p:spPr>
          <a:xfrm>
            <a:off x="0" y="3860640"/>
            <a:ext cx="1181160" cy="1105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3"/>
          <a:srcRect l="33566" t="25389" r="33145" b="25837"/>
          <a:stretch/>
        </p:blipFill>
        <p:spPr>
          <a:xfrm>
            <a:off x="1403280" y="1700280"/>
            <a:ext cx="6121440" cy="47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8560" y="1916280"/>
            <a:ext cx="761508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28" descr="Интересные факты из жизни Моцарта"/>
          <p:cNvPicPr/>
          <p:nvPr/>
        </p:nvPicPr>
        <p:blipFill>
          <a:blip r:embed="rId1"/>
          <a:stretch/>
        </p:blipFill>
        <p:spPr>
          <a:xfrm>
            <a:off x="395280" y="0"/>
            <a:ext cx="2589120" cy="345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Интересные факты из жизни Моцарта"/>
          <p:cNvPicPr/>
          <p:nvPr/>
        </p:nvPicPr>
        <p:blipFill>
          <a:blip r:embed="rId2"/>
          <a:stretch/>
        </p:blipFill>
        <p:spPr>
          <a:xfrm>
            <a:off x="6286680" y="342900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Интересные факты из жизни Моцарта"/>
          <p:cNvPicPr/>
          <p:nvPr/>
        </p:nvPicPr>
        <p:blipFill>
          <a:blip r:embed="rId3"/>
          <a:stretch/>
        </p:blipFill>
        <p:spPr>
          <a:xfrm>
            <a:off x="2771640" y="476280"/>
            <a:ext cx="395460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olas"/>
              </a:rPr>
              <a:t>Так выглядел клавесин, на котором гениальный Моцарт исполнял свои произве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rcRect l="30835" t="21093" r="30587" b="20620"/>
          <a:stretch/>
        </p:blipFill>
        <p:spPr>
          <a:xfrm>
            <a:off x="1619280" y="2205000"/>
            <a:ext cx="5878440" cy="440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922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1922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1922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1922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rcRect l="26129" t="24341" r="26856" b="24552"/>
          <a:stretch/>
        </p:blipFill>
        <p:spPr>
          <a:xfrm>
            <a:off x="539640" y="189000"/>
            <a:ext cx="795672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rcRect l="19378" t="51850" r="65371" b="30743"/>
          <a:stretch/>
        </p:blipFill>
        <p:spPr>
          <a:xfrm>
            <a:off x="6948360" y="486900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565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Благодарю </a:t>
            </a:r>
            <a:br>
              <a:rPr sz="6000"/>
            </a:b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«Вечный солнечный свет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 в музыке,- </a:t>
            </a: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  </a:t>
            </a: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имя тебе - Моцарт!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8:17:10Z</dcterms:created>
  <dc:creator>Admin</dc:creator>
  <dc:description/>
  <dc:language>en-US</dc:language>
  <cp:lastModifiedBy>Пользователь</cp:lastModifiedBy>
  <dcterms:modified xsi:type="dcterms:W3CDTF">2014-01-21T09:39:42Z</dcterms:modified>
  <cp:revision>10</cp:revision>
  <dc:subject/>
  <dc:title>Слайд 1</dc:title>
</cp:coreProperties>
</file>