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56B-4B79-4E43-96E7-19AA4D64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DBD-8BCB-4703-819D-6026F82F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6B0-6944-450B-A1A5-B305E269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3CB-7EBC-4749-B567-C165B531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F398-38D4-4ED7-9BCC-ACDC9896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3B5D-0570-414A-9759-4C3A132F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D366-96A8-40C4-B695-A7AA4633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BEAA-6AD5-4004-A6C3-F385543F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080B-E170-4041-A2A5-9084657C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C16A-9D76-4298-8C1E-8FC17D6B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DC13-EA6C-4B36-9A6A-790367EC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B62-CC8F-4824-90E6-774FC920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9A00-0A45-4F02-AACD-ACF05186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239D-E015-4A27-B682-F98CBA15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556C-3E65-4099-B25D-D892531C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03D3-5CF0-4B04-A5E7-6192CD0F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74B9-C62E-4505-99FB-F07D208A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9D4BA-31E7-4F99-B8FF-227AAA01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D374-FDDB-47B6-8601-BE7F1E2B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8B10-B71F-42AB-84FF-8D138AF5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043A-2093-41AF-9244-C6BD7755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F7D4-3774-4C9B-A480-221D4C1D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40E-7785-47AA-8B7C-785309AB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83D2-9C93-4879-BE18-EC8B0876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0DAEA-126C-4BA1-93B3-E863BE52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5CA8-0BF5-425A-9529-C3C03009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1B34-CAEC-47E2-96DB-3965BD59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FC6B-5B34-4854-AA9F-C8AA1A04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F84C6-6F73-4F7F-8C87-B695F9D9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2072-2E33-4E59-AFF1-34858689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0D239-0F0B-4C55-8741-D1E02C8B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78328-785D-4891-ACC7-583772D3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1D2F4-8AF4-4FF7-BDC3-F4DE79C8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B4A-4FC4-4A94-9A15-CE8D6708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4F21E-CE14-43B9-8E75-89BFCF5C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7DFCE-3FA0-4171-9309-02D433CF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0DB44-F400-483B-8C63-0100E6B2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8FE6-0B66-47F4-9C21-4096ACB1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DA013-52C8-4609-AA97-7A0375A1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BA6E-22F7-4B8C-AE5B-0EBEBEF9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2A23-F2B1-4813-964B-3980B479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370EA-9CFA-4648-AA0A-9A261D6C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EFF00-6C8B-46F6-9856-764B02BF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76F78-EB67-406F-82B2-ABD5E95D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757-B579-4403-8D24-852ECB4B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9F235-A67E-4765-8514-8FBE974A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028B3-8929-464C-ACAF-4D78B62E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DB714-4E46-4E56-B960-DAC3C56B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F6C43-5CC1-4223-A243-B1925D57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A22CB-8F00-4110-8187-93E7DF99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29391-6D6A-471A-AF68-FDB80CDB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3946-9A4F-4A16-AFD3-D86B3FC4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06721-D899-4F64-AECE-E087EC98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DE72-4D5C-4DD6-BEB3-F8D061C1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FC5DA-5609-400F-858E-A32709A3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DBD-7E76-443F-98A6-9F9119AC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0E517-5FD5-4BEB-8340-98FAA96C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D4B-4272-43B4-A494-3BB1BD5E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BE7-6515-449B-946A-30C42181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870-1E9B-4A67-A4A4-90C31DC3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1BB8-D0C0-4D1F-9378-E151E30A00E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A34E-59D0-4553-AE04-E9E6909AB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26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7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8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2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3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4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931E-8C45-47C8-A302-8CE859BF0E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97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98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9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0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1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2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3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4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05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0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11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12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3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4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5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16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7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8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9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20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1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2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23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24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5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6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27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28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9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0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31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4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6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7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FFB4-BFC2-406B-8C65-3EE7E756900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280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2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4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5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6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8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9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0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1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3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5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6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8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0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2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3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4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5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6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7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8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09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310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11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312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313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314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5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6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7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18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19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0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1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2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323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4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5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6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7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8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AE08-96ED-4A2D-817C-3F20718439D9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5840" y="2708280"/>
            <a:ext cx="8497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006666"/>
                </a:solidFill>
                <a:latin typeface="Felix Titling"/>
              </a:rPr>
              <a:t>Моцарт</a:t>
            </a:r>
            <a:endParaRPr b="0" lang="en-US" sz="57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Kozuka Gothic Pro H"/>
              </a:rPr>
              <a:t>Попробуем представить себе старый Зальцбург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" descr="D:\Начальная школа\Анимация!\Анимация 1\Животные, птицы\bird5-4.gif"/>
          <p:cNvPicPr/>
          <p:nvPr/>
        </p:nvPicPr>
        <p:blipFill>
          <a:blip r:embed="rId2"/>
          <a:stretch/>
        </p:blipFill>
        <p:spPr>
          <a:xfrm>
            <a:off x="0" y="3860640"/>
            <a:ext cx="1181160" cy="1105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3"/>
          <a:srcRect l="33566" t="25389" r="33145" b="25837"/>
          <a:stretch/>
        </p:blipFill>
        <p:spPr>
          <a:xfrm>
            <a:off x="1403280" y="1700280"/>
            <a:ext cx="6121440" cy="47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8560" y="1916280"/>
            <a:ext cx="761508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28" descr="Интересные факты из жизни Моцарта"/>
          <p:cNvPicPr/>
          <p:nvPr/>
        </p:nvPicPr>
        <p:blipFill>
          <a:blip r:embed="rId1"/>
          <a:stretch/>
        </p:blipFill>
        <p:spPr>
          <a:xfrm>
            <a:off x="395280" y="0"/>
            <a:ext cx="2589120" cy="3456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9" descr="Интересные факты из жизни Моцарта"/>
          <p:cNvPicPr/>
          <p:nvPr/>
        </p:nvPicPr>
        <p:blipFill>
          <a:blip r:embed="rId2"/>
          <a:stretch/>
        </p:blipFill>
        <p:spPr>
          <a:xfrm>
            <a:off x="6286680" y="3429000"/>
            <a:ext cx="2857320" cy="3429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0" descr="Интересные факты из жизни Моцарта"/>
          <p:cNvPicPr/>
          <p:nvPr/>
        </p:nvPicPr>
        <p:blipFill>
          <a:blip r:embed="rId3"/>
          <a:stretch/>
        </p:blipFill>
        <p:spPr>
          <a:xfrm>
            <a:off x="2771640" y="476280"/>
            <a:ext cx="395460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olas"/>
              </a:rPr>
              <a:t>Так выглядел клавесин, на котором гениальный Моцарт исполнял свои произвед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rcRect l="30835" t="21093" r="30587" b="20620"/>
          <a:stretch/>
        </p:blipFill>
        <p:spPr>
          <a:xfrm>
            <a:off x="1619280" y="2205000"/>
            <a:ext cx="5878440" cy="440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922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1922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3078" fill="hold">
                                          <p:stCondLst>
                                            <p:cond delay="192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1922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3078" fill="hold">
                                          <p:stCondLst>
                                            <p:cond delay="192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1922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3078" fill="hold">
                                          <p:stCondLst>
                                            <p:cond delay="192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rcRect l="26129" t="24341" r="26856" b="24552"/>
          <a:stretch/>
        </p:blipFill>
        <p:spPr>
          <a:xfrm>
            <a:off x="539640" y="189000"/>
            <a:ext cx="795672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"/>
          <p:cNvPicPr/>
          <p:nvPr/>
        </p:nvPicPr>
        <p:blipFill>
          <a:blip r:embed="rId1"/>
          <a:srcRect l="19378" t="51850" r="65371" b="30743"/>
          <a:stretch/>
        </p:blipFill>
        <p:spPr>
          <a:xfrm>
            <a:off x="6948360" y="4869000"/>
            <a:ext cx="1871640" cy="15843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565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Благодарю </a:t>
            </a:r>
            <a:br>
              <a:rPr sz="6000"/>
            </a:b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за </a:t>
            </a:r>
            <a:br>
              <a:rPr sz="6000"/>
            </a:b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Felix Titling"/>
              </a:rPr>
              <a:t>«Вечный солнечный свет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6699"/>
                </a:solidFill>
                <a:latin typeface="Felix Titling"/>
              </a:rPr>
              <a:t> в музыке,- </a:t>
            </a:r>
            <a:br>
              <a:rPr sz="1800"/>
            </a:br>
            <a:r>
              <a:rPr b="1" i="1" lang="ru-RU" sz="1800" spc="-1" strike="noStrike">
                <a:solidFill>
                  <a:srgbClr val="006699"/>
                </a:solidFill>
                <a:latin typeface="Felix Titling"/>
              </a:rPr>
              <a:t>  </a:t>
            </a:r>
            <a:br>
              <a:rPr sz="1800"/>
            </a:br>
            <a:r>
              <a:rPr b="1" i="1" lang="ru-RU" sz="1800" spc="-1" strike="noStrike">
                <a:solidFill>
                  <a:srgbClr val="006699"/>
                </a:solidFill>
                <a:latin typeface="Felix Titling"/>
              </a:rPr>
              <a:t>имя тебе - Моцарт!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8:17:10Z</dcterms:created>
  <dc:creator>Admin</dc:creator>
  <dc:description/>
  <dc:language>en-US</dc:language>
  <cp:lastModifiedBy>Пользователь</cp:lastModifiedBy>
  <dcterms:modified xsi:type="dcterms:W3CDTF">2014-01-21T09:39:42Z</dcterms:modified>
  <cp:revision>10</cp:revision>
  <dc:subject/>
  <dc:title>Слайд 1</dc:title>
</cp:coreProperties>
</file>