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jpeg" ContentType="image/jpe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91E-6D0F-47F8-AF27-7C8B3666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37E-7516-4D26-B125-9A237BB8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0E5-3451-4012-868E-C1FDF388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B7C-43A8-41CC-AD87-612BAAA0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AF9-1918-4C31-8362-11BF9F7B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188-A1C8-447B-AD70-621EBF0E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5CE-6C42-4CAD-8E67-D38508EE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0BE-DD51-441F-A535-C8297CBA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E3A-3FC5-475E-AF4D-B3893BA9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C73-22EE-4AEC-B5CC-E3D3D99B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75A-70F9-49FF-8F45-556C8DD6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DBA-1E3C-48CC-BEED-B62AD67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C342-6CBD-4A5C-BC39-5EBE5D8AE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066680" y="11563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Многогранники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000"/>
            </a:b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в </a:t>
            </a:r>
            <a:br>
              <a:rPr sz="6600"/>
            </a:b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архитектур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24680" y="-174348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3097440" cy="3353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4461120" cy="3284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81480" y="533520"/>
            <a:ext cx="33530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895480" cy="2108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666880" y="1752480"/>
            <a:ext cx="2286000" cy="16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00600" y="3124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3336840" cy="2503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562720" y="5335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14600" y="152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Monotype Corsiva"/>
              </a:rPr>
              <a:t>М а к е т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Monotype Corsiva"/>
              </a:rPr>
              <a:t>Доисторическая  архите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3829320" cy="185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1219320"/>
            <a:ext cx="3828960" cy="226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876920" y="1295280"/>
            <a:ext cx="3828960" cy="2076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581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Менг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42320" y="344016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Дольм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248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Кромл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533520"/>
            <a:ext cx="78483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Три великих государства древности оказали наибольшее влияние на развитие европейской культуры - Египет, Греция, Р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«Мерой всех вещей» и наибольшей ц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в Египте был б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в Греции – 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в  Риме – госуда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И архитектура послушно отразила э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Египетские строения возвышали бог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греческие –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римские – центральную вл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0" t="0" r="-2193" b="17948"/>
          <a:stretch/>
        </p:blipFill>
        <p:spPr>
          <a:xfrm>
            <a:off x="838080" y="838080"/>
            <a:ext cx="2732040" cy="312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52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Monotype Corsiva"/>
              </a:rPr>
              <a:t>Древний  Егип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Пирамида Лув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257800" y="3352680"/>
            <a:ext cx="3505320" cy="308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19720" y="838080"/>
            <a:ext cx="309384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29200" y="228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Monotype Corsiva"/>
              </a:rPr>
              <a:t>Пирамиды  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Древняя Гр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642000" cy="521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8120" y="6278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Monotype Corsiva"/>
              </a:rPr>
              <a:t>Афинский Акроп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8292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124080" y="6858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Monotype Corsiva"/>
              </a:rPr>
              <a:t>Парфен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2152440" cy="186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895480" y="1371600"/>
            <a:ext cx="209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Древний   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971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Monotype Corsiva"/>
              </a:rPr>
              <a:t>Коли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4191120"/>
            <a:ext cx="228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Monotype Corsiva"/>
              </a:rPr>
              <a:t>Купол  Панте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095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Monotype Corsiva"/>
              </a:rPr>
              <a:t>Акве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048120" y="4572000"/>
            <a:ext cx="188748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715000" y="1676520"/>
            <a:ext cx="252576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15000" y="5181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Monotype Corsiva"/>
              </a:rPr>
              <a:t>Триумфальная 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Дома, которые нас уди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156024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190476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09880" y="990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676520" y="3657600"/>
            <a:ext cx="2255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па</cp:lastModifiedBy>
  <dcterms:modified xsi:type="dcterms:W3CDTF">2010-01-25T19:00:5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