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C41-0B44-4F5D-B5DB-5DB867AA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E49-2838-439B-9DBB-D9B66922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2FE-BC10-4463-80D1-EE31BE98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443-F37F-48E2-8C2E-E5ECD104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5BD-CF7D-417B-B091-89E3624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0F5-F295-4569-8D2F-2DC210BF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61D-3FAB-4071-96BC-2462B5EE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176-30B4-4014-8438-81B74E01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5A7-7DAE-4115-AE31-0287709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23A-6B5B-4D49-AC88-057AA5E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539-3AB1-4DD1-A611-761F38D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746-65E0-4F53-8A43-BC4672D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C61-AE3D-4099-BC4A-6414CD28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066680" y="11563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в </a:t>
            </a:r>
            <a:br>
              <a:rPr sz="6600"/>
            </a:b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архитектур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24680" y="-17434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097440" cy="335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46112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1480" y="533520"/>
            <a:ext cx="3353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66880" y="1752480"/>
            <a:ext cx="2286000" cy="16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62720" y="533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М а к е т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Monotype Corsiva"/>
              </a:rPr>
              <a:t>Доисторическая  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82932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382896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76920" y="1295280"/>
            <a:ext cx="3828960" cy="2076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58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Менг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42320" y="344016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Доль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248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Кромл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848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Три великих государства древности оказали наибольшее влияние на развитие европейской культуры - Египет, Греция, Р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«Мерой всех вещей» и наибольшей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Египте был б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Греции –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 Риме –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И архитектура послушно отразила э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Египетские строения возвышали бог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греческие –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римские – центральную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0" t="0" r="-2193" b="17948"/>
          <a:stretch/>
        </p:blipFill>
        <p:spPr>
          <a:xfrm>
            <a:off x="838080" y="8380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52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Monotype Corsiva"/>
              </a:rPr>
              <a:t>Древний 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Пирамида Лув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3505320" cy="308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19720" y="838080"/>
            <a:ext cx="309384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9200" y="228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Пирамиды 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яя 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42000" cy="521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812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Афинский Акроп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8292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4080" y="685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Парф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152440" cy="186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209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ий  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оли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1911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упол  Панте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Акве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048120" y="457200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715000" y="1676520"/>
            <a:ext cx="25257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5181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ома, которые нас уди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5602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9880" y="99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225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0-01-25T19:00:5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