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jpeg" ContentType="image/jpeg"/>
  <Override PartName="/ppt/media/image21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6CA-C878-4780-AF3D-E491E8A4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82FF-D23F-4818-B7B0-754F64E7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15D-EFD4-46BF-AA88-EDF91D7E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7B7-64C7-420A-9167-9931B206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94F-454F-403A-8530-1D8C6833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26E-D157-4BF4-93AA-9B864F05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C0D-7022-4DEA-A5B0-FAF5CFF1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52A2-7902-4461-919B-B96817DC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B976-514A-4D29-8D27-B8724C2B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1612-6288-450D-8740-1795867D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B25-0A98-49EC-98D2-32288CD4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8B6-7EB8-4730-946B-70BB8D54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B431-1829-4664-8A68-A1CE5EF0B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066680" y="11563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Monotype Corsiva"/>
              </a:rPr>
              <a:t>Многогранники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4000"/>
            </a:b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в </a:t>
            </a:r>
            <a:br>
              <a:rPr sz="6600"/>
            </a:br>
            <a:r>
              <a:rPr b="0" lang="en-US" sz="8000" spc="-1" strike="noStrike">
                <a:solidFill>
                  <a:srgbClr val="000000"/>
                </a:solidFill>
                <a:latin typeface="Monotype Corsiva"/>
              </a:rPr>
              <a:t>архитектур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924680" y="-1743480"/>
            <a:ext cx="7632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81480" y="3124080"/>
            <a:ext cx="3097440" cy="3353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4461120" cy="3284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181480" y="533520"/>
            <a:ext cx="335304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895480" cy="2108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666880" y="1752480"/>
            <a:ext cx="2286000" cy="16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800600" y="3124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57200" y="3809880"/>
            <a:ext cx="3336840" cy="2503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562720" y="5335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14600" y="152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Monotype Corsiva"/>
              </a:rPr>
              <a:t>М а к е т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Monotype Corsiva"/>
              </a:rPr>
              <a:t>Доисторическая  архите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95480" y="4267080"/>
            <a:ext cx="3829320" cy="1857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1219320"/>
            <a:ext cx="3828960" cy="226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876920" y="1295280"/>
            <a:ext cx="3828960" cy="2076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5812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Менги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42320" y="344016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Дольм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6248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Кромл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533520"/>
            <a:ext cx="784836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Три великих государства древности оказали наибольшее влияние на развитие европейской культуры - Египет, Греция, Р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«Мерой всех вещей» и наибольшей це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в Египте был бо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в Греции – челов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в  Риме – государ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И архитектура послушно отразила э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Египетские строения возвышали бог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греческие – люд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римские – центральную вл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76920" y="7621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971800" y="3733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rcRect l="0" t="0" r="-2193" b="17948"/>
          <a:stretch/>
        </p:blipFill>
        <p:spPr>
          <a:xfrm>
            <a:off x="838080" y="838080"/>
            <a:ext cx="2732040" cy="3124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152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Monotype Corsiva"/>
              </a:rPr>
              <a:t>Древний  Егип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Monotype Corsiva"/>
              </a:rPr>
              <a:t>Пирамида Лув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257800" y="3352680"/>
            <a:ext cx="3505320" cy="308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419720" y="838080"/>
            <a:ext cx="309384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29200" y="228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Monotype Corsiva"/>
              </a:rPr>
              <a:t>Пирамиды  в Моск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Monotype Corsiva"/>
              </a:rPr>
              <a:t>Древняя Гре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642000" cy="521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8120" y="6278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Monotype Corsiva"/>
              </a:rPr>
              <a:t>Афинский Акроп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38292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124080" y="6858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Monotype Corsiva"/>
              </a:rPr>
              <a:t>Парфен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2152440" cy="1865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895480" y="1371600"/>
            <a:ext cx="209232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Monotype Corsiva"/>
              </a:rPr>
              <a:t>Древний   Р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971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Monotype Corsiva"/>
              </a:rPr>
              <a:t>Коли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4191120"/>
            <a:ext cx="228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Monotype Corsiva"/>
              </a:rPr>
              <a:t>Купол  Панте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6095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Monotype Corsiva"/>
              </a:rPr>
              <a:t>Аквед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048120" y="4572000"/>
            <a:ext cx="1887480" cy="2057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715000" y="1676520"/>
            <a:ext cx="2525760" cy="3124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715000" y="51814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Monotype Corsiva"/>
              </a:rPr>
              <a:t>Триумфальная а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228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50021"/>
                </a:solidFill>
                <a:latin typeface="Monotype Corsiva"/>
              </a:rPr>
              <a:t>Дома, которые нас удив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156024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105520" y="3429000"/>
            <a:ext cx="190476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809880" y="9907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676520" y="3657600"/>
            <a:ext cx="2255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апа</cp:lastModifiedBy>
  <dcterms:modified xsi:type="dcterms:W3CDTF">2010-01-25T19:00:5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