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62C-AF3D-404A-B1A0-6DB0F9FA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F1B-DC58-4DA7-AF44-E8EFE1EF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12D-097F-4383-9D86-48C1112F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40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40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3A8-BEA9-4238-B4F5-F7F03EBC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084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670-E3B1-4BAF-96BB-30444E40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940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3712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168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940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3712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108-6FB9-4226-8DC6-EDE2777E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A90-F0D8-4E35-8362-926A666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3DC-3B53-448A-B560-8ED3D661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084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E31-406F-41FA-A3BF-BF649D85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977-4CD2-4343-BF19-E006159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F65-F067-4C76-9882-1758A36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F2C-AC8A-48D2-83A3-5633FA0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82F6B-B9DF-4926-84A1-81422B68F03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ultiring.ru/course/biology/content/scientist/buffon.html" TargetMode="External"/><Relationship Id="rId2" Type="http://schemas.openxmlformats.org/officeDocument/2006/relationships/hyperlink" Target="http://multiring.ru/course/biology/content/scientist/buffon.html" TargetMode="External"/><Relationship Id="rId3" Type="http://schemas.openxmlformats.org/officeDocument/2006/relationships/hyperlink" Target="http://multiring.ru/course/biology/content/scientist/buffon.html" TargetMode="External"/><Relationship Id="rId4" Type="http://schemas.openxmlformats.org/officeDocument/2006/relationships/hyperlink" Target="http://multiring.ru/course/biology/content/scientist/buffon.html" TargetMode="External"/><Relationship Id="rId5" Type="http://schemas.openxmlformats.org/officeDocument/2006/relationships/hyperlink" Target="http://multiring.ru/course/biology/content/scientist/buffon.html" TargetMode="External"/><Relationship Id="rId6" Type="http://schemas.openxmlformats.org/officeDocument/2006/relationships/hyperlink" Target="http://multiring.ru/course/biology/content/scientist/buffon.html" TargetMode="External"/><Relationship Id="rId7" Type="http://schemas.openxmlformats.org/officeDocument/2006/relationships/hyperlink" Target="http://multiring.ru/course/biology/content/scientist/buffon.html" TargetMode="External"/><Relationship Id="rId8" Type="http://schemas.openxmlformats.org/officeDocument/2006/relationships/hyperlink" Target="http://multiring.ru/course/biology/content/scientist/buffon.html" TargetMode="External"/><Relationship Id="rId9" Type="http://schemas.openxmlformats.org/officeDocument/2006/relationships/hyperlink" Target="http://multiring.ru/course/biology/content/scientist/buffon.html" TargetMode="External"/><Relationship Id="rId10" Type="http://schemas.openxmlformats.org/officeDocument/2006/relationships/hyperlink" Target="http://multiring.ru/course/biology/content/scientist/buffon.html" TargetMode="External"/><Relationship Id="rId11" Type="http://schemas.openxmlformats.org/officeDocument/2006/relationships/hyperlink" Target="http://multiring.ru/course/biology/content/scientist/buffon.html" TargetMode="External"/><Relationship Id="rId12" Type="http://schemas.openxmlformats.org/officeDocument/2006/relationships/hyperlink" Target="http://multiring.ru/course/biology/content/scientist/buffon.html" TargetMode="External"/><Relationship Id="rId13" Type="http://schemas.openxmlformats.org/officeDocument/2006/relationships/hyperlink" Target="http://multiring.ru/course/biology/content/scientist/buffon.html" TargetMode="External"/><Relationship Id="rId14" Type="http://schemas.openxmlformats.org/officeDocument/2006/relationships/hyperlink" Target="http://icite.ru/988/citaty/laroshfuko_fransua_de/visshaya_khrabrost_eto_sdelat" TargetMode="External"/><Relationship Id="rId15" Type="http://schemas.openxmlformats.org/officeDocument/2006/relationships/hyperlink" Target="http://icite.ru/988/citaty/laroshfuko_fransua_de/visshaya_khrabrost_eto_sdelat" TargetMode="External"/><Relationship Id="rId16" Type="http://schemas.openxmlformats.org/officeDocument/2006/relationships/hyperlink" Target="http://icite.ru/988/citaty/laroshfuko_fransua_de/visshaya_khrabrost_eto_sdelat" TargetMode="External"/><Relationship Id="rId17" Type="http://schemas.openxmlformats.org/officeDocument/2006/relationships/hyperlink" Target="http://icite.ru/988/citaty/laroshfuko_fransua_de/visshaya_khrabrost_eto_sdelat" TargetMode="External"/><Relationship Id="rId18" Type="http://schemas.openxmlformats.org/officeDocument/2006/relationships/hyperlink" Target="http://icite.ru/988/citaty/laroshfuko_fransua_de/visshaya_khrabrost_eto_sdelat" TargetMode="External"/><Relationship Id="rId19" Type="http://schemas.openxmlformats.org/officeDocument/2006/relationships/hyperlink" Target="http://icite.ru/988/citaty/laroshfuko_fransua_de/visshaya_khrabrost_eto_sdelat" TargetMode="External"/><Relationship Id="rId20" Type="http://schemas.openxmlformats.org/officeDocument/2006/relationships/hyperlink" Target="http://icite.ru/988/citaty/laroshfuko_fransua_de/visshaya_khrabrost_eto_sdelat" TargetMode="External"/><Relationship Id="rId21" Type="http://schemas.openxmlformats.org/officeDocument/2006/relationships/hyperlink" Target="http://icite.ru/988/citaty/laroshfuko_fransua_de/visshaya_khrabrost_eto_sdelat" TargetMode="External"/><Relationship Id="rId22" Type="http://schemas.openxmlformats.org/officeDocument/2006/relationships/hyperlink" Target="http://icite.ru/988/citaty/laroshfuko_fransua_de/visshaya_khrabrost_eto_sdelat" TargetMode="External"/><Relationship Id="rId23" Type="http://schemas.openxmlformats.org/officeDocument/2006/relationships/hyperlink" Target="http://www.help-rus-student.ru/pictures_fail/49/092_1.htm" TargetMode="External"/><Relationship Id="rId24" Type="http://schemas.openxmlformats.org/officeDocument/2006/relationships/hyperlink" Target="http://www.help-rus-student.ru/pictures_fail/49/092_1.htm" TargetMode="External"/><Relationship Id="rId25" Type="http://schemas.openxmlformats.org/officeDocument/2006/relationships/hyperlink" Target="http://www.help-rus-student.ru/pictures_fail/49/092_1.htm" TargetMode="External"/><Relationship Id="rId26" Type="http://schemas.openxmlformats.org/officeDocument/2006/relationships/hyperlink" Target="http://www.help-rus-student.ru/pictures_fail/49/092_1.htm" TargetMode="External"/><Relationship Id="rId27" Type="http://schemas.openxmlformats.org/officeDocument/2006/relationships/hyperlink" Target="http://www.help-rus-student.ru/pictures_fail/49/092_1.htm" TargetMode="External"/><Relationship Id="rId28" Type="http://schemas.openxmlformats.org/officeDocument/2006/relationships/hyperlink" Target="http://www.help-rus-student.ru/pictures_fail/49/092_1.htm" TargetMode="External"/><Relationship Id="rId2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280" y="1618920"/>
            <a:ext cx="78087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Общешкольный конкурс</a:t>
            </a:r>
            <a:br>
              <a:rPr sz="4000"/>
            </a:b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«Минута славы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4319280"/>
            <a:ext cx="914400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Учитель музыки 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ГБСКОУ школы №13 Приморского района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г. Санкт-Петербурга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Назарова Наталья Анатольевн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720" y="107964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Первое и последнее, требуемое от гения, - это истинность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3940200"/>
            <a:ext cx="780444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Иоганн Вольфганг фон Гёте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 algn="r">
              <a:lnSpc>
                <a:spcPct val="95000"/>
              </a:lnSpc>
              <a:spcAft>
                <a:spcPts val="1287"/>
              </a:spcAft>
              <a:buClr>
                <a:srgbClr val="ffffff"/>
              </a:buClr>
              <a:buFont typeface="Segoe Script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емецкий государственный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 </a:t>
            </a: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деятель, мыслитель и естествоиспытатель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90000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...ошибочное направление губит самый сильный талант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80408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иколай Гаврилович Чернышевский – русский ученый, литературный критик, писатель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Секрет гения - это работа, настойчивость и здравый смысл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15920" y="3476160"/>
            <a:ext cx="780408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Томас Алва Эдисон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мериканский изобретатель и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предприниматель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Большой талант всегда сопровождает великодушное сердц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15920" y="3758760"/>
            <a:ext cx="780408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Теофиль Готье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знаменитый французский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поэт и критик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6640" y="1682280"/>
            <a:ext cx="78040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Талант работает, гений творит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15920" y="3760560"/>
            <a:ext cx="78040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Роберт Шуман-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емецкий композитор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262080"/>
            <a:ext cx="8964720" cy="71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лайд №5. Портрет Жоржа Луи Леклерка Бюф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multiring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course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biology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content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scientist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3"/>
              </a:rPr>
              <a:t>buff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6. Портрет Франсуа де Ларошфу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4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5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6"/>
              </a:rPr>
              <a:t>icite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7"/>
              </a:rPr>
              <a:t>/988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8"/>
              </a:rPr>
              <a:t>citaty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9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0"/>
              </a:rPr>
              <a:t>laroshfuko_fransua_de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1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2"/>
              </a:rPr>
              <a:t>visshaya_khrabrost_eto_sdel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7. Портрет Жюля Миш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3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4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5"/>
              </a:rPr>
              <a:t>www.help-rus-student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7"/>
              </a:rPr>
              <a:t>pictures_fail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8"/>
              </a:rPr>
              <a:t>/49/092_1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8. Портрет К.С.Станислав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old.amur.info/news/2008/01/17/8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9. Портрет Артура Шопенгауэ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lichnosti.ucoz.ru/publ/khimiki/filosofy/artur_shopengauehr/9-1-0-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0. Портрет Иоганна Вольфганга Г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900igr.net/fotografii/literatura/Iogann-Volfgang-Gjote/001-Gjote-iogann-volfgang-f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1. Портрет Н.Г.Чернышев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ua.coolreferat.com/%D0%A7%D0%B5%D1%80%D0%BD%D1%8B%D1%88%D0%B5%D0%B2%D1%81%D0%BA%D0%B8%D0%B9_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2. Портрет Томаса Алва Эдис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photo.peoples.ru/technics/designer/tomas_edison/1.s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3. Портрет Теофиль Готь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labazov.livejournal.com/1319039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4. Портрет Роберта Шум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intoclassics.net/news/2011-10-06-253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3780000"/>
            <a:ext cx="7772400" cy="27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лучших исполнителей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 различных сценических жанров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19280" y="539640"/>
            <a:ext cx="6840360" cy="27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инута слав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0000" y="3959280"/>
            <a:ext cx="7380000" cy="1619280"/>
          </a:xfrm>
          <a:prstGeom prst="rect">
            <a:avLst/>
          </a:pr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Способ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519280"/>
            <a:ext cx="5040360" cy="1440000"/>
          </a:xfrm>
          <a:prstGeom prst="rect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Тал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440000"/>
            <a:ext cx="1979280" cy="1079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Г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3780000"/>
            <a:ext cx="7772400" cy="27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лучших исполнителей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 различных сценических жанров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19280" y="539640"/>
            <a:ext cx="6840360" cy="27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инута слав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560" y="114300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Гений есть не что иное, как дар огромного терпения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720" y="4319280"/>
            <a:ext cx="78040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Жорж Луи Леклерк Бюффон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(1707-1788, Франция) 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биолог-энциклопедист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560" y="1143000"/>
            <a:ext cx="7804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Гений есть не что иное, как дар огромного терпен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233960"/>
            <a:ext cx="19796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7804080" cy="28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Мало обладать выдающимися качествами, надо еще уметь ими пользоватьс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4282560"/>
            <a:ext cx="780444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суа де  Ларошфуко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Герцог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цузский писатель-моралист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560" y="1440000"/>
            <a:ext cx="7804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150336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Возвыситься нетрудно; трудно остаться при этом самим собой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4680000"/>
            <a:ext cx="780408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Жюль Мишле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цузский историк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и публицист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19796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720" y="96372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Искренность и простота - дорогие свойства талант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3644640"/>
            <a:ext cx="780444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Константин Сергеевич Станиславский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русский театральный режиссёр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ктёр и преподаватель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720" y="12128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Каждый ребенок отчасти гений, а каждый гений отчасти ребено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6640" y="5040360"/>
            <a:ext cx="780408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ртур Шопенгауэр –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илосов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20:31Z</dcterms:created>
  <dc:creator>Ирина</dc:creator>
  <dc:description/>
  <dc:language>en-US</dc:language>
  <cp:lastModifiedBy>Мама</cp:lastModifiedBy>
  <dcterms:modified xsi:type="dcterms:W3CDTF">2013-06-01T06:38:21Z</dcterms:modified>
  <cp:revision>6</cp:revision>
  <dc:subject/>
  <dc:title>Слайд 1</dc:title>
</cp:coreProperties>
</file>