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FCE7-CA5B-474E-864B-B2EF6D3F2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084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78008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1680" y="4157640"/>
            <a:ext cx="78008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BF72-DE3B-4EAE-AE94-F36B79B4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084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6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9120" y="1904760"/>
            <a:ext cx="3806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1680" y="4157640"/>
            <a:ext cx="3806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9120" y="4157640"/>
            <a:ext cx="3806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149A-1C95-4EE9-A181-188722E75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084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25117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9400" y="1904760"/>
            <a:ext cx="25117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7120" y="1904760"/>
            <a:ext cx="25117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61680" y="4157640"/>
            <a:ext cx="25117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9400" y="4157640"/>
            <a:ext cx="25117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7120" y="4157640"/>
            <a:ext cx="25117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F511-EC87-43BE-B21C-AE22E5C07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084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61680" y="1904760"/>
            <a:ext cx="78008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084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78008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084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66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9120" y="1904760"/>
            <a:ext cx="38066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084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61680" y="579240"/>
            <a:ext cx="780084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084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6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9120" y="1904760"/>
            <a:ext cx="38066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61680" y="4157640"/>
            <a:ext cx="3806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084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61680" y="1904760"/>
            <a:ext cx="78008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EBCE-842D-4F08-BF15-C784ABE0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084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66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9120" y="1904760"/>
            <a:ext cx="3806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59120" y="4157640"/>
            <a:ext cx="3806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084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6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9120" y="1904760"/>
            <a:ext cx="3806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1680" y="4157640"/>
            <a:ext cx="78008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084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78008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61680" y="4157640"/>
            <a:ext cx="78008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084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6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9120" y="1904760"/>
            <a:ext cx="3806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1680" y="4157640"/>
            <a:ext cx="3806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59120" y="4157640"/>
            <a:ext cx="3806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084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25117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99400" y="1904760"/>
            <a:ext cx="25117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37120" y="1904760"/>
            <a:ext cx="25117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61680" y="4157640"/>
            <a:ext cx="25117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99400" y="4157640"/>
            <a:ext cx="25117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37120" y="4157640"/>
            <a:ext cx="25117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084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78008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E7AB-7E61-47A1-B32A-91E2302E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084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66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9120" y="1904760"/>
            <a:ext cx="38066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F128-373A-4823-A36C-6A142A9C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084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D0AD-D7EA-4006-9D6F-201F3F35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1680" y="579240"/>
            <a:ext cx="780084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9B38-F753-444B-A864-5F8B78A9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084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6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9120" y="1904760"/>
            <a:ext cx="38066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1680" y="4157640"/>
            <a:ext cx="3806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2A88-C21C-4D76-A9FE-8D57D968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084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66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9120" y="1904760"/>
            <a:ext cx="3806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9120" y="4157640"/>
            <a:ext cx="3806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47BA-84B3-4D25-BF7C-B5AEE507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084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6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9120" y="1904760"/>
            <a:ext cx="3806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1680" y="4157640"/>
            <a:ext cx="78008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5491-E739-42B5-BBB5-E2225588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8472C2-EADB-4DA9-A17C-96C4C2225B22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gradFill rotWithShape="0">
            <a:gsLst>
              <a:gs pos="0">
                <a:srgbClr val="eb613d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084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61680" y="1904760"/>
            <a:ext cx="78008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1373040" cy="6858000"/>
          </a:xfrm>
          <a:custGeom>
            <a:avLst/>
            <a:gdLst>
              <a:gd name="textAreaLeft" fmla="*/ 360 w 1373040"/>
              <a:gd name="textAreaRight" fmla="*/ 1372680 w 1373040"/>
              <a:gd name="textAreaTop" fmla="*/ 360 h 6858000"/>
              <a:gd name="textAreaBottom" fmla="*/ 6857640 h 6858000"/>
            </a:gdLst>
            <a:ahLst/>
            <a:rect l="textAreaLeft" t="textAreaTop" r="textAreaRight" b="textAreaBottom"/>
            <a:pathLst>
              <a:path w="21600" h="107864">
                <a:moveTo>
                  <a:pt x="25" y="0"/>
                </a:moveTo>
                <a:arcTo wR="25" hR="25" stAng="16200000" swAng="-5400000"/>
                <a:lnTo>
                  <a:pt x="0" y="107839"/>
                </a:lnTo>
                <a:arcTo wR="25" hR="25" stAng="10800000" swAng="-5400000"/>
                <a:lnTo>
                  <a:pt x="21575" y="107864"/>
                </a:lnTo>
                <a:arcTo wR="25" hR="25" stAng="5400000" swAng="-5400000"/>
                <a:lnTo>
                  <a:pt x="21600" y="25"/>
                </a:lnTo>
                <a:arcTo wR="25" hR="25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84200" y="0"/>
            <a:ext cx="34920" cy="6858000"/>
          </a:xfrm>
          <a:custGeom>
            <a:avLst/>
            <a:gdLst>
              <a:gd name="textAreaLeft" fmla="*/ 360 w 34920"/>
              <a:gd name="textAreaRight" fmla="*/ 34560 w 34920"/>
              <a:gd name="textAreaTop" fmla="*/ 360 h 6858000"/>
              <a:gd name="textAreaBottom" fmla="*/ 6857640 h 6858000"/>
            </a:gdLst>
            <a:ahLst/>
            <a:rect l="textAreaLeft" t="textAreaTop" r="textAreaRight" b="textAreaBottom"/>
            <a:pathLst>
              <a:path w="21600" h="4198996">
                <a:moveTo>
                  <a:pt x="981" y="0"/>
                </a:moveTo>
                <a:arcTo wR="981" hR="981" stAng="16200000" swAng="-5400000"/>
                <a:lnTo>
                  <a:pt x="0" y="4198015"/>
                </a:lnTo>
                <a:arcTo wR="981" hR="981" stAng="10800000" swAng="-5400000"/>
                <a:lnTo>
                  <a:pt x="20619" y="4198996"/>
                </a:lnTo>
                <a:arcTo wR="981" hR="981" stAng="5400000" swAng="-5400000"/>
                <a:lnTo>
                  <a:pt x="21600" y="981"/>
                </a:lnTo>
                <a:arcTo wR="981" hR="981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445520" y="6781680"/>
            <a:ext cx="544320" cy="7632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445520" y="6651720"/>
            <a:ext cx="544320" cy="7128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45520" y="6508800"/>
            <a:ext cx="544320" cy="7632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445520" y="6380280"/>
            <a:ext cx="544320" cy="7128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445520" y="6237360"/>
            <a:ext cx="544320" cy="759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45520" y="6107040"/>
            <a:ext cx="544320" cy="7164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107200" y="6781680"/>
            <a:ext cx="544680" cy="7632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107200" y="6651720"/>
            <a:ext cx="544680" cy="7128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107200" y="6508800"/>
            <a:ext cx="544680" cy="7632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107200" y="6380280"/>
            <a:ext cx="544680" cy="7128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107200" y="6237360"/>
            <a:ext cx="544680" cy="759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107200" y="6107040"/>
            <a:ext cx="544680" cy="7164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multiring.ru/course/biology/content/scientist/buffon.html" TargetMode="External"/><Relationship Id="rId2" Type="http://schemas.openxmlformats.org/officeDocument/2006/relationships/hyperlink" Target="http://multiring.ru/course/biology/content/scientist/buffon.html" TargetMode="External"/><Relationship Id="rId3" Type="http://schemas.openxmlformats.org/officeDocument/2006/relationships/hyperlink" Target="http://multiring.ru/course/biology/content/scientist/buffon.html" TargetMode="External"/><Relationship Id="rId4" Type="http://schemas.openxmlformats.org/officeDocument/2006/relationships/hyperlink" Target="http://multiring.ru/course/biology/content/scientist/buffon.html" TargetMode="External"/><Relationship Id="rId5" Type="http://schemas.openxmlformats.org/officeDocument/2006/relationships/hyperlink" Target="http://multiring.ru/course/biology/content/scientist/buffon.html" TargetMode="External"/><Relationship Id="rId6" Type="http://schemas.openxmlformats.org/officeDocument/2006/relationships/hyperlink" Target="http://multiring.ru/course/biology/content/scientist/buffon.html" TargetMode="External"/><Relationship Id="rId7" Type="http://schemas.openxmlformats.org/officeDocument/2006/relationships/hyperlink" Target="http://multiring.ru/course/biology/content/scientist/buffon.html" TargetMode="External"/><Relationship Id="rId8" Type="http://schemas.openxmlformats.org/officeDocument/2006/relationships/hyperlink" Target="http://multiring.ru/course/biology/content/scientist/buffon.html" TargetMode="External"/><Relationship Id="rId9" Type="http://schemas.openxmlformats.org/officeDocument/2006/relationships/hyperlink" Target="http://multiring.ru/course/biology/content/scientist/buffon.html" TargetMode="External"/><Relationship Id="rId10" Type="http://schemas.openxmlformats.org/officeDocument/2006/relationships/hyperlink" Target="http://multiring.ru/course/biology/content/scientist/buffon.html" TargetMode="External"/><Relationship Id="rId11" Type="http://schemas.openxmlformats.org/officeDocument/2006/relationships/hyperlink" Target="http://multiring.ru/course/biology/content/scientist/buffon.html" TargetMode="External"/><Relationship Id="rId12" Type="http://schemas.openxmlformats.org/officeDocument/2006/relationships/hyperlink" Target="http://multiring.ru/course/biology/content/scientist/buffon.html" TargetMode="External"/><Relationship Id="rId13" Type="http://schemas.openxmlformats.org/officeDocument/2006/relationships/hyperlink" Target="http://multiring.ru/course/biology/content/scientist/buffon.html" TargetMode="External"/><Relationship Id="rId14" Type="http://schemas.openxmlformats.org/officeDocument/2006/relationships/hyperlink" Target="http://icite.ru/988/citaty/laroshfuko_fransua_de/visshaya_khrabrost_eto_sdelat" TargetMode="External"/><Relationship Id="rId15" Type="http://schemas.openxmlformats.org/officeDocument/2006/relationships/hyperlink" Target="http://icite.ru/988/citaty/laroshfuko_fransua_de/visshaya_khrabrost_eto_sdelat" TargetMode="External"/><Relationship Id="rId16" Type="http://schemas.openxmlformats.org/officeDocument/2006/relationships/hyperlink" Target="http://icite.ru/988/citaty/laroshfuko_fransua_de/visshaya_khrabrost_eto_sdelat" TargetMode="External"/><Relationship Id="rId17" Type="http://schemas.openxmlformats.org/officeDocument/2006/relationships/hyperlink" Target="http://icite.ru/988/citaty/laroshfuko_fransua_de/visshaya_khrabrost_eto_sdelat" TargetMode="External"/><Relationship Id="rId18" Type="http://schemas.openxmlformats.org/officeDocument/2006/relationships/hyperlink" Target="http://icite.ru/988/citaty/laroshfuko_fransua_de/visshaya_khrabrost_eto_sdelat" TargetMode="External"/><Relationship Id="rId19" Type="http://schemas.openxmlformats.org/officeDocument/2006/relationships/hyperlink" Target="http://icite.ru/988/citaty/laroshfuko_fransua_de/visshaya_khrabrost_eto_sdelat" TargetMode="External"/><Relationship Id="rId20" Type="http://schemas.openxmlformats.org/officeDocument/2006/relationships/hyperlink" Target="http://icite.ru/988/citaty/laroshfuko_fransua_de/visshaya_khrabrost_eto_sdelat" TargetMode="External"/><Relationship Id="rId21" Type="http://schemas.openxmlformats.org/officeDocument/2006/relationships/hyperlink" Target="http://icite.ru/988/citaty/laroshfuko_fransua_de/visshaya_khrabrost_eto_sdelat" TargetMode="External"/><Relationship Id="rId22" Type="http://schemas.openxmlformats.org/officeDocument/2006/relationships/hyperlink" Target="http://icite.ru/988/citaty/laroshfuko_fransua_de/visshaya_khrabrost_eto_sdelat" TargetMode="External"/><Relationship Id="rId23" Type="http://schemas.openxmlformats.org/officeDocument/2006/relationships/hyperlink" Target="http://www.help-rus-student.ru/pictures_fail/49/092_1.htm" TargetMode="External"/><Relationship Id="rId24" Type="http://schemas.openxmlformats.org/officeDocument/2006/relationships/hyperlink" Target="http://www.help-rus-student.ru/pictures_fail/49/092_1.htm" TargetMode="External"/><Relationship Id="rId25" Type="http://schemas.openxmlformats.org/officeDocument/2006/relationships/hyperlink" Target="http://www.help-rus-student.ru/pictures_fail/49/092_1.htm" TargetMode="External"/><Relationship Id="rId26" Type="http://schemas.openxmlformats.org/officeDocument/2006/relationships/hyperlink" Target="http://www.help-rus-student.ru/pictures_fail/49/092_1.htm" TargetMode="External"/><Relationship Id="rId27" Type="http://schemas.openxmlformats.org/officeDocument/2006/relationships/hyperlink" Target="http://www.help-rus-student.ru/pictures_fail/49/092_1.htm" TargetMode="External"/><Relationship Id="rId28" Type="http://schemas.openxmlformats.org/officeDocument/2006/relationships/hyperlink" Target="http://www.help-rus-student.ru/pictures_fail/49/092_1.htm" TargetMode="External"/><Relationship Id="rId2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79280" y="1618920"/>
            <a:ext cx="780876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9966cc"/>
                </a:solidFill>
                <a:latin typeface="Times New Roman"/>
              </a:rPr>
              <a:t>Общешкольный конкурс</a:t>
            </a:r>
            <a:br>
              <a:rPr sz="4000"/>
            </a:br>
            <a:r>
              <a:rPr b="1" lang="ru-RU" sz="4000" spc="-1" strike="noStrike">
                <a:solidFill>
                  <a:srgbClr val="9966cc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9966cc"/>
                </a:solidFill>
                <a:latin typeface="Times New Roman"/>
              </a:rPr>
              <a:t>«Минута славы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4319280"/>
            <a:ext cx="9144000" cy="2538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66"/>
                </a:solidFill>
                <a:latin typeface="Times New Roman"/>
              </a:rPr>
              <a:t>Учитель музыки </a:t>
            </a:r>
            <a:br>
              <a:rPr sz="2900"/>
            </a:br>
            <a:r>
              <a:rPr b="0" lang="ru-RU" sz="2900" spc="-1" strike="noStrike">
                <a:solidFill>
                  <a:srgbClr val="ffff66"/>
                </a:solidFill>
                <a:latin typeface="Times New Roman"/>
              </a:rPr>
              <a:t>ГБСКОУ школы №13 Приморского района</a:t>
            </a:r>
            <a:br>
              <a:rPr sz="2900"/>
            </a:br>
            <a:r>
              <a:rPr b="0" lang="ru-RU" sz="2900" spc="-1" strike="noStrike">
                <a:solidFill>
                  <a:srgbClr val="ffff66"/>
                </a:solidFill>
                <a:latin typeface="Times New Roman"/>
              </a:rPr>
              <a:t>г. Санкт-Петербурга</a:t>
            </a:r>
            <a:br>
              <a:rPr sz="2900"/>
            </a:br>
            <a:r>
              <a:rPr b="0" lang="ru-RU" sz="2900" spc="-1" strike="noStrike">
                <a:solidFill>
                  <a:srgbClr val="ffff66"/>
                </a:solidFill>
                <a:latin typeface="Times New Roman"/>
              </a:rPr>
              <a:t>Назарова Наталья Анатольевна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20720" y="1079640"/>
            <a:ext cx="7804080" cy="17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«Первое и последнее, требуемое от гения, - это истинность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99640" y="3940200"/>
            <a:ext cx="7804440" cy="31226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Иоганн Вольфганг фон Гёте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 algn="r">
              <a:lnSpc>
                <a:spcPct val="95000"/>
              </a:lnSpc>
              <a:spcAft>
                <a:spcPts val="1287"/>
              </a:spcAft>
              <a:buClr>
                <a:srgbClr val="ffffff"/>
              </a:buClr>
              <a:buFont typeface="Segoe Script"/>
              <a:buChar char="-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немецкий государственный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  </a:t>
            </a: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деятель, мыслитель и естествоиспытатель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4140360"/>
            <a:ext cx="2160720" cy="27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20720" y="900000"/>
            <a:ext cx="7804080" cy="23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«...ошибочное направление губит самый сильный талант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6000" y="2349360"/>
            <a:ext cx="7804080" cy="31226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Николай Гаврилович Чернышевский – русский ученый, литературный критик, писатель 19 века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4140360"/>
            <a:ext cx="2340000" cy="27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7804080" cy="23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«Секрет гения - это работа, настойчивость и здравый смысл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15920" y="3476160"/>
            <a:ext cx="7804080" cy="2824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Томас Алва Эдисон,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американский изобретатель и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 </a:t>
            </a: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предприниматель 19 века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4140360"/>
            <a:ext cx="2340000" cy="27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7804080" cy="23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«Большой талант всегда сопровождает великодушное сердце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15920" y="3758760"/>
            <a:ext cx="7804080" cy="236052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Теофиль Готье,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знаменитый французский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поэт и критик 19 века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4140360"/>
            <a:ext cx="2340000" cy="27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6640" y="1682280"/>
            <a:ext cx="78040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«Талант работает, гений творит»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15920" y="3760560"/>
            <a:ext cx="780408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Роберт Шуман-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немецкий композитор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19 века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4140360"/>
            <a:ext cx="2160720" cy="27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9280" y="262080"/>
            <a:ext cx="8964720" cy="71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Слайд №5. Портрет Жоржа Луи Леклерка Бюф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http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"/>
              </a:rPr>
              <a:t>://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3"/>
              </a:rPr>
              <a:t>multiring.ru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4"/>
              </a:rPr>
              <a:t>/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5"/>
              </a:rPr>
              <a:t>course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6"/>
              </a:rPr>
              <a:t>/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7"/>
              </a:rPr>
              <a:t>biology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8"/>
              </a:rPr>
              <a:t>/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9"/>
              </a:rPr>
              <a:t>content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0"/>
              </a:rPr>
              <a:t>/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1"/>
              </a:rPr>
              <a:t>scientist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2"/>
              </a:rPr>
              <a:t>/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3"/>
              </a:rPr>
              <a:t>buffon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йд №6. Портрет Франсуа де Ларошфук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4"/>
              </a:rPr>
              <a:t>http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5"/>
              </a:rPr>
              <a:t>://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6"/>
              </a:rPr>
              <a:t>icite.ru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7"/>
              </a:rPr>
              <a:t>/988/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8"/>
              </a:rPr>
              <a:t>citaty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9"/>
              </a:rPr>
              <a:t>/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0"/>
              </a:rPr>
              <a:t>laroshfuko_fransua_de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1"/>
              </a:rPr>
              <a:t>/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2"/>
              </a:rPr>
              <a:t>visshaya_khrabrost_eto_sdel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йд №7. Портрет Жюля Мишл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3"/>
              </a:rPr>
              <a:t>http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4"/>
              </a:rPr>
              <a:t>://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5"/>
              </a:rPr>
              <a:t>www.help-rus-student.ru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6"/>
              </a:rPr>
              <a:t>/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7"/>
              </a:rPr>
              <a:t>pictures_fail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8"/>
              </a:rPr>
              <a:t>/49/092_1.ht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йд №8. Портрет К.С.Станиславско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http://old.amur.info/news/2008/01/17/8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йд №9. Портрет Артура Шопенгауэ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http://lichnosti.ucoz.ru/publ/khimiki/filosofy/artur_shopengauehr/9-1-0-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йд №10. Портрет Иоганна Вольфганга Ге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http://900igr.net/fotografii/literatura/Iogann-Volfgang-Gjote/001-Gjote-iogann-volfgang-fon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йд №11. Портрет Н.Г.Чернышевско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http://ua.coolreferat.com/%D0%A7%D0%B5%D1%80%D0%BD%D1%8B%D1%88%D0%B5%D0%B2%D1%81%D0%BA%D0%B8%D0%B9_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йд №12. Портрет Томаса Алва Эдис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http://photo.peoples.ru/technics/designer/tomas_edison/1.s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йд №13. Портрет Теофиль Готь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http://labazov.livejournal.com/1319039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йд №14. Портрет Роберта Шума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http://intoclassics.net/news/2011-10-06-2538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0000" y="3780000"/>
            <a:ext cx="7772400" cy="27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Segoe Script"/>
              </a:rPr>
              <a:t>Конкурс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Segoe Script"/>
              </a:rPr>
              <a:t>лучших исполнителей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Segoe Script"/>
              </a:rPr>
              <a:t> различных сценических жанров</a:t>
            </a:r>
            <a:br>
              <a:rPr sz="32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619280" y="539640"/>
            <a:ext cx="6840360" cy="27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80"/>
                    </a:gs>
                  </a:gsLst>
                  <a:lin ang="2700000"/>
                </a:gra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Минута славы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0080"/>
                  </a:gs>
                </a:gsLst>
                <a:lin ang="2700000"/>
              </a:gra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40000" y="3959280"/>
            <a:ext cx="7380000" cy="1619280"/>
          </a:xfrm>
          <a:prstGeom prst="rect">
            <a:avLst/>
          </a:prstGeom>
          <a:solidFill>
            <a:srgbClr val="33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Segoe Script"/>
              </a:rPr>
              <a:t>Способ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00360" y="2519280"/>
            <a:ext cx="5040360" cy="1440000"/>
          </a:xfrm>
          <a:prstGeom prst="rect">
            <a:avLst/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Segoe Script"/>
              </a:rPr>
              <a:t>Тала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40360" y="1440000"/>
            <a:ext cx="1979280" cy="1079280"/>
          </a:xfrm>
          <a:prstGeom prst="rect">
            <a:avLst/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Segoe Script"/>
              </a:rPr>
              <a:t>Г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0000" y="3780000"/>
            <a:ext cx="7772400" cy="27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Segoe Script"/>
              </a:rPr>
              <a:t>Конкурс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Segoe Script"/>
              </a:rPr>
              <a:t>лучших исполнителей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Segoe Script"/>
              </a:rPr>
              <a:t> различных сценических жанров</a:t>
            </a:r>
            <a:br>
              <a:rPr sz="32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619280" y="539640"/>
            <a:ext cx="6840360" cy="27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80"/>
                    </a:gs>
                  </a:gsLst>
                  <a:lin ang="2700000"/>
                </a:gra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Минута славы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0080"/>
                  </a:gs>
                </a:gsLst>
                <a:lin ang="2700000"/>
              </a:gra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5560" y="1143000"/>
            <a:ext cx="7804080" cy="17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«Гений есть не что иное, как дар огромного терпения»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20720" y="4319280"/>
            <a:ext cx="780408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Жорж Луи Леклерк Бюффон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(1707-1788, Франция) 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биолог-энциклопедист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55560" y="1143000"/>
            <a:ext cx="780408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«Гений есть не что иное, как дар огромного терпения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4233960"/>
            <a:ext cx="1979640" cy="26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0720" y="539280"/>
            <a:ext cx="7804080" cy="289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«Мало обладать выдающимися качествами, надо еще уметь ими пользоваться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99640" y="4282560"/>
            <a:ext cx="7804440" cy="21970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Франсуа де  Ларошфуко.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Герцог.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Французский писатель-моралист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5560" y="1440000"/>
            <a:ext cx="780408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4140360"/>
            <a:ext cx="2160720" cy="271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0720" y="1503360"/>
            <a:ext cx="7804080" cy="17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«Возвыситься нетрудно; трудно остаться при этом самим собой»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20720" y="4680000"/>
            <a:ext cx="780408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Жюль Мишле.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французский историк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и публицист 19 века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4140360"/>
            <a:ext cx="1979640" cy="27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20720" y="963720"/>
            <a:ext cx="7804080" cy="17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«Искренность и простота - дорогие свойства таланта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99640" y="3644640"/>
            <a:ext cx="7804440" cy="2824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Константин Сергеевич Станиславский.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русский театральный режиссёр,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актёр и преподаватель.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4140360"/>
            <a:ext cx="2160720" cy="27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20720" y="1212840"/>
            <a:ext cx="7804080" cy="23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«Каждый ребенок отчасти гений, а каждый гений отчасти ребенок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6640" y="5040360"/>
            <a:ext cx="780408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Артур Шопенгауэр –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Филосов 19 века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4140360"/>
            <a:ext cx="2340000" cy="2717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3:20:31Z</dcterms:created>
  <dc:creator>Ирина</dc:creator>
  <dc:description/>
  <dc:language>en-US</dc:language>
  <cp:lastModifiedBy>Мама</cp:lastModifiedBy>
  <dcterms:modified xsi:type="dcterms:W3CDTF">2013-06-01T06:38:21Z</dcterms:modified>
  <cp:revision>6</cp:revision>
  <dc:subject/>
  <dc:title>Слайд 1</dc:title>
</cp:coreProperties>
</file>