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7D3-8E88-4584-B498-7862A995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CF0-5D72-4FA0-849C-09490CEF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73F-2C4A-4EEC-BC53-DF8A0991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781-9C75-4131-A7E9-414708B4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3E6-7196-48BC-851E-8140D51C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E21-E7B5-4878-B505-00AD8436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67D-19C5-4555-B8EE-A026D409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6E1-F302-424E-B5C0-EC3089C1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1EB-4950-4A81-8992-280A529E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0EA-C479-4F1A-9C99-B619178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103-D7F7-46B8-8C30-A3E9D7C3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175-9F96-4738-9442-9AC84E0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D3BE-84CD-41D5-8037-B08AFAB0B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Mother`s day  or mothering Sunda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00" y="164268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богиня Киб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"/>
          <p:cNvPicPr/>
          <p:nvPr/>
        </p:nvPicPr>
        <p:blipFill>
          <a:blip r:embed="rId2"/>
          <a:stretch/>
        </p:blipFill>
        <p:spPr>
          <a:xfrm>
            <a:off x="4071960" y="857160"/>
            <a:ext cx="3786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28564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глия -17 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2"/>
          <a:stretch/>
        </p:blipFill>
        <p:spPr>
          <a:xfrm>
            <a:off x="4000680" y="857160"/>
            <a:ext cx="3786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57148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simnel c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2"/>
          <a:stretch/>
        </p:blipFill>
        <p:spPr>
          <a:xfrm>
            <a:off x="4500720" y="1214280"/>
            <a:ext cx="3000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mom's the best"/>
          <p:cNvPicPr/>
          <p:nvPr/>
        </p:nvPicPr>
        <p:blipFill>
          <a:blip r:embed="rId2"/>
          <a:stretch/>
        </p:blipFill>
        <p:spPr>
          <a:xfrm>
            <a:off x="4786200" y="1357200"/>
            <a:ext cx="3357720" cy="3071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flowers for mum"/>
          <p:cNvPicPr/>
          <p:nvPr/>
        </p:nvPicPr>
        <p:blipFill>
          <a:blip r:embed="rId3"/>
          <a:stretch/>
        </p:blipFill>
        <p:spPr>
          <a:xfrm>
            <a:off x="1357200" y="1643040"/>
            <a:ext cx="2428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57:04Z</dcterms:created>
  <dc:creator>ира</dc:creator>
  <dc:description/>
  <dc:language>en-US</dc:language>
  <cp:lastModifiedBy>WiZaRd</cp:lastModifiedBy>
  <dcterms:modified xsi:type="dcterms:W3CDTF">2010-11-18T21:41:10Z</dcterms:modified>
  <cp:revision>3</cp:revision>
  <dc:subject/>
  <dc:title>Mother`s day  or mothering Sunday</dc:title>
</cp:coreProperties>
</file>