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41511-8F37-4552-BE56-C1666245A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F51C4-286E-4025-B17E-9FE7535EC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F440D-5049-4A5B-B151-625A54AD4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CE62F-3348-4C78-8266-3FF8B5811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6E3ED-FD35-46D5-91A9-5B00C13ED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2FD3C-EE50-4603-9815-C09DB0F97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7720F-044D-4056-A777-BC027BA88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25D91-DA4A-4900-B2B9-B2BAEA977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7EC71-8633-4069-B7D0-40F14665E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AFA53-14FB-4DE1-BC16-AB104E320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5EECC-02A5-4B6C-8B75-A7E73F722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77BFB-2422-4FE3-8A3D-4F582D013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94098-0B95-4333-BFA4-50EEFD6B0B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Monotype Corsiva"/>
              </a:rPr>
              <a:t>Mother`s day  or mothering Sunday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28400" y="1642680"/>
            <a:ext cx="3614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00000"/>
                </a:solidFill>
                <a:latin typeface="Calibri"/>
              </a:rPr>
              <a:t>богиня Кибел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Содержимое 3" descr=""/>
          <p:cNvPicPr/>
          <p:nvPr/>
        </p:nvPicPr>
        <p:blipFill>
          <a:blip r:embed="rId2"/>
          <a:stretch/>
        </p:blipFill>
        <p:spPr>
          <a:xfrm>
            <a:off x="4071960" y="857160"/>
            <a:ext cx="378612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85480" y="2285640"/>
            <a:ext cx="3786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Англия -17 ве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Содержимое 3" descr=""/>
          <p:cNvPicPr/>
          <p:nvPr/>
        </p:nvPicPr>
        <p:blipFill>
          <a:blip r:embed="rId2"/>
          <a:stretch/>
        </p:blipFill>
        <p:spPr>
          <a:xfrm>
            <a:off x="4000680" y="857160"/>
            <a:ext cx="3786120" cy="31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85840" y="2571480"/>
            <a:ext cx="4286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Calibri"/>
              </a:rPr>
              <a:t>simnel cak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Содержимое 3" descr=""/>
          <p:cNvPicPr/>
          <p:nvPr/>
        </p:nvPicPr>
        <p:blipFill>
          <a:blip r:embed="rId2"/>
          <a:stretch/>
        </p:blipFill>
        <p:spPr>
          <a:xfrm>
            <a:off x="4500720" y="1214280"/>
            <a:ext cx="300024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Содержимое 3" descr="mom's the best"/>
          <p:cNvPicPr/>
          <p:nvPr/>
        </p:nvPicPr>
        <p:blipFill>
          <a:blip r:embed="rId2"/>
          <a:stretch/>
        </p:blipFill>
        <p:spPr>
          <a:xfrm>
            <a:off x="4786200" y="1357200"/>
            <a:ext cx="3357720" cy="307188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4" descr="flowers for mum"/>
          <p:cNvPicPr/>
          <p:nvPr/>
        </p:nvPicPr>
        <p:blipFill>
          <a:blip r:embed="rId3"/>
          <a:stretch/>
        </p:blipFill>
        <p:spPr>
          <a:xfrm>
            <a:off x="1357200" y="1643040"/>
            <a:ext cx="2428920" cy="32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9T18:57:04Z</dcterms:created>
  <dc:creator>ира</dc:creator>
  <dc:description/>
  <dc:language>en-US</dc:language>
  <cp:lastModifiedBy>WiZaRd</cp:lastModifiedBy>
  <dcterms:modified xsi:type="dcterms:W3CDTF">2010-11-18T21:41:10Z</dcterms:modified>
  <cp:revision>3</cp:revision>
  <dc:subject/>
  <dc:title>Mother`s day  or mothering Sunday</dc:title>
</cp:coreProperties>
</file>