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F24-A16D-48E4-AD74-C24E8E12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C87-2D30-44D6-994C-47F192C3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C9F-3A32-4D6B-A8CC-20F6E4B9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DB5-2FF2-4F5F-8201-A503666F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4B8-15EE-4CB5-9B5E-3FB2F7B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40D-DA92-4832-9D88-2F4F051F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D29-1228-49B9-8AB7-BA33513A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110-26CB-4EBE-A64E-82ECF950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86A-8F79-4BCE-A7CC-F245F55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A18-335B-4F70-A015-F1D7156E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1EE-028B-42BD-824E-E73F967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BD0-928D-4CD4-BEAF-2E49A41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995-5558-4E54-856A-A2AAC8444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Mother`s day  or mothering Sunda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164268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Calibri"/>
              </a:rPr>
              <a:t>богиня Киб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"/>
          <p:cNvPicPr/>
          <p:nvPr/>
        </p:nvPicPr>
        <p:blipFill>
          <a:blip r:embed="rId2"/>
          <a:stretch/>
        </p:blipFill>
        <p:spPr>
          <a:xfrm>
            <a:off x="4071960" y="857160"/>
            <a:ext cx="3786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285640"/>
            <a:ext cx="378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глия -17 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2"/>
          <a:stretch/>
        </p:blipFill>
        <p:spPr>
          <a:xfrm>
            <a:off x="4000680" y="857160"/>
            <a:ext cx="3786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57148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simnel c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2"/>
          <a:stretch/>
        </p:blipFill>
        <p:spPr>
          <a:xfrm>
            <a:off x="4500720" y="1214280"/>
            <a:ext cx="3000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mom's the best"/>
          <p:cNvPicPr/>
          <p:nvPr/>
        </p:nvPicPr>
        <p:blipFill>
          <a:blip r:embed="rId2"/>
          <a:stretch/>
        </p:blipFill>
        <p:spPr>
          <a:xfrm>
            <a:off x="4786200" y="1357200"/>
            <a:ext cx="335772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flowers for mum"/>
          <p:cNvPicPr/>
          <p:nvPr/>
        </p:nvPicPr>
        <p:blipFill>
          <a:blip r:embed="rId3"/>
          <a:stretch/>
        </p:blipFill>
        <p:spPr>
          <a:xfrm>
            <a:off x="1357200" y="1643040"/>
            <a:ext cx="2428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57:04Z</dcterms:created>
  <dc:creator>ира</dc:creator>
  <dc:description/>
  <dc:language>en-US</dc:language>
  <cp:lastModifiedBy>WiZaRd</cp:lastModifiedBy>
  <dcterms:modified xsi:type="dcterms:W3CDTF">2010-11-18T21:41:10Z</dcterms:modified>
  <cp:revision>3</cp:revision>
  <dc:subject/>
  <dc:title>Mother`s day  or mothering Sunday</dc:title>
</cp:coreProperties>
</file>