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E67-E270-4E6C-9399-A2D9EBF6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2D3-FC2A-4A9F-BF30-5120AE2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114-FC21-497F-9481-E290A802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D63-D8CE-4BF8-85C9-422376A7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7580-E4FD-44E1-9CA1-59CF2A9E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695B-C1B7-4836-B31C-9E494FA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5DA-FF04-45D3-9E06-9D8A547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0AA3-51FA-4F19-BABA-3EE8C1BD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6F0-E846-47D1-8C34-CC596714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C50F-1DE7-4D72-B28F-6C361C1B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F1AD-4D38-45BF-B648-30678FA6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139-160E-46C6-A311-263ED814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C064-9209-4579-9DA9-9F8BD24E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B9D2-3A48-4732-8EB1-270B171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D0F8-AF64-4C34-8E16-1F830C58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29B6-C645-4AFF-ACF2-21E14EF5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E838-5F4E-4A0B-A487-1A3D99B9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B00-9FAB-4B7C-A4D4-60DBD75C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D7E-8E95-440B-BF8C-2D4281E2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A7A-92DC-4FD3-AFD6-84E5EB2C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608-820F-41A7-8834-BB2EDB20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660-F3B6-48C6-9FE5-A63FF6B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FE9-C428-4217-B665-21DE244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55D-B938-4316-8CEE-FD704EB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CED0-1BDC-4155-9F8A-0D1502E735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A28C-74C4-46F4-982F-34791CA8734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400880" cy="2735280"/>
          </a:xfrm>
          <a:prstGeom prst="rect">
            <a:avLst/>
          </a:prstGeom>
          <a:noFill/>
          <a:ln w="9360">
            <a:solidFill>
              <a:srgbClr val="0f311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3f1bf"/>
                </a:solidFill>
                <a:latin typeface="Georgia"/>
              </a:rPr>
              <a:t>Лучше всех на земле – мама!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3f1bf"/>
                </a:solidFill>
                <a:latin typeface="Monotype Corsiva"/>
              </a:rPr>
              <a:t>День матери России –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3f1bf"/>
                </a:solidFill>
                <a:latin typeface="Monotype Corsiva"/>
              </a:rPr>
              <a:t>29 ноября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Ссоритесь ли вы с мамой? Кто, по вашему мнению, чаще всего виноват в этих ссорах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Как вы миритесь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вы испытываете, когда ваша мама плачет? Можете ли вы успокоить свою маму, когда она переживает и беспокоится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о чём-либо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Нравится ли вам, как готовит ваша мама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Есть ли какое-то блюдо, которое мама готовит специально для вас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Помогаете ли вы своей маме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чаще всего вы делаете по дому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Меняется ли жизнь в вашей семье, если на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какое-то время вы остаётесь без мамы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Скучаете ли вы без мам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- Легче ли вам болеть, если рядом мама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Были ли в вашей жизни такие моменты, когда одно только присутствие, прикосновение к вам вашей мамы успокаивало вас, и вам становилось лучше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испытываете вы, когда ваша мама болеет? Как вы помогаете ей выздороветь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Кто кручинится, когда м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печалены подчас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колько радости у мамы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Если кто-то хвалит нас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колько мук ей было с нам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И наград не надо 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б одном мечтают мамы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 любви своих дет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и усталости не зна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и покоя каждый час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День и ночь родная ма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Всё тревожится о на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ас баюкала, кормил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У кроватки пела н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ервой нас она учил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Добрым, радостным слов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Любите своих матерей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бращайтесь к ним с уважением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Цените их заботу о вас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Берегите их здоровье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омогайте им дома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росто жалейте их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мысл жизни каждой матери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- это её де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Мы будем вечно прославлять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ту женщину,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чьё имя – мать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i="1" lang="ru-RU" sz="3600" spc="-1" strike="noStrike">
                <a:solidFill>
                  <a:srgbClr val="83f1bf"/>
                </a:solidFill>
                <a:latin typeface="Monotype Corsiva"/>
              </a:rPr>
              <a:t>Муса Джалил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еловечество не раз воспевало образ матери в стихах, песнях, картинах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Послушайте, какое замечательное стихотворение написал неизвестный нам поэт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7386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Что значит слово «мама» для мен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нём твоя чуткость, теплота сердечна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Готовность похвалить, простить, понять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воя любовь, терпенье бесконечно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вой голос милый ясно слышу в нё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н силы придаёт и вдохнов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еня ты рада поддержать во всё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А если  надо – даришь утеше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тебе источник всех моих побед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оих успехов и душевной сил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Что значит слово «мама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Это свет, которым весь мой путь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                                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ы озарил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нём доброта твоих любимых рук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Их нежностью вся жизнь моя согр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ы, мамочка, мой самый близкий друг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пасибо тебе, милая, за это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т чистого сердца, простыми слов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Давайте , друзья, потолкуем о мам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любим её, как хорошего друг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За то, что у нас с нею всё сообщ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За то, что, когда нам приходится туг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можем всплакнуть у родного плеч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любим её и за то, что поро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тановятся строже в морщинках гла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Но стоит с повинной прийти головою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Исчезнут морщинки, умчится гро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f1bf"/>
                </a:solidFill>
                <a:latin typeface="Arial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83f1bf"/>
                </a:solidFill>
                <a:latin typeface="Monotype Corsiva"/>
              </a:rPr>
              <a:t>(Н.Саксонская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ама! Мамочка! Мамуля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колько тепла, ласки  и нежности тая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себе эти слова, которыми мы называем самого близкого, самого дорогого человека на земле! Каждый из нас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т рождения и до конца своей жизни несёт в своём сердце любовь к матер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ама для любого из нас – это святыня, хранительница семейного очага. Именно поэтому во всех уголках мира принято отмечать День матер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этот день принято поздравля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воих мам и дарить подарк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Для нашей беседы я приготовила ряд вопросов, на которые и предлагаю вам ответить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Как вы думаете, трудно ли быть мамой?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самое главное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по вашему мнению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в жизни мам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означает –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быть хорошей мамой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3f1b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Можете ли вы назвать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свою маму учителем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Научила ли она вас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ему-либо, за что вы ей всегда будете благодарн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- Любите ли вы разговаривать со своей мамой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Делитесь ли вы с ней своими мыслями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Интересуетесь 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её проблемами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вы испытываете, когда другие люди при вас хвалят вашу маму? Гордитесь ли вы ею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5:42:08Z</dcterms:created>
  <dc:creator>Т_Ковальчук</dc:creator>
  <dc:description/>
  <dc:language>en-US</dc:language>
  <cp:lastModifiedBy>Коля</cp:lastModifiedBy>
  <dcterms:modified xsi:type="dcterms:W3CDTF">2013-03-24T18:32:18Z</dcterms:modified>
  <cp:revision>37</cp:revision>
  <dc:subject/>
  <dc:title>День ма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2000000000001024140</vt:lpwstr>
  </property>
</Properties>
</file>