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F12-E337-4BC5-93F0-3911C037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65-F063-465F-A49B-3CEE12D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640-B0B6-4B2F-ACD4-BBE570C5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0D2-5131-47D0-8281-EBC1F841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0DC-326A-4518-9F43-575A821B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8DE6-6009-4F6B-9EFA-A2A53A03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E1E-BB9D-4579-904F-B9D7B0D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A432-E003-49D6-95A0-B255243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127D-F98E-472C-98BD-F74384E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055-4239-4F51-8DD4-D56B3112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52E-E1B0-403C-ADFA-26FE70D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AC0-8D8A-4B34-8E2F-4B3EFF8B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802D-AD8D-4CCC-8488-B6BE82E7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A8BB-D03C-4E49-B3AF-FE8C9FC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08A-8C20-404C-8DF5-39ED686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BFE-ED74-49AD-9B94-5FCFD9A3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7828-7E04-4A85-80F9-B7E892AF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A02-E24D-4603-BED3-56B3F99C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6D2-C691-4E29-8E1B-0A72E82F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36C-7994-4A71-81AC-A88F1AFA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8A5-C4B2-4698-A7B9-556A201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6E0-A3C4-4DA6-8883-CE98E3B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0C7-0680-43A1-9E34-18E2F40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959-C7FB-47A9-B4F2-8549A2C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4410-10A9-4023-8AF9-74857D5F64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8F4-C2AB-4C0F-8595-AE7EBDCEB63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400880" cy="2735280"/>
          </a:xfrm>
          <a:prstGeom prst="rect">
            <a:avLst/>
          </a:prstGeom>
          <a:noFill/>
          <a:ln w="9360">
            <a:solidFill>
              <a:srgbClr val="0f311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3f1bf"/>
                </a:solidFill>
                <a:latin typeface="Georgia"/>
              </a:rPr>
              <a:t>Лучше всех на земле – мама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День матери России –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29 ноябр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Ссоритесь ли вы с мамой? Кто, по вашему мнению, чаще всего виноват в этих ссорах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 вы миритес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ваша мама плачет? Можете ли вы успокоить свою маму, когда она переживает и беспокоится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о чём-либо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Нравится ли вам, как готовит ваша мама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Есть ли какое-то блюдо, которое мама готовит специально для вас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Помогаете ли вы своей маме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чаще всего вы делаете по дому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Меняется ли жизнь в вашей семье, если на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ое-то время вы остаётесь без мамы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кучаете ли вы без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егче ли вам болеть, если рядом мама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Были ли в вашей жизни такие моменты, когда одно только присутствие, прикосновение к вам вашей мамы успокаивало вас, и вам становилось лучше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испытываете вы, когда ваша мама болеет? Как вы помогаете ей выздоровет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Кто кручинится, когда м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печалены подчас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радости у мамы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Если кто-то хвалит нас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мук ей было с нам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И наград не надо 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 одном мечтают мамы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 любви своих дет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усталости не зна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покоя каждый час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ень и ночь родная ма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Всё тревожится о на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ас баюкала, корми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У кроватки пела н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ервой нас она учил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обрым, радостным слов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Любите своих матерей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ращайтесь к ним с уважением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Цените их заботу о вас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Берегите их здоровье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омогайте им дома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росто жалейте их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мысл жизни каждой матери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- это её де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Мы будем вечно прославлять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ту женщину,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чьё имя – мать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i="1" lang="ru-RU" sz="3600" spc="-1" strike="noStrike">
                <a:solidFill>
                  <a:srgbClr val="83f1bf"/>
                </a:solidFill>
                <a:latin typeface="Monotype Corsiva"/>
              </a:rPr>
              <a:t>Муса Джалил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ловечество не раз воспевало образ матери в стихах, песнях, картинах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слушайте, какое замечательное стихотворение написал неизвестный нам поэт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386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 для мен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твоя чуткость, теплота сердечна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Готовность похвалить, простить, понять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я любовь, терпенье бесконечно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й голос милый ясно слышу в н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н силы придаёт и вдохнов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еня ты рада поддержать во вс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А если  надо – даришь утеш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тебе источник всех моих побед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оих успехов и душевной си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Это свет, которым весь мой путь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                    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 озари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доброта твоих любимых рук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х нежностью вся жизнь моя согр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, мамочка, мой самый близкий друг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пасибо тебе, милая, за это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чистого сердца, простыми слов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Давайте , друзья, потолкуем о мам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, как хорошего друг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 у нас с нею всё сообщ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, когда нам приходится туг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можем всплакнуть у родного плеч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 и за то, что поро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тановятся строже в морщинках гл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Но стоит с повинной прийти головою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счезнут морщинки, умчится гро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f1bf"/>
                </a:solidFill>
                <a:latin typeface="Arial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83f1bf"/>
                </a:solidFill>
                <a:latin typeface="Monotype Corsiva"/>
              </a:rPr>
              <a:t>(Н.Саксонска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! Мамочка! Мамуля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колько тепла, ласки  и нежности тая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себе эти слова, которыми мы называем самого близкого, самого дорогого человека на земле! Каждый из нас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рождения и до конца своей жизни несёт в своём сердце любовь к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 для любого из нас – это святыня, хранительница семейного очага. Именно поэтому во всех уголках мира принято отмечать День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этот день принято поздравля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воих мам и дарить подар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Для нашей беседы я приготовила ряд вопросов, на которые и предлагаю вам ответить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Как вы думаете, трудно ли быть мамой?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самое главно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 вашему мнению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в жизни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означает –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быть хорошей мамой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3f1b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Можете ли вы назвать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вою маму учителем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Научила ли она вас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му-либо, за что вы ей всегда будете благодарн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юбите ли вы разговаривать со своей мамой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Делитесь ли вы с ней своими мыслями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Интересуетесь 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её проблемами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другие люди при вас хвалят вашу маму? Гордитесь ли вы ею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5:42:08Z</dcterms:created>
  <dc:creator>Т_Ковальчук</dc:creator>
  <dc:description/>
  <dc:language>en-US</dc:language>
  <cp:lastModifiedBy>Коля</cp:lastModifiedBy>
  <dcterms:modified xsi:type="dcterms:W3CDTF">2013-03-24T18:32:18Z</dcterms:modified>
  <cp:revision>37</cp:revision>
  <dc:subject/>
  <dc:title>День ма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2000000000001024140</vt:lpwstr>
  </property>
</Properties>
</file>