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1A71-9499-46F5-B5A4-1A50752A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E14A-5E06-421A-B205-1B89421B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E602-BA88-4D1C-99C2-A2E353BE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9968-ED69-4242-9310-EE299DF6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C9C0-65BE-4B65-95F4-F29154D1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CD9F-A524-48E9-A369-37882267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1638-50E0-45F8-9916-98AEAA88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3261-9E02-4ECB-9328-DB976824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7AE9-FBA2-49E0-898B-23B12CED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940C-D738-4E10-9147-8414CAD9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1CE4-2959-4256-B260-C9DB2DF1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581A-9D0B-4B7B-A91A-CCBDEB77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5200-3461-4F6C-A1DC-1F8DA727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841F-7346-4F99-9050-BE61E48A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A6ED-2B96-4714-9DC9-F8F8E279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76C8-DAD4-471E-A0EB-CDA9D7E4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FEE8-4736-4057-9354-6B6DF2E9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185B-E7F9-431A-A871-0BFAD32D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2B9A-991E-46A0-AD96-E901FEAF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7067-71CD-40CD-9140-402AE334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77B9-30E4-45EE-B40A-44DB6E28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2199-75D4-457B-BAB4-54BF0782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5375-804D-4838-94D4-DBE44BAB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129E-2785-443D-978D-C7BF66F4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Georgia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Georgia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Georgi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B1C5-1F2C-40B0-97B5-4E87F487532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Georgia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Georgia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Georgia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Georgia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Georgi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DEFB-5E1F-4800-A3B5-406FA49C3749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400880" cy="2735280"/>
          </a:xfrm>
          <a:prstGeom prst="rect">
            <a:avLst/>
          </a:prstGeom>
          <a:noFill/>
          <a:ln w="9360">
            <a:solidFill>
              <a:srgbClr val="0f311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3f1bf"/>
                </a:solidFill>
                <a:latin typeface="Georgia"/>
              </a:rPr>
              <a:t>Лучше всех на земле – мама!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83f1bf"/>
                </a:solidFill>
                <a:latin typeface="Monotype Corsiva"/>
              </a:rPr>
              <a:t>День матери России – 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83f1bf"/>
                </a:solidFill>
                <a:latin typeface="Monotype Corsiva"/>
              </a:rPr>
              <a:t>29 ноября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- Ссоритесь ли вы с мамой? Кто, по вашему мнению, чаще всего виноват в этих ссорах?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Как вы миритесь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Georgia"/>
              </a:rPr>
              <a:t> 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- Что вы испытываете, когда ваша мама плачет? Можете ли вы успокоить свою маму, когда она переживает и беспокоится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о чём-либо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Georgia"/>
              </a:rPr>
              <a:t> 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- Нравится ли вам, как готовит ваша мама?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Есть ли какое-то блюдо, которое мама готовит специально для вас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Georgia"/>
              </a:rPr>
              <a:t> 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- Помогаете ли вы своей маме?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Что чаще всего вы делаете по дому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- Меняется ли жизнь в вашей семье, если на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какое-то время вы остаётесь без мамы?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Скучаете ли вы без мамы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Georgia"/>
              </a:rPr>
              <a:t>    </a:t>
            </a: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- Легче ли вам болеть, если рядом мама?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Были ли в вашей жизни такие моменты, когда одно только присутствие, прикосновение к вам вашей мамы успокаивало вас, и вам становилось лучше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Georgia"/>
              </a:rPr>
              <a:t> 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- Что испытываете вы, когда ваша мама болеет? Как вы помогаете ей выздороветь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Кто кручинится, когда м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Опечалены подчас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Сколько радости у мамы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Если кто-то хвалит нас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Сколько мук ей было с нами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И наград не надо 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Об одном мечтают мамы –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О любви своих дет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Ни усталости не зная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Ни покоя каждый час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День и ночь родная мам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Всё тревожится о на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Нас баюкала, кормила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У кроватки пела на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Первой нас она учил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Добрым, радостным слова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63520" y="-360"/>
            <a:ext cx="7386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Любите своих матерей!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Обращайтесь к ним с уважением!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Цените их заботу о вас!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Берегите их здоровье!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Помогайте им дома!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Просто жалейте их!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Смысл жизни каждой матери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f1bf"/>
                </a:solidFill>
                <a:latin typeface="Georgia"/>
              </a:rPr>
              <a:t>- это её де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3f1bf"/>
                </a:solidFill>
                <a:latin typeface="Georgia"/>
              </a:rPr>
              <a:t>  </a:t>
            </a:r>
            <a:r>
              <a:rPr b="0" lang="ru-RU" sz="4800" spc="-1" strike="noStrike">
                <a:solidFill>
                  <a:srgbClr val="83f1bf"/>
                </a:solidFill>
                <a:latin typeface="Georgia"/>
              </a:rPr>
              <a:t>Мы будем вечно прославлять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800" spc="-1" strike="noStrike">
                <a:solidFill>
                  <a:srgbClr val="83f1bf"/>
                </a:solidFill>
                <a:latin typeface="Georgia"/>
              </a:rPr>
              <a:t>ту женщину,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3f1bf"/>
                </a:solidFill>
                <a:latin typeface="Georgia"/>
              </a:rPr>
              <a:t> </a:t>
            </a:r>
            <a:r>
              <a:rPr b="0" lang="ru-RU" sz="4800" spc="-1" strike="noStrike">
                <a:solidFill>
                  <a:srgbClr val="83f1bf"/>
                </a:solidFill>
                <a:latin typeface="Georgia"/>
              </a:rPr>
              <a:t>чьё имя – мать!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                                 </a:t>
            </a:r>
            <a:r>
              <a:rPr b="0" i="1" lang="ru-RU" sz="3600" spc="-1" strike="noStrike">
                <a:solidFill>
                  <a:srgbClr val="83f1bf"/>
                </a:solidFill>
                <a:latin typeface="Monotype Corsiva"/>
              </a:rPr>
              <a:t>Муса Джалиль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 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Человечество не раз воспевало образ матери в стихах, песнях, картинах.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 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Послушайте, какое замечательное стихотворение написал неизвестный нам поэт: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73864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Что значит слово «мама» для меня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В нём твоя чуткость, теплота сердечная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Готовность похвалить, простить, понять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Твоя любовь, терпенье бесконечно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Твой голос милый ясно слышу в нём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Он силы придаёт и вдохновение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Меня ты рада поддержать во всём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А если  надо – даришь утешени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В тебе источник всех моих побед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Моих успехов и душевной сил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Что значит слово «мама»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Это свет, которым весь мой путь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                                        </a:t>
            </a: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ты озарил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В нём доброта твоих любимых рук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Их нежностью вся жизнь моя согрет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Ты, мамочка, мой самый близкий друг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Спасибо тебе, милая, за это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63520" y="404280"/>
            <a:ext cx="73864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От чистого сердца, простыми словам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Давайте , друзья, потолкуем о мам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Мы любим её, как хорошего друга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За то, что у нас с нею всё сообща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За то, что, когда нам приходится туго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Мы можем всплакнуть у родного плеч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Мы любим её и за то, что порою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Становятся строже в морщинках глаз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Но стоит с повинной прийти головою –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Исчезнут морщинки, умчится гроз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f1bf"/>
                </a:solidFill>
                <a:latin typeface="Arial"/>
              </a:rPr>
              <a:t>                                                     </a:t>
            </a:r>
            <a:r>
              <a:rPr b="0" i="1" lang="ru-RU" sz="2800" spc="-1" strike="noStrike">
                <a:solidFill>
                  <a:srgbClr val="83f1bf"/>
                </a:solidFill>
                <a:latin typeface="Monotype Corsiva"/>
              </a:rPr>
              <a:t>(Н.Саксонская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63520" y="189000"/>
            <a:ext cx="73864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          </a:t>
            </a: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Мама! Мамочка! Мамуля!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Сколько тепла, ласки  и нежности таят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в себе эти слова, которыми мы называем самого близкого, самого дорогого человека на земле! Каждый из нас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от рождения и до конца своей жизни несёт в своём сердце любовь к матер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Мама для любого из нас – это святыня, хранительница семейного очага. Именно поэтому во всех уголках мира принято отмечать День матер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В этот день принято поздравлять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83f1bf"/>
                </a:solidFill>
                <a:latin typeface="Georgia"/>
              </a:rPr>
              <a:t>своих мам и дарить подарк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Для нашей беседы я приготовила ряд вопросов, на которые и предлагаю вам ответить: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63520" y="981000"/>
            <a:ext cx="73864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- Как вы думаете, трудно ли быть мамой? 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Что самое главное,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по вашему мнению,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в жизни мамы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Что означает –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быть хорошей мамой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63520" y="1268280"/>
            <a:ext cx="7386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3f1bf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Можете ли вы назвать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свою маму учителем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Научила ли она вас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чему-либо, за что вы ей всегда будете благодарны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- Любите ли вы разговаривать со своей мамой?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Делитесь ли вы с ней своими мыслями?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Интересуетесь л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   </a:t>
            </a:r>
            <a:r>
              <a:rPr b="0" lang="ru-RU" sz="3600" spc="-1" strike="noStrike">
                <a:solidFill>
                  <a:srgbClr val="83f1bf"/>
                </a:solidFill>
                <a:latin typeface="Georgia"/>
              </a:rPr>
              <a:t>её проблемами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Georgia"/>
              </a:rPr>
              <a:t>    </a:t>
            </a:r>
            <a:r>
              <a:rPr b="0" lang="ru-RU" sz="4000" spc="-1" strike="noStrike">
                <a:solidFill>
                  <a:srgbClr val="83f1bf"/>
                </a:solidFill>
                <a:latin typeface="Georgia"/>
              </a:rPr>
              <a:t>- Что вы испытываете, когда другие люди при вас хвалят вашу маму? Гордитесь ли вы ею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5:42:08Z</dcterms:created>
  <dc:creator>Т_Ковальчук</dc:creator>
  <dc:description/>
  <dc:language>en-US</dc:language>
  <cp:lastModifiedBy>Коля</cp:lastModifiedBy>
  <dcterms:modified xsi:type="dcterms:W3CDTF">2013-03-24T18:32:18Z</dcterms:modified>
  <cp:revision>37</cp:revision>
  <dc:subject/>
  <dc:title>День мам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02000000000001024140</vt:lpwstr>
  </property>
</Properties>
</file>