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27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40.wmf" ContentType="image/x-wmf"/>
  <Override PartName="/ppt/media/image38.wmf" ContentType="image/x-wmf"/>
  <Override PartName="/ppt/media/image8.wmf" ContentType="image/x-wmf"/>
  <Override PartName="/ppt/media/image42.wmf" ContentType="image/x-wmf"/>
  <Override PartName="/ppt/media/image9.png" ContentType="image/png"/>
  <Override PartName="/ppt/media/image17.wmf" ContentType="image/x-wmf"/>
  <Override PartName="/ppt/media/image13.wmf" ContentType="image/x-wmf"/>
  <Override PartName="/ppt/media/image34.wmf" ContentType="image/x-wmf"/>
  <Override PartName="/ppt/media/image39.wmf" ContentType="image/x-wmf"/>
  <Override PartName="/ppt/media/image41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12.wmf" ContentType="image/x-wmf"/>
  <Override PartName="/ppt/media/image4.png" ContentType="image/png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11.png" ContentType="image/png"/>
  <Override PartName="/ppt/media/image29.wmf" ContentType="image/x-wmf"/>
  <Override PartName="/ppt/media/image35.wmf" ContentType="image/x-wmf"/>
  <Override PartName="/ppt/media/image5.wmf" ContentType="image/x-wmf"/>
  <Override PartName="/ppt/media/image30.png" ContentType="image/png"/>
  <Override PartName="/ppt/media/image28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9E90-6CF9-4980-8B7E-F74C998D96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CF18-2F5E-4260-AFC4-E51F31B0F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060A-CAD6-434A-8B0F-18353F48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E2CD-2A12-465B-AA01-CB1AEE11D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DED0-3D3E-44D2-B46E-BEAAF5D62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D3D5-E013-47C7-9F2A-1A7C62ED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B4ED-BC3D-4CE6-83E8-A57D52C9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238A-90C7-4F16-BFF4-DD7DFDED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AB0B-B36C-4FA8-9C6F-5E5B485C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DD2A-5661-40B9-8A6D-5C54465F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4A8E-5152-4122-849E-31BC76A8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7112-A5A5-482A-8D99-199B9452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D747-FF39-4707-BD70-06837815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5D96-5D76-4524-ADE6-9B75D10E1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9.wmf"/><Relationship Id="rId19" Type="http://schemas.openxmlformats.org/officeDocument/2006/relationships/image" Target="../media/image30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КООРДИНАТЫ ВЕКТО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476280"/>
            <a:ext cx="896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Отложим вектор так, чтобы его начало совпало с началом координат. Тогда координаты его конца называются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координатами вектора.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Обозначим     ,      ,      векторы с координатами (1, 0, 0), (0, 1, 0), (0, 0, 1) соответственно. Их длины равны единице, а направления совпадают с направлениями соответствующих осей координат. Будем изображать эти векторы, отложенными от начала координат и называть их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координатными векторами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987640" y="1268280"/>
          <a:ext cx="177840" cy="3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1268280"/>
                    <a:ext cx="17784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473280" y="1238400"/>
          <a:ext cx="216000" cy="38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73280" y="1238400"/>
                    <a:ext cx="2160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048200" y="1255680"/>
          <a:ext cx="216000" cy="34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48200" y="1255680"/>
                    <a:ext cx="21600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2987640" y="3357720"/>
            <a:ext cx="321804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404640"/>
            <a:ext cx="871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Даны векторы       (-1,2,8) и        (2,-4,3).  Найдите координаты векторов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а)            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б)              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в)     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411280" y="476280"/>
          <a:ext cx="198720" cy="28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476280"/>
                    <a:ext cx="198720" cy="2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4211640" y="476280"/>
          <a:ext cx="2109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476280"/>
                    <a:ext cx="2109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611280" y="1197000"/>
          <a:ext cx="930240" cy="361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1197000"/>
                    <a:ext cx="93024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611280" y="1700280"/>
          <a:ext cx="1092240" cy="73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1280" y="1700280"/>
                    <a:ext cx="1092240" cy="7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611280" y="2637000"/>
          <a:ext cx="954000" cy="361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1280" y="2637000"/>
                    <a:ext cx="95400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0" name=""/>
          <p:cNvGrpSpPr/>
          <p:nvPr/>
        </p:nvGrpSpPr>
        <p:grpSpPr>
          <a:xfrm>
            <a:off x="324000" y="4149720"/>
            <a:ext cx="7343640" cy="738360"/>
            <a:chOff x="324000" y="4149720"/>
            <a:chExt cx="7343640" cy="738360"/>
          </a:xfrm>
        </p:grpSpPr>
        <p:sp>
          <p:nvSpPr>
            <p:cNvPr id="191" name=""/>
            <p:cNvSpPr/>
            <p:nvPr/>
          </p:nvSpPr>
          <p:spPr>
            <a:xfrm>
              <a:off x="324000" y="4292640"/>
              <a:ext cx="734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а) (1, -2, 30); б) (-1, 2,       ); в) (11, -22, 7)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2" name=""/>
            <p:cNvGraphicFramePr/>
            <p:nvPr/>
          </p:nvGraphicFramePr>
          <p:xfrm>
            <a:off x="4211640" y="4149720"/>
            <a:ext cx="396720" cy="738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9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211640" y="4149720"/>
                      <a:ext cx="396720" cy="73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0920" y="40464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Найдите координаты точки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, если вектор           имеет координаты (4, -3, 0) и точка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M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- (1, -3, -7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429264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(5, -6, -7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084720" y="404640"/>
          <a:ext cx="533520" cy="3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404640"/>
                    <a:ext cx="533520" cy="3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40464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Какому условию должны удовлетворять координаты вектора, чтобы он был: а) перпендикулярен координатной плоскости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Oxy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; б) параллелен координатной прямой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Ox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4000" y="378936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а) Первая и вторая координаты равны нулю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58920" y="429264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б) вторая и третья координаты равны нулю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0920" y="40464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Найдите координаты конца единичного вектора с началом в точке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(1, 2, 3) и: а) перпендикулярного плоскости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Oxy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; б) параллельного прямой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Ox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378936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а) (1,2,4), (1,2,2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58920" y="429264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б) (2,2,3), (0,2,3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404640"/>
            <a:ext cx="8713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Найдите длину вектора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а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б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в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84360" y="981000"/>
          <a:ext cx="144756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981000"/>
                    <a:ext cx="144756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4360" y="1557360"/>
          <a:ext cx="844560" cy="41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1557360"/>
                    <a:ext cx="84456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4360" y="2060640"/>
          <a:ext cx="1060200" cy="41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2060640"/>
                    <a:ext cx="10602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250920" y="4724280"/>
            <a:ext cx="2089080" cy="459720"/>
            <a:chOff x="250920" y="4724280"/>
            <a:chExt cx="2089080" cy="459720"/>
          </a:xfrm>
        </p:grpSpPr>
        <p:sp>
          <p:nvSpPr>
            <p:cNvPr id="223" name=""/>
            <p:cNvSpPr/>
            <p:nvPr/>
          </p:nvSpPr>
          <p:spPr>
            <a:xfrm>
              <a:off x="250920" y="4724280"/>
              <a:ext cx="20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а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4" name=""/>
            <p:cNvGraphicFramePr/>
            <p:nvPr/>
          </p:nvGraphicFramePr>
          <p:xfrm>
            <a:off x="1547640" y="4724280"/>
            <a:ext cx="615960" cy="419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547640" y="4724280"/>
                      <a:ext cx="615960" cy="4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6" name=""/>
          <p:cNvGrpSpPr/>
          <p:nvPr/>
        </p:nvGrpSpPr>
        <p:grpSpPr>
          <a:xfrm>
            <a:off x="2195640" y="4724280"/>
            <a:ext cx="2089080" cy="459720"/>
            <a:chOff x="2195640" y="4724280"/>
            <a:chExt cx="2089080" cy="459720"/>
          </a:xfrm>
        </p:grpSpPr>
        <p:sp>
          <p:nvSpPr>
            <p:cNvPr id="227" name=""/>
            <p:cNvSpPr/>
            <p:nvPr/>
          </p:nvSpPr>
          <p:spPr>
            <a:xfrm>
              <a:off x="2195640" y="4724280"/>
              <a:ext cx="20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б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8" name=""/>
            <p:cNvGraphicFramePr/>
            <p:nvPr/>
          </p:nvGraphicFramePr>
          <p:xfrm>
            <a:off x="2614680" y="4724280"/>
            <a:ext cx="641160" cy="4194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2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614680" y="4724280"/>
                      <a:ext cx="641160" cy="4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0" name=""/>
          <p:cNvGrpSpPr/>
          <p:nvPr/>
        </p:nvGrpSpPr>
        <p:grpSpPr>
          <a:xfrm>
            <a:off x="3216240" y="4724280"/>
            <a:ext cx="2089080" cy="459720"/>
            <a:chOff x="3216240" y="4724280"/>
            <a:chExt cx="2089080" cy="459720"/>
          </a:xfrm>
        </p:grpSpPr>
        <p:sp>
          <p:nvSpPr>
            <p:cNvPr id="231" name=""/>
            <p:cNvSpPr/>
            <p:nvPr/>
          </p:nvSpPr>
          <p:spPr>
            <a:xfrm>
              <a:off x="3216240" y="4724280"/>
              <a:ext cx="20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в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2" name=""/>
            <p:cNvGraphicFramePr/>
            <p:nvPr/>
          </p:nvGraphicFramePr>
          <p:xfrm>
            <a:off x="3724200" y="4737240"/>
            <a:ext cx="461880" cy="393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3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724200" y="4737240"/>
                      <a:ext cx="46188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КООРДИНАТЫ ВЕКТО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4762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Теорема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ектор    имеет координаты (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y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z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) тогда и только тогда,  когда он представим в вид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995640" y="907920"/>
          <a:ext cx="200052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907920"/>
                    <a:ext cx="200052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2484360" y="549360"/>
          <a:ext cx="201600" cy="27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549360"/>
                    <a:ext cx="20160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0" y="134136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Доказательство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Отложим вектор     от начала координат и его конец обозначим через 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. Имеет место равенств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Точка 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имеет координаты (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y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z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) тогда и только тогда, когда выполняются равенства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и, значит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00720" y="1413000"/>
          <a:ext cx="201600" cy="27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00720" y="1413000"/>
                    <a:ext cx="20160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276720" y="2060640"/>
          <a:ext cx="2825640" cy="47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76720" y="2060640"/>
                    <a:ext cx="28256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987640" y="3141720"/>
          <a:ext cx="3675240" cy="482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87640" y="3141720"/>
                    <a:ext cx="36752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403280" y="3573360"/>
          <a:ext cx="2000160" cy="414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03280" y="3573360"/>
                    <a:ext cx="200016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" name="" descr=""/>
          <p:cNvPicPr/>
          <p:nvPr/>
        </p:nvPicPr>
        <p:blipFill>
          <a:blip r:embed="rId13"/>
          <a:stretch/>
        </p:blipFill>
        <p:spPr>
          <a:xfrm>
            <a:off x="3780000" y="3716280"/>
            <a:ext cx="321768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ДЛИНА ВЕКТО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476280"/>
            <a:ext cx="8964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Если вектор         задан координатами начальной и конечной точек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y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z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)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y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z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), то его длина выражается формул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47640" y="1413000"/>
          <a:ext cx="5253120" cy="5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413000"/>
                    <a:ext cx="525312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059280" y="2421000"/>
            <a:ext cx="3240000" cy="2981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2124000" y="549360"/>
          <a:ext cx="203400" cy="27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24000" y="549360"/>
                    <a:ext cx="2034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404640"/>
            <a:ext cx="8353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Найдите координаты векторов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а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б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в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г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4221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а) (-2, 6, 1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4360" y="981000"/>
          <a:ext cx="211428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981000"/>
                    <a:ext cx="211428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684360" y="1557360"/>
          <a:ext cx="1314360" cy="41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1557360"/>
                    <a:ext cx="131436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684360" y="2060640"/>
          <a:ext cx="1676160" cy="41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2060640"/>
                    <a:ext cx="167616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684360" y="2637000"/>
          <a:ext cx="1650960" cy="36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4360" y="2637000"/>
                    <a:ext cx="16509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2627280" y="4221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б) (1, 3, 0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40360" y="4221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в) (0, -3, 2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24360" y="4221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г) (-5, 0, 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40464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Найдите координаты вектора            , если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(2, -6, 9)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(-5, 3, -7); б)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(1, 3, -8)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(6, -5, -10); в)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(-3, 1, -20)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(5, 1, -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422100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а) (-7, 9, -16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16360" y="4221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б) (5, -8, -2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4221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в) (8, 0, 19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427640" y="476280"/>
          <a:ext cx="45072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476280"/>
                    <a:ext cx="4507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40464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ектор          имеет координаты (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). Найдите координаты вектора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4292640"/>
            <a:ext cx="35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-a, -b, -c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403280" y="476280"/>
          <a:ext cx="45108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476280"/>
                    <a:ext cx="4510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403280" y="836640"/>
          <a:ext cx="41904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836640"/>
                    <a:ext cx="4190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404640"/>
            <a:ext cx="8713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прямоугольном параллелепипеде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OABCO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B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C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вершина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O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– начало координат, ребра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OA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OC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OO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лежат на осях координат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Ox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Oy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Oz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соответственно и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OA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=2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OC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=3,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OO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=4. Найдите координаты векторов          ,         ,          ,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292640"/>
            <a:ext cx="75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(2, 0, 4); (2, 3, 4); (0, 0, 4); (0, 3, 0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348000" y="1484280"/>
          <a:ext cx="488880" cy="4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484280"/>
                    <a:ext cx="4888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133880" y="1484280"/>
          <a:ext cx="501480" cy="4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33880" y="1484280"/>
                    <a:ext cx="5014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842000" y="1484280"/>
          <a:ext cx="538200" cy="4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42000" y="1484280"/>
                    <a:ext cx="5382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761080" y="1515960"/>
          <a:ext cx="463680" cy="374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61080" y="1515960"/>
                    <a:ext cx="46368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404640"/>
            <a:ext cx="87138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На рисунке изображен прямоугольный параллелепипед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OABCO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B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C</a:t>
            </a:r>
            <a:r>
              <a:rPr b="0" lang="ru-RU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, у которого вершина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совпадает с началом координат. Найдите координаты вектора: а)       ; б)        ; в)        ; г)         ; д)          ; е)         ; ж)         ; з)         ; и)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5734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а) (0, 8, 0); б) (-5, 0, 0); в) (-5, 8, 0); г) (0, 0, 6); д) (0, -8, 6); е) (0, -8, 0); ж) (0, 0, 6); з) (-5, 8, 6); и) (-5, 8, -6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121440" y="1157400"/>
          <a:ext cx="42696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1440" y="1157400"/>
                    <a:ext cx="42696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7093080" y="1197000"/>
          <a:ext cx="463320" cy="37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93080" y="1197000"/>
                    <a:ext cx="46332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8113680" y="1197000"/>
          <a:ext cx="438120" cy="37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113680" y="1197000"/>
                    <a:ext cx="43812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611280" y="1557360"/>
          <a:ext cx="538200" cy="43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1280" y="1557360"/>
                    <a:ext cx="5382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1770120" y="1557360"/>
          <a:ext cx="52524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70120" y="1557360"/>
                    <a:ext cx="52524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892600" y="1557360"/>
          <a:ext cx="574560" cy="438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92600" y="1557360"/>
                    <a:ext cx="5745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092480" y="1557360"/>
          <a:ext cx="487440" cy="438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092480" y="1557360"/>
                    <a:ext cx="48744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5167440" y="1557360"/>
          <a:ext cx="500040" cy="438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67440" y="1557360"/>
                    <a:ext cx="50004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6300720" y="1557360"/>
          <a:ext cx="500040" cy="438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300720" y="1557360"/>
                    <a:ext cx="50004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3" name="" descr=""/>
          <p:cNvPicPr/>
          <p:nvPr/>
        </p:nvPicPr>
        <p:blipFill>
          <a:blip r:embed="rId19"/>
          <a:stretch/>
        </p:blipFill>
        <p:spPr>
          <a:xfrm>
            <a:off x="2987640" y="2133720"/>
            <a:ext cx="378000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40464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Найдите координаты векторов           и            , если        (1, 0, 2),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(0,3,-4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429264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(1, 3, -2); (1, -3, 6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427640" y="476280"/>
          <a:ext cx="644400" cy="36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476280"/>
                    <a:ext cx="64440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5442120" y="476280"/>
          <a:ext cx="63180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42120" y="476280"/>
                    <a:ext cx="63180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7308720" y="476280"/>
          <a:ext cx="198720" cy="284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08720" y="476280"/>
                    <a:ext cx="198720" cy="2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900000" y="836640"/>
          <a:ext cx="211320" cy="361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0000" y="836640"/>
                    <a:ext cx="21132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2:19:38Z</dcterms:created>
  <dc:creator>*</dc:creator>
  <dc:description/>
  <dc:language>en-US</dc:language>
  <cp:lastModifiedBy>*</cp:lastModifiedBy>
  <dcterms:modified xsi:type="dcterms:W3CDTF">2008-07-25T05:47:57Z</dcterms:modified>
  <cp:revision>26</cp:revision>
  <dc:subject/>
  <dc:title>Расстояние между двумя точками</dc:title>
</cp:coreProperties>
</file>