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4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EB2-825C-4330-9BCB-9ABF3D154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862-A230-4182-B437-4065B72B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74C-3366-4DB7-99FA-6ED96B1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AD3-68BF-477A-80E3-A631B27B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6CB-7B6B-4122-8EF7-1356295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764-BBAB-4938-B48A-A23D01A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DBC-5E0B-41D6-B621-0DACD0A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F25-8F17-46CE-B8BF-7D614FA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374-70E2-4E5D-BAE7-49A1688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1FC-9190-4369-B10D-C3F68B6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CC2-29CD-4762-97C0-C3E9487A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C28-1E6C-4E08-828D-EA15104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89A-45CE-45F5-B0DD-D0C2DDC7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6692-AAB9-498A-81D8-BDB47A9E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7628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тложим вектор так, чтобы его начало совпало с началом координат. Тогда координаты его конца называютс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ами вектор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Обозначим     ,      ,      векторы с координатами (1, 0, 0), (0, 1, 0), (0, 0, 1) соответственно. Их длины равны единице, а направления совпадают с направлениями соответствующих осей координат. Будем изображать эти векторы, отложенными от начала координат и называть их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ными векторами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7640" y="1268280"/>
          <a:ext cx="1778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68280"/>
                    <a:ext cx="177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473280" y="1238400"/>
          <a:ext cx="21600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1238400"/>
                    <a:ext cx="216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48200" y="1255680"/>
          <a:ext cx="2160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8200" y="1255680"/>
                    <a:ext cx="2160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987640" y="3357720"/>
            <a:ext cx="321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04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Даны векторы       (-1,2,8) и        (2,-4,3).  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11280" y="476280"/>
          <a:ext cx="198720" cy="2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211640" y="476280"/>
          <a:ext cx="2109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76280"/>
                    <a:ext cx="2109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1280" y="1197000"/>
          <a:ext cx="93024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197000"/>
                    <a:ext cx="9302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1700280"/>
          <a:ext cx="1092240" cy="73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700280"/>
                    <a:ext cx="10922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1280" y="2637000"/>
          <a:ext cx="95400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637000"/>
                    <a:ext cx="9540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324000" y="4149720"/>
            <a:ext cx="7343640" cy="738360"/>
            <a:chOff x="324000" y="4149720"/>
            <a:chExt cx="7343640" cy="738360"/>
          </a:xfrm>
        </p:grpSpPr>
        <p:sp>
          <p:nvSpPr>
            <p:cNvPr id="191" name=""/>
            <p:cNvSpPr/>
            <p:nvPr/>
          </p:nvSpPr>
          <p:spPr>
            <a:xfrm>
              <a:off x="324000" y="4292640"/>
              <a:ext cx="73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 (1, -2, 30); б) (-1, 2,       ); в) (11, -22, 7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4211640" y="4149720"/>
            <a:ext cx="396720" cy="738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1640" y="4149720"/>
                      <a:ext cx="39672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если вектор           имеет координаты (4, -3, 0) и точ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- (1, -3, -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292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5, -6, -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84720" y="404640"/>
          <a:ext cx="533520" cy="3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04640"/>
                    <a:ext cx="53352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ому условию должны удовлетворять координаты вектора, чтобы он был: а) перпендикулярен координатной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ен координатной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Первая и вторая координаты равны нул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429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вторая и третья координаты равны нул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конца единичного вектора с началом в точк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2, 3) и: а) перпендикулярног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ьного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1,2,4), (1,2,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292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2,2,3), (0,2,3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04640"/>
            <a:ext cx="871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длину вектор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981000"/>
          <a:ext cx="144756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1447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1557360"/>
          <a:ext cx="84456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844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2060640"/>
          <a:ext cx="106020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060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250920" y="4724280"/>
            <a:ext cx="2089080" cy="459720"/>
            <a:chOff x="250920" y="4724280"/>
            <a:chExt cx="2089080" cy="459720"/>
          </a:xfrm>
        </p:grpSpPr>
        <p:sp>
          <p:nvSpPr>
            <p:cNvPr id="223" name=""/>
            <p:cNvSpPr/>
            <p:nvPr/>
          </p:nvSpPr>
          <p:spPr>
            <a:xfrm>
              <a:off x="25092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1547640" y="4724280"/>
            <a:ext cx="61596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615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2195640" y="4724280"/>
            <a:ext cx="2089080" cy="459720"/>
            <a:chOff x="2195640" y="4724280"/>
            <a:chExt cx="2089080" cy="459720"/>
          </a:xfrm>
        </p:grpSpPr>
        <p:sp>
          <p:nvSpPr>
            <p:cNvPr id="227" name=""/>
            <p:cNvSpPr/>
            <p:nvPr/>
          </p:nvSpPr>
          <p:spPr>
            <a:xfrm>
              <a:off x="21956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2614680" y="4724280"/>
            <a:ext cx="641160" cy="41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14680" y="4724280"/>
                      <a:ext cx="6411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0" name=""/>
          <p:cNvGrpSpPr/>
          <p:nvPr/>
        </p:nvGrpSpPr>
        <p:grpSpPr>
          <a:xfrm>
            <a:off x="3216240" y="4724280"/>
            <a:ext cx="2089080" cy="459720"/>
            <a:chOff x="3216240" y="4724280"/>
            <a:chExt cx="2089080" cy="459720"/>
          </a:xfrm>
        </p:grpSpPr>
        <p:sp>
          <p:nvSpPr>
            <p:cNvPr id="231" name=""/>
            <p:cNvSpPr/>
            <p:nvPr/>
          </p:nvSpPr>
          <p:spPr>
            <a:xfrm>
              <a:off x="32162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3724200" y="4737240"/>
            <a:ext cx="4618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24200" y="4737240"/>
                      <a:ext cx="4618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6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 когда он представим в ви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95640" y="907920"/>
          <a:ext cx="200052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907920"/>
                    <a:ext cx="20005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484360" y="549360"/>
          <a:ext cx="2016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4936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1341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оказательст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тложим вектор     от начала координат и его конец обозначим через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Имеет место 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когда выполняются равенства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, значит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00720" y="1413000"/>
          <a:ext cx="20160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41300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2060640"/>
          <a:ext cx="2825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60640"/>
                    <a:ext cx="2825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87640" y="3141720"/>
          <a:ext cx="367524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141720"/>
                    <a:ext cx="3675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03280" y="3573360"/>
          <a:ext cx="2000160" cy="41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3573360"/>
                    <a:ext cx="2000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3780000" y="3716280"/>
            <a:ext cx="32176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ДЛИНА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76280"/>
            <a:ext cx="896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Если вектор         задан координатами начальной и конечной точек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то его длина выражается форму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1413000"/>
          <a:ext cx="5253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5253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3240000" cy="29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24000" y="549360"/>
          <a:ext cx="2034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4936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4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2, 6, 1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81000"/>
          <a:ext cx="21142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21142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84360" y="1557360"/>
          <a:ext cx="131436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1314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2060640"/>
          <a:ext cx="167616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676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4360" y="2637000"/>
          <a:ext cx="16509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637000"/>
                    <a:ext cx="1650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627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1, 3, 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42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0, -3,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(-5, 0,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а            , если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2, -6, 9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5, 3, -7)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3, -8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6, -5, -10)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3, 1, -20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5, 1, 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7, 9, -16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5, -8, -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8, 0, 1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27640" y="476280"/>
          <a:ext cx="4507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50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  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. Найдите координаты вектора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292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-a, -b, -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476280"/>
          <a:ext cx="4510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76280"/>
                    <a:ext cx="451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03280" y="836640"/>
          <a:ext cx="419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419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04640"/>
            <a:ext cx="871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прямоугольном параллелепипе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– начало координат, реб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лежат на осях координат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y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z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соответственно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2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3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4. Найдите координаты векторов          ,         ,          ,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292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2, 0, 4); (2, 3, 4); (0, 0, 4); (0, 3, 0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348000" y="1484280"/>
          <a:ext cx="4888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8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133880" y="1484280"/>
          <a:ext cx="5014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3880" y="1484280"/>
                    <a:ext cx="50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842000" y="1484280"/>
          <a:ext cx="5382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0" y="148428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61080" y="1515960"/>
          <a:ext cx="4636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1080" y="1515960"/>
                    <a:ext cx="4636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4640"/>
            <a:ext cx="8713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рисунке изображен прямоугольный параллелепипед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у которого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совпадает с началом координат. Найдите координаты вектора: а)       ; б)        ; в)        ; г)         ; д)          ; е)         ; ж)         ; з)         ; и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3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0, 8, 0); б) (-5, 0, 0); в) (-5, 8, 0); г) (0, 0, 6); д) (0, -8, 6); е) (0, -8, 0); ж) (0, 0, 6); з) (-5, 8, 6); и) (-5, 8, -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21440" y="1157400"/>
          <a:ext cx="4269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57400"/>
                    <a:ext cx="426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93080" y="1197000"/>
          <a:ext cx="46332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197000"/>
                    <a:ext cx="4633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113680" y="1197000"/>
          <a:ext cx="4381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13680" y="1197000"/>
                    <a:ext cx="4381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11280" y="1557360"/>
          <a:ext cx="53820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55736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770120" y="1557360"/>
          <a:ext cx="52524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1557360"/>
                    <a:ext cx="525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2600" y="1557360"/>
          <a:ext cx="57456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2600" y="1557360"/>
                    <a:ext cx="574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092480" y="1557360"/>
          <a:ext cx="48744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92480" y="1557360"/>
                    <a:ext cx="487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167440" y="1557360"/>
          <a:ext cx="50004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6744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300720" y="1557360"/>
          <a:ext cx="500040" cy="4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19"/>
          <a:stretch/>
        </p:blipFill>
        <p:spPr>
          <a:xfrm>
            <a:off x="2987640" y="2133720"/>
            <a:ext cx="3780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           и            , если        (1, 0, 2),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0,3,-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292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1, 3, -2); (1, -3, 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27640" y="476280"/>
          <a:ext cx="64440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644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42120" y="476280"/>
          <a:ext cx="63180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476280"/>
                    <a:ext cx="6318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308720" y="476280"/>
          <a:ext cx="198720" cy="28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900000" y="836640"/>
          <a:ext cx="21132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836640"/>
                    <a:ext cx="211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19:38Z</dcterms:created>
  <dc:creator>*</dc:creator>
  <dc:description/>
  <dc:language>en-US</dc:language>
  <cp:lastModifiedBy>*</cp:lastModifiedBy>
  <dcterms:modified xsi:type="dcterms:W3CDTF">2008-07-25T05:47:57Z</dcterms:modified>
  <cp:revision>26</cp:revision>
  <dc:subject/>
  <dc:title>Расстояние между двумя точками</dc:title>
</cp:coreProperties>
</file>