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40.wmf" ContentType="image/x-wmf"/>
  <Override PartName="/ppt/media/image38.wmf" ContentType="image/x-wmf"/>
  <Override PartName="/ppt/media/image8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13.wmf" ContentType="image/x-wmf"/>
  <Override PartName="/ppt/media/image34.wmf" ContentType="image/x-wmf"/>
  <Override PartName="/ppt/media/image39.wmf" ContentType="image/x-wmf"/>
  <Override PartName="/ppt/media/image4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35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F129-3A1B-44A1-AC7F-57DCD55D3C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7BD-7626-407F-ACAB-856B865B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DF9-3D3A-4981-81D9-FA65692F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EB3-CF5A-4CFC-8349-E06B2127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E1F-E64E-4B0A-8FEC-8C989561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F3EF-42DF-4B8D-843D-71B14115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C49E-66DF-4EB4-9706-BCF6C38F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9D5-D950-4888-A9F7-33D42C1F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AFF-5C9B-48C5-922E-F4D85E77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61B4-648A-4110-A5F3-0C5116BE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989-F517-4714-B0CC-D93E7338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AD4-5AA6-4BC6-9CFE-10DBE416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F8C-D103-4B4F-B332-F730A95E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5378-23ED-451E-8A6C-0FECBD58F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КООРДИНАТЫ ВЕКТ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76280"/>
            <a:ext cx="89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Отложим вектор так, чтобы его начало совпало с началом координат. Тогда координаты его конца называются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координатами вектора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Обозначим     ,      ,      векторы с координатами (1, 0, 0), (0, 1, 0), (0, 0, 1) соответственно. Их длины равны единице, а направления совпадают с направлениями соответствующих осей координат. Будем изображать эти векторы, отложенными от начала координат и называть их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координатными векторами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987640" y="1268280"/>
          <a:ext cx="17784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268280"/>
                    <a:ext cx="1778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473280" y="1238400"/>
          <a:ext cx="216000" cy="38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3280" y="1238400"/>
                    <a:ext cx="2160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48200" y="1255680"/>
          <a:ext cx="216000" cy="34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48200" y="1255680"/>
                    <a:ext cx="2160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2987640" y="3357720"/>
            <a:ext cx="32180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404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Даны векторы       (-1,2,8) и        (2,-4,3).  Найдите координаты векторов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а)            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             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)  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411280" y="476280"/>
          <a:ext cx="198720" cy="28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476280"/>
                    <a:ext cx="19872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211640" y="476280"/>
          <a:ext cx="2109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76280"/>
                    <a:ext cx="2109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11280" y="1197000"/>
          <a:ext cx="930240" cy="36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1197000"/>
                    <a:ext cx="93024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11280" y="1700280"/>
          <a:ext cx="1092240" cy="73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1700280"/>
                    <a:ext cx="109224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11280" y="2637000"/>
          <a:ext cx="954000" cy="36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2637000"/>
                    <a:ext cx="9540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"/>
          <p:cNvGrpSpPr/>
          <p:nvPr/>
        </p:nvGrpSpPr>
        <p:grpSpPr>
          <a:xfrm>
            <a:off x="324000" y="4149720"/>
            <a:ext cx="7343640" cy="738360"/>
            <a:chOff x="324000" y="4149720"/>
            <a:chExt cx="7343640" cy="738360"/>
          </a:xfrm>
        </p:grpSpPr>
        <p:sp>
          <p:nvSpPr>
            <p:cNvPr id="191" name=""/>
            <p:cNvSpPr/>
            <p:nvPr/>
          </p:nvSpPr>
          <p:spPr>
            <a:xfrm>
              <a:off x="324000" y="4292640"/>
              <a:ext cx="734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а) (1, -2, 30); б) (-1, 2,       ); в) (11, -22, 7)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2" name=""/>
            <p:cNvGraphicFramePr/>
            <p:nvPr/>
          </p:nvGraphicFramePr>
          <p:xfrm>
            <a:off x="4211640" y="4149720"/>
            <a:ext cx="396720" cy="738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211640" y="4149720"/>
                      <a:ext cx="396720" cy="73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404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координаты точк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если вектор           имеет координаты (4, -3, 0) и точк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- (1, -3, -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29264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(5, -6, -7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84720" y="404640"/>
          <a:ext cx="533520" cy="3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404640"/>
                    <a:ext cx="53352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04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Какому условию должны удовлетворять координаты вектора, чтобы он был: а) перпендикулярен координатной плоскост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xy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 б) параллелен координатной прямой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3789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а) Первая и вторая координаты равны нулю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4292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вторая и третья координаты равны нул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404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координаты конца единичного вектора с началом в точк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1, 2, 3) и: а) перпендикулярного плоскост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xy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 б) параллельного прямой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3789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а) (1,2,4), (1,2,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4292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(2,2,3), (0,2,3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404640"/>
            <a:ext cx="8713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айдите длину вектор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4360" y="981000"/>
          <a:ext cx="144756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81000"/>
                    <a:ext cx="14475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4360" y="1557360"/>
          <a:ext cx="844560" cy="41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557360"/>
                    <a:ext cx="8445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4360" y="2060640"/>
          <a:ext cx="106020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060640"/>
                    <a:ext cx="10602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250920" y="4724280"/>
            <a:ext cx="2089080" cy="459720"/>
            <a:chOff x="250920" y="4724280"/>
            <a:chExt cx="2089080" cy="459720"/>
          </a:xfrm>
        </p:grpSpPr>
        <p:sp>
          <p:nvSpPr>
            <p:cNvPr id="223" name=""/>
            <p:cNvSpPr/>
            <p:nvPr/>
          </p:nvSpPr>
          <p:spPr>
            <a:xfrm>
              <a:off x="250920" y="472428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а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1547640" y="4724280"/>
            <a:ext cx="615960" cy="419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47640" y="4724280"/>
                      <a:ext cx="61596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6" name=""/>
          <p:cNvGrpSpPr/>
          <p:nvPr/>
        </p:nvGrpSpPr>
        <p:grpSpPr>
          <a:xfrm>
            <a:off x="2195640" y="4724280"/>
            <a:ext cx="2089080" cy="459720"/>
            <a:chOff x="2195640" y="4724280"/>
            <a:chExt cx="2089080" cy="459720"/>
          </a:xfrm>
        </p:grpSpPr>
        <p:sp>
          <p:nvSpPr>
            <p:cNvPr id="227" name=""/>
            <p:cNvSpPr/>
            <p:nvPr/>
          </p:nvSpPr>
          <p:spPr>
            <a:xfrm>
              <a:off x="2195640" y="472428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б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8" name=""/>
            <p:cNvGraphicFramePr/>
            <p:nvPr/>
          </p:nvGraphicFramePr>
          <p:xfrm>
            <a:off x="2614680" y="4724280"/>
            <a:ext cx="641160" cy="419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614680" y="4724280"/>
                      <a:ext cx="64116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0" name=""/>
          <p:cNvGrpSpPr/>
          <p:nvPr/>
        </p:nvGrpSpPr>
        <p:grpSpPr>
          <a:xfrm>
            <a:off x="3216240" y="4724280"/>
            <a:ext cx="2089080" cy="459720"/>
            <a:chOff x="3216240" y="4724280"/>
            <a:chExt cx="2089080" cy="459720"/>
          </a:xfrm>
        </p:grpSpPr>
        <p:sp>
          <p:nvSpPr>
            <p:cNvPr id="231" name=""/>
            <p:cNvSpPr/>
            <p:nvPr/>
          </p:nvSpPr>
          <p:spPr>
            <a:xfrm>
              <a:off x="3216240" y="472428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в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"/>
            <p:cNvGraphicFramePr/>
            <p:nvPr/>
          </p:nvGraphicFramePr>
          <p:xfrm>
            <a:off x="3724200" y="4737240"/>
            <a:ext cx="46188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24200" y="4737240"/>
                      <a:ext cx="4618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КООРДИНАТЫ ВЕКТ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476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Теорема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ектор    имеет координаты 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 тогда и только тогда,  когда он представим в ви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95640" y="907920"/>
          <a:ext cx="200052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907920"/>
                    <a:ext cx="200052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484360" y="549360"/>
          <a:ext cx="20160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549360"/>
                    <a:ext cx="20160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1341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оказательство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Отложим вектор     от начала координат и его конец обозначим через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. Имеет место равенст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Точка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имеет координаты 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 тогда и только тогда, когда выполняются равенства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и, значит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00720" y="1413000"/>
          <a:ext cx="201600" cy="27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413000"/>
                    <a:ext cx="20160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76720" y="2060640"/>
          <a:ext cx="282564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2060640"/>
                    <a:ext cx="28256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987640" y="3141720"/>
          <a:ext cx="3675240" cy="482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7640" y="3141720"/>
                    <a:ext cx="36752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403280" y="3573360"/>
          <a:ext cx="2000160" cy="41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03280" y="3573360"/>
                    <a:ext cx="20001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" descr=""/>
          <p:cNvPicPr/>
          <p:nvPr/>
        </p:nvPicPr>
        <p:blipFill>
          <a:blip r:embed="rId13"/>
          <a:stretch/>
        </p:blipFill>
        <p:spPr>
          <a:xfrm>
            <a:off x="3780000" y="3716280"/>
            <a:ext cx="321768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ДЛИНА ВЕКТ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476280"/>
            <a:ext cx="8964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Если вектор         задан координатами начальной и конечной точек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y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y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, то его длина выражается формул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47640" y="1413000"/>
          <a:ext cx="525312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413000"/>
                    <a:ext cx="5253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059280" y="2421000"/>
            <a:ext cx="3240000" cy="298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2124000" y="549360"/>
          <a:ext cx="203400" cy="27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549360"/>
                    <a:ext cx="203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404640"/>
            <a:ext cx="8353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айдите координаты векторов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г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422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а) (-2, 6, 1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981000"/>
          <a:ext cx="211428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81000"/>
                    <a:ext cx="21142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84360" y="1557360"/>
          <a:ext cx="131436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557360"/>
                    <a:ext cx="13143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84360" y="2060640"/>
          <a:ext cx="167616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060640"/>
                    <a:ext cx="16761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84360" y="2637000"/>
          <a:ext cx="165096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2637000"/>
                    <a:ext cx="16509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2627280" y="4221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(1, 3, 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4221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) (0, -3, 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24360" y="4221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г) (-5, 0, 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40464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координаты вектора            , если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2, -6, 9)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-5, 3, -7); б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1, 3, -8)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6, -5, -10); в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-3, 1, -20)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5, 1, -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4221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а) (-7, 9, -16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16360" y="4221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(5, -8, -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22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) (8, 0, 19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427640" y="476280"/>
          <a:ext cx="45072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476280"/>
                    <a:ext cx="4507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04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ектор          имеет координаты 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. Найдите координаты вектора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429264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-a, -b, -c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403280" y="476280"/>
          <a:ext cx="45108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476280"/>
                    <a:ext cx="4510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03280" y="836640"/>
          <a:ext cx="41904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836640"/>
                    <a:ext cx="4190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04640"/>
            <a:ext cx="8713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прямоугольном параллелепипед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ABCO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вершин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– начало координат, ребр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A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C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O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лежат на осях координат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x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y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z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соответственно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=2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C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=3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O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=4. Найдите координаты векторов          ,         ,          ,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29264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(2, 0, 4); (2, 3, 4); (0, 0, 4); (0, 3, 0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348000" y="1484280"/>
          <a:ext cx="4888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4888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133880" y="1484280"/>
          <a:ext cx="50148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3880" y="1484280"/>
                    <a:ext cx="501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842000" y="1484280"/>
          <a:ext cx="5382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2000" y="1484280"/>
                    <a:ext cx="5382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761080" y="1515960"/>
          <a:ext cx="46368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61080" y="1515960"/>
                    <a:ext cx="4636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404640"/>
            <a:ext cx="8713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 рисунке изображен прямоугольный параллелепипед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ABCO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у которого вершин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совпадает с началом координат. Найдите координаты вектора: а)       ; б)        ; в)        ; г)         ; д)          ; е)         ; ж)         ; з)         ; и)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734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а) (0, 8, 0); б) (-5, 0, 0); в) (-5, 8, 0); г) (0, 0, 6); д) (0, -8, 6); е) (0, -8, 0); ж) (0, 0, 6); з) (-5, 8, 6); и) (-5, 8, -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21440" y="1157400"/>
          <a:ext cx="42696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1440" y="1157400"/>
                    <a:ext cx="4269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7093080" y="1197000"/>
          <a:ext cx="463320" cy="3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3080" y="1197000"/>
                    <a:ext cx="46332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8113680" y="1197000"/>
          <a:ext cx="438120" cy="3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13680" y="1197000"/>
                    <a:ext cx="43812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11280" y="1557360"/>
          <a:ext cx="53820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1557360"/>
                    <a:ext cx="5382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770120" y="1557360"/>
          <a:ext cx="52524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70120" y="1557360"/>
                    <a:ext cx="525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892600" y="1557360"/>
          <a:ext cx="574560" cy="43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2600" y="1557360"/>
                    <a:ext cx="5745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092480" y="1557360"/>
          <a:ext cx="487440" cy="43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92480" y="1557360"/>
                    <a:ext cx="4874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167440" y="1557360"/>
          <a:ext cx="500040" cy="438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67440" y="1557360"/>
                    <a:ext cx="5000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300720" y="1557360"/>
          <a:ext cx="500040" cy="438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1557360"/>
                    <a:ext cx="5000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" descr=""/>
          <p:cNvPicPr/>
          <p:nvPr/>
        </p:nvPicPr>
        <p:blipFill>
          <a:blip r:embed="rId19"/>
          <a:stretch/>
        </p:blipFill>
        <p:spPr>
          <a:xfrm>
            <a:off x="2987640" y="2133720"/>
            <a:ext cx="37800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404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айдите координаты векторов           и            , если        (1, 0, 2),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0,3,-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429264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(1, 3, -2); (1, -3, 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427640" y="476280"/>
          <a:ext cx="64440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476280"/>
                    <a:ext cx="644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442120" y="476280"/>
          <a:ext cx="63180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42120" y="476280"/>
                    <a:ext cx="6318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7308720" y="476280"/>
          <a:ext cx="198720" cy="28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476280"/>
                    <a:ext cx="19872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900000" y="836640"/>
          <a:ext cx="211320" cy="36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836640"/>
                    <a:ext cx="2113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19:38Z</dcterms:created>
  <dc:creator>*</dc:creator>
  <dc:description/>
  <dc:language>en-US</dc:language>
  <cp:lastModifiedBy>*</cp:lastModifiedBy>
  <dcterms:modified xsi:type="dcterms:W3CDTF">2008-07-25T05:47:57Z</dcterms:modified>
  <cp:revision>26</cp:revision>
  <dc:subject/>
  <dc:title>Расстояние между двумя точками</dc:title>
</cp:coreProperties>
</file>