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C74-EC29-45FB-A499-46AF3F4D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D30-0A92-42A9-B60A-C135678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573-6982-4D69-B96E-9B4FF7AA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9FD-0BA2-4BF9-A3F6-6C6798CD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5B2-B38A-4A80-93C3-10BADE99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7C9-96EA-4490-8AA3-8D89969F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859-BDCA-4E07-8D08-32528F4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460-BEED-4FCD-A60A-A433E6C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235-D663-48A7-94CA-CB78CAEF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AF8-7A6F-467B-B6EE-2B27ACA6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FB5-098D-472B-8D9C-947942D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F6A-512B-430F-9706-9F9243C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C8A7-B7F7-4DFA-A5FC-4256C5E6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11.wav" TargetMode="External"/><Relationship Id="rId3" Type="http://schemas.microsoft.com/office/2007/relationships/media" Target="file:///tmp/home/.config/libreoffice/4/user/gallery/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8.wav" TargetMode="External"/><Relationship Id="rId3" Type="http://schemas.microsoft.com/office/2007/relationships/media" Target="file:///tmp/home/.config/libreoffice/4/user/gallery/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09680"/>
            <a:ext cx="6858000" cy="49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ff"/>
                </a:solidFill>
                <a:latin typeface="Arial"/>
              </a:rPr>
              <a:t>Композиторы</a:t>
            </a:r>
            <a:r>
              <a:rPr b="1" lang="en-US" sz="7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0000ff"/>
                </a:solidFill>
                <a:latin typeface="Arial"/>
              </a:rPr>
              <a:t>период романтизм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(1820-191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161136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7238880"/>
            <a:ext cx="609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Густав Малер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5791320" cy="5743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2720" y="8381880"/>
            <a:ext cx="39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 и дирижер, симфонис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фония-кантата «Песнь о земл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251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3152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Джоаккино Россини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446400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822960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тал. композитор, возродил оперу-буффа («Севильский цирюльник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Вильгельм Телль», «Отелло», «Золушка», «Семирамида»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орока-воровка»,  «Танкред», «Итальянка в Алжире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179360" y="4211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0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6477120"/>
            <a:ext cx="4952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анц Шубер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6096240" cy="466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80629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стр. композитор, создатель романтической песни-романса (ок. 600 на стихи Шиллера, Гёте, Гейне и др.). 9 романтич. симф. («Неоконченная»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сенные циклы, квартеты, вальсы, фантаз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2619360" y="4716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5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701028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Гектор Берлио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5715000" cy="523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8077320"/>
            <a:ext cx="68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. композитор, дирижёр, новатор в области муз. фор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Фан тастическая симфония», «Траурно-триумфальная симфония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 «Троянцы», Реквием, трактат «Дирижёр оркестра», «Мемуары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3995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5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78168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еликс Мендельсо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5562720" cy="519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792468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дирижер, пианист и органист. Основатель 1-й нем. консерватории (Лейпциг, 1843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фонии «Шотландская», «Итальянская», симф. увертюры «Фингал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щера», «Сон в летнюю ночь», оратории, концерты д/скрипки, д/ф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39720" y="4427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5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708660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ридерик Шопе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016600" cy="6019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3560" y="8305920"/>
            <a:ext cx="670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ский композитор, пианист, жил в Париже. Сочинения д/фп - мазурк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незы, вальсы, скерцо, прелюдии, баллады, сонаты, пьес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25100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5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55308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Роберт Шуман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5638680" cy="4564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0" y="8077320"/>
            <a:ext cx="69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создатель циклов лирико-драматических фп. миниатю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«Бабочки», «Карнавал»), вокальных циклов «Любовь и жизнь женщины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Любовь поэта».  «Симф. этюды» д/фп., 4 симфонии, оратория «Рай и Пери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395360" y="4716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70866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Ференц Лис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442120" cy="594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000" y="8153280"/>
            <a:ext cx="68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нг. композитор, пианист, дирижёр. «Фауст-симфония», 13 симф. поэ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псодии, сонаты, этюды, вальсы, хоры, циклы «Альбом путешественника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оды странствий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03500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46748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Иоганнес Брамс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657680" cy="662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9800" y="8381880"/>
            <a:ext cx="58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м. композитор, пианист, дирижёр. Жил в Ве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симфонии, увертюры, сонаты, серенады. «Немецкий реквием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963720" y="428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5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85800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Пётр Чайковский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143680" cy="460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60840" y="8077320"/>
            <a:ext cx="705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упнейший рус. симфонист, драматург, лир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ы «Евг.Онегин», «Мазепа», «Черевички», «Иоланта», «Пиковая дама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ародейка». Балеты «Лебединое озеро», «Щелкунчик», «Спящая красавица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747720" y="4140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25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1:27:22Z</dcterms:created>
  <dc:creator/>
  <dc:description/>
  <dc:language>en-US</dc:language>
  <cp:lastModifiedBy>mixas</cp:lastModifiedBy>
  <dcterms:modified xsi:type="dcterms:W3CDTF">2005-04-27T09:14:18Z</dcterms:modified>
  <cp:revision>14</cp:revision>
  <dc:subject/>
  <dc:title>Композиторы_романтизм 10</dc:title>
</cp:coreProperties>
</file>