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A020-96DC-4ADE-84AB-BF1D93499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1C04-529E-49E4-968C-E24CD6096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6910-6F08-415B-907F-97E3F8EA1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78C5-E154-4056-86CF-35AD65546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D10B-5AF3-42D7-8A46-4131E646B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98F0-8544-4E35-AC8F-C5CF6786E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DA23-1CAF-4487-90DA-AF3A8F8D9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6AF5-17CC-4518-AF2E-C55409455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2EF5-188A-4BF2-A0D3-2C1794F11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2E6F-B941-4EE9-BA11-B612C361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8B1F-3EEA-4B35-9A6B-9B832C1E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1C91-FD4A-496E-94D9-99685F8A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8FA5B-549D-498A-A9F1-7FDCAD2DDA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1.wav" TargetMode="External"/><Relationship Id="rId2" Type="http://schemas.microsoft.com/office/2007/relationships/media" Target="file:///tmp/home/.config/libreoffice/4/user/gallery/1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file:///tmp/home/.config/libreoffice/4/user/gallery/10.wav" TargetMode="External"/><Relationship Id="rId3" Type="http://schemas.microsoft.com/office/2007/relationships/media" Target="file:///tmp/home/.config/libreoffice/4/user/gallery/10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file:///tmp/home/.config/libreoffice/4/user/gallery/11.wav" TargetMode="External"/><Relationship Id="rId3" Type="http://schemas.microsoft.com/office/2007/relationships/media" Target="file:///tmp/home/.config/libreoffice/4/user/gallery/11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file:///tmp/home/.config/libreoffice/4/user/gallery/2.wav" TargetMode="External"/><Relationship Id="rId3" Type="http://schemas.microsoft.com/office/2007/relationships/media" Target="file:///tmp/home/.config/libreoffice/4/user/gallery/2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file:///tmp/home/.config/libreoffice/4/user/gallery/3.wav" TargetMode="External"/><Relationship Id="rId3" Type="http://schemas.microsoft.com/office/2007/relationships/media" Target="file:///tmp/home/.config/libreoffice/4/user/gallery/3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file:///tmp/home/.config/libreoffice/4/user/gallery/4.wav" TargetMode="External"/><Relationship Id="rId3" Type="http://schemas.microsoft.com/office/2007/relationships/media" Target="file:///tmp/home/.config/libreoffice/4/user/gallery/4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file:///tmp/home/.config/libreoffice/4/user/gallery/5.wav" TargetMode="External"/><Relationship Id="rId3" Type="http://schemas.microsoft.com/office/2007/relationships/media" Target="file:///tmp/home/.config/libreoffice/4/user/gallery/5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file:///tmp/home/.config/libreoffice/4/user/gallery/6.wav" TargetMode="External"/><Relationship Id="rId3" Type="http://schemas.microsoft.com/office/2007/relationships/media" Target="file:///tmp/home/.config/libreoffice/4/user/gallery/6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file:///tmp/home/.config/libreoffice/4/user/gallery/7.wav" TargetMode="External"/><Relationship Id="rId3" Type="http://schemas.microsoft.com/office/2007/relationships/media" Target="file:///tmp/home/.config/libreoffice/4/user/gallery/7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file:///tmp/home/.config/libreoffice/4/user/gallery/8.wav" TargetMode="External"/><Relationship Id="rId3" Type="http://schemas.microsoft.com/office/2007/relationships/media" Target="file:///tmp/home/.config/libreoffice/4/user/gallery/8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file:///tmp/home/.config/libreoffice/4/user/gallery/9.wav" TargetMode="External"/><Relationship Id="rId3" Type="http://schemas.microsoft.com/office/2007/relationships/media" Target="file:///tmp/home/.config/libreoffice/4/user/gallery/9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09680"/>
            <a:ext cx="6858000" cy="49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00ff"/>
                </a:solidFill>
                <a:latin typeface="Arial"/>
              </a:rPr>
              <a:t>Композиторы</a:t>
            </a:r>
            <a:r>
              <a:rPr b="1" lang="en-US" sz="70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0" spc="-1" strike="noStrike">
                <a:solidFill>
                  <a:srgbClr val="0000ff"/>
                </a:solidFill>
                <a:latin typeface="Arial"/>
              </a:rPr>
              <a:t>период романтизма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(1820-1910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1611360" y="4284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50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2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04920" y="7238880"/>
            <a:ext cx="6095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</a:rPr>
              <a:t>Густав Малер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5791320" cy="5743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62720" y="8381880"/>
            <a:ext cx="394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встр. композитор и дирижер, симфонист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имфония-кантата «Песнь о земле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1251000" y="4284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225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8"/>
                </p:tgtEl>
              </p:cMediaNode>
            </p:audio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7315200"/>
            <a:ext cx="6858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</a:rPr>
              <a:t>Джоаккино Россини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95280" y="990720"/>
            <a:ext cx="4464000" cy="5943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2280" y="8229600"/>
            <a:ext cx="685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тал. композитор, возродил оперу-буффа («Севильский цирюльник»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перы «Вильгельм Телль», «Отелло», «Золушка», «Семирамида»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Сорока-воровка»,  «Танкред», «Итальянка в Алжире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1179360" y="4211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250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2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14400" y="6477120"/>
            <a:ext cx="4952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</a:rPr>
              <a:t>Франц Шуберт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6096240" cy="4662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320" y="8062920"/>
            <a:ext cx="685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встр. композитор, создатель романтической песни-романса (ок. 600 на стихи Шиллера, Гёте, Гейне и др.). 9 романтич. симф. («Неоконченная»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сенные циклы, квартеты, вальсы, фантази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2619360" y="4716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25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6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7010280"/>
            <a:ext cx="5867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</a:rPr>
              <a:t>Гектор Берлиоз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5715000" cy="5232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280" y="8077320"/>
            <a:ext cx="685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р. композитор, дирижёр, новатор в области муз. форм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Фан тастическая симфония», «Траурно-триумфальная симфония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пера «Троянцы», Реквием, трактат «Дирижёр оркестра», «Мемуары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963720" y="3995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5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0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6781680"/>
            <a:ext cx="6858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</a:rPr>
              <a:t>Феликс Мендельсон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5562720" cy="5191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52280" y="7924680"/>
            <a:ext cx="685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м. композитор, дирижер, пианист и органист. Основатель 1-й нем. консерватории (Лейпциг, 1843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имфонии «Шотландская», «Итальянская», симф. увертюры «Фингало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щера», «Сон в летнюю ночь», оратории, концерты д/скрипки, д/фп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1539720" y="4427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50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4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09480" y="7086600"/>
            <a:ext cx="5715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</a:rPr>
              <a:t>Фридерик Шопен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5016600" cy="6019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33560" y="8305920"/>
            <a:ext cx="6707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льский композитор, пианист, жил в Париже. Сочинения д/фп - мазурки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лонезы, вальсы, скерцо, прелюдии, баллады, сонаты, пьес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1251000" y="4284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25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8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80880" y="6553080"/>
            <a:ext cx="5943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</a:rPr>
              <a:t>Роберт Шуман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5638680" cy="4564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4760" y="8077320"/>
            <a:ext cx="691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м. композитор, создатель циклов лирико-драматических фп. миниатюр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«Бабочки», «Карнавал»), вокальных циклов «Любовь и жизнь женщины»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Любовь поэта».  «Симф. этюды» д/фп., 4 симфонии, оратория «Рай и Пери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1395360" y="4716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00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2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838080" y="7086600"/>
            <a:ext cx="5029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</a:rPr>
              <a:t>Ференц Лист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5442120" cy="5943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7000" y="8153280"/>
            <a:ext cx="681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енг. композитор, пианист, дирижёр. «Фауст-симфония», 13 симф. поэм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псодии, сонаты, этюды, вальсы, хоры, циклы «Альбом путешественника»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Годы странствий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1035000" y="4572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00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6"/>
                </p:tgtEl>
              </p:cMediaNode>
            </p:audio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7467480"/>
            <a:ext cx="6858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</a:rPr>
              <a:t>Иоганнес Брамс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4657680" cy="6629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99800" y="8381880"/>
            <a:ext cx="580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м. композитор, пианист, дирижёр. Жил в Вен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4 симфонии, увертюры, сонаты, серенады. «Немецкий реквием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963720" y="4284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75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0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6858000"/>
            <a:ext cx="6858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</a:rPr>
              <a:t>Пётр Чайковский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5143680" cy="46008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-60840" y="8077320"/>
            <a:ext cx="705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рупнейший рус. симфонист, драматург, лирик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перы «Евг.Онегин», «Мазепа», «Черевички», «Иоланта», «Пиковая дама»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Чародейка». Балеты «Лебединое озеро», «Щелкунчик», «Спящая красавица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747720" y="4140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2251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4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5T11:27:22Z</dcterms:created>
  <dc:creator/>
  <dc:description/>
  <dc:language>en-US</dc:language>
  <cp:lastModifiedBy>mixas</cp:lastModifiedBy>
  <dcterms:modified xsi:type="dcterms:W3CDTF">2005-04-27T09:14:18Z</dcterms:modified>
  <cp:revision>14</cp:revision>
  <dc:subject/>
  <dc:title>Композиторы_романтизм 10</dc:title>
</cp:coreProperties>
</file>