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5A1-786F-4CE7-9976-41F8F74F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066-BB79-44B4-9207-6B0B2686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448-904B-453D-8895-C2CD837A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C59-83A5-49CC-B79B-AD71B6AA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744-E88A-40FB-825C-47E69CE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276-6C0A-4F62-90F3-BB6EAEF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CD3-D139-41D1-94A1-4B56495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580-552E-419B-9D09-16CE00E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A9B-2228-42A4-82E4-6BA3E18E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E62-C94E-465D-B59B-579C3775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27B-48FE-46C1-A9FA-073EDA3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CBC-369B-4D22-B74F-CB3D66B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79B-3C3F-448D-8DFA-7B44F1A95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8.wav" TargetMode="External"/><Relationship Id="rId3" Type="http://schemas.microsoft.com/office/2007/relationships/media" Target="file:///tmp/home/.config/libreoffice/4/user/gallery/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685800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Arial"/>
              </a:rPr>
              <a:t>Композиторы</a:t>
            </a: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период романтизм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1820-191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61136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7238880"/>
            <a:ext cx="609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устав Мале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79132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2720" y="8381880"/>
            <a:ext cx="39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 и дирижер, симфонис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я-кантата «Песнь о земл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3152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Джоаккино Россин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446400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82296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возродил оперу-буффа («Севильский цирюльник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Вильгельм Телль», «Отелло», «Золушка», «Семирамида»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орока-воровка»,  «Танкред», «Итальянка в Алжир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179360" y="4211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0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6477120"/>
            <a:ext cx="49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анц Шубер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096240" cy="46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8062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, создатель романтической песни-романса (ок. 600 на стихи Шиллера, Гёте, Гейне и др.). 9 романтич. симф. («Неоконченная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сенные циклы, квартеты, вальсы, фантаз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2619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01028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ектор Берлио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5715000" cy="523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80773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. композитор, дирижёр, новатор в области муз. фор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Фан тастическая симфония», «Траурно-триумфальная симфо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 «Троянцы», Реквием, трактат «Дирижёр оркестра», «Мемуары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3995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7816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ликс Мендельсо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5562720" cy="519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792468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дирижер, пианист и органист. Основатель 1-й нем. консерватории (Лейпциг, 184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и «Шотландская», «Итальянская», симф. увертюры «Фингал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щера», «Сон в летнюю ночь», оратории, концерты д/скрипки, д/ф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39720" y="4427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708660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идерик Шопе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016600" cy="60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560" y="8305920"/>
            <a:ext cx="670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ский композитор, пианист, жил в Париже. Сочинения д/фп - мазур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незы, вальсы, скерцо, прелюдии, баллады, сонаты, пье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5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55308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Роберт Шума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5638680" cy="456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0" y="807732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создатель циклов лирико-драматических фп. миниатю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«Бабочки», «Карнавал»), вокальных циклов «Любовь и жизнь женщины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Любовь поэта».  «Симф. этюды» д/фп., 4 симфонии, оратория «Рай и Пер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395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70866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ренц Лис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44212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0" y="8153280"/>
            <a:ext cx="68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нг. композитор, пианист, дирижёр. «Фауст-симфония», 13 симф. поэ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псодии, сонаты, этюды, вальсы, хоры, циклы «Альбом путешественник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оды странствий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0350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4674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Иоганнес Брам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65768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9800" y="8381880"/>
            <a:ext cx="58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пианист, дирижёр. Жил в Ве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симфонии, увертюры, сонаты, серенады. «Немецкий реквием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5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8580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Пётр Чайковски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143680" cy="46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0840" y="8077320"/>
            <a:ext cx="705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ий рус. симфонист, драматург, лир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Евг.Онегин», «Мазепа», «Черевички», «Иоланта», «Пиковая дам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ародейка». Балеты «Лебединое озеро», «Щелкунчик», «Спящая красавица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747720" y="4140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1:27:22Z</dcterms:created>
  <dc:creator/>
  <dc:description/>
  <dc:language>en-US</dc:language>
  <cp:lastModifiedBy>mixas</cp:lastModifiedBy>
  <dcterms:modified xsi:type="dcterms:W3CDTF">2005-04-27T09:14:18Z</dcterms:modified>
  <cp:revision>14</cp:revision>
  <dc:subject/>
  <dc:title>Композиторы_романтизм 10</dc:title>
</cp:coreProperties>
</file>