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C4B5B-0AF9-441E-8C09-854011080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B87A2-5432-4C66-8EEB-10E15A35E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9E4FF-08A3-41BE-9939-D05897A11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604AD-ED3D-4377-96BA-6E08FCA36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E0EDA-3F67-49B7-8D9C-BBABD8D4E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955BE-CCE7-45C4-85F6-42EC310B4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A9E99-D218-4F36-8ADE-D94EB901D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FEDD4-7F6A-467F-BEF6-2A8F78871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6EF99-DF4B-4F2D-A877-F8920F70F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2C873-D33A-4748-80B7-12B76E756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A995A-740A-4D27-BCAD-0EEB115DC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DB469-22E9-4799-B891-6D2FF88CC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68233-95E2-477A-B3CF-A7519240C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95438-9055-432C-A856-21E62C1BF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C1EE1-E8F0-41EE-B076-094C738CD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17B83-F040-43A0-8550-605D1A740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57399-9179-4376-9CD2-74DBBD0EC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6F4B9F-978C-4A5B-8009-22574606B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D0194A-F464-4F97-9C90-0F981EA86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8E3C0C-6FDC-4B69-A06D-D2B7EC952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32310C-CD4B-4D58-BC10-4F9A5EB48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6493AE-3D64-4ED5-AF43-35292ACDB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59F34-D5E9-446D-B0EA-CBEA79D83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8D032A-7C84-4ADA-AF9F-0CEF3CF11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0A852B-5CB4-4D08-9150-AA8E13E0E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F4C839-C275-4FC8-B38B-BBD3209AD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1F0036-836E-4040-A78C-24F964879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1DF40A-5D35-4B34-B15B-E6A6B7C4F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13E886-0CD6-49E7-9D74-17B77FE1F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E3482E-272F-4754-B8E0-C6B0110A2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E861E3-F487-4265-B025-2685EC5FD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1C42C2-3D05-4911-B7F6-67548BCCE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130C25-0C4B-4A9D-9FEB-A8F02C3C9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4856E-287C-4A2B-87B5-EBEFE529A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1C5A52-ECC7-49C6-AFF2-C512D83E0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056EFF-3E52-4EBF-AFB2-F4FBC0F2D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23F5DD-B7AE-4E0D-A577-AA39B258E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AD0AB5-F515-42E9-920F-37F142507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044AEF-AF98-44BC-A3B0-42CC330CB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C342E9-D907-4FA6-8C1E-95A7E1EA8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4BE022-ABAB-429E-99F0-B07096C65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F4A22B-309F-4CD0-8FF1-20D1FE101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61197E-CE90-48BA-B1E4-E1D16A121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4BCB5D-42FC-472D-BD2A-CCE65595B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ECD9B-9F08-48E2-9536-51BD6FD78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061F57-6D84-4B3F-A373-FAEB317B4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8F593A-7E40-41A2-901C-588376333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034617-FB1D-424E-8621-CC8D42636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85566B-4645-49DB-AC2A-029BA33FE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1D61A8-F007-4C9D-BC1E-51D9AC049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28402C-D725-41D3-99D8-37A447FDB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6F4E10-6835-42A2-911B-9C89F2C3F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46F90D-F2CA-472B-B3E7-996E19D63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2F6FDA-E336-4775-9D02-9EB536E6A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AA8460-A343-47D9-B9FB-A986068E9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BE980-2C99-447E-91B0-953B1C4B7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027210-D267-4360-9364-E10026F34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4E46C1-BECA-433D-B529-554B3BB5C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77A7CD-1F56-4A7F-8FD3-184D67829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090DB2-2FBE-46B2-A059-E18BFD681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70D94B-0606-44FD-9DE2-CA156AD80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E9DB70-A487-4680-BCEA-B8552313D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B77EA5-414C-4E93-9859-DA7408D95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F94D08-940E-4A6A-B958-10E3EB330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1BA3BF-47C9-443F-89F1-D677DDFB3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0FBAAD-CCA9-4190-96A4-450404C2F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9835A-BA29-4483-A719-33B6B9232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CAD2C4-9E08-4905-93E7-41364CDDB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912808-9D56-41D6-B592-8BFCA537B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5AFC86-22AF-42F6-8322-358F4F2B5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6FAA18-3E10-4072-A134-8A700EDDF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21503D-D628-44C4-88D6-EA98C586B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FD04F7-A579-4B48-B93D-22FFA9FFE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837EE7-1279-4DDF-BCC8-8C4E619D5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B3820C-1D05-4AAD-A690-0A6F23A9B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C21B59-ACE1-441F-BB4F-4C1A885D9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5CCF76-ABC5-4680-86D2-72E6464E8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1CA9E-C78C-4F91-80F6-0DFE14472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1E6391-F4FE-4846-9AB4-8B79E2834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40A747-E649-412C-8CC5-1E67089A4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90DCF8-AD75-4C3C-A2FC-F3817B2D4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A6FDF6-5A43-4B11-A27B-03C46B4D1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3570BC-901C-49F3-BE17-CEFC9BB14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C63A3-2DC7-419C-B2BE-634624498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99AF3-765F-4939-A504-A85DE29E8F50}" type="slidenum">
              <a:rPr b="0" lang="ru-RU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Прямоугольник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Прямоугольник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Прямоугольник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Прямоугольник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Прямоугольник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Прямоугольник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Прямоугольник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A3C09-E0D4-496B-97A1-290047491964}" type="slidenum">
              <a:rPr b="0" lang="ru-RU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Полилиния 17"/>
          <p:cNvSpPr/>
          <p:nvPr/>
        </p:nvSpPr>
        <p:spPr>
          <a:xfrm>
            <a:off x="4829040" y="1073160"/>
            <a:ext cx="4321440" cy="5791320"/>
          </a:xfrm>
          <a:custGeom>
            <a:avLst/>
            <a:gdLst>
              <a:gd name="textAreaLeft" fmla="*/ 0 w 4321440"/>
              <a:gd name="textAreaRight" fmla="*/ 4321800 w 4321440"/>
              <a:gd name="textAreaTop" fmla="*/ 0 h 5791320"/>
              <a:gd name="textAreaBottom" fmla="*/ 5791680 h 5791320"/>
            </a:gdLst>
            <a:ahLst/>
            <a:rect l="textAreaLeft" t="textAreaTop" r="textAreaRight" b="textAreaBottom"/>
            <a:pathLst>
              <a:path w="2736" h="3648">
                <a:moveTo>
                  <a:pt x="0" y="3648"/>
                </a:moveTo>
                <a:lnTo>
                  <a:pt x="720" y="2016"/>
                </a:lnTo>
                <a:lnTo>
                  <a:pt x="2736" y="672"/>
                </a:lnTo>
                <a:lnTo>
                  <a:pt x="2736" y="720"/>
                </a:lnTo>
                <a:lnTo>
                  <a:pt x="744" y="2038"/>
                </a:lnTo>
                <a:lnTo>
                  <a:pt x="48" y="3648"/>
                </a:lnTo>
                <a:lnTo>
                  <a:pt x="48" y="3648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Полилиния 18"/>
          <p:cNvSpPr/>
          <p:nvPr/>
        </p:nvSpPr>
        <p:spPr>
          <a:xfrm>
            <a:off x="374760" y="0"/>
            <a:ext cx="5513400" cy="6615000"/>
          </a:xfrm>
          <a:custGeom>
            <a:avLst/>
            <a:gdLst>
              <a:gd name="textAreaLeft" fmla="*/ 0 w 5513400"/>
              <a:gd name="textAreaRight" fmla="*/ 5513760 w 5513400"/>
              <a:gd name="textAreaTop" fmla="*/ 0 h 6615000"/>
              <a:gd name="textAreaBottom" fmla="*/ 6615360 h 6615000"/>
            </a:gdLst>
            <a:ahLst/>
            <a:rect l="textAreaLeft" t="textAreaTop" r="textAreaRight" b="textAreaBottom"/>
            <a:pathLst>
              <a:path w="3504" h="4128">
                <a:moveTo>
                  <a:pt x="0" y="4080"/>
                </a:moveTo>
                <a:lnTo>
                  <a:pt x="0" y="4128"/>
                </a:lnTo>
                <a:lnTo>
                  <a:pt x="3504" y="2640"/>
                </a:lnTo>
                <a:lnTo>
                  <a:pt x="2880" y="0"/>
                </a:lnTo>
                <a:lnTo>
                  <a:pt x="2832" y="0"/>
                </a:lnTo>
                <a:lnTo>
                  <a:pt x="3465" y="2619"/>
                </a:lnTo>
                <a:lnTo>
                  <a:pt x="0" y="4080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Полилиния 19"/>
          <p:cNvSpPr/>
          <p:nvPr/>
        </p:nvSpPr>
        <p:spPr>
          <a:xfrm rot="5236200">
            <a:off x="4461120" y="1483200"/>
            <a:ext cx="4114800" cy="1189080"/>
          </a:xfrm>
          <a:custGeom>
            <a:avLst/>
            <a:gdLst>
              <a:gd name="textAreaLeft" fmla="*/ 0 w 4114800"/>
              <a:gd name="textAreaRight" fmla="*/ 4115160 w 4114800"/>
              <a:gd name="textAreaTop" fmla="*/ 0 h 1189080"/>
              <a:gd name="textAreaBottom" fmla="*/ 1189440 h 118908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Полилиния 20"/>
          <p:cNvSpPr/>
          <p:nvPr/>
        </p:nvSpPr>
        <p:spPr>
          <a:xfrm>
            <a:off x="5943600" y="0"/>
            <a:ext cx="2743200" cy="4267080"/>
          </a:xfrm>
          <a:custGeom>
            <a:avLst/>
            <a:gdLst>
              <a:gd name="textAreaLeft" fmla="*/ 0 w 2743200"/>
              <a:gd name="textAreaRight" fmla="*/ 2743200 w 27432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1728" h="2688">
                <a:moveTo>
                  <a:pt x="1104" y="0"/>
                </a:moveTo>
                <a:lnTo>
                  <a:pt x="1728" y="0"/>
                </a:lnTo>
                <a:lnTo>
                  <a:pt x="0" y="2688"/>
                </a:lnTo>
                <a:lnTo>
                  <a:pt x="110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Полилиния 23"/>
          <p:cNvSpPr/>
          <p:nvPr/>
        </p:nvSpPr>
        <p:spPr>
          <a:xfrm>
            <a:off x="5943600" y="4267080"/>
            <a:ext cx="3200400" cy="11430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016" h="720">
                <a:moveTo>
                  <a:pt x="0" y="0"/>
                </a:moveTo>
                <a:lnTo>
                  <a:pt x="2016" y="240"/>
                </a:lnTo>
                <a:lnTo>
                  <a:pt x="2016" y="720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Полилиния 24"/>
          <p:cNvSpPr/>
          <p:nvPr/>
        </p:nvSpPr>
        <p:spPr>
          <a:xfrm>
            <a:off x="5943600" y="0"/>
            <a:ext cx="1371600" cy="42670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864" h="2688">
                <a:moveTo>
                  <a:pt x="864" y="0"/>
                </a:moveTo>
                <a:lnTo>
                  <a:pt x="0" y="2688"/>
                </a:lnTo>
                <a:lnTo>
                  <a:pt x="768" y="0"/>
                </a:lnTo>
                <a:lnTo>
                  <a:pt x="86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Полилиния 25"/>
          <p:cNvSpPr/>
          <p:nvPr/>
        </p:nvSpPr>
        <p:spPr>
          <a:xfrm>
            <a:off x="5948280" y="4246560"/>
            <a:ext cx="2090880" cy="2611440"/>
          </a:xfrm>
          <a:custGeom>
            <a:avLst/>
            <a:gdLst>
              <a:gd name="textAreaLeft" fmla="*/ 0 w 2090880"/>
              <a:gd name="textAreaRight" fmla="*/ 2091240 w 2090880"/>
              <a:gd name="textAreaTop" fmla="*/ 0 h 2611440"/>
              <a:gd name="textAreaBottom" fmla="*/ 2611800 h 2611440"/>
            </a:gdLst>
            <a:ahLst/>
            <a:rect l="textAreaLeft" t="textAreaTop" r="textAreaRight" b="textAreaBottom"/>
            <a:pathLst>
              <a:path w="1317" h="1645">
                <a:moveTo>
                  <a:pt x="1071" y="1645"/>
                </a:moveTo>
                <a:lnTo>
                  <a:pt x="1317" y="1645"/>
                </a:lnTo>
                <a:lnTo>
                  <a:pt x="0" y="0"/>
                </a:lnTo>
                <a:lnTo>
                  <a:pt x="1071" y="1645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Полилиния 26"/>
          <p:cNvSpPr/>
          <p:nvPr/>
        </p:nvSpPr>
        <p:spPr>
          <a:xfrm>
            <a:off x="5943600" y="4267080"/>
            <a:ext cx="1600200" cy="259092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1008" h="1632">
                <a:moveTo>
                  <a:pt x="1008" y="1632"/>
                </a:moveTo>
                <a:lnTo>
                  <a:pt x="0" y="0"/>
                </a:lnTo>
                <a:lnTo>
                  <a:pt x="960" y="1632"/>
                </a:lnTo>
                <a:lnTo>
                  <a:pt x="1008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Полилиния 27"/>
          <p:cNvSpPr/>
          <p:nvPr/>
        </p:nvSpPr>
        <p:spPr>
          <a:xfrm>
            <a:off x="5943600" y="1371600"/>
            <a:ext cx="3200400" cy="289548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016" h="1824">
                <a:moveTo>
                  <a:pt x="2016" y="0"/>
                </a:moveTo>
                <a:lnTo>
                  <a:pt x="2016" y="144"/>
                </a:lnTo>
                <a:lnTo>
                  <a:pt x="0" y="1824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Полилиния 28"/>
          <p:cNvSpPr/>
          <p:nvPr/>
        </p:nvSpPr>
        <p:spPr>
          <a:xfrm>
            <a:off x="5943600" y="1752480"/>
            <a:ext cx="3200400" cy="25146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016" h="1584">
                <a:moveTo>
                  <a:pt x="2016" y="0"/>
                </a:moveTo>
                <a:lnTo>
                  <a:pt x="0" y="1584"/>
                </a:lnTo>
                <a:lnTo>
                  <a:pt x="2016" y="48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Полилиния 29"/>
          <p:cNvSpPr/>
          <p:nvPr/>
        </p:nvSpPr>
        <p:spPr>
          <a:xfrm>
            <a:off x="990720" y="4267080"/>
            <a:ext cx="4952880" cy="2590920"/>
          </a:xfrm>
          <a:custGeom>
            <a:avLst/>
            <a:gdLst/>
            <a:ahLst/>
            <a:rect l="l" t="t" r="r" b="b"/>
            <a:pathLst>
              <a:path w="3120" h="1632">
                <a:moveTo>
                  <a:pt x="0" y="1632"/>
                </a:moveTo>
                <a:lnTo>
                  <a:pt x="3120" y="0"/>
                </a:lnTo>
                <a:lnTo>
                  <a:pt x="1056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Полилиния 30"/>
          <p:cNvSpPr/>
          <p:nvPr/>
        </p:nvSpPr>
        <p:spPr>
          <a:xfrm>
            <a:off x="533520" y="4267080"/>
            <a:ext cx="5333760" cy="2590920"/>
          </a:xfrm>
          <a:custGeom>
            <a:avLst/>
            <a:gdLst>
              <a:gd name="textAreaLeft" fmla="*/ 0 w 5333760"/>
              <a:gd name="textAreaRight" fmla="*/ 5334120 w 533376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3360" h="1632">
                <a:moveTo>
                  <a:pt x="0" y="1632"/>
                </a:moveTo>
                <a:lnTo>
                  <a:pt x="3360" y="0"/>
                </a:lnTo>
                <a:lnTo>
                  <a:pt x="144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Полилиния 31"/>
          <p:cNvSpPr/>
          <p:nvPr/>
        </p:nvSpPr>
        <p:spPr>
          <a:xfrm>
            <a:off x="366840" y="2438280"/>
            <a:ext cx="5638680" cy="182880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3552" h="1152">
                <a:moveTo>
                  <a:pt x="0" y="0"/>
                </a:moveTo>
                <a:lnTo>
                  <a:pt x="3504" y="1152"/>
                </a:lnTo>
                <a:lnTo>
                  <a:pt x="0" y="384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Полилиния 32"/>
          <p:cNvSpPr/>
          <p:nvPr/>
        </p:nvSpPr>
        <p:spPr>
          <a:xfrm>
            <a:off x="366840" y="2133720"/>
            <a:ext cx="5638680" cy="213336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2133360"/>
              <a:gd name="textAreaBottom" fmla="*/ 2133720 h 213336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Полилиния 33"/>
          <p:cNvSpPr/>
          <p:nvPr/>
        </p:nvSpPr>
        <p:spPr>
          <a:xfrm>
            <a:off x="4572000" y="4267080"/>
            <a:ext cx="1371600" cy="25909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864" h="1632">
                <a:moveTo>
                  <a:pt x="0" y="1632"/>
                </a:moveTo>
                <a:lnTo>
                  <a:pt x="96" y="1632"/>
                </a:lnTo>
                <a:lnTo>
                  <a:pt x="864" y="0"/>
                </a:lnTo>
                <a:lnTo>
                  <a:pt x="0" y="1632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Прямоугольник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Прямоугольник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Прямоугольник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Прямоугольник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Прямоугольник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Прямоугольник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4CEC2-61BC-45B8-A5F8-B39049E69B50}" type="slidenum">
              <a:rPr b="0" lang="ru-RU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8001B-0A2E-45D4-B21F-2BB8C88BB355}" type="slidenum">
              <a:rPr b="0" lang="ru-RU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Прямоугольник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Прямоугольник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Прямоугольник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Прямоугольник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Прямоугольник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Прямоугольник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Прямоугольник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Прямоугольник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Прямоугольник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Прямоугольник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1865D-0C5D-4CEE-B510-D69FE432A8DF}" type="slidenum">
              <a:rPr b="0" lang="ru-RU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72B5D-B243-463E-8D15-B125F6DF1689}" type="slidenum">
              <a:rPr b="0" lang="ru-RU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Прямоугольник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Прямая соединительная линия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5" name="Группа 19"/>
          <p:cNvGrpSpPr/>
          <p:nvPr/>
        </p:nvGrpSpPr>
        <p:grpSpPr>
          <a:xfrm>
            <a:off x="8516520" y="1217520"/>
            <a:ext cx="128880" cy="131400"/>
            <a:chOff x="8516520" y="1217520"/>
            <a:chExt cx="128880" cy="131400"/>
          </a:xfrm>
        </p:grpSpPr>
        <p:sp>
          <p:nvSpPr>
            <p:cNvPr id="316" name="Прямая соединительная линия 20"/>
            <p:cNvSpPr/>
            <p:nvPr/>
          </p:nvSpPr>
          <p:spPr>
            <a:xfrm>
              <a:off x="8578080" y="1217520"/>
              <a:ext cx="6732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Прямая соединительная линия 23"/>
            <p:cNvSpPr/>
            <p:nvPr/>
          </p:nvSpPr>
          <p:spPr>
            <a:xfrm>
              <a:off x="8516520" y="1282680"/>
              <a:ext cx="9504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Прямая соединительная линия 24"/>
            <p:cNvSpPr/>
            <p:nvPr/>
          </p:nvSpPr>
          <p:spPr>
            <a:xfrm flipV="1">
              <a:off x="8578080" y="1282320"/>
              <a:ext cx="6732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9" name="Группа 25"/>
          <p:cNvGrpSpPr/>
          <p:nvPr/>
        </p:nvGrpSpPr>
        <p:grpSpPr>
          <a:xfrm>
            <a:off x="8669520" y="1370160"/>
            <a:ext cx="128880" cy="131400"/>
            <a:chOff x="8669520" y="1370160"/>
            <a:chExt cx="128880" cy="131400"/>
          </a:xfrm>
        </p:grpSpPr>
        <p:sp>
          <p:nvSpPr>
            <p:cNvPr id="320" name="Прямая соединительная линия 26"/>
            <p:cNvSpPr/>
            <p:nvPr/>
          </p:nvSpPr>
          <p:spPr>
            <a:xfrm>
              <a:off x="8731080" y="1370160"/>
              <a:ext cx="6732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Прямая соединительная линия 27"/>
            <p:cNvSpPr/>
            <p:nvPr/>
          </p:nvSpPr>
          <p:spPr>
            <a:xfrm>
              <a:off x="8669520" y="1435320"/>
              <a:ext cx="9540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Прямая соединительная линия 28"/>
            <p:cNvSpPr/>
            <p:nvPr/>
          </p:nvSpPr>
          <p:spPr>
            <a:xfrm flipV="1">
              <a:off x="8731080" y="1434960"/>
              <a:ext cx="6732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3" name="Группа 29"/>
          <p:cNvGrpSpPr/>
          <p:nvPr/>
        </p:nvGrpSpPr>
        <p:grpSpPr>
          <a:xfrm>
            <a:off x="8321400" y="1473120"/>
            <a:ext cx="128880" cy="131400"/>
            <a:chOff x="8321400" y="1473120"/>
            <a:chExt cx="128880" cy="131400"/>
          </a:xfrm>
        </p:grpSpPr>
        <p:sp>
          <p:nvSpPr>
            <p:cNvPr id="324" name="Прямая соединительная линия 30"/>
            <p:cNvSpPr/>
            <p:nvPr/>
          </p:nvSpPr>
          <p:spPr>
            <a:xfrm>
              <a:off x="8382960" y="1473120"/>
              <a:ext cx="6732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Прямая соединительная линия 31"/>
            <p:cNvSpPr/>
            <p:nvPr/>
          </p:nvSpPr>
          <p:spPr>
            <a:xfrm>
              <a:off x="8321400" y="1538280"/>
              <a:ext cx="9504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Прямая соединительная линия 32"/>
            <p:cNvSpPr/>
            <p:nvPr/>
          </p:nvSpPr>
          <p:spPr>
            <a:xfrm flipV="1">
              <a:off x="8382960" y="1537920"/>
              <a:ext cx="6732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F7410-133A-4E00-9468-E579335C59F5}" type="slidenum">
              <a:rPr b="0" lang="ru-RU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Заголовок 3" descr=""/>
          <p:cNvPicPr/>
          <p:nvPr/>
        </p:nvPicPr>
        <p:blipFill>
          <a:blip r:embed="rId1"/>
          <a:stretch/>
        </p:blipFill>
        <p:spPr>
          <a:xfrm>
            <a:off x="907920" y="4230720"/>
            <a:ext cx="7785360" cy="2455920"/>
          </a:xfrm>
          <a:prstGeom prst="rect">
            <a:avLst/>
          </a:prstGeom>
          <a:ln w="0">
            <a:noFill/>
          </a:ln>
        </p:spPr>
      </p:pic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826920" y="28526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100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езентация подготовлена Ивановой Н.С., учителем музыки, ИЗО, МХК МБОУ «Юркинская СОШ»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70" name="Picture 3" descr="C:\Documents and Settings\Пользователь\Рабочий стол\маскарад\post_19_9.png"/>
          <p:cNvPicPr/>
          <p:nvPr/>
        </p:nvPicPr>
        <p:blipFill>
          <a:blip r:embed="rId2"/>
          <a:stretch/>
        </p:blipFill>
        <p:spPr>
          <a:xfrm rot="19647000">
            <a:off x="1362240" y="534600"/>
            <a:ext cx="2808000" cy="280836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4" descr="C:\Documents and Settings\Пользователь\Рабочий стол\маскарад\maski_108.jpg"/>
          <p:cNvPicPr/>
          <p:nvPr/>
        </p:nvPicPr>
        <p:blipFill>
          <a:blip r:embed="rId3"/>
          <a:stretch/>
        </p:blipFill>
        <p:spPr>
          <a:xfrm rot="1372800">
            <a:off x="5508720" y="765000"/>
            <a:ext cx="1828800" cy="24386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1eeff"/>
                </a:solidFill>
                <a:latin typeface="Times New Roman"/>
                <a:ea typeface="Times New Roman"/>
              </a:rPr>
              <a:t>Маски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397" name="Picture 2" descr=""/>
          <p:cNvPicPr/>
          <p:nvPr/>
        </p:nvPicPr>
        <p:blipFill>
          <a:blip r:embed="rId1"/>
          <a:stretch/>
        </p:blipFill>
        <p:spPr>
          <a:xfrm>
            <a:off x="3635280" y="2492280"/>
            <a:ext cx="2276640" cy="313380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1979280" y="1809360"/>
            <a:ext cx="4824360" cy="63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ctr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Доктор чумы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 spd="med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1eeff"/>
                </a:solidFill>
                <a:latin typeface="Times New Roman"/>
                <a:ea typeface="Times New Roman"/>
              </a:rPr>
              <a:t>Венецианская Дама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400" name="Picture 5" descr=""/>
          <p:cNvPicPr/>
          <p:nvPr/>
        </p:nvPicPr>
        <p:blipFill>
          <a:blip r:embed="rId1"/>
          <a:stretch/>
        </p:blipFill>
        <p:spPr>
          <a:xfrm>
            <a:off x="3276720" y="2637000"/>
            <a:ext cx="3911400" cy="29336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p:transition spd="med"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1eeff"/>
                </a:solidFill>
                <a:latin typeface="Times New Roman"/>
                <a:ea typeface="Times New Roman"/>
              </a:rPr>
              <a:t>Коломбина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402" name="Picture 2" descr=""/>
          <p:cNvPicPr/>
          <p:nvPr/>
        </p:nvPicPr>
        <p:blipFill>
          <a:blip r:embed="rId1"/>
          <a:stretch/>
        </p:blipFill>
        <p:spPr>
          <a:xfrm>
            <a:off x="3132000" y="2133720"/>
            <a:ext cx="3564000" cy="267336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p:transition spd="med"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1eeff"/>
                </a:solidFill>
                <a:latin typeface="Times New Roman"/>
                <a:ea typeface="Times New Roman"/>
              </a:rPr>
              <a:t>Творческое задание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       </a:t>
            </a:r>
            <a:r>
              <a:rPr b="0" lang="ru-RU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 Придумайте свою  карнавальную маску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</a:t>
            </a:r>
            <a:r>
              <a:rPr b="0" lang="ru-RU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 Сделайте маску из цветной бумаги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</a:t>
            </a:r>
            <a:r>
              <a:rPr b="0" lang="ru-RU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 Подумайте, какие еще атрибуты (одежды. оформления и т.д.) могут быть символом маскарада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</a:t>
            </a:r>
            <a:r>
              <a:rPr b="0" lang="ru-RU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 Сделайте коллаж, используя  изготовленные вами маски и атрибуты праздника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 spd="med"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лагодарю за урок!</a:t>
            </a:r>
            <a:endParaRPr b="0" lang="en-US" sz="5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 spd="med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51264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1eeff"/>
                </a:solidFill>
                <a:latin typeface="Times New Roman"/>
                <a:ea typeface="Times New Roman"/>
              </a:rPr>
              <a:t>История праздника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465120" y="17701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рнавал придумали в Венеции. Такой демократичный праздник, когда все в масках и все равны, мог родиться только в демократичной  Республике Святого Марка, где между гражданами никогда не было вассальных отношений.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74" name="Picture 3" descr=""/>
          <p:cNvPicPr/>
          <p:nvPr/>
        </p:nvPicPr>
        <p:blipFill>
          <a:blip r:embed="rId1"/>
          <a:stretch/>
        </p:blipFill>
        <p:spPr>
          <a:xfrm>
            <a:off x="5364000" y="3178080"/>
            <a:ext cx="2938680" cy="20192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p:transition spd="med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1eeff"/>
                </a:solidFill>
                <a:latin typeface="Times New Roman"/>
                <a:ea typeface="Times New Roman"/>
              </a:rPr>
              <a:t>История праздника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ервое упоминание о карнавале относится к 1094 году. А  в 1296 году венецианцы ещё и официально узаконили его: Сенат Венецианской республики провозгласил последний день перед великим постом праздничным днем. Считается, что и  само слово «карнавал» произошло от латинского «carne vale», что означает «прощание с мясом».  Это каноническая церковная версия.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 spd="med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51264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1eeff"/>
                </a:solidFill>
                <a:latin typeface="Times New Roman"/>
                <a:ea typeface="Times New Roman"/>
              </a:rPr>
              <a:t>История праздника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465120" y="17701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стоки венецианского карнавала уходят глубже –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древние римские Сатурналии – ежегодные праздники в честь бога Сатурна, которые справлялись  в декабре после уборки урожая во время зимнего солнцестояния и сопровождались массовыми гуляниями. Рабов сажали за общий стол, и чтобы сгладить неловкость необычной ситуации, все надевали маски.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79" name="Picture 2" descr=""/>
          <p:cNvPicPr/>
          <p:nvPr/>
        </p:nvPicPr>
        <p:blipFill>
          <a:blip r:embed="rId1"/>
          <a:stretch/>
        </p:blipFill>
        <p:spPr>
          <a:xfrm>
            <a:off x="5310360" y="2924280"/>
            <a:ext cx="3024000" cy="25034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p:transition spd="med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1eeff"/>
                </a:solidFill>
                <a:latin typeface="Times New Roman"/>
                <a:ea typeface="Times New Roman"/>
              </a:rPr>
              <a:t>История праздника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рнавал  и родился из маскарада.  В какой-то момент венецианцы настолько увлеклись, что  начали "отрываться" в  веселии с начала октября по февраль включительно с легкими перерывами на посты.  А маска настолько прочно "приросла" к лицу, что стала просто частью экипировки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 spd="med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51264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1eeff"/>
                </a:solidFill>
                <a:latin typeface="Times New Roman"/>
                <a:ea typeface="Times New Roman"/>
              </a:rPr>
              <a:t>История праздника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465120" y="17701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"Пока длится карнавал все ходят в масках, начиная с дожа и кончая последней служанкой. В маске исполняют свои дела, защищают процессы, покупают рыбу, пишут, делают визиты. В маске можно сказать все и на все осмелиться…»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84" name="Picture 2" descr=""/>
          <p:cNvPicPr/>
          <p:nvPr/>
        </p:nvPicPr>
        <p:blipFill>
          <a:blip r:embed="rId1"/>
          <a:stretch/>
        </p:blipFill>
        <p:spPr>
          <a:xfrm>
            <a:off x="5148360" y="2421000"/>
            <a:ext cx="2743200" cy="255888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p:transition spd="med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1eeff"/>
                </a:solidFill>
                <a:latin typeface="Times New Roman"/>
                <a:ea typeface="Times New Roman"/>
              </a:rPr>
              <a:t>История праздника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     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оральные границы абсолютно размывались в карнавальные дни. Мужчины в масках проникали в женские монастыри, должники скрывались от кредиторов, наемные убийцы "браво" беспрепятственно вершили  свои черные  дела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конце концов Совет Десяти не выдержал и сказал:"Баста!"   В 1608 году  был издан декрет,  который запрещал носить маски в течение длительного периода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 spd="med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51264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1eeff"/>
                </a:solidFill>
                <a:latin typeface="Times New Roman"/>
                <a:ea typeface="Times New Roman"/>
              </a:rPr>
              <a:t>История праздника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465120" y="17701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рнавал стал короче, но от этого еще ярче, стремительнее и колоритнее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89" name="Picture 2" descr=""/>
          <p:cNvPicPr/>
          <p:nvPr/>
        </p:nvPicPr>
        <p:blipFill>
          <a:blip r:embed="rId1"/>
          <a:stretch/>
        </p:blipFill>
        <p:spPr>
          <a:xfrm>
            <a:off x="2627280" y="4581360"/>
            <a:ext cx="2462400" cy="179100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390" name="Picture 3" descr=""/>
          <p:cNvPicPr/>
          <p:nvPr/>
        </p:nvPicPr>
        <p:blipFill>
          <a:blip r:embed="rId2"/>
          <a:stretch/>
        </p:blipFill>
        <p:spPr>
          <a:xfrm>
            <a:off x="6227640" y="2565360"/>
            <a:ext cx="1416240" cy="189252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p:transition spd="med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472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1eeff"/>
                </a:solidFill>
                <a:latin typeface="Times New Roman"/>
                <a:ea typeface="Times New Roman"/>
              </a:rPr>
              <a:t>Маски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6840" y="180936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7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157a"/>
                </a:solidFill>
                <a:latin typeface="Corbel"/>
              </a:rPr>
              <a:t>Вольто – «гражданин»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1640" y="169992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7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157a"/>
                </a:solidFill>
                <a:latin typeface="Corbel"/>
              </a:rPr>
              <a:t>Венецианский Кот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94" name="Picture 2" descr=""/>
          <p:cNvPicPr/>
          <p:nvPr/>
        </p:nvPicPr>
        <p:blipFill>
          <a:blip r:embed="rId1"/>
          <a:stretch/>
        </p:blipFill>
        <p:spPr>
          <a:xfrm>
            <a:off x="5611680" y="3429000"/>
            <a:ext cx="2379960" cy="21416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395" name="Picture 3" descr=""/>
          <p:cNvPicPr/>
          <p:nvPr/>
        </p:nvPicPr>
        <p:blipFill>
          <a:blip r:embed="rId2"/>
          <a:stretch/>
        </p:blipFill>
        <p:spPr>
          <a:xfrm>
            <a:off x="1217520" y="3213000"/>
            <a:ext cx="2000520" cy="27115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Компьютер</cp:lastModifiedBy>
  <dcterms:modified xsi:type="dcterms:W3CDTF">2014-02-23T16:41:28Z</dcterms:modified>
  <cp:revision>35</cp:revision>
  <dc:subject/>
  <dc:title>«Маска, маска. Я тебя знаю…» (Венецианский карнавал: история, Традиции, маски)</dc:title>
</cp:coreProperties>
</file>