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0334-6969-4C15-8127-62220E604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7A1F-8A7E-48D1-BFD2-0BEFD092D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1A32-A434-4614-9CED-027BFAD00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4428-8197-4566-BFB9-BB3666057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94D6B-ECA7-4B8B-8B6A-88328AC30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3EF94-DC60-4DDA-A983-9831DFD6D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087FA-141D-44B5-B08D-F2AE8BA8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0A209-92C8-4242-B163-CD58CDD33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4507E-5355-486E-B7FC-FF3920879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8F02F-E179-4F92-8E36-6EB4A9CCA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DEAA3-5680-49E3-A192-8DB6CA25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2D47-5BF9-4AEA-8E05-1DFD2A12A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1A48D-E643-4438-96AA-B13DA337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F91D7-C1DC-4F85-ADAC-25912FB0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4A1A6-1CC1-4EE4-A2DD-467786715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524FE-0338-45E3-B0A0-6D36C0326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43904-64CC-4E4D-AAC8-1BF26E97B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B28D7-85EC-4B6D-AED2-EAD5FBCDA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07E00-B88D-4EB0-ABCA-0D637C449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CD790-CD6A-4446-8BE8-5747F4592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F4E93-C0B5-41DB-B3C9-8DF7F7F87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396A6-6603-4319-BE7D-F8C8F137F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4090-B5E4-4B58-B2AE-659EB96B2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C4A87-ADB7-4DAD-A931-D806A8B95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317A5-45AC-479E-9433-B83B3A9C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3E247-9411-4864-929C-7A811F6C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49DC3-1D16-467B-9B2D-21DAD539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239BD-1B4C-4FA0-9D82-9890A2EC1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ED52F-704E-413B-8475-599CDE95D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8E3A6-C1B8-429E-8176-AF1484031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F2676-E6F2-441A-9C4C-0EA759D11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F23A6-3D30-406B-8C5B-A37B7C08C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AA339-B0AF-4122-9044-82B4443D7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A646-0F51-498B-80A8-72D1EF170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21C76-B0BE-496D-947A-E3D734D0B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56D14-B66C-4D30-9960-47D2C9276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3C6EB-F5D1-4DF3-A013-66E3A854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0D944-0D13-4058-AD27-2B14280B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6CC55-79A6-4C3C-8746-EBD91F04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90627-47B3-4F81-837F-BB1DE2D7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F0533-10A1-41CA-BEB3-288B30B1A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52AB1-E812-4975-8D8E-A9F1F2253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84E7A-FF63-4783-94EF-26C42F0ED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FE61F-A56A-4BF5-8907-5CA564731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14FE-C5A3-49C2-8A51-0773D6E0E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DA7DF-D7E8-4EF9-8D7C-AF8A45B7D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0E8E0-7970-4CBC-AB85-F83A3F75C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289D2-F28C-4496-A565-FCA900C3E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E2320-1577-466E-87DF-D8810710B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F24BF-B2CA-49A4-A574-8B1201987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1EB3D-D914-4C18-9AFF-A4B8DDC0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D6759-0D86-4F1A-920D-9A4EC7B2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3AF2B-CEEF-47E1-A46E-B842E884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B6DBA-F2FC-422F-B584-62B689953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7EC02-7E6A-43C6-B6CA-CD58E8F90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9EC4-EBE5-47E5-9F92-8D3CA8FB6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50857-A255-4664-AF06-4C2CEF050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42BAA-F8F3-4C9D-8448-9AE4105A8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454EE-8964-40D1-9C33-82A6A3DD8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EAD29-BB5B-411B-8AA9-124DD4178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DD746-43D9-43B4-AB7B-38BBC6DA2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3198F7-873E-4BF3-B4FD-B0627AE10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0EA29-F367-42AC-A8D8-BC94DDC3F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B781A-DEF5-4C7D-994E-2226EBEC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495E1-4FC7-4D58-B374-AA312BA6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92FB86-1A9C-46E3-B667-BCE8486F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0126-4C42-435D-A7D4-DB300921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7F613-FCA2-4824-9AD5-5121628AB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9A4DDD-A2B0-44AF-9CD6-A05F295AB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DAE73-57F1-4029-9311-E9E913D58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8494A-0D45-41A6-8FF7-D90131088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5ACC61-D649-42AE-BE22-2C9EE6D29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164B1-1279-4FD9-A7A1-7B27CC6E6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51624-0148-4205-A4F4-45ECDC4BF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62460-245D-488B-9420-473360892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08293-AF64-44F4-82FC-70F0B7AE5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8CADB3-769A-4FD4-B303-191D8EAF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EF27-67A8-4890-A1FD-ED06289A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34C213-931F-4F4D-8AA4-D69B3F23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96B4E4-3615-46D1-A1CC-BE800422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CF8E7-3FAE-4425-8042-ED6B1CFE8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F4942F-7B17-4928-A440-6451214A2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84C010-D3C8-43C7-B681-5AE249F29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1530-CB1F-4F4B-8965-80FADFC5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38004-7CA5-42FB-878B-09152FD72C40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7A5B1-1CB6-4AD4-A53E-501698013B86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53D3A-EC18-4A1F-B8F1-0D22341859FA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C249A-E567-4179-A13C-359181A31AAA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6BBFD-C9D1-46F5-B75D-FA0FEA8E9A8E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7E884-513D-468E-B891-6DA56539C074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520" y="1217520"/>
            <a:ext cx="128880" cy="131400"/>
            <a:chOff x="8516520" y="1217520"/>
            <a:chExt cx="12888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8080" y="1217520"/>
              <a:ext cx="673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520" y="1282680"/>
              <a:ext cx="950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8080" y="1282320"/>
              <a:ext cx="673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520" y="1370160"/>
            <a:ext cx="128880" cy="131400"/>
            <a:chOff x="8669520" y="1370160"/>
            <a:chExt cx="12888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31080" y="1370160"/>
              <a:ext cx="673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520" y="1435320"/>
              <a:ext cx="954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31080" y="1434960"/>
              <a:ext cx="673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400" y="1473120"/>
            <a:ext cx="128880" cy="131400"/>
            <a:chOff x="8321400" y="1473120"/>
            <a:chExt cx="12888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82960" y="1473120"/>
              <a:ext cx="673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400" y="1538280"/>
              <a:ext cx="950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82960" y="1537920"/>
              <a:ext cx="673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A1EA5-C2D7-4DB3-B6FD-2C26AF9D383B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Заголовок 3" descr=""/>
          <p:cNvPicPr/>
          <p:nvPr/>
        </p:nvPicPr>
        <p:blipFill>
          <a:blip r:embed="rId1"/>
          <a:stretch/>
        </p:blipFill>
        <p:spPr>
          <a:xfrm>
            <a:off x="907920" y="4230720"/>
            <a:ext cx="7785360" cy="245592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826920" y="28526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зентация подготовлена Ивановой Н.С., учителем музыки, ИЗО, МХК МБОУ «Юркинская СОШ»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0" name="Picture 3" descr="C:\Documents and Settings\Пользователь\Рабочий стол\маскарад\post_19_9.png"/>
          <p:cNvPicPr/>
          <p:nvPr/>
        </p:nvPicPr>
        <p:blipFill>
          <a:blip r:embed="rId2"/>
          <a:stretch/>
        </p:blipFill>
        <p:spPr>
          <a:xfrm rot="19647000">
            <a:off x="1362240" y="534600"/>
            <a:ext cx="2808000" cy="28083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C:\Documents and Settings\Пользователь\Рабочий стол\маскарад\maski_108.jpg"/>
          <p:cNvPicPr/>
          <p:nvPr/>
        </p:nvPicPr>
        <p:blipFill>
          <a:blip r:embed="rId3"/>
          <a:stretch/>
        </p:blipFill>
        <p:spPr>
          <a:xfrm rot="1372800">
            <a:off x="5508720" y="765000"/>
            <a:ext cx="1828800" cy="2438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Маски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7" name="Picture 2" descr=""/>
          <p:cNvPicPr/>
          <p:nvPr/>
        </p:nvPicPr>
        <p:blipFill>
          <a:blip r:embed="rId1"/>
          <a:stretch/>
        </p:blipFill>
        <p:spPr>
          <a:xfrm>
            <a:off x="3635280" y="2492280"/>
            <a:ext cx="2276640" cy="313380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979280" y="1809360"/>
            <a:ext cx="482436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Доктор чумы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Венецианская Дам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00" name="Picture 5" descr=""/>
          <p:cNvPicPr/>
          <p:nvPr/>
        </p:nvPicPr>
        <p:blipFill>
          <a:blip r:embed="rId1"/>
          <a:stretch/>
        </p:blipFill>
        <p:spPr>
          <a:xfrm>
            <a:off x="3276720" y="2637000"/>
            <a:ext cx="3911400" cy="29336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Коломбин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02" name="Picture 2" descr=""/>
          <p:cNvPicPr/>
          <p:nvPr/>
        </p:nvPicPr>
        <p:blipFill>
          <a:blip r:embed="rId1"/>
          <a:stretch/>
        </p:blipFill>
        <p:spPr>
          <a:xfrm>
            <a:off x="3132000" y="2133720"/>
            <a:ext cx="3564000" cy="2673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Творческое задание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     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Придумайте свою  карнавальную маску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Сделайте маску из цветной бумаги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Подумайте, какие еще атрибуты (одежды. оформления и т.д.) могут быть символом маскарада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Сделайте коллаж, используя  изготовленные вами маски и атрибуты праздника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лагодарю за урок!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История праздник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6512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рнавал придумали в Венеции. Такой демократичный праздник, когда все в масках и все равны, мог родиться только в демократичной  Республике Святого Марка, где между гражданами никогда не было вассальных отношений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4" name="Picture 3" descr=""/>
          <p:cNvPicPr/>
          <p:nvPr/>
        </p:nvPicPr>
        <p:blipFill>
          <a:blip r:embed="rId1"/>
          <a:stretch/>
        </p:blipFill>
        <p:spPr>
          <a:xfrm>
            <a:off x="5364000" y="3178080"/>
            <a:ext cx="2938680" cy="20192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История праздник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вое упоминание о карнавале относится к 1094 году. А  в 1296 году венецианцы ещё и официально узаконили его: Сенат Венецианской республики провозгласил последний день перед великим постом праздничным днем. Считается, что и  само слово «карнавал» произошло от латинского «carne vale», что означает «прощание с мясом».  Это каноническая церковная версия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История праздник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6512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оки венецианского карнавала уходят глубже –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древние римские Сатурналии – ежегодные праздники в честь бога Сатурна, которые справлялись  в декабре после уборки урожая во время зимнего солнцестояния и сопровождались массовыми гуляниями. Рабов сажали за общий стол, и чтобы сгладить неловкость необычной ситуации, все надевали маски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9" name="Picture 2" descr=""/>
          <p:cNvPicPr/>
          <p:nvPr/>
        </p:nvPicPr>
        <p:blipFill>
          <a:blip r:embed="rId1"/>
          <a:stretch/>
        </p:blipFill>
        <p:spPr>
          <a:xfrm>
            <a:off x="5310360" y="2924280"/>
            <a:ext cx="3024000" cy="2503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История праздник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рнавал  и родился из маскарада.  В какой-то момент венецианцы настолько увлеклись, что  начали "отрываться" в  веселии с начала октября по февраль включительно с легкими перерывами на посты.  А маска настолько прочно "приросла" к лицу, что стала просто частью экипировки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История праздник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6512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Пока длится карнавал все ходят в масках, начиная с дожа и кончая последней служанкой. В маске исполняют свои дела, защищают процессы, покупают рыбу, пишут, делают визиты. В маске можно сказать все и на все осмелиться…»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5148360" y="2421000"/>
            <a:ext cx="2743200" cy="25588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История праздник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ральные границы абсолютно размывались в карнавальные дни. Мужчины в масках проникали в женские монастыри, должники скрывались от кредиторов, наемные убийцы "браво" беспрепятственно вершили  свои черные  дела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конце концов Совет Десяти не выдержал и сказал:"Баста!"   В 1608 году  был издан декрет,  который запрещал носить маски в течение длительного периода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История праздник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6512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рнавал стал короче, но от этого еще ярче, стремительнее и колоритнее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2627280" y="4581360"/>
            <a:ext cx="2462400" cy="1791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390" name="Picture 3" descr=""/>
          <p:cNvPicPr/>
          <p:nvPr/>
        </p:nvPicPr>
        <p:blipFill>
          <a:blip r:embed="rId2"/>
          <a:stretch/>
        </p:blipFill>
        <p:spPr>
          <a:xfrm>
            <a:off x="6227640" y="2565360"/>
            <a:ext cx="1416240" cy="18925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472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Маски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8093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7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157a"/>
                </a:solidFill>
                <a:latin typeface="Corbel"/>
              </a:rPr>
              <a:t>Вольто – «гражданин»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1640" y="16999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7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157a"/>
                </a:solidFill>
                <a:latin typeface="Corbel"/>
              </a:rPr>
              <a:t>Венецианский Кот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4" name="Picture 2" descr=""/>
          <p:cNvPicPr/>
          <p:nvPr/>
        </p:nvPicPr>
        <p:blipFill>
          <a:blip r:embed="rId1"/>
          <a:stretch/>
        </p:blipFill>
        <p:spPr>
          <a:xfrm>
            <a:off x="5611680" y="3429000"/>
            <a:ext cx="2379960" cy="21416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395" name="Picture 3" descr=""/>
          <p:cNvPicPr/>
          <p:nvPr/>
        </p:nvPicPr>
        <p:blipFill>
          <a:blip r:embed="rId2"/>
          <a:stretch/>
        </p:blipFill>
        <p:spPr>
          <a:xfrm>
            <a:off x="1217520" y="3213000"/>
            <a:ext cx="2000520" cy="2711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омпьютер</cp:lastModifiedBy>
  <dcterms:modified xsi:type="dcterms:W3CDTF">2014-02-23T16:41:28Z</dcterms:modified>
  <cp:revision>35</cp:revision>
  <dc:subject/>
  <dc:title>«Маска, маска. Я тебя знаю…» (Венецианский карнавал: история, Традиции, маски)</dc:title>
</cp:coreProperties>
</file>