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341-CD63-41F1-AC49-1427296A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0FC-450A-422E-B067-E5118F92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9F9-3965-474F-B577-BC70FF11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6BB-F4C1-4857-8CCC-AFAED77E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2D7E-2AE2-4EFC-A2C9-E2DEE0D3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C0E2-7605-40DC-9BE9-C2A69EFE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9AB0-2A97-40E3-ABA6-787DAC4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C888-D644-480A-B50F-735030DB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8069-594F-4F68-93FA-A9BC8379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B99E-1513-4662-BA29-92C4A390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D287-212C-4935-9122-D583D82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9A8-A923-4B17-9709-691C07F4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73E6-6F1C-4CE6-BB5F-E7C3D7C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6D3-C179-40B6-9ECD-7911DE1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83E8-2A61-4FF8-BA67-3795F13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22C7-AFAB-4311-A5FE-5845ACB6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4422-B8AC-46C1-8326-05726B1D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6793-5F86-4102-8A9E-BDB81571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9F56-B1E6-47BF-816A-3E6B10A8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EE62-CF7E-49D2-8704-21962054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6D12-25AC-4267-8E58-AA91974D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A8918-F1A6-40FB-A873-5DEE21D0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1C6-609D-4F94-AE44-C5D5117C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8695-AEEF-423A-A20F-9D4052FB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DC09-075E-43A0-97B0-CCC38AAC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99CB-1890-4533-AB01-831B4FF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2E1D-E532-4F23-BE26-8E24FDF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66CE-030E-434C-B7B6-C91AF78E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9F42-1B8C-4494-AE21-C873D57F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7892-ACD9-4A20-8593-976ACC70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823A4-6E8C-4561-96DB-AFF39F20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3139-49EC-47A0-88FE-B4ACE7B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9C68-4FA2-4A1F-ADDB-885B524E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B88-46B2-4FD2-B6AE-D0183F3D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4BB9-B584-4666-916A-2F54420F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21DD3-2788-488E-9818-F7A0C4B2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A721-76ED-475F-BE67-BE0155B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8AD3-9E00-4AB8-84F8-9A89A5FE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228C-1FAB-4451-9424-21CC6A9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3A1D-3D50-4A17-8D1D-BC25537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3A3B-AEA1-4BF0-8526-CFE3BEC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231D-C9AB-4068-B79F-0677DDFC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7FBC-9AAA-4848-BD41-C99571F3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2ECD2-9F03-47D8-874C-A7732283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DBA-1F3E-4C2D-8FED-10C54A1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5F525-E990-4E63-BF2F-FC74DADC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7BCC-91F4-429D-B501-793E6E58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6256-DA81-4B05-84E2-098CCDC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ADF3-ADA2-412A-89B0-585BA410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BA8B-D222-4BB5-9C85-3E2477BE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49AF-706F-40C1-A2F2-81F597E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1948-DFF8-4A09-9244-A1C04ACD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10562-E7EB-4B8D-B77D-6D3F309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EFED-E0A3-4FF7-A28D-279DF69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8B2F-C900-49EB-A10C-95B1B160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164-896D-499C-A0CF-4F1C1BF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966C-80B8-4D26-A3B7-50F4A383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BE15-84F7-47AE-938C-1869A334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261C9-A5BB-484E-AA65-D77B5EA9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3149E-719B-4A03-A535-28DE9675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55E7-421E-4242-B40D-C933E5C0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C36D-F747-4982-833A-AB2AE97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51D15-408E-45B2-B06C-DAA119DC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A2A1C-7D4A-43FB-A5FE-D4EBF4D4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18FAA-1E94-45D6-A4E4-5ED08666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8FD7-2C6B-4E01-971D-EA6438C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72D-A742-41AE-B6FF-C5C6C57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66F5-6F69-43FF-9556-EC157999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76B7-E395-4E21-B151-9A5F6573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9286-2A0A-4720-8F1D-E8D65944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D3675-E427-4940-8CA2-3471D8F2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5A0C6-21D2-4BD3-8029-AB882CC7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E781B-958E-4FC1-BAF2-4F39BDE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AEAB-619D-45C0-8346-6C5C2209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4DD72-C39A-4FFB-8B68-0D69BF8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B213-1402-4C44-B686-C03DDE74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69FD-5777-4CAC-A9D9-CA88D35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651-83F8-4AFA-9D35-141C5EA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6187E-0EEF-4E0F-8179-DE4DE171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E6097-86C1-409A-BDCC-CE388EF8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1A0F2-FBEB-4F99-B201-776F3C1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5B2A-E089-4942-B085-B60E7032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2D191-F983-4DE2-9657-C5CCEF05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29F-5607-4152-95F7-478F9C4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C9DA-E5FA-4500-98B8-988BB0AF33C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72DA-648C-4A58-B8E7-8EF85CA5C4B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670-EA25-464E-815B-B1970C9992C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6B2-0FAF-434C-939B-299F9151F47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A8AF-48C6-4BD9-99D2-9FA5D8DD055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81E0-A54D-4509-8C33-B74CEC1F7AC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07F5-D851-4A54-8E9A-BD7078C8D45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3" descr=""/>
          <p:cNvPicPr/>
          <p:nvPr/>
        </p:nvPicPr>
        <p:blipFill>
          <a:blip r:embed="rId1"/>
          <a:stretch/>
        </p:blipFill>
        <p:spPr>
          <a:xfrm>
            <a:off x="907920" y="4230720"/>
            <a:ext cx="7785360" cy="2455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826920" y="28526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подготовлена Ивановой Н.С., учителем музыки, ИЗО, МХК МБОУ «Юркинская СОШ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C:\Documents and Settings\Пользователь\Рабочий стол\маскарад\post_19_9.png"/>
          <p:cNvPicPr/>
          <p:nvPr/>
        </p:nvPicPr>
        <p:blipFill>
          <a:blip r:embed="rId2"/>
          <a:stretch/>
        </p:blipFill>
        <p:spPr>
          <a:xfrm rot="19647000">
            <a:off x="1362240" y="53460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Пользователь\Рабочий стол\маскарад\maski_108.jpg"/>
          <p:cNvPicPr/>
          <p:nvPr/>
        </p:nvPicPr>
        <p:blipFill>
          <a:blip r:embed="rId3"/>
          <a:stretch/>
        </p:blipFill>
        <p:spPr>
          <a:xfrm rot="1372800">
            <a:off x="5508720" y="765000"/>
            <a:ext cx="18288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с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635280" y="2492280"/>
            <a:ext cx="2276640" cy="3133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79280" y="1809360"/>
            <a:ext cx="48243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Доктор чумы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Венецианская Да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3276720" y="2637000"/>
            <a:ext cx="3911400" cy="29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оломб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564000" cy="2673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Творческо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ридумайте свою  карнавальную маск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делайте маску из цветной бумаг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одумайте, какие еще атрибуты (одежды. оформления и т.д.) могут быть символом маскарад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делайте коллаж, используя  изготовленные вами маски и атрибуты праздник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урок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придумали в Венеции. Такой демократичный праздник, когда все в масках и все равны, мог родиться только в демократичной  Республике Святого Марка, где между гражданами никогда не было вассальных отнош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5364000" y="3178080"/>
            <a:ext cx="2938680" cy="2019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ое упоминание о карнавале относится к 1094 году. А  в 1296 году венецианцы ещё и официально узаконили его: Сенат Венецианской республики провозгласил последний день перед великим постом праздничным днем. Считается, что и  само слово «карнавал» произошло от латинского «carne vale», что означает «прощание с мясом».  Это каноническая церковная версия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ки венецианского карнавала уходят глубже –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ие римские Сатурналии – ежегодные праздники в честь бога Сатурна, которые справлялись  в декабре после уборки урожая во время зимнего солнцестояния и сопровождались массовыми гуляниями. Рабов сажали за общий стол, и чтобы сгладить неловкость необычной ситуации, все надевали маск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310360" y="2924280"/>
            <a:ext cx="3024000" cy="250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 и родился из маскарада.  В какой-то момент венецианцы настолько увлеклись, что  начали "отрываться" в  веселии с начала октября по февраль включительно с легкими перерывами на посты.  А маска настолько прочно "приросла" к лицу, что стала просто частью экипиров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ока длится карнавал все ходят в масках, начиная с дожа и кончая последней служанкой. В маске исполняют свои дела, защищают процессы, покупают рыбу, пишут, делают визиты. В маске можно сказать все и на все осмелиться…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743200" cy="255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ные границы абсолютно размывались в карнавальные дни. Мужчины в масках проникали в женские монастыри, должники скрывались от кредиторов, наемные убийцы "браво" беспрепятственно вершили  свои черные  дел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це концов Совет Десяти не выдержал и сказал:"Баста!"   В 1608 году  был издан декрет,  который запрещал носить маски в течение длительного пери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История праздн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навал стал короче, но от этого еще ярче, стремительнее и колоритне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627280" y="4581360"/>
            <a:ext cx="2462400" cy="1791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6227640" y="2565360"/>
            <a:ext cx="1416240" cy="189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ск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Вольто – «гражданин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1640" y="1699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Венецианский Ко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5611680" y="3429000"/>
            <a:ext cx="2379960" cy="214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1217520" y="3213000"/>
            <a:ext cx="200052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4-02-23T16:41:28Z</dcterms:modified>
  <cp:revision>35</cp:revision>
  <dc:subject/>
  <dc:title>«Маска, маска. Я тебя знаю…» (Венецианский карнавал: история, Традиции, маски)</dc:title>
</cp:coreProperties>
</file>