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35F5-50D8-4574-B9EE-D7536F5D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0A60-A44F-4169-A1CD-C62EB9E4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FBD1-3550-4764-9C96-CBADAAFA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FCB5-5546-4989-889D-AD83873D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9795-4F1D-4892-9CB3-29E79D4E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2E5A-5CE8-4B60-B58F-54547298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75E3-C58B-4B80-AD0F-BC3CD86F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6878-306E-4289-BF10-C595AC95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B314-AFEE-4496-8F3A-3FD00312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F601-7DDD-4B62-AF09-C2EE1C27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C5BC-F7F7-4AA5-ACAC-0AE7A948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20E1-B8C2-471B-A0CF-80D21122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6CF4-34E7-4BD6-AAA4-F614E891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003E-CB28-4B35-BEFB-38278766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911D-6782-4D58-904E-7D70AFA8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FDE3-D88A-45F1-B5F6-6AF800F9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396A-D0E4-4E55-A6C0-A7017DB3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1264E-4781-4A0C-9F9E-9FECB32A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89A5-AB8B-44F7-B67A-42CF48EF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5B97-12E1-4A1A-8419-56541E1F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7389-E4C2-462F-A528-B612D9F8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54A3-6BB9-40D3-A1B5-285CC9EE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C820-66F8-4BEC-9A6B-9EEA9AD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2336-06CE-4E5E-99A1-F588BAA0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6FB2-D769-4702-A80B-585F9825D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0600-B04A-42CF-9120-F946CDE8B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6600"/>
                </a:solidFill>
                <a:latin typeface="Arial"/>
              </a:rPr>
              <a:t>Измерение длин отрезк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Урок  № 7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Book Antiqua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45464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Если единичный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ен 1 см, чему равна длина отрез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условии: а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б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,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в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0,7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аны три точки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надлежащие одной прямой.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жит между точкам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длину отрезка: а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3 см,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1,1 см; б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5,68 см 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10 см; в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24,8 см 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9,13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3709800">
            <a:off x="1763280" y="2924280"/>
            <a:ext cx="95043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 отрез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иной 15 м отмечена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йдите длины отрезк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3 м длиннее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к. т. К € MN, то MN=MK+ K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NK- x м, тогда MK= 3+x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+x+x = 1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+2x=1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x=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=6, x+3=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K=9 м, KN=6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632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. Отрезк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т на одной прямой. Точ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ч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лежащая между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окажите, что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172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=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3, выучить те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9,14,1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ат на одной прямой.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жит между точка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Докажите, что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*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дивидуальное задание. Исторический экскурс об единицах измерения длины (см. рубрику «Исторические сведения» из п. 3 учебн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Математ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 трех точек на прямой тольк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трезком назыв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уч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уммой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Если два отрезка равны третьему, 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Умножить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натуральн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чит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404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Каждая точка на прямой разбивает эту прямую н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Лучом назыв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резок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разностью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 любом луче от его начала можно отложи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Разделить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натуральн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чит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лежит между двумя друг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часть прямой состоящая из 2 данных точек и всех точек лежащих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+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То они ра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Его надо сложить с соб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475920"/>
            <a:ext cx="40384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 две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Часть прямой, сотоящая из точки этой прям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сех точек, лежащих от нее по одну стор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-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Один отрезок, равный да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Деление отрезка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вных ч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Лабораторная работ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0 клеток) и назовем его едини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Теперь 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0 клеток). Сколько раз 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ладывается в отрез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клеток). Сколько раз 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ладывается в отрез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е числа 2 и 3 являются соответственно длинами отрез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Можно ввести специальное обозначение для длины отрезка, а именно,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2,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1 клето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ладывается в данном отрезке один раз  и еще остается одна клетка, которая в данном случае равна  единичного отрезка. Следовательно,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1,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пределим длину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3 клетки)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5 клет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2,3;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0,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рение длины отрезка основано на сравнении его с отрезком, длина которого принимается за единицу (единичный отрез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11280" y="5116680"/>
            <a:ext cx="5689440" cy="1620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лина отре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оложительное число, показывающее сколько раз единичный отрезок и его части укладываются в этом отре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чный отрезок можно разбивать не только на 10, но и на другое число частей. Так, если единичный отрезок разбит 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ых частей и одна такая часть укладывается в отрезк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вн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, то длина отрез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ется равной дроби 8/3 . На рисунк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3, р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у отрез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также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асстояние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ногда, под расстоянием 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удем понимать сам отрезок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у отрез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удем обозначать так же как и сам отрезок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5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6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зьмем два равных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можно сказать об их дли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ан отрезок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й является суммой отрезков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то можно сказать о длине суммы этих отрез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Book Antiqua"/>
              </a:rPr>
              <a:t>Свойства длины отрезк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йство 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ны равных отрезков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йство 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на суммы отрезков равна сумме их д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0:10:45Z</dcterms:created>
  <dc:creator>Ph0enix</dc:creator>
  <dc:description/>
  <dc:language>en-US</dc:language>
  <cp:lastModifiedBy>Ph0enix</cp:lastModifiedBy>
  <dcterms:modified xsi:type="dcterms:W3CDTF">2007-09-24T12:07:46Z</dcterms:modified>
  <cp:revision>6</cp:revision>
  <dc:subject/>
  <dc:title>Измерение длин отрезков</dc:title>
</cp:coreProperties>
</file>