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387BC-518F-4ADD-809B-987B49CD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16A20-CC4D-4D5A-A819-D229A1F9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15436-2BC7-4820-A4AE-BA89EA30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07946-CE6D-46B7-9F95-3F66D90F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1C6C-060D-46A4-B6FC-641ECE63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10B9-BBDF-49D0-9EDB-7E7032D4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004B-B0BB-4BA0-ABAD-CAD1088B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B36B-9CDD-4F0F-B42F-EF10864D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8FA0-DB77-422C-9D74-70D46CEC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FD3C-2CA8-480A-BB65-BBEF3992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F35A-79C1-4BAF-A32F-C4065EE8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69DCA-451D-4205-8845-164088C9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28B3-933D-45D5-B7AD-27C88DCB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809B-548E-4322-A434-C5AA0754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8642-FEAD-40AA-93DD-68B64307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B8E9-983F-47E6-B279-E6B3AA54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317B-2102-4FCE-A3E8-AB7410C3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5F17C-8A3E-498B-BDA5-E0DC30DC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36BEA-5CD0-4FCC-8D15-DEA6679B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49E6D-36CC-472D-A849-07CC8787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1C7A6-A7A7-4B72-A2CC-11793C67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3879F-C09E-497C-9FC9-835694EF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D4E94-4A5B-4761-94D2-E6619C53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9CC26-4E59-4508-867F-39DEF58B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FC09-447B-4C6F-B41A-80F161D7A6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8F7C-FFAF-4222-A46D-B709535F5E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6600"/>
                </a:solidFill>
                <a:latin typeface="Arial"/>
              </a:rPr>
              <a:t>Измерение длин отрезк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Урок  № 7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Book Antiqua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454644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Если единичный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ен 1 см, чему равна длина отрезк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условии: а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б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,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в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0,7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аны три точки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инадлежащие одной прямой. Точк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ежит между точкам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дите длину отрезка: а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|=3 см,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|=1,1 см; б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|=5,68 см и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|=10 см; в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|=24,8 см и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|=9,13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3709800">
            <a:off x="1763280" y="2924280"/>
            <a:ext cx="95043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 отрезк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иной 15 м отмечена точ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айдите длины отрезк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3 м длиннее отрез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к. т. К € MN, то MN=MK+ K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NK- x м, тогда MK= 3+x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+x+x = 15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+2x=15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x=1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=6, x+3=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K=9 м, KN=6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632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. Отрезк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ат на одной прямой. Точк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ередина отрезк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очк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ередина отрезк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лежащая между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Докажите, что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1727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=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00"/>
                </a:solidFill>
                <a:uFillTx/>
                <a:latin typeface="Bookman Old Style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§ 3, выучить те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9,14,17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езк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жат на одной прямой. Точ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ередина отрез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оч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ередина отрез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точ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ежит между точка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Докажите, что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*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дивидуальное задание. Исторический экскурс об единицах измерения длины (см. рубрику «Исторические сведения» из п. 3 учебни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 Математическ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Из трех точек на прямой тольк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трезком называ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Луч обознача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суммой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означа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Если два отрезка равны третьему, т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Умножить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натуральное числ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начит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40428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Каждая точка на прямой разбивает эту прямую н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Лучом называ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трезок обознача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разностью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бознача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На любом луче от его начала можно отложит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Разделить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натуральное числ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начит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лежит между двумя друг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часть прямой состоящая из 2 данных точек и всех точек лежащих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+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То они ра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Его надо сложить с соб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475920"/>
            <a:ext cx="40384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На две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Часть прямой, сотоящая из точки этой прям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сех точек, лежащих от нее по одну сторо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-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Один отрезок, равный дан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Деление отрезка 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вных ча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Лабораторная работ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ьмем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0 клеток) и назовем его единич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Теперь возьмем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0 клеток). Сколько раз единичный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ладывается в отрезк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возьмем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30 клеток). Сколько раз единичный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ладывается в отрезк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ные числа 2 и 3 являются соответственно длинами отрезков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Можно ввести специальное обозначение для длины отрезка, а именно, 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=2, 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=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озьмем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1 клеток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ичный отрезок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ладывается в данном отрезке один раз  и еще остается одна клетка, которая в данном случае равна  единичного отрезка. Следовательно, 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=1,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Определим длину отрезк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3 клетки)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5 клето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=2,3; 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|=0,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ы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рение длины отрезка основано на сравнении его с отрезком, длина которого принимается за единицу (единичный отрезо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11280" y="5116680"/>
            <a:ext cx="5689440" cy="1620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Длина отрез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оложительное число, показывающее сколько раз единичный отрезок и его части укладываются в этом отрез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ичный отрезок можно разбивать не только на 10, но и на другое число частей. Так, если единичный отрезок разбит 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ых частей и одна такая часть укладывается в отрезк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вн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, то длина отрез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читается равной дроби 8/3 . На рисунк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= 3, р =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у отрезк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также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расстояние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точкам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ногда, под расстоянием между точкам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удем понимать сам отрезок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у отрез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удем обозначать так же как и сам отрезок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5" dur="indefinite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6" dur="indefinite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" dur="indefinite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прос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озьмем два равных отрезк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то можно сказать об их длин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ан отрезок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й является суммой отрезков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Что можно сказать о длине суммы этих отрез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3300"/>
                </a:solidFill>
                <a:latin typeface="Book Antiqua"/>
              </a:rPr>
              <a:t>Свойства длины отрезка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йство 1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ины равных отрезков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йство 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ина суммы отрезков равна сумме их д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0:10:45Z</dcterms:created>
  <dc:creator>Ph0enix</dc:creator>
  <dc:description/>
  <dc:language>en-US</dc:language>
  <cp:lastModifiedBy>Ph0enix</cp:lastModifiedBy>
  <dcterms:modified xsi:type="dcterms:W3CDTF">2007-09-24T12:07:46Z</dcterms:modified>
  <cp:revision>6</cp:revision>
  <dc:subject/>
  <dc:title>Измерение длин отрезков</dc:title>
</cp:coreProperties>
</file>