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47A31-448C-4235-A90A-107E4663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2448-CE88-4C0F-AED8-08B8FD57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DC523-C875-4C65-B178-A74B70D2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E1F91-9964-4224-8BA2-1DE6782F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8090-E518-45B1-AF5C-C2549871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78C9-6E8A-44FB-BD3D-650CA1E6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2D6D-0229-40C3-BF95-40266677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0139-A512-4A22-8EB9-010CD0E3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4FC3-E2DC-4BD5-AEE2-88C26376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7F8C-9078-4877-BEB1-811AB211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EC05-ECF1-4750-85E0-3BE2E3B4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DFD07-0D05-470B-BE38-DFD36049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E062-ABDF-468E-8EBE-AC771160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3268-94FE-4CE0-BDA7-FCD25ACC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569F-9B08-4C69-ADA9-E0B2B85C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B5DC-7545-4BCA-A115-74FF27FE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16C6-69CC-4F96-9D3C-DF9647B0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F5E98-467D-4A6F-9D18-AFF4FEF9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131F3-3B9E-4ED4-8CE8-EF6F37E5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BC1B1-2887-468D-9259-712353B7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48B4-C5AA-409C-A0C7-8F64872B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F491-88C5-46BA-8B35-0A83AFAE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DCB79-047B-43D3-A20A-B3A9FAFE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65BA-497A-41D1-A374-E3AE6D85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B002-298D-483E-A592-4C6EC343D2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E3B8-90E4-45FA-8028-C083B63C6E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6600"/>
                </a:solidFill>
                <a:latin typeface="Arial"/>
              </a:rPr>
              <a:t>Измерение длин отрезк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Урок  № 7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Book Antiqua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45464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Если единичный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ен 1 см, чему равна длина отрезк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условии: а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б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,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в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0,7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аны три точки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инадлежащие одной прямой. Точк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жит между точкам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дите длину отрезка: а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=3 см,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=1,1 см; б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=5,68 см и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=10 см; в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=24,8 см и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=9,13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3709800">
            <a:off x="1763280" y="2924280"/>
            <a:ext cx="95043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 отрезк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иной 15 м отмечена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йдите длины отрезк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3 м длиннее отрез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к. т. К € MN, то MN=MK+ K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NK- x м, тогда MK= 3+x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+x+x = 15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+2x=15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x=1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=6, x+3=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K=9 м, KN=6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632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. Отрезк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т на одной прямой. Точк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ередина отрезк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чк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ередина отрезк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лежащая между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Докажите, что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1727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=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00"/>
                </a:solidFill>
                <a:uFillTx/>
                <a:latin typeface="Bookman Old Style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 3, выучить те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9,14,17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ез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жат на одной прямой.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ередина отрез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ередина отрез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ежит между точка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Докажите, что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*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дивидуальное задание. Исторический экскурс об единицах измерения длины (см. рубрику «Исторические сведения» из п. 3 учебни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Математическ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Из трех точек на прямой тольк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трезком называ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Луч обознача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суммой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означа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Если два отрезка равны третьему, т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Умножить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натуральное числ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начит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40428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Каждая точка на прямой разбивает эту прямую н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Лучом называ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резок обознача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разностью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бознача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а любом луче от его начала можно отложит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Разделить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натуральное числ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начит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лежит между двумя друг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часть прямой состоящая из 2 данных точек и всех точек лежащих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+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То они ра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Его надо сложить с соб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475920"/>
            <a:ext cx="40384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 две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Часть прямой, сотоящая из точки этой прям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сех точек, лежащих от нее по одну сторо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-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Один отрезок, равный дан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Деление отрезка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вных ча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Лабораторная работ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ьмем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0 клеток) и назовем его единич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Теперь возьмем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0 клеток). Сколько раз единичный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ладывается в отрезк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возьмем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30 клеток). Сколько раз единичный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ладывается в отрезк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ные числа 2 и 3 являются соответственно длинами отрезко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Можно ввести специальное обозначение для длины отрезка, а именно,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=2,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=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озьмем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1 клеток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ичный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ладывается в данном отрезке один раз  и еще остается одна клетка, которая в данном случае равна  единичного отрезка. Следовательно,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=1,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Определим длину отрез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3 клетки)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5 клето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=2,3;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=0,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ы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рение длины отрезка основано на сравнении его с отрезком, длина которого принимается за единицу (единичный отрезо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11280" y="5116680"/>
            <a:ext cx="5689440" cy="1620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Длина отрез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оложительное число, показывающее сколько раз единичный отрезок и его части укладываются в этом отрез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ичный отрезок можно разбивать не только на 10, но и на другое число частей. Так, если единичный отрезок разбит 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ых частей и одна такая часть укладывается в отрезк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вн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, то длина отрез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итается равной дроби 8/3 . На рисунк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 3, р =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у отрезк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также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расстояние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точкам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ногда, под расстоянием между точкам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удем понимать сам отрезок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у отрез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удем обозначать так же как и сам отрезок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5" dur="indefinite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6" dur="indefinite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" dur="indefinite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прос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озьмем два равных отрезк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то можно сказать об их длин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ан отрезок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й является суммой отрезков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Что можно сказать о длине суммы этих отрез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Book Antiqua"/>
              </a:rPr>
              <a:t>Свойства длины отрезка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йство 1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ины равных отрезков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йство 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ина суммы отрезков равна сумме их д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0:10:45Z</dcterms:created>
  <dc:creator>Ph0enix</dc:creator>
  <dc:description/>
  <dc:language>en-US</dc:language>
  <cp:lastModifiedBy>Ph0enix</cp:lastModifiedBy>
  <dcterms:modified xsi:type="dcterms:W3CDTF">2007-09-24T12:07:46Z</dcterms:modified>
  <cp:revision>6</cp:revision>
  <dc:subject/>
  <dc:title>Измерение длин отрезков</dc:title>
</cp:coreProperties>
</file>