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3.jpeg" ContentType="image/jpeg"/>
  <Override PartName="/ppt/media/image5.jpeg" ContentType="image/jpeg"/>
  <Override PartName="/ppt/media/image32.jpeg" ContentType="image/jpeg"/>
  <Override PartName="/ppt/media/image10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6.png" ContentType="image/png"/>
  <Override PartName="/ppt/media/image8.png" ContentType="image/png"/>
  <Override PartName="/ppt/media/image14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11.jpeg" ContentType="image/jpeg"/>
  <Override PartName="/ppt/media/image1.gif" ContentType="image/gif"/>
  <Override PartName="/ppt/media/image27.png" ContentType="image/png"/>
  <Override PartName="/ppt/media/image34.gif" ContentType="image/gif"/>
  <Override PartName="/ppt/media/image33.jpeg" ContentType="image/jpeg"/>
  <Override PartName="/ppt/media/image3.png" ContentType="image/png"/>
  <Override PartName="/ppt/media/image26.png" ContentType="image/png"/>
  <Override PartName="/ppt/media/image2.jpeg" ContentType="image/jpeg"/>
  <Override PartName="/ppt/media/image23.jpeg" ContentType="image/jpeg"/>
  <Override PartName="/ppt/media/image15.jpeg" ContentType="image/jpeg"/>
  <Override PartName="/ppt/media/image16.gif" ContentType="image/gif"/>
  <Override PartName="/ppt/media/image17.wmf" ContentType="image/x-wmf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0752-78F8-4308-A874-853F25D33E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28AF-1B72-46A2-B603-B101E60076D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2493-4616-477B-8E1A-9B88189C704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A222-4A37-4843-A900-8905EA8601B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B098-5DBF-409A-987A-17F31AD4B4F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2C64-34B5-4F79-B7B0-B2EF4B020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3CC0-14E2-44F9-9EE2-87E603BE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8FC7-70D1-4F63-A7DB-14CE9C8C4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3E76-23F9-4092-905C-D09E26695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83B5-D7E9-4FEB-B04F-8536ED28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2920-16AA-4418-9E6D-F6DF5F26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68F4-7C7D-4523-BAE4-84ADF576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D29A-024B-48AA-AC1C-A56B608F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AA5C-ADDB-4422-93AF-F7DE9CCF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71DD-BE6A-46C4-9043-C360B64A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C699-C9ED-4330-BD55-F9FA411A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CD5C-D6D0-4411-9F32-DBD00D07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EFB1-3EA8-405A-9A1A-E62A80E3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D768-ACBE-4AE8-BC5E-6C32C2FD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11D7-7BE8-46AF-B081-B2ECB0CA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D4FC-7880-4777-8D1C-4B279BB22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F039-7EEA-47EA-B992-1332968DC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4FDD-A0F3-4F18-9F41-71C33649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2B31-1F8D-44A9-A5B3-6B34A2CE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81F0-64A9-4A7A-A749-E1DDC48E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BFBD-4F96-4DD3-AFCB-EA6585DC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7FA9-F141-4F05-9A48-973DE856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25FE-FA87-4BBD-8A0B-144A617B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BE2A-D06C-4EF1-AEEA-E3DAFC34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3BD1-6A7D-43BF-86D4-4B34CAC1813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7B61-B335-401D-B938-91C505C7D88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Arial"/>
              </a:rPr>
              <a:t>Из чего сделана музыка?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4" name="Picture 4" descr="роза"/>
          <p:cNvPicPr/>
          <p:nvPr/>
        </p:nvPicPr>
        <p:blipFill>
          <a:blip r:embed="rId1"/>
          <a:stretch/>
        </p:blipFill>
        <p:spPr>
          <a:xfrm rot="18066000">
            <a:off x="5837040" y="3270240"/>
            <a:ext cx="2765520" cy="398124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4"/>
          <p:cNvSpPr/>
          <p:nvPr/>
        </p:nvSpPr>
        <p:spPr>
          <a:xfrm>
            <a:off x="-228600" y="304920"/>
            <a:ext cx="967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de067"/>
                </a:solidFill>
                <a:latin typeface="Verdana"/>
              </a:rPr>
              <a:t>ЗМОУ «Средняя общеобразовательная школа №4»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228600" y="2895480"/>
            <a:ext cx="525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ультимедийное пособие для уроков музык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7 класс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полнено учителем музык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орожанцевой Еленой Павловно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380880" y="60958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de067"/>
                </a:solidFill>
                <a:latin typeface="Verdana"/>
              </a:rPr>
              <a:t>Г.Заречный Свердловской област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1"/>
          <p:cNvSpPr/>
          <p:nvPr/>
        </p:nvSpPr>
        <p:spPr>
          <a:xfrm>
            <a:off x="228600" y="22860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екст песни принадлежит перу берлинского поэта и музыкального критика Людвига Рельштаб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Рисунок 2" descr="rellstab.jpg"/>
          <p:cNvPicPr/>
          <p:nvPr/>
        </p:nvPicPr>
        <p:blipFill>
          <a:blip r:embed="rId1"/>
          <a:stretch/>
        </p:blipFill>
        <p:spPr>
          <a:xfrm rot="21247200">
            <a:off x="533160" y="1904760"/>
            <a:ext cx="3216240" cy="472428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2" descr="m_29664.jpg"/>
          <p:cNvPicPr/>
          <p:nvPr/>
        </p:nvPicPr>
        <p:blipFill>
          <a:blip r:embed="rId2"/>
          <a:stretch/>
        </p:blipFill>
        <p:spPr>
          <a:xfrm rot="435000">
            <a:off x="4876920" y="1904760"/>
            <a:ext cx="2906640" cy="46479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6"/>
          <p:cNvSpPr/>
          <p:nvPr/>
        </p:nvSpPr>
        <p:spPr>
          <a:xfrm>
            <a:off x="4648320" y="228600"/>
            <a:ext cx="449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рический поэт Николай Платонович Огарёв перевел это стихотворение на русский язык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6" descr="serenada_main"/>
          <p:cNvPicPr/>
          <p:nvPr/>
        </p:nvPicPr>
        <p:blipFill>
          <a:blip r:embed="rId1"/>
          <a:stretch/>
        </p:blipFill>
        <p:spPr>
          <a:xfrm rot="208800">
            <a:off x="761760" y="1143000"/>
            <a:ext cx="776124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2. Ритм 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ства ритма –порядок, симметр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Picture 5" descr="бабочка"/>
          <p:cNvPicPr/>
          <p:nvPr/>
        </p:nvPicPr>
        <p:blipFill>
          <a:blip r:embed="rId1"/>
          <a:stretch/>
        </p:blipFill>
        <p:spPr>
          <a:xfrm>
            <a:off x="5562720" y="3505320"/>
            <a:ext cx="2716200" cy="27432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2" descr="j0157763"/>
          <p:cNvPicPr/>
          <p:nvPr/>
        </p:nvPicPr>
        <p:blipFill>
          <a:blip r:embed="rId2"/>
          <a:stretch/>
        </p:blipFill>
        <p:spPr>
          <a:xfrm>
            <a:off x="457200" y="2362320"/>
            <a:ext cx="40194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0" name="Picture 4" descr="parthenon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А.Хачатурян «Танец с саблями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2" name="Picture 4" descr="kazaki_of_russia_43"/>
          <p:cNvPicPr/>
          <p:nvPr/>
        </p:nvPicPr>
        <p:blipFill>
          <a:blip r:embed="rId1"/>
          <a:stretch/>
        </p:blipFill>
        <p:spPr>
          <a:xfrm>
            <a:off x="1295280" y="1617840"/>
            <a:ext cx="7848720" cy="5240160"/>
          </a:xfrm>
          <a:prstGeom prst="rect">
            <a:avLst/>
          </a:prstGeom>
          <a:ln w="0">
            <a:noFill/>
          </a:ln>
        </p:spPr>
      </p:pic>
      <p:pic>
        <p:nvPicPr>
          <p:cNvPr id="203" name="019 Хачатурян - Танец с саблями.mp3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49186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оссини«Тарантелла»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5" name="Picture 4" descr="0000007"/>
          <p:cNvPicPr/>
          <p:nvPr/>
        </p:nvPicPr>
        <p:blipFill>
          <a:blip r:embed="rId1"/>
          <a:stretch/>
        </p:blipFill>
        <p:spPr>
          <a:xfrm>
            <a:off x="0" y="114300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0_20309_1f61bcfb_XL"/>
          <p:cNvPicPr/>
          <p:nvPr/>
        </p:nvPicPr>
        <p:blipFill>
          <a:blip r:embed="rId2"/>
          <a:stretch/>
        </p:blipFill>
        <p:spPr>
          <a:xfrm>
            <a:off x="4317840" y="3238560"/>
            <a:ext cx="4826160" cy="3619440"/>
          </a:xfrm>
          <a:prstGeom prst="rect">
            <a:avLst/>
          </a:prstGeom>
          <a:ln w="0">
            <a:noFill/>
          </a:ln>
        </p:spPr>
      </p:pic>
      <p:pic>
        <p:nvPicPr>
          <p:cNvPr id="207" name="тарантелла 2.mp3" descr=""/>
          <p:cNvPicPr/>
          <p:nvPr/>
        </p:nvPicPr>
        <p:blipFill>
          <a:blip r:embed="rId3"/>
          <a:stretch/>
        </p:blipFill>
        <p:spPr>
          <a:xfrm>
            <a:off x="5715000" y="13716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3. Лад-настроение в музык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Мажор (радостно, весело)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Минор (грустно, печально)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4.Темп –скорость звуч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Быстро –аллегро, виво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Picture 9" descr="0_3bb4_923b4ed4_XL"/>
          <p:cNvPicPr/>
          <p:nvPr/>
        </p:nvPicPr>
        <p:blipFill>
          <a:blip r:embed="rId1"/>
          <a:stretch/>
        </p:blipFill>
        <p:spPr>
          <a:xfrm rot="21418800">
            <a:off x="2819160" y="1981080"/>
            <a:ext cx="609588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-228960" y="1828440"/>
            <a:ext cx="4800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ctr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Умеренно –состенуто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263880" indent="-263880" algn="ctr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263880" indent="-263880" algn="ctr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Медленно –адажио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2638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4" name="Picture 6" descr="4a3edb62b705a4b811c1a9283cf763d8"/>
          <p:cNvPicPr/>
          <p:nvPr/>
        </p:nvPicPr>
        <p:blipFill>
          <a:blip r:embed="rId1"/>
          <a:stretch/>
        </p:blipFill>
        <p:spPr>
          <a:xfrm rot="21475800">
            <a:off x="4252680" y="685440"/>
            <a:ext cx="48909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543800" cy="117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5. Регист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Низки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Средни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Высоки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Picture 5" descr="he_pingping_sultan_kosen03"/>
          <p:cNvPicPr/>
          <p:nvPr/>
        </p:nvPicPr>
        <p:blipFill>
          <a:blip r:embed="rId1"/>
          <a:stretch/>
        </p:blipFill>
        <p:spPr>
          <a:xfrm rot="21423000">
            <a:off x="5257800" y="1371600"/>
            <a:ext cx="3495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696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Выразительные средства музыки:</a:t>
            </a:r>
            <a:br>
              <a:rPr sz="4800"/>
            </a:br>
            <a:r>
              <a:rPr b="0" lang="ru-RU" sz="4800" spc="-1" strike="noStrike">
                <a:solidFill>
                  <a:srgbClr val="ff9900"/>
                </a:solidFill>
                <a:latin typeface="Arial"/>
              </a:rPr>
              <a:t>1.мелодия;</a:t>
            </a:r>
            <a:br>
              <a:rPr sz="4800"/>
            </a:br>
            <a:r>
              <a:rPr b="0" lang="ru-RU" sz="4800" spc="-1" strike="noStrike">
                <a:solidFill>
                  <a:srgbClr val="ff9900"/>
                </a:solidFill>
                <a:latin typeface="Arial"/>
              </a:rPr>
              <a:t>2.ритм;</a:t>
            </a:r>
            <a:br>
              <a:rPr sz="4800"/>
            </a:br>
            <a:r>
              <a:rPr b="0" lang="ru-RU" sz="4800" spc="-1" strike="noStrike">
                <a:solidFill>
                  <a:srgbClr val="ff9900"/>
                </a:solidFill>
                <a:latin typeface="Arial"/>
              </a:rPr>
              <a:t>3.лад;</a:t>
            </a:r>
            <a:br>
              <a:rPr sz="4800"/>
            </a:br>
            <a:r>
              <a:rPr b="0" lang="ru-RU" sz="4800" spc="-1" strike="noStrike">
                <a:solidFill>
                  <a:srgbClr val="ff9900"/>
                </a:solidFill>
                <a:latin typeface="Arial"/>
              </a:rPr>
              <a:t>4.темп;</a:t>
            </a:r>
            <a:br>
              <a:rPr sz="4800"/>
            </a:br>
            <a:r>
              <a:rPr b="0" lang="ru-RU" sz="4800" spc="-1" strike="noStrike">
                <a:solidFill>
                  <a:srgbClr val="ff9900"/>
                </a:solidFill>
                <a:latin typeface="Arial"/>
              </a:rPr>
              <a:t>5.тембр;</a:t>
            </a:r>
            <a:br>
              <a:rPr sz="4800"/>
            </a:br>
            <a:r>
              <a:rPr b="0" lang="ru-RU" sz="4800" spc="-1" strike="noStrike">
                <a:solidFill>
                  <a:srgbClr val="ff9900"/>
                </a:solidFill>
                <a:latin typeface="Arial"/>
              </a:rPr>
              <a:t>7.динамика…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6. Динамика – сила зву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Picture 4" descr="1267278157_018"/>
          <p:cNvPicPr/>
          <p:nvPr/>
        </p:nvPicPr>
        <p:blipFill>
          <a:blip r:embed="rId1"/>
          <a:stretch/>
        </p:blipFill>
        <p:spPr>
          <a:xfrm rot="211200">
            <a:off x="1142640" y="152352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362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Verdana"/>
              </a:rPr>
              <a:t>Крещендо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–</a:t>
            </a:r>
            <a:r>
              <a:rPr b="0" i="1" lang="ru-RU" sz="3600" spc="-1" strike="noStrike">
                <a:solidFill>
                  <a:srgbClr val="ffffff"/>
                </a:solidFill>
                <a:latin typeface="Verdana"/>
              </a:rPr>
              <a:t>постепенное усиление звук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636120" y="609480"/>
            <a:ext cx="63633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Verdana"/>
              </a:rPr>
              <a:t>Диминуэндо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ru-RU" sz="3600" spc="-1" strike="noStrike">
                <a:solidFill>
                  <a:srgbClr val="ffffff"/>
                </a:solidFill>
                <a:latin typeface="Verdana"/>
              </a:rPr>
              <a:t>постепенно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Verdana"/>
              </a:rPr>
              <a:t>ослабление звук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5340600" y="2743200"/>
            <a:ext cx="292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Verdana"/>
              </a:rPr>
              <a:t>Пиано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i="1" lang="ru-RU" sz="3600" spc="-1" strike="noStrike">
                <a:solidFill>
                  <a:srgbClr val="ffffff"/>
                </a:solidFill>
                <a:latin typeface="Verdana"/>
              </a:rPr>
              <a:t>тихо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228600" y="32004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Verdana"/>
              </a:rPr>
              <a:t>Форте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i="1" lang="ru-RU" sz="3600" spc="-1" strike="noStrike">
                <a:solidFill>
                  <a:srgbClr val="ffffff"/>
                </a:solidFill>
                <a:latin typeface="Verdana"/>
              </a:rPr>
              <a:t>громко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7.Тембр –окраска зву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2361960"/>
            <a:ext cx="5867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Какой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музыкальный инструмент исполняет это произведение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Picture 5" descr="C:\Documents and Settings\Admin\Рабочий стол\Горожанцева\картинки\анимашки\анимация\арфа.gif"/>
          <p:cNvPicPr/>
          <p:nvPr/>
        </p:nvPicPr>
        <p:blipFill>
          <a:blip r:embed="rId1"/>
          <a:stretch/>
        </p:blipFill>
        <p:spPr>
          <a:xfrm>
            <a:off x="5867280" y="3581280"/>
            <a:ext cx="3276720" cy="3276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C:\Documents and Settings\Admin\Рабочий стол\Горожанцева\картинки\анимашки\анимация\блестит.gif"/>
          <p:cNvPicPr/>
          <p:nvPr/>
        </p:nvPicPr>
        <p:blipFill>
          <a:blip r:embed="rId2"/>
          <a:stretch/>
        </p:blipFill>
        <p:spPr>
          <a:xfrm>
            <a:off x="2362320" y="1523880"/>
            <a:ext cx="349236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28240" y="457200"/>
            <a:ext cx="84582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Какой певческий голос исполняет это музыкальное произведение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9" name="Picture 2" descr="C:\Documents and Settings\Татьяна Геннадьевна\Рабочий стол\7 кл\tecora at uc4.jpg"/>
          <p:cNvPicPr/>
          <p:nvPr/>
        </p:nvPicPr>
        <p:blipFill>
          <a:blip r:embed="rId1"/>
          <a:stretch/>
        </p:blipFill>
        <p:spPr>
          <a:xfrm>
            <a:off x="-6480" y="1444680"/>
            <a:ext cx="2835360" cy="435276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9" descr="Визбор.jpg"/>
          <p:cNvPicPr/>
          <p:nvPr/>
        </p:nvPicPr>
        <p:blipFill>
          <a:blip r:embed="rId2"/>
          <a:stretch/>
        </p:blipFill>
        <p:spPr>
          <a:xfrm>
            <a:off x="5638680" y="3352680"/>
            <a:ext cx="3505320" cy="35053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C:\Documents and Settings\Admin\Рабочий стол\Горожанцева\картинки\анимашки\анимация\гитарист.jpg"/>
          <p:cNvPicPr/>
          <p:nvPr/>
        </p:nvPicPr>
        <p:blipFill>
          <a:blip r:embed="rId3"/>
          <a:stretch/>
        </p:blipFill>
        <p:spPr>
          <a:xfrm>
            <a:off x="2895480" y="38098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Контрольная рабо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1.Какое выразительное средство музыки П.И.Чайковский называл «душой музыки»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А.ритм;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Б.мелодию;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динамику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2.Какое музыкальное произведение звучит?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8229600" cy="30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«Мелодия»Х.В.Глю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. «Серенада» Ф.Шуберта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. «Турецкий марш» В.А.Моцар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6" name="серенада.mp3" descr=""/>
          <p:cNvPicPr/>
          <p:nvPr/>
        </p:nvPicPr>
        <p:blipFill>
          <a:blip r:embed="rId1"/>
          <a:stretch/>
        </p:blipFill>
        <p:spPr>
          <a:xfrm>
            <a:off x="3886200" y="22860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26825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-5164560"/>
            <a:ext cx="152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71440" y="609120"/>
            <a:ext cx="57150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3.Какое музыкальное произведение исполнялось под балконом                       возлюбленной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А.тарантелла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Б.серенада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В.гимн любв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9" name="Picture 5" descr="img_bg_01_2"/>
          <p:cNvPicPr/>
          <p:nvPr/>
        </p:nvPicPr>
        <p:blipFill>
          <a:blip r:embed="rId1"/>
          <a:stretch/>
        </p:blipFill>
        <p:spPr>
          <a:xfrm>
            <a:off x="0" y="0"/>
            <a:ext cx="2724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В каком выразительном средстве музыки самым главным качеством являются порядок и симметрия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1" name="Picture 5" descr="parthenon"/>
          <p:cNvPicPr/>
          <p:nvPr/>
        </p:nvPicPr>
        <p:blipFill>
          <a:blip r:embed="rId1"/>
          <a:stretch/>
        </p:blipFill>
        <p:spPr>
          <a:xfrm>
            <a:off x="0" y="2286000"/>
            <a:ext cx="5715000" cy="41180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6"/>
          <p:cNvSpPr/>
          <p:nvPr/>
        </p:nvSpPr>
        <p:spPr>
          <a:xfrm>
            <a:off x="5638680" y="2819520"/>
            <a:ext cx="35053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А.лад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Б.темп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В.ритм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"/>
          <p:cNvSpPr/>
          <p:nvPr/>
        </p:nvSpPr>
        <p:spPr>
          <a:xfrm>
            <a:off x="914400" y="838080"/>
            <a:ext cx="73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5.Назови музыкальный темп произведения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990720" y="3276720"/>
            <a:ext cx="734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А. быстро(аллегро, виво)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Б.медленно (адажио)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В.умеренно (состенуто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5" name="019 Хачатурян - Танец с саблями.mp3" descr=""/>
          <p:cNvPicPr/>
          <p:nvPr/>
        </p:nvPicPr>
        <p:blipFill>
          <a:blip r:embed="rId1"/>
          <a:stretch/>
        </p:blipFill>
        <p:spPr>
          <a:xfrm>
            <a:off x="3809880" y="2438280"/>
            <a:ext cx="838440" cy="83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49186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6.Как называется самый медленный темп в музыке?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А.аллегро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Б.адажио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В.состенуто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394920" y="1844280"/>
            <a:ext cx="8497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Печально и чиста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Как жизнь, людьми любимая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Как жизнь, ты не проста,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Как жизнь, непостижимая,</a:t>
            </a: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МУЗЫКА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Прямоугольник 4"/>
          <p:cNvSpPr/>
          <p:nvPr/>
        </p:nvSpPr>
        <p:spPr>
          <a:xfrm>
            <a:off x="1447920" y="762120"/>
            <a:ext cx="67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dd5f1"/>
                </a:solidFill>
                <a:latin typeface="Verdana"/>
              </a:rPr>
              <a:t>1.Мелоди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Какой танец врачи рекомендовали танцевать при укусе тарантула?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181120" y="2666880"/>
            <a:ext cx="350532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.вальс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.танго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. тарантелл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0" name="Picture 4" descr="0_20309_1f61bcfb_XL"/>
          <p:cNvPicPr/>
          <p:nvPr/>
        </p:nvPicPr>
        <p:blipFill>
          <a:blip r:embed="rId1"/>
          <a:stretch/>
        </p:blipFill>
        <p:spPr>
          <a:xfrm>
            <a:off x="0" y="2133720"/>
            <a:ext cx="525780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8. Определи по картинке, какой звучит танец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90960" y="2742840"/>
            <a:ext cx="3352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.лезгинка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. "Танец с саблями»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.тарантел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3" name="Picture 4" descr="kazaki_of_russia_43"/>
          <p:cNvPicPr/>
          <p:nvPr/>
        </p:nvPicPr>
        <p:blipFill>
          <a:blip r:embed="rId1"/>
          <a:stretch/>
        </p:blipFill>
        <p:spPr>
          <a:xfrm>
            <a:off x="0" y="2057400"/>
            <a:ext cx="5791320" cy="3867120"/>
          </a:xfrm>
          <a:prstGeom prst="rect">
            <a:avLst/>
          </a:prstGeom>
          <a:ln w="0">
            <a:noFill/>
          </a:ln>
        </p:spPr>
      </p:pic>
      <p:pic>
        <p:nvPicPr>
          <p:cNvPr id="254" name="019 Хачатурян - Танец с саблями.mp3" descr=""/>
          <p:cNvPicPr/>
          <p:nvPr/>
        </p:nvPicPr>
        <p:blipFill>
          <a:blip r:embed="rId2"/>
          <a:stretch/>
        </p:blipFill>
        <p:spPr>
          <a:xfrm>
            <a:off x="7010280" y="19051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49186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685800" y="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023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02320" indent="-202320" algn="ctr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9. Какое выразительное средство музыки обозначает силу звука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023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02320" indent="-202320" algn="ctr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А.ритм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02320" indent="-202320" algn="ctr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Б.темп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02320" indent="-202320" algn="ctr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В.динамик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02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02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10.Какой музыкальный термин обозначает окраску звука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А.мелодия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б.лад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.тембр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лючи к ответа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162920" cy="1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000"/>
          </a:bodyPr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9.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.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c000"/>
                </a:solidFill>
                <a:latin typeface="Arial"/>
              </a:rPr>
              <a:t>Молодцы!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Презентация выполнена 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                                учителем музыки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                           Горожанцевой Еленой                        Павловной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г.Заречный Свердловской области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Список ресурсов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http://internet-vip.ru/web-master/fony_sayta/index.ht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http://fantasyflash.ru/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http://fonegallery.narod.ru/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http://images.google.ru/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http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://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musicteach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.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ucoz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.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ru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Выражаю Благодарность </a:t>
            </a:r>
            <a:br>
              <a:rPr sz="3600"/>
            </a:b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учителям музыки:</a:t>
            </a:r>
            <a:br>
              <a:rPr sz="3600"/>
            </a:b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Пилюгиной Л.А.,Шестаковой Е.,</a:t>
            </a:r>
            <a:br>
              <a:rPr sz="3600"/>
            </a:b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Прокопенко О.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4" name="Picture 2" descr="C:\Documents and Settings\Admin\Рабочий стол\Горожанцева\картинки\анимашки\спасибо\спасибо.gif"/>
          <p:cNvPicPr/>
          <p:nvPr/>
        </p:nvPicPr>
        <p:blipFill>
          <a:blip r:embed="rId1"/>
          <a:stretch/>
        </p:blipFill>
        <p:spPr>
          <a:xfrm>
            <a:off x="1828800" y="3048120"/>
            <a:ext cx="6072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2209680"/>
            <a:ext cx="3352680" cy="1689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de067"/>
                </a:solidFill>
                <a:latin typeface="Arial"/>
              </a:rPr>
              <a:t>«Мелодия»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 Х.В.Глюк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2" name="Picture 5" descr="Frederic_Leighton-Orfeo_ed_Euridice-1864"/>
          <p:cNvPicPr/>
          <p:nvPr/>
        </p:nvPicPr>
        <p:blipFill>
          <a:blip r:embed="rId1"/>
          <a:stretch/>
        </p:blipFill>
        <p:spPr>
          <a:xfrm rot="21469800">
            <a:off x="3581280" y="533160"/>
            <a:ext cx="5370480" cy="5790960"/>
          </a:xfrm>
          <a:prstGeom prst="rect">
            <a:avLst/>
          </a:prstGeom>
          <a:ln w="0">
            <a:noFill/>
          </a:ln>
        </p:spPr>
      </p:pic>
      <p:pic>
        <p:nvPicPr>
          <p:cNvPr id="173" name="Глюк. Мелодия.wm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4" name="Глюк. Мелодия.wmv" descr=""/>
          <p:cNvPicPr/>
          <p:nvPr/>
        </p:nvPicPr>
        <p:blipFill>
          <a:blip r:embed="rId3"/>
          <a:stretch/>
        </p:blipFill>
        <p:spPr>
          <a:xfrm>
            <a:off x="3429000" y="141120"/>
            <a:ext cx="5715000" cy="651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55432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5432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55432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602780580_tonnel"/>
          <p:cNvPicPr/>
          <p:nvPr/>
        </p:nvPicPr>
        <p:blipFill>
          <a:blip r:embed="rId1"/>
          <a:stretch/>
        </p:blipFill>
        <p:spPr>
          <a:xfrm>
            <a:off x="304920" y="685800"/>
            <a:ext cx="4248000" cy="5664240"/>
          </a:xfrm>
          <a:prstGeom prst="rect">
            <a:avLst/>
          </a:prstGeom>
          <a:ln w="0">
            <a:noFill/>
          </a:ln>
        </p:spPr>
      </p:pic>
      <p:sp>
        <p:nvSpPr>
          <p:cNvPr id="176" name="WordArt 5"/>
          <p:cNvSpPr txBox="1"/>
          <p:nvPr/>
        </p:nvSpPr>
        <p:spPr>
          <a:xfrm>
            <a:off x="4716360" y="2205000"/>
            <a:ext cx="410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П.И. Чайковский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77" name="Прямоугольник 4"/>
          <p:cNvSpPr/>
          <p:nvPr/>
        </p:nvSpPr>
        <p:spPr>
          <a:xfrm>
            <a:off x="4724280" y="335268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елодия -душа музыки»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04920" y="18288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(фр. serenade, от итал. serenata, sera — вечер) — музыкальная композиция, исполняемая в                                                                           чью-то честь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    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Рисунок 3" descr="d181d0b5d180d0b5d0bdd0b0d0b4d0b0.png"/>
          <p:cNvPicPr/>
          <p:nvPr/>
        </p:nvPicPr>
        <p:blipFill>
          <a:blip r:embed="rId1"/>
          <a:stretch/>
        </p:blipFill>
        <p:spPr>
          <a:xfrm rot="474600">
            <a:off x="4419360" y="2209680"/>
            <a:ext cx="4419360" cy="3735360"/>
          </a:xfrm>
          <a:prstGeom prst="rect">
            <a:avLst/>
          </a:prstGeom>
          <a:ln w="0">
            <a:noFill/>
          </a:ln>
        </p:spPr>
      </p:pic>
      <p:sp>
        <p:nvSpPr>
          <p:cNvPr id="180" name="WordArt 5"/>
          <p:cNvSpPr txBox="1"/>
          <p:nvPr/>
        </p:nvSpPr>
        <p:spPr>
          <a:xfrm>
            <a:off x="2971800" y="533520"/>
            <a:ext cx="3429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d7f01"/>
                    </a:gs>
                    <a:gs pos="50000">
                      <a:srgbClr val="fde067"/>
                    </a:gs>
                    <a:gs pos="100000">
                      <a:srgbClr val="fd7f01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Серенада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d7f01"/>
                  </a:gs>
                  <a:gs pos="50000">
                    <a:srgbClr val="fde067"/>
                  </a:gs>
                  <a:gs pos="100000">
                    <a:srgbClr val="fd7f01"/>
                  </a:gs>
                </a:gsLst>
                <a:lin ang="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81" name="серенада.mp3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img_bg_01_2"/>
          <p:cNvPicPr/>
          <p:nvPr/>
        </p:nvPicPr>
        <p:blipFill>
          <a:blip r:embed="rId1"/>
          <a:stretch/>
        </p:blipFill>
        <p:spPr>
          <a:xfrm>
            <a:off x="0" y="0"/>
            <a:ext cx="272412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6"/>
          <p:cNvSpPr/>
          <p:nvPr/>
        </p:nvSpPr>
        <p:spPr>
          <a:xfrm>
            <a:off x="3809880" y="1523880"/>
            <a:ext cx="4800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067"/>
                </a:solidFill>
                <a:latin typeface="Arial"/>
              </a:rPr>
              <a:t>Серенада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— песня, исполненная для возлюбленной, обычно в вечернее или ночное время и часто под её окном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395280" y="333360"/>
            <a:ext cx="835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Ж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Arial"/>
              </a:rPr>
              <a:t>анр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серенады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Arial"/>
              </a:rPr>
              <a:t> был распространён в Средневековье и эпоху ренессанс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Arial"/>
              </a:rPr>
              <a:t>Истоком такой серенады является вечерняя песня трубадуров (serena)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Arial"/>
              </a:rPr>
              <a:t>Певец обычно сам аккомпанировал себе на лютне, мандолине или гитар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Рисунок 2" descr="ReinassanceLute.jpg"/>
          <p:cNvPicPr/>
          <p:nvPr/>
        </p:nvPicPr>
        <p:blipFill>
          <a:blip r:embed="rId1"/>
          <a:stretch/>
        </p:blipFill>
        <p:spPr>
          <a:xfrm rot="331800">
            <a:off x="533520" y="3276360"/>
            <a:ext cx="4465440" cy="325728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3" descr="1768396.jpg"/>
          <p:cNvPicPr/>
          <p:nvPr/>
        </p:nvPicPr>
        <p:blipFill>
          <a:blip r:embed="rId2"/>
          <a:stretch/>
        </p:blipFill>
        <p:spPr>
          <a:xfrm rot="20904600">
            <a:off x="6095520" y="2971440"/>
            <a:ext cx="23799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Рисунок 4" descr="schubert.jpg"/>
          <p:cNvPicPr/>
          <p:nvPr/>
        </p:nvPicPr>
        <p:blipFill>
          <a:blip r:embed="rId1"/>
          <a:stretch/>
        </p:blipFill>
        <p:spPr>
          <a:xfrm>
            <a:off x="3924360" y="333360"/>
            <a:ext cx="4808520" cy="61200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4"/>
          <p:cNvSpPr/>
          <p:nvPr/>
        </p:nvSpPr>
        <p:spPr>
          <a:xfrm>
            <a:off x="533520" y="1828800"/>
            <a:ext cx="3262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Вечерняя Серенада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Ф.Шуберт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серенада.mp3" descr=""/>
          <p:cNvPicPr/>
          <p:nvPr/>
        </p:nvPicPr>
        <p:blipFill>
          <a:blip r:embed="rId2"/>
          <a:stretch/>
        </p:blipFill>
        <p:spPr>
          <a:xfrm>
            <a:off x="1447920" y="51055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1-04-23T18:00:20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