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3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8.png" ContentType="image/png"/>
  <Override PartName="/ppt/media/image14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11.jpeg" ContentType="image/jpeg"/>
  <Override PartName="/ppt/media/image1.gif" ContentType="image/gif"/>
  <Override PartName="/ppt/media/image27.png" ContentType="image/png"/>
  <Override PartName="/ppt/media/image34.gif" ContentType="image/gif"/>
  <Override PartName="/ppt/media/image33.jpeg" ContentType="image/jpe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gif" ContentType="image/gif"/>
  <Override PartName="/ppt/media/image17.wmf" ContentType="image/x-wmf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8732-41D0-434D-92FC-1EA0F4662C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375D-581C-47A4-B432-E1EC63A650F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6E5B-B702-45AA-99EA-9668D3043B4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5D33-185E-434F-B720-A8D8E94B8E9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CF9A-1F99-4E93-BF03-1D9F82C2D67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934-5EB3-440D-9688-C2F2662B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8792-9745-4725-8C6A-0EFBE288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94B-2D0E-4B46-81CD-D505235D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E8A-99A2-4BC7-8359-3F6C2CC4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DE0B-BCB5-4FC2-91B5-BC03308F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7FE8-3DB6-4F0F-9FA3-8D3E254E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DD45-A3E5-42A5-B9C8-B37CFB86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1C32-EFF1-4B28-A1BB-566B9B0B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58E2-8A24-4E83-9C17-3F7AE437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800C-A50B-4360-A129-3E3BA330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AC3E-D25F-46DF-8AC8-2E866F1E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20B-6C3D-4BB9-98D9-DC6B41E8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A63C-EE28-45E6-A2A6-56C993D7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2C64-3FD1-43E0-BBA2-B683B6D3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13B8-4200-4098-93D9-DBFC3064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7CDB-6838-4246-A9FB-4409D215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B966-9222-417D-AA49-01916F7F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2FCC-F8C8-4374-BDCC-B6F4C5E9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153-B3EB-46A1-B677-70A240BA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35E-9F5D-42E8-A9D0-6A56C980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A0B-89E5-4CAC-AA83-F88CE57D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25F-2095-4E84-966D-E7FD2043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46F-6ADE-4F67-A328-E87A9059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BA69-20EE-4875-A27D-AF6C88A5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1FE8-29F3-48F8-B8B8-F2C3493B0DB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9E3C-5221-4B3D-8941-B59D17549C9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Arial"/>
              </a:rPr>
              <a:t>Из чего сделана музыка?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Picture 4" descr="роза"/>
          <p:cNvPicPr/>
          <p:nvPr/>
        </p:nvPicPr>
        <p:blipFill>
          <a:blip r:embed="rId1"/>
          <a:stretch/>
        </p:blipFill>
        <p:spPr>
          <a:xfrm rot="18066000">
            <a:off x="5837040" y="3270240"/>
            <a:ext cx="2765520" cy="398124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4"/>
          <p:cNvSpPr/>
          <p:nvPr/>
        </p:nvSpPr>
        <p:spPr>
          <a:xfrm>
            <a:off x="-228600" y="304920"/>
            <a:ext cx="967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e067"/>
                </a:solidFill>
                <a:latin typeface="Verdana"/>
              </a:rPr>
              <a:t>ЗМОУ «Средняя общеобразовательная школа №4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228600" y="2895480"/>
            <a:ext cx="525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ультимедийное пособие для уроков музы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7 класс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полнено учителем музык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рожанцевой Еленой Павловн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380880" y="60958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e067"/>
                </a:solidFill>
                <a:latin typeface="Verdana"/>
              </a:rPr>
              <a:t>Г.Заречный Свердловской обла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228600" y="22860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екст песни принадлежит перу берлинского поэта и музыкального критика Людвига Рельштаб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Рисунок 2" descr="rellstab.jpg"/>
          <p:cNvPicPr/>
          <p:nvPr/>
        </p:nvPicPr>
        <p:blipFill>
          <a:blip r:embed="rId1"/>
          <a:stretch/>
        </p:blipFill>
        <p:spPr>
          <a:xfrm rot="21247200">
            <a:off x="533160" y="1904760"/>
            <a:ext cx="3216240" cy="47242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2" descr="m_29664.jpg"/>
          <p:cNvPicPr/>
          <p:nvPr/>
        </p:nvPicPr>
        <p:blipFill>
          <a:blip r:embed="rId2"/>
          <a:stretch/>
        </p:blipFill>
        <p:spPr>
          <a:xfrm rot="435000">
            <a:off x="4876920" y="1904760"/>
            <a:ext cx="2906640" cy="46479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6"/>
          <p:cNvSpPr/>
          <p:nvPr/>
        </p:nvSpPr>
        <p:spPr>
          <a:xfrm>
            <a:off x="4648320" y="22860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рический поэт Николай Платонович Огарёв перевел это стихотворение на русский язы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serenada_main"/>
          <p:cNvPicPr/>
          <p:nvPr/>
        </p:nvPicPr>
        <p:blipFill>
          <a:blip r:embed="rId1"/>
          <a:stretch/>
        </p:blipFill>
        <p:spPr>
          <a:xfrm rot="208800">
            <a:off x="761760" y="1143000"/>
            <a:ext cx="776124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2. Ритм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ства ритма –порядок, симметр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5" descr="бабочка"/>
          <p:cNvPicPr/>
          <p:nvPr/>
        </p:nvPicPr>
        <p:blipFill>
          <a:blip r:embed="rId1"/>
          <a:stretch/>
        </p:blipFill>
        <p:spPr>
          <a:xfrm>
            <a:off x="5562720" y="3505320"/>
            <a:ext cx="2716200" cy="2743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j0157763"/>
          <p:cNvPicPr/>
          <p:nvPr/>
        </p:nvPicPr>
        <p:blipFill>
          <a:blip r:embed="rId2"/>
          <a:stretch/>
        </p:blipFill>
        <p:spPr>
          <a:xfrm>
            <a:off x="457200" y="2362320"/>
            <a:ext cx="40194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Picture 4" descr="parthenon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.Хачатурян «Танец с саблями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2" name="Picture 4" descr="kazaki_of_russia_43"/>
          <p:cNvPicPr/>
          <p:nvPr/>
        </p:nvPicPr>
        <p:blipFill>
          <a:blip r:embed="rId1"/>
          <a:stretch/>
        </p:blipFill>
        <p:spPr>
          <a:xfrm>
            <a:off x="1295280" y="1617840"/>
            <a:ext cx="7848720" cy="5240160"/>
          </a:xfrm>
          <a:prstGeom prst="rect">
            <a:avLst/>
          </a:prstGeom>
          <a:ln w="0">
            <a:noFill/>
          </a:ln>
        </p:spPr>
      </p:pic>
      <p:pic>
        <p:nvPicPr>
          <p:cNvPr id="203" name="019 Хачатурян - Танец с саблями.mp3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9186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оссини«Тарантелла»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5" name="Picture 4" descr="0000007"/>
          <p:cNvPicPr/>
          <p:nvPr/>
        </p:nvPicPr>
        <p:blipFill>
          <a:blip r:embed="rId1"/>
          <a:stretch/>
        </p:blipFill>
        <p:spPr>
          <a:xfrm>
            <a:off x="0" y="11430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0_20309_1f61bcfb_XL"/>
          <p:cNvPicPr/>
          <p:nvPr/>
        </p:nvPicPr>
        <p:blipFill>
          <a:blip r:embed="rId2"/>
          <a:stretch/>
        </p:blipFill>
        <p:spPr>
          <a:xfrm>
            <a:off x="4317840" y="3238560"/>
            <a:ext cx="4826160" cy="3619440"/>
          </a:xfrm>
          <a:prstGeom prst="rect">
            <a:avLst/>
          </a:prstGeom>
          <a:ln w="0">
            <a:noFill/>
          </a:ln>
        </p:spPr>
      </p:pic>
      <p:pic>
        <p:nvPicPr>
          <p:cNvPr id="207" name="тарантелла 2.mp3" descr=""/>
          <p:cNvPicPr/>
          <p:nvPr/>
        </p:nvPicPr>
        <p:blipFill>
          <a:blip r:embed="rId3"/>
          <a:stretch/>
        </p:blipFill>
        <p:spPr>
          <a:xfrm>
            <a:off x="5715000" y="13716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3. Лад-настроение в музык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ажор (радостно, весело)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инор (грустно, печально)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4.Темп –скорость звуч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ыстро –аллегро, вив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9" descr="0_3bb4_923b4ed4_XL"/>
          <p:cNvPicPr/>
          <p:nvPr/>
        </p:nvPicPr>
        <p:blipFill>
          <a:blip r:embed="rId1"/>
          <a:stretch/>
        </p:blipFill>
        <p:spPr>
          <a:xfrm rot="21418800">
            <a:off x="2819160" y="1981080"/>
            <a:ext cx="60958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-228960" y="1828440"/>
            <a:ext cx="4800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ctr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Умеренно –состенуто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263880" indent="-2638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263880" indent="-2638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едленно –адажи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2638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6" descr="4a3edb62b705a4b811c1a9283cf763d8"/>
          <p:cNvPicPr/>
          <p:nvPr/>
        </p:nvPicPr>
        <p:blipFill>
          <a:blip r:embed="rId1"/>
          <a:stretch/>
        </p:blipFill>
        <p:spPr>
          <a:xfrm rot="21475800">
            <a:off x="4252680" y="685440"/>
            <a:ext cx="48909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543800" cy="117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5. Регист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Низки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Средни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Высоки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5" descr="he_pingping_sultan_kosen03"/>
          <p:cNvPicPr/>
          <p:nvPr/>
        </p:nvPicPr>
        <p:blipFill>
          <a:blip r:embed="rId1"/>
          <a:stretch/>
        </p:blipFill>
        <p:spPr>
          <a:xfrm rot="21423000">
            <a:off x="5257800" y="1371600"/>
            <a:ext cx="3495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69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Выразительные средства музыки: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1.мелодия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2.ритм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3.лад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4.темп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5.тембр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7.динамика…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6. Динамика – сила зву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4" descr="1267278157_018"/>
          <p:cNvPicPr/>
          <p:nvPr/>
        </p:nvPicPr>
        <p:blipFill>
          <a:blip r:embed="rId1"/>
          <a:stretch/>
        </p:blipFill>
        <p:spPr>
          <a:xfrm rot="211200">
            <a:off x="1142640" y="152352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362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Крещендо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–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постепенное усиление зву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636120" y="609480"/>
            <a:ext cx="6363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Диминуэндо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постепенно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ослабление зву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5340600" y="2743200"/>
            <a:ext cx="29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Пиано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тих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228600" y="3200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Форте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громк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7.Тембр –окраска зву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5867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Какой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музыкальный инструмент исполняет это произведени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Picture 5" descr="C:\Documents and Settings\Admin\Рабочий стол\Горожанцева\картинки\анимашки\анимация\арфа.gif"/>
          <p:cNvPicPr/>
          <p:nvPr/>
        </p:nvPicPr>
        <p:blipFill>
          <a:blip r:embed="rId1"/>
          <a:stretch/>
        </p:blipFill>
        <p:spPr>
          <a:xfrm>
            <a:off x="5867280" y="358128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Admin\Рабочий стол\Горожанцева\картинки\анимашки\анимация\блестит.gif"/>
          <p:cNvPicPr/>
          <p:nvPr/>
        </p:nvPicPr>
        <p:blipFill>
          <a:blip r:embed="rId2"/>
          <a:stretch/>
        </p:blipFill>
        <p:spPr>
          <a:xfrm>
            <a:off x="2362320" y="1523880"/>
            <a:ext cx="3492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28240" y="457200"/>
            <a:ext cx="84582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Какой певческий голос исполняет это музыкальное произведение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Picture 2" descr="C:\Documents and Settings\Татьяна Геннадьевна\Рабочий стол\7 кл\tecora at uc4.jpg"/>
          <p:cNvPicPr/>
          <p:nvPr/>
        </p:nvPicPr>
        <p:blipFill>
          <a:blip r:embed="rId1"/>
          <a:stretch/>
        </p:blipFill>
        <p:spPr>
          <a:xfrm>
            <a:off x="-6480" y="1444680"/>
            <a:ext cx="2835360" cy="43527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9" descr="Визбор.jpg"/>
          <p:cNvPicPr/>
          <p:nvPr/>
        </p:nvPicPr>
        <p:blipFill>
          <a:blip r:embed="rId2"/>
          <a:stretch/>
        </p:blipFill>
        <p:spPr>
          <a:xfrm>
            <a:off x="563868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Documents and Settings\Admin\Рабочий стол\Горожанцева\картинки\анимашки\анимация\гитарист.jpg"/>
          <p:cNvPicPr/>
          <p:nvPr/>
        </p:nvPicPr>
        <p:blipFill>
          <a:blip r:embed="rId3"/>
          <a:stretch/>
        </p:blipFill>
        <p:spPr>
          <a:xfrm>
            <a:off x="2895480" y="38098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онтрольная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1.Какое выразительное средство музыки П.И.Чайковский называл «душой музыки»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.ритм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Б.мелодию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инамику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2.Какое музыкальное произведение звучит?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«Мелодия»Х.В.Глю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. «Серенада» Ф.Шуберт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 «Турецкий марш» В.А.Моцар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серенада.mp3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2682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-516456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1440" y="609120"/>
            <a:ext cx="57150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3.Какое музыкальное произведение исполнялось под балконом                       возлюбленной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тарантелла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серенада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гимн любв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5" descr="img_bg_01_2"/>
          <p:cNvPicPr/>
          <p:nvPr/>
        </p:nvPicPr>
        <p:blipFill>
          <a:blip r:embed="rId1"/>
          <a:stretch/>
        </p:blipFill>
        <p:spPr>
          <a:xfrm>
            <a:off x="0" y="0"/>
            <a:ext cx="272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В каком выразительном средстве музыки самым главным качеством являются порядок и симметрия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Picture 5" descr="parthenon"/>
          <p:cNvPicPr/>
          <p:nvPr/>
        </p:nvPicPr>
        <p:blipFill>
          <a:blip r:embed="rId1"/>
          <a:stretch/>
        </p:blipFill>
        <p:spPr>
          <a:xfrm>
            <a:off x="0" y="2286000"/>
            <a:ext cx="5715000" cy="41180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5638680" y="2819520"/>
            <a:ext cx="35053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лад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темп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рит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914400" y="8380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5.Назови музыкальный темп произведен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990720" y="3276720"/>
            <a:ext cx="734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 быстро(аллегро, виво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медленно (адажио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умеренно (состенуто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019 Хачатурян - Танец с саблями.mp3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838440" cy="8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49186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6.Как называется самый медленный темп в музыке?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аллегро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адажио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состенут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Печально и чист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ак жизнь, людьми любимая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ак жизнь, ты не проста,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ак жизнь, непостижимая,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МУЗЫКА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1447920" y="76212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dd5f1"/>
                </a:solidFill>
                <a:latin typeface="Verdana"/>
              </a:rPr>
              <a:t>1.Мелоди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Какой танец врачи рекомендовали танцевать при укусе тарантула?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181120" y="2666880"/>
            <a:ext cx="350532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.вальс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.танго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 тарантелл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Picture 4" descr="0_20309_1f61bcfb_XL"/>
          <p:cNvPicPr/>
          <p:nvPr/>
        </p:nvPicPr>
        <p:blipFill>
          <a:blip r:embed="rId1"/>
          <a:stretch/>
        </p:blipFill>
        <p:spPr>
          <a:xfrm>
            <a:off x="0" y="213372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8. Определи по картинке, какой звучит танец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0960" y="2742840"/>
            <a:ext cx="3352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.лезгинк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. "Танец с саблями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тарантел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3" name="Picture 4" descr="kazaki_of_russia_43"/>
          <p:cNvPicPr/>
          <p:nvPr/>
        </p:nvPicPr>
        <p:blipFill>
          <a:blip r:embed="rId1"/>
          <a:stretch/>
        </p:blipFill>
        <p:spPr>
          <a:xfrm>
            <a:off x="0" y="2057400"/>
            <a:ext cx="5791320" cy="3867120"/>
          </a:xfrm>
          <a:prstGeom prst="rect">
            <a:avLst/>
          </a:prstGeom>
          <a:ln w="0">
            <a:noFill/>
          </a:ln>
        </p:spPr>
      </p:pic>
      <p:pic>
        <p:nvPicPr>
          <p:cNvPr id="254" name="019 Хачатурян - Танец с саблями.mp3" descr=""/>
          <p:cNvPicPr/>
          <p:nvPr/>
        </p:nvPicPr>
        <p:blipFill>
          <a:blip r:embed="rId2"/>
          <a:stretch/>
        </p:blipFill>
        <p:spPr>
          <a:xfrm>
            <a:off x="7010280" y="1905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49186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 algn="ctr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9. Какое выразительное средство музыки обозначает силу звука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 algn="ctr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ритм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 algn="ctr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темп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 algn="ctr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динами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0.Какой музыкальный термин обозначает окраску звука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.мелодия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.лад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.тембр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лючи к ответ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1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000"/>
          </a:bodyPr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c000"/>
                </a:solidFill>
                <a:latin typeface="Arial"/>
              </a:rPr>
              <a:t>Молодцы!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Презентация выполнена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                               учителем музыки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                          Горожанцевой Еленой                        Павловной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г.Заречный Свердловской област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Список ресурсов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://internet-vip.ru/web-master/fony_sayta/index.ht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://fantasyflash.ru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://fonegallery.narod.ru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http://images.google.ru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:/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musicteach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ucoz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ru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Выражаю Благодарность 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учителям музыки: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Пилюгиной Л.А.,Шестаковой Е.,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Прокопенко О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Picture 2" descr="C:\Documents and Settings\Admin\Рабочий стол\Горожанцева\картинки\анимашки\спасибо\спасибо.gif"/>
          <p:cNvPicPr/>
          <p:nvPr/>
        </p:nvPicPr>
        <p:blipFill>
          <a:blip r:embed="rId1"/>
          <a:stretch/>
        </p:blipFill>
        <p:spPr>
          <a:xfrm>
            <a:off x="1828800" y="3048120"/>
            <a:ext cx="6072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09680"/>
            <a:ext cx="3352680" cy="16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de067"/>
                </a:solidFill>
                <a:latin typeface="Arial"/>
              </a:rPr>
              <a:t>«Мелодия»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Х.В.Глюк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Picture 5" descr="Frederic_Leighton-Orfeo_ed_Euridice-1864"/>
          <p:cNvPicPr/>
          <p:nvPr/>
        </p:nvPicPr>
        <p:blipFill>
          <a:blip r:embed="rId1"/>
          <a:stretch/>
        </p:blipFill>
        <p:spPr>
          <a:xfrm rot="21469800">
            <a:off x="3581280" y="533160"/>
            <a:ext cx="5370480" cy="5790960"/>
          </a:xfrm>
          <a:prstGeom prst="rect">
            <a:avLst/>
          </a:prstGeom>
          <a:ln w="0">
            <a:noFill/>
          </a:ln>
        </p:spPr>
      </p:pic>
      <p:pic>
        <p:nvPicPr>
          <p:cNvPr id="173" name="Глюк. Мелодия.wm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Глюк. Мелодия.wmv" descr=""/>
          <p:cNvPicPr/>
          <p:nvPr/>
        </p:nvPicPr>
        <p:blipFill>
          <a:blip r:embed="rId3"/>
          <a:stretch/>
        </p:blipFill>
        <p:spPr>
          <a:xfrm>
            <a:off x="3429000" y="141120"/>
            <a:ext cx="5715000" cy="651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5432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5432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55432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602780580_tonnel"/>
          <p:cNvPicPr/>
          <p:nvPr/>
        </p:nvPicPr>
        <p:blipFill>
          <a:blip r:embed="rId1"/>
          <a:stretch/>
        </p:blipFill>
        <p:spPr>
          <a:xfrm>
            <a:off x="304920" y="685800"/>
            <a:ext cx="4248000" cy="5664240"/>
          </a:xfrm>
          <a:prstGeom prst="rect">
            <a:avLst/>
          </a:prstGeom>
          <a:ln w="0">
            <a:noFill/>
          </a:ln>
        </p:spPr>
      </p:pic>
      <p:sp>
        <p:nvSpPr>
          <p:cNvPr id="176" name="WordArt 5"/>
          <p:cNvSpPr txBox="1"/>
          <p:nvPr/>
        </p:nvSpPr>
        <p:spPr>
          <a:xfrm>
            <a:off x="4716360" y="220500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.И. Чайковский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4724280" y="335268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лодия -душа музыки»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828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(фр. serenade, от итал. serenata, sera — вечер) — музыкальная композиция, исполняемая в                                                                           чью-то честь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Рисунок 3" descr="d181d0b5d180d0b5d0bdd0b0d0b4d0b0.png"/>
          <p:cNvPicPr/>
          <p:nvPr/>
        </p:nvPicPr>
        <p:blipFill>
          <a:blip r:embed="rId1"/>
          <a:stretch/>
        </p:blipFill>
        <p:spPr>
          <a:xfrm rot="474600">
            <a:off x="4419360" y="2209680"/>
            <a:ext cx="4419360" cy="3735360"/>
          </a:xfrm>
          <a:prstGeom prst="rect">
            <a:avLst/>
          </a:prstGeom>
          <a:ln w="0">
            <a:noFill/>
          </a:ln>
        </p:spPr>
      </p:pic>
      <p:sp>
        <p:nvSpPr>
          <p:cNvPr id="180" name="WordArt 5"/>
          <p:cNvSpPr txBox="1"/>
          <p:nvPr/>
        </p:nvSpPr>
        <p:spPr>
          <a:xfrm>
            <a:off x="2971800" y="533520"/>
            <a:ext cx="3429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d7f01"/>
                    </a:gs>
                    <a:gs pos="50000">
                      <a:srgbClr val="fde067"/>
                    </a:gs>
                    <a:gs pos="100000">
                      <a:srgbClr val="fd7f01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еренад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d7f01"/>
                  </a:gs>
                  <a:gs pos="50000">
                    <a:srgbClr val="fde067"/>
                  </a:gs>
                  <a:gs pos="100000">
                    <a:srgbClr val="fd7f01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81" name="серенада.mp3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img_bg_01_2"/>
          <p:cNvPicPr/>
          <p:nvPr/>
        </p:nvPicPr>
        <p:blipFill>
          <a:blip r:embed="rId1"/>
          <a:stretch/>
        </p:blipFill>
        <p:spPr>
          <a:xfrm>
            <a:off x="0" y="0"/>
            <a:ext cx="272412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3809880" y="1523880"/>
            <a:ext cx="480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067"/>
                </a:solidFill>
                <a:latin typeface="Arial"/>
              </a:rPr>
              <a:t>Серенад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— песня, исполненная для возлюбленной, обычно в вечернее или ночное время и часто под её окном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395280" y="33336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Ж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анр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серенады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 был распространён в Средневековье и эпоху ренессанс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Истоком такой серенады является вечерняя песня трубадуров (serena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Певец обычно сам аккомпанировал себе на лютне, мандолине или гитар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Рисунок 2" descr="ReinassanceLute.jpg"/>
          <p:cNvPicPr/>
          <p:nvPr/>
        </p:nvPicPr>
        <p:blipFill>
          <a:blip r:embed="rId1"/>
          <a:stretch/>
        </p:blipFill>
        <p:spPr>
          <a:xfrm rot="331800">
            <a:off x="533520" y="3276360"/>
            <a:ext cx="4465440" cy="32572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3" descr="1768396.jpg"/>
          <p:cNvPicPr/>
          <p:nvPr/>
        </p:nvPicPr>
        <p:blipFill>
          <a:blip r:embed="rId2"/>
          <a:stretch/>
        </p:blipFill>
        <p:spPr>
          <a:xfrm rot="20904600">
            <a:off x="6095520" y="2971440"/>
            <a:ext cx="2379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4" descr="schubert.jpg"/>
          <p:cNvPicPr/>
          <p:nvPr/>
        </p:nvPicPr>
        <p:blipFill>
          <a:blip r:embed="rId1"/>
          <a:stretch/>
        </p:blipFill>
        <p:spPr>
          <a:xfrm>
            <a:off x="3924360" y="333360"/>
            <a:ext cx="4808520" cy="6120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4"/>
          <p:cNvSpPr/>
          <p:nvPr/>
        </p:nvSpPr>
        <p:spPr>
          <a:xfrm>
            <a:off x="533520" y="1828800"/>
            <a:ext cx="326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Вечерняя Серенада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.Шуберт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серенада.mp3" descr=""/>
          <p:cNvPicPr/>
          <p:nvPr/>
        </p:nvPicPr>
        <p:blipFill>
          <a:blip r:embed="rId2"/>
          <a:stretch/>
        </p:blipFill>
        <p:spPr>
          <a:xfrm>
            <a:off x="1447920" y="5105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1-04-23T18:00:20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