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1429-60AB-432B-A143-F93B5F450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осевой симметрией; научить строить симметричные фигуры относительно о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, по которым были свёрнуты салфетки, называ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ями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ставить зеркальце вдоль прочерченной линии прямой, то отражённая в зеркальце половинка фигуры дополнит её до целой (такой же как исходная фигура). Поэтому такая симметри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азывается зеркальной (или осево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идёт речь о плоскости). Прямая, вдоль которой поставлено зеркальце, называе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ью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ьный проверочный момент урока. Работа выполняется учащимися самостоятельно. Проверяется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3A0-E362-4A54-9AD2-841906EE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A7C-346B-42AE-9B96-72C61F16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F6D-083F-4807-B89F-029119B7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854-7322-401B-AF2A-E4A6F18E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B7D-A1A5-422A-B276-199783E1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5F1-FDF2-464A-907F-30D2F1E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61B-CE41-40C8-9D7D-8DEEE0A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A38-84AD-431E-BFB3-2A7BA01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1A7-C64C-4D15-BCCE-396596E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D56-F94E-4986-B128-288FEA5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5A2-4ED0-4898-8157-C599E6F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71C-B117-43BC-A5B1-902A548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D640-19EC-4EC5-A926-97E71E240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npix.ru/raster-clipart/10221-zabavnye-malchiki-i-devochki-klipart.html" TargetMode="External"/><Relationship Id="rId2" Type="http://schemas.openxmlformats.org/officeDocument/2006/relationships/hyperlink" Target="http://img-fotki.yandex.ru/get/4403/valenta-mog.13e/0_6e1da_7d62da63_L.jpg" TargetMode="External"/><Relationship Id="rId3" Type="http://schemas.openxmlformats.org/officeDocument/2006/relationships/hyperlink" Target="http://www.oao-zhk.ru/images/Bulka/Big/Bulochka_vitaminka_b.jpg" TargetMode="External"/><Relationship Id="rId4" Type="http://schemas.openxmlformats.org/officeDocument/2006/relationships/image" Target="../media/image35.png"/><Relationship Id="rId5" Type="http://schemas.openxmlformats.org/officeDocument/2006/relationships/hyperlink" Target="http://www.wordassociations.ru/image/600x/svg_to_png/Gerald_G_Puppy_Cartoon.png" TargetMode="External"/><Relationship Id="rId6" Type="http://schemas.openxmlformats.org/officeDocument/2006/relationships/hyperlink" Target="http://cdn2.freecoloring.info/freecoloring-cdn/img/cat2-03.jpg" TargetMode="External"/><Relationship Id="rId7" Type="http://schemas.openxmlformats.org/officeDocument/2006/relationships/hyperlink" Target="http://www.coollady.ru/pic/0002/039/CL-066.jpg" TargetMode="External"/><Relationship Id="rId8" Type="http://schemas.openxmlformats.org/officeDocument/2006/relationships/hyperlink" Target="http://muzruk.wmsite.ru/_mod_files/ce_images/photoalbum/generated/repa1_318x400_pc.jpg" TargetMode="External"/><Relationship Id="rId9" Type="http://schemas.openxmlformats.org/officeDocument/2006/relationships/hyperlink" Target="http://muzruk.wmsite.ru/_mod_files/ce_images/photoalbum/generated/repa1_318x400_pc.jpg" TargetMode="External"/><Relationship Id="rId10" Type="http://schemas.openxmlformats.org/officeDocument/2006/relationships/hyperlink" Target="http://i.pokeroff.ru/uploads/wysiwyg/p/po/pom/pomidor.jpg" TargetMode="External"/><Relationship Id="rId11" Type="http://schemas.openxmlformats.org/officeDocument/2006/relationships/hyperlink" Target="http://www.abc-color.com/image/coloring/masks/001/cucumber/cucumber-picture-color.png" TargetMode="External"/><Relationship Id="rId12" Type="http://schemas.openxmlformats.org/officeDocument/2006/relationships/hyperlink" Target="http://www.abc-color.com/image/coloring/masks/001/cucumber/cucumber-picture-color.png" TargetMode="External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slanet.by/~src4696207/Snimu_v_arendu_rassmotryu_varianty_po_pokupki_pomescheniya.jpg" TargetMode="External"/><Relationship Id="rId2" Type="http://schemas.openxmlformats.org/officeDocument/2006/relationships/hyperlink" Target="http://images.slanet.by/~src4696207/Snimu_v_arendu_rassmotryu_varianty_po_pokupki_pomescheniya.jpg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10.png"/><Relationship Id="rId16" Type="http://schemas.openxmlformats.org/officeDocument/2006/relationships/image" Target="../media/image7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3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3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d9b3"/>
              </a:gs>
              <a:gs pos="50000">
                <a:srgbClr val="fefefe"/>
              </a:gs>
              <a:gs pos="100000">
                <a:srgbClr val="ffd9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Занятие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6360" y="32130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cc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31840" y="3416400"/>
            <a:ext cx="1800" cy="127008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2305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4932360" y="765000"/>
            <a:ext cx="2684520" cy="2667240"/>
            <a:chOff x="4932360" y="765000"/>
            <a:chExt cx="2684520" cy="2667240"/>
          </a:xfrm>
        </p:grpSpPr>
        <p:sp>
          <p:nvSpPr>
            <p:cNvPr id="248" name=""/>
            <p:cNvSpPr/>
            <p:nvPr/>
          </p:nvSpPr>
          <p:spPr>
            <a:xfrm>
              <a:off x="493236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11800" y="765000"/>
              <a:ext cx="230508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2268720" y="765000"/>
            <a:ext cx="2665080" cy="2667240"/>
            <a:chOff x="2268720" y="765000"/>
            <a:chExt cx="2665080" cy="2667240"/>
          </a:xfrm>
        </p:grpSpPr>
        <p:sp>
          <p:nvSpPr>
            <p:cNvPr id="251" name=""/>
            <p:cNvSpPr/>
            <p:nvPr/>
          </p:nvSpPr>
          <p:spPr>
            <a:xfrm flipH="1">
              <a:off x="2272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 flipH="1">
              <a:off x="2268720" y="765000"/>
              <a:ext cx="228852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4932360" y="3430440"/>
            <a:ext cx="2684520" cy="2662560"/>
            <a:chOff x="4932360" y="3430440"/>
            <a:chExt cx="2684520" cy="2662560"/>
          </a:xfrm>
        </p:grpSpPr>
        <p:sp>
          <p:nvSpPr>
            <p:cNvPr id="254" name=""/>
            <p:cNvSpPr/>
            <p:nvPr/>
          </p:nvSpPr>
          <p:spPr>
            <a:xfrm flipV="1">
              <a:off x="4932360" y="3430440"/>
              <a:ext cx="267984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311800" y="4109040"/>
              <a:ext cx="2305080" cy="19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2268720" y="3430440"/>
            <a:ext cx="2665080" cy="2662560"/>
            <a:chOff x="2268720" y="3430440"/>
            <a:chExt cx="2665080" cy="2662560"/>
          </a:xfrm>
        </p:grpSpPr>
        <p:sp>
          <p:nvSpPr>
            <p:cNvPr id="257" name=""/>
            <p:cNvSpPr/>
            <p:nvPr/>
          </p:nvSpPr>
          <p:spPr>
            <a:xfrm flipH="1" flipV="1">
              <a:off x="2272680" y="3430440"/>
              <a:ext cx="266076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2268720" y="4109040"/>
              <a:ext cx="2288520" cy="198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2560" y="3429000"/>
            <a:ext cx="73080" cy="259236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368720" cy="135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3348000" y="4724280"/>
            <a:ext cx="1368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050920" y="764640"/>
            <a:ext cx="2684520" cy="2667600"/>
            <a:chOff x="2050920" y="764640"/>
            <a:chExt cx="2684520" cy="2667600"/>
          </a:xfrm>
        </p:grpSpPr>
        <p:sp>
          <p:nvSpPr>
            <p:cNvPr id="272" name=""/>
            <p:cNvSpPr/>
            <p:nvPr/>
          </p:nvSpPr>
          <p:spPr>
            <a:xfrm>
              <a:off x="205092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069640" y="764280"/>
              <a:ext cx="1368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3367080" y="2060640"/>
              <a:ext cx="136836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4716720" y="764640"/>
            <a:ext cx="2665080" cy="2667600"/>
            <a:chOff x="4716720" y="764640"/>
            <a:chExt cx="2665080" cy="2667600"/>
          </a:xfrm>
        </p:grpSpPr>
        <p:sp>
          <p:nvSpPr>
            <p:cNvPr id="276" name=""/>
            <p:cNvSpPr/>
            <p:nvPr/>
          </p:nvSpPr>
          <p:spPr>
            <a:xfrm flipH="1">
              <a:off x="4720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6005160" y="764280"/>
              <a:ext cx="135828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 flipH="1">
              <a:off x="4716720" y="2060640"/>
              <a:ext cx="135828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2050920" y="3431880"/>
            <a:ext cx="2684520" cy="2661120"/>
            <a:chOff x="2050920" y="3431880"/>
            <a:chExt cx="2684520" cy="2661120"/>
          </a:xfrm>
        </p:grpSpPr>
        <p:sp>
          <p:nvSpPr>
            <p:cNvPr id="280" name=""/>
            <p:cNvSpPr/>
            <p:nvPr/>
          </p:nvSpPr>
          <p:spPr>
            <a:xfrm flipV="1">
              <a:off x="2050920" y="3431520"/>
              <a:ext cx="267984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 flipH="1">
              <a:off x="2069640" y="4745520"/>
              <a:ext cx="136836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3367080" y="3453120"/>
              <a:ext cx="1368360" cy="134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4716720" y="3431880"/>
            <a:ext cx="2665080" cy="2661120"/>
            <a:chOff x="4716720" y="3431880"/>
            <a:chExt cx="2665080" cy="2661120"/>
          </a:xfrm>
        </p:grpSpPr>
        <p:sp>
          <p:nvSpPr>
            <p:cNvPr id="284" name=""/>
            <p:cNvSpPr/>
            <p:nvPr/>
          </p:nvSpPr>
          <p:spPr>
            <a:xfrm flipH="1" flipV="1">
              <a:off x="4720680" y="3431520"/>
              <a:ext cx="266076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8"/>
            <a:stretch/>
          </p:blipFill>
          <p:spPr>
            <a:xfrm>
              <a:off x="6005160" y="4745520"/>
              <a:ext cx="135828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4716720" y="3453120"/>
              <a:ext cx="1358280" cy="134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70000" y="3403440"/>
            <a:ext cx="2743200" cy="1800"/>
          </a:xfrm>
          <a:custGeom>
            <a:avLst/>
            <a:gdLst/>
            <a:ahLst/>
            <a:rect l="l" t="t" r="r" b="b"/>
            <a:pathLst>
              <a:path w="1728" h="1">
                <a:moveTo>
                  <a:pt x="0" y="0"/>
                </a:moveTo>
                <a:lnTo>
                  <a:pt x="1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31840" y="5537160"/>
            <a:ext cx="180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0920" y="3429000"/>
            <a:ext cx="2689200" cy="2666880"/>
          </a:xfrm>
          <a:custGeom>
            <a:avLst/>
            <a:gdLst/>
            <a:ahLst/>
            <a:rect l="l" t="t" r="r" b="b"/>
            <a:pathLst>
              <a:path w="1694" h="1680">
                <a:moveTo>
                  <a:pt x="0" y="0"/>
                </a:moveTo>
                <a:lnTo>
                  <a:pt x="1694" y="0"/>
                </a:lnTo>
                <a:lnTo>
                  <a:pt x="1694" y="1680"/>
                </a:lnTo>
                <a:lnTo>
                  <a:pt x="0" y="1672"/>
                </a:lnTo>
                <a:lnTo>
                  <a:pt x="0" y="1320"/>
                </a:lnTo>
                <a:lnTo>
                  <a:pt x="512" y="1312"/>
                </a:lnTo>
                <a:lnTo>
                  <a:pt x="680" y="848"/>
                </a:lnTo>
                <a:lnTo>
                  <a:pt x="512" y="400"/>
                </a:lnTo>
                <a:lnTo>
                  <a:pt x="8" y="400"/>
                </a:lnTo>
                <a:lnTo>
                  <a:pt x="8" y="16"/>
                </a:lnTo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1954440" cy="1920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050920" y="3429000"/>
            <a:ext cx="1800" cy="660240"/>
          </a:xfrm>
          <a:custGeom>
            <a:avLst/>
            <a:gdLst/>
            <a:ahLst/>
            <a:rect l="l" t="t" r="r" b="b"/>
            <a:pathLst>
              <a:path w="1" h="416">
                <a:moveTo>
                  <a:pt x="0" y="0"/>
                </a:moveTo>
                <a:lnTo>
                  <a:pt x="0" y="41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4788000" y="3429000"/>
            <a:ext cx="2689200" cy="2666880"/>
            <a:chOff x="4788000" y="3429000"/>
            <a:chExt cx="2689200" cy="2666880"/>
          </a:xfrm>
        </p:grpSpPr>
        <p:sp>
          <p:nvSpPr>
            <p:cNvPr id="300" name=""/>
            <p:cNvSpPr/>
            <p:nvPr/>
          </p:nvSpPr>
          <p:spPr>
            <a:xfrm>
              <a:off x="4788000" y="3429000"/>
              <a:ext cx="26892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5508360" y="4149720"/>
              <a:ext cx="195444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2124000" y="3429000"/>
            <a:ext cx="2664000" cy="2666880"/>
            <a:chOff x="2124000" y="3429000"/>
            <a:chExt cx="2664000" cy="2666880"/>
          </a:xfrm>
        </p:grpSpPr>
        <p:sp>
          <p:nvSpPr>
            <p:cNvPr id="303" name=""/>
            <p:cNvSpPr/>
            <p:nvPr/>
          </p:nvSpPr>
          <p:spPr>
            <a:xfrm flipH="1">
              <a:off x="2124000" y="3429000"/>
              <a:ext cx="26640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2138040" y="4149720"/>
              <a:ext cx="193608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2124000" y="764640"/>
            <a:ext cx="2664000" cy="2660760"/>
            <a:chOff x="2124000" y="764640"/>
            <a:chExt cx="2664000" cy="2660760"/>
          </a:xfrm>
        </p:grpSpPr>
        <p:sp>
          <p:nvSpPr>
            <p:cNvPr id="306" name=""/>
            <p:cNvSpPr/>
            <p:nvPr/>
          </p:nvSpPr>
          <p:spPr>
            <a:xfrm flipH="1" flipV="1">
              <a:off x="2124000" y="764280"/>
              <a:ext cx="2664000" cy="266076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2138040" y="790560"/>
              <a:ext cx="1936080" cy="19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4788000" y="765000"/>
            <a:ext cx="2689200" cy="2664000"/>
            <a:chOff x="4788000" y="765000"/>
            <a:chExt cx="2689200" cy="2664000"/>
          </a:xfrm>
        </p:grpSpPr>
        <p:sp>
          <p:nvSpPr>
            <p:cNvPr id="309" name=""/>
            <p:cNvSpPr/>
            <p:nvPr/>
          </p:nvSpPr>
          <p:spPr>
            <a:xfrm flipV="1">
              <a:off x="4788000" y="764640"/>
              <a:ext cx="2689200" cy="266400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 flipH="1">
              <a:off x="5508360" y="790560"/>
              <a:ext cx="1954440" cy="191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370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387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453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462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90800" cy="36734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2889360" cy="3672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771640" y="227664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227664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2276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71640" y="508464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27640" y="508464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43280" y="5084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5080" y="580536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0" y="580536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580536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16360" y="350028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84720" y="350028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87640" y="3500280"/>
            <a:ext cx="3097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6400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780000" y="4941720"/>
            <a:ext cx="71280" cy="215640"/>
            <a:chOff x="3780000" y="4941720"/>
            <a:chExt cx="71280" cy="215640"/>
          </a:xfrm>
        </p:grpSpPr>
        <p:sp>
          <p:nvSpPr>
            <p:cNvPr id="500" name=""/>
            <p:cNvSpPr/>
            <p:nvPr/>
          </p:nvSpPr>
          <p:spPr>
            <a:xfrm>
              <a:off x="378000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5128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219640" y="4941720"/>
            <a:ext cx="71280" cy="215640"/>
            <a:chOff x="5219640" y="4941720"/>
            <a:chExt cx="71280" cy="215640"/>
          </a:xfrm>
        </p:grpSpPr>
        <p:sp>
          <p:nvSpPr>
            <p:cNvPr id="503" name=""/>
            <p:cNvSpPr/>
            <p:nvPr/>
          </p:nvSpPr>
          <p:spPr>
            <a:xfrm>
              <a:off x="521964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9092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851280" y="5734080"/>
            <a:ext cx="142920" cy="216000"/>
            <a:chOff x="3851280" y="5734080"/>
            <a:chExt cx="142920" cy="216000"/>
          </a:xfrm>
        </p:grpSpPr>
        <p:grpSp>
          <p:nvGrpSpPr>
            <p:cNvPr id="506" name=""/>
            <p:cNvGrpSpPr/>
            <p:nvPr/>
          </p:nvGrpSpPr>
          <p:grpSpPr>
            <a:xfrm>
              <a:off x="3851280" y="5734080"/>
              <a:ext cx="71280" cy="215640"/>
              <a:chOff x="3851280" y="5734080"/>
              <a:chExt cx="71280" cy="215640"/>
            </a:xfrm>
          </p:grpSpPr>
          <p:sp>
            <p:nvSpPr>
              <p:cNvPr id="507" name=""/>
              <p:cNvSpPr/>
              <p:nvPr/>
            </p:nvSpPr>
            <p:spPr>
              <a:xfrm>
                <a:off x="385128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2256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99420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076720" y="5734080"/>
            <a:ext cx="142920" cy="216000"/>
            <a:chOff x="5076720" y="5734080"/>
            <a:chExt cx="142920" cy="216000"/>
          </a:xfrm>
        </p:grpSpPr>
        <p:grpSp>
          <p:nvGrpSpPr>
            <p:cNvPr id="511" name=""/>
            <p:cNvGrpSpPr/>
            <p:nvPr/>
          </p:nvGrpSpPr>
          <p:grpSpPr>
            <a:xfrm>
              <a:off x="5076720" y="5734080"/>
              <a:ext cx="71280" cy="215640"/>
              <a:chOff x="5076720" y="5734080"/>
              <a:chExt cx="71280" cy="215640"/>
            </a:xfrm>
          </p:grpSpPr>
          <p:sp>
            <p:nvSpPr>
              <p:cNvPr id="512" name=""/>
              <p:cNvSpPr/>
              <p:nvPr/>
            </p:nvSpPr>
            <p:spPr>
              <a:xfrm>
                <a:off x="507672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800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21964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24360" y="3429000"/>
            <a:ext cx="215640" cy="215640"/>
            <a:chOff x="3924360" y="3429000"/>
            <a:chExt cx="215640" cy="215640"/>
          </a:xfrm>
        </p:grpSpPr>
        <p:grpSp>
          <p:nvGrpSpPr>
            <p:cNvPr id="516" name=""/>
            <p:cNvGrpSpPr/>
            <p:nvPr/>
          </p:nvGrpSpPr>
          <p:grpSpPr>
            <a:xfrm>
              <a:off x="3924360" y="3429000"/>
              <a:ext cx="142560" cy="215640"/>
              <a:chOff x="3924360" y="3429000"/>
              <a:chExt cx="142560" cy="2156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924360" y="3429000"/>
                <a:ext cx="70920" cy="215640"/>
                <a:chOff x="3924360" y="3429000"/>
                <a:chExt cx="70920" cy="215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924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95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4066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4140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932360" y="3429000"/>
            <a:ext cx="215640" cy="215640"/>
            <a:chOff x="4932360" y="3429000"/>
            <a:chExt cx="215640" cy="215640"/>
          </a:xfrm>
        </p:grpSpPr>
        <p:grpSp>
          <p:nvGrpSpPr>
            <p:cNvPr id="523" name=""/>
            <p:cNvGrpSpPr/>
            <p:nvPr/>
          </p:nvGrpSpPr>
          <p:grpSpPr>
            <a:xfrm>
              <a:off x="4932360" y="3429000"/>
              <a:ext cx="142560" cy="215640"/>
              <a:chOff x="4932360" y="3429000"/>
              <a:chExt cx="142560" cy="21564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932360" y="3429000"/>
                <a:ext cx="70920" cy="215640"/>
                <a:chOff x="4932360" y="3429000"/>
                <a:chExt cx="70920" cy="2156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932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003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5074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5148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140360" y="2276640"/>
            <a:ext cx="409320" cy="40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508464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580536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40360" y="350028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592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609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675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684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4292640"/>
            <a:ext cx="77770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5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9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9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761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778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844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853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15640" y="2923920"/>
            <a:ext cx="3672000" cy="2808360"/>
          </a:xfrm>
          <a:prstGeom prst="rtTriangl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5400000">
            <a:off x="1150560" y="2889000"/>
            <a:ext cx="3673440" cy="2880000"/>
          </a:xfrm>
          <a:prstGeom prst="rtTriangl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4436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3440" y="198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925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166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30711 4.07407E-006 E">
                                      <p:cBhvr>
                                        <p:cTn id="709" dur="1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4078440"/>
            <a:ext cx="1220760" cy="17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34360" y="2637000"/>
            <a:ext cx="1709640" cy="24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3286080"/>
            <a:ext cx="1622160" cy="296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501336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908000" y="2781360"/>
            <a:ext cx="1690920" cy="27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24000" y="465300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201080" y="4437000"/>
            <a:ext cx="1942920" cy="147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300720" y="3068640"/>
            <a:ext cx="1490760" cy="267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084720" y="4581360"/>
            <a:ext cx="1330560" cy="149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170028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мальчиков и 4 девочки за пере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т съесть 36 булочек.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лочек при таком аппетите могут съ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мальчиков и 6 дев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1332000" y="53895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3852720" y="449280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 rot="1264200">
            <a:off x="4572000" y="4222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 rot="20155800">
            <a:off x="4858920" y="501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 rot="1264200">
            <a:off x="3635280" y="5300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 rot="21197400">
            <a:off x="4068720" y="4149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5292720" y="443880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 rot="1117200">
            <a:off x="4427280" y="43657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 rot="3516000">
            <a:off x="3715200" y="496944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 rot="499800">
            <a:off x="4506480" y="497052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3924360" y="465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 rot="1264200">
            <a:off x="4788000" y="443844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 rot="1264200">
            <a:off x="4284720" y="4365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5364000" y="465300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 rot="1117200">
            <a:off x="4500720" y="4797360"/>
            <a:ext cx="801360" cy="67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 rot="3516000">
            <a:off x="3931200" y="518544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 rot="499800">
            <a:off x="4722480" y="51865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 rot="2023200">
            <a:off x="5148000" y="537336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 rot="1381800">
            <a:off x="4427280" y="5445000"/>
            <a:ext cx="80172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5292720" y="1989000"/>
            <a:ext cx="2847960" cy="4297680"/>
          </a:xfrm>
          <a:custGeom>
            <a:avLst/>
            <a:gdLst/>
            <a:ahLst/>
            <a:rect l="l" t="t" r="r" b="b"/>
            <a:pathLst>
              <a:path w="1794" h="2707">
                <a:moveTo>
                  <a:pt x="0" y="0"/>
                </a:moveTo>
                <a:lnTo>
                  <a:pt x="450" y="2707"/>
                </a:lnTo>
                <a:lnTo>
                  <a:pt x="1794" y="915"/>
                </a:lnTo>
                <a:lnTo>
                  <a:pt x="914" y="1363"/>
                </a:lnTo>
                <a:lnTo>
                  <a:pt x="2" y="11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584600" y="1384200"/>
            <a:ext cx="1800" cy="5230800"/>
          </a:xfrm>
          <a:custGeom>
            <a:avLst/>
            <a:gdLst/>
            <a:ahLst/>
            <a:rect l="l" t="t" r="r" b="b"/>
            <a:pathLst>
              <a:path w="1" h="3295">
                <a:moveTo>
                  <a:pt x="0" y="0"/>
                </a:moveTo>
                <a:lnTo>
                  <a:pt x="0" y="3295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65160" y="1981080"/>
            <a:ext cx="2857680" cy="4318200"/>
          </a:xfrm>
          <a:custGeom>
            <a:avLst/>
            <a:gdLst/>
            <a:ahLst/>
            <a:rect l="l" t="t" r="r" b="b"/>
            <a:pathLst>
              <a:path w="1800" h="2720">
                <a:moveTo>
                  <a:pt x="0" y="912"/>
                </a:moveTo>
                <a:lnTo>
                  <a:pt x="1352" y="2720"/>
                </a:lnTo>
                <a:lnTo>
                  <a:pt x="1800" y="0"/>
                </a:lnTo>
                <a:lnTo>
                  <a:pt x="912" y="1368"/>
                </a:lnTo>
                <a:lnTo>
                  <a:pt x="0" y="90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80000" y="191628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51280" y="198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356000" y="198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219640" y="191628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59280" y="623736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32000" y="6308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56000" y="630864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940360" y="623736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4036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00364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780000" y="6165720"/>
            <a:ext cx="71280" cy="215640"/>
            <a:chOff x="3780000" y="6165720"/>
            <a:chExt cx="71280" cy="215640"/>
          </a:xfrm>
        </p:grpSpPr>
        <p:sp>
          <p:nvSpPr>
            <p:cNvPr id="892" name=""/>
            <p:cNvSpPr/>
            <p:nvPr/>
          </p:nvSpPr>
          <p:spPr>
            <a:xfrm>
              <a:off x="3780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5128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292720" y="6165720"/>
            <a:ext cx="71280" cy="215640"/>
            <a:chOff x="5292720" y="6165720"/>
            <a:chExt cx="71280" cy="215640"/>
          </a:xfrm>
        </p:grpSpPr>
        <p:sp>
          <p:nvSpPr>
            <p:cNvPr id="895" name=""/>
            <p:cNvSpPr/>
            <p:nvPr/>
          </p:nvSpPr>
          <p:spPr>
            <a:xfrm>
              <a:off x="529272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64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292720" y="1989000"/>
            <a:ext cx="71928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40000" y="407664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1128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356000" y="414972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407664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780000" y="4005360"/>
            <a:ext cx="142560" cy="215640"/>
            <a:chOff x="3780000" y="4005360"/>
            <a:chExt cx="142560" cy="215640"/>
          </a:xfrm>
        </p:grpSpPr>
        <p:grpSp>
          <p:nvGrpSpPr>
            <p:cNvPr id="903" name=""/>
            <p:cNvGrpSpPr/>
            <p:nvPr/>
          </p:nvGrpSpPr>
          <p:grpSpPr>
            <a:xfrm>
              <a:off x="3780000" y="4005360"/>
              <a:ext cx="70920" cy="215640"/>
              <a:chOff x="3780000" y="4005360"/>
              <a:chExt cx="70920" cy="215640"/>
            </a:xfrm>
          </p:grpSpPr>
          <p:sp>
            <p:nvSpPr>
              <p:cNvPr id="904" name=""/>
              <p:cNvSpPr/>
              <p:nvPr/>
            </p:nvSpPr>
            <p:spPr>
              <a:xfrm>
                <a:off x="378000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85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92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219640" y="4005360"/>
            <a:ext cx="142920" cy="215640"/>
            <a:chOff x="5219640" y="4005360"/>
            <a:chExt cx="142920" cy="215640"/>
          </a:xfrm>
        </p:grpSpPr>
        <p:grpSp>
          <p:nvGrpSpPr>
            <p:cNvPr id="908" name=""/>
            <p:cNvGrpSpPr/>
            <p:nvPr/>
          </p:nvGrpSpPr>
          <p:grpSpPr>
            <a:xfrm>
              <a:off x="5219640" y="4005360"/>
              <a:ext cx="71280" cy="215640"/>
              <a:chOff x="5219640" y="4005360"/>
              <a:chExt cx="71280" cy="215640"/>
            </a:xfrm>
          </p:grpSpPr>
          <p:sp>
            <p:nvSpPr>
              <p:cNvPr id="909" name=""/>
              <p:cNvSpPr/>
              <p:nvPr/>
            </p:nvSpPr>
            <p:spPr>
              <a:xfrm>
                <a:off x="521964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9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536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5292720" y="198900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335772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71640" y="3429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101080" y="3357720"/>
            <a:ext cx="12204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708360" y="3357720"/>
            <a:ext cx="216000" cy="215640"/>
            <a:chOff x="3708360" y="3357720"/>
            <a:chExt cx="216000" cy="215640"/>
          </a:xfrm>
        </p:grpSpPr>
        <p:grpSp>
          <p:nvGrpSpPr>
            <p:cNvPr id="918" name=""/>
            <p:cNvGrpSpPr/>
            <p:nvPr/>
          </p:nvGrpSpPr>
          <p:grpSpPr>
            <a:xfrm>
              <a:off x="3708360" y="3357720"/>
              <a:ext cx="142920" cy="215640"/>
              <a:chOff x="3708360" y="3357720"/>
              <a:chExt cx="142920" cy="21564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3708360" y="3357720"/>
                <a:ext cx="71280" cy="215640"/>
                <a:chOff x="3708360" y="3357720"/>
                <a:chExt cx="71280" cy="21564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70836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7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>
                <a:off x="385128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92436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219640" y="3357720"/>
            <a:ext cx="216000" cy="215640"/>
            <a:chOff x="5219640" y="3357720"/>
            <a:chExt cx="216000" cy="215640"/>
          </a:xfrm>
        </p:grpSpPr>
        <p:grpSp>
          <p:nvGrpSpPr>
            <p:cNvPr id="925" name=""/>
            <p:cNvGrpSpPr/>
            <p:nvPr/>
          </p:nvGrpSpPr>
          <p:grpSpPr>
            <a:xfrm>
              <a:off x="5219640" y="3357720"/>
              <a:ext cx="142920" cy="215640"/>
              <a:chOff x="5219640" y="3357720"/>
              <a:chExt cx="142920" cy="2156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5219640" y="3357720"/>
                <a:ext cx="71280" cy="215640"/>
                <a:chOff x="5219640" y="3357720"/>
                <a:chExt cx="71280" cy="2156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521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9092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536256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543564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732720" y="3429000"/>
            <a:ext cx="1439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011640" y="3429000"/>
            <a:ext cx="2160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82000" y="13827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58880" y="141300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20323200">
            <a:off x="179280" y="2781000"/>
            <a:ext cx="2952720" cy="2448000"/>
          </a:xfrm>
          <a:prstGeom prst="triangle">
            <a:avLst>
              <a:gd name="adj" fmla="val 79912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258920" y="2565360"/>
            <a:ext cx="295272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3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5465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416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2144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51640" y="2997360"/>
            <a:ext cx="2520720" cy="25207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43640" y="2421000"/>
            <a:ext cx="79236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5816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2144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294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1028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640" y="148428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npix.ru/raster-clipart/10221-zabavnye-malchiki-i-devochki-klipart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6560" y="119700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и и дев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360" y="2060640"/>
            <a:ext cx="81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4403/valenta-mog.13e/0_6e1da_7d62da63_L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68000" y="17733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л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40" y="2347920"/>
            <a:ext cx="69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ao-zhk.ru/images/Bulka/Big/Bulochka_vitaminka_b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528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9360" y="2925720"/>
            <a:ext cx="90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ordassociations.ru/image/600x/svg_to_png/Gerald_G_Puppy_Cartoon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68000" y="26370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уч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7480" y="359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80" y="35020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cdn2.freecoloring.info/freecoloring-cdn/img/cat2-03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68000" y="3213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60" y="41482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coollady.ru/pic/0002/039/CL-066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68360" y="378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40" y="472608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uzruk.wmsite.ru/_mod_files/ce_images/photoalbum/generat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pa1_318x400_pc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68720" y="443700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40" y="558972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pokeroff.ru/uploads/wysiwyg/p/po/pom/pomidor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92400" y="530064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идор и огуре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760" y="5950080"/>
            <a:ext cx="65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abc-color.com/image/coloring/masks/001/cucumb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ucumber-picture-color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920" y="83664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slanet.by/~src4696207/Snimu_v_arendu_rassmotryu_varianty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_pokupki_pomescheniya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0560" y="4762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з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40" y="1557360"/>
            <a:ext cx="62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xrest.ru/images/collection/00571/739/original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80" y="19162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tito.ru/image/data/catalog01/0662.p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60" y="227664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4701/120710424.365/0_7a30a_1a9acd78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22520" cy="2962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300720" y="620640"/>
            <a:ext cx="1490760" cy="267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 rot="1264200">
            <a:off x="4572000" y="1774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 rot="1264200">
            <a:off x="3635280" y="2852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rot="21197400">
            <a:off x="4068720" y="170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720" y="404640"/>
            <a:ext cx="115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1979640" y="2060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1258920" y="27813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7380360" y="2349360"/>
            <a:ext cx="1942920" cy="1470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511440" y="4916160"/>
            <a:ext cx="2557800" cy="1491480"/>
            <a:chOff x="3511440" y="4916160"/>
            <a:chExt cx="2557800" cy="1491480"/>
          </a:xfrm>
        </p:grpSpPr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 rot="1264200">
              <a:off x="3635280" y="530028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 rot="499800">
              <a:off x="4506480" y="49705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 rot="3516000">
              <a:off x="3931200" y="518544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2"/>
            <a:stretch/>
          </p:blipFill>
          <p:spPr>
            <a:xfrm rot="499800">
              <a:off x="4722480" y="518652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3"/>
            <a:stretch/>
          </p:blipFill>
          <p:spPr>
            <a:xfrm rot="2023200">
              <a:off x="5148000" y="5373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4"/>
            <a:stretch/>
          </p:blipFill>
          <p:spPr>
            <a:xfrm rot="1381800">
              <a:off x="4427280" y="5445000"/>
              <a:ext cx="8017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 txBox="1"/>
          <p:nvPr/>
        </p:nvSpPr>
        <p:spPr>
          <a:xfrm>
            <a:off x="4427640" y="3933720"/>
            <a:ext cx="1077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48520" y="1726920"/>
            <a:ext cx="2597040" cy="2071800"/>
            <a:chOff x="3548520" y="1726920"/>
            <a:chExt cx="2597040" cy="2071800"/>
          </a:xfrm>
        </p:grpSpPr>
        <p:pic>
          <p:nvPicPr>
            <p:cNvPr id="115" name="" descr=""/>
            <p:cNvPicPr/>
            <p:nvPr/>
          </p:nvPicPr>
          <p:blipFill>
            <a:blip r:embed="rId25"/>
            <a:stretch/>
          </p:blipFill>
          <p:spPr>
            <a:xfrm>
              <a:off x="3781080" y="20433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6"/>
            <a:stretch/>
          </p:blipFill>
          <p:spPr>
            <a:xfrm rot="20155800">
              <a:off x="4787280" y="256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7"/>
            <a:stretch/>
          </p:blipFill>
          <p:spPr>
            <a:xfrm>
              <a:off x="5221080" y="1989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8"/>
            <a:stretch/>
          </p:blipFill>
          <p:spPr>
            <a:xfrm rot="1117200">
              <a:off x="4356000" y="19162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9"/>
            <a:stretch/>
          </p:blipFill>
          <p:spPr>
            <a:xfrm rot="3516000">
              <a:off x="3643560" y="252000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 rot="499800">
              <a:off x="4434840" y="25210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3852720" y="220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 rot="1264200">
              <a:off x="4716360" y="198900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 rot="1264200">
              <a:off x="4213080" y="191592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5292360" y="22035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 rot="1117200">
              <a:off x="4429080" y="2347920"/>
              <a:ext cx="8013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 rot="3516000">
              <a:off x="3859560" y="273600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 rot="499800">
              <a:off x="4650840" y="273708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8"/>
            <a:stretch/>
          </p:blipFill>
          <p:spPr>
            <a:xfrm rot="2023200">
              <a:off x="5076360" y="29239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9"/>
            <a:stretch/>
          </p:blipFill>
          <p:spPr>
            <a:xfrm rot="1381800">
              <a:off x="4355640" y="2995920"/>
              <a:ext cx="80172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 txBox="1"/>
          <p:nvPr/>
        </p:nvSpPr>
        <p:spPr>
          <a:xfrm>
            <a:off x="4356000" y="1628640"/>
            <a:ext cx="10778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4</a:t>
            </a:r>
            <a:endParaRPr b="1" lang="en-US" sz="4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5185E-006 L 0.03142 0.6088 E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-0.09462 0.525 E">
                                      <p:cBhvr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92593E-006 L 0.11806 0.42014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77778E-006 L -0.09444 0.50394 E">
                                      <p:cBhvr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6.2963E-006 L -0.01579 0.45161 E">
                                      <p:cBhvr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8.33333E-007 -0.15741 E">
                                      <p:cBhvr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40192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1873080" cy="26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92720" y="494172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-19080" y="2133720"/>
            <a:ext cx="3755880" cy="47242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155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мы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че кошки в 20 раз, репка тяже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и в 720 раз. 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386000" cy="182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0440" cy="782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1095120" cy="160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2197080" cy="28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54560" y="692280"/>
            <a:ext cx="47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а легче кошки в 20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пка тяжелее мышки в 72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68360" y="765000"/>
            <a:ext cx="17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час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50920" y="213372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0920" y="3573360"/>
            <a:ext cx="28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0920" y="5084640"/>
            <a:ext cx="288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5440" y="4076640"/>
            <a:ext cx="310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20 : 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35640" y="2708280"/>
            <a:ext cx="28814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6 раз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139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1982880" cy="288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20606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помидоров и 2 огурца весят столько 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9 помидоров и 1 огу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яжелее: 8 помидоров или 2 огур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564000" y="328464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98560" y="3932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266920" y="342900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763640" y="4363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547640" y="501336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987640" y="4148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2698920" y="486900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6372360" y="2781360"/>
            <a:ext cx="187164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971640" y="4869000"/>
            <a:ext cx="7418160" cy="861480"/>
            <a:chOff x="971640" y="4869000"/>
            <a:chExt cx="7418160" cy="861480"/>
          </a:xfrm>
        </p:grpSpPr>
        <p:sp>
          <p:nvSpPr>
            <p:cNvPr id="167" name=""/>
            <p:cNvSpPr/>
            <p:nvPr/>
          </p:nvSpPr>
          <p:spPr>
            <a:xfrm>
              <a:off x="971640" y="4869000"/>
              <a:ext cx="316872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1440" y="4869000"/>
              <a:ext cx="316836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4465080" y="3390480"/>
              <a:ext cx="358560" cy="4321080"/>
            </a:xfrm>
            <a:custGeom>
              <a:avLst/>
              <a:gdLst>
                <a:gd name="textAreaLeft" fmla="*/ 0 w 358560"/>
                <a:gd name="textAreaRight" fmla="*/ 251640 w 35856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356000" y="5661000"/>
            <a:ext cx="720720" cy="986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8720" y="450864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42920" y="2492280"/>
            <a:ext cx="7418160" cy="862200"/>
            <a:chOff x="1042920" y="2492280"/>
            <a:chExt cx="7418160" cy="862200"/>
          </a:xfrm>
        </p:grpSpPr>
        <p:sp>
          <p:nvSpPr>
            <p:cNvPr id="173" name=""/>
            <p:cNvSpPr/>
            <p:nvPr/>
          </p:nvSpPr>
          <p:spPr>
            <a:xfrm>
              <a:off x="1042920" y="2492280"/>
              <a:ext cx="316872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2720" y="2492280"/>
              <a:ext cx="316836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4536360" y="1014120"/>
              <a:ext cx="358920" cy="4321080"/>
            </a:xfrm>
            <a:custGeom>
              <a:avLst/>
              <a:gdLst>
                <a:gd name="textAreaLeft" fmla="*/ 0 w 358920"/>
                <a:gd name="textAreaRight" fmla="*/ 251640 w 35892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354560" y="3284640"/>
            <a:ext cx="720720" cy="985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213192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19812600">
            <a:off x="2482560" y="1412640"/>
            <a:ext cx="1284120" cy="1609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1840" y="1701720"/>
            <a:ext cx="1398600" cy="8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978200" y="177336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122560" y="206064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114560" y="198900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617840" y="213192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 flipH="1" rot="1038000">
            <a:off x="3129840" y="1267920"/>
            <a:ext cx="1211400" cy="1609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362560" y="213192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578560" y="191628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794200" y="213192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6515280" y="1773360"/>
            <a:ext cx="1398240" cy="849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6730920" y="206064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6154560" y="2060640"/>
            <a:ext cx="1295640" cy="849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5867280" y="1341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5"/>
          <a:stretch/>
        </p:blipFill>
        <p:spPr>
          <a:xfrm>
            <a:off x="6083280" y="1557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6"/>
          <a:stretch/>
        </p:blipFill>
        <p:spPr>
          <a:xfrm>
            <a:off x="5651640" y="155736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7"/>
          <a:stretch/>
        </p:blipFill>
        <p:spPr>
          <a:xfrm flipH="1" rot="1038000">
            <a:off x="7524360" y="1341000"/>
            <a:ext cx="1211400" cy="1587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1928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3200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2764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96360" y="404640"/>
            <a:ext cx="4330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8"/>
          <a:stretch/>
        </p:blipFill>
        <p:spPr>
          <a:xfrm rot="21081000">
            <a:off x="1258560" y="3715920"/>
            <a:ext cx="1179360" cy="1587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516720" y="3716280"/>
            <a:ext cx="2190240" cy="1425600"/>
            <a:chOff x="6516720" y="3716280"/>
            <a:chExt cx="2190240" cy="1425600"/>
          </a:xfrm>
        </p:grpSpPr>
        <p:pic>
          <p:nvPicPr>
            <p:cNvPr id="203" name="" descr=""/>
            <p:cNvPicPr/>
            <p:nvPr/>
          </p:nvPicPr>
          <p:blipFill>
            <a:blip r:embed="rId19"/>
            <a:stretch/>
          </p:blipFill>
          <p:spPr>
            <a:xfrm>
              <a:off x="7021080" y="393372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0"/>
            <a:stretch/>
          </p:blipFill>
          <p:spPr>
            <a:xfrm flipH="1">
              <a:off x="6587640" y="4292640"/>
              <a:ext cx="129492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1"/>
            <a:stretch/>
          </p:blipFill>
          <p:spPr>
            <a:xfrm>
              <a:off x="7308720" y="429264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2"/>
            <a:stretch/>
          </p:blipFill>
          <p:spPr>
            <a:xfrm flipH="1">
              <a:off x="6516720" y="3716280"/>
              <a:ext cx="129528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13386 0.3676 E">
                                      <p:cBhvr>
                                        <p:cTn id="2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2361 0.39884 E">
                                      <p:cBhvr>
                                        <p:cTn id="24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4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31840" y="3403440"/>
            <a:ext cx="2679840" cy="2718000"/>
          </a:xfrm>
          <a:custGeom>
            <a:avLst/>
            <a:gdLst/>
            <a:ahLst/>
            <a:rect l="l" t="t" r="r" b="b"/>
            <a:pathLst>
              <a:path w="1688" h="1712">
                <a:moveTo>
                  <a:pt x="0" y="8"/>
                </a:moveTo>
                <a:lnTo>
                  <a:pt x="1688" y="0"/>
                </a:lnTo>
                <a:lnTo>
                  <a:pt x="1688" y="1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6400" y="4797360"/>
            <a:ext cx="12920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295640" cy="122868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050920" y="3428640"/>
            <a:ext cx="2679840" cy="2667240"/>
            <a:chOff x="2050920" y="3428640"/>
            <a:chExt cx="2679840" cy="2667240"/>
          </a:xfrm>
        </p:grpSpPr>
        <p:sp>
          <p:nvSpPr>
            <p:cNvPr id="221" name=""/>
            <p:cNvSpPr/>
            <p:nvPr/>
          </p:nvSpPr>
          <p:spPr>
            <a:xfrm>
              <a:off x="2050920" y="3429000"/>
              <a:ext cx="26798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435480" y="4797360"/>
              <a:ext cx="12920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 flipH="1" rot="5400000">
              <a:off x="2103120" y="3395160"/>
              <a:ext cx="12286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2050920" y="549360"/>
            <a:ext cx="2679840" cy="2879640"/>
            <a:chOff x="2050920" y="549360"/>
            <a:chExt cx="2679840" cy="2879640"/>
          </a:xfrm>
        </p:grpSpPr>
        <p:sp>
          <p:nvSpPr>
            <p:cNvPr id="225" name=""/>
            <p:cNvSpPr/>
            <p:nvPr/>
          </p:nvSpPr>
          <p:spPr>
            <a:xfrm flipV="1">
              <a:off x="2050920" y="549000"/>
              <a:ext cx="2679840" cy="28792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3435480" y="552240"/>
              <a:ext cx="1292040" cy="13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2054160" y="2117880"/>
              <a:ext cx="1326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4716000" y="549360"/>
            <a:ext cx="2664360" cy="2879280"/>
            <a:chOff x="4716000" y="549360"/>
            <a:chExt cx="2664360" cy="2879280"/>
          </a:xfrm>
        </p:grpSpPr>
        <p:sp>
          <p:nvSpPr>
            <p:cNvPr id="229" name=""/>
            <p:cNvSpPr/>
            <p:nvPr/>
          </p:nvSpPr>
          <p:spPr>
            <a:xfrm flipV="1" rot="5400000">
              <a:off x="4608720" y="657000"/>
              <a:ext cx="2879280" cy="266400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 flipH="1" rot="16200000">
              <a:off x="6035760" y="2083680"/>
              <a:ext cx="138816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4716000" y="569160"/>
              <a:ext cx="1227240" cy="13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4716360" y="3428640"/>
            <a:ext cx="2665440" cy="2667240"/>
            <a:chOff x="4716360" y="3428640"/>
            <a:chExt cx="2665440" cy="2667240"/>
          </a:xfrm>
        </p:grpSpPr>
        <p:sp>
          <p:nvSpPr>
            <p:cNvPr id="233" name=""/>
            <p:cNvSpPr/>
            <p:nvPr/>
          </p:nvSpPr>
          <p:spPr>
            <a:xfrm flipH="1">
              <a:off x="4716360" y="3429000"/>
              <a:ext cx="26654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8"/>
            <a:stretch/>
          </p:blipFill>
          <p:spPr>
            <a:xfrm flipH="1">
              <a:off x="4719960" y="4797360"/>
              <a:ext cx="1284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6104880" y="3398760"/>
              <a:ext cx="1228680" cy="128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5T12:18:16Z</dcterms:modified>
  <cp:revision>26</cp:revision>
  <dc:subject/>
  <dc:title>Слайд 1</dc:title>
</cp:coreProperties>
</file>