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1862-49F4-42D3-936A-317DE2FDF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ель: познакомить с осевой симметрией; научить строить симметричные фигуры относительно о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инии, по которым были свёрнуты салфетки, называютс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сями симмет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поставить зеркальце вдоль прочерченной линии прямой, то отражённая в зеркальце половинка фигуры дополнит её до целой (такой же как исходная фигура). Поэтому такая симметри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называется зеркальной (или осевой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идёт речь о плоскости). Прямая, вдоль которой поставлено зеркальце, называется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осью симмет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нтрольный проверочный момент урока. Работа выполняется учащимися самостоятельно. Проверяется уч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зуализация решения – последовательно щелчок мышки по пустому полю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7C6-D724-414C-BBF6-8060162E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1BE-6D0B-4983-87EB-1D72C9AF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6CC-51A1-42E6-91C3-D2A64FE4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E0C-6A01-4337-8A7A-E3649E91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0DD-160A-4D5A-8916-9632B885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AF1-5B5B-4507-9BB2-D70F7B24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857-3080-4CED-AE2A-EC112DE1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9BC-B9D2-45D0-A01E-955F9AB6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E2E-041F-4C01-B2B4-10208245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E94-8677-4133-9E83-F608B1BD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4D1-B0B9-4B35-BF8D-5B1A9F92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F8B-C15B-4874-8F80-5DAF7C44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19EF-0FCC-4954-BBD5-ABCE05EE0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npix.ru/raster-clipart/10221-zabavnye-malchiki-i-devochki-klipart.html" TargetMode="External"/><Relationship Id="rId2" Type="http://schemas.openxmlformats.org/officeDocument/2006/relationships/hyperlink" Target="http://img-fotki.yandex.ru/get/4403/valenta-mog.13e/0_6e1da_7d62da63_L.jpg" TargetMode="External"/><Relationship Id="rId3" Type="http://schemas.openxmlformats.org/officeDocument/2006/relationships/hyperlink" Target="http://www.oao-zhk.ru/images/Bulka/Big/Bulochka_vitaminka_b.jpg" TargetMode="External"/><Relationship Id="rId4" Type="http://schemas.openxmlformats.org/officeDocument/2006/relationships/image" Target="../media/image35.png"/><Relationship Id="rId5" Type="http://schemas.openxmlformats.org/officeDocument/2006/relationships/hyperlink" Target="http://www.wordassociations.ru/image/600x/svg_to_png/Gerald_G_Puppy_Cartoon.png" TargetMode="External"/><Relationship Id="rId6" Type="http://schemas.openxmlformats.org/officeDocument/2006/relationships/hyperlink" Target="http://cdn2.freecoloring.info/freecoloring-cdn/img/cat2-03.jpg" TargetMode="External"/><Relationship Id="rId7" Type="http://schemas.openxmlformats.org/officeDocument/2006/relationships/hyperlink" Target="http://www.coollady.ru/pic/0002/039/CL-066.jpg" TargetMode="External"/><Relationship Id="rId8" Type="http://schemas.openxmlformats.org/officeDocument/2006/relationships/hyperlink" Target="http://muzruk.wmsite.ru/_mod_files/ce_images/photoalbum/generated/repa1_318x400_pc.jpg" TargetMode="External"/><Relationship Id="rId9" Type="http://schemas.openxmlformats.org/officeDocument/2006/relationships/hyperlink" Target="http://muzruk.wmsite.ru/_mod_files/ce_images/photoalbum/generated/repa1_318x400_pc.jpg" TargetMode="External"/><Relationship Id="rId10" Type="http://schemas.openxmlformats.org/officeDocument/2006/relationships/hyperlink" Target="http://i.pokeroff.ru/uploads/wysiwyg/p/po/pom/pomidor.jpg" TargetMode="External"/><Relationship Id="rId11" Type="http://schemas.openxmlformats.org/officeDocument/2006/relationships/hyperlink" Target="http://www.abc-color.com/image/coloring/masks/001/cucumber/cucumber-picture-color.png" TargetMode="External"/><Relationship Id="rId12" Type="http://schemas.openxmlformats.org/officeDocument/2006/relationships/hyperlink" Target="http://www.abc-color.com/image/coloring/masks/001/cucumber/cucumber-picture-color.png" TargetMode="External"/><Relationship Id="rId1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slanet.by/~src4696207/Snimu_v_arendu_rassmotryu_varianty_po_pokupki_pomescheniya.jpg" TargetMode="External"/><Relationship Id="rId2" Type="http://schemas.openxmlformats.org/officeDocument/2006/relationships/hyperlink" Target="http://images.slanet.by/~src4696207/Snimu_v_arendu_rassmotryu_varianty_po_pokupki_pomescheniya.jpg" TargetMode="External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6.png"/><Relationship Id="rId12" Type="http://schemas.openxmlformats.org/officeDocument/2006/relationships/image" Target="../media/image2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10.png"/><Relationship Id="rId16" Type="http://schemas.openxmlformats.org/officeDocument/2006/relationships/image" Target="../media/image7.png"/><Relationship Id="rId17" Type="http://schemas.openxmlformats.org/officeDocument/2006/relationships/image" Target="../media/image12.png"/><Relationship Id="rId18" Type="http://schemas.openxmlformats.org/officeDocument/2006/relationships/image" Target="../media/image8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3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3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3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8900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4f33b"/>
              </a:gs>
              <a:gs pos="50000">
                <a:srgbClr val="fefefe"/>
              </a:gs>
              <a:gs pos="100000">
                <a:srgbClr val="d4f3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ведение в гео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51640" y="317520"/>
            <a:ext cx="3313080" cy="23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48000" y="551664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d9b3"/>
              </a:gs>
              <a:gs pos="50000">
                <a:srgbClr val="fefefe"/>
              </a:gs>
              <a:gs pos="100000">
                <a:srgbClr val="ffd9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СОШ №256 ГО ЗАТО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280" y="1386000"/>
            <a:ext cx="21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Занятие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6360" y="32130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севая симметр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994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46880" y="1413000"/>
            <a:ext cx="574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 рисунке – бумажная салфе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ложенная вчетверо. Нарисо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ак будет выглядеть салфет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если её развер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31840" y="3429000"/>
            <a:ext cx="2679840" cy="2666880"/>
          </a:xfrm>
          <a:custGeom>
            <a:avLst/>
            <a:gdLst/>
            <a:ahLst/>
            <a:rect l="l" t="t" r="r" b="b"/>
            <a:pathLst>
              <a:path w="1688" h="1680">
                <a:moveTo>
                  <a:pt x="0" y="0"/>
                </a:moveTo>
                <a:lnTo>
                  <a:pt x="1688" y="0"/>
                </a:lnTo>
                <a:lnTo>
                  <a:pt x="1688" y="1680"/>
                </a:lnTo>
                <a:lnTo>
                  <a:pt x="848" y="1680"/>
                </a:lnTo>
                <a:lnTo>
                  <a:pt x="8" y="808"/>
                </a:lnTo>
                <a:lnTo>
                  <a:pt x="8" y="16"/>
                </a:lnTo>
              </a:path>
            </a:pathLst>
          </a:custGeom>
          <a:solidFill>
            <a:srgbClr val="cc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31840" y="3416400"/>
            <a:ext cx="1800" cy="1270080"/>
          </a:xfrm>
          <a:custGeom>
            <a:avLst/>
            <a:gdLst/>
            <a:ahLst/>
            <a:rect l="l" t="t" r="r" b="b"/>
            <a:pathLst>
              <a:path w="1" h="800">
                <a:moveTo>
                  <a:pt x="0" y="0"/>
                </a:moveTo>
                <a:lnTo>
                  <a:pt x="0" y="80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352680" y="6095880"/>
            <a:ext cx="1346400" cy="1800"/>
          </a:xfrm>
          <a:custGeom>
            <a:avLst/>
            <a:gdLst/>
            <a:ahLst/>
            <a:rect l="l" t="t" r="r" b="b"/>
            <a:pathLst>
              <a:path w="848" h="1">
                <a:moveTo>
                  <a:pt x="848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411280" y="3429000"/>
            <a:ext cx="2305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143964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4932360" y="765000"/>
            <a:ext cx="2684520" cy="2667240"/>
            <a:chOff x="4932360" y="765000"/>
            <a:chExt cx="2684520" cy="2667240"/>
          </a:xfrm>
        </p:grpSpPr>
        <p:sp>
          <p:nvSpPr>
            <p:cNvPr id="248" name=""/>
            <p:cNvSpPr/>
            <p:nvPr/>
          </p:nvSpPr>
          <p:spPr>
            <a:xfrm>
              <a:off x="4932360" y="765000"/>
              <a:ext cx="2679840" cy="266724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cc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5311800" y="765000"/>
              <a:ext cx="2305080" cy="198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"/>
          <p:cNvGrpSpPr/>
          <p:nvPr/>
        </p:nvGrpSpPr>
        <p:grpSpPr>
          <a:xfrm>
            <a:off x="2268720" y="765000"/>
            <a:ext cx="2665080" cy="2667240"/>
            <a:chOff x="2268720" y="765000"/>
            <a:chExt cx="2665080" cy="2667240"/>
          </a:xfrm>
        </p:grpSpPr>
        <p:sp>
          <p:nvSpPr>
            <p:cNvPr id="251" name=""/>
            <p:cNvSpPr/>
            <p:nvPr/>
          </p:nvSpPr>
          <p:spPr>
            <a:xfrm flipH="1">
              <a:off x="2272680" y="765000"/>
              <a:ext cx="2660760" cy="266724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cc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 flipH="1">
              <a:off x="2268720" y="765000"/>
              <a:ext cx="2288520" cy="198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"/>
          <p:cNvGrpSpPr/>
          <p:nvPr/>
        </p:nvGrpSpPr>
        <p:grpSpPr>
          <a:xfrm>
            <a:off x="4932360" y="3430440"/>
            <a:ext cx="2684520" cy="2662560"/>
            <a:chOff x="4932360" y="3430440"/>
            <a:chExt cx="2684520" cy="2662560"/>
          </a:xfrm>
        </p:grpSpPr>
        <p:sp>
          <p:nvSpPr>
            <p:cNvPr id="254" name=""/>
            <p:cNvSpPr/>
            <p:nvPr/>
          </p:nvSpPr>
          <p:spPr>
            <a:xfrm flipV="1">
              <a:off x="4932360" y="3430440"/>
              <a:ext cx="2679840" cy="266256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cc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5311800" y="4109040"/>
              <a:ext cx="2305080" cy="198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"/>
          <p:cNvGrpSpPr/>
          <p:nvPr/>
        </p:nvGrpSpPr>
        <p:grpSpPr>
          <a:xfrm>
            <a:off x="2268720" y="3430440"/>
            <a:ext cx="2665080" cy="2662560"/>
            <a:chOff x="2268720" y="3430440"/>
            <a:chExt cx="2665080" cy="2662560"/>
          </a:xfrm>
        </p:grpSpPr>
        <p:sp>
          <p:nvSpPr>
            <p:cNvPr id="257" name=""/>
            <p:cNvSpPr/>
            <p:nvPr/>
          </p:nvSpPr>
          <p:spPr>
            <a:xfrm flipH="1" flipV="1">
              <a:off x="2272680" y="3430440"/>
              <a:ext cx="2660760" cy="266256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cc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5"/>
            <a:stretch/>
          </p:blipFill>
          <p:spPr>
            <a:xfrm rot="10800000">
              <a:off x="2268720" y="4109040"/>
              <a:ext cx="2288520" cy="198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46880" y="1413000"/>
            <a:ext cx="574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 рисунке – бумажная салфе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ложенная вчетверо. Нарисо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ак будет выглядеть салфет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если её развер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31840" y="3429000"/>
            <a:ext cx="2679840" cy="2666880"/>
          </a:xfrm>
          <a:custGeom>
            <a:avLst/>
            <a:gdLst/>
            <a:ahLst/>
            <a:rect l="l" t="t" r="r" b="b"/>
            <a:pathLst>
              <a:path w="1688" h="1680">
                <a:moveTo>
                  <a:pt x="0" y="0"/>
                </a:moveTo>
                <a:lnTo>
                  <a:pt x="1688" y="0"/>
                </a:lnTo>
                <a:lnTo>
                  <a:pt x="1688" y="1680"/>
                </a:lnTo>
                <a:lnTo>
                  <a:pt x="848" y="1680"/>
                </a:lnTo>
                <a:lnTo>
                  <a:pt x="8" y="808"/>
                </a:lnTo>
                <a:lnTo>
                  <a:pt x="8" y="16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642560" y="3429000"/>
            <a:ext cx="73080" cy="2592360"/>
          </a:xfrm>
          <a:custGeom>
            <a:avLst/>
            <a:gdLst/>
            <a:ahLst/>
            <a:rect l="l" t="t" r="r" b="b"/>
            <a:pathLst>
              <a:path w="1" h="800">
                <a:moveTo>
                  <a:pt x="0" y="0"/>
                </a:moveTo>
                <a:lnTo>
                  <a:pt x="0" y="80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352680" y="6095880"/>
            <a:ext cx="1346400" cy="1800"/>
          </a:xfrm>
          <a:custGeom>
            <a:avLst/>
            <a:gdLst/>
            <a:ahLst/>
            <a:rect l="l" t="t" r="r" b="b"/>
            <a:pathLst>
              <a:path w="848" h="1">
                <a:moveTo>
                  <a:pt x="848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2050920" y="3429000"/>
            <a:ext cx="1368720" cy="1351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3348000" y="4724280"/>
            <a:ext cx="1368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143964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2050920" y="764640"/>
            <a:ext cx="2684520" cy="2667600"/>
            <a:chOff x="2050920" y="764640"/>
            <a:chExt cx="2684520" cy="2667600"/>
          </a:xfrm>
        </p:grpSpPr>
        <p:sp>
          <p:nvSpPr>
            <p:cNvPr id="272" name=""/>
            <p:cNvSpPr/>
            <p:nvPr/>
          </p:nvSpPr>
          <p:spPr>
            <a:xfrm>
              <a:off x="2050920" y="765000"/>
              <a:ext cx="2679840" cy="266724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2069640" y="764280"/>
              <a:ext cx="1368360" cy="13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3367080" y="2060640"/>
              <a:ext cx="1368360" cy="13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4716720" y="764640"/>
            <a:ext cx="2665080" cy="2667600"/>
            <a:chOff x="4716720" y="764640"/>
            <a:chExt cx="2665080" cy="2667600"/>
          </a:xfrm>
        </p:grpSpPr>
        <p:sp>
          <p:nvSpPr>
            <p:cNvPr id="276" name=""/>
            <p:cNvSpPr/>
            <p:nvPr/>
          </p:nvSpPr>
          <p:spPr>
            <a:xfrm flipH="1">
              <a:off x="4720680" y="765000"/>
              <a:ext cx="2660760" cy="266724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6005160" y="764280"/>
              <a:ext cx="1358280" cy="13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5"/>
            <a:stretch/>
          </p:blipFill>
          <p:spPr>
            <a:xfrm flipH="1">
              <a:off x="4716720" y="2060640"/>
              <a:ext cx="1358280" cy="135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"/>
          <p:cNvGrpSpPr/>
          <p:nvPr/>
        </p:nvGrpSpPr>
        <p:grpSpPr>
          <a:xfrm>
            <a:off x="2050920" y="3431880"/>
            <a:ext cx="2684520" cy="2661120"/>
            <a:chOff x="2050920" y="3431880"/>
            <a:chExt cx="2684520" cy="2661120"/>
          </a:xfrm>
        </p:grpSpPr>
        <p:sp>
          <p:nvSpPr>
            <p:cNvPr id="280" name=""/>
            <p:cNvSpPr/>
            <p:nvPr/>
          </p:nvSpPr>
          <p:spPr>
            <a:xfrm flipV="1">
              <a:off x="2050920" y="3431520"/>
              <a:ext cx="2679840" cy="266076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6"/>
            <a:stretch/>
          </p:blipFill>
          <p:spPr>
            <a:xfrm flipH="1">
              <a:off x="2069640" y="4745520"/>
              <a:ext cx="1368360" cy="13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7"/>
            <a:stretch/>
          </p:blipFill>
          <p:spPr>
            <a:xfrm flipH="1" rot="10800000">
              <a:off x="3367080" y="3453120"/>
              <a:ext cx="1368360" cy="134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4716720" y="3431880"/>
            <a:ext cx="2665080" cy="2661120"/>
            <a:chOff x="4716720" y="3431880"/>
            <a:chExt cx="2665080" cy="2661120"/>
          </a:xfrm>
        </p:grpSpPr>
        <p:sp>
          <p:nvSpPr>
            <p:cNvPr id="284" name=""/>
            <p:cNvSpPr/>
            <p:nvPr/>
          </p:nvSpPr>
          <p:spPr>
            <a:xfrm flipH="1" flipV="1">
              <a:off x="4720680" y="3431520"/>
              <a:ext cx="2660760" cy="266076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8"/>
            <a:stretch/>
          </p:blipFill>
          <p:spPr>
            <a:xfrm>
              <a:off x="6005160" y="4745520"/>
              <a:ext cx="1358280" cy="13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9"/>
            <a:stretch/>
          </p:blipFill>
          <p:spPr>
            <a:xfrm rot="10800000">
              <a:off x="4716720" y="3453120"/>
              <a:ext cx="1358280" cy="134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6880" y="1413000"/>
            <a:ext cx="574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 рисунке – бумажная салфе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ложенная вчетверо. Нарисо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ак будет выглядеть салфет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если её развер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70000" y="3403440"/>
            <a:ext cx="2743200" cy="1800"/>
          </a:xfrm>
          <a:custGeom>
            <a:avLst/>
            <a:gdLst/>
            <a:ahLst/>
            <a:rect l="l" t="t" r="r" b="b"/>
            <a:pathLst>
              <a:path w="1728" h="1">
                <a:moveTo>
                  <a:pt x="0" y="0"/>
                </a:moveTo>
                <a:lnTo>
                  <a:pt x="172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031840" y="5537160"/>
            <a:ext cx="1800" cy="533520"/>
          </a:xfrm>
          <a:custGeom>
            <a:avLst/>
            <a:gdLst/>
            <a:ahLst/>
            <a:rect l="l" t="t" r="r" b="b"/>
            <a:pathLst>
              <a:path w="1" h="336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50920" y="3429000"/>
            <a:ext cx="2689200" cy="2666880"/>
          </a:xfrm>
          <a:custGeom>
            <a:avLst/>
            <a:gdLst/>
            <a:ahLst/>
            <a:rect l="l" t="t" r="r" b="b"/>
            <a:pathLst>
              <a:path w="1694" h="1680">
                <a:moveTo>
                  <a:pt x="0" y="0"/>
                </a:moveTo>
                <a:lnTo>
                  <a:pt x="1694" y="0"/>
                </a:lnTo>
                <a:lnTo>
                  <a:pt x="1694" y="1680"/>
                </a:lnTo>
                <a:lnTo>
                  <a:pt x="0" y="1672"/>
                </a:lnTo>
                <a:lnTo>
                  <a:pt x="0" y="1320"/>
                </a:lnTo>
                <a:lnTo>
                  <a:pt x="512" y="1312"/>
                </a:lnTo>
                <a:lnTo>
                  <a:pt x="680" y="848"/>
                </a:lnTo>
                <a:lnTo>
                  <a:pt x="512" y="400"/>
                </a:lnTo>
                <a:lnTo>
                  <a:pt x="8" y="400"/>
                </a:lnTo>
                <a:lnTo>
                  <a:pt x="8" y="16"/>
                </a:lnTo>
              </a:path>
            </a:pathLst>
          </a:custGeom>
          <a:solidFill>
            <a:srgbClr val="ffcc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771640" y="4149720"/>
            <a:ext cx="1954440" cy="1920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050920" y="3429000"/>
            <a:ext cx="1800" cy="660240"/>
          </a:xfrm>
          <a:custGeom>
            <a:avLst/>
            <a:gdLst/>
            <a:ahLst/>
            <a:rect l="l" t="t" r="r" b="b"/>
            <a:pathLst>
              <a:path w="1" h="416">
                <a:moveTo>
                  <a:pt x="0" y="0"/>
                </a:moveTo>
                <a:lnTo>
                  <a:pt x="0" y="41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143964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4788000" y="3429000"/>
            <a:ext cx="2689200" cy="2666880"/>
            <a:chOff x="4788000" y="3429000"/>
            <a:chExt cx="2689200" cy="2666880"/>
          </a:xfrm>
        </p:grpSpPr>
        <p:sp>
          <p:nvSpPr>
            <p:cNvPr id="300" name=""/>
            <p:cNvSpPr/>
            <p:nvPr/>
          </p:nvSpPr>
          <p:spPr>
            <a:xfrm>
              <a:off x="4788000" y="3429000"/>
              <a:ext cx="2689200" cy="2666880"/>
            </a:xfrm>
            <a:custGeom>
              <a:avLst/>
              <a:gdLst/>
              <a:ahLst/>
              <a:rect l="l" t="t" r="r" b="b"/>
              <a:pathLst>
                <a:path w="1694" h="1680">
                  <a:moveTo>
                    <a:pt x="0" y="0"/>
                  </a:moveTo>
                  <a:lnTo>
                    <a:pt x="1694" y="0"/>
                  </a:lnTo>
                  <a:lnTo>
                    <a:pt x="1694" y="1680"/>
                  </a:lnTo>
                  <a:lnTo>
                    <a:pt x="0" y="1672"/>
                  </a:lnTo>
                  <a:lnTo>
                    <a:pt x="0" y="1320"/>
                  </a:lnTo>
                  <a:lnTo>
                    <a:pt x="512" y="1312"/>
                  </a:lnTo>
                  <a:lnTo>
                    <a:pt x="680" y="848"/>
                  </a:lnTo>
                  <a:lnTo>
                    <a:pt x="512" y="400"/>
                  </a:lnTo>
                  <a:lnTo>
                    <a:pt x="8" y="400"/>
                  </a:lnTo>
                  <a:lnTo>
                    <a:pt x="8" y="16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5508360" y="4149720"/>
              <a:ext cx="1954440" cy="192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"/>
          <p:cNvGrpSpPr/>
          <p:nvPr/>
        </p:nvGrpSpPr>
        <p:grpSpPr>
          <a:xfrm>
            <a:off x="2124000" y="3429000"/>
            <a:ext cx="2664000" cy="2666880"/>
            <a:chOff x="2124000" y="3429000"/>
            <a:chExt cx="2664000" cy="2666880"/>
          </a:xfrm>
        </p:grpSpPr>
        <p:sp>
          <p:nvSpPr>
            <p:cNvPr id="303" name=""/>
            <p:cNvSpPr/>
            <p:nvPr/>
          </p:nvSpPr>
          <p:spPr>
            <a:xfrm flipH="1">
              <a:off x="2124000" y="3429000"/>
              <a:ext cx="2664000" cy="2666880"/>
            </a:xfrm>
            <a:custGeom>
              <a:avLst/>
              <a:gdLst/>
              <a:ahLst/>
              <a:rect l="l" t="t" r="r" b="b"/>
              <a:pathLst>
                <a:path w="1694" h="1680">
                  <a:moveTo>
                    <a:pt x="0" y="0"/>
                  </a:moveTo>
                  <a:lnTo>
                    <a:pt x="1694" y="0"/>
                  </a:lnTo>
                  <a:lnTo>
                    <a:pt x="1694" y="1680"/>
                  </a:lnTo>
                  <a:lnTo>
                    <a:pt x="0" y="1672"/>
                  </a:lnTo>
                  <a:lnTo>
                    <a:pt x="0" y="1320"/>
                  </a:lnTo>
                  <a:lnTo>
                    <a:pt x="512" y="1312"/>
                  </a:lnTo>
                  <a:lnTo>
                    <a:pt x="680" y="848"/>
                  </a:lnTo>
                  <a:lnTo>
                    <a:pt x="512" y="400"/>
                  </a:lnTo>
                  <a:lnTo>
                    <a:pt x="8" y="400"/>
                  </a:lnTo>
                  <a:lnTo>
                    <a:pt x="8" y="16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2138040" y="4149720"/>
              <a:ext cx="1936080" cy="192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"/>
          <p:cNvGrpSpPr/>
          <p:nvPr/>
        </p:nvGrpSpPr>
        <p:grpSpPr>
          <a:xfrm>
            <a:off x="2124000" y="764640"/>
            <a:ext cx="2664000" cy="2660760"/>
            <a:chOff x="2124000" y="764640"/>
            <a:chExt cx="2664000" cy="2660760"/>
          </a:xfrm>
        </p:grpSpPr>
        <p:sp>
          <p:nvSpPr>
            <p:cNvPr id="306" name=""/>
            <p:cNvSpPr/>
            <p:nvPr/>
          </p:nvSpPr>
          <p:spPr>
            <a:xfrm flipH="1" flipV="1">
              <a:off x="2124000" y="764280"/>
              <a:ext cx="2664000" cy="2660760"/>
            </a:xfrm>
            <a:custGeom>
              <a:avLst/>
              <a:gdLst/>
              <a:ahLst/>
              <a:rect l="l" t="t" r="r" b="b"/>
              <a:pathLst>
                <a:path w="1694" h="1680">
                  <a:moveTo>
                    <a:pt x="0" y="0"/>
                  </a:moveTo>
                  <a:lnTo>
                    <a:pt x="1694" y="0"/>
                  </a:lnTo>
                  <a:lnTo>
                    <a:pt x="1694" y="1680"/>
                  </a:lnTo>
                  <a:lnTo>
                    <a:pt x="0" y="1672"/>
                  </a:lnTo>
                  <a:lnTo>
                    <a:pt x="0" y="1320"/>
                  </a:lnTo>
                  <a:lnTo>
                    <a:pt x="512" y="1312"/>
                  </a:lnTo>
                  <a:lnTo>
                    <a:pt x="680" y="848"/>
                  </a:lnTo>
                  <a:lnTo>
                    <a:pt x="512" y="400"/>
                  </a:lnTo>
                  <a:lnTo>
                    <a:pt x="8" y="400"/>
                  </a:lnTo>
                  <a:lnTo>
                    <a:pt x="8" y="16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4"/>
            <a:stretch/>
          </p:blipFill>
          <p:spPr>
            <a:xfrm>
              <a:off x="2138040" y="790560"/>
              <a:ext cx="1936080" cy="191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4788000" y="765000"/>
            <a:ext cx="2689200" cy="2664000"/>
            <a:chOff x="4788000" y="765000"/>
            <a:chExt cx="2689200" cy="2664000"/>
          </a:xfrm>
        </p:grpSpPr>
        <p:sp>
          <p:nvSpPr>
            <p:cNvPr id="309" name=""/>
            <p:cNvSpPr/>
            <p:nvPr/>
          </p:nvSpPr>
          <p:spPr>
            <a:xfrm flipV="1">
              <a:off x="4788000" y="764640"/>
              <a:ext cx="2689200" cy="2664000"/>
            </a:xfrm>
            <a:custGeom>
              <a:avLst/>
              <a:gdLst/>
              <a:ahLst/>
              <a:rect l="l" t="t" r="r" b="b"/>
              <a:pathLst>
                <a:path w="1694" h="1680">
                  <a:moveTo>
                    <a:pt x="0" y="0"/>
                  </a:moveTo>
                  <a:lnTo>
                    <a:pt x="1694" y="0"/>
                  </a:lnTo>
                  <a:lnTo>
                    <a:pt x="1694" y="1680"/>
                  </a:lnTo>
                  <a:lnTo>
                    <a:pt x="0" y="1672"/>
                  </a:lnTo>
                  <a:lnTo>
                    <a:pt x="0" y="1320"/>
                  </a:lnTo>
                  <a:lnTo>
                    <a:pt x="512" y="1312"/>
                  </a:lnTo>
                  <a:lnTo>
                    <a:pt x="680" y="848"/>
                  </a:lnTo>
                  <a:lnTo>
                    <a:pt x="512" y="400"/>
                  </a:lnTo>
                  <a:lnTo>
                    <a:pt x="8" y="400"/>
                  </a:lnTo>
                  <a:lnTo>
                    <a:pt x="8" y="16"/>
                  </a:lnTo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" descr=""/>
            <p:cNvPicPr/>
            <p:nvPr/>
          </p:nvPicPr>
          <p:blipFill>
            <a:blip r:embed="rId5"/>
            <a:stretch/>
          </p:blipFill>
          <p:spPr>
            <a:xfrm flipH="1">
              <a:off x="5508360" y="790560"/>
              <a:ext cx="1954440" cy="191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908000" y="189000"/>
            <a:ext cx="4896000" cy="1295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евой сим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82520" y="336852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8252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8252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8252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5592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55920" y="244944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55920" y="2909880"/>
            <a:ext cx="47304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5592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2896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28960" y="244944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02896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2896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20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02000" y="2449440"/>
            <a:ext cx="4712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020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20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973240" y="336852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73240" y="244944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73240" y="2909880"/>
            <a:ext cx="47340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7324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46640" y="336852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46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46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46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19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19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19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19680" y="382896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39272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9272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9272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9272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62520" y="3368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62520" y="244944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62520" y="290988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62520" y="382896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37000" y="3368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700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3700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3700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8104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1040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104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104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8164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81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81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281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754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754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754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5468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227720" y="3368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227720" y="244944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27720" y="290988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27720" y="382896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11280" y="1989000"/>
            <a:ext cx="7561080" cy="460440"/>
            <a:chOff x="611280" y="1989000"/>
            <a:chExt cx="7561080" cy="460440"/>
          </a:xfrm>
        </p:grpSpPr>
        <p:sp>
          <p:nvSpPr>
            <p:cNvPr id="370" name=""/>
            <p:cNvSpPr/>
            <p:nvPr/>
          </p:nvSpPr>
          <p:spPr>
            <a:xfrm>
              <a:off x="6112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8252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559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2896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020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97324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46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19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9272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2520" y="198900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3700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104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81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54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27720" y="198900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993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11280" y="2449440"/>
            <a:ext cx="473040" cy="4145040"/>
            <a:chOff x="611280" y="2449440"/>
            <a:chExt cx="473040" cy="4145040"/>
          </a:xfrm>
        </p:grpSpPr>
        <p:sp>
          <p:nvSpPr>
            <p:cNvPr id="387" name=""/>
            <p:cNvSpPr/>
            <p:nvPr/>
          </p:nvSpPr>
          <p:spPr>
            <a:xfrm>
              <a:off x="61128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128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128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128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128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128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1128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128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12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82520" y="567360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8252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8252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8252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55920" y="567360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5592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5592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55920" y="5214960"/>
            <a:ext cx="47304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02896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28960" y="475452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02896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2896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020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02000" y="4754520"/>
            <a:ext cx="4712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020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020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7324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324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97324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73240" y="5214960"/>
            <a:ext cx="47340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6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46640" y="475452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46640" y="429408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46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9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19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19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19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39272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9272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9272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39272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62520" y="567360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862520" y="4754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862520" y="429408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62520" y="521496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3700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3700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33700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700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104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1040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8104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104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81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8164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8164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81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54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754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754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754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227720" y="567360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227720" y="4754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227720" y="429408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227720" y="521496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699320" y="2449440"/>
            <a:ext cx="473040" cy="3684600"/>
            <a:chOff x="7699320" y="2449440"/>
            <a:chExt cx="473040" cy="3684600"/>
          </a:xfrm>
        </p:grpSpPr>
        <p:sp>
          <p:nvSpPr>
            <p:cNvPr id="453" name=""/>
            <p:cNvSpPr/>
            <p:nvPr/>
          </p:nvSpPr>
          <p:spPr>
            <a:xfrm>
              <a:off x="769932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9932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932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9932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9932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9932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69932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9932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082520" y="6134040"/>
            <a:ext cx="7089840" cy="460440"/>
            <a:chOff x="1082520" y="6134040"/>
            <a:chExt cx="7089840" cy="460440"/>
          </a:xfrm>
        </p:grpSpPr>
        <p:sp>
          <p:nvSpPr>
            <p:cNvPr id="462" name=""/>
            <p:cNvSpPr/>
            <p:nvPr/>
          </p:nvSpPr>
          <p:spPr>
            <a:xfrm>
              <a:off x="108252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559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2896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020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7324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46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19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9272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62520" y="613404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3700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104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81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54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27720" y="613404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993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84360" y="765000"/>
            <a:ext cx="7189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81560" y="1955880"/>
            <a:ext cx="12600" cy="4699080"/>
          </a:xfrm>
          <a:custGeom>
            <a:avLst/>
            <a:gdLst/>
            <a:ahLst/>
            <a:rect l="l" t="t" r="r" b="b"/>
            <a:pathLst>
              <a:path w="8" h="2960">
                <a:moveTo>
                  <a:pt x="0" y="0"/>
                </a:moveTo>
                <a:lnTo>
                  <a:pt x="8" y="2960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39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3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2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3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3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f200"/>
                                      </p:to>
                                    </p:animClr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908000" y="189000"/>
            <a:ext cx="4896000" cy="1295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евой сим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4360" y="765000"/>
            <a:ext cx="7189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2890800" cy="367344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4572000" y="1916280"/>
            <a:ext cx="12600" cy="4698720"/>
          </a:xfrm>
          <a:custGeom>
            <a:avLst/>
            <a:gdLst/>
            <a:ahLst/>
            <a:rect l="l" t="t" r="r" b="b"/>
            <a:pathLst>
              <a:path w="8" h="2960">
                <a:moveTo>
                  <a:pt x="0" y="0"/>
                </a:moveTo>
                <a:lnTo>
                  <a:pt x="8" y="2960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5219640" y="2349360"/>
            <a:ext cx="2889360" cy="36720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771640" y="2276640"/>
            <a:ext cx="12240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27640" y="2276640"/>
            <a:ext cx="12240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43280" y="2276640"/>
            <a:ext cx="34574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71640" y="508464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227640" y="508464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43280" y="5084640"/>
            <a:ext cx="34574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05080" y="580536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96000" y="5805360"/>
            <a:ext cx="12204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580536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16360" y="3500280"/>
            <a:ext cx="12204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084720" y="350028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87640" y="3500280"/>
            <a:ext cx="30970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708360" y="2133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364000" y="2133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780000" y="4941720"/>
            <a:ext cx="71280" cy="215640"/>
            <a:chOff x="3780000" y="4941720"/>
            <a:chExt cx="71280" cy="215640"/>
          </a:xfrm>
        </p:grpSpPr>
        <p:sp>
          <p:nvSpPr>
            <p:cNvPr id="500" name=""/>
            <p:cNvSpPr/>
            <p:nvPr/>
          </p:nvSpPr>
          <p:spPr>
            <a:xfrm>
              <a:off x="3780000" y="494172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51280" y="494172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219640" y="4941720"/>
            <a:ext cx="71280" cy="215640"/>
            <a:chOff x="5219640" y="4941720"/>
            <a:chExt cx="71280" cy="215640"/>
          </a:xfrm>
        </p:grpSpPr>
        <p:sp>
          <p:nvSpPr>
            <p:cNvPr id="503" name=""/>
            <p:cNvSpPr/>
            <p:nvPr/>
          </p:nvSpPr>
          <p:spPr>
            <a:xfrm>
              <a:off x="5219640" y="494172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90920" y="494172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851280" y="5734080"/>
            <a:ext cx="142920" cy="216000"/>
            <a:chOff x="3851280" y="5734080"/>
            <a:chExt cx="142920" cy="216000"/>
          </a:xfrm>
        </p:grpSpPr>
        <p:grpSp>
          <p:nvGrpSpPr>
            <p:cNvPr id="506" name=""/>
            <p:cNvGrpSpPr/>
            <p:nvPr/>
          </p:nvGrpSpPr>
          <p:grpSpPr>
            <a:xfrm>
              <a:off x="3851280" y="5734080"/>
              <a:ext cx="71280" cy="215640"/>
              <a:chOff x="3851280" y="5734080"/>
              <a:chExt cx="71280" cy="215640"/>
            </a:xfrm>
          </p:grpSpPr>
          <p:sp>
            <p:nvSpPr>
              <p:cNvPr id="507" name=""/>
              <p:cNvSpPr/>
              <p:nvPr/>
            </p:nvSpPr>
            <p:spPr>
              <a:xfrm>
                <a:off x="3851280" y="573408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22560" y="573408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994200" y="573408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076720" y="5734080"/>
            <a:ext cx="142920" cy="216000"/>
            <a:chOff x="5076720" y="5734080"/>
            <a:chExt cx="142920" cy="216000"/>
          </a:xfrm>
        </p:grpSpPr>
        <p:grpSp>
          <p:nvGrpSpPr>
            <p:cNvPr id="511" name=""/>
            <p:cNvGrpSpPr/>
            <p:nvPr/>
          </p:nvGrpSpPr>
          <p:grpSpPr>
            <a:xfrm>
              <a:off x="5076720" y="5734080"/>
              <a:ext cx="71280" cy="215640"/>
              <a:chOff x="5076720" y="5734080"/>
              <a:chExt cx="71280" cy="215640"/>
            </a:xfrm>
          </p:grpSpPr>
          <p:sp>
            <p:nvSpPr>
              <p:cNvPr id="512" name=""/>
              <p:cNvSpPr/>
              <p:nvPr/>
            </p:nvSpPr>
            <p:spPr>
              <a:xfrm>
                <a:off x="5076720" y="573408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148000" y="573408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5219640" y="573408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924360" y="3429000"/>
            <a:ext cx="215640" cy="215640"/>
            <a:chOff x="3924360" y="3429000"/>
            <a:chExt cx="215640" cy="215640"/>
          </a:xfrm>
        </p:grpSpPr>
        <p:grpSp>
          <p:nvGrpSpPr>
            <p:cNvPr id="516" name=""/>
            <p:cNvGrpSpPr/>
            <p:nvPr/>
          </p:nvGrpSpPr>
          <p:grpSpPr>
            <a:xfrm>
              <a:off x="3924360" y="3429000"/>
              <a:ext cx="142560" cy="215640"/>
              <a:chOff x="3924360" y="3429000"/>
              <a:chExt cx="142560" cy="21564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3924360" y="3429000"/>
                <a:ext cx="70920" cy="215640"/>
                <a:chOff x="3924360" y="3429000"/>
                <a:chExt cx="70920" cy="2156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924360" y="3429000"/>
                  <a:ext cx="0" cy="21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995280" y="3429000"/>
                  <a:ext cx="0" cy="21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4066920" y="34290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4140000" y="342900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4932360" y="3429000"/>
            <a:ext cx="215640" cy="215640"/>
            <a:chOff x="4932360" y="3429000"/>
            <a:chExt cx="215640" cy="215640"/>
          </a:xfrm>
        </p:grpSpPr>
        <p:grpSp>
          <p:nvGrpSpPr>
            <p:cNvPr id="523" name=""/>
            <p:cNvGrpSpPr/>
            <p:nvPr/>
          </p:nvGrpSpPr>
          <p:grpSpPr>
            <a:xfrm>
              <a:off x="4932360" y="3429000"/>
              <a:ext cx="142560" cy="215640"/>
              <a:chOff x="4932360" y="3429000"/>
              <a:chExt cx="142560" cy="21564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4932360" y="3429000"/>
                <a:ext cx="70920" cy="215640"/>
                <a:chOff x="4932360" y="3429000"/>
                <a:chExt cx="70920" cy="21564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4932360" y="3429000"/>
                  <a:ext cx="0" cy="21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003280" y="3429000"/>
                  <a:ext cx="0" cy="215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5074920" y="34290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5148000" y="3429000"/>
              <a:ext cx="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4140360" y="2276640"/>
            <a:ext cx="409320" cy="409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40360" y="5084640"/>
            <a:ext cx="409320" cy="4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40360" y="5805360"/>
            <a:ext cx="409320" cy="4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140360" y="3500280"/>
            <a:ext cx="409320" cy="4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908000" y="189000"/>
            <a:ext cx="4896000" cy="1295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евой сим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82520" y="336852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8252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8252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8252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55920" y="336852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55592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55920" y="2909880"/>
            <a:ext cx="47304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5592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02896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028960" y="244944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02896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2896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020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02000" y="2449440"/>
            <a:ext cx="4712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020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020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973240" y="3368520"/>
            <a:ext cx="47340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97324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73240" y="2909880"/>
            <a:ext cx="473400" cy="45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7324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446640" y="336852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46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446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446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19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19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19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919680" y="3828960"/>
            <a:ext cx="473040" cy="46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9272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39272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9272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39272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62520" y="3368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62520" y="244944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862520" y="290988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62520" y="382896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37000" y="3368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3700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3700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3700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4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81040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8104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104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28164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281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1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281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754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754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754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75468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27720" y="3368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720" y="244944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27720" y="290988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27720" y="382896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11280" y="1989000"/>
            <a:ext cx="7561080" cy="460440"/>
            <a:chOff x="611280" y="1989000"/>
            <a:chExt cx="7561080" cy="460440"/>
          </a:xfrm>
        </p:grpSpPr>
        <p:sp>
          <p:nvSpPr>
            <p:cNvPr id="592" name=""/>
            <p:cNvSpPr/>
            <p:nvPr/>
          </p:nvSpPr>
          <p:spPr>
            <a:xfrm>
              <a:off x="6112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8252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559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2896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020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7324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446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19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39272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62520" y="198900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3700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104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81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754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227720" y="198900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993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11280" y="2449440"/>
            <a:ext cx="473040" cy="4145040"/>
            <a:chOff x="611280" y="2449440"/>
            <a:chExt cx="473040" cy="4145040"/>
          </a:xfrm>
        </p:grpSpPr>
        <p:sp>
          <p:nvSpPr>
            <p:cNvPr id="609" name=""/>
            <p:cNvSpPr/>
            <p:nvPr/>
          </p:nvSpPr>
          <p:spPr>
            <a:xfrm>
              <a:off x="61128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128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1128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1128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1128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1128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1128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128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12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08252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08252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08252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252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55592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55592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5592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5592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02896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2896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02896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02896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020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50200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5020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5020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97324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97324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97324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97324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46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4664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4664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46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19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19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19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919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9272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39272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39272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39272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862520" y="567360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862520" y="4754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862520" y="429408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862520" y="521496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33700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700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33700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33700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8104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81040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8104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8104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281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28164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28164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281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54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754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754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754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27720" y="567360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27720" y="4754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227720" y="429408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227720" y="521496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7699320" y="2449440"/>
            <a:ext cx="473040" cy="3684600"/>
            <a:chOff x="7699320" y="2449440"/>
            <a:chExt cx="473040" cy="3684600"/>
          </a:xfrm>
        </p:grpSpPr>
        <p:sp>
          <p:nvSpPr>
            <p:cNvPr id="675" name=""/>
            <p:cNvSpPr/>
            <p:nvPr/>
          </p:nvSpPr>
          <p:spPr>
            <a:xfrm>
              <a:off x="769932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9932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9932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932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9932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9932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9932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9932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2520" y="6134040"/>
            <a:ext cx="7089840" cy="460440"/>
            <a:chOff x="1082520" y="6134040"/>
            <a:chExt cx="7089840" cy="460440"/>
          </a:xfrm>
        </p:grpSpPr>
        <p:sp>
          <p:nvSpPr>
            <p:cNvPr id="684" name=""/>
            <p:cNvSpPr/>
            <p:nvPr/>
          </p:nvSpPr>
          <p:spPr>
            <a:xfrm>
              <a:off x="108252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5559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02896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020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7324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446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19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9272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62520" y="613404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33700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8104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81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54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27720" y="613404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6993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84360" y="765000"/>
            <a:ext cx="7189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381560" y="1955880"/>
            <a:ext cx="12600" cy="4699080"/>
          </a:xfrm>
          <a:custGeom>
            <a:avLst/>
            <a:gdLst/>
            <a:ahLst/>
            <a:rect l="l" t="t" r="r" b="b"/>
            <a:pathLst>
              <a:path w="8" h="2960">
                <a:moveTo>
                  <a:pt x="0" y="0"/>
                </a:moveTo>
                <a:lnTo>
                  <a:pt x="8" y="2960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11280" y="4292640"/>
            <a:ext cx="7777080" cy="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23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2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2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2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3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3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3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3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3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4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4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4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4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4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5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5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65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65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5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6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63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6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6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6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71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72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7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7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7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8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83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8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8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8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animClr clrSpc="rgb">
                                      <p:cBhvr>
                                        <p:cTn id="691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cc"/>
                                      </p:to>
                                    </p:animClr>
                                    <p:set>
                                      <p:cBhvr>
                                        <p:cTn id="692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908000" y="189000"/>
            <a:ext cx="4896000" cy="1295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евой сим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82520" y="3368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08252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252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08252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55592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55592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55592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5592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2896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02896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02896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02896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020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50200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020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5020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973240" y="3368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97324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97324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97324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44664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446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446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46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919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919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919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91968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39272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39272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39272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39272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62520" y="3368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62520" y="244944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62520" y="290988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62520" y="382896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37000" y="3368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337000" y="244944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337000" y="290988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337000" y="382896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810400" y="3368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10400" y="244944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810400" y="290988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810400" y="382896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28164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28164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28164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28164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54680" y="3368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754680" y="244944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754680" y="290988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54680" y="382896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227720" y="3368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227720" y="244944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227720" y="290988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227720" y="382896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611280" y="1989000"/>
            <a:ext cx="7561080" cy="460440"/>
            <a:chOff x="611280" y="1989000"/>
            <a:chExt cx="7561080" cy="460440"/>
          </a:xfrm>
        </p:grpSpPr>
        <p:sp>
          <p:nvSpPr>
            <p:cNvPr id="761" name=""/>
            <p:cNvSpPr/>
            <p:nvPr/>
          </p:nvSpPr>
          <p:spPr>
            <a:xfrm>
              <a:off x="6112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08252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559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02896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5020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7324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46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919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9272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520" y="198900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37000" y="198900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810400" y="198900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8164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5468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27720" y="198900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99320" y="19890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611280" y="2449440"/>
            <a:ext cx="473040" cy="4145040"/>
            <a:chOff x="611280" y="2449440"/>
            <a:chExt cx="473040" cy="4145040"/>
          </a:xfrm>
        </p:grpSpPr>
        <p:sp>
          <p:nvSpPr>
            <p:cNvPr id="778" name=""/>
            <p:cNvSpPr/>
            <p:nvPr/>
          </p:nvSpPr>
          <p:spPr>
            <a:xfrm>
              <a:off x="61128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128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128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128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128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128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128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128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112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108252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08252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08252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08252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55592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55592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55592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55592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2896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2896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02896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02896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5020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200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020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020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97324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7324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97324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97324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446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44664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44664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446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919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919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919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919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9272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9272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39272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39272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862520" y="567360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862520" y="475452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862520" y="4294080"/>
            <a:ext cx="47448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862520" y="5214960"/>
            <a:ext cx="4744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337000" y="567360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37000" y="475452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337000" y="4294080"/>
            <a:ext cx="4734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337000" y="5214960"/>
            <a:ext cx="473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810400" y="567360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810400" y="475452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810400" y="4294080"/>
            <a:ext cx="4712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810400" y="5214960"/>
            <a:ext cx="4712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28164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8164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28164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28164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754680" y="567360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754680" y="475452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754680" y="4294080"/>
            <a:ext cx="47304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754680" y="5214960"/>
            <a:ext cx="47304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227720" y="567360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227720" y="475452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227720" y="4294080"/>
            <a:ext cx="4716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227720" y="5214960"/>
            <a:ext cx="4716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7699320" y="2449440"/>
            <a:ext cx="473040" cy="3684600"/>
            <a:chOff x="7699320" y="2449440"/>
            <a:chExt cx="473040" cy="3684600"/>
          </a:xfrm>
        </p:grpSpPr>
        <p:sp>
          <p:nvSpPr>
            <p:cNvPr id="844" name=""/>
            <p:cNvSpPr/>
            <p:nvPr/>
          </p:nvSpPr>
          <p:spPr>
            <a:xfrm>
              <a:off x="7699320" y="3368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699320" y="24494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699320" y="290988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699320" y="382896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699320" y="567360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699320" y="475452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699320" y="429408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699320" y="5214960"/>
              <a:ext cx="47304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1082520" y="6134040"/>
            <a:ext cx="7089840" cy="460440"/>
            <a:chOff x="1082520" y="6134040"/>
            <a:chExt cx="7089840" cy="460440"/>
          </a:xfrm>
        </p:grpSpPr>
        <p:sp>
          <p:nvSpPr>
            <p:cNvPr id="853" name=""/>
            <p:cNvSpPr/>
            <p:nvPr/>
          </p:nvSpPr>
          <p:spPr>
            <a:xfrm>
              <a:off x="108252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559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02896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5020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97324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46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919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39272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2520" y="6134040"/>
              <a:ext cx="47448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337000" y="6134040"/>
              <a:ext cx="4734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10400" y="6134040"/>
              <a:ext cx="4712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8164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75468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27720" y="6134040"/>
              <a:ext cx="47160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699320" y="6134040"/>
              <a:ext cx="473040" cy="4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684360" y="765000"/>
            <a:ext cx="7189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381560" y="1955880"/>
            <a:ext cx="12600" cy="4699080"/>
          </a:xfrm>
          <a:custGeom>
            <a:avLst/>
            <a:gdLst/>
            <a:ahLst/>
            <a:rect l="l" t="t" r="r" b="b"/>
            <a:pathLst>
              <a:path w="8" h="2960">
                <a:moveTo>
                  <a:pt x="0" y="0"/>
                </a:moveTo>
                <a:lnTo>
                  <a:pt x="8" y="2960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16200000">
            <a:off x="1115640" y="2923920"/>
            <a:ext cx="3672000" cy="2808360"/>
          </a:xfrm>
          <a:prstGeom prst="rtTriangl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 rot="5400000">
            <a:off x="1150560" y="2889000"/>
            <a:ext cx="3673440" cy="2880000"/>
          </a:xfrm>
          <a:prstGeom prst="rtTriangl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44360" y="602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53440" y="19890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925440" y="609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166160" y="602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07407E-006 L 0.30711 4.07407E-006 E">
                                      <p:cBhvr>
                                        <p:cTn id="709" dur="1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4078440"/>
            <a:ext cx="1220760" cy="173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434360" y="2637000"/>
            <a:ext cx="1709640" cy="243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3286080"/>
            <a:ext cx="1622160" cy="2962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79280" y="5013360"/>
            <a:ext cx="1282680" cy="165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908000" y="2781360"/>
            <a:ext cx="1690920" cy="270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24000" y="465300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7201080" y="4437000"/>
            <a:ext cx="1942920" cy="147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6300720" y="3068640"/>
            <a:ext cx="1490760" cy="267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6084720" y="4581360"/>
            <a:ext cx="1330560" cy="1490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4f33b"/>
              </a:gs>
              <a:gs pos="50000">
                <a:srgbClr val="fefefe"/>
              </a:gs>
              <a:gs pos="100000">
                <a:srgbClr val="d4f3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170028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мальчиков и 4 девочки за пере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гут съесть 36 булочек. Ск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лочек при таком аппетите могут съ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мальчиков и 6 девоч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1332000" y="5389560"/>
            <a:ext cx="1357200" cy="1612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3852720" y="4492800"/>
            <a:ext cx="1224000" cy="917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 rot="1264200">
            <a:off x="4572000" y="422244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 rot="20155800">
            <a:off x="4858920" y="5013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 rot="1264200">
            <a:off x="3635280" y="530028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6"/>
          <a:stretch/>
        </p:blipFill>
        <p:spPr>
          <a:xfrm rot="21197400">
            <a:off x="4068720" y="414936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7"/>
          <a:stretch/>
        </p:blipFill>
        <p:spPr>
          <a:xfrm>
            <a:off x="5292720" y="4438800"/>
            <a:ext cx="801720" cy="672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8"/>
          <a:stretch/>
        </p:blipFill>
        <p:spPr>
          <a:xfrm rot="1117200">
            <a:off x="4427280" y="4365720"/>
            <a:ext cx="801720" cy="67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9"/>
          <a:stretch/>
        </p:blipFill>
        <p:spPr>
          <a:xfrm rot="3516000">
            <a:off x="3715200" y="4969440"/>
            <a:ext cx="801720" cy="672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0"/>
          <a:stretch/>
        </p:blipFill>
        <p:spPr>
          <a:xfrm rot="499800">
            <a:off x="4506480" y="4970520"/>
            <a:ext cx="801720" cy="673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1"/>
          <a:stretch/>
        </p:blipFill>
        <p:spPr>
          <a:xfrm>
            <a:off x="3924360" y="4653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2"/>
          <a:stretch/>
        </p:blipFill>
        <p:spPr>
          <a:xfrm rot="1264200">
            <a:off x="4788000" y="4438440"/>
            <a:ext cx="1224000" cy="917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3"/>
          <a:stretch/>
        </p:blipFill>
        <p:spPr>
          <a:xfrm rot="1264200">
            <a:off x="4284720" y="436536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4"/>
          <a:stretch/>
        </p:blipFill>
        <p:spPr>
          <a:xfrm>
            <a:off x="5364000" y="4653000"/>
            <a:ext cx="801720" cy="67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5"/>
          <a:stretch/>
        </p:blipFill>
        <p:spPr>
          <a:xfrm rot="1117200">
            <a:off x="4500720" y="4797360"/>
            <a:ext cx="801360" cy="67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6"/>
          <a:stretch/>
        </p:blipFill>
        <p:spPr>
          <a:xfrm rot="3516000">
            <a:off x="3931200" y="5185440"/>
            <a:ext cx="801720" cy="67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7"/>
          <a:stretch/>
        </p:blipFill>
        <p:spPr>
          <a:xfrm rot="499800">
            <a:off x="4722480" y="5186520"/>
            <a:ext cx="801720" cy="672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8"/>
          <a:stretch/>
        </p:blipFill>
        <p:spPr>
          <a:xfrm rot="2023200">
            <a:off x="5148000" y="5373360"/>
            <a:ext cx="801720" cy="67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9"/>
          <a:stretch/>
        </p:blipFill>
        <p:spPr>
          <a:xfrm rot="1381800">
            <a:off x="4427280" y="5445000"/>
            <a:ext cx="801720" cy="67320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5292720" y="1989000"/>
            <a:ext cx="2847960" cy="4297680"/>
          </a:xfrm>
          <a:custGeom>
            <a:avLst/>
            <a:gdLst/>
            <a:ahLst/>
            <a:rect l="l" t="t" r="r" b="b"/>
            <a:pathLst>
              <a:path w="1794" h="2707">
                <a:moveTo>
                  <a:pt x="0" y="0"/>
                </a:moveTo>
                <a:lnTo>
                  <a:pt x="450" y="2707"/>
                </a:lnTo>
                <a:lnTo>
                  <a:pt x="1794" y="915"/>
                </a:lnTo>
                <a:lnTo>
                  <a:pt x="914" y="1363"/>
                </a:lnTo>
                <a:lnTo>
                  <a:pt x="2" y="11"/>
                </a:lnTo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евая сим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4584600" y="1384200"/>
            <a:ext cx="1800" cy="5230800"/>
          </a:xfrm>
          <a:custGeom>
            <a:avLst/>
            <a:gdLst/>
            <a:ahLst/>
            <a:rect l="l" t="t" r="r" b="b"/>
            <a:pathLst>
              <a:path w="1" h="3295">
                <a:moveTo>
                  <a:pt x="0" y="0"/>
                </a:moveTo>
                <a:lnTo>
                  <a:pt x="0" y="3295"/>
                </a:lnTo>
              </a:path>
            </a:pathLst>
          </a:custGeom>
          <a:noFill/>
          <a:ln w="54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965160" y="1981080"/>
            <a:ext cx="2857680" cy="4318200"/>
          </a:xfrm>
          <a:custGeom>
            <a:avLst/>
            <a:gdLst/>
            <a:ahLst/>
            <a:rect l="l" t="t" r="r" b="b"/>
            <a:pathLst>
              <a:path w="1800" h="2720">
                <a:moveTo>
                  <a:pt x="0" y="912"/>
                </a:moveTo>
                <a:lnTo>
                  <a:pt x="1352" y="2720"/>
                </a:lnTo>
                <a:lnTo>
                  <a:pt x="1800" y="0"/>
                </a:lnTo>
                <a:lnTo>
                  <a:pt x="912" y="1368"/>
                </a:lnTo>
                <a:lnTo>
                  <a:pt x="0" y="904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8100000"/>
          </a:gra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80000" y="1916280"/>
            <a:ext cx="12204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51280" y="1989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356000" y="1989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219640" y="1916280"/>
            <a:ext cx="12240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059280" y="6237360"/>
            <a:ext cx="12204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132000" y="6308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356000" y="630864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940360" y="6237360"/>
            <a:ext cx="12240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40360" y="191628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003640" y="191628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3780000" y="6165720"/>
            <a:ext cx="71280" cy="215640"/>
            <a:chOff x="3780000" y="6165720"/>
            <a:chExt cx="71280" cy="215640"/>
          </a:xfrm>
        </p:grpSpPr>
        <p:sp>
          <p:nvSpPr>
            <p:cNvPr id="892" name=""/>
            <p:cNvSpPr/>
            <p:nvPr/>
          </p:nvSpPr>
          <p:spPr>
            <a:xfrm>
              <a:off x="3780000" y="6165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51280" y="6165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5292720" y="6165720"/>
            <a:ext cx="71280" cy="215640"/>
            <a:chOff x="5292720" y="6165720"/>
            <a:chExt cx="71280" cy="215640"/>
          </a:xfrm>
        </p:grpSpPr>
        <p:sp>
          <p:nvSpPr>
            <p:cNvPr id="895" name=""/>
            <p:cNvSpPr/>
            <p:nvPr/>
          </p:nvSpPr>
          <p:spPr>
            <a:xfrm>
              <a:off x="5292720" y="6165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364000" y="6165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5292720" y="1989000"/>
            <a:ext cx="719280" cy="43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40000" y="4076640"/>
            <a:ext cx="12204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411280" y="414972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356000" y="414972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659640" y="4076640"/>
            <a:ext cx="12204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780000" y="4005360"/>
            <a:ext cx="142560" cy="215640"/>
            <a:chOff x="3780000" y="4005360"/>
            <a:chExt cx="142560" cy="215640"/>
          </a:xfrm>
        </p:grpSpPr>
        <p:grpSp>
          <p:nvGrpSpPr>
            <p:cNvPr id="903" name=""/>
            <p:cNvGrpSpPr/>
            <p:nvPr/>
          </p:nvGrpSpPr>
          <p:grpSpPr>
            <a:xfrm>
              <a:off x="3780000" y="4005360"/>
              <a:ext cx="70920" cy="215640"/>
              <a:chOff x="3780000" y="4005360"/>
              <a:chExt cx="70920" cy="215640"/>
            </a:xfrm>
          </p:grpSpPr>
          <p:sp>
            <p:nvSpPr>
              <p:cNvPr id="904" name=""/>
              <p:cNvSpPr/>
              <p:nvPr/>
            </p:nvSpPr>
            <p:spPr>
              <a:xfrm>
                <a:off x="3780000" y="400536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850920" y="400536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3922560" y="40053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5219640" y="4005360"/>
            <a:ext cx="142920" cy="215640"/>
            <a:chOff x="5219640" y="4005360"/>
            <a:chExt cx="142920" cy="215640"/>
          </a:xfrm>
        </p:grpSpPr>
        <p:grpSp>
          <p:nvGrpSpPr>
            <p:cNvPr id="908" name=""/>
            <p:cNvGrpSpPr/>
            <p:nvPr/>
          </p:nvGrpSpPr>
          <p:grpSpPr>
            <a:xfrm>
              <a:off x="5219640" y="4005360"/>
              <a:ext cx="71280" cy="215640"/>
              <a:chOff x="5219640" y="4005360"/>
              <a:chExt cx="71280" cy="215640"/>
            </a:xfrm>
          </p:grpSpPr>
          <p:sp>
            <p:nvSpPr>
              <p:cNvPr id="909" name=""/>
              <p:cNvSpPr/>
              <p:nvPr/>
            </p:nvSpPr>
            <p:spPr>
              <a:xfrm>
                <a:off x="5219640" y="400536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290920" y="400536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1" name=""/>
            <p:cNvSpPr/>
            <p:nvPr/>
          </p:nvSpPr>
          <p:spPr>
            <a:xfrm>
              <a:off x="5362560" y="40053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5292720" y="1989000"/>
            <a:ext cx="144000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900000" y="3357720"/>
            <a:ext cx="12240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971640" y="342900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356000" y="3429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8101080" y="3357720"/>
            <a:ext cx="122040" cy="122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3708360" y="3357720"/>
            <a:ext cx="216000" cy="215640"/>
            <a:chOff x="3708360" y="3357720"/>
            <a:chExt cx="216000" cy="215640"/>
          </a:xfrm>
        </p:grpSpPr>
        <p:grpSp>
          <p:nvGrpSpPr>
            <p:cNvPr id="918" name=""/>
            <p:cNvGrpSpPr/>
            <p:nvPr/>
          </p:nvGrpSpPr>
          <p:grpSpPr>
            <a:xfrm>
              <a:off x="3708360" y="3357720"/>
              <a:ext cx="142920" cy="215640"/>
              <a:chOff x="3708360" y="3357720"/>
              <a:chExt cx="142920" cy="21564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3708360" y="3357720"/>
                <a:ext cx="71280" cy="215640"/>
                <a:chOff x="3708360" y="3357720"/>
                <a:chExt cx="71280" cy="21564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708360" y="335772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779640" y="335772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2" name=""/>
              <p:cNvSpPr/>
              <p:nvPr/>
            </p:nvSpPr>
            <p:spPr>
              <a:xfrm>
                <a:off x="3851280" y="335772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>
              <a:off x="3924360" y="3357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5219640" y="3357720"/>
            <a:ext cx="216000" cy="215640"/>
            <a:chOff x="5219640" y="3357720"/>
            <a:chExt cx="216000" cy="215640"/>
          </a:xfrm>
        </p:grpSpPr>
        <p:grpSp>
          <p:nvGrpSpPr>
            <p:cNvPr id="925" name=""/>
            <p:cNvGrpSpPr/>
            <p:nvPr/>
          </p:nvGrpSpPr>
          <p:grpSpPr>
            <a:xfrm>
              <a:off x="5219640" y="3357720"/>
              <a:ext cx="142920" cy="215640"/>
              <a:chOff x="5219640" y="3357720"/>
              <a:chExt cx="142920" cy="2156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5219640" y="3357720"/>
                <a:ext cx="71280" cy="215640"/>
                <a:chOff x="5219640" y="3357720"/>
                <a:chExt cx="71280" cy="2156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5219640" y="335772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290920" y="335772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9" name=""/>
              <p:cNvSpPr/>
              <p:nvPr/>
            </p:nvSpPr>
            <p:spPr>
              <a:xfrm>
                <a:off x="5362560" y="335772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5435640" y="3357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 flipV="1">
            <a:off x="6732720" y="3429000"/>
            <a:ext cx="1439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6011640" y="3429000"/>
            <a:ext cx="216036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1439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6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3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5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0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ероч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572000" y="1916280"/>
            <a:ext cx="12600" cy="4698720"/>
          </a:xfrm>
          <a:custGeom>
            <a:avLst/>
            <a:gdLst/>
            <a:ahLst/>
            <a:rect l="l" t="t" r="r" b="b"/>
            <a:pathLst>
              <a:path w="8" h="2960">
                <a:moveTo>
                  <a:pt x="0" y="0"/>
                </a:moveTo>
                <a:lnTo>
                  <a:pt x="8" y="2960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882000" y="138276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58880" y="141300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rot="20323200">
            <a:off x="179280" y="2781000"/>
            <a:ext cx="2952720" cy="2448000"/>
          </a:xfrm>
          <a:prstGeom prst="triangle">
            <a:avLst>
              <a:gd name="adj" fmla="val 79912"/>
            </a:avLst>
          </a:prstGeom>
          <a:gradFill rotWithShape="0">
            <a:gsLst>
              <a:gs pos="0">
                <a:srgbClr val="fefefe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1258920" y="2565360"/>
            <a:ext cx="2952720" cy="395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5308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8000" y="5465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94160" y="220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421440" y="45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651640" y="2997360"/>
            <a:ext cx="2520720" cy="25207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443640" y="2421000"/>
            <a:ext cx="792360" cy="40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158160" y="22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22144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29452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810288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8640" y="1484280"/>
            <a:ext cx="84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npix.ru/raster-clipart/10221-zabavnye-malchiki-i-devochki-klipart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66560" y="1197000"/>
            <a:ext cx="27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льчики и девоч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9360" y="2060640"/>
            <a:ext cx="816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4403/valenta-mog.13e/0_6e1da_7d62da63_L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68000" y="177336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улоч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840" y="2347920"/>
            <a:ext cx="69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ao-zhk.ru/images/Bulka/Big/Bulochka_vitaminka_b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95280" y="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етод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ед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еометрию. 6 класс: планирование, консп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й / авт.-сост. И.В.Фотина. – Волгоград: Учител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4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9360" y="2925720"/>
            <a:ext cx="90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wordassociations.ru/image/600x/svg_to_png/Gerald_G_Puppy_Cartoon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68000" y="263700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Жуч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7480" y="3594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480" y="350208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cdn2.freecoloring.info/freecoloring-cdn/img/cat2-03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68000" y="321300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ш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760" y="4148280"/>
            <a:ext cx="50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coollady.ru/pic/0002/039/CL-066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68360" y="37893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ыш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840" y="4726080"/>
            <a:ext cx="72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muzruk.wmsite.ru/_mod_files/ce_images/photoalbum/generate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epa1_318x400_pc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68720" y="4437000"/>
            <a:ext cx="95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п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040" y="558972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.pokeroff.ru/uploads/wysiwyg/p/po/pom/pomidor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92400" y="5300640"/>
            <a:ext cx="23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мидор и огурец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760" y="5950080"/>
            <a:ext cx="65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abc-color.com/image/coloring/masks/001/cucumb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cucumber-picture-color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7920" y="836640"/>
            <a:ext cx="794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s.slanet.by/~src4696207/Snimu_v_arendu_rassmotryu_varianty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_pokupki_pomescheniya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50560" y="47628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з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162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840" y="1557360"/>
            <a:ext cx="62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xrest.ru/images/collection/00571/739/original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680" y="191628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etito.ru/image/data/catalog01/0662.p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9360" y="2276640"/>
            <a:ext cx="78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g-fotki.yandex.ru/get/4701/120710424.365/0_7a30a_1a9acd78_X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1220760" cy="173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434360" y="189000"/>
            <a:ext cx="1709640" cy="2440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1622520" cy="2962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1282680" cy="165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835280" y="0"/>
            <a:ext cx="1690560" cy="2708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6300720" y="620640"/>
            <a:ext cx="1490760" cy="2675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6084720" y="2133720"/>
            <a:ext cx="1330560" cy="1490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 rot="1264200">
            <a:off x="4572000" y="177444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 rot="1264200">
            <a:off x="3635280" y="285228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 rot="21197400">
            <a:off x="4068720" y="170136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284720" y="404640"/>
            <a:ext cx="1150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6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1835280" y="0"/>
            <a:ext cx="1690560" cy="2708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1332000" y="1341360"/>
            <a:ext cx="1220760" cy="1738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324000" y="2421000"/>
            <a:ext cx="1282680" cy="1655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4"/>
          <a:stretch/>
        </p:blipFill>
        <p:spPr>
          <a:xfrm>
            <a:off x="7434360" y="189000"/>
            <a:ext cx="1709640" cy="2440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6084720" y="2133720"/>
            <a:ext cx="1330560" cy="1490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1979640" y="206064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7"/>
          <a:stretch/>
        </p:blipFill>
        <p:spPr>
          <a:xfrm>
            <a:off x="1258920" y="2781360"/>
            <a:ext cx="1357200" cy="1612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8"/>
          <a:stretch/>
        </p:blipFill>
        <p:spPr>
          <a:xfrm>
            <a:off x="7380360" y="2349360"/>
            <a:ext cx="1942920" cy="14702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511440" y="4916160"/>
            <a:ext cx="2557800" cy="1491480"/>
            <a:chOff x="3511440" y="4916160"/>
            <a:chExt cx="2557800" cy="1491480"/>
          </a:xfrm>
        </p:grpSpPr>
        <p:pic>
          <p:nvPicPr>
            <p:cNvPr id="107" name="" descr=""/>
            <p:cNvPicPr/>
            <p:nvPr/>
          </p:nvPicPr>
          <p:blipFill>
            <a:blip r:embed="rId19"/>
            <a:stretch/>
          </p:blipFill>
          <p:spPr>
            <a:xfrm rot="1264200">
              <a:off x="3635280" y="530028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0"/>
            <a:stretch/>
          </p:blipFill>
          <p:spPr>
            <a:xfrm rot="499800">
              <a:off x="4506480" y="497052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1"/>
            <a:stretch/>
          </p:blipFill>
          <p:spPr>
            <a:xfrm rot="3516000">
              <a:off x="3931200" y="518544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22"/>
            <a:stretch/>
          </p:blipFill>
          <p:spPr>
            <a:xfrm rot="499800">
              <a:off x="4722480" y="5186520"/>
              <a:ext cx="8017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3"/>
            <a:stretch/>
          </p:blipFill>
          <p:spPr>
            <a:xfrm rot="2023200">
              <a:off x="5148000" y="537336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4"/>
            <a:stretch/>
          </p:blipFill>
          <p:spPr>
            <a:xfrm rot="1381800">
              <a:off x="4427280" y="5445000"/>
              <a:ext cx="8017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 txBox="1"/>
          <p:nvPr/>
        </p:nvSpPr>
        <p:spPr>
          <a:xfrm>
            <a:off x="4427640" y="3933720"/>
            <a:ext cx="1077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8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548520" y="1726920"/>
            <a:ext cx="2597040" cy="2071800"/>
            <a:chOff x="3548520" y="1726920"/>
            <a:chExt cx="2597040" cy="2071800"/>
          </a:xfrm>
        </p:grpSpPr>
        <p:pic>
          <p:nvPicPr>
            <p:cNvPr id="115" name="" descr=""/>
            <p:cNvPicPr/>
            <p:nvPr/>
          </p:nvPicPr>
          <p:blipFill>
            <a:blip r:embed="rId25"/>
            <a:stretch/>
          </p:blipFill>
          <p:spPr>
            <a:xfrm>
              <a:off x="3781080" y="204336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6"/>
            <a:stretch/>
          </p:blipFill>
          <p:spPr>
            <a:xfrm rot="20155800">
              <a:off x="4787280" y="256356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7"/>
            <a:stretch/>
          </p:blipFill>
          <p:spPr>
            <a:xfrm>
              <a:off x="5221080" y="198936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8"/>
            <a:stretch/>
          </p:blipFill>
          <p:spPr>
            <a:xfrm rot="1117200">
              <a:off x="4356000" y="191628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9"/>
            <a:stretch/>
          </p:blipFill>
          <p:spPr>
            <a:xfrm rot="3516000">
              <a:off x="3643560" y="2520000"/>
              <a:ext cx="8017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0"/>
            <a:stretch/>
          </p:blipFill>
          <p:spPr>
            <a:xfrm rot="499800">
              <a:off x="4434840" y="252108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1"/>
            <a:stretch/>
          </p:blipFill>
          <p:spPr>
            <a:xfrm>
              <a:off x="3852720" y="220356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2"/>
            <a:stretch/>
          </p:blipFill>
          <p:spPr>
            <a:xfrm rot="1264200">
              <a:off x="4716360" y="198900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3"/>
            <a:stretch/>
          </p:blipFill>
          <p:spPr>
            <a:xfrm rot="1264200">
              <a:off x="4213080" y="1915920"/>
              <a:ext cx="122400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4"/>
            <a:stretch/>
          </p:blipFill>
          <p:spPr>
            <a:xfrm>
              <a:off x="5292360" y="220356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5"/>
            <a:stretch/>
          </p:blipFill>
          <p:spPr>
            <a:xfrm rot="1117200">
              <a:off x="4429080" y="2347920"/>
              <a:ext cx="80136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6"/>
            <a:stretch/>
          </p:blipFill>
          <p:spPr>
            <a:xfrm rot="3516000">
              <a:off x="3859560" y="273600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7"/>
            <a:stretch/>
          </p:blipFill>
          <p:spPr>
            <a:xfrm rot="499800">
              <a:off x="4650840" y="2737080"/>
              <a:ext cx="8017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38"/>
            <a:stretch/>
          </p:blipFill>
          <p:spPr>
            <a:xfrm rot="2023200">
              <a:off x="5076360" y="2923920"/>
              <a:ext cx="801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9"/>
            <a:stretch/>
          </p:blipFill>
          <p:spPr>
            <a:xfrm rot="1381800">
              <a:off x="4355640" y="2995920"/>
              <a:ext cx="801720" cy="67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"/>
          <p:cNvSpPr txBox="1"/>
          <p:nvPr/>
        </p:nvSpPr>
        <p:spPr>
          <a:xfrm>
            <a:off x="4356000" y="1628640"/>
            <a:ext cx="10778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4</a:t>
            </a:r>
            <a:endParaRPr b="1" lang="en-US" sz="4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1.85185E-006 L 0.03142 0.6088 E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44444E-006 L -0.09462 0.525 E">
                                      <p:cBhvr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5.92593E-006 L 0.11806 0.42014 E">
                                      <p:cBhvr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7.77778E-006 L -0.09444 0.50394 E">
                                      <p:cBhvr>
                                        <p:cTn id="1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6.2963E-006 L -0.01579 0.45161 E">
                                      <p:cBhvr>
                                        <p:cTn id="1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59259E-006 L 8.33333E-007 -0.15741 E">
                                      <p:cBhvr>
                                        <p:cTn id="4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699 E">
                                      <p:cBhvr>
                                        <p:cTn id="4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699 E">
                                      <p:cBhvr>
                                        <p:cTn id="47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699 E">
                                      <p:cBhvr>
                                        <p:cTn id="4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401920" cy="3024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780000" y="3645000"/>
            <a:ext cx="1873080" cy="2662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292720" y="494172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-19080" y="2133720"/>
            <a:ext cx="3755880" cy="472428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4f33b"/>
              </a:gs>
              <a:gs pos="50000">
                <a:srgbClr val="fefefe"/>
              </a:gs>
              <a:gs pos="100000">
                <a:srgbClr val="d4f3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155736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учка тяжелее кошки в 6 раз, мы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гче кошки в 20 раз, репка тяже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ышки в 720 раз. Во сколько раз ре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яжелее Жу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386000" cy="1827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30440" cy="782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1095120" cy="1606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2197080" cy="2852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354560" y="692280"/>
            <a:ext cx="478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учка тяжелее кошки в 6 ра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ышка легче кошки в 20 ра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пка тяжелее мышки в 720 р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 сколько раз реп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яжелее Жу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68360" y="765000"/>
            <a:ext cx="172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част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050920" y="2133720"/>
            <a:ext cx="23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 часте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50920" y="3573360"/>
            <a:ext cx="28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0 часте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050920" y="5084640"/>
            <a:ext cx="2881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20 часте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65440" y="4076640"/>
            <a:ext cx="310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20 : 1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35640" y="2708280"/>
            <a:ext cx="288144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 6 раз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58920" y="313992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219640" y="3213000"/>
            <a:ext cx="1982880" cy="288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4f33b"/>
              </a:gs>
              <a:gs pos="50000">
                <a:srgbClr val="fefefe"/>
              </a:gs>
              <a:gs pos="100000">
                <a:srgbClr val="d4f3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206064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помидоров и 2 огурца весят столько 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олько 9 помидоров и 1 огур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тяжелее: 8 помидоров или 2 огур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564000" y="3284640"/>
            <a:ext cx="2160360" cy="1522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898560" y="393228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266920" y="342900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1763640" y="436392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1547640" y="501336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2987640" y="4148280"/>
            <a:ext cx="2160720" cy="1522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2698920" y="4869000"/>
            <a:ext cx="2160360" cy="1522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6372360" y="2781360"/>
            <a:ext cx="1871640" cy="287964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971640" y="4869000"/>
            <a:ext cx="7418160" cy="861480"/>
            <a:chOff x="971640" y="4869000"/>
            <a:chExt cx="7418160" cy="861480"/>
          </a:xfrm>
        </p:grpSpPr>
        <p:sp>
          <p:nvSpPr>
            <p:cNvPr id="167" name=""/>
            <p:cNvSpPr/>
            <p:nvPr/>
          </p:nvSpPr>
          <p:spPr>
            <a:xfrm>
              <a:off x="971640" y="4869000"/>
              <a:ext cx="3168720" cy="50292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21440" y="4869000"/>
              <a:ext cx="3168360" cy="50292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4465080" y="3390480"/>
              <a:ext cx="358560" cy="4321080"/>
            </a:xfrm>
            <a:custGeom>
              <a:avLst/>
              <a:gdLst>
                <a:gd name="textAreaLeft" fmla="*/ 0 w 358560"/>
                <a:gd name="textAreaRight" fmla="*/ 251640 w 358560"/>
                <a:gd name="textAreaTop" fmla="*/ 180000 h 4321080"/>
                <a:gd name="textAreaBottom" fmla="*/ 4141080 h 43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1"/>
                    <a:pt x="21600" y="1801"/>
                  </a:cubicBezTo>
                  <a:lnTo>
                    <a:pt x="21600" y="19799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356000" y="5661000"/>
            <a:ext cx="720720" cy="986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ccbd0"/>
              </a:gs>
              <a:gs pos="50000">
                <a:srgbClr val="bbe0e3"/>
              </a:gs>
              <a:gs pos="100000">
                <a:srgbClr val="8ccbd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8720" y="4508640"/>
            <a:ext cx="1295280" cy="1224000"/>
          </a:xfrm>
          <a:custGeom>
            <a:avLst/>
            <a:gdLst>
              <a:gd name="textAreaLeft" fmla="*/ 580680 w 1295280"/>
              <a:gd name="textAreaRight" fmla="*/ 714600 w 12952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9685" y="0"/>
                </a:moveTo>
                <a:lnTo>
                  <a:pt x="11915" y="0"/>
                </a:lnTo>
                <a:lnTo>
                  <a:pt x="11915" y="9022"/>
                </a:lnTo>
                <a:lnTo>
                  <a:pt x="18466" y="9022"/>
                </a:lnTo>
                <a:lnTo>
                  <a:pt x="18466" y="5500"/>
                </a:lnTo>
                <a:lnTo>
                  <a:pt x="21600" y="10800"/>
                </a:lnTo>
                <a:lnTo>
                  <a:pt x="18466" y="16100"/>
                </a:lnTo>
                <a:lnTo>
                  <a:pt x="18466" y="12578"/>
                </a:lnTo>
                <a:lnTo>
                  <a:pt x="11915" y="12578"/>
                </a:lnTo>
                <a:lnTo>
                  <a:pt x="11915" y="21600"/>
                </a:lnTo>
                <a:lnTo>
                  <a:pt x="9685" y="21600"/>
                </a:lnTo>
                <a:lnTo>
                  <a:pt x="9685" y="12578"/>
                </a:lnTo>
                <a:lnTo>
                  <a:pt x="3134" y="12578"/>
                </a:lnTo>
                <a:lnTo>
                  <a:pt x="3134" y="16100"/>
                </a:lnTo>
                <a:lnTo>
                  <a:pt x="0" y="10800"/>
                </a:lnTo>
                <a:lnTo>
                  <a:pt x="3134" y="5500"/>
                </a:lnTo>
                <a:lnTo>
                  <a:pt x="3134" y="9022"/>
                </a:lnTo>
                <a:lnTo>
                  <a:pt x="9685" y="902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042920" y="2492280"/>
            <a:ext cx="7418160" cy="862200"/>
            <a:chOff x="1042920" y="2492280"/>
            <a:chExt cx="7418160" cy="862200"/>
          </a:xfrm>
        </p:grpSpPr>
        <p:sp>
          <p:nvSpPr>
            <p:cNvPr id="173" name=""/>
            <p:cNvSpPr/>
            <p:nvPr/>
          </p:nvSpPr>
          <p:spPr>
            <a:xfrm>
              <a:off x="1042920" y="2492280"/>
              <a:ext cx="3168720" cy="50328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92720" y="2492280"/>
              <a:ext cx="3168360" cy="503280"/>
            </a:xfrm>
            <a:prstGeom prst="ellipse">
              <a:avLst/>
            </a:prstGeom>
            <a:gradFill rotWithShape="0">
              <a:gsLst>
                <a:gs pos="0">
                  <a:srgbClr val="e8e8e8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4536360" y="1014120"/>
              <a:ext cx="358920" cy="4321080"/>
            </a:xfrm>
            <a:custGeom>
              <a:avLst/>
              <a:gdLst>
                <a:gd name="textAreaLeft" fmla="*/ 0 w 358920"/>
                <a:gd name="textAreaRight" fmla="*/ 251640 w 358920"/>
                <a:gd name="textAreaTop" fmla="*/ 180000 h 4321080"/>
                <a:gd name="textAreaBottom" fmla="*/ 4141080 h 43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1"/>
                    <a:pt x="21600" y="1801"/>
                  </a:cubicBezTo>
                  <a:lnTo>
                    <a:pt x="21600" y="19799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354560" y="3284640"/>
            <a:ext cx="720720" cy="985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ccbd0"/>
              </a:gs>
              <a:gs pos="50000">
                <a:srgbClr val="bbe0e3"/>
              </a:gs>
              <a:gs pos="100000">
                <a:srgbClr val="8ccbd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67280" y="2131920"/>
            <a:ext cx="1295280" cy="1224000"/>
          </a:xfrm>
          <a:custGeom>
            <a:avLst/>
            <a:gdLst>
              <a:gd name="textAreaLeft" fmla="*/ 580680 w 1295280"/>
              <a:gd name="textAreaRight" fmla="*/ 714600 w 12952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9685" y="0"/>
                </a:moveTo>
                <a:lnTo>
                  <a:pt x="11915" y="0"/>
                </a:lnTo>
                <a:lnTo>
                  <a:pt x="11915" y="9022"/>
                </a:lnTo>
                <a:lnTo>
                  <a:pt x="18466" y="9022"/>
                </a:lnTo>
                <a:lnTo>
                  <a:pt x="18466" y="5500"/>
                </a:lnTo>
                <a:lnTo>
                  <a:pt x="21600" y="10800"/>
                </a:lnTo>
                <a:lnTo>
                  <a:pt x="18466" y="16100"/>
                </a:lnTo>
                <a:lnTo>
                  <a:pt x="18466" y="12578"/>
                </a:lnTo>
                <a:lnTo>
                  <a:pt x="11915" y="12578"/>
                </a:lnTo>
                <a:lnTo>
                  <a:pt x="11915" y="21600"/>
                </a:lnTo>
                <a:lnTo>
                  <a:pt x="9685" y="21600"/>
                </a:lnTo>
                <a:lnTo>
                  <a:pt x="9685" y="12578"/>
                </a:lnTo>
                <a:lnTo>
                  <a:pt x="3134" y="12578"/>
                </a:lnTo>
                <a:lnTo>
                  <a:pt x="3134" y="16100"/>
                </a:lnTo>
                <a:lnTo>
                  <a:pt x="0" y="10800"/>
                </a:lnTo>
                <a:lnTo>
                  <a:pt x="3134" y="5500"/>
                </a:lnTo>
                <a:lnTo>
                  <a:pt x="3134" y="9022"/>
                </a:lnTo>
                <a:lnTo>
                  <a:pt x="9685" y="902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 rot="19812600">
            <a:off x="2482560" y="1412640"/>
            <a:ext cx="1284120" cy="1609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01840" y="1701720"/>
            <a:ext cx="1398600" cy="851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978200" y="1773360"/>
            <a:ext cx="1396800" cy="850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122560" y="2060640"/>
            <a:ext cx="1396800" cy="850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114560" y="1989000"/>
            <a:ext cx="1396800" cy="851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1617840" y="2131920"/>
            <a:ext cx="1396800" cy="851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 flipH="1" rot="1038000">
            <a:off x="3129840" y="1267920"/>
            <a:ext cx="1211400" cy="1609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5362560" y="2131920"/>
            <a:ext cx="1295280" cy="849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5578560" y="1916280"/>
            <a:ext cx="1398600" cy="849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5794200" y="2131920"/>
            <a:ext cx="1398600" cy="849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1"/>
          <a:stretch/>
        </p:blipFill>
        <p:spPr>
          <a:xfrm>
            <a:off x="6515280" y="1773360"/>
            <a:ext cx="1398240" cy="8492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2"/>
          <a:stretch/>
        </p:blipFill>
        <p:spPr>
          <a:xfrm>
            <a:off x="6730920" y="2060640"/>
            <a:ext cx="1398600" cy="849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3"/>
          <a:stretch/>
        </p:blipFill>
        <p:spPr>
          <a:xfrm>
            <a:off x="6154560" y="2060640"/>
            <a:ext cx="1295640" cy="8492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4"/>
          <a:stretch/>
        </p:blipFill>
        <p:spPr>
          <a:xfrm>
            <a:off x="5867280" y="1341360"/>
            <a:ext cx="1398600" cy="849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5"/>
          <a:stretch/>
        </p:blipFill>
        <p:spPr>
          <a:xfrm>
            <a:off x="6083280" y="1557360"/>
            <a:ext cx="1398600" cy="849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6"/>
          <a:stretch/>
        </p:blipFill>
        <p:spPr>
          <a:xfrm>
            <a:off x="5651640" y="1557360"/>
            <a:ext cx="1295280" cy="849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7"/>
          <a:stretch/>
        </p:blipFill>
        <p:spPr>
          <a:xfrm flipH="1" rot="1038000">
            <a:off x="7524360" y="1341000"/>
            <a:ext cx="1211400" cy="1587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1619280" y="404640"/>
            <a:ext cx="433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132000" y="404640"/>
            <a:ext cx="433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227640" y="404640"/>
            <a:ext cx="433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96360" y="404640"/>
            <a:ext cx="43308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348000" y="3789360"/>
            <a:ext cx="433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508720" y="3789360"/>
            <a:ext cx="433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4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8"/>
          <a:stretch/>
        </p:blipFill>
        <p:spPr>
          <a:xfrm rot="21081000">
            <a:off x="1258560" y="3715920"/>
            <a:ext cx="1179360" cy="158760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6516720" y="3716280"/>
            <a:ext cx="2190240" cy="1425600"/>
            <a:chOff x="6516720" y="3716280"/>
            <a:chExt cx="2190240" cy="1425600"/>
          </a:xfrm>
        </p:grpSpPr>
        <p:pic>
          <p:nvPicPr>
            <p:cNvPr id="203" name="" descr=""/>
            <p:cNvPicPr/>
            <p:nvPr/>
          </p:nvPicPr>
          <p:blipFill>
            <a:blip r:embed="rId19"/>
            <a:stretch/>
          </p:blipFill>
          <p:spPr>
            <a:xfrm>
              <a:off x="7021080" y="3933720"/>
              <a:ext cx="139824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0"/>
            <a:stretch/>
          </p:blipFill>
          <p:spPr>
            <a:xfrm flipH="1">
              <a:off x="6587640" y="4292640"/>
              <a:ext cx="129492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1"/>
            <a:stretch/>
          </p:blipFill>
          <p:spPr>
            <a:xfrm>
              <a:off x="7308720" y="4292640"/>
              <a:ext cx="139824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2"/>
            <a:stretch/>
          </p:blipFill>
          <p:spPr>
            <a:xfrm flipH="1">
              <a:off x="6516720" y="3716280"/>
              <a:ext cx="1295280" cy="84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"/>
          <p:cNvSpPr txBox="1"/>
          <p:nvPr/>
        </p:nvSpPr>
        <p:spPr>
          <a:xfrm>
            <a:off x="3348000" y="3789360"/>
            <a:ext cx="433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80000" y="3789360"/>
            <a:ext cx="433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1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13386 0.3676 E">
                                      <p:cBhvr>
                                        <p:cTn id="24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361 0.42014 E">
                                      <p:cBhvr>
                                        <p:cTn id="24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361 0.42014 E">
                                      <p:cBhvr>
                                        <p:cTn id="24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361 0.42014 E">
                                      <p:cBhvr>
                                        <p:cTn id="24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7.40741E-007 L 0.02361 0.39884 E">
                                      <p:cBhvr>
                                        <p:cTn id="24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3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4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7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8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95280" y="476280"/>
            <a:ext cx="1368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46880" y="1413000"/>
            <a:ext cx="574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На рисунке – бумажная салфет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ложенная вчетверо. Нарисо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как будет выглядеть салфет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если её развер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31840" y="3429000"/>
            <a:ext cx="2679840" cy="2666880"/>
          </a:xfrm>
          <a:custGeom>
            <a:avLst/>
            <a:gdLst/>
            <a:ahLst/>
            <a:rect l="l" t="t" r="r" b="b"/>
            <a:pathLst>
              <a:path w="1688" h="1680">
                <a:moveTo>
                  <a:pt x="0" y="0"/>
                </a:moveTo>
                <a:lnTo>
                  <a:pt x="1688" y="0"/>
                </a:lnTo>
                <a:lnTo>
                  <a:pt x="1688" y="1680"/>
                </a:lnTo>
                <a:lnTo>
                  <a:pt x="848" y="1680"/>
                </a:lnTo>
                <a:lnTo>
                  <a:pt x="8" y="808"/>
                </a:lnTo>
                <a:lnTo>
                  <a:pt x="8" y="16"/>
                </a:lnTo>
              </a:path>
            </a:pathLst>
          </a:custGeom>
          <a:solidFill>
            <a:srgbClr val="ffff99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31840" y="3403440"/>
            <a:ext cx="2679840" cy="2718000"/>
          </a:xfrm>
          <a:custGeom>
            <a:avLst/>
            <a:gdLst/>
            <a:ahLst/>
            <a:rect l="l" t="t" r="r" b="b"/>
            <a:pathLst>
              <a:path w="1688" h="1712">
                <a:moveTo>
                  <a:pt x="0" y="8"/>
                </a:moveTo>
                <a:lnTo>
                  <a:pt x="1688" y="0"/>
                </a:lnTo>
                <a:lnTo>
                  <a:pt x="1688" y="1712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6400" y="4797360"/>
            <a:ext cx="1292040" cy="129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050920" y="3429000"/>
            <a:ext cx="1295640" cy="122868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fefefe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143964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2050920" y="3428640"/>
            <a:ext cx="2679840" cy="2667240"/>
            <a:chOff x="2050920" y="3428640"/>
            <a:chExt cx="2679840" cy="2667240"/>
          </a:xfrm>
        </p:grpSpPr>
        <p:sp>
          <p:nvSpPr>
            <p:cNvPr id="221" name=""/>
            <p:cNvSpPr/>
            <p:nvPr/>
          </p:nvSpPr>
          <p:spPr>
            <a:xfrm>
              <a:off x="2050920" y="3429000"/>
              <a:ext cx="2679840" cy="266688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3435480" y="4797360"/>
              <a:ext cx="12920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 flipH="1" rot="5400000">
              <a:off x="2103120" y="3395160"/>
              <a:ext cx="122868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2050920" y="549360"/>
            <a:ext cx="2679840" cy="2879640"/>
            <a:chOff x="2050920" y="549360"/>
            <a:chExt cx="2679840" cy="2879640"/>
          </a:xfrm>
        </p:grpSpPr>
        <p:sp>
          <p:nvSpPr>
            <p:cNvPr id="225" name=""/>
            <p:cNvSpPr/>
            <p:nvPr/>
          </p:nvSpPr>
          <p:spPr>
            <a:xfrm flipV="1">
              <a:off x="2050920" y="549000"/>
              <a:ext cx="2679840" cy="287928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3435480" y="552240"/>
              <a:ext cx="1292040" cy="13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 rot="5400000">
              <a:off x="2054160" y="2117880"/>
              <a:ext cx="132660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4716000" y="549360"/>
            <a:ext cx="2664360" cy="2879280"/>
            <a:chOff x="4716000" y="549360"/>
            <a:chExt cx="2664360" cy="2879280"/>
          </a:xfrm>
        </p:grpSpPr>
        <p:sp>
          <p:nvSpPr>
            <p:cNvPr id="229" name=""/>
            <p:cNvSpPr/>
            <p:nvPr/>
          </p:nvSpPr>
          <p:spPr>
            <a:xfrm flipV="1" rot="5400000">
              <a:off x="4608720" y="657000"/>
              <a:ext cx="2879280" cy="266400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6"/>
            <a:stretch/>
          </p:blipFill>
          <p:spPr>
            <a:xfrm flipH="1" rot="16200000">
              <a:off x="6035760" y="2083680"/>
              <a:ext cx="1388160" cy="12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7"/>
            <a:stretch/>
          </p:blipFill>
          <p:spPr>
            <a:xfrm rot="10800000">
              <a:off x="4716000" y="569160"/>
              <a:ext cx="1227240" cy="13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"/>
          <p:cNvGrpSpPr/>
          <p:nvPr/>
        </p:nvGrpSpPr>
        <p:grpSpPr>
          <a:xfrm>
            <a:off x="4716360" y="3428640"/>
            <a:ext cx="2665440" cy="2667240"/>
            <a:chOff x="4716360" y="3428640"/>
            <a:chExt cx="2665440" cy="2667240"/>
          </a:xfrm>
        </p:grpSpPr>
        <p:sp>
          <p:nvSpPr>
            <p:cNvPr id="233" name=""/>
            <p:cNvSpPr/>
            <p:nvPr/>
          </p:nvSpPr>
          <p:spPr>
            <a:xfrm flipH="1">
              <a:off x="4716360" y="3429000"/>
              <a:ext cx="2665440" cy="2666880"/>
            </a:xfrm>
            <a:custGeom>
              <a:avLst/>
              <a:gdLst/>
              <a:ahLst/>
              <a:rect l="l" t="t" r="r" b="b"/>
              <a:pathLst>
                <a:path w="1688" h="1680">
                  <a:moveTo>
                    <a:pt x="0" y="0"/>
                  </a:moveTo>
                  <a:lnTo>
                    <a:pt x="1688" y="0"/>
                  </a:lnTo>
                  <a:lnTo>
                    <a:pt x="1688" y="1680"/>
                  </a:lnTo>
                  <a:lnTo>
                    <a:pt x="848" y="1680"/>
                  </a:lnTo>
                  <a:lnTo>
                    <a:pt x="8" y="808"/>
                  </a:lnTo>
                  <a:lnTo>
                    <a:pt x="8" y="16"/>
                  </a:lnTo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8"/>
            <a:stretch/>
          </p:blipFill>
          <p:spPr>
            <a:xfrm flipH="1">
              <a:off x="4719960" y="4797360"/>
              <a:ext cx="1284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6104880" y="3398760"/>
              <a:ext cx="1228680" cy="128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44:27Z</dcterms:created>
  <dc:creator>Мама</dc:creator>
  <dc:description/>
  <dc:language>en-US</dc:language>
  <cp:lastModifiedBy>Мама</cp:lastModifiedBy>
  <dcterms:modified xsi:type="dcterms:W3CDTF">2013-07-15T12:18:16Z</dcterms:modified>
  <cp:revision>26</cp:revision>
  <dc:subject/>
  <dc:title>Слайд 1</dc:title>
</cp:coreProperties>
</file>