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9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EA2A1-3397-4D7B-A54B-B0FA46AF2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5CEC9-2777-4B61-A140-BDB952A63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D6CE8-DA8E-413E-BC2F-F14E79D0E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5BA81-D247-4FC5-BA48-B8E18754F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71E34-6505-4D1D-937A-0D26F34DD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A3A96-0E47-446B-884B-11BC9EC31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DC60A-3786-4ABB-9A9C-97E475DEB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265D8-E662-40C3-B971-0D15E1063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E98B0-DD6D-4F83-BF5B-A74C2B57D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EEF79-2127-4FF5-910A-FB572462C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71B21-3CFB-44CD-A7E0-B4B9E41A5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10535-BF1F-4984-8F6D-9F15F76D3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D446F-A6BB-4D48-8DFC-114DDAC9E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B4A3E-BEC1-4836-8260-E760F3333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FC27D-7D4A-4412-9936-AAA9D394E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3FCEB-AD76-44D0-9F1A-57D644F11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0F399-CE85-4AAD-A17B-504B6B9B7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325F2-DAEF-4C49-8823-618FADF1E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76CBB-6913-46FE-A659-321E645F2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ACE1F-042E-4C2F-88FF-98200E1C7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1123E-5D00-4386-887B-50507C54D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0E670-AFD3-4189-B778-DEED77A09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7910E-D97A-46DC-BB01-8E56A5952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159FC-A697-4ED7-97D5-95F937820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jpeg"/><Relationship Id="rId30" Type="http://schemas.openxmlformats.org/officeDocument/2006/relationships/image" Target="../media/image2.jpe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jpeg"/><Relationship Id="rId30" Type="http://schemas.openxmlformats.org/officeDocument/2006/relationships/image" Target="../media/image2.jpe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7720" y="72360"/>
                    <a:ext cx="42840" cy="572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8640" y="59760"/>
                    <a:ext cx="64800" cy="3780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8120" y="109440"/>
                    <a:ext cx="23760" cy="6192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prstGeom prst="pie">
              <a:avLst/>
            </a:pr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prstGeom prst="pie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prstGeom prst="pie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C6255-B61F-4685-8D4A-83F506625770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-360"/>
            <a:ext cx="9159840" cy="6870960"/>
            <a:chOff x="0" y="-360"/>
            <a:chExt cx="9159840" cy="687096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-360"/>
              <a:ext cx="1295280" cy="6310800"/>
              <a:chOff x="7848720" y="-360"/>
              <a:chExt cx="1295280" cy="631080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-360"/>
                <a:ext cx="762120" cy="2271960"/>
                <a:chOff x="8381880" y="-360"/>
                <a:chExt cx="762120" cy="227196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07320" y="-360"/>
                  <a:ext cx="279360" cy="276120"/>
                  <a:chOff x="8707320" y="-360"/>
                  <a:chExt cx="279360" cy="27612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07320" y="-360"/>
                    <a:ext cx="279360" cy="276120"/>
                    <a:chOff x="8707320" y="-360"/>
                    <a:chExt cx="279360" cy="27612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46200" y="-39240"/>
                      <a:ext cx="201600" cy="279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55200" y="92160"/>
                      <a:ext cx="141480" cy="225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26840" y="12888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60600" y="71640"/>
                    <a:ext cx="42840" cy="572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31520" y="59400"/>
                    <a:ext cx="64800" cy="3780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901000" y="109080"/>
                    <a:ext cx="23760" cy="6192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26840" y="191160"/>
                    <a:ext cx="63360" cy="266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75360" y="166320"/>
                    <a:ext cx="37800" cy="410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08600"/>
              <a:ext cx="1190520" cy="194004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57840"/>
              <a:ext cx="1219320" cy="200016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17720"/>
              <a:ext cx="1231920" cy="4037040"/>
            </a:xfrm>
            <a:prstGeom prst="pie">
              <a:avLst/>
            </a:pr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38440"/>
              <a:ext cx="979560" cy="2184480"/>
            </a:xfrm>
            <a:prstGeom prst="pie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26960"/>
              <a:ext cx="914400" cy="5048280"/>
            </a:xfrm>
            <a:prstGeom prst="pie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62080"/>
              <a:ext cx="909720" cy="307152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0"/>
              <a:ext cx="576360" cy="335268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1440"/>
              <a:ext cx="300240" cy="335304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29440"/>
              <a:ext cx="1165320" cy="61920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3960" y="3316320"/>
              <a:ext cx="6858000" cy="22536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98432-65DC-4A4A-BB33-54ABDC2950FB}" type="slidenum">
              <a:rPr b="0" lang="ru-RU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История создания произведения</a:t>
            </a:r>
            <a:br>
              <a:rPr sz="4000"/>
            </a:b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«Капитанская дочка»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24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Презентацию подготовила Ольга Балобаева и Неволина Елена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8-Т класс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4" name="Picture 4" descr="pushkin"/>
          <p:cNvPicPr/>
          <p:nvPr/>
        </p:nvPicPr>
        <p:blipFill>
          <a:blip r:embed="rId1"/>
          <a:stretch/>
        </p:blipFill>
        <p:spPr>
          <a:xfrm>
            <a:off x="0" y="4365720"/>
            <a:ext cx="2013120" cy="24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 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Пушкин продолжал работать над этим произведением в 1834 году. В 1836 году перерабатывал его. 19 октября 1836 года – дата окончания работы над «Капитанской дочкой». «Капитанская дочка» была напечатана в четвертом номере пушкинского «Современника» в конце декабря 1836 года, за месяц с небольшим до гибели поэта.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Иллюстрация к повести А.С. Пушкина «</a:t>
            </a:r>
            <a:r>
              <a:rPr b="1" lang="ru-RU" sz="3600" spc="-1" strike="noStrike">
                <a:solidFill>
                  <a:srgbClr val="f7d47d"/>
                </a:solidFill>
                <a:latin typeface="Arial"/>
              </a:rPr>
              <a:t>Капитанская дочка</a:t>
            </a: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». 1945 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8" name="Picture 4" descr="070431385"/>
          <p:cNvPicPr/>
          <p:nvPr/>
        </p:nvPicPr>
        <p:blipFill>
          <a:blip r:embed="rId1"/>
          <a:stretch/>
        </p:blipFill>
        <p:spPr>
          <a:xfrm>
            <a:off x="250920" y="1628640"/>
            <a:ext cx="741672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Каков жанр «Капитанской дочки»? Пушкин писал цензору, передавая ему рукопись: «Имя девицы Мироновой вымышленное. Роман мой основан на предании…». Что такое роман, Пушкин объяснял так: «В наше время под словом роман разумеем историческую эпоху, развитую в вымышленном повествовании». То есть Пушкин считал свое произведение историческим романом. И все же «Капитанскую дочку» – небольшое по величине произведение – в литературоведении чаще именуют повестью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 </a:t>
            </a: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С середины 1832 года А. С. Пушкин начинает работу над историей восстания под предводительством Емельяна Пугачева. Поэту царем была предоставлена возможность ознакомиться с секретными материалами о восстании и действиях властей по его подавлению. Пушкин обращается к неопубликованным документам из семейных архивов и частных коллекций. В его «Архивных тетрадях» сохранились копии именных указов и писем Пугачева, выписки из донесений о боевых действиях с отрядами Пугачева.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0" y="22680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Вручение письма Екатерине II", на сюжет повести "</a:t>
            </a:r>
            <a:r>
              <a:rPr b="1" lang="ru-RU" sz="3600" spc="-1" strike="noStrike">
                <a:solidFill>
                  <a:srgbClr val="f7d47d"/>
                </a:solidFill>
                <a:latin typeface="Arial"/>
              </a:rPr>
              <a:t>Капитанская дочка</a:t>
            </a: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197" name="Picture 4" descr="0123-906"/>
          <p:cNvPicPr/>
          <p:nvPr/>
        </p:nvPicPr>
        <p:blipFill>
          <a:blip r:embed="rId1"/>
          <a:stretch/>
        </p:blipFill>
        <p:spPr>
          <a:xfrm>
            <a:off x="0" y="1844640"/>
            <a:ext cx="705636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В 1833 году Пушкин решает поехать в те места Поволжья и Приуралья, где происходило восстание. Он рассчитывает на встречи с очевидцами этих событий. Получив разрешение императора Николая I, Пушкин выезжает в Казань. «Я в Казани с пятого Здесь я возился со стариками, современниками моего героя; объезжал окрестности города, осматривал места сражений, расспрашивал, записывал и очень доволен, что не напрасно посетил эту сторону», – пишет он жене Наталье Николаевне 8 сентября. Далее поэт направляется в Симбирск и Оренбург, где тоже посещает места боев, встречается с современниками событий.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«</a:t>
            </a:r>
            <a:r>
              <a:rPr b="1" lang="ru-RU" sz="3600" spc="-1" strike="noStrike">
                <a:solidFill>
                  <a:srgbClr val="f7d47d"/>
                </a:solidFill>
                <a:latin typeface="Arial"/>
              </a:rPr>
              <a:t>Капитанская дочка</a:t>
            </a: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». Художник М.Нестеров. 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2" name="Picture 4" descr="40_08"/>
          <p:cNvPicPr/>
          <p:nvPr/>
        </p:nvPicPr>
        <p:blipFill>
          <a:blip r:embed="rId1"/>
          <a:stretch/>
        </p:blipFill>
        <p:spPr>
          <a:xfrm>
            <a:off x="250920" y="1557360"/>
            <a:ext cx="741672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Из материалов о бунте сложилась «История Пугачева», написанная в Болдине осенью 1833 года. Этот труд Пушкина вышел в 1834 под названием «История Пугачевского бунта», которое дал ему император. Но у Пушкина зрел замысел художественного произведения о пугачёвском восстании 1773–1775 годов. Он возник ещё во время работы над «Дубровским» в 1832 году. План романа о дворянине-отщепенце, оказавшемся в лагере Пугачёва, несколько раз менялся. Это объясняется и тем, что тема, к которой обращался Пушкин, в идейно-политическом плане была острой и сложной. Поэт не мог не думать о цензурных препятствиях, которые предстояло преодолеть. Архивными материалами, рассказами живых пугачёвцев, которые он слышал во время поездки по места восстания 1773–1774 годов, можно было пользоваться с большой осторожностью.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Тема любви в романе А.С. Пушкина «</a:t>
            </a:r>
            <a:r>
              <a:rPr b="1" lang="ru-RU" sz="3600" spc="-1" strike="noStrike">
                <a:solidFill>
                  <a:srgbClr val="f7d47d"/>
                </a:solidFill>
                <a:latin typeface="Arial"/>
              </a:rPr>
              <a:t>Капитанская дочка</a:t>
            </a: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» 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7" name="Picture 4" descr="11"/>
          <p:cNvPicPr/>
          <p:nvPr/>
        </p:nvPicPr>
        <p:blipFill>
          <a:blip r:embed="rId1"/>
          <a:stretch/>
        </p:blipFill>
        <p:spPr>
          <a:xfrm>
            <a:off x="250920" y="1557360"/>
            <a:ext cx="734544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1620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По первоначальному замыслу героем романа должен был стать дворянин, добровольно перешедший на сторону Пугачёва. Прототипом его был подпоручик 2-го гренадерского полка Михаил Шванович (в планах романа Шванвич), который «предпочел гнусную жизнь – честной смерти». Имя его упоминалось в документе «О наказании смертною казнию изменника, бунтовщика и самозванца Пугачёва и его сообщников». Позже Пушкин остановил свой выбор на судьбе другого реального участника пугачёвских событий – Башарине. Башарин был взят в плен Пугачевым, бежал из плена и поступил на службу к одному из усмирителей восстания генералу Михельсону. Несколько раз менялось имя главного героя, пока Пушкин не остановился на фамилии Гринёв. 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032000" y="1598760"/>
            <a:ext cx="36176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В правительственном сообщении о ликвидации пугачёвского восстания и наказании Пугачёва и его сообщников от 10 января 1775 года имя Гринёва числилось среди тех, кто вначале подозревались «в сообщении с злодеями», но «по следствию оказались невинными» и были освобождены из-под ареста. В итоге вместо одного героя-дворянина в романе оказалось два: Гринёву противопоставлен дворянин-изменник, «гнусный злодей» Швабрин, что могло облегчить проведение романа через цензурные преграды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Иллюстрация к «</a:t>
            </a:r>
            <a:r>
              <a:rPr b="1" lang="ru-RU" sz="3600" spc="-1" strike="noStrike">
                <a:solidFill>
                  <a:srgbClr val="f7d47d"/>
                </a:solidFill>
                <a:latin typeface="Arial"/>
              </a:rPr>
              <a:t>Капитанской дочке</a:t>
            </a: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» А.С.Пушкина. 1919 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23640" y="1628280"/>
            <a:ext cx="734364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3" name="Picture 4" descr="01"/>
          <p:cNvPicPr/>
          <p:nvPr/>
        </p:nvPicPr>
        <p:blipFill>
          <a:blip r:embed="rId1"/>
          <a:stretch/>
        </p:blipFill>
        <p:spPr>
          <a:xfrm>
            <a:off x="250920" y="1557360"/>
            <a:ext cx="7343640" cy="460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0T15:45:08Z</dcterms:created>
  <dc:creator>мама</dc:creator>
  <dc:description/>
  <dc:language>en-US</dc:language>
  <cp:lastModifiedBy>User</cp:lastModifiedBy>
  <dcterms:modified xsi:type="dcterms:W3CDTF">2009-12-30T09:46:29Z</dcterms:modified>
  <cp:revision>4</cp:revision>
  <dc:subject/>
  <dc:title>История создания произведения «Капитанская дочка»</dc:title>
</cp:coreProperties>
</file>