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4D9-C56D-439C-AF3B-D18B62C2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04F-353B-4D9C-A60F-72630FC2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2EC-F1FA-4951-BF2A-2D1E8768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743-1A6C-48E6-9D4B-E2383865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347B-AFDF-40F9-8FC0-AD14ABD0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DBFC-279A-4EA7-B755-4932DD7E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CEC1-BB91-46D1-A102-D322E7D2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D980-8C20-41BB-B8B6-B63606E3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8810-3167-4CC1-A7B9-DD7A04DD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17AA-7438-4B06-B028-D745CA01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DD35-73CD-458B-87C9-BD43E08D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F5B-7920-41D3-9295-A0C61EDC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7B8E-411B-4DBE-92F8-7D09B49F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3159-CDF5-43AA-BDBC-97D68B1F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5E2C-C7F8-4209-88ED-509D250B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001A-CCD9-4DB6-89F0-3F1D4C88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8BAB-4AE0-4D05-9530-F2B9B1FF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DBD-61F9-4D84-94C5-E2048C9E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861-98DD-427F-B0C6-BD2D3467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0F6-7FAF-4A42-9F0C-8F8B54A3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24E-4F9D-4022-81BE-6A6C1110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E15-C988-4DDE-BC9A-EA27515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B8A-8A3F-4017-8271-D8072336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E24-A998-48F0-9E3C-25A4FA3D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291C-5B20-44FA-B046-A4717D878E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A70F-1E28-4F91-B7DA-7CDDCCD43C8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создания произведения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Капитанская доч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зентацию подготовила Ольга Балобаева и Неволина Елен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-Т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pushkin"/>
          <p:cNvPicPr/>
          <p:nvPr/>
        </p:nvPicPr>
        <p:blipFill>
          <a:blip r:embed="rId1"/>
          <a:stretch/>
        </p:blipFill>
        <p:spPr>
          <a:xfrm>
            <a:off x="0" y="4365720"/>
            <a:ext cx="2013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ушкин продолжал работать над этим произведением в 1834 году. В 1836 году перерабатывал его. 19 октября 1836 года – дата окончания работы над «Капитанской дочкой». «Капитанская дочка» была напечатана в четвертом номере пушкинского «Современника» в конце декабря 1836 года, за месяц с небольшим до гибели поэ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ллюстрация к повести А.С. Пушкина 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. 1945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4" descr="070431385"/>
          <p:cNvPicPr/>
          <p:nvPr/>
        </p:nvPicPr>
        <p:blipFill>
          <a:blip r:embed="rId1"/>
          <a:stretch/>
        </p:blipFill>
        <p:spPr>
          <a:xfrm>
            <a:off x="250920" y="1628640"/>
            <a:ext cx="741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ов жанр «Капитанской дочки»? Пушкин писал цензору, передавая ему рукопись: «Имя девицы Мироновой вымышленное. Роман мой основан на предании…». Что такое роман, Пушкин объяснял так: «В наше время под словом роман разумеем историческую эпоху, развитую в вымышленном повествовании». То есть Пушкин считал свое произведение историческим романом. И все же «Капитанскую дочку» – небольшое по величине произведение – в литературоведении чаще именуют повесть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середины 1832 года А. С. Пушкин начинает работу над историей восстания под предводительством Емельяна Пугачева. Поэту царем была предоставлена возможность ознакомиться с секретными материалами о восстании и действиях властей по его подавлению. Пушкин обращается к неопубликованным документам из семейных архивов и частных коллекций. В его «Архивных тетрадях» сохранились копии именных указов и писем Пугачева, выписки из донесений о боевых действиях с отрядами Пугачев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ручение письма Екатерине II", на сюжет повести "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4" descr="0123-906"/>
          <p:cNvPicPr/>
          <p:nvPr/>
        </p:nvPicPr>
        <p:blipFill>
          <a:blip r:embed="rId1"/>
          <a:stretch/>
        </p:blipFill>
        <p:spPr>
          <a:xfrm>
            <a:off x="0" y="1844640"/>
            <a:ext cx="705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1833 году Пушкин решает поехать в те места Поволжья и Приуралья, где происходило восстание. Он рассчитывает на встречи с очевидцами этих событий. Получив разрешение императора Николая I, Пушкин выезжает в Казань. «Я в Казани с пятого Здесь я возился со стариками, современниками моего героя; объезжал окрестности города, осматривал места сражений, расспрашивал, записывал и очень доволен, что не напрасно посетил эту сторону», – пишет он жене Наталье Николаевне 8 сентября. Далее поэт направляется в Симбирск и Оренбург, где тоже посещает места боев, встречается с современниками событи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. Художник М.Нестеров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4" descr="40_08"/>
          <p:cNvPicPr/>
          <p:nvPr/>
        </p:nvPicPr>
        <p:blipFill>
          <a:blip r:embed="rId1"/>
          <a:stretch/>
        </p:blipFill>
        <p:spPr>
          <a:xfrm>
            <a:off x="250920" y="1557360"/>
            <a:ext cx="741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з материалов о бунте сложилась «История Пугачева», написанная в Болдине осенью 1833 года. Этот труд Пушкина вышел в 1834 под названием «История Пугачевского бунта», которое дал ему император. Но у Пушкина зрел замысел художественного произведения о пугачёвском восстании 1773–1775 годов. Он возник ещё во время работы над «Дубровским» в 1832 году. План романа о дворянине-отщепенце, оказавшемся в лагере Пугачёва, несколько раз менялся. Это объясняется и тем, что тема, к которой обращался Пушкин, в идейно-политическом плане была острой и сложной. Поэт не мог не думать о цензурных препятствиях, которые предстояло преодолеть. Архивными материалами, рассказами живых пугачёвцев, которые он слышал во время поездки по места восстания 1773–1774 годов, можно было пользоваться с большой осторожност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ма любви в романе А.С. Пушкина 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11"/>
          <p:cNvPicPr/>
          <p:nvPr/>
        </p:nvPicPr>
        <p:blipFill>
          <a:blip r:embed="rId1"/>
          <a:stretch/>
        </p:blipFill>
        <p:spPr>
          <a:xfrm>
            <a:off x="250920" y="1557360"/>
            <a:ext cx="734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 первоначальному замыслу героем романа должен был стать дворянин, добровольно перешедший на сторону Пугачёва. Прототипом его был подпоручик 2-го гренадерского полка Михаил Шванович (в планах романа Шванвич), который «предпочел гнусную жизнь – честной смерти». Имя его упоминалось в документе «О наказании смертною казнию изменника, бунтовщика и самозванца Пугачёва и его сообщников». Позже Пушкин остановил свой выбор на судьбе другого реального участника пугачёвских событий – Башарине. Башарин был взят в плен Пугачевым, бежал из плена и поступил на службу к одному из усмирителей восстания генералу Михельсону. Несколько раз менялось имя главного героя, пока Пушкин не остановился на фамилии Гринёв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правительственном сообщении о ликвидации пугачёвского восстания и наказании Пугачёва и его сообщников от 10 января 1775 года имя Гринёва числилось среди тех, кто вначале подозревались «в сообщении с злодеями», но «по следствию оказались невинными» и были освобождены из-под ареста. В итоге вместо одного героя-дворянина в романе оказалось два: Гринёву противопоставлен дворянин-изменник, «гнусный злодей» Швабрин, что могло облегчить проведение романа через цензурные преград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ллюстрация к 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ой дочке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 А.С.Пушкина. 1919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343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01"/>
          <p:cNvPicPr/>
          <p:nvPr/>
        </p:nvPicPr>
        <p:blipFill>
          <a:blip r:embed="rId1"/>
          <a:stretch/>
        </p:blipFill>
        <p:spPr>
          <a:xfrm>
            <a:off x="250920" y="1557360"/>
            <a:ext cx="7343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5:08Z</dcterms:created>
  <dc:creator>мама</dc:creator>
  <dc:description/>
  <dc:language>en-US</dc:language>
  <cp:lastModifiedBy>User</cp:lastModifiedBy>
  <dcterms:modified xsi:type="dcterms:W3CDTF">2009-12-30T09:46:29Z</dcterms:modified>
  <cp:revision>4</cp:revision>
  <dc:subject/>
  <dc:title>История создания произведения «Капитанская дочка»</dc:title>
</cp:coreProperties>
</file>