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B0B-C1F1-4C89-964F-F48E8976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80D-957D-4704-8B43-E3F2B0C1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945-5C47-4DE8-BC39-960A82C2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3F2-FCE4-45B2-A865-D63D46C8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BBB3-C146-46D8-B1A3-B37BBBB1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5238-9852-492A-9CCC-4FD49716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9F74-BAA4-4500-A918-24C211A7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3F5C-482B-4BAA-B06E-5F7135E6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626F-6AA0-43B9-8C62-CE11B3F8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CD3F-1609-4C06-9F32-2A768236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D97F-9731-40FE-A1C4-39830A4F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90F-9C7F-4526-8ED7-A1C06D2F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49C3-14BC-4F55-A057-CFA3B662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EFD7-CA78-4F06-B35D-4CE2E39A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FBAB-0FA0-4F80-8BBC-AD9C67D8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36B7-594C-419C-989A-5C4002FE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176D-0864-42D7-A5BD-CDAE5C6D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A17-52C6-4D91-842A-43462632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219-F0FB-467F-A043-B4DF2762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DD2-30F8-42FE-A4FF-1CFA0C66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686-886E-4ED3-BCFD-10BD0ADE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839-EEE9-43D3-AC51-535A03C3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FEC-9278-47EE-A1D1-046DD4A9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FA6-255D-4B4F-9939-3F14B868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DB92-8B56-40B3-AE01-7A83937500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BDD9-D21B-48DA-B0AD-D4BF18CFE19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тория создания произведения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Капитанская дочк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зентацию подготовила Ольга Балобаева и Неволина Елен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-Т клас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pushkin"/>
          <p:cNvPicPr/>
          <p:nvPr/>
        </p:nvPicPr>
        <p:blipFill>
          <a:blip r:embed="rId1"/>
          <a:stretch/>
        </p:blipFill>
        <p:spPr>
          <a:xfrm>
            <a:off x="0" y="4365720"/>
            <a:ext cx="2013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ушкин продолжал работать над этим произведением в 1834 году. В 1836 году перерабатывал его. 19 октября 1836 года – дата окончания работы над «Капитанской дочкой». «Капитанская дочка» была напечатана в четвертом номере пушкинского «Современника» в конце декабря 1836 года, за месяц с небольшим до гибели поэт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ллюстрация к повести А.С. Пушкина «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Капитанская дочк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». 1945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4" descr="070431385"/>
          <p:cNvPicPr/>
          <p:nvPr/>
        </p:nvPicPr>
        <p:blipFill>
          <a:blip r:embed="rId1"/>
          <a:stretch/>
        </p:blipFill>
        <p:spPr>
          <a:xfrm>
            <a:off x="250920" y="1628640"/>
            <a:ext cx="741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аков жанр «Капитанской дочки»? Пушкин писал цензору, передавая ему рукопись: «Имя девицы Мироновой вымышленное. Роман мой основан на предании…». Что такое роман, Пушкин объяснял так: «В наше время под словом роман разумеем историческую эпоху, развитую в вымышленном повествовании». То есть Пушкин считал свое произведение историческим романом. И все же «Капитанскую дочку» – небольшое по величине произведение – в литературоведении чаще именуют повестью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 середины 1832 года А. С. Пушкин начинает работу над историей восстания под предводительством Емельяна Пугачева. Поэту царем была предоставлена возможность ознакомиться с секретными материалами о восстании и действиях властей по его подавлению. Пушкин обращается к неопубликованным документам из семейных архивов и частных коллекций. В его «Архивных тетрадях» сохранились копии именных указов и писем Пугачева, выписки из донесений о боевых действиях с отрядами Пугачев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ручение письма Екатерине II", на сюжет повести "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Капитанская дочк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Picture 4" descr="0123-906"/>
          <p:cNvPicPr/>
          <p:nvPr/>
        </p:nvPicPr>
        <p:blipFill>
          <a:blip r:embed="rId1"/>
          <a:stretch/>
        </p:blipFill>
        <p:spPr>
          <a:xfrm>
            <a:off x="0" y="1844640"/>
            <a:ext cx="705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1833 году Пушкин решает поехать в те места Поволжья и Приуралья, где происходило восстание. Он рассчитывает на встречи с очевидцами этих событий. Получив разрешение императора Николая I, Пушкин выезжает в Казань. «Я в Казани с пятого Здесь я возился со стариками, современниками моего героя; объезжал окрестности города, осматривал места сражений, расспрашивал, записывал и очень доволен, что не напрасно посетил эту сторону», – пишет он жене Наталье Николаевне 8 сентября. Далее поэт направляется в Симбирск и Оренбург, где тоже посещает места боев, встречается с современниками событи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Капитанская дочк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». Художник М.Нестеров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4" descr="40_08"/>
          <p:cNvPicPr/>
          <p:nvPr/>
        </p:nvPicPr>
        <p:blipFill>
          <a:blip r:embed="rId1"/>
          <a:stretch/>
        </p:blipFill>
        <p:spPr>
          <a:xfrm>
            <a:off x="250920" y="1557360"/>
            <a:ext cx="7416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з материалов о бунте сложилась «История Пугачева», написанная в Болдине осенью 1833 года. Этот труд Пушкина вышел в 1834 под названием «История Пугачевского бунта», которое дал ему император. Но у Пушкина зрел замысел художественного произведения о пугачёвском восстании 1773–1775 годов. Он возник ещё во время работы над «Дубровским» в 1832 году. План романа о дворянине-отщепенце, оказавшемся в лагере Пугачёва, несколько раз менялся. Это объясняется и тем, что тема, к которой обращался Пушкин, в идейно-политическом плане была острой и сложной. Поэт не мог не думать о цензурных препятствиях, которые предстояло преодолеть. Архивными материалами, рассказами живых пугачёвцев, которые он слышал во время поездки по места восстания 1773–1774 годов, можно было пользоваться с большой осторожностью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ема любви в романе А.С. Пушкина «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Капитанская дочк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»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4" descr="11"/>
          <p:cNvPicPr/>
          <p:nvPr/>
        </p:nvPicPr>
        <p:blipFill>
          <a:blip r:embed="rId1"/>
          <a:stretch/>
        </p:blipFill>
        <p:spPr>
          <a:xfrm>
            <a:off x="250920" y="1557360"/>
            <a:ext cx="734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о первоначальному замыслу героем романа должен был стать дворянин, добровольно перешедший на сторону Пугачёва. Прототипом его был подпоручик 2-го гренадерского полка Михаил Шванович (в планах романа Шванвич), который «предпочел гнусную жизнь – честной смерти». Имя его упоминалось в документе «О наказании смертною казнию изменника, бунтовщика и самозванца Пугачёва и его сообщников». Позже Пушкин остановил свой выбор на судьбе другого реального участника пугачёвских событий – Башарине. Башарин был взят в плен Пугачевым, бежал из плена и поступил на службу к одному из усмирителей восстания генералу Михельсону. Несколько раз менялось имя главного героя, пока Пушкин не остановился на фамилии Гринёв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правительственном сообщении о ликвидации пугачёвского восстания и наказании Пугачёва и его сообщников от 10 января 1775 года имя Гринёва числилось среди тех, кто вначале подозревались «в сообщении с злодеями», но «по следствию оказались невинными» и были освобождены из-под ареста. В итоге вместо одного героя-дворянина в романе оказалось два: Гринёву противопоставлен дворянин-изменник, «гнусный злодей» Швабрин, что могло облегчить проведение романа через цензурные преград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ллюстрация к «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Капитанской дочке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» А.С.Пушкина. 1919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343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4" descr="01"/>
          <p:cNvPicPr/>
          <p:nvPr/>
        </p:nvPicPr>
        <p:blipFill>
          <a:blip r:embed="rId1"/>
          <a:stretch/>
        </p:blipFill>
        <p:spPr>
          <a:xfrm>
            <a:off x="250920" y="1557360"/>
            <a:ext cx="73436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5:45:08Z</dcterms:created>
  <dc:creator>мама</dc:creator>
  <dc:description/>
  <dc:language>en-US</dc:language>
  <cp:lastModifiedBy>User</cp:lastModifiedBy>
  <dcterms:modified xsi:type="dcterms:W3CDTF">2009-12-30T09:46:29Z</dcterms:modified>
  <cp:revision>4</cp:revision>
  <dc:subject/>
  <dc:title>История создания произведения «Капитанская дочка»</dc:title>
</cp:coreProperties>
</file>