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4CB-05AD-4D70-A00E-6707C21B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A92-DD1D-4C49-847A-724DFFB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B02-65C1-459B-B15A-B96728A1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A94-D018-453E-9506-B0E46EFE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3171-A7ED-4E4B-93E4-8491852C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CA1B-AD06-467B-8AEC-537E1A10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CCFA-C6F8-4571-A353-CF0EEA64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EDAB-113F-4C92-AE86-DDD4AF31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59AE-CED1-4185-9EE5-B732FBA3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C23D-A265-42AA-A25B-B6F3040E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ADC6-F41B-4819-A300-12F09A45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128-23FD-4E44-BE36-73DA1F71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3136-DC5D-46D7-86A1-CEA2619D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345-3280-4911-9BB5-FA5D2DFE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56FF-3F66-433E-AF48-1C495DB7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C95E-3225-428E-9F43-AD9406A5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B891-C14F-4C3D-A8E6-583C8739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A6E-39FA-42AB-AAFF-F23AB679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801-69E9-48AD-977B-B157AA59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0D54-C820-45A4-A79F-590CBECE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9B5-4439-4CE0-BCA2-C68B9165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BAE-0BA8-4550-B476-79587F33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6F5-B92B-45AF-A561-3F6A5888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95E-DF4E-4A13-9D91-48DD441F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B10D-4FC9-4FE9-84A0-7C27D35E5E7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B306-FA9B-4A1D-8BA6-C0326183B1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90;&#1086;&#1084;&#1080;&#1103;_&#1089;&#1090;&#1088;&#1072;&#1089;&#1090;&#1080;" TargetMode="External"/><Relationship Id="rId2" Type="http://schemas.openxmlformats.org/officeDocument/2006/relationships/hyperlink" Target="http://ru.wikipedia.org/wiki/&#1056;&#1086;&#1082;_&#1074;_&#1083;&#1077;&#1090;&#1085;&#1077;&#1084;_&#1083;&#1072;&#1075;&#1077;&#1088;&#1077;_2:_&#1054;&#1090;&#1095;&#1105;&#1090;&#1085;&#1099;&#1081;_&#1082;&#1086;&#1085;&#1094;&#1077;&#1088;&#1090;" TargetMode="External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Metro_Station" TargetMode="External"/><Relationship Id="rId2" Type="http://schemas.openxmlformats.org/officeDocument/2006/relationships/hyperlink" Target="http://ru.wikipedia.org/wiki/Metro_Station" TargetMode="External"/><Relationship Id="rId3" Type="http://schemas.openxmlformats.org/officeDocument/2006/relationships/hyperlink" Target="http://ru.wikipedia.org/wiki/Metro_Station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3;&#1083;&#1072;&#1089;" TargetMode="External"/><Relationship Id="rId2" Type="http://schemas.openxmlformats.org/officeDocument/2006/relationships/hyperlink" Target="http://ru.wikipedia.org/wiki/&#1058;&#1077;&#1093;&#1072;&#1089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40;&#1082;&#1090;&#1105;&#1088;" TargetMode="External"/><Relationship Id="rId5" Type="http://schemas.openxmlformats.org/officeDocument/2006/relationships/hyperlink" Target="http://ru.wikipedia.org/wiki/&#1055;&#1077;&#1074;&#1077;&#1094;" TargetMode="External"/><Relationship Id="rId6" Type="http://schemas.openxmlformats.org/officeDocument/2006/relationships/hyperlink" Target="http://ru.wikipedia.org/wiki/&#1057;&#1086;&#1077;&#1076;&#1080;&#1085;&#1105;&#1085;&#1085;&#1099;&#1077;_&#1064;&#1090;&#1072;&#1090;&#1099;_&#1040;&#1084;&#1077;&#1088;&#1080;&#1082;&#1080;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2;&#1090;&#1088;&#1080;&#1089;&#1072;" TargetMode="External"/><Relationship Id="rId2" Type="http://schemas.openxmlformats.org/officeDocument/2006/relationships/hyperlink" Target="http://ru.wikipedia.org/wiki/&#1055;&#1077;&#1074;&#1080;&#1094;&#1072;" TargetMode="External"/><Relationship Id="rId3" Type="http://schemas.openxmlformats.org/officeDocument/2006/relationships/hyperlink" Target="http://ru.wikipedia.org/wiki/Walt_Disney_Pictures" TargetMode="External"/><Relationship Id="rId4" Type="http://schemas.openxmlformats.org/officeDocument/2006/relationships/hyperlink" Target="http://ru.wikipedia.org/wiki/&#1056;&#1086;&#1082;_&#1074;_&#1083;&#1077;&#1090;&#1085;&#1077;&#1084;_&#1083;&#1072;&#1075;&#1077;&#1088;&#1077;" TargetMode="External"/><Relationship Id="rId5" Type="http://schemas.openxmlformats.org/officeDocument/2006/relationships/hyperlink" Target="http://ru.wikipedia.org/wiki/&#1056;&#1086;&#1082;_&#1074;_&#1083;&#1077;&#1090;&#1085;&#1077;&#1084;_&#1083;&#1072;&#1075;&#1077;&#1088;&#1077;_2" TargetMode="External"/><Relationship Id="rId6" Type="http://schemas.openxmlformats.org/officeDocument/2006/relationships/hyperlink" Target="http://ru.wikipedia.org/wiki/Disney_Channel" TargetMode="External"/><Relationship Id="rId7" Type="http://schemas.openxmlformats.org/officeDocument/2006/relationships/hyperlink" Target="http://ru.wikipedia.org/wiki/&#1044;&#1072;&#1081;&#1090;&#1077;_&#1057;&#1072;&#1085;&#1085;&#1080;_&#1096;&#1072;&#1085;&#1089;" TargetMode="External"/><Relationship Id="rId8" Type="http://schemas.openxmlformats.org/officeDocument/2006/relationships/hyperlink" Target="http://ru.wikipedia.org/wiki/&#1044;&#1072;&#1081;&#1090;&#1077;_&#1057;&#1072;&#1085;&#1085;&#1080;_&#1096;&#1072;&#1085;&#1089;" TargetMode="External"/><Relationship Id="rId9" Type="http://schemas.openxmlformats.org/officeDocument/2006/relationships/hyperlink" Target="http://ru.wikipedia.org/wiki/&#1044;&#1072;&#1081;&#1090;&#1077;_&#1057;&#1072;&#1085;&#1085;&#1080;_&#1096;&#1072;&#1085;&#1089;" TargetMode="External"/><Relationship Id="rId10" Type="http://schemas.openxmlformats.org/officeDocument/2006/relationships/hyperlink" Target="http://ru.wikipedia.org/wiki/&#1055;&#1088;&#1086;&#1075;&#1088;&#1072;&#1084;&#1084;&#1072;_&#1079;&#1072;&#1097;&#1080;&#1090;&#1099;_&#1087;&#1088;&#1080;&#1085;&#1094;&#1077;&#1089;&#1089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Don&#8217;t_Forget" TargetMode="External"/><Relationship Id="rId2" Type="http://schemas.openxmlformats.org/officeDocument/2006/relationships/hyperlink" Target="http://ru.wikipedia.org/wiki/Don&#8217;t_Forget" TargetMode="External"/><Relationship Id="rId3" Type="http://schemas.openxmlformats.org/officeDocument/2006/relationships/hyperlink" Target="http://ru.wikipedia.org/wiki/Don&#8217;t_Forget" TargetMode="External"/><Relationship Id="rId4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5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6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7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8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9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10" Type="http://schemas.openxmlformats.org/officeDocument/2006/relationships/hyperlink" Target="http://ru.wikipedia.org/wiki/Here_We_Go_Again_(&#1072;&#1083;&#1100;&#1073;&#1086;&#1084;_&#1044;&#1077;&#1084;&#1080;_&#1051;&#1086;&#1074;&#1072;&#1090;&#1086;)" TargetMode="External"/><Relationship Id="rId11" Type="http://schemas.openxmlformats.org/officeDocument/2006/relationships/hyperlink" Target="http://ru.wikipedia.org/wiki/Billboard_200" TargetMode="External"/><Relationship Id="rId12" Type="http://schemas.openxmlformats.org/officeDocument/2006/relationships/hyperlink" Target="http://ru.wikipedia.org/wiki/Billboard_200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2;&#1083;&#1083;&#1072;&#1089;" TargetMode="External"/><Relationship Id="rId2" Type="http://schemas.openxmlformats.org/officeDocument/2006/relationships/hyperlink" Target="http://ru.wikipedia.org/wiki/&#1058;&#1077;&#1093;&#1072;&#1089;" TargetMode="External"/><Relationship Id="rId3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4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5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6" Type="http://schemas.openxmlformats.org/officeDocument/2006/relationships/hyperlink" Target="http://ru.wikipedia.org/wiki/&#1044;&#1077;_&#1051;&#1072;_&#1043;&#1072;&#1088;&#1079;&#1072;,_&#1052;&#1077;&#1076;&#1080;&#1089;&#1086;&#1085;" TargetMode="External"/><Relationship Id="rId7" Type="http://schemas.openxmlformats.org/officeDocument/2006/relationships/hyperlink" Target="http://ru.wikipedia.org/wiki/&#1050;&#1072;&#1085;&#1090;&#1088;&#1080;" TargetMode="External"/><Relationship Id="rId8" Type="http://schemas.openxmlformats.org/officeDocument/2006/relationships/hyperlink" Target="http://ru.wikipedia.org/wiki/&#1053;&#1100;&#1102;-&#1052;&#1077;&#1082;&#1089;&#1080;&#1082;&#1086;" TargetMode="External"/><Relationship Id="rId9" Type="http://schemas.openxmlformats.org/officeDocument/2006/relationships/hyperlink" Target="http://ru.wikipedia.org/wiki/1994_&#1075;&#1086;&#1076;" TargetMode="External"/><Relationship Id="rId10" Type="http://schemas.openxmlformats.org/officeDocument/2006/relationships/hyperlink" Target="http://ru.wikipedia.org/wiki/&#1069;&#1082;&#1089;&#1090;&#1077;&#1088;&#1085;" TargetMode="External"/><Relationship Id="rId11" Type="http://schemas.openxmlformats.org/officeDocument/2006/relationships/hyperlink" Target="http://ru.wikipedia.org/wiki/&#1055;&#1080;&#1072;&#1085;&#1080;&#1085;&#1086;" TargetMode="External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8;&#1085;&#1080;_&#1080;_&#1076;&#1088;&#1091;&#1079;&#1100;&#1103;" TargetMode="External"/><Relationship Id="rId2" Type="http://schemas.openxmlformats.org/officeDocument/2006/relationships/hyperlink" Target="http://ru.wikipedia.org/wiki/&#1041;&#1072;&#1088;&#1085;&#1080;_&#1080;_&#1076;&#1088;&#1091;&#1079;&#1100;&#1103;" TargetMode="External"/><Relationship Id="rId3" Type="http://schemas.openxmlformats.org/officeDocument/2006/relationships/hyperlink" Target="http://ru.wikipedia.org/wiki/&#1055;&#1086;&#1073;&#1077;&#1075;_(&#1090;&#1077;&#1083;&#1077;&#1089;&#1077;&#1088;&#1080;&#1072;&#1083;,_&#1057;&#1064;&#1040;)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7;&#1074;&#1086;&#1085;_&#1082;&#1086;&#1083;&#1086;&#1082;&#1086;&#1083;&#1100;&#1095;&#1080;&#1082;&#1086;&#1074;&amp;action=edit&amp;redlink=1" TargetMode="External"/><Relationship Id="rId2" Type="http://schemas.openxmlformats.org/officeDocument/2006/relationships/hyperlink" Target="http://en.wikipedia.org/wiki/As_the_Bell_Rings_(United_States)" TargetMode="External"/><Relationship Id="rId3" Type="http://schemas.openxmlformats.org/officeDocument/2006/relationships/hyperlink" Target="http://ru.wikipedia.org/w/index.php?title=&#1055;&#1088;&#1086;&#1089;&#1090;&#1086;_&#1044;&#1078;&#1086;&#1088;&#1076;&#1072;&#1085;&amp;action=edit&amp;redlink=1" TargetMode="External"/><Relationship Id="rId4" Type="http://schemas.openxmlformats.org/officeDocument/2006/relationships/hyperlink" Target="http://ru.wikipedia.org/w/index.php?title=&#1055;&#1088;&#1086;&#1089;&#1090;&#1086;_&#1044;&#1078;&#1086;&#1088;&#1076;&#1072;&#1085;&amp;action=edit&amp;redlink=1" TargetMode="External"/><Relationship Id="rId5" Type="http://schemas.openxmlformats.org/officeDocument/2006/relationships/hyperlink" Target="http://en.wikipedia.org/wiki/Just_Jordan" TargetMode="External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2;_&#1074;_&#1083;&#1077;&#1090;&#1085;&#1077;&#1084;_&#1083;&#1072;&#1075;&#1077;&#1088;&#1077;" TargetMode="Externa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75;&#1088;&#1072;&#1084;&#1084;&#1072;_&#1079;&#1072;&#1097;&#1080;&#1090;&#1099;_&#1087;&#1088;&#1080;&#1085;&#1094;&#1077;&#1089;&#1089;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 Black"/>
              </a:rPr>
              <a:t>Деметрия Девонн Ловато.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41560" y="2031840"/>
            <a:ext cx="6865920" cy="4061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10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Анатомия страсти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Grey's Anatomy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Хейли Мэй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10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Рок в летнем лагере 2: Отчётный концерт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Camp Rock 2: The Final Jam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итчи Торрес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009-2011 г. </a:t>
            </a:r>
            <a:br>
              <a:rPr sz="3200"/>
            </a:br>
            <a:r>
              <a:rPr b="0" lang="ru-RU" sz="32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«Дайте Санни шанс»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i="1" lang="ru-RU" sz="3200" spc="-1" strike="noStrike">
                <a:solidFill>
                  <a:srgbClr val="ffcc00"/>
                </a:solidFill>
                <a:latin typeface="Arial Black"/>
              </a:rPr>
              <a:t>Sonny with a Chance»</a:t>
            </a:r>
            <a:br>
              <a:rPr sz="3200"/>
            </a:br>
            <a:r>
              <a:rPr b="0" i="1" lang="ru-RU" sz="32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анни Монр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 кем встречалась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екоторое время Деми встречалась с гитаристом группы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Metro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Station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Трейсом Сайрусом (старший брат Майли Сайрус), однако отношения не сложились из-за несоответствия расписаний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2010 году Деми начала встречаться с Джо Джонасом, с которым вместе снималась в фильме «Рок в летнем лагере». 24 мая 2010 года она объявила на публике, что они больше не вместе. В интервью Джо Джонас заявил, что расставание было его инициативой, но Деми всегда была рядом с ним и останется для него хорошим друго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2011 году Деми возобновила свои прошлые отношения с Уилмерром Валдерамм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оточки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849240" y="1981080"/>
            <a:ext cx="3481560" cy="4114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124600" y="2305080"/>
            <a:ext cx="285732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4068720" cy="3052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932360" y="270684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321440" cy="3241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788000" y="2616120"/>
            <a:ext cx="435600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Татуировки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71560" y="1981080"/>
            <a:ext cx="3438360" cy="198144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. Надпись на запястях рук "Stay Strong" ( по одному слову на запястье), что переводится как "Будь сильной". 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242100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. Крест на руке скорее всего символ того, что Деми религиозный человек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086280" y="1981080"/>
            <a:ext cx="297180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3. Слово "Faith" на руке, что переводится как "Судьба"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773440" cy="2773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иограф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Родилась: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 u="sng">
                <a:solidFill>
                  <a:srgbClr val="cc3399"/>
                </a:solidFill>
                <a:uFillTx/>
                <a:latin typeface="Arial Black"/>
              </a:rPr>
              <a:t>20 августа 1992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Место рождения: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Даллас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,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Техас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,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США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Профессия: </a:t>
            </a: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актриса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,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певица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Гражданство: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 </a:t>
            </a:r>
            <a:r>
              <a:rPr b="0" lang="en-US" sz="36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СШ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" descr="Demi Lovato Signature.png"/>
          <p:cNvPicPr/>
          <p:nvPr/>
        </p:nvPicPr>
        <p:blipFill>
          <a:blip r:embed="rId7"/>
          <a:stretch/>
        </p:blipFill>
        <p:spPr>
          <a:xfrm>
            <a:off x="155520" y="46080"/>
            <a:ext cx="20955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4. Надпись на боку "You make me beutifull", переводится как "Ты делаешь меня красивой"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71640" y="981000"/>
            <a:ext cx="3625920" cy="271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. Перышко, ну у него я думаю нет особого значения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635280" y="1981080"/>
            <a:ext cx="187164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. И губы на руке, не думаю что у них какой-то особенный смысл есть. 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251160" y="1981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ажная Информац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"Концерт Деми пройдёт 27 марта в 20:00 в Крокус Сити Холл,город Москва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мериканская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актрис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и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певица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 Она получила известность благодаря роли 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итчи Торрес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в фильме компании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Дисней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Рок в летнем лагере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 и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Рок в летнем лагере 2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. Также она играла главную роль в сериале 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канала Дисней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 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Дайте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Санни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 шанс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. В 2009 году Деми сыграла главную роль в фильме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Программа защиты принцесс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. Также она сыграла небольшую роль в сериале «</a:t>
            </a:r>
            <a:r>
              <a:rPr b="0" lang="ru-RU" sz="2800" spc="-1" strike="noStrike" u="sng">
                <a:solidFill>
                  <a:srgbClr val="cc3399"/>
                </a:solidFill>
                <a:uFillTx/>
                <a:latin typeface="Arial Black"/>
              </a:rPr>
              <a:t>Барни и друзья»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ак певица, Деми выпустила альбом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Don’t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Forget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23 сентября 2008 года. Он занял второе место в списке </a:t>
            </a:r>
            <a:r>
              <a:rPr b="0" lang="ru-RU" sz="2400" spc="-1" strike="noStrike" u="sng">
                <a:solidFill>
                  <a:srgbClr val="cc3399"/>
                </a:solidFill>
                <a:uFillTx/>
                <a:latin typeface="Arial Black"/>
              </a:rPr>
              <a:t>Billboard 200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В первую неделю было продано 89 000 копий. После этого было продано около 473 000 пластинок. В интервью Ловато сказала, что альбом был записан за 10 дней. 21 июля 2009 вышел второй её альбом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Here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We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Go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Again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В первую неделю было продано 108 000 копий, альбом занял первое место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Billboard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2"/>
              </a:rPr>
              <a:t> 200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анняя жизнь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еми Ловато родилась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Далласе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,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Техас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в семье Патрика Ловато и Дианны Харт Де Ла Гарца. У неё мексиканские корни от отца и ирландские и итальянские — от матери. У неё есть старшая сестра Даллас Ловато и младшая сводная сестра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Мэдисон Де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Ла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Гарс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Её мать была чирлидершей </a:t>
            </a:r>
            <a:r>
              <a:rPr b="0" i="1" lang="ru-RU" sz="2400" spc="-1" strike="noStrike" u="sng">
                <a:solidFill>
                  <a:srgbClr val="cc3399"/>
                </a:solidFill>
                <a:uFillTx/>
                <a:latin typeface="Arial Black"/>
              </a:rPr>
              <a:t>Dallas Cowboys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и певицей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кантри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Её отец переехал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Нью-Мексико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после развода в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1994 году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Деми получила диплом старшей школы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экстерном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. Играть на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пианино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она начала в 7 лет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ильмография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4 г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Барни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 и друзья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«Barney &amp; Friends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нжел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6 г. 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Побег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   «Prison Break»  </a:t>
            </a:r>
            <a:r>
              <a:rPr b="0" i="1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Даниелла Карт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7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Звон колокольчиков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англ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As the Bell Rings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Шарлотта Адамс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7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Просто 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Джордан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 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англ.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Just Jordan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    </a:t>
            </a:r>
            <a:r>
              <a:rPr b="0" i="1" lang="ru-RU" sz="2400" spc="-1" strike="noStrike">
                <a:solidFill>
                  <a:srgbClr val="33cc33"/>
                </a:solidFill>
                <a:latin typeface="Arial Black"/>
              </a:rPr>
              <a:t>Роль: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ико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8 г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Рок в летнем лагере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»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«Camp Rock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итчи Торре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009 г.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br>
              <a:rPr sz="2800"/>
            </a:b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«</a:t>
            </a: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Barney: Top 20 Countdown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33cc33"/>
                </a:solidFill>
                <a:latin typeface="Arial Black"/>
              </a:rPr>
              <a:t>Роль: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нжел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9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усск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Программа защиты принцесс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«Princess Protection Program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Роль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инцесса Розалинда / Роз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2008-2010 г.</a:t>
            </a:r>
            <a:br>
              <a:rPr sz="2400"/>
            </a:br>
            <a:r>
              <a:rPr b="0" lang="ru-RU" sz="2400" spc="-1" strike="noStrike">
                <a:solidFill>
                  <a:srgbClr val="33cc33"/>
                </a:solidFill>
                <a:latin typeface="Arial Black"/>
              </a:rPr>
              <a:t>Оригинальное название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0" i="1" lang="ru-RU" sz="2400" spc="-1" strike="noStrike">
                <a:solidFill>
                  <a:srgbClr val="ffcc00"/>
                </a:solidFill>
                <a:latin typeface="Arial Black"/>
              </a:rPr>
              <a:t>Disney 365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0:23:11Z</dcterms:created>
  <dc:creator>admin</dc:creator>
  <dc:description/>
  <dc:language>en-US</dc:language>
  <cp:lastModifiedBy>admin</cp:lastModifiedBy>
  <dcterms:modified xsi:type="dcterms:W3CDTF">2013-03-24T14:46:34Z</dcterms:modified>
  <cp:revision>3</cp:revision>
  <dc:subject/>
  <dc:title>Деметрия Девонн Ловато. </dc:title>
</cp:coreProperties>
</file>