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4993-460C-4006-AA64-21DBD531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DAB7-7388-4495-9BB5-F271FE59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4B74-1171-4474-91FF-465B1849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07B-53DA-4D15-93DD-DB7A6221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D868-F578-45D2-868A-CECBDAB9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56BC-E208-4C94-B3D7-7B0B0E7C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8773-7FF2-4196-B7F9-B965BD2F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A80E-E51D-4DF1-9899-7718F16B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EEC6-FD14-4720-8E77-C69A4AFD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BFE2-5489-4D92-B4DB-315D1152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1253-E330-4D77-838C-E5E3B04F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DDD3-731A-4845-9BF3-BF8F3ACF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B25C-371A-4D8B-9CD8-9A3B17E0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3A56-FB52-46F4-ADD4-9E6ED4FA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44A0-F1F5-4239-A0D5-83E58B99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EE3C-87EA-463A-90A1-668C0923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24F5-9A01-47ED-87F4-225F848B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62F9-24B9-4D31-8701-CD66C50D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5AF6-F0F1-49DD-A7B6-196F2DB9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C275-F794-4834-8AA7-25938D1F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1291-5C7F-4A63-90A1-C1F81E4D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420C-760E-4FDF-AB7C-ABD023DB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A850-BC9C-49EC-BEE9-A9A60597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F754-4A5A-49C5-951C-FC6B80EC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99DD-CBCC-4923-917F-4860E4AB19D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F5B0-D90C-4A75-83A2-CD5270CBDD2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2;&#1090;&#1086;&#1084;&#1080;&#1103;_&#1089;&#1090;&#1088;&#1072;&#1089;&#1090;&#1080;" TargetMode="External"/><Relationship Id="rId2" Type="http://schemas.openxmlformats.org/officeDocument/2006/relationships/hyperlink" Target="http://ru.wikipedia.org/wiki/&#1056;&#1086;&#1082;_&#1074;_&#1083;&#1077;&#1090;&#1085;&#1077;&#1084;_&#1083;&#1072;&#1075;&#1077;&#1088;&#1077;_2:_&#1054;&#1090;&#1095;&#1105;&#1090;&#1085;&#1099;&#1081;_&#1082;&#1086;&#1085;&#1094;&#1077;&#1088;&#1090;" TargetMode="External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Metro_Station" TargetMode="External"/><Relationship Id="rId2" Type="http://schemas.openxmlformats.org/officeDocument/2006/relationships/hyperlink" Target="http://ru.wikipedia.org/wiki/Metro_Station" TargetMode="External"/><Relationship Id="rId3" Type="http://schemas.openxmlformats.org/officeDocument/2006/relationships/hyperlink" Target="http://ru.wikipedia.org/wiki/Metro_Station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2;&#1083;&#1083;&#1072;&#1089;" TargetMode="External"/><Relationship Id="rId2" Type="http://schemas.openxmlformats.org/officeDocument/2006/relationships/hyperlink" Target="http://ru.wikipedia.org/wiki/&#1058;&#1077;&#1093;&#1072;&#1089;" TargetMode="External"/><Relationship Id="rId3" Type="http://schemas.openxmlformats.org/officeDocument/2006/relationships/hyperlink" Target="http://ru.wikipedia.org/wiki/&#1057;&#1064;&#1040;" TargetMode="External"/><Relationship Id="rId4" Type="http://schemas.openxmlformats.org/officeDocument/2006/relationships/hyperlink" Target="http://ru.wikipedia.org/wiki/&#1040;&#1082;&#1090;&#1105;&#1088;" TargetMode="External"/><Relationship Id="rId5" Type="http://schemas.openxmlformats.org/officeDocument/2006/relationships/hyperlink" Target="http://ru.wikipedia.org/wiki/&#1055;&#1077;&#1074;&#1077;&#1094;" TargetMode="External"/><Relationship Id="rId6" Type="http://schemas.openxmlformats.org/officeDocument/2006/relationships/hyperlink" Target="http://ru.wikipedia.org/wiki/&#1057;&#1086;&#1077;&#1076;&#1080;&#1085;&#1105;&#1085;&#1085;&#1099;&#1077;_&#1064;&#1090;&#1072;&#1090;&#1099;_&#1040;&#1084;&#1077;&#1088;&#1080;&#1082;&#1080;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2;&#1090;&#1088;&#1080;&#1089;&#1072;" TargetMode="External"/><Relationship Id="rId2" Type="http://schemas.openxmlformats.org/officeDocument/2006/relationships/hyperlink" Target="http://ru.wikipedia.org/wiki/&#1055;&#1077;&#1074;&#1080;&#1094;&#1072;" TargetMode="External"/><Relationship Id="rId3" Type="http://schemas.openxmlformats.org/officeDocument/2006/relationships/hyperlink" Target="http://ru.wikipedia.org/wiki/Walt_Disney_Pictures" TargetMode="External"/><Relationship Id="rId4" Type="http://schemas.openxmlformats.org/officeDocument/2006/relationships/hyperlink" Target="http://ru.wikipedia.org/wiki/&#1056;&#1086;&#1082;_&#1074;_&#1083;&#1077;&#1090;&#1085;&#1077;&#1084;_&#1083;&#1072;&#1075;&#1077;&#1088;&#1077;" TargetMode="External"/><Relationship Id="rId5" Type="http://schemas.openxmlformats.org/officeDocument/2006/relationships/hyperlink" Target="http://ru.wikipedia.org/wiki/&#1056;&#1086;&#1082;_&#1074;_&#1083;&#1077;&#1090;&#1085;&#1077;&#1084;_&#1083;&#1072;&#1075;&#1077;&#1088;&#1077;_2" TargetMode="External"/><Relationship Id="rId6" Type="http://schemas.openxmlformats.org/officeDocument/2006/relationships/hyperlink" Target="http://ru.wikipedia.org/wiki/Disney_Channel" TargetMode="External"/><Relationship Id="rId7" Type="http://schemas.openxmlformats.org/officeDocument/2006/relationships/hyperlink" Target="http://ru.wikipedia.org/wiki/&#1044;&#1072;&#1081;&#1090;&#1077;_&#1057;&#1072;&#1085;&#1085;&#1080;_&#1096;&#1072;&#1085;&#1089;" TargetMode="External"/><Relationship Id="rId8" Type="http://schemas.openxmlformats.org/officeDocument/2006/relationships/hyperlink" Target="http://ru.wikipedia.org/wiki/&#1044;&#1072;&#1081;&#1090;&#1077;_&#1057;&#1072;&#1085;&#1085;&#1080;_&#1096;&#1072;&#1085;&#1089;" TargetMode="External"/><Relationship Id="rId9" Type="http://schemas.openxmlformats.org/officeDocument/2006/relationships/hyperlink" Target="http://ru.wikipedia.org/wiki/&#1044;&#1072;&#1081;&#1090;&#1077;_&#1057;&#1072;&#1085;&#1085;&#1080;_&#1096;&#1072;&#1085;&#1089;" TargetMode="External"/><Relationship Id="rId10" Type="http://schemas.openxmlformats.org/officeDocument/2006/relationships/hyperlink" Target="http://ru.wikipedia.org/wiki/&#1055;&#1088;&#1086;&#1075;&#1088;&#1072;&#1084;&#1084;&#1072;_&#1079;&#1072;&#1097;&#1080;&#1090;&#1099;_&#1087;&#1088;&#1080;&#1085;&#1094;&#1077;&#1089;&#1089;" TargetMode="Externa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Don&#8217;t_Forget" TargetMode="External"/><Relationship Id="rId2" Type="http://schemas.openxmlformats.org/officeDocument/2006/relationships/hyperlink" Target="http://ru.wikipedia.org/wiki/Don&#8217;t_Forget" TargetMode="External"/><Relationship Id="rId3" Type="http://schemas.openxmlformats.org/officeDocument/2006/relationships/hyperlink" Target="http://ru.wikipedia.org/wiki/Don&#8217;t_Forget" TargetMode="External"/><Relationship Id="rId4" Type="http://schemas.openxmlformats.org/officeDocument/2006/relationships/hyperlink" Target="http://ru.wikipedia.org/wiki/Here_We_Go_Again_(&#1072;&#1083;&#1100;&#1073;&#1086;&#1084;_&#1044;&#1077;&#1084;&#1080;_&#1051;&#1086;&#1074;&#1072;&#1090;&#1086;)" TargetMode="External"/><Relationship Id="rId5" Type="http://schemas.openxmlformats.org/officeDocument/2006/relationships/hyperlink" Target="http://ru.wikipedia.org/wiki/Here_We_Go_Again_(&#1072;&#1083;&#1100;&#1073;&#1086;&#1084;_&#1044;&#1077;&#1084;&#1080;_&#1051;&#1086;&#1074;&#1072;&#1090;&#1086;)" TargetMode="External"/><Relationship Id="rId6" Type="http://schemas.openxmlformats.org/officeDocument/2006/relationships/hyperlink" Target="http://ru.wikipedia.org/wiki/Here_We_Go_Again_(&#1072;&#1083;&#1100;&#1073;&#1086;&#1084;_&#1044;&#1077;&#1084;&#1080;_&#1051;&#1086;&#1074;&#1072;&#1090;&#1086;)" TargetMode="External"/><Relationship Id="rId7" Type="http://schemas.openxmlformats.org/officeDocument/2006/relationships/hyperlink" Target="http://ru.wikipedia.org/wiki/Here_We_Go_Again_(&#1072;&#1083;&#1100;&#1073;&#1086;&#1084;_&#1044;&#1077;&#1084;&#1080;_&#1051;&#1086;&#1074;&#1072;&#1090;&#1086;)" TargetMode="External"/><Relationship Id="rId8" Type="http://schemas.openxmlformats.org/officeDocument/2006/relationships/hyperlink" Target="http://ru.wikipedia.org/wiki/Here_We_Go_Again_(&#1072;&#1083;&#1100;&#1073;&#1086;&#1084;_&#1044;&#1077;&#1084;&#1080;_&#1051;&#1086;&#1074;&#1072;&#1090;&#1086;)" TargetMode="External"/><Relationship Id="rId9" Type="http://schemas.openxmlformats.org/officeDocument/2006/relationships/hyperlink" Target="http://ru.wikipedia.org/wiki/Here_We_Go_Again_(&#1072;&#1083;&#1100;&#1073;&#1086;&#1084;_&#1044;&#1077;&#1084;&#1080;_&#1051;&#1086;&#1074;&#1072;&#1090;&#1086;)" TargetMode="External"/><Relationship Id="rId10" Type="http://schemas.openxmlformats.org/officeDocument/2006/relationships/hyperlink" Target="http://ru.wikipedia.org/wiki/Here_We_Go_Again_(&#1072;&#1083;&#1100;&#1073;&#1086;&#1084;_&#1044;&#1077;&#1084;&#1080;_&#1051;&#1086;&#1074;&#1072;&#1090;&#1086;)" TargetMode="External"/><Relationship Id="rId11" Type="http://schemas.openxmlformats.org/officeDocument/2006/relationships/hyperlink" Target="http://ru.wikipedia.org/wiki/Billboard_200" TargetMode="External"/><Relationship Id="rId12" Type="http://schemas.openxmlformats.org/officeDocument/2006/relationships/hyperlink" Target="http://ru.wikipedia.org/wiki/Billboard_200" TargetMode="External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2;&#1083;&#1083;&#1072;&#1089;" TargetMode="External"/><Relationship Id="rId2" Type="http://schemas.openxmlformats.org/officeDocument/2006/relationships/hyperlink" Target="http://ru.wikipedia.org/wiki/&#1058;&#1077;&#1093;&#1072;&#1089;" TargetMode="External"/><Relationship Id="rId3" Type="http://schemas.openxmlformats.org/officeDocument/2006/relationships/hyperlink" Target="http://ru.wikipedia.org/wiki/&#1044;&#1077;_&#1051;&#1072;_&#1043;&#1072;&#1088;&#1079;&#1072;,_&#1052;&#1077;&#1076;&#1080;&#1089;&#1086;&#1085;" TargetMode="External"/><Relationship Id="rId4" Type="http://schemas.openxmlformats.org/officeDocument/2006/relationships/hyperlink" Target="http://ru.wikipedia.org/wiki/&#1044;&#1077;_&#1051;&#1072;_&#1043;&#1072;&#1088;&#1079;&#1072;,_&#1052;&#1077;&#1076;&#1080;&#1089;&#1086;&#1085;" TargetMode="External"/><Relationship Id="rId5" Type="http://schemas.openxmlformats.org/officeDocument/2006/relationships/hyperlink" Target="http://ru.wikipedia.org/wiki/&#1044;&#1077;_&#1051;&#1072;_&#1043;&#1072;&#1088;&#1079;&#1072;,_&#1052;&#1077;&#1076;&#1080;&#1089;&#1086;&#1085;" TargetMode="External"/><Relationship Id="rId6" Type="http://schemas.openxmlformats.org/officeDocument/2006/relationships/hyperlink" Target="http://ru.wikipedia.org/wiki/&#1044;&#1077;_&#1051;&#1072;_&#1043;&#1072;&#1088;&#1079;&#1072;,_&#1052;&#1077;&#1076;&#1080;&#1089;&#1086;&#1085;" TargetMode="External"/><Relationship Id="rId7" Type="http://schemas.openxmlformats.org/officeDocument/2006/relationships/hyperlink" Target="http://ru.wikipedia.org/wiki/&#1050;&#1072;&#1085;&#1090;&#1088;&#1080;" TargetMode="External"/><Relationship Id="rId8" Type="http://schemas.openxmlformats.org/officeDocument/2006/relationships/hyperlink" Target="http://ru.wikipedia.org/wiki/&#1053;&#1100;&#1102;-&#1052;&#1077;&#1082;&#1089;&#1080;&#1082;&#1086;" TargetMode="External"/><Relationship Id="rId9" Type="http://schemas.openxmlformats.org/officeDocument/2006/relationships/hyperlink" Target="http://ru.wikipedia.org/wiki/1994_&#1075;&#1086;&#1076;" TargetMode="External"/><Relationship Id="rId10" Type="http://schemas.openxmlformats.org/officeDocument/2006/relationships/hyperlink" Target="http://ru.wikipedia.org/wiki/&#1069;&#1082;&#1089;&#1090;&#1077;&#1088;&#1085;" TargetMode="External"/><Relationship Id="rId11" Type="http://schemas.openxmlformats.org/officeDocument/2006/relationships/hyperlink" Target="http://ru.wikipedia.org/wiki/&#1055;&#1080;&#1072;&#1085;&#1080;&#1085;&#1086;" TargetMode="External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2;&#1088;&#1085;&#1080;_&#1080;_&#1076;&#1088;&#1091;&#1079;&#1100;&#1103;" TargetMode="External"/><Relationship Id="rId2" Type="http://schemas.openxmlformats.org/officeDocument/2006/relationships/hyperlink" Target="http://ru.wikipedia.org/wiki/&#1041;&#1072;&#1088;&#1085;&#1080;_&#1080;_&#1076;&#1088;&#1091;&#1079;&#1100;&#1103;" TargetMode="External"/><Relationship Id="rId3" Type="http://schemas.openxmlformats.org/officeDocument/2006/relationships/hyperlink" Target="http://ru.wikipedia.org/wiki/&#1055;&#1086;&#1073;&#1077;&#1075;_(&#1090;&#1077;&#1083;&#1077;&#1089;&#1077;&#1088;&#1080;&#1072;&#1083;,_&#1057;&#1064;&#1040;)" TargetMode="External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7;&#1074;&#1086;&#1085;_&#1082;&#1086;&#1083;&#1086;&#1082;&#1086;&#1083;&#1100;&#1095;&#1080;&#1082;&#1086;&#1074;&amp;action=edit&amp;redlink=1" TargetMode="External"/><Relationship Id="rId2" Type="http://schemas.openxmlformats.org/officeDocument/2006/relationships/hyperlink" Target="http://en.wikipedia.org/wiki/As_the_Bell_Rings_(United_States)" TargetMode="External"/><Relationship Id="rId3" Type="http://schemas.openxmlformats.org/officeDocument/2006/relationships/hyperlink" Target="http://ru.wikipedia.org/w/index.php?title=&#1055;&#1088;&#1086;&#1089;&#1090;&#1086;_&#1044;&#1078;&#1086;&#1088;&#1076;&#1072;&#1085;&amp;action=edit&amp;redlink=1" TargetMode="External"/><Relationship Id="rId4" Type="http://schemas.openxmlformats.org/officeDocument/2006/relationships/hyperlink" Target="http://ru.wikipedia.org/w/index.php?title=&#1055;&#1088;&#1086;&#1089;&#1090;&#1086;_&#1044;&#1078;&#1086;&#1088;&#1076;&#1072;&#1085;&amp;action=edit&amp;redlink=1" TargetMode="External"/><Relationship Id="rId5" Type="http://schemas.openxmlformats.org/officeDocument/2006/relationships/hyperlink" Target="http://en.wikipedia.org/wiki/Just_Jordan" TargetMode="External"/><Relationship Id="rId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82;_&#1074;_&#1083;&#1077;&#1090;&#1085;&#1077;&#1084;_&#1083;&#1072;&#1075;&#1077;&#1088;&#1077;" TargetMode="External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86;&#1075;&#1088;&#1072;&#1084;&#1084;&#1072;_&#1079;&#1072;&#1097;&#1080;&#1090;&#1099;_&#1087;&#1088;&#1080;&#1085;&#1094;&#1077;&#1089;&#1089;" TargetMode="External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 Black"/>
              </a:rPr>
              <a:t>Деметрия Девонн Ловато.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141560" y="2031840"/>
            <a:ext cx="6865920" cy="4061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2010 г.</a:t>
            </a: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Русское название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Анатомия страсти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i="1" lang="ru-RU" sz="24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«Grey's Anatomy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i="1" lang="ru-RU" sz="2400" spc="-1" strike="noStrike">
                <a:solidFill>
                  <a:srgbClr val="33cc33"/>
                </a:solidFill>
                <a:latin typeface="Arial Black"/>
              </a:rPr>
              <a:t>Роль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Хейли Мэй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2010 г.</a:t>
            </a: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Русское название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Рок в летнем лагере 2: Отчётный концерт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«Camp Rock 2: The Final Jam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Роль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итчи Торрес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2009-2011 г. </a:t>
            </a:r>
            <a:br>
              <a:rPr sz="3200"/>
            </a:br>
            <a:r>
              <a:rPr b="0" lang="ru-RU" sz="3200" spc="-1" strike="noStrike">
                <a:solidFill>
                  <a:srgbClr val="33cc33"/>
                </a:solidFill>
                <a:latin typeface="Arial Black"/>
              </a:rPr>
              <a:t>Русское название: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«Дайте Санни шанс»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0" i="1" lang="ru-RU" sz="3200" spc="-1" strike="noStrike">
                <a:solidFill>
                  <a:srgbClr val="ffcc00"/>
                </a:solidFill>
                <a:latin typeface="Arial Black"/>
              </a:rPr>
              <a:t>Sonny with a Chance»</a:t>
            </a:r>
            <a:br>
              <a:rPr sz="3200"/>
            </a:br>
            <a:r>
              <a:rPr b="0" i="1" lang="ru-RU" sz="3200" spc="-1" strike="noStrike">
                <a:solidFill>
                  <a:srgbClr val="33cc33"/>
                </a:solidFill>
                <a:latin typeface="Arial Black"/>
              </a:rPr>
              <a:t>Роль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Санни Монро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 кем встречалась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Некоторое время Деми встречалась с гитаристом группы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Metro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Station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 Трейсом Сайрусом (старший брат Майли Сайрус), однако отношения не сложились из-за несоответствия расписаний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2010 году Деми начала встречаться с Джо Джонасом, с которым вместе снималась в фильме «Рок в летнем лагере». 24 мая 2010 года она объявила на публике, что они больше не вместе. В интервью Джо Джонас заявил, что расставание было его инициативой, но Деми всегда была рядом с ним и останется для него хорошим другом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2011 году Деми возобновила свои прошлые отношения с Уилмерром Валдерамм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Фоточки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849240" y="1981080"/>
            <a:ext cx="3481560" cy="41148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3200400" cy="41148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5124600" y="2305080"/>
            <a:ext cx="2857320" cy="3467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4068720" cy="30528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4932360" y="2706840"/>
            <a:ext cx="396072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4321440" cy="32418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788000" y="2616120"/>
            <a:ext cx="4356000" cy="3173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Татуировки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871560" y="1981080"/>
            <a:ext cx="3438360" cy="198144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1. Надпись на запястях рук "Stay Strong" ( по одному слову на запястье), что переводится как "Будь сильной". 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580000" y="1916280"/>
            <a:ext cx="2421000" cy="1922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2. Крест на руке скорее всего символ того, что Деми религиозный человек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086280" y="1981080"/>
            <a:ext cx="2971800" cy="1981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3. Слово "Faith" на руке, что переводится как "Судьба". 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132000" y="1197000"/>
            <a:ext cx="2773440" cy="2773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Биография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 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Родилась: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600" spc="-1" strike="noStrike" u="sng">
                <a:solidFill>
                  <a:srgbClr val="cc3399"/>
                </a:solidFill>
                <a:uFillTx/>
                <a:latin typeface="Arial Black"/>
              </a:rPr>
              <a:t>20 августа 1992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Место рождения: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36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Даллас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 Black"/>
              </a:rPr>
              <a:t>, </a:t>
            </a:r>
            <a:r>
              <a:rPr b="0" lang="en-US" sz="36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Техас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 Black"/>
              </a:rPr>
              <a:t>, </a:t>
            </a:r>
            <a:r>
              <a:rPr b="0" lang="en-US" sz="36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США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Профессия: </a:t>
            </a:r>
            <a:r>
              <a:rPr b="1" lang="en-US" sz="36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актриса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 Black"/>
              </a:rPr>
              <a:t>, </a:t>
            </a:r>
            <a:r>
              <a:rPr b="0" lang="en-US" sz="36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певица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Гражданство: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 </a:t>
            </a:r>
            <a:r>
              <a:rPr b="0" lang="en-US" sz="3600" spc="-1" strike="noStrike" u="sng">
                <a:solidFill>
                  <a:srgbClr val="ff3399"/>
                </a:solidFill>
                <a:uFillTx/>
                <a:latin typeface="Arial Black"/>
                <a:hlinkClick r:id="rId6"/>
              </a:rPr>
              <a:t>США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3" name="" descr="Demi Lovato Signature.png"/>
          <p:cNvPicPr/>
          <p:nvPr/>
        </p:nvPicPr>
        <p:blipFill>
          <a:blip r:embed="rId7"/>
          <a:stretch/>
        </p:blipFill>
        <p:spPr>
          <a:xfrm>
            <a:off x="155520" y="46080"/>
            <a:ext cx="20955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4. Надпись на боку "You make me beutifull", переводится как "Ты делаешь меня красивой". 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771640" y="981000"/>
            <a:ext cx="3625920" cy="2719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5. Перышко, ну у него я думаю нет особого значения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3635280" y="1981080"/>
            <a:ext cx="1871640" cy="1981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6. И губы на руке, не думаю что у них какой-то особенный смысл есть. 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251160" y="1981080"/>
            <a:ext cx="2641680" cy="1981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Важная Информация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 </a:t>
            </a: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"Концерт Деми пройдёт 27 марта в 20:00 в Крокус Сити Холл,город Москва.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Американская 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актриса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и 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певица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. Она получила известность благодаря роли </a:t>
            </a: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Митчи Торрес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 в фильме компании «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Дисней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» «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Рок в летнем лагере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» и «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Рок в летнем лагере 2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». Также она играла главную роль в сериале 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6"/>
              </a:rPr>
              <a:t>канала Дисней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 «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7"/>
              </a:rPr>
              <a:t>Дайте 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8"/>
              </a:rPr>
              <a:t>Санни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9"/>
              </a:rPr>
              <a:t> шанс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». В 2009 году Деми сыграла главную роль в фильме «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10"/>
              </a:rPr>
              <a:t>Программа защиты принцесс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». Также она сыграла небольшую роль в сериале «</a:t>
            </a:r>
            <a:r>
              <a:rPr b="0" lang="ru-RU" sz="2800" spc="-1" strike="noStrike" u="sng">
                <a:solidFill>
                  <a:srgbClr val="cc3399"/>
                </a:solidFill>
                <a:uFillTx/>
                <a:latin typeface="Arial Black"/>
              </a:rPr>
              <a:t>Барни и друзья»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Как певица, Деми выпустила альбом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Don’t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Forget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 23 сентября 2008 года. Он занял второе место в списке </a:t>
            </a:r>
            <a:r>
              <a:rPr b="0" lang="ru-RU" sz="2400" spc="-1" strike="noStrike" u="sng">
                <a:solidFill>
                  <a:srgbClr val="cc3399"/>
                </a:solidFill>
                <a:uFillTx/>
                <a:latin typeface="Arial Black"/>
              </a:rPr>
              <a:t>Billboard 200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. В первую неделю было продано 89 000 копий. После этого было продано около 473 000 пластинок. В интервью Ловато сказала, что альбом был записан за 10 дней. 21 июля 2009 вышел второй её альбом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Here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6"/>
              </a:rPr>
              <a:t>We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7"/>
              </a:rPr>
              <a:t>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8"/>
              </a:rPr>
              <a:t>Go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9"/>
              </a:rPr>
              <a:t>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0"/>
              </a:rPr>
              <a:t>Again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. В первую неделю было продано 108 000 копий, альбом занял первое место в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1"/>
              </a:rPr>
              <a:t>Billboard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2"/>
              </a:rPr>
              <a:t> 200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Ранняя жизнь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Деми Ловато родилась в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Далласе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,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Техас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 в семье Патрика Ловато и Дианны Харт Де Ла Гарца. У неё мексиканские корни от отца и ирландские и итальянские — от матери. У неё есть старшая сестра Даллас Ловато и младшая сводная сестра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Мэдисон Де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Ла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6"/>
              </a:rPr>
              <a:t>Гарса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. Её мать была чирлидершей </a:t>
            </a:r>
            <a:r>
              <a:rPr b="0" i="1" lang="ru-RU" sz="2400" spc="-1" strike="noStrike" u="sng">
                <a:solidFill>
                  <a:srgbClr val="cc3399"/>
                </a:solidFill>
                <a:uFillTx/>
                <a:latin typeface="Arial Black"/>
              </a:rPr>
              <a:t>Dallas Cowboys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 и певицей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7"/>
              </a:rPr>
              <a:t>кантри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. Её отец переехал в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8"/>
              </a:rPr>
              <a:t>Нью-Мексико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 после развода в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9"/>
              </a:rPr>
              <a:t>1994 году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. Деми получила диплом старшей школы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0"/>
              </a:rPr>
              <a:t>экстерном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. Играть на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1"/>
              </a:rPr>
              <a:t>пианино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 она начала в 7 лет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Фильмография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2004 г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Русское название: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«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Барни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 и друзья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«Barney &amp; Friends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Роль: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Анжел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2006 г. </a:t>
            </a: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Русское название: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 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Побег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i="1" lang="ru-RU" sz="28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    «Prison Break»  </a:t>
            </a:r>
            <a:r>
              <a:rPr b="0" i="1" lang="ru-RU" sz="2800" spc="-1" strike="noStrike">
                <a:solidFill>
                  <a:srgbClr val="33cc33"/>
                </a:solidFill>
                <a:latin typeface="Arial Black"/>
              </a:rPr>
              <a:t>Роль:</a:t>
            </a: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Даниелла Карти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2007 г.</a:t>
            </a: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Русское название:</a:t>
            </a: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«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Звон колокольчиков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»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англ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i="1" lang="ru-RU" sz="24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«As the Bell Rings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Роль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Шарлотта Адамс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2007 г.</a:t>
            </a: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Русское название:</a:t>
            </a: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«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Просто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Джордан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англ.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cc33"/>
                </a:solidFill>
                <a:latin typeface="Arial Black"/>
              </a:rPr>
              <a:t>   </a:t>
            </a:r>
            <a:r>
              <a:rPr b="0" i="1" lang="ru-RU" sz="24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«Just Jordan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cc33"/>
                </a:solidFill>
                <a:latin typeface="Arial Black"/>
              </a:rPr>
              <a:t>    </a:t>
            </a:r>
            <a:r>
              <a:rPr b="0" i="1" lang="ru-RU" sz="2400" spc="-1" strike="noStrike">
                <a:solidFill>
                  <a:srgbClr val="33cc33"/>
                </a:solidFill>
                <a:latin typeface="Arial Black"/>
              </a:rPr>
              <a:t>Роль: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Никол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2008 г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Русское название:</a:t>
            </a: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«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Рок в летнем лагере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»</a:t>
            </a: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«Camp Rock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Роль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Митчи Торрес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2009 г.</a:t>
            </a: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«</a:t>
            </a: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Barney: Top 20 Countdown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Роль: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Анжел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2009 г.</a:t>
            </a: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Русское название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Программа защиты принцесс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«Princess Protection Program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Роль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ринцесса Розалинда / Роз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2008-2010 г.</a:t>
            </a: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Disney 365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0:23:11Z</dcterms:created>
  <dc:creator>admin</dc:creator>
  <dc:description/>
  <dc:language>en-US</dc:language>
  <cp:lastModifiedBy>admin</cp:lastModifiedBy>
  <dcterms:modified xsi:type="dcterms:W3CDTF">2013-03-24T14:46:34Z</dcterms:modified>
  <cp:revision>3</cp:revision>
  <dc:subject/>
  <dc:title>Деметрия Девонн Ловато. </dc:title>
</cp:coreProperties>
</file>