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A18-C982-4E96-9899-AB899A47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000-8D6B-4879-897F-C9C28A0A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7F5-81DB-4EA7-8B79-513CE8F9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15E-11E4-44BC-A717-C3445A55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6008-9D95-446C-8F11-6DF3E0BD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11D-09ED-44FC-BB28-F372062F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52D-3E86-4031-96AD-FB6A186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97D7-DFAF-4CF6-98F6-7D2662B5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7AFE-80E2-416F-B190-5387B1B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1586-859E-44A0-9713-F9F8BBF1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4252-F00B-40F3-972F-A12FE62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F07-F224-4FAF-A78B-1E7B3D4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0626-13F4-4F98-B601-C20CEC8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796C-DC7A-485A-8746-B1F0B46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194-C7E4-4E7E-BAE3-4299090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5F66-37EF-4BBB-8F25-6AA14BA7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05E-6FA4-452E-AD28-A94CF94A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977-6EDB-4C75-8159-8030B85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A23-B710-4F2C-B224-5740C04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0A3-E780-41C5-80DE-1CBD7FD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D27-78C7-462B-8032-87D96DB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16C-1743-47BB-9411-9A847D81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423-331B-4061-92B5-533E696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89E-A1F4-4639-AEAD-7B4B75A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D419-736D-42D2-B9E0-CB93B8AC0FC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9F2-1967-4505-94E2-84A11D5FE66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90;&#1086;&#1084;&#1080;&#1103;_&#1089;&#1090;&#1088;&#1072;&#1089;&#1090;&#1080;" TargetMode="External"/><Relationship Id="rId2" Type="http://schemas.openxmlformats.org/officeDocument/2006/relationships/hyperlink" Target="http://ru.wikipedia.org/wiki/&#1056;&#1086;&#1082;_&#1074;_&#1083;&#1077;&#1090;&#1085;&#1077;&#1084;_&#1083;&#1072;&#1075;&#1077;&#1088;&#1077;_2:_&#1054;&#1090;&#1095;&#1105;&#1090;&#1085;&#1099;&#1081;_&#1082;&#1086;&#1085;&#1094;&#1077;&#1088;&#1090;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Metro_Station" TargetMode="External"/><Relationship Id="rId2" Type="http://schemas.openxmlformats.org/officeDocument/2006/relationships/hyperlink" Target="http://ru.wikipedia.org/wiki/Metro_Station" TargetMode="External"/><Relationship Id="rId3" Type="http://schemas.openxmlformats.org/officeDocument/2006/relationships/hyperlink" Target="http://ru.wikipedia.org/wiki/Metro_Station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0;&#1082;&#1090;&#1105;&#1088;" TargetMode="External"/><Relationship Id="rId5" Type="http://schemas.openxmlformats.org/officeDocument/2006/relationships/hyperlink" Target="http://ru.wikipedia.org/wiki/&#1055;&#1077;&#1074;&#1077;&#1094;" TargetMode="External"/><Relationship Id="rId6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90;&#1088;&#1080;&#1089;&#1072;" TargetMode="External"/><Relationship Id="rId2" Type="http://schemas.openxmlformats.org/officeDocument/2006/relationships/hyperlink" Target="http://ru.wikipedia.org/wiki/&#1055;&#1077;&#1074;&#1080;&#1094;&#1072;" TargetMode="External"/><Relationship Id="rId3" Type="http://schemas.openxmlformats.org/officeDocument/2006/relationships/hyperlink" Target="http://ru.wikipedia.org/wiki/Walt_Disney_Pictures" TargetMode="External"/><Relationship Id="rId4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5" Type="http://schemas.openxmlformats.org/officeDocument/2006/relationships/hyperlink" Target="http://ru.wikipedia.org/wiki/&#1056;&#1086;&#1082;_&#1074;_&#1083;&#1077;&#1090;&#1085;&#1077;&#1084;_&#1083;&#1072;&#1075;&#1077;&#1088;&#1077;_2" TargetMode="External"/><Relationship Id="rId6" Type="http://schemas.openxmlformats.org/officeDocument/2006/relationships/hyperlink" Target="http://ru.wikipedia.org/wiki/Disney_Channel" TargetMode="External"/><Relationship Id="rId7" Type="http://schemas.openxmlformats.org/officeDocument/2006/relationships/hyperlink" Target="http://ru.wikipedia.org/wiki/&#1044;&#1072;&#1081;&#1090;&#1077;_&#1057;&#1072;&#1085;&#1085;&#1080;_&#1096;&#1072;&#1085;&#1089;" TargetMode="External"/><Relationship Id="rId8" Type="http://schemas.openxmlformats.org/officeDocument/2006/relationships/hyperlink" Target="http://ru.wikipedia.org/wiki/&#1044;&#1072;&#1081;&#1090;&#1077;_&#1057;&#1072;&#1085;&#1085;&#1080;_&#1096;&#1072;&#1085;&#1089;" TargetMode="External"/><Relationship Id="rId9" Type="http://schemas.openxmlformats.org/officeDocument/2006/relationships/hyperlink" Target="http://ru.wikipedia.org/wiki/&#1044;&#1072;&#1081;&#1090;&#1077;_&#1057;&#1072;&#1085;&#1085;&#1080;_&#1096;&#1072;&#1085;&#1089;" TargetMode="External"/><Relationship Id="rId10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Don&#8217;t_Forget" TargetMode="External"/><Relationship Id="rId2" Type="http://schemas.openxmlformats.org/officeDocument/2006/relationships/hyperlink" Target="http://ru.wikipedia.org/wiki/Don&#8217;t_Forget" TargetMode="External"/><Relationship Id="rId3" Type="http://schemas.openxmlformats.org/officeDocument/2006/relationships/hyperlink" Target="http://ru.wikipedia.org/wiki/Don&#8217;t_Forget" TargetMode="External"/><Relationship Id="rId4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5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6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7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8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9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0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1" Type="http://schemas.openxmlformats.org/officeDocument/2006/relationships/hyperlink" Target="http://ru.wikipedia.org/wiki/Billboard_200" TargetMode="External"/><Relationship Id="rId12" Type="http://schemas.openxmlformats.org/officeDocument/2006/relationships/hyperlink" Target="http://ru.wikipedia.org/wiki/Billboard_200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4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5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6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7" Type="http://schemas.openxmlformats.org/officeDocument/2006/relationships/hyperlink" Target="http://ru.wikipedia.org/wiki/&#1050;&#1072;&#1085;&#1090;&#1088;&#1080;" TargetMode="External"/><Relationship Id="rId8" Type="http://schemas.openxmlformats.org/officeDocument/2006/relationships/hyperlink" Target="http://ru.wikipedia.org/wiki/&#1053;&#1100;&#1102;-&#1052;&#1077;&#1082;&#1089;&#1080;&#1082;&#1086;" TargetMode="External"/><Relationship Id="rId9" Type="http://schemas.openxmlformats.org/officeDocument/2006/relationships/hyperlink" Target="http://ru.wikipedia.org/wiki/1994_&#1075;&#1086;&#1076;" TargetMode="External"/><Relationship Id="rId10" Type="http://schemas.openxmlformats.org/officeDocument/2006/relationships/hyperlink" Target="http://ru.wikipedia.org/wiki/&#1069;&#1082;&#1089;&#1090;&#1077;&#1088;&#1085;" TargetMode="External"/><Relationship Id="rId11" Type="http://schemas.openxmlformats.org/officeDocument/2006/relationships/hyperlink" Target="http://ru.wikipedia.org/wiki/&#1055;&#1080;&#1072;&#1085;&#1080;&#1085;&#1086;" TargetMode="Externa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8;&#1085;&#1080;_&#1080;_&#1076;&#1088;&#1091;&#1079;&#1100;&#1103;" TargetMode="External"/><Relationship Id="rId2" Type="http://schemas.openxmlformats.org/officeDocument/2006/relationships/hyperlink" Target="http://ru.wikipedia.org/wiki/&#1041;&#1072;&#1088;&#1085;&#1080;_&#1080;_&#1076;&#1088;&#1091;&#1079;&#1100;&#1103;" TargetMode="External"/><Relationship Id="rId3" Type="http://schemas.openxmlformats.org/officeDocument/2006/relationships/hyperlink" Target="http://ru.wikipedia.org/wiki/&#1055;&#1086;&#1073;&#1077;&#1075;_(&#1090;&#1077;&#1083;&#1077;&#1089;&#1077;&#1088;&#1080;&#1072;&#1083;,_&#1057;&#1064;&#1040;)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4;&#1086;&#1085;_&#1082;&#1086;&#1083;&#1086;&#1082;&#1086;&#1083;&#1100;&#1095;&#1080;&#1082;&#1086;&#1074;&amp;action=edit&amp;redlink=1" TargetMode="External"/><Relationship Id="rId2" Type="http://schemas.openxmlformats.org/officeDocument/2006/relationships/hyperlink" Target="http://en.wikipedia.org/wiki/As_the_Bell_Rings_(United_States)" TargetMode="External"/><Relationship Id="rId3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4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5" Type="http://schemas.openxmlformats.org/officeDocument/2006/relationships/hyperlink" Target="http://en.wikipedia.org/wiki/Just_Jordan" TargetMode="External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Деметрия Девонн Ловато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41560" y="2031840"/>
            <a:ext cx="6865920" cy="4061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натомия страст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Grey's Anatomy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ейли Мэ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Рок в летнем лагере 2: Отчётный концерт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Camp Rock 2: The Final J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009-2011 г. 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Дайте Санни шанс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Sonny with a Chance»</a:t>
            </a:r>
            <a:br>
              <a:rPr sz="3200"/>
            </a:br>
            <a:r>
              <a:rPr b="0" i="1" lang="ru-RU" sz="32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анни Монр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 кем встречалась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которое время Деми встречалась с гитаристом групп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Metr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Statio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Трейсом Сайрусом (старший брат Майли Сайрус), однако отношения не сложились из-за несоответствия расписан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0 году Деми начала встречаться с Джо Джонасом, с которым вместе снималась в фильме «Рок в летнем лагере». 24 мая 2010 года она объявила на публике, что они больше не вместе. В интервью Джо Джонас заявил, что расставание было его инициативой, но Деми всегда была рядом с ним и останется для него хорошим друго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1 году Деми возобновила свои прошлые отношения с Уилмерром Валдерам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оточ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49240" y="1981080"/>
            <a:ext cx="348156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124600" y="2305080"/>
            <a:ext cx="28573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068720" cy="3052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932360" y="27068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88000" y="2616120"/>
            <a:ext cx="435600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атуиров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71560" y="1981080"/>
            <a:ext cx="3438360" cy="19814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 Надпись на запястях рук "Stay Strong" ( по одному слову на запястье), что переводится как "Будь сильной".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42100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 Крест на руке скорее всего символ того, что Деми религиозный человек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86280" y="19810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3. Слово "Faith" на руке, что переводится как "Судьба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7344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и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Родилась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 u="sng">
                <a:solidFill>
                  <a:srgbClr val="cc3399"/>
                </a:solidFill>
                <a:uFillTx/>
                <a:latin typeface="Arial Black"/>
              </a:rPr>
              <a:t>20 августа 1992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Место рождения: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СШ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Профессия: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актрис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певиц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Гражданство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СШ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Demi Lovato Signature.png"/>
          <p:cNvPicPr/>
          <p:nvPr/>
        </p:nvPicPr>
        <p:blipFill>
          <a:blip r:embed="rId7"/>
          <a:stretch/>
        </p:blipFill>
        <p:spPr>
          <a:xfrm>
            <a:off x="155520" y="46080"/>
            <a:ext cx="20955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4. Надпись на боку "You make me beutifull", переводится как "Ты делаешь меня красивой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62592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. Перышко, ну у него я думаю нет особого значен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635280" y="1981080"/>
            <a:ext cx="187164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. И губы на руке, не думаю что у них какой-то особенный смысл есть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5116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ажная Информац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"Концерт Деми пройдёт 27 марта в 20:00 в Крокус Сити Холл,город Москва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мериканская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ктрис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певиц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 Она получила известность благодаря роли 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в фильме компани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Рок в летнем лагере 2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играла главную роль в сериале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канала 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Дайте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Сан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шан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В 2009 году Деми сыграла главную роль в фильме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Программа защиты принцес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сыграла небольшую роль в сериале «</a:t>
            </a:r>
            <a:r>
              <a:rPr b="0" lang="ru-RU" sz="2800" spc="-1" strike="noStrike" u="sng">
                <a:solidFill>
                  <a:srgbClr val="cc3399"/>
                </a:solidFill>
                <a:uFillTx/>
                <a:latin typeface="Arial Black"/>
              </a:rPr>
              <a:t>Барни и друзья»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к певица, Деми выпустила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Don’t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Forget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23 сентября 2008 года. Он занял второе место в списке </a:t>
            </a:r>
            <a:r>
              <a:rPr b="0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Billboard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89 000 копий. После этого было продано около 473 000 пластинок. В интервью Ловато сказала, что альбом был записан за 10 дней. 21 июля 2009 вышел второй её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Her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W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G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Agai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108 000 копий, альбом занял первое место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Billboard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нняя жизнь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ми Ловато родилась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е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,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в семье Патрика Ловато и Дианны Харт Де Ла Гарца. У неё мексиканские корни от отца и ирландские и итальянские — от матери. У неё есть старшая сестра Даллас Ловато и младшая сводная сестр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Мэдисон Де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Ла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Гарс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мать была чирлидершей </a:t>
            </a:r>
            <a:r>
              <a:rPr b="0" i="1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Dallas Cowboys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и певицей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кантр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отец переехал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Нью-Мексик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после развода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1994 году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Деми получила диплом старшей школ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экстерном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Играть н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пианин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она начала в 7 лет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ильм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4 г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Бар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и друзья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Barney &amp; Friends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6 г. 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обег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 «Prison Break»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аниелла Карт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Звон колокольчиков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анг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As the Bell Rings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Шарлотта Адам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росто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Джордан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англ.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Just Jordan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ико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8 г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Camp Rock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Barney: Top 20 Countdown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Программа защиты принцес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Princess Protection Progr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инцесса Розалинда / Роз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8-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Disney 365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0:23:11Z</dcterms:created>
  <dc:creator>admin</dc:creator>
  <dc:description/>
  <dc:language>en-US</dc:language>
  <cp:lastModifiedBy>admin</cp:lastModifiedBy>
  <dcterms:modified xsi:type="dcterms:W3CDTF">2013-03-24T14:46:34Z</dcterms:modified>
  <cp:revision>3</cp:revision>
  <dc:subject/>
  <dc:title>Деметрия Девонн Ловато. </dc:title>
</cp:coreProperties>
</file>