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5.png" ContentType="image/pn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carbrake.wav" ContentType="audio/x-wav"/>
  <Override PartName="/ppt/media/image16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6.png" ContentType="image/png"/>
  <Override PartName="/ppt/media/image39.png" ContentType="image/png"/>
  <Override PartName="/ppt/media/image42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28.png" ContentType="image/png"/>
  <Override PartName="/ppt/media/image40.jpeg" ContentType="image/jpeg"/>
  <Override PartName="/ppt/media/image13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A70B-A762-4B1A-AC72-262D05C9A6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C90D-1DE7-4967-91BD-F5691FF7A1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49D-2CC8-405C-A17D-183FAA57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179-5640-4684-A7EC-503B5F4E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362D-9D44-4445-AEB1-2A47DEA1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F2C-C3AF-4958-B274-DCABF93A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A416-591D-409B-A147-AD1CA829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A253-0704-4511-A03A-8C0D7C49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7D4F-9318-47CA-81AC-FC3CC4EE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5B1A-9183-424B-94B4-96460D60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6938-1984-418A-B247-FF74E98C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C1BB-0A1D-49EF-8D11-78851316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05E5-CA29-44E4-B029-05D77CB4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5BC-ED01-4D90-B33F-F32B896F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74D4-A886-4D30-B8A5-9DFC1FB6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7FDA-CABB-4BB1-98F3-8E1AE22F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D63C-6FF2-4ECA-AC6D-4E6F3DD3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9951-F927-4F62-951B-AF8FE047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E45F-75D3-493B-A8D8-4BDF0E71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2DD-935E-4C30-89DB-45102765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D61-7F28-4ED5-92E2-109D1C33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143-9583-4450-814B-14CF01FE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DFF-A327-4076-A95C-423377FA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DFF-4D58-4F5C-B98F-6C44AA85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E3D-CCEB-4CEF-A976-5817606E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068-0783-4147-91A9-B66F77C2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30320" y="316188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30320" y="410328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8160" y="50407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2480" y="5992920"/>
              <a:ext cx="883800" cy="844560"/>
            </a:xfrm>
            <a:prstGeom prst="parallelogram">
              <a:avLst>
                <a:gd name="adj" fmla="val 5541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8160" y="1272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8160" y="221724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800080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800080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AABC-E6D1-4760-9674-E66AACC571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30320" y="316188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30320" y="410328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8160" y="50407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2480" y="5992920"/>
              <a:ext cx="883800" cy="844560"/>
            </a:xfrm>
            <a:prstGeom prst="parallelogram">
              <a:avLst>
                <a:gd name="adj" fmla="val 5541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8160" y="1272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8160" y="221724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800080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800080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E6A8-C5E0-47EA-A025-39422FFD8F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581400"/>
            <a:ext cx="7772400" cy="173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  <a:ea typeface="Arial Unicode MS"/>
              </a:rPr>
              <a:t>Объёмы и поверхности</a:t>
            </a: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  <a:ea typeface="Arial Unicode MS"/>
              </a:rPr>
              <a:t>     тел вращения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читель математики МОУ СОШ №8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х. Шунтук  Майкопскского района Республики Адыге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Грюнер Наталья Андреевна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066680" y="4572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СЕЧЕНИЯ ШАР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98" name="Picture 3" descr="C:\Documents and Settings\site105\Мои документы\геометрия\453.jpg"/>
          <p:cNvPicPr/>
          <p:nvPr/>
        </p:nvPicPr>
        <p:blipFill>
          <a:blip r:embed="rId1"/>
          <a:stretch/>
        </p:blipFill>
        <p:spPr>
          <a:xfrm>
            <a:off x="1219320" y="2133720"/>
            <a:ext cx="2133360" cy="2133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Documents and Settings\site105\Мои документы\геометрия\454.jpg"/>
          <p:cNvPicPr/>
          <p:nvPr/>
        </p:nvPicPr>
        <p:blipFill>
          <a:blip r:embed="rId2"/>
          <a:stretch/>
        </p:blipFill>
        <p:spPr>
          <a:xfrm>
            <a:off x="1219320" y="4595760"/>
            <a:ext cx="2286000" cy="19224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3505320" y="198108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шара плоскостью есть круг. Центр этого шара есть основание перпендикуляра,опущенного из центра шара на секущую плоскость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505320" y="434340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шара диаметральной плоскостью называется большим кругом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7467480" y="60958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698" h="21600">
                <a:moveTo>
                  <a:pt x="38843" y="10800"/>
                </a:moveTo>
                <a:lnTo>
                  <a:pt x="52856" y="3794"/>
                </a:lnTo>
                <a:lnTo>
                  <a:pt x="5285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990720" y="5335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ОБЪЁМЫ ТЕЛ ВРАЩЕНИЯ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09480" y="1386000"/>
          <a:ext cx="8534520" cy="5472000"/>
        </p:xfrm>
        <a:graphic>
          <a:graphicData uri="http://schemas.openxmlformats.org/drawingml/2006/table">
            <a:tbl>
              <a:tblPr/>
              <a:tblGrid>
                <a:gridCol w="1995480"/>
                <a:gridCol w="2071800"/>
                <a:gridCol w="44672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фигура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формула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авило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цилиндр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=S*H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бъём цилиндра равен произведению площади основания на высоту.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онус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=1/3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*H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бъём конуса равен одной трети произведения площади основания на высоту.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ар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=4/3*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*R</a:t>
                      </a:r>
                      <a:r>
                        <a:rPr b="0" lang="ru-RU" sz="1800" spc="-1" strike="noStrike" baseline="30000">
                          <a:solidFill>
                            <a:srgbClr val="ffffff"/>
                          </a:solidFill>
                          <a:latin typeface="Arial Black"/>
                        </a:rPr>
                        <a:t>3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бъём шара Теорема. Объём шара радиуса R равен . 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аровой сегмент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аровой сегмент. Объём шарового сегмента.</a:t>
                      </a:r>
                      <a:br>
                        <a:rPr sz="1800"/>
                      </a:b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аровой 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ектор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=2/3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*П*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</a:t>
                      </a:r>
                      <a:r>
                        <a:rPr b="0" lang="ru-RU" sz="1800" spc="-1" strike="noStrike" baseline="30000">
                          <a:solidFill>
                            <a:srgbClr val="ffffff"/>
                          </a:solidFill>
                          <a:latin typeface="Arial Black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*Н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аровой сегмент. Объём         шарового сегмента.</a:t>
                      </a:r>
                      <a:br>
                        <a:rPr sz="2000"/>
                      </a:b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AutoShape 38"/>
          <p:cNvSpPr/>
          <p:nvPr/>
        </p:nvSpPr>
        <p:spPr>
          <a:xfrm>
            <a:off x="7812000" y="6524640"/>
            <a:ext cx="1219320" cy="228600"/>
          </a:xfrm>
          <a:custGeom>
            <a:avLst/>
            <a:gdLst>
              <a:gd name="textAreaLeft" fmla="*/ 14760 w 1219320"/>
              <a:gd name="textAreaRight" fmla="*/ 1204560 w 12193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15064" h="21600">
                <a:moveTo>
                  <a:pt x="0" y="0"/>
                </a:moveTo>
                <a:lnTo>
                  <a:pt x="115064" y="0"/>
                </a:lnTo>
                <a:lnTo>
                  <a:pt x="115064" y="21600"/>
                </a:lnTo>
                <a:lnTo>
                  <a:pt x="0" y="21600"/>
                </a:lnTo>
                <a:close/>
              </a:path>
              <a:path fill="lightenLess" w="115064" h="21600">
                <a:moveTo>
                  <a:pt x="0" y="0"/>
                </a:moveTo>
                <a:lnTo>
                  <a:pt x="115064" y="0"/>
                </a:lnTo>
                <a:lnTo>
                  <a:pt x="113664" y="1400"/>
                </a:lnTo>
                <a:lnTo>
                  <a:pt x="1400" y="1400"/>
                </a:lnTo>
                <a:close/>
              </a:path>
              <a:path fill="darken" w="115064" h="21600">
                <a:moveTo>
                  <a:pt x="115064" y="0"/>
                </a:moveTo>
                <a:lnTo>
                  <a:pt x="115064" y="21600"/>
                </a:lnTo>
                <a:lnTo>
                  <a:pt x="113664" y="20200"/>
                </a:lnTo>
                <a:lnTo>
                  <a:pt x="113664" y="1400"/>
                </a:lnTo>
                <a:close/>
              </a:path>
              <a:path fill="darkenLess" w="115064" h="21600">
                <a:moveTo>
                  <a:pt x="1150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64" y="20200"/>
                </a:lnTo>
                <a:close/>
              </a:path>
              <a:path fill="lighten" w="1150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064" h="21600">
                <a:moveTo>
                  <a:pt x="50526" y="10800"/>
                </a:moveTo>
                <a:lnTo>
                  <a:pt x="64539" y="3794"/>
                </a:lnTo>
                <a:lnTo>
                  <a:pt x="64539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206" name="Рисунок 4" descr="http://www.fos.ru/matemat/image/9260/image179.gif"/>
          <p:cNvPicPr/>
          <p:nvPr/>
        </p:nvPicPr>
        <p:blipFill>
          <a:blip r:embed="rId1"/>
          <a:stretch/>
        </p:blipFill>
        <p:spPr>
          <a:xfrm>
            <a:off x="2771640" y="4869000"/>
            <a:ext cx="16430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762120" y="3808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ПЛОЩАДИ ПОВЕРХНОСТЕЙ ТЕЛ  ВРАЩЕНИЯ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295280" y="1752480"/>
          <a:ext cx="6858000" cy="5148360"/>
        </p:xfrm>
        <a:graphic>
          <a:graphicData uri="http://schemas.openxmlformats.org/drawingml/2006/table">
            <a:tbl>
              <a:tblPr/>
              <a:tblGrid>
                <a:gridCol w="2210040"/>
                <a:gridCol w="4647960"/>
              </a:tblGrid>
              <a:tr h="66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фигура</a:t>
                      </a: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авило</a:t>
                      </a: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лощадь боковой поверхности цилиндра равна произведению длины окружности основания на высоту. </a:t>
                      </a: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лощадь боковой поверхности конуса равна половине произведения длины окружности основания на длину образующей.</a:t>
                      </a: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лощадь поверхности сферы вычисляется по формуле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=4*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*R*R</a:t>
                      </a: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9" name="Picture 74" descr="C:\Documents and Settings\site105\Мои документы\геометрия\495.jpg"/>
          <p:cNvPicPr/>
          <p:nvPr/>
        </p:nvPicPr>
        <p:blipFill>
          <a:blip r:embed="rId1"/>
          <a:stretch/>
        </p:blipFill>
        <p:spPr>
          <a:xfrm>
            <a:off x="1981080" y="2514600"/>
            <a:ext cx="874800" cy="1249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5" descr="C:\Documents and Settings\site105\Мои документы\геометрия\496.jpg"/>
          <p:cNvPicPr/>
          <p:nvPr/>
        </p:nvPicPr>
        <p:blipFill>
          <a:blip r:embed="rId2"/>
          <a:stretch/>
        </p:blipFill>
        <p:spPr>
          <a:xfrm>
            <a:off x="1905120" y="4114800"/>
            <a:ext cx="1017360" cy="1271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6" descr="C:\Documents and Settings\site105\Мои документы\геометрия\497.jpg"/>
          <p:cNvPicPr/>
          <p:nvPr/>
        </p:nvPicPr>
        <p:blipFill>
          <a:blip r:embed="rId3"/>
          <a:stretch/>
        </p:blipFill>
        <p:spPr>
          <a:xfrm>
            <a:off x="1828800" y="5775480"/>
            <a:ext cx="1066680" cy="108252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82"/>
          <p:cNvSpPr/>
          <p:nvPr/>
        </p:nvSpPr>
        <p:spPr>
          <a:xfrm>
            <a:off x="83059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4280" y="110160"/>
            <a:ext cx="7772400" cy="98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  <a:ea typeface="Arial"/>
              </a:rPr>
              <a:t>Объём шара</a:t>
            </a:r>
            <a:br>
              <a:rPr sz="1600"/>
            </a:br>
            <a:r>
              <a:rPr b="0" lang="ru-RU" sz="2000" spc="-1" strike="noStrike">
                <a:solidFill>
                  <a:srgbClr val="ccffff"/>
                </a:solidFill>
                <a:latin typeface="Arial Black"/>
              </a:rPr>
              <a:t>Теорема. </a:t>
            </a:r>
            <a:r>
              <a:rPr b="0" i="1" lang="ru-RU" sz="2000" spc="-1" strike="noStrike">
                <a:solidFill>
                  <a:srgbClr val="ccffff"/>
                </a:solidFill>
                <a:latin typeface="Arial Black"/>
              </a:rPr>
              <a:t>Объём шара радиуса R равен</a:t>
            </a:r>
            <a:r>
              <a:rPr b="1" i="1" lang="ru-RU" sz="2000" spc="-1" strike="noStrike" baseline="-25000">
                <a:solidFill>
                  <a:srgbClr val="ccffff"/>
                </a:solidFill>
                <a:latin typeface="Arial Black"/>
              </a:rPr>
              <a:t> </a:t>
            </a:r>
            <a:r>
              <a:rPr b="1" i="1" lang="ru-RU" sz="2000" spc="-1" strike="noStrike">
                <a:solidFill>
                  <a:srgbClr val="ccffff"/>
                </a:solidFill>
                <a:latin typeface="Arial Black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ательство. Рассмотрим шар радиуса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ом в точке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ыберем ось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ольным образом (рис. ). Сечение шара плоскостью, перпендикулярной к оси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роходя­щей через точку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й оси, является кругом с центром в точке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.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значим радиус этого круга через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его площадь через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(х)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абсцисса точки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.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зим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(х)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з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.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прямоугольного треугольника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С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ходим: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 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.6.1)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как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.6.2)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етим, что эта формула верна для любого положения точки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диаметре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. е. Для всех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,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овлетворяющих условию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Применяя основную формулу для вычисления объемов тел пр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им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ема доказана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6" name="Рисунок 3" descr="http://www.fos.ru/matemat/image/9260/image147.gif"/>
          <p:cNvPicPr/>
          <p:nvPr/>
        </p:nvPicPr>
        <p:blipFill>
          <a:blip r:embed="rId1"/>
          <a:stretch/>
        </p:blipFill>
        <p:spPr>
          <a:xfrm>
            <a:off x="7215120" y="0"/>
            <a:ext cx="1500120" cy="1571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http://www.fos.ru/matemat/image/9260/image151.jpg"/>
          <p:cNvPicPr/>
          <p:nvPr/>
        </p:nvPicPr>
        <p:blipFill>
          <a:blip r:embed="rId2"/>
          <a:stretch/>
        </p:blipFill>
        <p:spPr>
          <a:xfrm>
            <a:off x="5072040" y="2000160"/>
            <a:ext cx="378612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5" descr="http://www.fos.ru/matemat/image/9260/image153.gif"/>
          <p:cNvPicPr/>
          <p:nvPr/>
        </p:nvPicPr>
        <p:blipFill>
          <a:blip r:embed="rId3"/>
          <a:stretch/>
        </p:blipFill>
        <p:spPr>
          <a:xfrm>
            <a:off x="1428840" y="4357800"/>
            <a:ext cx="1911240" cy="2584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http://www.fos.ru/matemat/image/9260/image157.gif"/>
          <p:cNvPicPr/>
          <p:nvPr/>
        </p:nvPicPr>
        <p:blipFill>
          <a:blip r:embed="rId4"/>
          <a:stretch/>
        </p:blipFill>
        <p:spPr>
          <a:xfrm>
            <a:off x="2428920" y="4714920"/>
            <a:ext cx="1133280" cy="2318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2" descr="http://www.fos.ru/matemat/image/9260/image159.gif"/>
          <p:cNvPicPr/>
          <p:nvPr/>
        </p:nvPicPr>
        <p:blipFill>
          <a:blip r:embed="rId5"/>
          <a:stretch/>
        </p:blipFill>
        <p:spPr>
          <a:xfrm>
            <a:off x="2214720" y="5643720"/>
            <a:ext cx="765000" cy="1774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3" descr="http://www.fos.ru/matemat/image/9260/image161.gif"/>
          <p:cNvPicPr/>
          <p:nvPr/>
        </p:nvPicPr>
        <p:blipFill>
          <a:blip r:embed="rId6"/>
          <a:stretch/>
        </p:blipFill>
        <p:spPr>
          <a:xfrm>
            <a:off x="1500120" y="6072120"/>
            <a:ext cx="492120" cy="1778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4" descr="http://www.fos.ru/matemat/image/9260/image163.gif"/>
          <p:cNvPicPr/>
          <p:nvPr/>
        </p:nvPicPr>
        <p:blipFill>
          <a:blip r:embed="rId7"/>
          <a:stretch/>
        </p:blipFill>
        <p:spPr>
          <a:xfrm>
            <a:off x="2357280" y="6072120"/>
            <a:ext cx="382680" cy="1778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5" descr="http://www.fos.ru/matemat/image/9260/image165.gif"/>
          <p:cNvPicPr/>
          <p:nvPr/>
        </p:nvPicPr>
        <p:blipFill>
          <a:blip r:embed="rId8"/>
          <a:stretch/>
        </p:blipFill>
        <p:spPr>
          <a:xfrm>
            <a:off x="2916360" y="6093000"/>
            <a:ext cx="4052880" cy="463320"/>
          </a:xfrm>
          <a:prstGeom prst="rect">
            <a:avLst/>
          </a:prstGeom>
          <a:ln w="0">
            <a:noFill/>
          </a:ln>
        </p:spPr>
      </p:pic>
      <p:sp>
        <p:nvSpPr>
          <p:cNvPr id="224" name="Управляющая кнопка: назад 16"/>
          <p:cNvSpPr/>
          <p:nvPr/>
        </p:nvSpPr>
        <p:spPr>
          <a:xfrm>
            <a:off x="800100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161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ccffff"/>
                </a:solidFill>
                <a:latin typeface="Arial Black"/>
              </a:rPr>
              <a:t>Шаровой сегмент. Объём         шарового сегмента.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Шаровым сегментом называется часть шара, отсеченная от него плоскостью. Всякая плоскость, пересекающая шар, разбивает его на два сегмента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Объема сегмент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7" name="Содержимое 4" descr="http://www.fos.ru/matemat/image/9260/image170.jpg"/>
          <p:cNvPicPr/>
          <p:nvPr/>
        </p:nvPicPr>
        <p:blipFill>
          <a:blip r:embed="rId1"/>
          <a:stretch/>
        </p:blipFill>
        <p:spPr>
          <a:xfrm>
            <a:off x="857160" y="2997360"/>
            <a:ext cx="4357800" cy="25747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http://www.fos.ru/matemat/image/9260/image179.gif"/>
          <p:cNvPicPr/>
          <p:nvPr/>
        </p:nvPicPr>
        <p:blipFill>
          <a:blip r:embed="rId2"/>
          <a:stretch/>
        </p:blipFill>
        <p:spPr>
          <a:xfrm>
            <a:off x="5643720" y="4643280"/>
            <a:ext cx="2500200" cy="1285920"/>
          </a:xfrm>
          <a:prstGeom prst="rect">
            <a:avLst/>
          </a:prstGeom>
          <a:ln w="0">
            <a:noFill/>
          </a:ln>
        </p:spPr>
      </p:pic>
      <p:sp>
        <p:nvSpPr>
          <p:cNvPr id="229" name="Управляющая кнопка: назад 6"/>
          <p:cNvSpPr/>
          <p:nvPr/>
        </p:nvSpPr>
        <p:spPr>
          <a:xfrm>
            <a:off x="7572240" y="6215040"/>
            <a:ext cx="1143000" cy="500040"/>
          </a:xfrm>
          <a:custGeom>
            <a:avLst/>
            <a:gdLst>
              <a:gd name="textAreaLeft" fmla="*/ 32400 w 1143000"/>
              <a:gd name="textAreaRight" fmla="*/ 1110600 w 11430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9354" h="21600">
                <a:moveTo>
                  <a:pt x="0" y="0"/>
                </a:moveTo>
                <a:lnTo>
                  <a:pt x="49354" y="0"/>
                </a:lnTo>
                <a:lnTo>
                  <a:pt x="49354" y="21600"/>
                </a:lnTo>
                <a:lnTo>
                  <a:pt x="0" y="21600"/>
                </a:lnTo>
                <a:close/>
              </a:path>
              <a:path fill="lightenLess" w="49354" h="21600">
                <a:moveTo>
                  <a:pt x="0" y="0"/>
                </a:moveTo>
                <a:lnTo>
                  <a:pt x="49354" y="0"/>
                </a:lnTo>
                <a:lnTo>
                  <a:pt x="47954" y="1400"/>
                </a:lnTo>
                <a:lnTo>
                  <a:pt x="1400" y="1400"/>
                </a:lnTo>
                <a:close/>
              </a:path>
              <a:path fill="darken" w="49354" h="21600">
                <a:moveTo>
                  <a:pt x="49354" y="0"/>
                </a:moveTo>
                <a:lnTo>
                  <a:pt x="49354" y="21600"/>
                </a:lnTo>
                <a:lnTo>
                  <a:pt x="47954" y="20200"/>
                </a:lnTo>
                <a:lnTo>
                  <a:pt x="47954" y="1400"/>
                </a:lnTo>
                <a:close/>
              </a:path>
              <a:path fill="darkenLess" w="49354" h="21600">
                <a:moveTo>
                  <a:pt x="49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54" y="20200"/>
                </a:lnTo>
                <a:close/>
              </a:path>
              <a:path fill="lighten" w="49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54" h="21600">
                <a:moveTo>
                  <a:pt x="17670" y="10800"/>
                </a:moveTo>
                <a:lnTo>
                  <a:pt x="31683" y="3794"/>
                </a:lnTo>
                <a:lnTo>
                  <a:pt x="3168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5094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Berlin Sans FB Demi"/>
              </a:rPr>
              <a:t>Шаровой сектор . Объём шарового сектора.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Шаровой сектор, тело, которое получается из шарового сегмента и конус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бъём сектор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V=2/3</a:t>
            </a:r>
            <a:r>
              <a:rPr b="0" lang="ru-RU" sz="2000" spc="-1" strike="noStrike">
                <a:solidFill>
                  <a:srgbClr val="001932"/>
                </a:solidFill>
                <a:latin typeface="Arial Black"/>
              </a:rPr>
              <a:t>П</a:t>
            </a: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R</a:t>
            </a:r>
            <a:r>
              <a:rPr b="0" lang="ru-RU" sz="2000" spc="-1" strike="noStrike" baseline="30000">
                <a:solidFill>
                  <a:srgbClr val="001932"/>
                </a:solidFill>
                <a:latin typeface="Arial Black"/>
              </a:rPr>
              <a:t>2</a:t>
            </a: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2" name="Рисунок 15" descr="http://www.fos.ru/matemat/image/9260/image219.jpg"/>
          <p:cNvPicPr/>
          <p:nvPr/>
        </p:nvPicPr>
        <p:blipFill>
          <a:blip r:embed="rId1"/>
          <a:stretch/>
        </p:blipFill>
        <p:spPr>
          <a:xfrm>
            <a:off x="1042920" y="2852640"/>
            <a:ext cx="4321080" cy="261936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7">
            <a:hlinkClick r:id="" action="ppaction://hlinkshowjump?jump=previousslide"/>
          </p:cNvPr>
          <p:cNvSpPr/>
          <p:nvPr/>
        </p:nvSpPr>
        <p:spPr>
          <a:xfrm>
            <a:off x="7740720" y="6093000"/>
            <a:ext cx="1042920" cy="53784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41871" h="21600">
                <a:moveTo>
                  <a:pt x="0" y="0"/>
                </a:moveTo>
                <a:lnTo>
                  <a:pt x="41871" y="0"/>
                </a:lnTo>
                <a:lnTo>
                  <a:pt x="41871" y="21600"/>
                </a:lnTo>
                <a:lnTo>
                  <a:pt x="0" y="21600"/>
                </a:lnTo>
                <a:close/>
              </a:path>
              <a:path fill="lightenLess" w="41871" h="21600">
                <a:moveTo>
                  <a:pt x="0" y="0"/>
                </a:moveTo>
                <a:lnTo>
                  <a:pt x="41871" y="0"/>
                </a:lnTo>
                <a:lnTo>
                  <a:pt x="40471" y="1400"/>
                </a:lnTo>
                <a:lnTo>
                  <a:pt x="1400" y="1400"/>
                </a:lnTo>
                <a:close/>
              </a:path>
              <a:path fill="darken" w="41871" h="21600">
                <a:moveTo>
                  <a:pt x="41871" y="0"/>
                </a:moveTo>
                <a:lnTo>
                  <a:pt x="41871" y="21600"/>
                </a:lnTo>
                <a:lnTo>
                  <a:pt x="40471" y="20200"/>
                </a:lnTo>
                <a:lnTo>
                  <a:pt x="40471" y="1400"/>
                </a:lnTo>
                <a:close/>
              </a:path>
              <a:path fill="darkenLess" w="41871" h="21600">
                <a:moveTo>
                  <a:pt x="41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71" y="20200"/>
                </a:lnTo>
                <a:close/>
              </a:path>
              <a:path fill="lighten" w="41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71" h="21600">
                <a:moveTo>
                  <a:pt x="13929" y="10800"/>
                </a:moveTo>
                <a:lnTo>
                  <a:pt x="27942" y="3794"/>
                </a:lnTo>
                <a:lnTo>
                  <a:pt x="27942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7520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ccffff"/>
                </a:solidFill>
                <a:uFillTx/>
                <a:latin typeface="comic"/>
              </a:rPr>
              <a:t>Задача № 1.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     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Цистерна имеет форму цилиндра ,к основаниям которой присоединены равные шаровые сегменты. Радиус цилиндра равен 1,5 м, а высота сегмента равна 0,5 м. Какой длины должна быть образующая цилиндра, чтобы вместимость цистерны равнялась 50 м3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6" name="Рисунок 28" descr="http://www.fos.ru/matemat/image/9260/image483.jpg"/>
          <p:cNvPicPr/>
          <p:nvPr/>
        </p:nvPicPr>
        <p:blipFill>
          <a:blip r:embed="rId1"/>
          <a:stretch/>
        </p:blipFill>
        <p:spPr>
          <a:xfrm>
            <a:off x="1258920" y="2997360"/>
            <a:ext cx="360036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06" descr="http://www.fos.ru/matemat/image/9260/image477.gif"/>
          <p:cNvPicPr/>
          <p:nvPr/>
        </p:nvPicPr>
        <p:blipFill>
          <a:blip r:embed="rId1"/>
          <a:stretch/>
        </p:blipFill>
        <p:spPr>
          <a:xfrm>
            <a:off x="5292720" y="371520"/>
            <a:ext cx="2182680" cy="3934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307" descr="http://www.fos.ru/matemat/image/9260/image479.gif"/>
          <p:cNvPicPr/>
          <p:nvPr/>
        </p:nvPicPr>
        <p:blipFill>
          <a:blip r:embed="rId2"/>
          <a:stretch/>
        </p:blipFill>
        <p:spPr>
          <a:xfrm>
            <a:off x="5292720" y="907920"/>
            <a:ext cx="2944800" cy="3603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08" descr="http://www.fos.ru/matemat/image/9260/image481.gif"/>
          <p:cNvPicPr/>
          <p:nvPr/>
        </p:nvPicPr>
        <p:blipFill>
          <a:blip r:embed="rId3"/>
          <a:stretch/>
        </p:blipFill>
        <p:spPr>
          <a:xfrm>
            <a:off x="5292720" y="1336680"/>
            <a:ext cx="1039680" cy="2761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310" descr="http://www.fos.ru/matemat/image/9260/image487.gif"/>
          <p:cNvPicPr/>
          <p:nvPr/>
        </p:nvPicPr>
        <p:blipFill>
          <a:blip r:embed="rId4"/>
          <a:stretch/>
        </p:blipFill>
        <p:spPr>
          <a:xfrm>
            <a:off x="5724360" y="2421000"/>
            <a:ext cx="1873440" cy="5763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11" descr="http://www.fos.ru/matemat/image/9260/image489.gif"/>
          <p:cNvPicPr/>
          <p:nvPr/>
        </p:nvPicPr>
        <p:blipFill>
          <a:blip r:embed="rId5"/>
          <a:stretch/>
        </p:blipFill>
        <p:spPr>
          <a:xfrm>
            <a:off x="5651640" y="3141720"/>
            <a:ext cx="2305080" cy="3603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12" descr="http://www.fos.ru/matemat/image/9260/image491.gif"/>
          <p:cNvPicPr/>
          <p:nvPr/>
        </p:nvPicPr>
        <p:blipFill>
          <a:blip r:embed="rId6"/>
          <a:stretch/>
        </p:blipFill>
        <p:spPr>
          <a:xfrm>
            <a:off x="4572000" y="3645000"/>
            <a:ext cx="4172040" cy="5760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14" descr="http://www.fos.ru/matemat/image/9260/image494.gif"/>
          <p:cNvPicPr/>
          <p:nvPr/>
        </p:nvPicPr>
        <p:blipFill>
          <a:blip r:embed="rId7"/>
          <a:stretch/>
        </p:blipFill>
        <p:spPr>
          <a:xfrm>
            <a:off x="4572000" y="4797360"/>
            <a:ext cx="4276800" cy="18003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8" descr="http://www.fos.ru/matemat/image/9260/image483.jpg"/>
          <p:cNvPicPr/>
          <p:nvPr/>
        </p:nvPicPr>
        <p:blipFill>
          <a:blip r:embed="rId8"/>
          <a:stretch/>
        </p:blipFill>
        <p:spPr>
          <a:xfrm>
            <a:off x="1403280" y="3357720"/>
            <a:ext cx="2808360" cy="15332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3"/>
          <p:cNvSpPr/>
          <p:nvPr/>
        </p:nvSpPr>
        <p:spPr>
          <a:xfrm>
            <a:off x="3635280" y="619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5581440" y="571320"/>
            <a:ext cx="2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5580000" y="1164960"/>
            <a:ext cx="33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6305400" y="1481760"/>
            <a:ext cx="192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овые сегменты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1963440" y="3644280"/>
            <a:ext cx="199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2147760" y="455976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             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1042920" y="62161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~6,78.</a:t>
            </a:r>
            <a:endParaRPr b="1" lang="en-US" sz="36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2159280" y="6791040"/>
            <a:ext cx="430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Calibri"/>
              </a:rPr>
              <a:t> 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Calibri"/>
              </a:rPr>
              <a:t>м.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Calibri"/>
              </a:rPr>
              <a:t>   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1" lang="en-US" sz="9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3278520" y="220500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1" lang="en-US" sz="36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7520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ccffff"/>
                </a:solidFill>
                <a:uFillTx/>
                <a:latin typeface="comic"/>
              </a:rPr>
              <a:t>Задача № 2.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6360" y="274320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- центр шара.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 Black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центр круга сечения шара. Найти объём и площадь поверхности шара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1066680" y="2446200"/>
            <a:ext cx="384840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-6001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Дано</a:t>
            </a:r>
            <a:r>
              <a:rPr b="0" lang="en-US" sz="3200" spc="-1" strike="noStrike">
                <a:solidFill>
                  <a:srgbClr val="001932"/>
                </a:solidFill>
                <a:latin typeface="Arial Unicode MS"/>
              </a:rPr>
              <a:t>:</a:t>
            </a: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    шар</a:t>
            </a:r>
            <a:br>
              <a:rPr sz="3200"/>
            </a:b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             сечение с центром О</a:t>
            </a:r>
            <a:r>
              <a:rPr b="0" lang="ru-RU" sz="3200" spc="-1" strike="noStrike" baseline="-25000">
                <a:solidFill>
                  <a:srgbClr val="001932"/>
                </a:solidFill>
                <a:latin typeface="Arial Unicode MS"/>
              </a:rPr>
              <a:t>1</a:t>
            </a: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.</a:t>
            </a:r>
            <a:r>
              <a:rPr b="0" lang="en-US" sz="3200" spc="-1" strike="noStrike">
                <a:solidFill>
                  <a:srgbClr val="001932"/>
                </a:solidFill>
                <a:latin typeface="Arial Unicode MS"/>
              </a:rPr>
              <a:t>R</a:t>
            </a:r>
            <a:r>
              <a:rPr b="0" lang="ru-RU" sz="3200" spc="-1" strike="noStrike" baseline="-25000">
                <a:solidFill>
                  <a:srgbClr val="001932"/>
                </a:solidFill>
                <a:latin typeface="Arial Unicode MS"/>
              </a:rPr>
              <a:t>сеч.</a:t>
            </a: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=6см.</a:t>
            </a:r>
            <a:br>
              <a:rPr sz="3200"/>
            </a:b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             Угол ОАВ=30</a:t>
            </a:r>
            <a:r>
              <a:rPr b="0" lang="ru-RU" sz="3200" spc="-1" strike="noStrike" baseline="30000">
                <a:solidFill>
                  <a:srgbClr val="001932"/>
                </a:solidFill>
                <a:latin typeface="Arial Unicode MS"/>
              </a:rPr>
              <a:t>0</a:t>
            </a: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.</a:t>
            </a:r>
            <a:r>
              <a:rPr b="0" lang="en-US" sz="3200" spc="-1" strike="noStrike">
                <a:solidFill>
                  <a:srgbClr val="001932"/>
                </a:solidFill>
                <a:latin typeface="Arial Unicode MS"/>
              </a:rPr>
              <a:t>V</a:t>
            </a:r>
            <a:r>
              <a:rPr b="0" lang="ru-RU" sz="3200" spc="-1" strike="noStrike" baseline="-25000">
                <a:solidFill>
                  <a:srgbClr val="001932"/>
                </a:solidFill>
                <a:latin typeface="Arial Unicode MS"/>
              </a:rPr>
              <a:t>шара</a:t>
            </a:r>
            <a:r>
              <a:rPr b="0" lang="en-US" sz="3200" spc="-1" strike="noStrike">
                <a:solidFill>
                  <a:srgbClr val="001932"/>
                </a:solidFill>
                <a:latin typeface="Arial Unicode MS"/>
              </a:rPr>
              <a:t>=? S</a:t>
            </a:r>
            <a:r>
              <a:rPr b="0" lang="ru-RU" sz="3200" spc="-1" strike="noStrike" baseline="-25000">
                <a:solidFill>
                  <a:srgbClr val="001932"/>
                </a:solidFill>
                <a:latin typeface="Arial Unicode MS"/>
              </a:rPr>
              <a:t>сферы</a:t>
            </a: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=</a:t>
            </a:r>
            <a:r>
              <a:rPr b="0" lang="en-US" sz="3200" spc="-1" strike="noStrike">
                <a:solidFill>
                  <a:srgbClr val="001932"/>
                </a:solidFill>
                <a:latin typeface="Arial Unicode MS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67000" y="1980720"/>
            <a:ext cx="4257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932"/>
                </a:solidFill>
                <a:latin typeface="Century"/>
              </a:rPr>
              <a:t>Решение</a:t>
            </a:r>
            <a:r>
              <a:rPr b="1" lang="en-US" sz="2800" spc="-1" strike="noStrike">
                <a:solidFill>
                  <a:srgbClr val="001932"/>
                </a:solidFill>
                <a:latin typeface="Century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V=4/3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R</a:t>
            </a:r>
            <a:r>
              <a:rPr b="1" lang="en-US" sz="1800" spc="-1" strike="noStrike" baseline="30000">
                <a:solidFill>
                  <a:srgbClr val="001932"/>
                </a:solidFill>
                <a:latin typeface="Century"/>
              </a:rPr>
              <a:t>2         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S=4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R</a:t>
            </a:r>
            <a:r>
              <a:rPr b="1" lang="en-US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В ∆ О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А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: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угол 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90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0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,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А=6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угол ОАВ=30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0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.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tg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30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0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О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/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А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 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О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А*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tg30</a:t>
            </a:r>
            <a:r>
              <a:rPr b="1" lang="en-US" sz="1800" spc="-1" strike="noStrike" baseline="30000">
                <a:solidFill>
                  <a:srgbClr val="001932"/>
                </a:solidFill>
                <a:latin typeface="Century"/>
              </a:rPr>
              <a:t>0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.О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6*√3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3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=2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√3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ОА=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R=OO</a:t>
            </a:r>
            <a:r>
              <a:rPr b="1" lang="en-US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(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по св-ву катета леж.против угла 30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0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ОА=2√3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÷2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√3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V=4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П(√3)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3=(4*3,14*3)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3=12,56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S=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4П(√3)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4*3,14*3=37,6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Ответ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:V=12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,56; 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S=37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,68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9" name="Picture 8" descr=""/>
          <p:cNvPicPr/>
          <p:nvPr/>
        </p:nvPicPr>
        <p:blipFill>
          <a:blip r:embed="rId1"/>
          <a:stretch/>
        </p:blipFill>
        <p:spPr>
          <a:xfrm>
            <a:off x="1066680" y="2354400"/>
            <a:ext cx="384840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52000" y="-2836800"/>
            <a:ext cx="77724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41" name="Picture 3" descr="C:\Documents and Settings\site105\Мои документы\Новая папка\18-1.jpg"/>
          <p:cNvPicPr/>
          <p:nvPr/>
        </p:nvPicPr>
        <p:blipFill>
          <a:blip r:embed="rId1"/>
          <a:stretch/>
        </p:blipFill>
        <p:spPr>
          <a:xfrm>
            <a:off x="1295280" y="3200400"/>
            <a:ext cx="2170080" cy="174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site105\Мои документы\Новая папка\18-2.jpg"/>
          <p:cNvPicPr/>
          <p:nvPr/>
        </p:nvPicPr>
        <p:blipFill>
          <a:blip r:embed="rId2"/>
          <a:stretch/>
        </p:blipFill>
        <p:spPr>
          <a:xfrm>
            <a:off x="6400800" y="327672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site105\Мои документы\Новая папка\18-5.jpg"/>
          <p:cNvPicPr/>
          <p:nvPr/>
        </p:nvPicPr>
        <p:blipFill>
          <a:blip r:embed="rId3"/>
          <a:stretch/>
        </p:blipFill>
        <p:spPr>
          <a:xfrm>
            <a:off x="4038480" y="4724280"/>
            <a:ext cx="1752840" cy="11160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7"/>
          <p:cNvSpPr txBox="1"/>
          <p:nvPr/>
        </p:nvSpPr>
        <p:spPr>
          <a:xfrm>
            <a:off x="609480" y="685800"/>
            <a:ext cx="7772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Тела вращ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AutoShape 9">
            <a:hlinkClick r:id="" action="ppaction://hlinkshowjump?jump=nextslide"/>
          </p:cNvPr>
          <p:cNvSpPr/>
          <p:nvPr/>
        </p:nvSpPr>
        <p:spPr>
          <a:xfrm>
            <a:off x="6705720" y="62485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781" h="21600">
                <a:moveTo>
                  <a:pt x="38884" y="3794"/>
                </a:moveTo>
                <a:lnTo>
                  <a:pt x="52897" y="10800"/>
                </a:lnTo>
                <a:lnTo>
                  <a:pt x="3888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comic"/>
              </a:rPr>
              <a:t>Задача</a:t>
            </a:r>
            <a:r>
              <a:rPr b="0" lang="ru-RU" sz="4400" spc="-1" strike="noStrike" u="sng">
                <a:solidFill>
                  <a:srgbClr val="ccffff"/>
                </a:solidFill>
                <a:uFillTx/>
                <a:latin typeface="comic"/>
              </a:rPr>
              <a:t> № 3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859280" y="198108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цилиндрический свод подвала имеет 6м. длины и 5,8м. в диаметре.Найдите полную поверхность подвала. 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41529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32040"/>
            <a:ext cx="7772400" cy="154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Дано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Цилиндр.АВСД-осевое сечение.</a:t>
            </a:r>
            <a:br>
              <a:rPr sz="2400"/>
            </a:b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                 АД=6м.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5,8м.</a:t>
            </a:r>
            <a:br>
              <a:rPr sz="2400"/>
            </a:b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ccffff"/>
                </a:solidFill>
                <a:latin typeface="Arial"/>
              </a:rPr>
              <a:t>п.под.=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03280" y="1981080"/>
            <a:ext cx="4140360" cy="54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32"/>
                </a:solidFill>
                <a:latin typeface="comic"/>
              </a:rPr>
              <a:t>Решение </a:t>
            </a:r>
            <a:r>
              <a:rPr b="0" lang="en-US" sz="2800" spc="-1" strike="noStrike">
                <a:solidFill>
                  <a:srgbClr val="001932"/>
                </a:solidFill>
                <a:latin typeface="com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.под.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=(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2)+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АВСД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2=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(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2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h+2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</a:t>
            </a:r>
            <a:r>
              <a:rPr b="0" lang="en-US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)÷2=2(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h+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</a:t>
            </a:r>
            <a:r>
              <a:rPr b="0" lang="en-US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)÷2=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h+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</a:t>
            </a:r>
            <a:r>
              <a:rPr b="0" lang="en-US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=d÷2=5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,8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2=2,9 м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2=3,14*2,9+3,14*(2,9)</a:t>
            </a:r>
            <a:r>
              <a:rPr b="0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      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54,636+26,4074=81,0434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     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АВСД-прямоуг.(по опр.осев.сеч.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     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АВСД=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АВ*АД=5,8*6=34,8м</a:t>
            </a:r>
            <a:r>
              <a:rPr b="0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     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.под.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=34,8+81,0434≈116м</a:t>
            </a:r>
            <a:r>
              <a:rPr b="0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Ответ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: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.под.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≈116м</a:t>
            </a:r>
            <a:r>
              <a:rPr b="0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1066680" y="2852640"/>
            <a:ext cx="3848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762120" y="-304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66cc"/>
                </a:solidFill>
                <a:latin typeface="Times New Roman"/>
              </a:rPr>
              <a:t>оглавление</a:t>
            </a:r>
            <a:endParaRPr b="1" lang="en-US" sz="80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219320" y="914400"/>
            <a:ext cx="701028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Виды тел вращ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Определения тел вращения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цилиндр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конус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шар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Сечения тел вращения: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цилиндр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конус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шар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Объёмы тел вращ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Площади поверхностей тел вращения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523880" y="1371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49" name="AutoShape 8">
            <a:hlinkClick r:id="rId1" action="ppaction://hlinksldjump"/>
          </p:cNvPr>
          <p:cNvSpPr/>
          <p:nvPr/>
        </p:nvSpPr>
        <p:spPr>
          <a:xfrm>
            <a:off x="5867280" y="1752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0" name="AutoShape 9">
            <a:hlinkClick r:id="rId2" action="ppaction://hlinksldjump"/>
          </p:cNvPr>
          <p:cNvSpPr/>
          <p:nvPr/>
        </p:nvSpPr>
        <p:spPr>
          <a:xfrm>
            <a:off x="5867280" y="10666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1" name="AutoShape 10">
            <a:hlinkClick r:id="rId3" action="ppaction://hlinksldjump"/>
          </p:cNvPr>
          <p:cNvSpPr/>
          <p:nvPr/>
        </p:nvSpPr>
        <p:spPr>
          <a:xfrm>
            <a:off x="5867280" y="22860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2" name="AutoShape 11">
            <a:hlinkClick r:id="" action="ppaction://hlinkshowjump?jump=nextslide"/>
          </p:cNvPr>
          <p:cNvSpPr/>
          <p:nvPr/>
        </p:nvSpPr>
        <p:spPr>
          <a:xfrm>
            <a:off x="5943600" y="297180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3" name="AutoShape 12">
            <a:hlinkClick r:id="rId4" action="ppaction://hlinksldjump"/>
          </p:cNvPr>
          <p:cNvSpPr/>
          <p:nvPr/>
        </p:nvSpPr>
        <p:spPr>
          <a:xfrm>
            <a:off x="5867280" y="2895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4" name="AutoShape 13">
            <a:hlinkClick r:id="rId5" action="ppaction://hlinksldjump"/>
          </p:cNvPr>
          <p:cNvSpPr/>
          <p:nvPr/>
        </p:nvSpPr>
        <p:spPr>
          <a:xfrm>
            <a:off x="5867280" y="3962520"/>
            <a:ext cx="1143000" cy="30456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0994" h="21600">
                <a:moveTo>
                  <a:pt x="0" y="0"/>
                </a:moveTo>
                <a:lnTo>
                  <a:pt x="80994" y="0"/>
                </a:lnTo>
                <a:lnTo>
                  <a:pt x="80994" y="21600"/>
                </a:lnTo>
                <a:lnTo>
                  <a:pt x="0" y="21600"/>
                </a:lnTo>
                <a:close/>
              </a:path>
              <a:path fill="lightenLess" w="80994" h="21600">
                <a:moveTo>
                  <a:pt x="0" y="0"/>
                </a:moveTo>
                <a:lnTo>
                  <a:pt x="80994" y="0"/>
                </a:lnTo>
                <a:lnTo>
                  <a:pt x="79594" y="1400"/>
                </a:lnTo>
                <a:lnTo>
                  <a:pt x="1400" y="1400"/>
                </a:lnTo>
                <a:close/>
              </a:path>
              <a:path fill="darken" w="80994" h="21600">
                <a:moveTo>
                  <a:pt x="80994" y="0"/>
                </a:moveTo>
                <a:lnTo>
                  <a:pt x="80994" y="21600"/>
                </a:lnTo>
                <a:lnTo>
                  <a:pt x="79594" y="20200"/>
                </a:lnTo>
                <a:lnTo>
                  <a:pt x="79594" y="1400"/>
                </a:lnTo>
                <a:close/>
              </a:path>
              <a:path fill="darkenLess" w="80994" h="21600">
                <a:moveTo>
                  <a:pt x="80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4" y="20200"/>
                </a:lnTo>
                <a:close/>
              </a:path>
              <a:path fill="lighten" w="80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94" h="21600">
                <a:moveTo>
                  <a:pt x="33490" y="3794"/>
                </a:moveTo>
                <a:lnTo>
                  <a:pt x="47503" y="10800"/>
                </a:lnTo>
                <a:lnTo>
                  <a:pt x="33490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5" name="AutoShape 14">
            <a:hlinkClick r:id="rId6" action="ppaction://hlinksldjump"/>
          </p:cNvPr>
          <p:cNvSpPr/>
          <p:nvPr/>
        </p:nvSpPr>
        <p:spPr>
          <a:xfrm>
            <a:off x="5867280" y="45720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6" name="AutoShape 15">
            <a:hlinkClick r:id="rId7" action="ppaction://hlinksldjump"/>
          </p:cNvPr>
          <p:cNvSpPr/>
          <p:nvPr/>
        </p:nvSpPr>
        <p:spPr>
          <a:xfrm>
            <a:off x="5867280" y="5105520"/>
            <a:ext cx="1143000" cy="30456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0994" h="21600">
                <a:moveTo>
                  <a:pt x="0" y="0"/>
                </a:moveTo>
                <a:lnTo>
                  <a:pt x="80994" y="0"/>
                </a:lnTo>
                <a:lnTo>
                  <a:pt x="80994" y="21600"/>
                </a:lnTo>
                <a:lnTo>
                  <a:pt x="0" y="21600"/>
                </a:lnTo>
                <a:close/>
              </a:path>
              <a:path fill="lightenLess" w="80994" h="21600">
                <a:moveTo>
                  <a:pt x="0" y="0"/>
                </a:moveTo>
                <a:lnTo>
                  <a:pt x="80994" y="0"/>
                </a:lnTo>
                <a:lnTo>
                  <a:pt x="79594" y="1400"/>
                </a:lnTo>
                <a:lnTo>
                  <a:pt x="1400" y="1400"/>
                </a:lnTo>
                <a:close/>
              </a:path>
              <a:path fill="darken" w="80994" h="21600">
                <a:moveTo>
                  <a:pt x="80994" y="0"/>
                </a:moveTo>
                <a:lnTo>
                  <a:pt x="80994" y="21600"/>
                </a:lnTo>
                <a:lnTo>
                  <a:pt x="79594" y="20200"/>
                </a:lnTo>
                <a:lnTo>
                  <a:pt x="79594" y="1400"/>
                </a:lnTo>
                <a:close/>
              </a:path>
              <a:path fill="darkenLess" w="80994" h="21600">
                <a:moveTo>
                  <a:pt x="80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4" y="20200"/>
                </a:lnTo>
                <a:close/>
              </a:path>
              <a:path fill="lighten" w="80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94" h="21600">
                <a:moveTo>
                  <a:pt x="33490" y="3794"/>
                </a:moveTo>
                <a:lnTo>
                  <a:pt x="47503" y="10800"/>
                </a:lnTo>
                <a:lnTo>
                  <a:pt x="33490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5867280" y="56386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8" name="AutoShape 17">
            <a:hlinkClick r:id="" action="ppaction://hlinkshowjump?jump=nextslide"/>
          </p:cNvPr>
          <p:cNvSpPr/>
          <p:nvPr/>
        </p:nvSpPr>
        <p:spPr>
          <a:xfrm>
            <a:off x="5867280" y="632448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9" name="AutoShape 18"/>
          <p:cNvSpPr/>
          <p:nvPr/>
        </p:nvSpPr>
        <p:spPr>
          <a:xfrm>
            <a:off x="586728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7467480" y="60199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вершить работу</a:t>
            </a:r>
            <a:endParaRPr b="1" lang="en-US" sz="14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533520" y="2286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ВИДЫ ТЕЛ ВРАЩЕНИЯ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62" name="Picture 5" descr="C:\Documents and Settings\site105\Мои документы\геометрия\434.jpg"/>
          <p:cNvPicPr/>
          <p:nvPr/>
        </p:nvPicPr>
        <p:blipFill>
          <a:blip r:embed="rId1"/>
          <a:stretch/>
        </p:blipFill>
        <p:spPr>
          <a:xfrm>
            <a:off x="1143000" y="1131840"/>
            <a:ext cx="1295280" cy="16113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2438280" y="11430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илиндр-тело, которое описывает прямоугольник при вращении его около стороны как оси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64" name="Picture 7" descr="C:\Documents and Settings\site105\Мои документы\геометрия\443.jpg"/>
          <p:cNvPicPr/>
          <p:nvPr/>
        </p:nvPicPr>
        <p:blipFill>
          <a:blip r:embed="rId2"/>
          <a:stretch/>
        </p:blipFill>
        <p:spPr>
          <a:xfrm>
            <a:off x="1143000" y="2819520"/>
            <a:ext cx="1295280" cy="16002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2590920" y="32767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ус-тело, которое получено при вращении прямоугольного треугольника вокруг его катета как оси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66" name="Picture 9" descr="C:\Documents and Settings\site105\Мои документы\геометрия\452.jpg"/>
          <p:cNvPicPr/>
          <p:nvPr/>
        </p:nvPicPr>
        <p:blipFill>
          <a:blip r:embed="rId3"/>
          <a:stretch/>
        </p:blipFill>
        <p:spPr>
          <a:xfrm>
            <a:off x="1143000" y="4648320"/>
            <a:ext cx="1335240" cy="1523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2590920" y="53341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ар-тело полученное при вращении полукруга вокруг его диаметра как оси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7467480" y="609588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69" h="21600">
                <a:moveTo>
                  <a:pt x="27178" y="10800"/>
                </a:moveTo>
                <a:lnTo>
                  <a:pt x="41191" y="3794"/>
                </a:lnTo>
                <a:lnTo>
                  <a:pt x="41191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14400" y="30492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ОПРЕДЕЛЕНИЕ ЦИЛИНДР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70" name="Picture 3" descr="C:\Documents and Settings\site105\Мои документы\Новая папка\cilindr.gif"/>
          <p:cNvPicPr/>
          <p:nvPr/>
        </p:nvPicPr>
        <p:blipFill>
          <a:blip r:embed="rId1"/>
          <a:stretch/>
        </p:blipFill>
        <p:spPr>
          <a:xfrm>
            <a:off x="1030320" y="2514600"/>
            <a:ext cx="2774880" cy="3646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3581280" y="1676520"/>
            <a:ext cx="48769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илиндром называется тело, которое состоит из двух кругов, не лежащих в одной плоскости и совмещаемых параллельным переносом, и всех отрезков, соединяющих соответствующие точки этих кругов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уги называются основаниями цилиндра, а отрезки,соединяющие соответствующие точки окружностей кругов,образующими цилиндра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7543800" y="6248520"/>
            <a:ext cx="1219320" cy="30456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10800"/>
                </a:moveTo>
                <a:lnTo>
                  <a:pt x="50206" y="3794"/>
                </a:lnTo>
                <a:lnTo>
                  <a:pt x="502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838080" y="5335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ОПРЕДЕЛЕНИЕ КОНУС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505320" y="2057400"/>
            <a:ext cx="4876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усом называется тело,которое состоит из круга-основания конуса,точки, не лежащей в плоскости этого круга,вершины конуса и всех отрезков,соединяющих вершину конуса с точками основания.</a:t>
            </a:r>
            <a:endParaRPr b="1" lang="en-US" sz="2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315200" y="62485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781" h="21600">
                <a:moveTo>
                  <a:pt x="38884" y="10800"/>
                </a:moveTo>
                <a:lnTo>
                  <a:pt x="52897" y="3794"/>
                </a:lnTo>
                <a:lnTo>
                  <a:pt x="52897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26942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85800" y="380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СЕЧЕНИЯ ЦИЛИНДР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78" name="Picture 3" descr="C:\Documents and Settings\site105\Мои документы\геометрия\435.jpg"/>
          <p:cNvPicPr/>
          <p:nvPr/>
        </p:nvPicPr>
        <p:blipFill>
          <a:blip r:embed="rId1"/>
          <a:stretch/>
        </p:blipFill>
        <p:spPr>
          <a:xfrm>
            <a:off x="1143000" y="1143000"/>
            <a:ext cx="1828800" cy="1808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Documents and Settings\site105\Мои документы\геометрия\436.jpg"/>
          <p:cNvPicPr/>
          <p:nvPr/>
        </p:nvPicPr>
        <p:blipFill>
          <a:blip r:embed="rId2"/>
          <a:stretch/>
        </p:blipFill>
        <p:spPr>
          <a:xfrm>
            <a:off x="11430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:\Documents and Settings\site105\Мои документы\геометрия\437.jpg"/>
          <p:cNvPicPr/>
          <p:nvPr/>
        </p:nvPicPr>
        <p:blipFill>
          <a:blip r:embed="rId3"/>
          <a:stretch/>
        </p:blipFill>
        <p:spPr>
          <a:xfrm>
            <a:off x="1143000" y="4952880"/>
            <a:ext cx="1828800" cy="1676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3352680" y="15238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цилиндра плоскостью,параллельной его оси,представляет прямоугольник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429000" y="34290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евое сечение-сечение цилиндра плоскостью,проходящей через его ось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505320" y="52578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цилиндра плоскостью, параллельной основаниям, представляет собой круг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7543800" y="6248520"/>
            <a:ext cx="1219320" cy="30456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10800"/>
                </a:moveTo>
                <a:lnTo>
                  <a:pt x="50206" y="3794"/>
                </a:lnTo>
                <a:lnTo>
                  <a:pt x="502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838080" y="457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ОПРЕДЕЛЕНИЕ ШАР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419720" y="2286000"/>
            <a:ext cx="4343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аром называется тело, которое состоит из всех точек пространства, находящихся на расстоянии,не большем данного, от данной точки. Эта точка называется центром шара, а данное расстояние радиусом шара.</a:t>
            </a:r>
            <a:endParaRPr b="1" lang="en-US" sz="28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87" name="Picture 5" descr="C:\Documents and Settings\site105\Мои документы\Новая папка\shar.gif"/>
          <p:cNvPicPr/>
          <p:nvPr/>
        </p:nvPicPr>
        <p:blipFill>
          <a:blip r:embed="rId1"/>
          <a:stretch/>
        </p:blipFill>
        <p:spPr>
          <a:xfrm>
            <a:off x="1219320" y="2666880"/>
            <a:ext cx="2955960" cy="29718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746748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864" h="21600">
                <a:moveTo>
                  <a:pt x="46926" y="10800"/>
                </a:moveTo>
                <a:lnTo>
                  <a:pt x="60939" y="3794"/>
                </a:lnTo>
                <a:lnTo>
                  <a:pt x="60939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0666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СЕЧЕНИЕ КОНУС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90" name="Picture 3" descr="C:\Documents and Settings\site105\Мои документы\геометрия\444.jpg"/>
          <p:cNvPicPr/>
          <p:nvPr/>
        </p:nvPicPr>
        <p:blipFill>
          <a:blip r:embed="rId1"/>
          <a:stretch/>
        </p:blipFill>
        <p:spPr>
          <a:xfrm>
            <a:off x="1219320" y="1981080"/>
            <a:ext cx="1371600" cy="142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site105\Мои документы\геометрия\445.jpg"/>
          <p:cNvPicPr/>
          <p:nvPr/>
        </p:nvPicPr>
        <p:blipFill>
          <a:blip r:embed="rId2"/>
          <a:stretch/>
        </p:blipFill>
        <p:spPr>
          <a:xfrm>
            <a:off x="1143000" y="3505320"/>
            <a:ext cx="1427040" cy="1547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site105\Мои документы\геометрия\446.jpg"/>
          <p:cNvPicPr/>
          <p:nvPr/>
        </p:nvPicPr>
        <p:blipFill>
          <a:blip r:embed="rId3"/>
          <a:stretch/>
        </p:blipFill>
        <p:spPr>
          <a:xfrm>
            <a:off x="1143000" y="5181480"/>
            <a:ext cx="1447920" cy="14986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2743200" y="18288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конуса плоскостью,проходящей через его вершину, представляет собой равнобедренный треугольник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819520" y="350532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евое сечение конуса-это сечение, проходящее через его ось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895480" y="525780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конуса плоскостью, параллельной его основаниям, представляет собой круг с центром на оси конуса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762012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864" h="21600">
                <a:moveTo>
                  <a:pt x="46926" y="10800"/>
                </a:moveTo>
                <a:lnTo>
                  <a:pt x="60939" y="3794"/>
                </a:lnTo>
                <a:lnTo>
                  <a:pt x="60939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00:08:06Z</dcterms:created>
  <dc:creator>site105</dc:creator>
  <dc:description/>
  <dc:language>en-US</dc:language>
  <cp:lastModifiedBy>Коля</cp:lastModifiedBy>
  <dcterms:modified xsi:type="dcterms:W3CDTF">2013-03-30T22:06:19Z</dcterms:modified>
  <cp:revision>44</cp:revision>
  <dc:subject/>
  <dc:title>Тела вращения</dc:title>
</cp:coreProperties>
</file>