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CD92-487A-4D23-8011-1087DB97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C9E2-16F2-4D05-91CF-B74AD51A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677-1E66-4D74-8A76-424EAE50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BCFE-41A0-4F76-998E-FB65029C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54AF-5538-474B-B05C-B2D9C6AC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2E7-0A32-41FD-84B4-67DD96C0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CCCF-51E6-4A31-A1B7-948B9CB5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3C6D-757E-45E1-A06C-DDE94D41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280F-18CF-45D5-A845-F7C5C27D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97EF-558A-437B-BABD-7E05E9D5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D093-9B2B-4491-97BF-88CDAFA5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0CB-DD50-4D1D-A905-44A57AFA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66D3-8F9B-4965-B993-903F6C14A7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Бумажные складные модели и их использование на уроках геометрии в 10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Малышева И. Н.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учитель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МБОУ СОШ № 3 г. Вяз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7" descr="фотомодели 001"/>
          <p:cNvPicPr/>
          <p:nvPr/>
        </p:nvPicPr>
        <p:blipFill>
          <a:blip r:embed="rId1"/>
          <a:stretch/>
        </p:blipFill>
        <p:spPr>
          <a:xfrm>
            <a:off x="2000160" y="4286160"/>
            <a:ext cx="1701720" cy="127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8" descr="фотомодели 007"/>
          <p:cNvPicPr/>
          <p:nvPr/>
        </p:nvPicPr>
        <p:blipFill>
          <a:blip r:embed="rId2"/>
          <a:stretch/>
        </p:blipFill>
        <p:spPr>
          <a:xfrm>
            <a:off x="1643040" y="2500200"/>
            <a:ext cx="1725480" cy="1295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7" descr="фотомодели 013"/>
          <p:cNvPicPr/>
          <p:nvPr/>
        </p:nvPicPr>
        <p:blipFill>
          <a:blip r:embed="rId3"/>
          <a:stretch/>
        </p:blipFill>
        <p:spPr>
          <a:xfrm>
            <a:off x="6000840" y="4351320"/>
            <a:ext cx="157140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4392360" cy="507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ложим от луча НА уго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вный 60◦.На второй 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ороне отложим отрез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Д =6,5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единим т.А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режем из той же полови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иста острый угол по ли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гиба до т. Н и по лучу 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дель гот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8320" y="907920"/>
            <a:ext cx="4100400" cy="5113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фотомодели 016"/>
          <p:cNvPicPr/>
          <p:nvPr/>
        </p:nvPicPr>
        <p:blipFill>
          <a:blip r:embed="rId2"/>
          <a:stretch/>
        </p:blipFill>
        <p:spPr>
          <a:xfrm>
            <a:off x="4716360" y="2205000"/>
            <a:ext cx="3952800" cy="29653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>
            <a:off x="249120" y="189000"/>
            <a:ext cx="8499600" cy="974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3. Построим отрезок АД, длина которого равна искомому    расстоя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одель 4 – «Две параллельные плоскости».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186080" cy="47527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прямоугольном ли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умаги чертят д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ллельные пря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2920" y="1413000"/>
            <a:ext cx="4038840" cy="4752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фотомодели 018"/>
          <p:cNvPicPr/>
          <p:nvPr/>
        </p:nvPicPr>
        <p:blipFill>
          <a:blip r:embed="rId2"/>
          <a:stretch/>
        </p:blipFill>
        <p:spPr>
          <a:xfrm>
            <a:off x="4572000" y="2133720"/>
            <a:ext cx="3881520" cy="29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560" y="1196640"/>
            <a:ext cx="8497800" cy="5661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фотомодели 021"/>
          <p:cNvPicPr/>
          <p:nvPr/>
        </p:nvPicPr>
        <p:blipFill>
          <a:blip r:embed="rId2"/>
          <a:stretch/>
        </p:blipFill>
        <p:spPr>
          <a:xfrm>
            <a:off x="1187280" y="1413000"/>
            <a:ext cx="6696360" cy="50227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"/>
          <p:cNvSpPr/>
          <p:nvPr/>
        </p:nvSpPr>
        <p:spPr>
          <a:xfrm>
            <a:off x="250920" y="333360"/>
            <a:ext cx="8497800" cy="9169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тем по ним делают разрезы с двух сторон на треть длины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гибают края в одну стор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 ним сверху и снизу загибают оставшиеся части листа, которые 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лужат моделью параллельных плоск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208720" cy="52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фотомодели 020"/>
          <p:cNvPicPr/>
          <p:nvPr/>
        </p:nvPicPr>
        <p:blipFill>
          <a:blip r:embed="rId2"/>
          <a:stretch/>
        </p:blipFill>
        <p:spPr>
          <a:xfrm>
            <a:off x="1258920" y="1611360"/>
            <a:ext cx="640872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Задача 3. Даны пересекающиеся прямые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и точка А, не лежащая в плоскости этих прямых. Докажите, что через точку А проходит плоскость, параллельная прямым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, и притом только од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713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верхней части загот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водим прямы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, а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ижней – отмечаем на оборо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иста точку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Замеч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 помощью этой модели м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также иллюстр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войства паралл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лоск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00720" y="1413000"/>
            <a:ext cx="4186080" cy="471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фотомодели 001"/>
          <p:cNvPicPr/>
          <p:nvPr/>
        </p:nvPicPr>
        <p:blipFill>
          <a:blip r:embed="rId2"/>
          <a:stretch/>
        </p:blipFill>
        <p:spPr>
          <a:xfrm>
            <a:off x="4572000" y="1989000"/>
            <a:ext cx="4022640" cy="30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981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одель 1 – «Две пересекающиеся плоско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5472000" cy="5616720"/>
          </a:xfrm>
          <a:prstGeom prst="rect">
            <a:avLst/>
          </a:prstGeom>
          <a:gradFill rotWithShape="0">
            <a:gsLst>
              <a:gs pos="0">
                <a:srgbClr val="fffff7"/>
              </a:gs>
              <a:gs pos="100000">
                <a:srgbClr val="ff99ff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огнутый пополам лист бумаги служ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делью двух пересекающихся плоск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Линия сгиба – прямая их пересе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Изображая в отдельных частях заго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прямые, отрезки, многоугольники, м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демонстрировать различные вариа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взаимного расположения пло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фигур, лежащих в двух пересек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плоскостях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рямая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ресекает плоскость </a:t>
            </a:r>
            <a:r>
              <a:rPr b="0" i="1" lang="el-GR" sz="2000" spc="-1" strike="noStrike">
                <a:solidFill>
                  <a:srgbClr val="000099"/>
                </a:solidFill>
                <a:latin typeface="Arial"/>
              </a:rPr>
              <a:t>α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Через две пересекающиеся прямые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а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роходит плоскость </a:t>
            </a:r>
            <a:r>
              <a:rPr b="0" lang="el-GR" sz="2000" spc="-1" strike="noStrike">
                <a:solidFill>
                  <a:srgbClr val="000099"/>
                </a:solidFill>
                <a:latin typeface="Arial"/>
              </a:rPr>
              <a:t>β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и притом только од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67280" y="981000"/>
            <a:ext cx="2959200" cy="561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фотомодели 002"/>
          <p:cNvPicPr/>
          <p:nvPr/>
        </p:nvPicPr>
        <p:blipFill>
          <a:blip r:embed="rId2"/>
          <a:stretch/>
        </p:blipFill>
        <p:spPr>
          <a:xfrm>
            <a:off x="5940360" y="1052640"/>
            <a:ext cx="2952720" cy="221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фотомодели 003"/>
          <p:cNvPicPr/>
          <p:nvPr/>
        </p:nvPicPr>
        <p:blipFill>
          <a:blip r:embed="rId3"/>
          <a:stretch/>
        </p:blipFill>
        <p:spPr>
          <a:xfrm>
            <a:off x="5940360" y="4076640"/>
            <a:ext cx="288144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1295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дача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2879640" cy="42498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║в, с ∩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рещивающие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фотомодели 004"/>
          <p:cNvPicPr/>
          <p:nvPr/>
        </p:nvPicPr>
        <p:blipFill>
          <a:blip r:embed="rId1"/>
          <a:stretch/>
        </p:blipFill>
        <p:spPr>
          <a:xfrm>
            <a:off x="3348000" y="1484280"/>
            <a:ext cx="5472000" cy="42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solidFill>
            <a:srgbClr val="f7fad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Модель 2 – «Трехгранный уго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solidFill>
            <a:srgbClr val="f7fad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Заготовка модели –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огнут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полам и разрезанный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линии сгиба до серед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ямоугольный лист бумаг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дна из половинок котор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ще раз согнута попол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 этой модели из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фигур можно выполнять сразу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трех попарно пересек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лоско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00720" y="1125000"/>
            <a:ext cx="4186080" cy="5000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фотомодели 006"/>
          <p:cNvPicPr/>
          <p:nvPr/>
        </p:nvPicPr>
        <p:blipFill>
          <a:blip r:embed="rId2"/>
          <a:stretch/>
        </p:blipFill>
        <p:spPr>
          <a:xfrm>
            <a:off x="4500720" y="2116080"/>
            <a:ext cx="4174920" cy="30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351640" cy="1008000"/>
          </a:xfrm>
          <a:prstGeom prst="rect">
            <a:avLst/>
          </a:prstGeom>
          <a:gradFill rotWithShape="0">
            <a:gsLst>
              <a:gs pos="0">
                <a:srgbClr val="fffff7"/>
              </a:gs>
              <a:gs pos="100000">
                <a:srgbClr val="ffcc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дача 2.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з точки А, удаленной от плоскости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Ὑ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а расстоянии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, проведены к этой плоскости по углом 30◦ наклонные АВ и АС. Угол между их проекциями 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Ὑ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авен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20◦. Вычислите 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5689440" cy="5400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усть половина листа служит модел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лоскости Ὑ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Arial"/>
              </a:rPr>
              <a:t>1.     Изобразим наклонные АВ и 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- т.В – на первой ли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гиба и под углом 30◦ отрезок 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.А – на второй линии сгиба, посколь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з нее проводят сразу две накло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940360" y="1197000"/>
            <a:ext cx="2741760" cy="540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фотомодели 007"/>
          <p:cNvPicPr/>
          <p:nvPr/>
        </p:nvPicPr>
        <p:blipFill>
          <a:blip r:embed="rId2"/>
          <a:stretch/>
        </p:blipFill>
        <p:spPr>
          <a:xfrm>
            <a:off x="6227640" y="11970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фотомодели 008"/>
          <p:cNvPicPr/>
          <p:nvPr/>
        </p:nvPicPr>
        <p:blipFill>
          <a:blip r:embed="rId3"/>
          <a:stretch/>
        </p:blipFill>
        <p:spPr>
          <a:xfrm>
            <a:off x="6156360" y="2997360"/>
            <a:ext cx="2311200" cy="17334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1"/>
          <p:cNvSpPr/>
          <p:nvPr/>
        </p:nvSpPr>
        <p:spPr>
          <a:xfrm>
            <a:off x="5940360" y="1628640"/>
            <a:ext cx="2741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фотомодели 009"/>
          <p:cNvPicPr/>
          <p:nvPr/>
        </p:nvPicPr>
        <p:blipFill>
          <a:blip r:embed="rId4"/>
          <a:stretch/>
        </p:blipFill>
        <p:spPr>
          <a:xfrm>
            <a:off x="6227640" y="4941720"/>
            <a:ext cx="2268720" cy="170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3754440" cy="5433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2. Проведем перпендикуляр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точки А к плоскости 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ание перпендикуляр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чка пересечения ли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гибов –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образим отрезок АД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торой линии сги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140000" y="692280"/>
            <a:ext cx="4470120" cy="540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фотомодели 010"/>
          <p:cNvPicPr/>
          <p:nvPr/>
        </p:nvPicPr>
        <p:blipFill>
          <a:blip r:embed="rId2"/>
          <a:stretch/>
        </p:blipFill>
        <p:spPr>
          <a:xfrm>
            <a:off x="4140360" y="1501920"/>
            <a:ext cx="4464000" cy="34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4248000" cy="5040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3. Построим искомый отрезок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от луча Д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ложим угол, равный 120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его второй стороне отметим отрезок ДС = Д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единим Точки В и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дель гот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788000" y="836280"/>
            <a:ext cx="4038480" cy="5040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фотомодели 011"/>
          <p:cNvPicPr/>
          <p:nvPr/>
        </p:nvPicPr>
        <p:blipFill>
          <a:blip r:embed="rId2"/>
          <a:stretch/>
        </p:blipFill>
        <p:spPr>
          <a:xfrm>
            <a:off x="4859280" y="1981080"/>
            <a:ext cx="3889440" cy="29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одель 3 – «Двугранный угол»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00ff"/>
                </a:solidFill>
                <a:latin typeface="Arial"/>
              </a:rPr>
              <a:t>Задача 3.</a:t>
            </a:r>
            <a:r>
              <a:rPr b="1" i="1" lang="ru-RU" sz="2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00ff"/>
                </a:solidFill>
                <a:latin typeface="Arial"/>
              </a:rPr>
              <a:t>Параллельные прямые АВ и СД принадлежат разным граням двугранного угла, равного 60◦. Точки А и Д удалены от ребра угла на 8 см и 6,5 см соответственно. Найдите расстояние между прямыми АВ и С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835520" cy="417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.  Построим         линейный      угол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вугранного     уг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линии сгиба отметим точку    Н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ведем  из  нее в кажд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овинке листа луч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пендикулярные линии сги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92720" y="2205000"/>
            <a:ext cx="3394080" cy="4176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фотомодели 012"/>
          <p:cNvPicPr/>
          <p:nvPr/>
        </p:nvPicPr>
        <p:blipFill>
          <a:blip r:embed="rId2"/>
          <a:stretch/>
        </p:blipFill>
        <p:spPr>
          <a:xfrm>
            <a:off x="5724360" y="2060640"/>
            <a:ext cx="2953080" cy="2216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фотомодели 014"/>
          <p:cNvPicPr/>
          <p:nvPr/>
        </p:nvPicPr>
        <p:blipFill>
          <a:blip r:embed="rId3"/>
          <a:stretch/>
        </p:blipFill>
        <p:spPr>
          <a:xfrm>
            <a:off x="5724360" y="4221000"/>
            <a:ext cx="294660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1052280"/>
            <a:ext cx="4037040" cy="504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строим на сторо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инейного угла отре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= 8 см и НД = 6,5 см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ведем в соответству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овинках листа прямые АВ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С параллельно линии сгиб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Тогда они будут параллель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жду соб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1052280"/>
            <a:ext cx="4100400" cy="504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фотомодели 015"/>
          <p:cNvPicPr/>
          <p:nvPr/>
        </p:nvPicPr>
        <p:blipFill>
          <a:blip r:embed="rId2"/>
          <a:stretch/>
        </p:blipFill>
        <p:spPr>
          <a:xfrm>
            <a:off x="4788000" y="2349360"/>
            <a:ext cx="3956040" cy="2967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684360" y="333360"/>
            <a:ext cx="8064360" cy="73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. Изобразим прямые АВ и С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06:18:47Z</dcterms:created>
  <dc:creator>Николай</dc:creator>
  <dc:description/>
  <dc:language>en-US</dc:language>
  <cp:lastModifiedBy>ИРИНА</cp:lastModifiedBy>
  <dcterms:modified xsi:type="dcterms:W3CDTF">2012-02-26T11:14:53Z</dcterms:modified>
  <cp:revision>17</cp:revision>
  <dc:subject/>
  <dc:title>МУНИЦИП</dc:title>
</cp:coreProperties>
</file>