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C5F-4CBC-4DBE-ADE1-D41D39E3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457-23FB-4504-A3FA-C92D10B0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FBB-98BD-4006-B18B-3D4FA7A8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15D-89F6-4A64-91C6-72115732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911-5AD8-4CBF-B060-0CD81187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4C2-1916-4549-82BE-EAFF43C6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B04-C7AC-45E7-AE00-E6C4EFE7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CBC-088D-4360-ADED-996B7225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C1D7-8E41-4455-AE30-2F27F7DD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B46-6EF7-454F-B606-37B09DD0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1DD-FC7A-4804-BD22-EB135590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C2B-4A4D-4F06-95BD-0707566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A43D-473E-4CD9-9C9C-7C5D4A49D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умажные складные модели и их использование на уроках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алышева И. Н.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МБОУ СОШ № 3 г. Вяз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7" descr="фотомодели 001"/>
          <p:cNvPicPr/>
          <p:nvPr/>
        </p:nvPicPr>
        <p:blipFill>
          <a:blip r:embed="rId1"/>
          <a:stretch/>
        </p:blipFill>
        <p:spPr>
          <a:xfrm>
            <a:off x="2000160" y="4286160"/>
            <a:ext cx="1701720" cy="127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8" descr="фотомодели 007"/>
          <p:cNvPicPr/>
          <p:nvPr/>
        </p:nvPicPr>
        <p:blipFill>
          <a:blip r:embed="rId2"/>
          <a:stretch/>
        </p:blipFill>
        <p:spPr>
          <a:xfrm>
            <a:off x="1643040" y="2500200"/>
            <a:ext cx="172548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фотомодели 013"/>
          <p:cNvPicPr/>
          <p:nvPr/>
        </p:nvPicPr>
        <p:blipFill>
          <a:blip r:embed="rId3"/>
          <a:stretch/>
        </p:blipFill>
        <p:spPr>
          <a:xfrm>
            <a:off x="6000840" y="4351320"/>
            <a:ext cx="15714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4392360" cy="507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ложим от луча НА уго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вный 60◦.На второй 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ороне отложим отрез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Д =6,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единим т.А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режем из той же полови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иста острый угол по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гиба до т. Н и по лучу 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ель гот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8320" y="907920"/>
            <a:ext cx="4100400" cy="511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фотомодели 016"/>
          <p:cNvPicPr/>
          <p:nvPr/>
        </p:nvPicPr>
        <p:blipFill>
          <a:blip r:embed="rId2"/>
          <a:stretch/>
        </p:blipFill>
        <p:spPr>
          <a:xfrm>
            <a:off x="4716360" y="2205000"/>
            <a:ext cx="3952800" cy="2965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249120" y="189000"/>
            <a:ext cx="8499600" cy="974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 Построим отрезок АД, длина которого равна искомому    рас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4 – «Две параллельные плоскости»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47527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прямоугольном ли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маги чертят д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ллельные пря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42920" y="1413000"/>
            <a:ext cx="4038840" cy="475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фотомодели 018"/>
          <p:cNvPicPr/>
          <p:nvPr/>
        </p:nvPicPr>
        <p:blipFill>
          <a:blip r:embed="rId2"/>
          <a:stretch/>
        </p:blipFill>
        <p:spPr>
          <a:xfrm>
            <a:off x="4572000" y="2133720"/>
            <a:ext cx="388152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560" y="1196640"/>
            <a:ext cx="8497800" cy="56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фотомодели 021"/>
          <p:cNvPicPr/>
          <p:nvPr/>
        </p:nvPicPr>
        <p:blipFill>
          <a:blip r:embed="rId2"/>
          <a:stretch/>
        </p:blipFill>
        <p:spPr>
          <a:xfrm>
            <a:off x="1187280" y="1413000"/>
            <a:ext cx="6696360" cy="5022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250920" y="333360"/>
            <a:ext cx="849780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тем по ним делают разрезы с двух сторон на треть длин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ибают края в одну сто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 ним сверху и снизу загибают оставшиеся части листа, которые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лужат моделью параллельных 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208720" cy="52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фотомодели 020"/>
          <p:cNvPicPr/>
          <p:nvPr/>
        </p:nvPicPr>
        <p:blipFill>
          <a:blip r:embed="rId2"/>
          <a:stretch/>
        </p:blipFill>
        <p:spPr>
          <a:xfrm>
            <a:off x="1258920" y="1611360"/>
            <a:ext cx="64087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дача 3. Даны пересекающиеся прямые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точка А, не лежащая в плоскости этих прямых. Докажите, что через точку А проходит плоскость, параллельная прямым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, и притом только од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верхней части заго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одим прямы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, 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жней – отмечаем на обор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ста точку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меч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 помощью этой модели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акже иллюстр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войства паралл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лос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186080" cy="47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фотомодели 001"/>
          <p:cNvPicPr/>
          <p:nvPr/>
        </p:nvPicPr>
        <p:blipFill>
          <a:blip r:embed="rId2"/>
          <a:stretch/>
        </p:blipFill>
        <p:spPr>
          <a:xfrm>
            <a:off x="4572000" y="1989000"/>
            <a:ext cx="4022640" cy="30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9810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1 – «Две пересекающиеся плоск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5472000" cy="561672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гнутый пополам лист бумаги слу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делью двух пересекающихся плоск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иния сгиба – прямая их пересе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зображая в отдельных частях за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рямые, отрезки, многоугольники,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демонстрировать различные вар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взаимного расположения пло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фигур, лежащих в двух пересек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плоскостях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ямая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ресекает плоскость </a:t>
            </a:r>
            <a:r>
              <a:rPr b="0" i="1" lang="el-GR" sz="2000" spc="-1" strike="noStrike">
                <a:solidFill>
                  <a:srgbClr val="000099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ерез две пересекающиеся прямые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а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оходит плоскость 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β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и притом только од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67280" y="981000"/>
            <a:ext cx="2959200" cy="561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модели 002"/>
          <p:cNvPicPr/>
          <p:nvPr/>
        </p:nvPicPr>
        <p:blipFill>
          <a:blip r:embed="rId2"/>
          <a:stretch/>
        </p:blipFill>
        <p:spPr>
          <a:xfrm>
            <a:off x="5940360" y="105264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модели 003"/>
          <p:cNvPicPr/>
          <p:nvPr/>
        </p:nvPicPr>
        <p:blipFill>
          <a:blip r:embed="rId3"/>
          <a:stretch/>
        </p:blipFill>
        <p:spPr>
          <a:xfrm>
            <a:off x="5940360" y="407664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2879640" cy="42498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║в, с ∩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ещивающие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фотомодели 004"/>
          <p:cNvPicPr/>
          <p:nvPr/>
        </p:nvPicPr>
        <p:blipFill>
          <a:blip r:embed="rId1"/>
          <a:stretch/>
        </p:blipFill>
        <p:spPr>
          <a:xfrm>
            <a:off x="3348000" y="1484280"/>
            <a:ext cx="5472000" cy="42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solidFill>
            <a:srgbClr val="f7fad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Модель 2 – «Трехгранный угол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solidFill>
            <a:srgbClr val="f7fad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аготовка модели –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гнут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полам и разрезанный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линии сгиба до серед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ямоугольный лист бумаг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дна из половинок котор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ще раз согнута попол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этой модели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фигур можно выполнять сразу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трех попарно пересек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лоск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1125000"/>
            <a:ext cx="4186080" cy="500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фотомодели 006"/>
          <p:cNvPicPr/>
          <p:nvPr/>
        </p:nvPicPr>
        <p:blipFill>
          <a:blip r:embed="rId2"/>
          <a:stretch/>
        </p:blipFill>
        <p:spPr>
          <a:xfrm>
            <a:off x="4500720" y="2116080"/>
            <a:ext cx="4174920" cy="30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1008000"/>
          </a:xfrm>
          <a:prstGeom prst="rect">
            <a:avLst/>
          </a:prstGeom>
          <a:gradFill rotWithShape="0">
            <a:gsLst>
              <a:gs pos="0">
                <a:srgbClr val="fffff7"/>
              </a:gs>
              <a:gs pos="100000">
                <a:srgbClr val="ffcc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дача 2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з точки А, удаленной от плоскост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Ὑ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 расстояни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проведены к этой плоскости по углом 30◦ наклонные АВ и АС. Угол между их проекциями 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Ὑ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вен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0◦. Вычислите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5689440" cy="5400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усть половина листа служит модел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лоскости Ὑ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1.     Изобразим наклонные АВ и 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т.В – на первой ли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гиба и под углом 30◦ отрезок 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.А – на второй линии сгиба, посколь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з нее проводят сразу две накло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741760" cy="540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фотомодели 007"/>
          <p:cNvPicPr/>
          <p:nvPr/>
        </p:nvPicPr>
        <p:blipFill>
          <a:blip r:embed="rId2"/>
          <a:stretch/>
        </p:blipFill>
        <p:spPr>
          <a:xfrm>
            <a:off x="6227640" y="11970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фотомодели 008"/>
          <p:cNvPicPr/>
          <p:nvPr/>
        </p:nvPicPr>
        <p:blipFill>
          <a:blip r:embed="rId3"/>
          <a:stretch/>
        </p:blipFill>
        <p:spPr>
          <a:xfrm>
            <a:off x="6156360" y="2997360"/>
            <a:ext cx="2311200" cy="17334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5940360" y="1628640"/>
            <a:ext cx="2741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фотомодели 009"/>
          <p:cNvPicPr/>
          <p:nvPr/>
        </p:nvPicPr>
        <p:blipFill>
          <a:blip r:embed="rId4"/>
          <a:stretch/>
        </p:blipFill>
        <p:spPr>
          <a:xfrm>
            <a:off x="6227640" y="4941720"/>
            <a:ext cx="2268720" cy="17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3754440" cy="543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2. Проведем перпендикуляр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точки А к плоскости 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ние перпендикуляр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чка пересечения ли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гибов –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образим отрезок АД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торой линии сги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40000" y="692280"/>
            <a:ext cx="4470120" cy="540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фотомодели 010"/>
          <p:cNvPicPr/>
          <p:nvPr/>
        </p:nvPicPr>
        <p:blipFill>
          <a:blip r:embed="rId2"/>
          <a:stretch/>
        </p:blipFill>
        <p:spPr>
          <a:xfrm>
            <a:off x="4140360" y="1501920"/>
            <a:ext cx="4464000" cy="34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4248000" cy="5040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3. Построим искомый отрезок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от луча Д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ложим угол, равный 120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его второй стороне отметим отрезок ДС = Д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единим Точки В и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дель го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88000" y="836280"/>
            <a:ext cx="4038480" cy="504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фотомодели 011"/>
          <p:cNvPicPr/>
          <p:nvPr/>
        </p:nvPicPr>
        <p:blipFill>
          <a:blip r:embed="rId2"/>
          <a:stretch/>
        </p:blipFill>
        <p:spPr>
          <a:xfrm>
            <a:off x="4859280" y="19810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дель 3 – «Двугранный угол»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ff"/>
                </a:solidFill>
                <a:latin typeface="Arial"/>
              </a:rPr>
              <a:t>Задача 3.</a:t>
            </a:r>
            <a:r>
              <a:rPr b="1" i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6600ff"/>
                </a:solidFill>
                <a:latin typeface="Arial"/>
              </a:rPr>
              <a:t>Параллельные прямые АВ и СД принадлежат разным граням двугранного угла, равного 60◦. Точки А и Д удалены от ребра угла на 8 см и 6,5 см соответственно. Найдите расстояние между прямыми АВ и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835520" cy="417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  Построим         линейный      угол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вугранного     у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линии сгиба отметим точку    Н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дем  из  нее в каж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винке листа луч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пендикулярные линии сги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394080" cy="4176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фотомодели 012"/>
          <p:cNvPicPr/>
          <p:nvPr/>
        </p:nvPicPr>
        <p:blipFill>
          <a:blip r:embed="rId2"/>
          <a:stretch/>
        </p:blipFill>
        <p:spPr>
          <a:xfrm>
            <a:off x="5724360" y="2060640"/>
            <a:ext cx="2953080" cy="221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фотомодели 014"/>
          <p:cNvPicPr/>
          <p:nvPr/>
        </p:nvPicPr>
        <p:blipFill>
          <a:blip r:embed="rId3"/>
          <a:stretch/>
        </p:blipFill>
        <p:spPr>
          <a:xfrm>
            <a:off x="5724360" y="4221000"/>
            <a:ext cx="29466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403704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троим на стор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нейного угла отре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= 8 см и НД = 6,5 см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ведем в соответ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винках листа прямые АВ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С параллельно линии сги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Тогда они будут параллель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ду соб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052280"/>
            <a:ext cx="4100400" cy="504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фотомодели 015"/>
          <p:cNvPicPr/>
          <p:nvPr/>
        </p:nvPicPr>
        <p:blipFill>
          <a:blip r:embed="rId2"/>
          <a:stretch/>
        </p:blipFill>
        <p:spPr>
          <a:xfrm>
            <a:off x="4788000" y="2349360"/>
            <a:ext cx="3956040" cy="2967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684360" y="333360"/>
            <a:ext cx="8064360" cy="73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 Изобразим прямые АВ и С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6:18:47Z</dcterms:created>
  <dc:creator>Николай</dc:creator>
  <dc:description/>
  <dc:language>en-US</dc:language>
  <cp:lastModifiedBy>ИРИНА</cp:lastModifiedBy>
  <dcterms:modified xsi:type="dcterms:W3CDTF">2012-02-26T11:14:53Z</dcterms:modified>
  <cp:revision>17</cp:revision>
  <dc:subject/>
  <dc:title>МУНИЦИП</dc:title>
</cp:coreProperties>
</file>