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079-9679-4909-91FC-0586FAFE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0BE-850A-4B93-89CF-BB7BE1BC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DEF-4F60-46C5-86A2-434C9B20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455-E5DE-417A-ACA2-3A6D3171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1140-4192-4227-B29A-60C00B64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1B02-D809-49C4-AFB3-780C0856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143C-65E9-4977-AECE-53976D95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81C3-1828-4DB6-B30F-11C2DBC6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F64B-C422-4879-BEF4-BA79B5D4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E355-A56C-49DD-BAE1-D73F852F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45C3-728A-4350-A0AE-C66B85F3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EA3-95F8-4901-843D-11F6ED5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143C-7F73-41F6-9A1D-0E8EABE8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AB4-5BBC-4E15-82CE-85DACC1D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C897-8EE4-4FC5-9533-3AF30055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BA21-FFE4-4E85-8700-65FE1475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86E5-2766-4409-B106-C39AE26A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CBC-AAAE-41A9-9C49-90F57FAA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EF2-3492-4085-9BC3-ECACBDE3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270-B8A7-4A61-9D2C-42CCD782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1CD-DD4F-4A5B-9BD3-6B94DB9A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41C-F066-409A-B78E-BB1C5AEF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AAE-3C33-40F5-B31F-0A4C504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F82-60F6-4CB7-90BF-E34DD542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34DE-563A-49B1-A5EC-7BB7B738A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5EE4-EC26-446D-BE82-78CB34E44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00200" y="304920"/>
            <a:ext cx="6095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рская пес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лата Окуджа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191120" y="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эт Булат Окуджава писал о простых истинах: о любви, вере, дружбе, братстве, верности, милосердии – и делал это мягко, деликатно, с дружеской улыбкой, а иногда с лёгкой горечью и грустью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3809880" cy="617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057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e7ec"/>
                </a:solidFill>
                <a:latin typeface="Tahoma"/>
              </a:rPr>
              <a:t>Цели урока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зать место авторской песни в развитии литературного процесса и музыкальной культуры стра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ь представление о творчестве Булата Окуджав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ывать любовь к родной стране и малой родине, к прекрасн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3886200" cy="618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19112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улат Окуджава работал в жанре авторской песн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го песни навсегда вошли в нашу жизн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1911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40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Ах, война, что ты сделала подлая…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335304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029200" y="1905120"/>
            <a:ext cx="342900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4956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354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Одна на всех, мы за ценой не постоим…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1148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1981080"/>
            <a:ext cx="44956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486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561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«Арбат, мой Арбат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4190760" cy="4191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572000" y="198108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«Мне давно хотелось написать песню о Москве, но не похожую на гимн, а какую-то интимную, выразить мою любовь…» - писал Булат Окуджав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24382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838080" y="2133720"/>
            <a:ext cx="3676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568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ма многих его стихов-песен – любовь. Он решил воспеть женщину как святыню, пасть перед ней на колен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419720" cy="5181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924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7048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911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куджава не мог забыть трагедию своей семьи: его отец, видный партийный работник был арестован в 1937г. И вскоре расстрелян, мать сослана в лагерь, а 13-летнего мальчика спрятали родственники. С матерью он увиделся через 10 лет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6kab</cp:lastModifiedBy>
  <dcterms:modified xsi:type="dcterms:W3CDTF">2011-03-04T05:47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