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D28-B3DD-49F5-9420-7D7EE9DA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39C-679A-43B5-9502-C2756EC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F37-918F-4E1F-B6DE-3D646400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EBA-1F2A-47EB-A05E-A9A4298D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17D-B40D-47B8-BAC4-C8503A52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BC0-7B5C-4079-96F6-F2E03FC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BA82-73DA-4C63-BD2F-DBDE75C1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92FD-2D2B-452B-8B9E-38AEF27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412E-D8A1-4A5E-90A8-3064752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6831-C6A4-4A8A-A342-2585A5F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C6BC-C072-4711-8C91-5E0BE949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85B-04BB-4049-8440-319AB063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440-FEAA-4338-BB6D-07B0917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617-3D12-4024-B243-1542576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38C1-DA53-477F-97F6-7CB3391C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8C39-91C3-4BFC-AABA-749FBB61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302E-2C5B-464A-8ADE-F9D388CF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7B5-F6A2-434D-8C72-ABF0442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885-8D4F-498A-A02B-691FD9BC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2DE-9166-4BB9-A2A6-E799496B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8A2-AF80-4E40-BE4A-9777901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5E9-DFE7-4B4F-9381-014F727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1FA-9249-4859-BD0D-47F8C9D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28F-1E8D-49A0-8B56-A997799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D8A-8F79-4126-8104-6560619DD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E844-44B9-41D9-927D-B5EBFD961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920"/>
            <a:ext cx="6095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ская пес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лата Окуджа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19112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эт Булат Окуджава писал о простых истинах: о любви, вере, дружбе, братстве, верности, милосердии – и делал это мягко, деликатно, с дружеской улыбкой, а иногда с лёгкой горечью и грустью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3809880" cy="61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057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e7ec"/>
                </a:solidFill>
                <a:latin typeface="Tahoma"/>
              </a:rPr>
              <a:t>Цели урока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 место авторской песни в развитии литературного процесса и музыкальной культуры стра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ь представление о творчестве Булата Окуджав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ывать любовь к родной стране и малой родине, к прекрасн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3886200" cy="618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9112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улат Окуджава работал в жанре авторской песн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го песни навсегда вошли в нашу жизн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91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40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Ах, война, что ты сделала подлая…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029200" y="1905120"/>
            <a:ext cx="342900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4956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354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Одна на всех, мы за ценой не постоим…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148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44956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486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561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«Арбат, мой Арбат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4190760" cy="4191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572000" y="19810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Мне давно хотелось написать песню о Москве, но не похожую на гимн, а какую-то интимную, выразить мою любовь…» - писал Булат Окуджав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24382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38080" y="2133720"/>
            <a:ext cx="3676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568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 многих его стихов-песен – любовь. Он решил воспеть женщину как святыню, пасть перед ней на колен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419720" cy="5181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704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911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куджава не мог забыть трагедию своей семьи: его отец, видный партийный работник был арестован в 1937г. И вскоре расстрелян, мать сослана в лагерь, а 13-летнего мальчика спрятали родственники. С матерью он увиделся через 10 лет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6kab</cp:lastModifiedBy>
  <dcterms:modified xsi:type="dcterms:W3CDTF">2011-03-04T05:47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