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4F9F0-2DB8-47FA-908E-643B9544C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35C2C-698F-4082-A22C-B67317BCB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2B7AC-4A9F-4C1A-9203-7A63842D5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F10DA-0D04-452B-8DD5-DA6B36BDA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D16DF-128D-4CA2-AD64-D9E92BA09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49B17-505F-4B37-B569-6678B445B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A1C5B-D755-43FE-A15D-51055571E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0BB86-38B5-4785-95E2-6DADCFE4B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EF7B9-A057-443C-864E-457ECF798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E6471-D77F-41D2-9641-1E71C934C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916E7-AA2F-4F53-A79A-2640E13A3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348FC-E528-49FD-9920-481DE1403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AC8C9-9244-4B6C-A5FD-DFC265690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B620E-DDB8-4EDF-9DC9-116A1D0B8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E6B12-9977-4440-BE1D-905D8CEE9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BBD64-C0D7-4523-AFD8-81353C3EC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C698D-EC84-49D5-8FEE-02DFFDDA0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E17FA-139E-4060-8285-1C6A62029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48F83-187C-4379-8EA6-42C8F5746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71506-6636-40EE-9397-64D0C1A48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51EDF-123E-4E84-BE6B-39D25FCBE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5C06A-286A-4780-AA51-FCE9210DB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978F6-2780-4CB8-B1D1-F8F4EB842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42E48-398B-4095-B074-C78E67D06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2F492-93BB-4F74-9E5D-442F37DFAF8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17F89-7358-4B25-9929-6ADCFB3D93D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1600200" y="304920"/>
            <a:ext cx="6095880" cy="525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Авторская песня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Булата Окуджавы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191120" y="0"/>
            <a:ext cx="495288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Поэт Булат Окуджава писал о простых истинах: о любви, вере, дружбе, братстве, верности, милосердии – и делал это мягко, деликатно, с дружеской улыбкой, а иногда с лёгкой горечью и грустью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0" y="380880"/>
            <a:ext cx="3809880" cy="61722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4114800" y="6324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230577" fill="hold"/>
                                        <p:tgtEl>
                                          <p:spTgt spid="1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de7ec"/>
                </a:solidFill>
                <a:latin typeface="Tahoma"/>
              </a:rPr>
              <a:t>Цели урока:</a:t>
            </a: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оказать место авторской песни в развитии литературного процесса и музыкальной культуры страны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дать представление о творчестве Булата Окуджавы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оспитывать любовь к родной стране и малой родине, к прекрасному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0" y="380880"/>
            <a:ext cx="3886200" cy="61866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191120" y="1752120"/>
            <a:ext cx="44956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Булат Окуджава работал в жанре авторской песни.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Его песни навсегда вошли в нашу жизнь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4191120" y="57913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74401" fill="hold"/>
                                        <p:tgtEl>
                                          <p:spTgt spid="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«Ах, война, что ты сделала подлая…»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4648320" y="4114440"/>
            <a:ext cx="4038480" cy="19810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609480" y="1828800"/>
            <a:ext cx="3353040" cy="45720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5029200" y="1905120"/>
            <a:ext cx="3429000" cy="44956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4495680" y="6324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43543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«Одна на всех, мы за ценой не постоим…»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4648320" y="4114440"/>
            <a:ext cx="4038480" cy="198108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4648320" y="1981080"/>
            <a:ext cx="4495680" cy="4114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457200" y="1981080"/>
            <a:ext cx="403848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57200" y="4114800"/>
            <a:ext cx="403848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0" y="1981080"/>
            <a:ext cx="4495680" cy="41148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5"/>
          <a:stretch/>
        </p:blipFill>
        <p:spPr>
          <a:xfrm>
            <a:off x="5486400" y="6248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75616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5ffff"/>
                </a:solidFill>
                <a:latin typeface="Tahoma"/>
              </a:rPr>
              <a:t>«Арбат, мой Арбат»</a:t>
            </a: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648320" y="1981080"/>
            <a:ext cx="4038480" cy="19814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457200" y="4114440"/>
            <a:ext cx="4038480" cy="19810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304920" y="1981080"/>
            <a:ext cx="4190760" cy="41911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5"/>
          <a:stretch/>
        </p:blipFill>
        <p:spPr>
          <a:xfrm>
            <a:off x="4572000" y="1981080"/>
            <a:ext cx="45720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«Мне давно хотелось написать песню о Москве, но не похожую на гимн, а какую-то интимную, выразить мою любовь…» - писал Булат Окуджава.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457200" y="1981080"/>
            <a:ext cx="4038480" cy="198144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4648320" y="1981080"/>
            <a:ext cx="4038480" cy="198144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4"/>
          <a:stretch/>
        </p:blipFill>
        <p:spPr>
          <a:xfrm>
            <a:off x="4876920" y="2438280"/>
            <a:ext cx="4267080" cy="37339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5"/>
          <a:stretch/>
        </p:blipFill>
        <p:spPr>
          <a:xfrm>
            <a:off x="838080" y="2133720"/>
            <a:ext cx="367668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495680" y="838080"/>
            <a:ext cx="464832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Тема многих его стихов-песен – любовь. Он решил воспеть женщину как святыню, пасть перед ней на колени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0" y="1066680"/>
            <a:ext cx="4419720" cy="518184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7924680" y="6019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77048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191120" y="761760"/>
            <a:ext cx="44956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Окуджава не мог забыть трагедию своей семьи: его отец, видный партийный работник был арестован в 1937г. И вскоре расстрелян, мать сослана в лагерь, а 13-летнего мальчика спрятали родственники. С матерью он увиделся через 10 лет.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380880" y="685800"/>
            <a:ext cx="41911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16kab</cp:lastModifiedBy>
  <dcterms:modified xsi:type="dcterms:W3CDTF">2011-03-04T05:47:28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