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A79-4DB1-45EA-9086-D9F28DB3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14F-5E06-4B50-A4E8-23B06CC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DF9-EE3D-424D-ACAB-D78C0B3E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F8C-BD2A-465F-870E-0F7F8B7D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0009C-B7D2-471D-8534-03F2C533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64756-CDBC-46CF-8FDB-A7B3F3FE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E414-A880-4FE1-B2C9-8DD385AF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95EA-F1AB-4083-ABAA-95EFE97F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05BF7-AC29-4E1F-ACB5-3DBEABD9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E3DEB-C936-4B50-B42F-609AD5AB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D446-D62C-4FD8-A813-5703F55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3F5-45AF-4A88-BD6D-EDBF27E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B00C1-B007-42F9-AD33-92CE89F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3EFF2-AB96-418E-983D-B5087A9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0D658-ACE8-421C-A6F1-97A902C2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D7963-58DB-4DE2-A8DD-BD76440A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D0F0C-E4D3-49D7-BD5B-70036A0C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12F-5C9A-4D54-B2F8-83637B77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458-71C3-4F9B-A55A-45E391B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E18-5AB0-48F4-A17A-5851F1F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D8-C27B-4FAF-902A-D3E318A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EAA-7DB5-4481-88CD-D7EC5A96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DCB-C99C-45D5-B8BB-7939DCF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234-01E2-4834-8719-7F96B29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CA32-B5BF-4198-AA37-6FD9026EA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EB3F-73E6-476E-9367-6C05AE4C5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Музыкальное искусство казахского нар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Подготовил учитель истории: Рысмуханова 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kk-KZ" sz="1600" spc="-1" strike="noStrike">
                <a:solidFill>
                  <a:srgbClr val="ffffff"/>
                </a:solidFill>
                <a:latin typeface="Tahoma"/>
              </a:rPr>
              <a:t>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00200" y="1325520"/>
            <a:ext cx="6248520" cy="477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09680" y="12193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00200" y="3808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сан Кайг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09680" y="1415880"/>
            <a:ext cx="4876920" cy="4604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600200" y="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рманг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198440"/>
            <a:ext cx="5181480" cy="482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905120" y="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на Нурпеисо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19400" y="2362320"/>
            <a:ext cx="616248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1048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узыка – искусство, в котором переживания, чувства и идеи выражаются ритмически и интонационно организованными звук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Music"/>
          <p:cNvSpPr/>
          <p:nvPr/>
        </p:nvSpPr>
        <p:spPr>
          <a:xfrm>
            <a:off x="3043080" y="3754440"/>
            <a:ext cx="3129120" cy="2494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2400480"/>
            <a:ext cx="7239240" cy="361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музыкальных инструменто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62720" y="51055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омбы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8195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00600" y="2057400"/>
            <a:ext cx="3338640" cy="455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43200" y="0"/>
            <a:ext cx="4343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бы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924680" cy="3962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676520" y="457200"/>
            <a:ext cx="5943600" cy="17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анкобы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647712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752480" y="685800"/>
            <a:ext cx="57913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тыг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533520"/>
            <a:ext cx="7391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кестр казахски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родных инструмен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ю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музыкальное произведение, не сопровождающееся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окта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оминальные пес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Жы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сказания в стихах, песня, исполняемая в музыкальном сопровожд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43200" y="457200"/>
            <a:ext cx="356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 работа: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ждение Коркыта также связано с чудесами и мифами. Перед самым его рождением произошло затмение солнца, стало сов­сем темно, началась буря с дождем, загремел гром и засверкали молнии. Люди были сильно напуганы. А когда Коркыт родился, гроза закончилась, все вокруг успокоилось, ясно засветило солнце. «Он пришел в этот мир в тот момент, когда все были напуга­ны, он напугал всех нас, поэтому назовем его Коркыт», – решили лю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3T16:57:2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