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A406-D0A3-4319-B306-4AFD8B9A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9D6D-C70F-4170-A26B-8CD94460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88E-C0BE-46A4-A9F4-964409F6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D42C-0CE3-4E23-8987-0EA68163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57D85-6017-4CC6-8A7E-717EBC10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146BD-8ECA-4020-8041-95549F1C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D2F11-8770-4481-8BA1-51798FAF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BBAAA-C9B4-4A7B-BFF7-E1D30DB5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FF210-9A2D-4E37-9019-09D13A7E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B25BC-E3CE-48EA-9125-59FD30EB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FC64F-C554-4C97-B602-75224B95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525-5175-4D6C-917B-7E519970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72EBB-EA29-4289-AE90-D1851380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8B4BD-E268-4E6B-BDB6-FAC259A9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5B39D-A802-4259-BFC7-168771BD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4487B-0ECF-4FE7-9214-F008867B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112DE-F0FB-45F5-94CC-18A04BA2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3475-A4E3-4024-8F42-29590782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689-7E45-4DE8-A487-FC076E19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D78B-D6FF-4BEB-8798-538F2BD4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215B-8E7D-42A7-BF92-859C477D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D2C-5F43-4B3A-BE99-DB89933C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249-4701-46A5-A984-0E323569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85A5-EA42-4F88-BB64-D3E5A6A0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69CA-14BA-43F9-9932-32329C8D9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69DF-72B4-4CE5-A4D4-7BD636472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Музыкальное искусство казахского нар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5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ahoma"/>
              </a:rPr>
              <a:t>Подготовил учитель истории: Рысмуханова 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kk-KZ" sz="1600" spc="-1" strike="noStrike">
                <a:solidFill>
                  <a:srgbClr val="ffffff"/>
                </a:solidFill>
                <a:latin typeface="Tahoma"/>
              </a:rPr>
              <a:t> 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00200" y="1325520"/>
            <a:ext cx="6248520" cy="477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09680" y="12193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600200" y="380880"/>
            <a:ext cx="5867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сан Кайг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09680" y="1415880"/>
            <a:ext cx="4876920" cy="4604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600200" y="0"/>
            <a:ext cx="57913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урмангаз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cover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057400" y="1198440"/>
            <a:ext cx="5181480" cy="4821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905120" y="0"/>
            <a:ext cx="5790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на Нурпеисо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219400" y="2362320"/>
            <a:ext cx="6162480" cy="14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Спасибо за внимание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91960"/>
            <a:ext cx="861048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узыка – искусство, в котором переживания, чувства и идеи выражаются ритмически и интонационно организованными звукам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Music"/>
          <p:cNvSpPr/>
          <p:nvPr/>
        </p:nvSpPr>
        <p:spPr>
          <a:xfrm>
            <a:off x="3043080" y="3754440"/>
            <a:ext cx="3129120" cy="2494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66680" y="2400480"/>
            <a:ext cx="7239240" cy="3619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иды музыкальных инструментов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562720" y="510552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омбы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2819520" cy="457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800600" y="2057400"/>
            <a:ext cx="3338640" cy="4552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743200" y="0"/>
            <a:ext cx="4343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быз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7924680" cy="3962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676520" y="457200"/>
            <a:ext cx="5943600" cy="17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Шанкобы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143000" y="2666880"/>
            <a:ext cx="6477120" cy="3238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752480" y="685800"/>
            <a:ext cx="579132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етыг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914400" y="533520"/>
            <a:ext cx="73915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кестр казахски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родных инструмент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ю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музыкальное произведение, не сопровождающееся слов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Жоктау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поминальные пес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Жы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сказания в стихах, песня, исполняемая в музыкальном сопровожде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743200" y="457200"/>
            <a:ext cx="3562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арная работа: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ождение Коркыта также связано с чудесами и мифами. Перед самым его рождением произошло затмение солнца, стало сов­сем темно, началась буря с дождем, загремел гром и засверкали молнии. Люди были сильно напуганы. А когда Коркыт родился, гроза закончилась, все вокруг успокоилось, ясно засветило солнце. «Он пришел в этот мир в тот момент, когда все были напуга­ны, он напугал всех нас, поэтому назовем его Коркыт», – решили люд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13T16:57:2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