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CE34D-7A5B-4CBA-B87E-5C4B22D5C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667F0-651B-4936-9CB1-AFFC9FDE2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2E01F-8175-4336-A6FB-13A25F5DC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7C88F-6D75-4EF8-B140-BAE91E3A9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F1603D-8C03-47C9-91F7-C64D9908D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55D0B4-6103-44A9-9DE1-A2D04B986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9DC1C1-9936-40AB-8135-3D10BB58C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FA9AC1-CD47-4742-8C2D-319C45D62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067C61-D82E-430B-BB64-FEADD4F6C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B3705C-034D-4653-9E26-528911BEA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72A943-56BB-4E5C-A012-5D68B8642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32896-13C7-4C7E-A3DA-8F77D9096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6F3325-570F-4CDE-AE4E-6BBA4AB40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1634EF-28BA-4F5E-A9B3-ABEAB3E7E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9CEC27-D56D-4CDF-ABCF-7CBD6EEEF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F33E4E-618F-41BA-80CB-968E34F5A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AE31FF-9034-4F72-B2A4-8B3E59302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5C694-01F2-47BE-9029-2BD30B9EA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7CD83-B22A-4527-93BB-2252C0189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D003B-4177-4660-8E90-DE49FD874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ACA8B-4BE4-4D4F-8584-28AB91DB1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1CE68-7877-4BFB-B6CF-3FBAC9DEB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9B511-F189-4FDC-947E-F9D57F651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3D351-A58D-43F2-9114-62E5DAA9D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E1A31-832D-49A0-AB3B-44E21B952F0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B1B49-1DC2-4AB7-B497-01B92563296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400" spc="-1" strike="noStrike">
                <a:solidFill>
                  <a:srgbClr val="ffffff"/>
                </a:solidFill>
                <a:latin typeface="Tahoma"/>
              </a:rPr>
              <a:t>Музыкальное искусство казахского народ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Tahoma"/>
              </a:rPr>
              <a:t>5 класс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ffffff"/>
                </a:solidFill>
                <a:latin typeface="Tahoma"/>
              </a:rPr>
              <a:t>Подготовил учитель истории: Рысмуханова А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kk-KZ" sz="1600" spc="-1" strike="noStrike">
                <a:solidFill>
                  <a:srgbClr val="ffffff"/>
                </a:solidFill>
                <a:latin typeface="Tahoma"/>
              </a:rPr>
              <a:t> С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1600200" y="1325520"/>
            <a:ext cx="6248520" cy="47703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3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2209680" y="1219320"/>
            <a:ext cx="4800600" cy="48006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 txBox="1"/>
          <p:nvPr/>
        </p:nvSpPr>
        <p:spPr>
          <a:xfrm>
            <a:off x="1600200" y="380880"/>
            <a:ext cx="586728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Асан Кайгы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ransition>
    <p:pull dir="d"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xit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wipe(left)" transition="out">
                                      <p:cBhvr additive="repl">
                                        <p:cTn id="13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2209680" y="1415880"/>
            <a:ext cx="4876920" cy="460404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 txBox="1"/>
          <p:nvPr/>
        </p:nvSpPr>
        <p:spPr>
          <a:xfrm>
            <a:off x="1600200" y="0"/>
            <a:ext cx="57913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Курмангаз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p:transition>
    <p:cover dir="d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2057400" y="1198440"/>
            <a:ext cx="5181480" cy="482148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 txBox="1"/>
          <p:nvPr/>
        </p:nvSpPr>
        <p:spPr>
          <a:xfrm>
            <a:off x="1905120" y="0"/>
            <a:ext cx="57909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Дина Нурпеисова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7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898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2219400" y="2362320"/>
            <a:ext cx="6162480" cy="1485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Спасибо за внимание!!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8600" y="291960"/>
            <a:ext cx="8610480" cy="30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Музыка – искусство, в котором переживания, чувства и идеи выражаются ритмически и интонационно организованными звуками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Music"/>
          <p:cNvSpPr/>
          <p:nvPr/>
        </p:nvSpPr>
        <p:spPr>
          <a:xfrm>
            <a:off x="3043080" y="3754440"/>
            <a:ext cx="3129120" cy="24940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1066680" y="2400480"/>
            <a:ext cx="7239240" cy="361944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Виды музыкальных инструментов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5562720" y="5105520"/>
            <a:ext cx="33526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Домбыр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380880" y="2057400"/>
            <a:ext cx="2819520" cy="45720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4800600" y="2057400"/>
            <a:ext cx="3338640" cy="455292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 txBox="1"/>
          <p:nvPr/>
        </p:nvSpPr>
        <p:spPr>
          <a:xfrm>
            <a:off x="2743200" y="0"/>
            <a:ext cx="4343400" cy="146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Кобыз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push dir="r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457200" y="2057400"/>
            <a:ext cx="7924680" cy="396252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 txBox="1"/>
          <p:nvPr/>
        </p:nvSpPr>
        <p:spPr>
          <a:xfrm>
            <a:off x="1676520" y="457200"/>
            <a:ext cx="5943600" cy="171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Шанкобыз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1143000" y="2666880"/>
            <a:ext cx="6477120" cy="32385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 txBox="1"/>
          <p:nvPr/>
        </p:nvSpPr>
        <p:spPr>
          <a:xfrm>
            <a:off x="1752480" y="685800"/>
            <a:ext cx="5791320" cy="1143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Жетыген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p:transition>
    <p:fade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4114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 txBox="1"/>
          <p:nvPr/>
        </p:nvSpPr>
        <p:spPr>
          <a:xfrm>
            <a:off x="914400" y="533520"/>
            <a:ext cx="7391520" cy="1676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Оркестр казахских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народных инструментов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wedge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3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Кюй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– музыкальное произведение, не сопровождающееся словами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Жоктау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– поминальные песн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Жыр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– сказания в стихах, песня, исполняемая в музыкальном сопровождени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743200" y="457200"/>
            <a:ext cx="35622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ловарная работа:</a:t>
            </a:r>
            <a:endParaRPr b="1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comb dir="horz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45820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Рождение Коркыта также связано с чудесами и мифами. Перед самым его рождением произошло затмение солнца, стало сов­сем темно, началась буря с дождем, загремел гром и засверкали молнии. Люди были сильно напуганы. А когда Коркыт родился, гроза закончилась, все вокруг успокоилось, ясно засветило солнце. «Он пришел в этот мир в тот момент, когда все были напуга­ны, он напугал всех нас, поэтому назовем его Коркыт», – решили люд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2-02-13T16:57:2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