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31B-E07C-4A01-B5D7-293D8232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AA6-36C9-4061-B5A9-F0ED163B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7EE-0E7E-48B7-A22B-2A54EB39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0F4-B7BC-46CA-8A1F-ECFDCEC3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3632-64FF-4857-9DBC-BB3512F9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2C3C-9273-4B55-92CD-F450C6DE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B131-CC31-4731-8550-B1EF4D67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572B-8EE7-4533-85DA-94E121D2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86EE-C09B-435C-8C2C-AA99867F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0C57-E25A-4AB9-BE73-A43B4C1F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49EA-1091-4FA0-946B-AC8F4A78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095-D16F-4E67-8FBA-EA6657CD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805E-D1E4-4D27-97C3-9CD401CB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A171-B037-41CE-A482-C38ADEEE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C73D-A3BB-41D6-B667-2B18DA71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D15F-3748-41C2-B2B0-590DD5CD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A628-01A1-4D04-B432-10798615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AE8-F598-40A3-A1A9-6A7C387A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4CD-5735-4207-A6D2-AD7EEF94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4D9-4203-4DB8-8427-7ABEB548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E66-951E-4EB0-BA1D-B8239EDE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32D-AEFA-46D1-9300-224E8738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EDF-24F1-472F-9A3B-54D68DDB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20D-EF41-4E19-BAE8-8D2341C5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D170-7331-46A5-A2BB-11BD5B6954D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086E-E785-4A98-A041-C5B4D244CF4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3619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66"/>
                </a:solidFill>
                <a:latin typeface="Times New Roman"/>
              </a:rPr>
              <a:t>Педагогическая лаборатория</a:t>
            </a:r>
            <a:endParaRPr b="1" lang="en-US" sz="45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99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«Необходимо, чтобы тема урока была им интересна и доступна.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о время урока обязательно обращайся к непосредственному жизненному опыту уча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читель должен хорошо владеть фактическим материал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то чётко мыслит, тот чётко преподаё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нообразить методику проведения ур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99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«Управляемый тот класс, в котором учителя уважают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Это относится и к проведению урока и к отношениям Учитель –Учени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ажны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манера поведения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разговор учител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54680" y="2670120"/>
            <a:ext cx="350676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99"/>
                </a:solidFill>
                <a:latin typeface="Arial"/>
              </a:rPr>
              <a:t>9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Поддерживайте контакт с родителями, информируйте об успехах и поведении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99"/>
                </a:solidFill>
                <a:latin typeface="Arial"/>
              </a:rPr>
              <a:t>10. </a:t>
            </a: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Надо уметь справляться с ситуацией самостоятельно, а частое обращение за помощью к родителям, администрации школы – это проявление бессилия, что не вызывает уважения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3333600" cy="24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1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«Попробуйте выделить в классе лидеров, пользуясь их авторитетом, управляйте классом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2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Никогда не отступайте от своих слов, т. е. если вы попросили ученика принести дневник, добейтесь этого, даже если для этого потребуется остановить урок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3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Не поддавайтесь уговорам!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4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Никогда не переходите на личности, оскорбление учащихся не допустимо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5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«Заходите в класс с улыбкой. Начинайте каждый урок по – новому. Внедряйте педагогику сотрудничества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6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«Будьте сдержанными и лояльными, строгими, но справедливыми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2901960"/>
            <a:ext cx="3770280" cy="264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61000" y="2881440"/>
            <a:ext cx="3770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 Ы В О Д Ы 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Урок должен быть тщательно подготовленным. Интересным по содержанию, разнообразным по формам проведения, насыщен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Должна быть физическая и психологическая мобилизация учителя, его внутренняя готовность к уроку. Гармоническое соединение роли «дрессировщика», «клоуна» и «рабочей лошадки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Готовность к индивидуальной работе с учащимися, которые в ней имеют потребн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Педагогика сотрудничества. Относитесь к учащимся так, как бы вы хотели, чтобы они относились к вам. Учителя уважают, если он уважает ученик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«Как сделать класс управляемым?»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 algn="just">
              <a:lnSpc>
                <a:spcPct val="10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Много чего я научился у своих наставников, ещё больше – у своих товарищей, но наибольше – у своих учеников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Талмуд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-565920" algn="just">
              <a:lnSpc>
                <a:spcPct val="10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В хорошем учителе мы ценим лучшие качества дрессировщика клоуна и циркового коня, которого год за годом гоняют по кругу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Максим Звонарёв,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российский журналист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-565920" algn="just">
              <a:lnSpc>
                <a:spcPct val="10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По мнению учителей, яйца курицу не учат, по мнению учеников, курица не птица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Александр Ботвинников,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инженер, переводчик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аборатория – это научное учреждение, где идет неспешная, кропотливая работа над новыми достижения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рок - научная лаборатория для учител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Умный человек и на чужих ошибках учится и свои старается не повторять.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веты учител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«Перед уроком – «минута общен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Как театр начинается с вешалки, так и урок начинается ещё до звонка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Наличие ритуала вхождения в урок – это очень ценное приобретение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358128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75776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Никогда не начинать урок, если класс не готов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Этого над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идерживаться всегда и во всё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е кричать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948120" cy="26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«Продумать все этапы урока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чеников надо влюбить в себ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сё важно 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внеш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профессионализ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дикц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артистиз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выразительность подачи материа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87880" y="3102120"/>
            <a:ext cx="3113280" cy="22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75776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99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«Заинтересовать учащихся, втянуть в дискуссию, поменяться ролями (учитель –ученик)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6040" indent="0" algn="just"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6040" indent="0" algn="just"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6040" indent="0" algn="just"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идти к детям с добром, они это почувствуют и пойму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00160" y="3030480"/>
            <a:ext cx="307512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99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«Предложить самому шумному ученику роль учителя и доверить провести часть урока.»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57760" y="3100320"/>
            <a:ext cx="3741840" cy="222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75776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99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«Всегда быть готовым к уроку, иметь в запасе дополнительные задания для тех, кто не любит работать.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 любить, любить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2743200" cy="2119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2743200" cy="188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x</cp:lastModifiedBy>
  <dcterms:modified xsi:type="dcterms:W3CDTF">2009-10-15T18:54:2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