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684-6D9E-417D-A6E1-A28F476B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C71-A711-41E9-8F22-0520C50E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2D4-2F4B-4A6D-9A10-EB24371C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CFB-991F-4426-B76C-302B62B8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71C-AD9C-450D-9720-FBA4BAB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552B-2A79-48C8-B0ED-7ACF320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EB1-5660-4C63-9FEB-064F74A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9FB-9AC5-40F2-A197-A6C41075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CA2-7EC1-4644-B056-8D35085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38F-4AC3-40A1-ACBF-7336633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D7F5-3FE1-48D1-B55A-77F40EC7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A51-9B02-4249-8751-F1CE59F3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0BF-AFD2-41A1-9014-74C0E40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6CB7-7840-4044-B088-7469789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6B5-4775-4B9E-89D6-7CCBA6D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648-8A15-4E91-AD4C-F53CC583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815-065B-430F-87D7-07F7C0B1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393-8FA5-483B-88FB-8C472F64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50F-2860-4517-A62B-B501CDDE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048-719E-4554-B101-59423A1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A3E-D90A-46F1-A65E-3B4866A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86B-B486-465F-8253-B3E44C0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63A-EE56-4636-963F-B1F6B2B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51D-F0F6-4C5F-B54D-B45E7EF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E38-C9EA-41F6-A040-E5A4372570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487-3791-4B18-B046-83747376CE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66"/>
                </a:solidFill>
                <a:latin typeface="Times New Roman"/>
              </a:rPr>
              <a:t>Педагогическая лаборатория</a:t>
            </a:r>
            <a:endParaRPr b="1" lang="en-US" sz="45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Необходимо, чтобы тема урока была им интересна и доступна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 время урока обязательно обращайся к непосредственному жизненному опыту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итель должен хорошо владеть фактическим материал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чётко мыслит, тот чётко преподаё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нообразить методику проведения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Управляемый тот класс, в котором учителя уважают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о относится и к проведению урока и к отношениям Учитель –Учени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жны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манера поведения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разговор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4680" y="2670120"/>
            <a:ext cx="350676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Поддерживайте контакт с родителями, информируйте об успехах и поведении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99"/>
                </a:solidFill>
                <a:latin typeface="Arial"/>
              </a:rPr>
              <a:t>10.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Надо уметь справляться с ситуацией самостоятельно, а частое обращение за помощью к родителям, администрации школы – это проявление бессилия, что не вызывает уважения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33360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Попробуйте выделить в классе лидеров, пользуясь их авторитетом, управляйте классом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2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отступайте от своих слов, т. е. если вы попросили ученика принести дневник, добейтесь этого, даже если для этого потребуется остановить урок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е поддавайтесь уговорам!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переходите на личности, оскорбление учащихся не допустимо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Заходите в класс с улыбкой. Начинайте каждый урок по – новому. Внедряйте педагогику сотрудничеств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6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Будьте сдержанными и лояльными, строгими, но справедливыми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2901960"/>
            <a:ext cx="3770280" cy="264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61000" y="2881440"/>
            <a:ext cx="3770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 Ы В О Д Ы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Урок должен быть тщательно подготовленным. Интересным по содержанию, разнообразным по формам проведения, насыщ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олжна быть физическая и психологическая мобилизация учителя, его внутренняя готовность к уроку. Гармоническое соединение роли «дрессировщика», «клоуна» и «рабочей лошадки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Готовность к индивидуальной работе с учащимися, которые в ней имеют потреб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Педагогика сотрудничества. Относитесь к учащимся так, как бы вы хотели, чтобы они относились к вам. Учителя уважают, если он уважает уче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«Как сделать класс управляемым?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ного чего я научился у своих наставников, ещё больше – у своих товарищей, но наибольше – у своих учеников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Талмуд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В хорошем учителе мы ценим лучшие качества дрессировщика клоуна и циркового коня, которого год за годом гоняют по кругу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аксим Звонарё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оссийский журналист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По мнению учителей, яйца курицу не учат, по мнению учеников, курица не птица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Александр Ботвиннико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инженер, переводчик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боратория – это научное учреждение, где идет неспешная, кропотливая работа над новыми достижен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к - научная лаборатория для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Умный человек и на чужих ошибках учится и свои старается не повторять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веты учител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«Перед уроком – «минута общ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Как театр начинается с вешалки, так и урок начинается ещё до звонка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Наличие ритуала вхождения в урок – это очень ценное приобретение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5812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икогда не начинать урок, если класс не гот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Этого над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держиваться всегда и во всё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 крич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4812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Продумать все этапы урок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ников надо влюбить в себ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ё важно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неш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профессионал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дикц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артист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ыразительность подачи матери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87880" y="3102120"/>
            <a:ext cx="311328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Заинтересовать учащихся, втянуть в дискуссию, поменяться ролями (учитель –ученик)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идти к детям с добром, они это почувствуют и пойму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00160" y="3030480"/>
            <a:ext cx="30751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«Предложить самому шумному ученику роль учителя и доверить провести часть урока.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7760" y="3100320"/>
            <a:ext cx="374184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Всегда быть готовым к уроку, иметь в запасе дополнительные задания для тех, кто не любит работать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любить, любить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743200" cy="188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x</cp:lastModifiedBy>
  <dcterms:modified xsi:type="dcterms:W3CDTF">2009-10-15T18:54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