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C01-D52D-4F14-B3C4-F1D0F041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145-F168-42CA-B845-13C9AA1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58B-61B2-4AA4-AEBF-06560A04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F05-3BF6-441F-8811-7D322683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422-5198-4041-A760-54ABA59C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7817-D37E-41B5-9599-0C04A6E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E6D4-F798-45ED-8080-A403618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0B8-0493-4B6D-A3F3-6E73DDD7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C570-D920-4C2B-942A-3842FDFE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D08F-F911-4EB0-AEBA-102DC80E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A38C-8AF3-4072-B188-A6064D4C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9FE-7734-463A-AE52-0D8F2FDC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B8F4-8D6D-461B-B875-5CDC66E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A26-CF64-4296-99EC-3E88E92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36F-C6BA-4651-8033-8C444EA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94C-BAE2-4353-B351-B7F75D13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F9F8-8D3B-410E-8ADB-DAAE9865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56E-0FFF-4891-A2EE-BB74206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2C2-FB5B-4A8F-B441-C692B0AE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245-5FDB-43FC-AEC5-D287D14B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757-5B65-4EE4-8D21-58C053BF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D0F-95D3-40DD-B25D-8C5D5FF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013-B06B-4DCA-907F-6438E5F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FAF-A045-407C-A9A3-59EF29C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5D92-25E9-4EA5-9403-576DBCA077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25C-34FE-41FE-8B69-40D964CEC9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66"/>
                </a:solidFill>
                <a:latin typeface="Times New Roman"/>
              </a:rPr>
              <a:t>Педагогическая лаборатория</a:t>
            </a:r>
            <a:endParaRPr b="1" lang="en-US" sz="45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«Необходимо, чтобы тема урока была им интересна и доступна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 время урока обязательно обращайся к непосредственному жизненному опыту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читель должен хорошо владеть фактическим материал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чётко мыслит, тот чётко преподаё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нообразить методику проведения ур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«Управляемый тот класс, в котором учителя уважают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о относится и к проведению урока и к отношениям Учитель –Учени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жны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манера поведения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разговор уч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4680" y="2670120"/>
            <a:ext cx="350676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Поддерживайте контакт с родителями, информируйте об успехах и поведении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cc99"/>
                </a:solidFill>
                <a:latin typeface="Arial"/>
              </a:rPr>
              <a:t>10. 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Надо уметь справляться с ситуацией самостоятельно, а частое обращение за помощью к родителям, администрации школы – это проявление бессилия, что не вызывает уважения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3333600" cy="24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Попробуйте выделить в классе лидеров, пользуясь их авторитетом, управляйте классом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2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икогда не отступайте от своих слов, т. е. если вы попросили ученика принести дневник, добейтесь этого, даже если для этого потребуется остановить урок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3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е поддавайтесь уговорам!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Никогда не переходите на личности, оскорбление учащихся не допустимо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Заходите в класс с улыбкой. Начинайте каждый урок по – новому. Внедряйте педагогику сотрудничества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6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Будьте сдержанными и лояльными, строгими, но справедливыми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2901960"/>
            <a:ext cx="3770280" cy="264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61000" y="2881440"/>
            <a:ext cx="3770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 Ы В О Д Ы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Урок должен быть тщательно подготовленным. Интересным по содержанию, разнообразным по формам проведения, насыщен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Должна быть физическая и психологическая мобилизация учителя, его внутренняя готовность к уроку. Гармоническое соединение роли «дрессировщика», «клоуна» и «рабочей лошадки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Готовность к индивидуальной работе с учащимися, которые в ней имеют потреб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Педагогика сотрудничества. Относитесь к учащимся так, как бы вы хотели, чтобы они относились к вам. Учителя уважают, если он уважает уче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«Как сделать класс управляемым?»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Много чего я научился у своих наставников, ещё больше – у своих товарищей, но наибольше – у своих учеников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Талмуд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В хорошем учителе мы ценим лучшие качества дрессировщика клоуна и циркового коня, которого год за годом гоняют по кругу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Максим Звонарёв,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оссийский журналист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По мнению учителей, яйца курицу не учат, по мнению учеников, курица не птица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Александр Ботвинников,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56592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инженер, переводчик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боратория – это научное учреждение, где идет неспешная, кропотливая работа над новыми достижения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рок - научная лаборатория для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Умный человек и на чужих ошибках учится и свои старается не повторять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веты учител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«Перед уроком – «минута общ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Как театр начинается с вешалки, так и урок начинается ещё до звонка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Наличие ритуала вхождения в урок – это очень ценное приобретение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5812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Никогда не начинать урок, если класс не гот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Этого над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держиваться всегда и во всё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539640"/>
                <a:tab algn="l" pos="804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е крича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94812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«Продумать все этапы урока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ников надо влюбить в себ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ё важно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внеш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профессионализ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дикц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артистиз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выразительность подачи матери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87880" y="3102120"/>
            <a:ext cx="311328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Заинтересовать учащихся, втянуть в дискуссию, поменяться ролями (учитель –ученик)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6040" indent="0" algn="just"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идти к детям с добром, они это почувствуют и пойму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00160" y="3030480"/>
            <a:ext cx="30751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«Предложить самому шумному ученику роль учителя и доверить провести часть урока.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57760" y="3100320"/>
            <a:ext cx="374184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99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«Всегда быть готовым к уроку, иметь в запасе дополнительные задания для тех, кто не любит работать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любить, любить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743200" cy="188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x</cp:lastModifiedBy>
  <dcterms:modified xsi:type="dcterms:W3CDTF">2009-10-15T18:54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