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F68-E89B-4B73-B387-DEE494EC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C19-47A0-49B9-81DF-CDD2894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3D4-7BFD-4A5F-B7C1-705B5827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0F6-48FE-47CD-B5FE-9B2CD750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4CE-AAB9-4CA8-A702-E7EFA637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68A-034F-4307-8B02-4858FB3E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979-CC8D-473F-92CB-B5D9FFE7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A66-3152-4900-B191-C588616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F5C-916E-4588-BBC9-6555B6A9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01F-D7CA-4F0A-8909-64A107E5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F1F-3EEC-43A7-B4F8-4ACDADF9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BDD-8E1D-4DAA-A0C6-6F4C377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D317-902B-4FED-A844-C2D90EFB9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357120" y="0"/>
            <a:ext cx="828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Лошад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Изобрази, как лошадка стучит копытами: улыбнись, открой рот, щёлкай языком громко и энер­гично. Старайся, чтобы нижняя челюсть была неподвижна и «прыгал» только язы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21420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Я весёлая лошадк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Тёмная, как шоколад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Язычком пощёлкай громко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Стук копыт услышишь звонк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АЛЯ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12415"/>
          <p:cNvPicPr/>
          <p:nvPr/>
        </p:nvPicPr>
        <p:blipFill>
          <a:blip r:embed="rId1"/>
          <a:stretch/>
        </p:blipFill>
        <p:spPr>
          <a:xfrm>
            <a:off x="357120" y="1754280"/>
            <a:ext cx="8429760" cy="51037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РИБОК»</a:t>
            </a:r>
            <a:br>
              <a:rPr sz="4000"/>
            </a:b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Улыбнуться, открыть рот. Присосать широкий язычок к небу. Это шляпка  гриба, а подъязычная связка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__93357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4143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«ДЯТ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__55763"/>
          <p:cNvPicPr/>
          <p:nvPr/>
        </p:nvPicPr>
        <p:blipFill>
          <a:blip r:embed="rId1"/>
          <a:stretch/>
        </p:blipFill>
        <p:spPr>
          <a:xfrm>
            <a:off x="642960" y="2143080"/>
            <a:ext cx="7620120" cy="471492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500040" y="0"/>
            <a:ext cx="8215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Комар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Ты слышал, как звенит комар? Давай изобразим: улыбнись, широко открой рот, подними язык вверх и упри его в бугорки за верхними зубами. Произноси ДЖЖЖ энергично и протяжно, в течение 10-15 се­кунд, очень сильно при этом упираясь кон­чиком языка в бугор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357800" y="2071800"/>
            <a:ext cx="4286160" cy="4000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0" t="0" r="39" b="26"/>
          <a:stretch/>
        </p:blipFill>
        <p:spPr>
          <a:xfrm>
            <a:off x="357120" y="2000160"/>
            <a:ext cx="34290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58:49Z</dcterms:created>
  <dc:creator>Admin</dc:creator>
  <dc:description/>
  <dc:language>en-US</dc:language>
  <cp:lastModifiedBy>Admin</cp:lastModifiedBy>
  <dcterms:modified xsi:type="dcterms:W3CDTF">2011-11-29T18:20:39Z</dcterms:modified>
  <cp:revision>3</cp:revision>
  <dc:subject/>
  <dc:title>«МАЛЯ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30000000000010250600207f5200358026400</vt:lpwstr>
  </property>
</Properties>
</file>