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DCC-BC2F-4FB3-BFDC-4EA5894C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5CF-B3CD-4C0D-84AD-F9681FF3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312-959C-4EDB-8EE8-54D3ACA4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CCF-0773-4E73-91BC-F23E8973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443-99D0-4DDD-BDF6-BC37213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185-6A81-4014-B1F4-E31ABCD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DCA-0EEC-4770-9D1C-8D673D71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E49-4AEC-46FC-A041-A6CF614D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23D-F95C-4492-B57E-601F774E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33D-7F8E-4FA7-8E41-B30CE7E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D4F-2536-438F-9B67-EF8528A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E5F-25F5-4205-A932-1B26E77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C21-2F2C-4DA4-B6CC-92EE2AA04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357120" y="0"/>
            <a:ext cx="828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Лошад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Изобрази, как лошадка стучит копытами: улыбнись, открой рот, щёлкай языком громко и энер­гично. Старайся, чтобы нижняя челюсть была неподвижна и «прыгал» только язы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1420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 весёлая лошад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ёмная, как шоколад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зычком пощёлкай громко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Стук копыт услышишь звон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__55763"/>
          <p:cNvPicPr/>
          <p:nvPr/>
        </p:nvPicPr>
        <p:blipFill>
          <a:blip r:embed="rId1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500040" y="0"/>
            <a:ext cx="8215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Комар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Ты слышал, как звенит комар? Давай изобразим: улыбнись, широко открой рот, подними язык вверх и упри его в бугорки за верхними зубами. Произноси ДЖЖЖ энергично и протяжно, в течение 10-15 се­кунд, очень сильно при этом упираясь кон­чиком языка в буго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357800" y="2071800"/>
            <a:ext cx="42861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0" r="39" b="26"/>
          <a:stretch/>
        </p:blipFill>
        <p:spPr>
          <a:xfrm>
            <a:off x="357120" y="2000160"/>
            <a:ext cx="34290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58:49Z</dcterms:created>
  <dc:creator>Admin</dc:creator>
  <dc:description/>
  <dc:language>en-US</dc:language>
  <cp:lastModifiedBy>Admin</cp:lastModifiedBy>
  <dcterms:modified xsi:type="dcterms:W3CDTF">2011-11-29T18:20:39Z</dcterms:modified>
  <cp:revision>3</cp:revision>
  <dc:subject/>
  <dc:title>«МАЛЯ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30000000000010250600207f5200358026400</vt:lpwstr>
  </property>
</Properties>
</file>