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663-A8C5-4F09-9CCD-E31D902C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596-41A5-459D-A186-72E5600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D6F-283F-4B27-AB2B-D597A4CB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21B-94BD-4C92-992D-01198110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185-7646-4EDA-A909-B7BF83F5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C4F7-CB5F-4DEB-944D-01C7F2F6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4C4-3900-4535-AD12-CF3A7E8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F7AE-2564-4A61-B563-BA417043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5358-0DD8-4B1D-9A36-EE0D232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0B6-8E75-4C23-8FDB-26B7C5C6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BDA-587C-4D59-A8B9-122828B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0E9-16C5-49C0-A939-15D4E40B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AACB-C86B-4C40-BBE5-13CCDDBB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454E-7265-48D8-A3AC-0EC9F4A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6AA-285F-4651-A430-3255347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3491-DF5C-41E7-ACC5-5D43A8BF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44A-E86B-4CFF-8052-F486FED3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17C0-0861-45B4-811D-01185300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4867-5D90-4D68-AA73-C26D54B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B644-E3B2-4BB6-B5DA-E65292A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CAF4-E499-440C-B052-B4922989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16FE-92C7-43FE-A6F2-A9C097E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3E1-5970-41D7-A09B-88DE1B7D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BABE-E7EE-4A35-9C28-74AC90BE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E3A7-F02C-4F59-83D4-6516A26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0180-3474-4909-B5CB-6ECC08A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E4D7-D862-4C97-92A9-57ADB27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842A-01F3-4873-9527-54175D5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E806-1AC6-4462-ADD7-FD993EA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80A9-2F9A-49AF-B007-7E0B563D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0890-A5FF-4CFF-8323-C65B9EE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D65F-BD39-47E6-9638-AF621FC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794F-3859-47B3-8ECA-3802F87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D25-1FB3-4DD7-8A1D-8A06264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B7AD-ACC4-4707-AD8C-EA7AE5A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F20D-3868-471D-B174-0EFD32AC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F3A5-1CDA-4BBF-A1D0-9BF9CC6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A74A-1E83-4C21-915C-240F8E3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1800-A024-43E1-BA5D-339658C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70EB-4205-4998-BD9D-A41014B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0E46-D447-4EA6-AD1F-A988CD62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192E-3498-46F4-ACE6-A1E44609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CBB2-0C6F-458F-801D-6048008B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6E1D-76EC-491F-A0AE-C60271A4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BC3-450D-433E-8F65-4054155E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126D-0B94-415C-B490-2CC491E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E6A9-6197-4C40-ACC4-B73364FA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56E3-0369-45AF-B62C-3AF8B09C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55FC-8450-4D9D-954C-75C9774B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01A1-4DF4-4E83-B3AD-34638135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B794-D5FB-42F2-936D-0D70FF0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C1FE-C3EB-4514-BCF5-98C4632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74CE-940C-4B99-8BD1-AD4D241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2F0F-1277-4B25-A6EC-547554AA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9D53-EEB0-40C8-A2A5-B841C88F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D46-3427-446F-B357-8BC70D6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EFF8-024E-4FE3-93F4-6B6D3F4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F05-3AFD-4182-80BA-3631C01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489-C8B2-455E-9ED3-C13491B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EDC-AD32-4035-9AC2-A0C9490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400-9C75-418A-9196-64619134602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3F9-1396-4B6E-9FD6-57712DBC753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E2CD-EBF8-485C-BBAC-D434401B84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9150-7BD9-496E-A620-66836038AF4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3BB4-0FF5-4D8A-8547-9FF3B7FE37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25456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31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Репетитор для подготовки к ЕГЭ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Выполнение задания части С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Критерии оценивания (К1 – К5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делает автор текста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едлаг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на обсуждение ту или иную проблему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На каки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той проблемы он обращает прежде всего свое внимание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особенн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олнует (тревожит)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ишущего при изложении этой проблемы (что он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дчеркивает, выделяет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…)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ОБЯЗАТЕЛЬНО УКАЖИТЕ ЭТИ АСПЕКТЫ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ую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втор рассматривает на примере жизни одного из своих герое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ируя эту проблему, хочется отметить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сказать, подчеркнуть…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Рассматривая проблему, автор обращает внимание читателя на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, заявленная автором, заставляет нас глубоко задуматься о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одна из самых острых (злободневных, важных…) проблем нашего времен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б актуальности можно говорить не только в комментарии, но и в той части сочинения, где вы аргументируете заявленную автором позицию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следует забывать, ч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мментарий должен обязательно опираться на исходный текст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38120" y="291960"/>
            <a:ext cx="738972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599840"/>
            <a:ext cx="7543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выделяет ту часть текста, которая выполняет функции комментария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(поэтому лучше его также выделить в отдельный микротекст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оценивает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е л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ы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затронутой автором проблемы вам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комментирован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нет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искажени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смысла авторск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156520" cy="2084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то это значи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нять, осознать и сформулироват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что хотел сказать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Какова была основна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д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го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это написал? Какие мысли, чувства, переживания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автора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лавными, ключевыми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му учит текс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 может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ожительно относиться к изображаемом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тельно (осуждающе, саркастически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однознач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войствен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кептическ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ронически (с юмором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951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1384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читает (полагает, утверждает)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водит читателя к выводу о том, ч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ставляет читателя задуматься на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ужд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деляет мнение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виня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азывает, отстаив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зыва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…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ак как убежден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том,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крыто заявляет о своей гражданской позиции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зиция автора по затронутым вопросам очевидна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9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 – приведение доказательств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этому дальнейшая работа над частью С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здание текста-рассужде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зи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пози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сформулирован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блем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точке зрения автора; желательно передать не только свое согласие/несогласие с автором, но и свои эмоции по поводу авторской позиции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доказательства – 3 пример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во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ве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чтобы получить максимальный балл по критерию К4 (чтобы не вызывать «лишних», дополнительных вопросов у эксперта), формулируйте свою позицию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етко и прям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дайте себе вопрос: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чему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согласен (не согласен) с автором? И ответьте четко и прямо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051760" cy="73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857160"/>
            <a:ext cx="7615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мнением (позицией, доводами) автора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трудно не согласитьс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льзя не согласиться с мнением автора. Хочется подчеркну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зиция автора по этой проблеме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заслуживает уважен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разделяю позицию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. Потому что,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согласен с позицией (точкой зрения)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так как, во-втор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 полагаю, что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езусловно (конечно, разумеется, действительно, пожалуй, думаю, без сомнения)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ценивая авторскую позицию в целом, можно сказа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змышляя над позицией автора, хочется отмет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Разделяя точку зрения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хочется добав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ряд ли кто осмелится возразить автору (не согласиться с точкой зрения автора)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ведем пример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одной стороны, с другой стороны, наконец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аждый из нас может привести множество аргументов в защиту авторской позиции.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рчайшими примерами могут служить не только…, но и 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7255080" cy="1413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7758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реальные факты из жизни окружающи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свои собственные наблюдения и выводы (события своей жизни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что могло бы быть при определенных условия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4) пословицы и поговорки, афоризмы (с пояснение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5) примеры из художественной литератур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6) примеры из художественных фильмов, теле- и радиопередач, печа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7) ссылки на авторитетное мнен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7255080" cy="731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214280"/>
            <a:ext cx="7238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аргумент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лжна не только соотноситься с проблематикой исходного текста, но и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ть созвучной авторской позиции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ргумент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 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ди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з которых взят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удожественной, публицистической или науч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, опираясь на знания, жизненный опыт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только 1 аргумент из 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 балл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1 аргумент, опираясь на знания, жизненный опы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 баллов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привел аргументы или мнение лишь формально заявлено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гласен/не согласе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97600" cy="188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2214360"/>
            <a:ext cx="7543800" cy="4214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2 критерие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Максимальное количество баллов – 21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аш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– написать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очинение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, в котором вы не просто излагаете свои мысли, возникшие у вас после прочтения текст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 пишете сочинение, в котором вы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олжн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8126640" cy="226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2857320"/>
            <a:ext cx="7686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туплении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если трудно составить «специальное» вступление, если от волнения ничего не приходит в голову, откажитесь вообще от него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формулированная вами проблема и будет вступлением вашего сочинения (не забудьте только выделить это «вступление» в отдельный абзац)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7686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Должно быть в текст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бязательно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! Это логическое завершение ваших рассуждений о проблеме текста, авторской позиции, в нем вы выражаете ваше личностно-эмоциональное отношение к авторской позиции. Это своего рода последний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«аккорд»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ашей творческой работы. Поэтому, чтобы произвести на эксперта достойное впечатление, продумайте заключение заранее, чтобы из-за недостатка времени не «скомкать» его и получить высший балл по критерию К5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051760" cy="81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071720"/>
            <a:ext cx="7686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очу подчеркнуть (хотелось бы отметить, еще раз обратить внимание на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очинения хочется добавить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ие важно отметить (необходимо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обо следует выделить (отметить, сказать,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ая сказанное, можно сделать вывод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так (следовательно, таким образом, потому, поэтому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33440" y="317520"/>
            <a:ext cx="73994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0200"/>
            <a:ext cx="7686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ет плавного перехода от одной микротемы к друго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тсутствие деления на абзацы (или наоборот – неоправданное выделение нескольких (2 - 3) предложений в отдельный абзац) в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сновной част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колько абзацев? ??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е должно быть классическ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трехчастным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ступление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ая часть (ее желательно разделить на абзацы - микротемы!)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ключени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737064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2920" y="1096920"/>
          <a:ext cx="7881840" cy="5313240"/>
        </p:xfrm>
        <a:graphic>
          <a:graphicData uri="http://schemas.openxmlformats.org/drawingml/2006/table">
            <a:tbl>
              <a:tblPr/>
              <a:tblGrid>
                <a:gridCol w="1643040"/>
                <a:gridCol w="2428920"/>
                <a:gridCol w="3809880"/>
              </a:tblGrid>
              <a:tr h="580680"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зиция ав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оя позиция и аргум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47325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блем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проблема л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втор хоте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удить своего геро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ставить читателя серьезно задуматься над этой проблемой, оценить ее губительные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 разделяю точку зрения автора. Почему?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– Да потому что не разделять ее просто нельзя, если хочешь чего-то добиться в жизни. Проблема лени касается каждого из нас. И от меня «сегодняшнего», моего сегодняшнего образа жизни, моей сегодняшней борьбы с леностью, праздностью зависит мое будущее (кем я стану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я могу привести аргумен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литературы (Обломов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зненный финал – нравственное падение личност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вод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м нам нужно помнить    предостережение, чтобы не стать современными Ионычам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699680" cy="81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6840" y="1142640"/>
            <a:ext cx="761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ментируя проблемы текста, отмечу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рнемся, однако, к исходному тексту. Автор приводит другое определение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ышляя над авторской позицией, хочется сказать, во-первых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-вторых, разделяя в целом точку зрения автора о том, что…, хочется добавить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ыми словами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мотри рекомендации для сдающего экзамен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спехов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13840" cy="208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14360"/>
            <a:ext cx="7400880" cy="4214520"/>
          </a:xfrm>
          <a:prstGeom prst="rect">
            <a:avLst/>
          </a:prstGeom>
          <a:solidFill>
            <a:srgbClr val="fef0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«в той или иной форме» верно сформулировать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1 из проблем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исходного текста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6840" y="1499760"/>
            <a:ext cx="7186680" cy="5072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ратко и точно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звать вопросы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которые особенно интересовали автора при написании конкретн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ы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философ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циаль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лит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уч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колог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равственно-этическ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7712280" cy="1695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43040"/>
            <a:ext cx="7686720" cy="4857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, предложенном для анализ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центре внимания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кого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ктуальн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анализируемом тексте автор рассматривает 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ая?)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ставленная (рассматриваемая) автором в этом тексте, звучит уже в самом его назван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предложенном для анализа тексте автор ставит вопрос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о чем?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 затрагивается также проблема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чего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8480520" cy="73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42920" y="1000080"/>
          <a:ext cx="7920000" cy="5546880"/>
        </p:xfrm>
        <a:graphic>
          <a:graphicData uri="http://schemas.openxmlformats.org/drawingml/2006/table">
            <a:tbl>
              <a:tblPr/>
              <a:tblGrid>
                <a:gridCol w="2714760"/>
                <a:gridCol w="2428560"/>
                <a:gridCol w="277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какая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чего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втор заставляет читателя (что делать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лободне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в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убоко задума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т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к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ее относить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т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го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собственную поз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ж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с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-иному посмотр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теллиг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осмысли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учше понять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у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делиться мыс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р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бра и з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горечью по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бол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й про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истинный масшт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 боли знако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уховного соверше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щественно знач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общения к чт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мя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ла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сается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г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о останавливается на проблеме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чительно размышляет над проблемой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85960"/>
            <a:ext cx="7400880" cy="434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рамотная формулировка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блемы текста очень важн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едь э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вашего сочин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ормулировка проблемы исходного текста в виде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опрос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одходит для любого текста. Она универсальна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2603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2714760"/>
            <a:ext cx="768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то тако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арий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помните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не пересказ текста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итая ваш комментарий, эксперты проверяют не только ваше умение строить связное монологическое высказывание, но и выясняют, наскольк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глубоко и полно поняли вы проблему текст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увидели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проблем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42:24Z</dcterms:created>
  <dc:creator>Русак</dc:creator>
  <dc:description/>
  <dc:language>en-US</dc:language>
  <cp:lastModifiedBy>COMP</cp:lastModifiedBy>
  <dcterms:modified xsi:type="dcterms:W3CDTF">2011-10-15T04:57:08Z</dcterms:modified>
  <cp:revision>44</cp:revision>
  <dc:subject/>
  <dc:title>ЕГЭ по русскому языку</dc:title>
</cp:coreProperties>
</file>