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DB4-0372-44A1-B1EF-3E66798C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14F-B163-46DB-A194-4CC18CD6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7F9-8F3D-4034-9625-60DC6FD5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915-3864-434B-9B4F-91B6F7EB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74B4-BCA8-42D4-B645-8F1512CC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D1A5-993C-4810-9E48-6729F47E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464D-34F6-46DD-949C-749A20FB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96CB-8745-4457-B8B9-91E271F8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4FDD-A747-4A08-94A8-636C3394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8772-E1B9-4079-903F-E42A3E87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EEA5-196F-4847-A157-A995BF57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A06-4612-4616-A42B-A9E19721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A3F3-4CC2-4D1B-A28D-C232E7EF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9876-A3C0-4F04-B8C9-FDAD4C78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A8C1-86AC-418D-97A6-3D10AB7F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7E13-3035-44B6-AC6C-061A5114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7C3B-83FE-422F-98E2-F96A4ACF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B2400-6F21-47EB-B4D9-0C3690C5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FC4D-4646-4091-9FA8-B0071073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9795-91FD-42E2-BC0A-F6047A61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51B03-D3CB-4A10-A7B2-BD9244D5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01061-C34E-4D38-9EA0-71D105F0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FEC-BF33-4C46-B522-E491157E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1E20-D243-4BD0-B283-344C87CA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90D50-D02E-44DE-B2AD-54CDBFC5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8EB19-F3E3-4BBC-8DD5-223D495F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04C76-5CED-4E5A-821C-4E1BB491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19F90-392E-41D7-9AD0-8F6D9655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7865A-F417-4CE8-933D-4ADBCC13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58732-0F66-4C64-BB75-B2AFF889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ED890-662F-4659-A32A-6D0450AC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A1D4F-CF7D-479D-8ED3-8B20751C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AF409-EECA-4C66-A305-196976A7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000-A5FE-48D0-B0B9-91D65546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C89FD-A38C-4E5E-8EE0-FDD568A1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30A2C-7016-4CD0-AEFB-A6E7276D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528F-1BB6-437E-94EA-B8D688A2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E1FA3-0FDD-4F06-BA42-708DCE70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14297-CDD4-442A-8F12-2C822C8C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53DBA-4098-46BB-9652-A7669C24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7CEFB-C13D-4C47-B679-98D33584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43099-A67C-496B-B28A-A1C96408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94664-D367-4601-8C83-55A80DFF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0AAF1-D7B1-459B-BA01-AC218D22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545-B9B6-45DA-8EBA-F84C0E9D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11B95-CA19-4F30-9B20-122E06F2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46E39-BDAD-493B-8C31-3CE9BDC6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1017B-CC03-467D-B8C4-8A0513D1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FA4C2-83AA-46E9-9241-EC1FD510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36C3C-888D-45E1-A204-110C653D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801D9-C9ED-427F-B22D-20A422BD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A08AF-5604-4818-9BBE-7483B2BA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1A1DA-848F-4E67-80CA-CBAD31E5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F44DD-0F08-48A2-933D-31C82959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F286E-49FE-4A18-8DA2-253359F0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AB34-0D55-4CE8-AE3B-55F01AFB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A06BA-E474-4B35-9A59-7AD8D190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E2D-1A79-43B4-951F-E712B8E7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5EB-9BC5-4AB2-B5EA-A1575B6B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F86-5AB5-4130-83D9-43120930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02E4-AA8F-469A-97FE-B6F83076D68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B18E-C920-4AF4-86D7-E0969C89EDC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257D-54BF-48BF-8168-B2AA3372479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EA9E-6422-4743-9F11-1783B9B4ED59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B7D1-1294-444E-B653-7292F621781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254560" cy="28782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354480" y="3539880"/>
            <a:ext cx="5114880" cy="3128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Репетитор для подготовки к ЕГЭ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Выполнение задания части С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Критерии оценивания (К1 – К5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- Что делает автор текста,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едлагая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на обсуждение ту или иную проблему?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- На какие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аспекты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этой проблемы он обращает прежде всего свое внимание?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- Что особенно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олнует (тревожит)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пишущего при изложении этой проблемы (что он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одчеркивает, выделяет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…)?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- ОБЯЗАТЕЛЬНО УКАЖИТЕ ЭТИ АСПЕКТЫ!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176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35684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блему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(чего? какую?)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автор рассматривает на примере жизни одного из своих героев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Комментируя эту проблему, хочется отметить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(сказать, подчеркнуть…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Рассматривая проблему, автор обращает внимание читателя на…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блема, заявленная автором, заставляет нас глубоко задуматься о…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Это одна из самых острых (злободневных, важных…) проблем нашего времени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б актуальности можно говорить не только в комментарии, но и в той части сочинения, где вы аргументируете заявленную автором позицию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е следует забывать, что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омментарий должен обязательно опираться на исходный текст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438120" y="291960"/>
            <a:ext cx="7389720" cy="1176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6840" y="1599840"/>
            <a:ext cx="75438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1) выделяет ту часть текста, которая выполняет функции комментария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(поэтому лучше его также выделить в отдельный микротекст)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2) оценивает: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се ли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основные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аспекты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затронутой автором проблемы вами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комментированы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3) нет ли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искажения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смысла авторского текста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85680" y="-6480"/>
            <a:ext cx="8156520" cy="20844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999800"/>
            <a:ext cx="7686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Что это значит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Понять, осознать и сформулировать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 что хотел сказать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автор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? Какова была основная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цель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?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Ради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чего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се это написал? Какие мысли, чувства, переживания являются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для автора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главными, ключевыми?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Чему учит текст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Автор может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ложительно относиться к изображаемому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трицательно (осуждающе, саркастически)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однозначно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двойственно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кептическ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ронически (с юмором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951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213840" y="1213920"/>
            <a:ext cx="8001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читает (полагает, утверждает),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дводит читателя к выводу о том, чт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ставляет читателя задуматься на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уждает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азделяет мнение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бвиняет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оказывает, отстаивает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изывае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…,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ак как убежден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том, что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ткрыто заявляет о своей гражданской позиции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зиция автора по затронутым вопросам очевидна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450720" y="19080"/>
            <a:ext cx="8242560" cy="19130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999800"/>
            <a:ext cx="7686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ргументация – приведение доказательств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этому дальнейшая работа над частью С представляет собой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оздание текста-рассуждения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тезис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аша позиция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 сформулированной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облеме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 точке зрения автора; желательно передать не только свое согласие/несогласие с автором, но и свои эмоции по поводу авторской позиции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аргументация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доказательства – 3 примера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ывод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овет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 чтобы получить максимальный балл по критерию К4 (чтобы не вызывать «лишних», дополнительных вопросов у эксперта), формулируйте свою позицию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четко и прямо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дайте себе вопрос: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очему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я согласен (не согласен) с автором? И ответьте четко и прямо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051760" cy="731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6840" y="857160"/>
            <a:ext cx="7615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 мнением (позицией, доводами) автора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трудно не согласиться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Нельзя не согласиться с мнением автора. Хочется подчеркнуть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озиция автора по этой проблеме 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заслуживает уважения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Я разделяю позицию автора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. Потому что, во-первых,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Я согласен с позицией (точкой зрения) автора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, так как, во-вторых,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Я полагаю, что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Безусловно (конечно, разумеется, действительно, пожалуй, думаю, без сомнения),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Оценивая авторскую позицию в целом, можно сказать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Размышляя над позицией автора, хочется отметить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Разделяя точку зрения автора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, хочется добавить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ряд ли кто осмелится возразить автору (не согласиться с точкой зрения автора)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риведем пример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 одной стороны, с другой стороны, наконец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Каждый из нас может привести множество аргументов в защиту авторской позиции. Во-первых,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Ярчайшими примерами могут служить не только…, но и …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7255080" cy="1413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600200"/>
            <a:ext cx="77580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1) реальные факты из жизни окружающих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2) свои собственные наблюдения и выводы (события своей жизни)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3) что могло бы быть при определенных условиях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4) пословицы и поговорки, афоризмы (с пояснением)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5) примеры из художественной литературы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6) примеры из художественных фильмов, теле- и радиопередач, печати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7) ссылки на авторитетное мнение…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7255080" cy="7318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214280"/>
            <a:ext cx="7238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аша аргументация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олжна не только соотноситься с проблематикой исходного текста, но и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быть созвучной авторской позиции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Аргументы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3 балла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вел не менее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 аргументов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один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из которых взят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з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художественной, публицистической или научной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литературы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 балла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 менее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2 аргументов, опираясь на знания, жизненный опыт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вел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только 1 аргумент из литературы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 балл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вел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1 аргумент, опираясь на знания, жизненный опыт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0 баллов: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 привел аргументы или мнение лишь формально заявлено (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огласен/не согласен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7797600" cy="1888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6840" y="2214360"/>
            <a:ext cx="7543800" cy="42145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12 критериев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Максимальное количество баллов – 21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аша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задача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– написать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сочинение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, в котором вы не просто излагаете свои мысли, возникшие у вас после прочтения текста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ы пишете сочинение, в котором вы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должны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225360" y="237960"/>
            <a:ext cx="8126640" cy="2267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2857320"/>
            <a:ext cx="7686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О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ступлении: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если трудно составить «специальное» вступление, если от волнения ничего не приходит в голову, откажитесь вообще от него: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формулированная вами проблема и будет вступлением вашего сочинения (не забудьте только выделить это «вступление» в отдельный абзац)!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599840"/>
            <a:ext cx="76867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Должно быть в тексте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обязательно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! Это логическое завершение ваших рассуждений о проблеме текста, авторской позиции, в нем вы выражаете ваше личностно-эмоциональное отношение к авторской позиции. Это своего рода последний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«аккорд»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вашей творческой работы. Поэтому, чтобы произвести на эксперта достойное впечатление, продумайте заключение заранее, чтобы из-за недостатка времени не «скомкать» его и получить высший балл по критерию К5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8051760" cy="811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071720"/>
            <a:ext cx="76867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заключен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ие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хочу подчеркнуть (хотелось бы отметить, еще раз обратить внимание на…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заключен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и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сочинения хочется добавить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заключение важно отметить (необходимо подчеркнуть…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собо следует выделить (отметить, сказать, подчеркнуть…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общая сказанное, можно сделать вывод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так (следовательно, таким образом, потому, поэтому…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433440" y="317520"/>
            <a:ext cx="739944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0200"/>
            <a:ext cx="76867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Нет плавного перехода от одной микротемы к другой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Отсутствие деления на абзацы (или наоборот – неоправданное выделение нескольких (2 - 3) предложений в отдельный абзац) в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основной части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очинения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колько абзацев? ???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очинение должно быть классически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трехчастным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вступление;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основная часть (ее желательно разделить на абзацы - микротемы!);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заключение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444600" y="103320"/>
            <a:ext cx="7370640" cy="97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142920" y="1096920"/>
          <a:ext cx="7881840" cy="5313240"/>
        </p:xfrm>
        <a:graphic>
          <a:graphicData uri="http://schemas.openxmlformats.org/drawingml/2006/table">
            <a:tbl>
              <a:tblPr/>
              <a:tblGrid>
                <a:gridCol w="1643040"/>
                <a:gridCol w="2428920"/>
                <a:gridCol w="3809880"/>
              </a:tblGrid>
              <a:tr h="580680">
                <a:tc>
                  <a:txBody>
                    <a:bodyPr lIns="80280" rIns="802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облема тек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  <a:tc>
                  <a:txBody>
                    <a:bodyPr lIns="80280" rIns="802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зиция авт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  <a:tc>
                  <a:txBody>
                    <a:bodyPr lIns="80280" rIns="802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Моя позиция и аргум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</a:tr>
              <a:tr h="473256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сновная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облема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проблема ле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втор хотел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судить своего геро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ставить читателя серьезно задуматься над этой проблемой, оценить ее губительные последств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 разделяю точку зрения автора. Почему?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– Да потому что не разделять ее просто нельзя, если хочешь чего-то добиться в жизни. Проблема лени касается каждого из нас. И от меня «сегодняшнего», моего сегодняшнего образа жизни, моей сегодняшней борьбы с леностью, праздностью зависит мое будущее (кем я стану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ие я могу привести аргумент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з литературы (Обломов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изненный финал – нравственное падение личности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вод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всем нам нужно помнить    предостережение, чтобы не стать современными Ионычами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699680" cy="8114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6840" y="1142640"/>
            <a:ext cx="7615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мментируя проблемы текста, отмечу, что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ернемся, однако, к исходному тексту. Автор приводит другое определение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мышляя над авторской позицией, хочется сказать, во-первых,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о-вторых, разделяя в целом точку зрения автора о том, что…, хочется добавить, что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ными словами,…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мотри рекомендации для сдающего экзамены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Успехов!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413840" cy="2084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2214360"/>
            <a:ext cx="7400880" cy="4214520"/>
          </a:xfrm>
          <a:prstGeom prst="rect">
            <a:avLst/>
          </a:prstGeom>
          <a:solidFill>
            <a:srgbClr val="fef0d7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«в той или иной форме» верно сформулировать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1 из проблем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исходного текста!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6840" y="1499760"/>
            <a:ext cx="7186680" cy="5072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Кратко и точно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назвать вопросы,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которые особенно интересовали автора при написании конкретного текста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блемы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философские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социальные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политические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научные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экологические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нравственно-этические…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7712280" cy="1695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43040"/>
            <a:ext cx="7686720" cy="48578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 тексте, предложенном для анализа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центре внимания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(кого?)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актуальная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блема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(чего?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 анализируемом тексте автор рассматривает проблему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(чего?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роблема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(чего? какая?),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оставленная (рассматриваемая) автором в этом тексте, звучит уже в самом его названии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 предложенном для анализа тексте автор ставит вопрос: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о чем?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В тексте затрагивается также проблема: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чего?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12760" y="60480"/>
            <a:ext cx="8480520" cy="73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142920" y="1000080"/>
          <a:ext cx="7920000" cy="5546880"/>
        </p:xfrm>
        <a:graphic>
          <a:graphicData uri="http://schemas.openxmlformats.org/drawingml/2006/table">
            <a:tbl>
              <a:tblPr/>
              <a:tblGrid>
                <a:gridCol w="2714760"/>
                <a:gridCol w="2428560"/>
                <a:gridCol w="27766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облема (какая?)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облема (чего?)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втор заставляет читателя (что делать?)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лободне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ве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лубоко задумать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кту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к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ьезнее относиться 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стр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равственного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ценить собственную пози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аж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спи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-иному посмотре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ьез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нтеллиген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ереосмысли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сно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зна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учше понять себ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у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делиться мысл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зрев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обра и з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 горечью по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болев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равственной проч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ценить истинный масшта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о боли знаком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уховного совершен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бщественно значим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общения к чт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лав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амя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сматрива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следу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иру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улиру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лага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двига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сается (чего?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трагива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робно останавливается на проблеме (чего?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учительно размышляет над проблемой (чего?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785960"/>
            <a:ext cx="7400880" cy="4340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Грамотная формулировка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роблемы текста очень важн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едь это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начало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вашего сочине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Формулировка проблемы исходного текста в виде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вопроса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подходит для любого текста. Она универсальна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50720" y="-171360"/>
            <a:ext cx="8242560" cy="2603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2714760"/>
            <a:ext cx="768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Что такое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комментарий?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Запомните: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это не пересказ текста!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Читая ваш комментарий, эксперты проверяют не только ваше умение строить связное монологическое высказывание, но и выясняют, насколько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глубоко и полно поняли вы проблему текста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, увидели ли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аспекты проблемы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7:42:24Z</dcterms:created>
  <dc:creator>Русак</dc:creator>
  <dc:description/>
  <dc:language>en-US</dc:language>
  <cp:lastModifiedBy>COMP</cp:lastModifiedBy>
  <dcterms:modified xsi:type="dcterms:W3CDTF">2011-10-15T04:57:08Z</dcterms:modified>
  <cp:revision>44</cp:revision>
  <dc:subject/>
  <dc:title>ЕГЭ по русскому языку</dc:title>
</cp:coreProperties>
</file>