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ABA1-7E66-431C-BEA4-B6CA5B09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DA43-B727-468E-A3AC-0A1C8F48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7BF-2B20-4F97-9DB5-35B1D132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0294-6BCE-473D-9FB5-7895C563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1970-7E43-49BE-9570-88BFCB75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326B-0264-497E-BE23-EC65AD62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0EB5-7066-4BAC-BE88-3227ED9F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1A1B-6075-4FFF-A3F3-C08D0CFA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99E2-307B-4138-B77B-1C6323C0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474E-1E36-4E6A-9785-24E5F652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BC21-4484-47E8-91AB-43EAB229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D801-F018-49C2-9589-B58ABE37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4ECB-5BAA-42EF-B4C7-07331671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EEC2-FA08-4D5D-95BE-87DAE4B1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A3B4-C085-4D1C-9ABF-3ADB6C87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1788-B6C7-4D0E-A375-CA44CC09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3EDA-9382-475C-9704-FEB2BD79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D74A8-914F-4C8B-962E-788A1D00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51823-913E-4B70-8ED3-BD5CE31B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CC2F1-EE76-4E32-91A9-5F809789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C4342-1ADC-44B5-8EC2-5B0437C0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9932D-CAAA-40B1-89A2-7900D7D5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865F-1687-4A96-9628-8B09D4D3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2B4C8-7DA3-403B-BAA4-F2B20185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F5FCF-B5E2-45FF-9FEF-9948029A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A1FD4-5454-4B30-9980-677AD5AC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E2CF8-B5D0-4BD6-8ABD-2F3C56F7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E5246-2C87-49DE-9285-97497A90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40EAD-48BB-448E-9813-6263DA17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C462E-1482-449C-A743-EF02DCEC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4B2FF-109B-4873-BED2-F347A08E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6436E-0DCB-4F99-8B0B-62BDA969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F518A-9D6B-4CB6-B596-25218319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54D-C6DB-4189-A950-10F02716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BF8AF-2AA6-44F8-AC08-1F2F81AF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BE83B-3639-431D-ACE6-3DD1AF81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C5097-EE6E-4CE6-A7A0-AF4958F6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C0A35-F7C2-4ABF-B5D9-192653DF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256BF-B928-476E-AD62-FEEC5B9D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1DDFD-2EFC-4639-A02C-177630ED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D7B83-997A-4336-88AC-48E5C160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FD383-6A3D-401B-8DA3-39844385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2DBF2-6567-4956-B556-B9A934FE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3BF91-83D5-42DF-B556-B6EB23A3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077-D433-49C4-9FE0-BEF47A7F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E6E95-586D-4927-8FD9-BB952616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8420C-FA06-4A42-891B-2DBECE85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B1E39-B8C5-4111-8CAF-6F152D66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F659E-2AD4-4FB3-8F38-E851C907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4E58F-9C9F-4643-B88E-8900C967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EBD40-6A7D-4982-8EDD-94B12330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077A7-9875-448D-BA71-5D6E756D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116C0-758C-412B-8DF5-39124920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D42D2-C94F-415E-9423-1FDFC3C3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F2ACC-C863-47A0-9A84-1888AECE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7BC-78AB-4BA2-98DC-E9E32532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42069-6F0B-4FFA-801D-8B88ED60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271-C3E8-4D1C-B47C-EF7F63C3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678-A0DF-4B15-8829-D380E7F9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6E8-BB30-4FA3-8E19-74073F2B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76EB-5E09-4CFF-8519-0DAA7D218C9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7AD6-4133-4520-9473-A4762DC9190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5BFC-A52A-4744-B087-6D518CEB9C8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4A86-E024-4F19-A902-9B5CB72285BB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608F-7138-4F1B-B16E-91949DEAD49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254560" cy="28782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354480" y="3539880"/>
            <a:ext cx="5114880" cy="3128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Репетитор для подготовки к ЕГЭ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Выполнение задания части С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Критерии оценивания (К1 – К5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- Что делает автор текста,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едлагая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на обсуждение ту или иную проблему?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- На какие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аспекты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этой проблемы он обращает прежде всего свое внимание?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- Что особенно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олнует (тревожит)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пишущего при изложении этой проблемы (что он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одчеркивает, выделяет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…)?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- ОБЯЗАТЕЛЬНО УКАЖИТЕ ЭТИ АСПЕКТЫ!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176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35684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облему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(чего? какую?)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автор рассматривает на примере жизни одного из своих героев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Комментируя эту проблему, хочется отметить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(сказать, подчеркнуть…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Рассматривая проблему, автор обращает внимание читателя на…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облема, заявленная автором, заставляет нас глубоко задуматься о…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Это одна из самых острых (злободневных, важных…) проблем нашего времени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б актуальности можно говорить не только в комментарии, но и в той части сочинения, где вы аргументируете заявленную автором позицию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е следует забывать, что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омментарий должен обязательно опираться на исходный текст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438120" y="291960"/>
            <a:ext cx="7389720" cy="1176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6840" y="1599840"/>
            <a:ext cx="75438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1) выделяет ту часть текста, которая выполняет функции комментария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(поэтому лучше его также выделить в отдельный микротекст)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2) оценивает: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се ли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основные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аспекты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затронутой автором проблемы вами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окомментированы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3) нет ли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искажения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смысла авторского текста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85680" y="-6480"/>
            <a:ext cx="8156520" cy="20844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999800"/>
            <a:ext cx="7686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Что это значит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Понять, осознать и сформулировать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: что хотел сказать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автор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? Какова была основная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цель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?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Ради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чего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се это написал? Какие мысли, чувства, переживания являются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для автора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главными, ключевыми?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Чему учит текст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Автор может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ложительно относиться к изображаемому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трицательно (осуждающе, саркастически)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однозначно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двойственно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кептическ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ронически (с юмором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951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213840" y="1213920"/>
            <a:ext cx="8001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читает (полагает, утверждает),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дводит читателя к выводу о том, чт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ставляет читателя задуматься на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суждает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азделяет мнение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бвиняет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оказывает, отстаивает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изывае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к…,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ак как убежден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том, что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ткрыто заявляет о своей гражданской позиции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зиция автора по затронутым вопросам очевидна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450720" y="19080"/>
            <a:ext cx="8242560" cy="19130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999800"/>
            <a:ext cx="7686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ргументация – приведение доказательств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этому дальнейшая работа над частью С представляет собой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оздание текста-рассуждения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тезис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аша позиция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 сформулированной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облеме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 точке зрения автора; желательно передать не только свое согласие/несогласие с автором, но и свои эмоции по поводу авторской позиции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аргументация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доказательства – 3 примера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ывод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овет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 чтобы получить максимальный балл по критерию К4 (чтобы не вызывать «лишних», дополнительных вопросов у эксперта), формулируйте свою позицию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четко и прямо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дайте себе вопрос: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очему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я согласен (не согласен) с автором? И ответьте четко и прямо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051760" cy="731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6840" y="857160"/>
            <a:ext cx="76150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С мнением (позицией, доводами) автора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трудно не согласиться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Нельзя не согласиться с мнением автора. Хочется подчеркнуть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озиция автора по этой проблеме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заслуживает уважения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Я разделяю позицию автора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. Потому что, во-первых,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Я согласен с позицией (точкой зрения) автора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, так как, во-вторых,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Я полагаю, что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Безусловно (конечно, разумеется, действительно, пожалуй, думаю, без сомнения),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Оценивая авторскую позицию в целом, можно сказать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Размышляя над позицией автора, хочется отметить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Разделяя точку зрения автора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, хочется добавить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ряд ли кто осмелится возразить автору (не согласиться с точкой зрения автора)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риведем пример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С одной стороны, с другой стороны, наконец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Каждый из нас может привести множество аргументов в защиту авторской позиции. Во-первых,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Ярчайшими примерами могут служить не только…, но и 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7255080" cy="1413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600200"/>
            <a:ext cx="77580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1) реальные факты из жизни окружающих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2) свои собственные наблюдения и выводы (события своей жизни)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3) что могло бы быть при определенных условиях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4) пословицы и поговорки, афоризмы (с пояснением)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5) примеры из художественной литературы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6) примеры из художественных фильмов, теле- и радиопередач, печати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7) ссылки на авторитетное мнение…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7255080" cy="7318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1214280"/>
            <a:ext cx="7238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аша аргументация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олжна не только соотноситься с проблематикой исходного текста, но и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быть созвучной авторской позиции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Аргументы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3 балла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вел не менее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 аргументов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дин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из которых взят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з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художественной, публицистической или научной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литературы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 балла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 менее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 аргументов, опираясь на знания, жизненный опыт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вел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только 1 аргумент из литературы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 балл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вел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1 аргумент, опираясь на знания, жизненный опыт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0 баллов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 привел аргументы или мнение лишь формально заявлено (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огласен/не согласен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12760" y="189000"/>
            <a:ext cx="7797600" cy="1888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6840" y="2214360"/>
            <a:ext cx="7543800" cy="42145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12 критериев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Максимальное количество баллов – 21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аша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задача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– написать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сочинение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, в котором вы не просто излагаете свои мысли, возникшие у вас после прочтения текста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ы пишете сочинение, в котором вы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должны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225360" y="237960"/>
            <a:ext cx="8126640" cy="2267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2857320"/>
            <a:ext cx="7686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О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ступлении: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если трудно составить «специальное» вступление, если от волнения ничего не приходит в голову, откажитесь вообще от него: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сформулированная вами проблема и будет вступлением вашего сочинения (не забудьте только выделить это «вступление» в отдельный абзац)!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599840"/>
            <a:ext cx="76867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Должно быть в тексте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обязательно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! Это логическое завершение ваших рассуждений о проблеме текста, авторской позиции, в нем вы выражаете ваше личностно-эмоциональное отношение к авторской позиции. Это своего рода последний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«аккорд»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вашей творческой работы. Поэтому, чтобы произвести на эксперта достойное впечатление, продумайте заключение заранее, чтобы из-за недостатка времени не «скомкать» его и получить высший балл по критерию К5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8051760" cy="811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071720"/>
            <a:ext cx="76867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заключен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ие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хочу подчеркнуть (хотелось бы отметить, еще раз обратить внимание на…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заключен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и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сочинения хочется добавить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заключение важно отметить (необходимо подчеркнуть…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собо следует выделить (отметить, сказать, подчеркнуть…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общая сказанное, можно сделать вывод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так (следовательно, таким образом, потому, поэтому…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433440" y="317520"/>
            <a:ext cx="739944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0200"/>
            <a:ext cx="76867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Нет плавного перехода от одной микротемы к другой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Отсутствие деления на абзацы (или наоборот – неоправданное выделение нескольких (2 - 3) предложений в отдельный абзац) в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основной части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сочинения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Сколько абзацев? ???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Сочинение должно быть классически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трехчастным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вступление;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основная часть (ее желательно разделить на абзацы - микротемы!);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заключение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444600" y="103320"/>
            <a:ext cx="7370640" cy="97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142920" y="1096920"/>
          <a:ext cx="7881840" cy="5313240"/>
        </p:xfrm>
        <a:graphic>
          <a:graphicData uri="http://schemas.openxmlformats.org/drawingml/2006/table">
            <a:tbl>
              <a:tblPr/>
              <a:tblGrid>
                <a:gridCol w="1643040"/>
                <a:gridCol w="2428920"/>
                <a:gridCol w="3809880"/>
              </a:tblGrid>
              <a:tr h="580680">
                <a:tc>
                  <a:txBody>
                    <a:bodyPr lIns="80280" rIns="802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роблема тек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da4"/>
                    </a:solidFill>
                  </a:tcPr>
                </a:tc>
                <a:tc>
                  <a:txBody>
                    <a:bodyPr lIns="80280" rIns="802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зиция авт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da4"/>
                    </a:solidFill>
                  </a:tcPr>
                </a:tc>
                <a:tc>
                  <a:txBody>
                    <a:bodyPr lIns="80280" rIns="802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Моя позиция и аргумен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da4"/>
                    </a:solidFill>
                  </a:tcPr>
                </a:tc>
              </a:tr>
              <a:tr h="4732560"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сновная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облема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проблема ле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втор хотел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судить своего геро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ставить читателя серьезно задуматься над этой проблемой, оценить ее губительные последств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 разделяю точку зрения автора. Почему?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– Да потому что не разделять ее просто нельзя, если хочешь чего-то добиться в жизни. Проблема лени касается каждого из нас. И от меня «сегодняшнего», моего сегодняшнего образа жизни, моей сегодняшней борьбы с леностью, праздностью зависит мое будущее (кем я стану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ие я могу привести аргумент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з литературы (Обломов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Жизненный финал – нравственное падение личности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вод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всем нам нужно помнить    предостережение, чтобы не стать современными Ионычами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699680" cy="8114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56840" y="1142640"/>
            <a:ext cx="7615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мментируя проблемы текста, отмечу, что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ернемся, однако, к исходному тексту. Автор приводит другое определение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змышляя над авторской позицией, хочется сказать, во-первых,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о-вторых, разделяя в целом точку зрения автора о том, что…, хочется добавить, что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ными словами,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Смотри рекомендации для сдающего экзамены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Успехов!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413840" cy="2084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2214360"/>
            <a:ext cx="7400880" cy="4214520"/>
          </a:xfrm>
          <a:prstGeom prst="rect">
            <a:avLst/>
          </a:prstGeom>
          <a:solidFill>
            <a:srgbClr val="fef0d7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«в той или иной форме» верно сформулировать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1 из проблем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исходного текста!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6840" y="1499760"/>
            <a:ext cx="7186680" cy="5072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Кратко и точно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назвать вопросы,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которые особенно интересовали автора при написании конкретного текста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облемы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философские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социальные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политические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научные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экологические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нравственно-этические…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7712280" cy="1695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43040"/>
            <a:ext cx="7686720" cy="48578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 тексте, предложенном для анализа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центре внимания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(кого?)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актуальная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облема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(чего?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 анализируемом тексте автор рассматривает проблему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(чего?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облема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(чего? какая?),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оставленная (рассматриваемая) автором в этом тексте, звучит уже в самом его названии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 предложенном для анализа тексте автор ставит вопрос: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о чем?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 тексте затрагивается также проблема: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чего?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12760" y="60480"/>
            <a:ext cx="8480520" cy="73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142920" y="1000080"/>
          <a:ext cx="7920000" cy="5546880"/>
        </p:xfrm>
        <a:graphic>
          <a:graphicData uri="http://schemas.openxmlformats.org/drawingml/2006/table">
            <a:tbl>
              <a:tblPr/>
              <a:tblGrid>
                <a:gridCol w="2714760"/>
                <a:gridCol w="2428560"/>
                <a:gridCol w="27766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роблема (какая?)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роблема (чего?)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втор заставляет читателя (что делать?)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лободне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ве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лубоко задумать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кту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к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ьезнее относиться 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стр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равственного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ценить собственную пози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аж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спи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-иному посмотре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ьез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нтеллиген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ереосмысли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сно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зна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учше понять себ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у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делиться мыс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зрев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обра и з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 горечью по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болев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равственной проч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ценить истинный масшта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о боли знаком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уховного совершен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бщественно значим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общения к чт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лав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амя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сматрива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следу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иру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улиру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лага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двига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сается (чего?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трагива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робно останавливается на проблеме (чего?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учительно размышляет над проблемой (чего?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785960"/>
            <a:ext cx="7400880" cy="4340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Грамотная формулировка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облемы текста очень важн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едь это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начало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вашего сочине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Формулировка проблемы исходного текста в виде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вопроса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подходит для любого текста. Она универсальна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450720" y="-171360"/>
            <a:ext cx="8242560" cy="2603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2714760"/>
            <a:ext cx="768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Что такое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комментарий?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Запомните: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это не пересказ текста!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Читая ваш комментарий, эксперты проверяют не только ваше умение строить связное монологическое высказывание, но и выясняют, насколько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глубоко и полно поняли вы проблему текста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, увидели ли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аспекты проблемы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7:42:24Z</dcterms:created>
  <dc:creator>Русак</dc:creator>
  <dc:description/>
  <dc:language>en-US</dc:language>
  <cp:lastModifiedBy>COMP</cp:lastModifiedBy>
  <dcterms:modified xsi:type="dcterms:W3CDTF">2011-10-15T04:57:08Z</dcterms:modified>
  <cp:revision>44</cp:revision>
  <dc:subject/>
  <dc:title>ЕГЭ по русскому языку</dc:title>
</cp:coreProperties>
</file>