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gif" ContentType="image/gif"/>
  <Override PartName="/ppt/media/image7.gif" ContentType="image/gif"/>
  <Override PartName="/ppt/media/image5.jpeg" ContentType="image/jpeg"/>
  <Override PartName="/ppt/media/image10.jpeg" ContentType="image/jpeg"/>
  <Override PartName="/ppt/media/image13.wmf" ContentType="image/x-wmf"/>
  <Override PartName="/ppt/media/image6.gif" ContentType="image/gif"/>
  <Override PartName="/ppt/media/image17.wmf" ContentType="image/x-wmf"/>
  <Override PartName="/ppt/media/image4.jpeg" ContentType="image/jpeg"/>
  <Override PartName="/ppt/media/image11.jpeg" ContentType="image/jpeg"/>
  <Override PartName="/ppt/media/image22.png" ContentType="image/png"/>
  <Override PartName="/ppt/media/image21.png" ContentType="image/png"/>
  <Override PartName="/ppt/media/image18.gif" ContentType="image/gif"/>
  <Override PartName="/ppt/media/image20.gif" ContentType="image/gif"/>
  <Override PartName="/ppt/media/image15.wmf" ContentType="image/x-wmf"/>
  <Override PartName="/ppt/media/image14.wmf" ContentType="image/x-wmf"/>
  <Override PartName="/ppt/media/image19.gif" ContentType="image/gif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chimes.wav" ContentType="audio/x-wav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469A-7890-484C-8641-64C80234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A76-C69C-4881-9462-19A5BAEF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2BF-F1C6-41CB-93B8-F8921E3E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3A73-7631-47BD-B903-24E7DC34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95D7-2E8F-4E52-8777-5ABC02BF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D41F-0C7E-4930-BDBD-8DC60461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290C-7B80-45C7-A0C7-7502440D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43FA-0498-4B3C-B1E3-26FB33D7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476F-796F-4393-9DE9-07394D34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AD52-C4DE-43D6-B28C-86B0B6E8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605F-9361-40BD-9D14-A18C9E2F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2378-8A60-4D74-B826-5DA5C113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67A0-A2A1-40A9-939A-C6D08650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ED6F-EECC-48CF-AE23-36ECA89A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A988-46E8-4423-BEC9-EA33E142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856C-DE51-4AA3-B1DC-773BF850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C1E5-2FFC-451E-9658-8298E9CF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638-1839-4F63-90FD-F0E1CC25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832-FDD6-4738-91ED-EE539AB4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C337-FD3A-4B71-8E31-8ED18A64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4B0-484E-4339-A6A4-CCB9B81A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5AA-5BAE-4BAD-A605-D5900EAA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9BB-9008-431F-B07C-5009B75A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4E6-B8DF-4B9D-AEF0-EE43B501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6125-9087-4EC1-8097-24D4E29B5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4EAB-9C6A-4345-BA06-6BEFC00CC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11"/>
          <p:cNvSpPr txBox="1"/>
          <p:nvPr/>
        </p:nvSpPr>
        <p:spPr>
          <a:xfrm>
            <a:off x="1066680" y="609480"/>
            <a:ext cx="7391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Повестка дня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1219320" y="4437000"/>
            <a:ext cx="6858000" cy="25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73551"/>
                </a:solidFill>
                <a:latin typeface="Times New Roman"/>
              </a:rPr>
              <a:t>3.   Здоровье сберегающая деятельность в общеобразовательном учреждении.</a:t>
            </a:r>
            <a:r>
              <a:rPr b="1" i="1" lang="en-US" sz="2800" spc="-1" strike="noStrike">
                <a:solidFill>
                  <a:srgbClr val="b73551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b73551"/>
                </a:solidFill>
                <a:latin typeface="Times New Roman"/>
              </a:rPr>
              <a:t>докладчик: Руководитель методического объединения начальных классов Ковалева М.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1250"/>
              </a:spcBef>
              <a:buClr>
                <a:srgbClr val="b735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1250"/>
              </a:spcBef>
              <a:buClr>
                <a:srgbClr val="b735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219320" y="2133720"/>
            <a:ext cx="7086600" cy="23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Оздоровительные мероприятия в учебном процессе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(докладчик: учитель 3 «А» класса Владимирова Л.В.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Оздоровительные мероприятия в период адаптации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первоклассников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. ( докладчик: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учитель1 «Б» класс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Нестерова Т.Ю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Представления о здоровой школе учеников средней школы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78000" y="2170080"/>
            <a:ext cx="706608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66ff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В здоровой школе не должно быть плохих слов, курения</a:t>
            </a:r>
            <a:r>
              <a:rPr b="1" lang="en-GB" sz="2400" spc="-1" strike="noStrike">
                <a:solidFill>
                  <a:srgbClr val="6666ff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Все должны уважать друг друга</a:t>
            </a:r>
            <a:r>
              <a:rPr b="1" lang="en-GB" sz="2400" spc="-1" strike="noStrike">
                <a:solidFill>
                  <a:srgbClr val="6666ff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Там должны быть чистые туалеты, здоровая пища, физические упражнения, свежий возду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Учителя не должны кричать на учеников</a:t>
            </a:r>
            <a:r>
              <a:rPr b="1" lang="en-GB" sz="2400" spc="-1" strike="noStrike">
                <a:solidFill>
                  <a:srgbClr val="6666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Окружающая обстановка и атмосфера должны быть чистой и свежей</a:t>
            </a:r>
            <a:r>
              <a:rPr b="1" lang="en-GB" sz="2400" spc="-1" strike="noStrike">
                <a:solidFill>
                  <a:srgbClr val="6666ff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Не должно быть запугивания</a:t>
            </a:r>
            <a:r>
              <a:rPr b="1" lang="en-GB" sz="2400" spc="-1" strike="noStrike">
                <a:solidFill>
                  <a:srgbClr val="6666ff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</a:rPr>
              <a:t>Учителя и дети должны иметь хорошие манеры и быть вежливыми</a:t>
            </a:r>
            <a:r>
              <a:rPr b="1" lang="en-GB" sz="2400" spc="-1" strike="noStrike">
                <a:solidFill>
                  <a:srgbClr val="6666ff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Школы России"/>
          <p:cNvPicPr/>
          <p:nvPr/>
        </p:nvPicPr>
        <p:blipFill>
          <a:blip r:embed="rId1"/>
          <a:stretch/>
        </p:blipFill>
        <p:spPr>
          <a:xfrm>
            <a:off x="6629400" y="404640"/>
            <a:ext cx="205740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3429000" y="990720"/>
            <a:ext cx="2362320" cy="143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5143680" y="981000"/>
            <a:ext cx="2643120" cy="14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295280" y="990720"/>
            <a:ext cx="2133720" cy="143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066680" y="2438280"/>
            <a:ext cx="2071800" cy="1656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505320" y="1268280"/>
            <a:ext cx="198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600200" y="11970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доровое пит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867280" y="11970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филактика нарком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1066680" y="4114800"/>
            <a:ext cx="259092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143000" y="429264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ражданское образ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3124080" y="2438280"/>
            <a:ext cx="2567160" cy="165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4"/>
          <p:cNvSpPr/>
          <p:nvPr/>
        </p:nvSpPr>
        <p:spPr>
          <a:xfrm flipH="1">
            <a:off x="914400" y="2438280"/>
            <a:ext cx="6905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990720" y="2708280"/>
            <a:ext cx="1752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изкуль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2500200" y="1125360"/>
            <a:ext cx="0" cy="4535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3429000" y="4076640"/>
            <a:ext cx="2057400" cy="158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3429000" y="429264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словия обуч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19"/>
          <p:cNvSpPr/>
          <p:nvPr/>
        </p:nvSpPr>
        <p:spPr>
          <a:xfrm>
            <a:off x="5334120" y="4006800"/>
            <a:ext cx="2309760" cy="1654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5715000" y="2421000"/>
            <a:ext cx="2071800" cy="16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3352680" y="270828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моциональное здоровь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838080" y="4038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5143680" y="1125360"/>
            <a:ext cx="0" cy="4535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5357880" y="436572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вен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867280" y="2781360"/>
            <a:ext cx="18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ексуальное образ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2133720" y="4492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доровая шко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27" descr="C:\Documents and Settings\Марина Борисовна\Рабочий стол\картинки и анимашки\картинки Scholl\1_1_2.jpg"/>
          <p:cNvPicPr/>
          <p:nvPr/>
        </p:nvPicPr>
        <p:blipFill>
          <a:blip r:embed="rId1"/>
          <a:stretch/>
        </p:blipFill>
        <p:spPr>
          <a:xfrm>
            <a:off x="7010280" y="4191120"/>
            <a:ext cx="164628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Исследование детей 6-8 лет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4674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507960"/>
            <a:ext cx="762012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Исследование детей 6-8 лет</a:t>
            </a:r>
            <a:r>
              <a:rPr b="0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1143000" y="1143000"/>
          <a:ext cx="739152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43000"/>
                    <a:ext cx="739152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302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Исследование детей 6-8 лет</a:t>
            </a:r>
            <a:r>
              <a:rPr b="0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1219320" y="1371600"/>
          <a:ext cx="731520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3152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4920" y="248760"/>
            <a:ext cx="637236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21304"/>
                </a:solidFill>
                <a:uFillTx/>
                <a:latin typeface="Times New Roman"/>
              </a:rPr>
              <a:t>Подумай о следующих утверждениях …</a:t>
            </a:r>
            <a:r>
              <a:rPr b="0" lang="en-US" sz="3100" spc="-1" strike="noStrike" u="sng">
                <a:solidFill>
                  <a:srgbClr val="221304"/>
                </a:solidFill>
                <a:uFillTx/>
                <a:latin typeface="Times New Roman"/>
              </a:rPr>
              <a:t> </a:t>
            </a:r>
            <a:endParaRPr b="0" lang="en-US" sz="31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5800" y="309600"/>
            <a:ext cx="8458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1295280" y="914400"/>
          <a:ext cx="701064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14400"/>
                    <a:ext cx="701064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0" y="18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9"/>
          <p:cNvGraphicFramePr/>
          <p:nvPr/>
        </p:nvGraphicFramePr>
        <p:xfrm>
          <a:off x="1523880" y="2514600"/>
          <a:ext cx="6327720" cy="36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514600"/>
                    <a:ext cx="632772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Rectangle 10"/>
          <p:cNvSpPr/>
          <p:nvPr/>
        </p:nvSpPr>
        <p:spPr>
          <a:xfrm>
            <a:off x="1600200" y="762120"/>
            <a:ext cx="678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Arial"/>
              </a:rPr>
              <a:t>В школе на переменах  и в свободное от уроков время чувствуешь ли ты себя 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143640" y="-2265480"/>
            <a:ext cx="54612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0" descr="C:\Documents and Settings\Марина Борисовна\Рабочий стол\картинки и анимашки\картинки Scholl\baby18.gif"/>
          <p:cNvPicPr/>
          <p:nvPr/>
        </p:nvPicPr>
        <p:blipFill>
          <a:blip r:embed="rId3"/>
          <a:stretch/>
        </p:blipFill>
        <p:spPr>
          <a:xfrm>
            <a:off x="1295280" y="5181480"/>
            <a:ext cx="10670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19360" y="38052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Цели программы «Здоровье»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в школ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010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Создание школьной среды, благоприятствующей безопасности, укреплению и развитию здоровья, превращение школы в место, где комфортно учиться, работать и развива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Создание действующих технологий, направленных на развитие  здоровья всех участников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Создание действующего мониторинга оценки эффективности работы школы в области здоровья школь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C:\Documents and Settings\Марина Борисовна\Рабочий стол\картинки и анимашки\картинки Scholl\7.gif"/>
          <p:cNvPicPr/>
          <p:nvPr/>
        </p:nvPicPr>
        <p:blipFill>
          <a:blip r:embed="rId1"/>
          <a:stretch/>
        </p:blipFill>
        <p:spPr>
          <a:xfrm>
            <a:off x="914400" y="-152280"/>
            <a:ext cx="3200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1523880" y="1219320"/>
            <a:ext cx="65534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Задачи программы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"Здоровье"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7" name="Picture 5" descr="C:\Documents and Settings\Марина Борисовна\Рабочий стол\картинки и анимашки\картинки Scholl\a2b65e76af0d72fc2dfd48baf7b3ac3d.gif"/>
          <p:cNvPicPr/>
          <p:nvPr/>
        </p:nvPicPr>
        <p:blipFill>
          <a:blip r:embed="rId1"/>
          <a:stretch/>
        </p:blipFill>
        <p:spPr>
          <a:xfrm>
            <a:off x="2286000" y="3429000"/>
            <a:ext cx="5334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142640" y="53352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Создание безопасной и здоровой среды обит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Организация системы обязательного питания учащихся 1-4 клас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Создание системы укрепления и развития здоровья посредством физической культ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Организация системы сопровождения детей с ограничениями в состоянии здоро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Организация профилактических программ для педагог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Действие программы профилактики поведения (в том числе курения и наркозависимост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Формирование через содержание учебных предметов престижа здорового образа жиз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Повышение компетентности педагогов в вопросах сохранения и развития здоровья школь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Создание действующего мониторинга оценки эффективности работы школы в области здоровья школь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Организация системы работы с родителями по вопросам здоровья де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C:\Documents and Settings\Марина Борисовна\Рабочий стол\фото\P9250001.JPG"/>
          <p:cNvPicPr/>
          <p:nvPr/>
        </p:nvPicPr>
        <p:blipFill>
          <a:blip r:embed="rId1"/>
          <a:stretch/>
        </p:blipFill>
        <p:spPr>
          <a:xfrm>
            <a:off x="1116000" y="260280"/>
            <a:ext cx="7704000" cy="6337440"/>
          </a:xfrm>
          <a:prstGeom prst="rect">
            <a:avLst/>
          </a:prstGeom>
          <a:ln w="0">
            <a:noFill/>
          </a:ln>
        </p:spPr>
      </p:pic>
      <p:sp>
        <p:nvSpPr>
          <p:cNvPr id="94" name="WordArt 4"/>
          <p:cNvSpPr txBox="1"/>
          <p:nvPr/>
        </p:nvSpPr>
        <p:spPr>
          <a:xfrm>
            <a:off x="1371600" y="609480"/>
            <a:ext cx="56516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Тема: "Здоровье сберегающая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еятельность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едагога  в общеобразовательном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учреждении "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1028"/>
          <p:cNvSpPr txBox="1"/>
          <p:nvPr/>
        </p:nvSpPr>
        <p:spPr>
          <a:xfrm>
            <a:off x="1295280" y="2286000"/>
            <a:ext cx="7239240" cy="17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Благодарю за внимание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0" name="Picture 1029" descr="C:\Documents and Settings\Марина Борисовна\Рабочий стол\картинки и анимашки\картинки Scholl\22.gif"/>
          <p:cNvPicPr/>
          <p:nvPr/>
        </p:nvPicPr>
        <p:blipFill>
          <a:blip r:embed="rId1"/>
          <a:stretch/>
        </p:blipFill>
        <p:spPr>
          <a:xfrm>
            <a:off x="6553080" y="3962520"/>
            <a:ext cx="1752840" cy="228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30" descr="C:\Documents and Settings\Марина Борисовна\Рабочий стол\картинки и анимашки\картинки Scholl\2l.gif"/>
          <p:cNvPicPr/>
          <p:nvPr/>
        </p:nvPicPr>
        <p:blipFill>
          <a:blip r:embed="rId2"/>
          <a:stretch/>
        </p:blipFill>
        <p:spPr>
          <a:xfrm>
            <a:off x="1219320" y="4267080"/>
            <a:ext cx="1508040" cy="1920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36" descr="C:\Documents and Settings\Марина Борисовна\Рабочий стол\картинки и анимашки\картинки Scholl\ratf4aae01e36e2c41275367025e2f40a9d.jpg"/>
          <p:cNvPicPr/>
          <p:nvPr/>
        </p:nvPicPr>
        <p:blipFill>
          <a:blip r:embed="rId3"/>
          <a:stretch/>
        </p:blipFill>
        <p:spPr>
          <a:xfrm>
            <a:off x="1143000" y="304920"/>
            <a:ext cx="38098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066680" y="6094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1304"/>
                </a:solidFill>
                <a:latin typeface="Times New Roman"/>
              </a:rPr>
              <a:t>Цель  здоровье сберегающих образовательных технологий обучения</a:t>
            </a:r>
            <a:r>
              <a:rPr b="1" lang="en-US" sz="2800" spc="-1" strike="noStrike">
                <a:solidFill>
                  <a:srgbClr val="221304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221304"/>
                </a:solidFill>
                <a:latin typeface="Times New Roman"/>
              </a:rPr>
              <a:t>Обеспечить школьнику возможность сохранения здоровья: в период обучения в школе.</a:t>
            </a:r>
            <a:br>
              <a:rPr sz="2000"/>
            </a:br>
            <a:r>
              <a:rPr b="1" lang="en-US" sz="2000" spc="-1" strike="noStrike">
                <a:solidFill>
                  <a:srgbClr val="221304"/>
                </a:solidFill>
                <a:latin typeface="Times New Roman"/>
              </a:rPr>
              <a:t> - Сформировать у него необходимые знания, умения, навыки по здоровому образу жизни. </a:t>
            </a:r>
            <a:br>
              <a:rPr sz="2000"/>
            </a:br>
            <a:r>
              <a:rPr b="1" lang="en-US" sz="2000" spc="-1" strike="noStrike">
                <a:solidFill>
                  <a:srgbClr val="221304"/>
                </a:solidFill>
                <a:latin typeface="Times New Roman"/>
              </a:rPr>
              <a:t> - Научить использовать полученные знания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143000" y="3124080"/>
            <a:ext cx="7543800" cy="38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сновополагающие приоритеты для педагогики оздоровл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Здоровый ребенок – практически достижимая норма детского развит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Оздоровление – не совокупность лечебно – профилактическ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ер, а форма развития психофизиологических возможностей детей.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 Индивидуально–дифференцированный подход – основное средство оздоровительно-развивающей работы с учащимис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6920" y="476280"/>
            <a:ext cx="7533000" cy="6067440"/>
          </a:xfrm>
          <a:prstGeom prst="rect">
            <a:avLst/>
          </a:prstGeom>
          <a:solidFill>
            <a:srgbClr val="3694b6"/>
          </a:solidFill>
          <a:ln w="9360">
            <a:solidFill>
              <a:srgbClr val="660066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660066"/>
                </a:solidFill>
                <a:latin typeface="Times New Roman"/>
              </a:rPr>
              <a:t>Здоровье </a:t>
            </a:r>
            <a:br>
              <a:rPr sz="6300"/>
            </a:br>
            <a:r>
              <a:rPr b="0" lang="en-US" sz="6300" spc="-1" strike="noStrike">
                <a:solidFill>
                  <a:srgbClr val="660066"/>
                </a:solidFill>
                <a:latin typeface="Times New Roman"/>
              </a:rPr>
              <a:t>как образовательный результат</a:t>
            </a:r>
            <a:br>
              <a:rPr sz="6300"/>
            </a:br>
            <a:br>
              <a:rPr sz="6300"/>
            </a:br>
            <a:r>
              <a:rPr b="0" lang="en-US" sz="6300" spc="-1" strike="noStrike">
                <a:solidFill>
                  <a:srgbClr val="221304"/>
                </a:solidFill>
                <a:latin typeface="Times New Roman"/>
              </a:rPr>
              <a:t>             </a:t>
            </a:r>
            <a:endParaRPr b="0" lang="en-US" sz="63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208764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676160" y="2743200"/>
            <a:ext cx="6553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Здоровье – плата за образовани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Здоровье – бонус к образованию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C:\Documents and Settings\Марина Борисовна\Рабочий стол\картинки и анимашки\картинки Scholl\head.jpg"/>
          <p:cNvPicPr/>
          <p:nvPr/>
        </p:nvPicPr>
        <p:blipFill>
          <a:blip r:embed="rId1"/>
          <a:stretch/>
        </p:blipFill>
        <p:spPr>
          <a:xfrm>
            <a:off x="1295280" y="533520"/>
            <a:ext cx="42674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585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Здоровье - это состояние полного физического, умственного, и социального благополучия, а не только отсутствие болезни или немощи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Picture 3" descr="C:\Documents and Settings\Марина Борисовна\Рабочий стол\картинки и анимашки\картинки Scholl\237.gif"/>
          <p:cNvPicPr/>
          <p:nvPr/>
        </p:nvPicPr>
        <p:blipFill>
          <a:blip r:embed="rId1"/>
          <a:stretch/>
        </p:blipFill>
        <p:spPr>
          <a:xfrm>
            <a:off x="6607080" y="0"/>
            <a:ext cx="253692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Марина Борисовна\Рабочий стол\картинки и анимашки\картинки Scholl\404.gif"/>
          <p:cNvPicPr/>
          <p:nvPr/>
        </p:nvPicPr>
        <p:blipFill>
          <a:blip r:embed="rId2"/>
          <a:stretch/>
        </p:blipFill>
        <p:spPr>
          <a:xfrm>
            <a:off x="2286000" y="4343400"/>
            <a:ext cx="45720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4"/>
          <p:cNvSpPr/>
          <p:nvPr/>
        </p:nvSpPr>
        <p:spPr>
          <a:xfrm>
            <a:off x="1143000" y="914400"/>
            <a:ext cx="731988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Педагоги, с которыми дети проводят большую часть времени, </a:t>
            </a:r>
            <a:r>
              <a:rPr b="0" lang="ru-RU" sz="32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не умеют развивать здоровье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школьников и не ставят такой задачи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Не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т четкой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разработ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ки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систем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комплексной оценки детского здоровья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5" descr="C:\Documents and Settings\Марина Борисовна\Рабочий стол\картинки и анимашки\картинки Scholl\3l.gif"/>
          <p:cNvPicPr/>
          <p:nvPr/>
        </p:nvPicPr>
        <p:blipFill>
          <a:blip r:embed="rId1"/>
          <a:stretch/>
        </p:blipFill>
        <p:spPr>
          <a:xfrm>
            <a:off x="6553080" y="4114800"/>
            <a:ext cx="18892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43200" y="380520"/>
            <a:ext cx="68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Что такое здоровый челове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AutoShape 21"/>
          <p:cNvSpPr/>
          <p:nvPr/>
        </p:nvSpPr>
        <p:spPr>
          <a:xfrm>
            <a:off x="3048120" y="2666880"/>
            <a:ext cx="1706400" cy="1706760"/>
          </a:xfrm>
          <a:prstGeom prst="irregularSeal2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часть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23"/>
          <p:cNvSpPr/>
          <p:nvPr/>
        </p:nvSpPr>
        <p:spPr>
          <a:xfrm>
            <a:off x="4495680" y="1371600"/>
            <a:ext cx="2737080" cy="1871640"/>
          </a:xfrm>
          <a:prstGeom prst="irregularSeal2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то-то близ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25"/>
          <p:cNvSpPr/>
          <p:nvPr/>
        </p:nvSpPr>
        <p:spPr>
          <a:xfrm>
            <a:off x="3733920" y="3809880"/>
            <a:ext cx="2514600" cy="2286000"/>
          </a:xfrm>
          <a:prstGeom prst="irregularSeal2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ук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6"/>
          <p:cNvSpPr/>
          <p:nvPr/>
        </p:nvSpPr>
        <p:spPr>
          <a:xfrm>
            <a:off x="1143000" y="914400"/>
            <a:ext cx="2808360" cy="2676600"/>
          </a:xfrm>
          <a:prstGeom prst="irregularSeal2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914400" y="3962520"/>
            <a:ext cx="2514600" cy="2209680"/>
          </a:xfrm>
          <a:prstGeom prst="irregularSeal2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д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8" descr="C:\Documents and Settings\Марина Борисовна\Рабочий стол\картинки и анимашки\картинки Scholl\futbol.gif"/>
          <p:cNvPicPr/>
          <p:nvPr/>
        </p:nvPicPr>
        <p:blipFill>
          <a:blip r:embed="rId1"/>
          <a:stretch/>
        </p:blipFill>
        <p:spPr>
          <a:xfrm>
            <a:off x="5791320" y="1676520"/>
            <a:ext cx="2971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914040"/>
            <a:ext cx="4876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Представления малышей </a:t>
            </a:r>
            <a:br>
              <a:rPr sz="3600"/>
            </a:b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          </a:t>
            </a:r>
            <a:r>
              <a:rPr b="1" i="1" lang="en-US" sz="2800" spc="-1" strike="noStrike">
                <a:solidFill>
                  <a:srgbClr val="3366ff"/>
                </a:solidFill>
                <a:latin typeface="Times New Roman"/>
              </a:rPr>
              <a:t>В здоровой шко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6013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Добрые, улыбающиеся  учите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Красивые и чистые туале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Вкусная е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Можно радовать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Тебя никто не обзыв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Ты можешь дружить со всеми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6000" y="260280"/>
            <a:ext cx="29527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04:04:28Z</dcterms:created>
  <dc:creator>Федоренко Е. Ю.</dc:creator>
  <dc:description/>
  <dc:language>en-US</dc:language>
  <cp:lastModifiedBy>Малхасян Сергей</cp:lastModifiedBy>
  <dcterms:modified xsi:type="dcterms:W3CDTF">2011-12-04T10:16:04Z</dcterms:modified>
  <cp:revision>30</cp:revision>
  <dc:subject/>
  <dc:title>Слайд 1</dc:title>
</cp:coreProperties>
</file>