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13.wmf" ContentType="image/x-wmf"/>
  <Override PartName="/ppt/media/image6.gif" ContentType="image/gif"/>
  <Override PartName="/ppt/media/image17.wmf" ContentType="image/x-wmf"/>
  <Override PartName="/ppt/media/image4.jpeg" ContentType="image/jpeg"/>
  <Override PartName="/ppt/media/image11.jpeg" ContentType="image/jpeg"/>
  <Override PartName="/ppt/media/image22.png" ContentType="image/png"/>
  <Override PartName="/ppt/media/image21.png" ContentType="image/png"/>
  <Override PartName="/ppt/media/image18.gif" ContentType="image/gif"/>
  <Override PartName="/ppt/media/image20.gif" ContentType="image/gif"/>
  <Override PartName="/ppt/media/image15.wmf" ContentType="image/x-wmf"/>
  <Override PartName="/ppt/media/image14.wmf" ContentType="image/x-wmf"/>
  <Override PartName="/ppt/media/image19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D2E-2D9E-47E6-8D19-C7E695D9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8DB-8956-4768-BF02-A7FB871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4A7-5DCB-451A-A652-3CA98230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EF8-8993-41EE-B932-971E9FB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A0A4-C1BB-4F3E-885B-048B228F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DE1B-5E09-4DB3-B9EF-A9619535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0D9A-6AA6-42C8-BF80-D7AA1BB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730-30B3-4639-80F9-FA13EC28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E6D-3AD4-48BC-AE1D-8CAFA408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33C-B159-4C30-AE63-A533DA6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0DB3-1A6C-453D-B4D0-CC24D5E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6C9-DE41-4F1B-894A-A532FB1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2BC-679B-4889-8E33-0C13615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DC7-FC93-448D-8A59-43ACA36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10A6-5E14-4AAA-AF8B-3C27F62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6F7C-8FAF-4E02-BF47-F553C453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16ED-F449-444E-8C57-C4F87176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E95-2B6E-43CC-B5D9-8CACB74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259-666F-4AE5-A128-111B73CE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AEE-5056-4E49-8E19-D57B691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79A-0A68-4882-9B68-B6B1C084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F49-9F23-4B4E-8A0E-3DC3FE8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04C-7992-4848-9EE7-DE36336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E07-62C5-4BB7-A4EF-3D3DAC3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8C4-8C93-4542-93AB-BA2FC9D3B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3B0A-C0D8-4E11-8EBF-6EDDD0C5D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1"/>
          <p:cNvSpPr txBox="1"/>
          <p:nvPr/>
        </p:nvSpPr>
        <p:spPr>
          <a:xfrm>
            <a:off x="1066680" y="609480"/>
            <a:ext cx="7391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овестка дн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219320" y="4437000"/>
            <a:ext cx="685800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73551"/>
                </a:solidFill>
                <a:latin typeface="Times New Roman"/>
              </a:rPr>
              <a:t>3.   Здоровье сберегающая деятельность в общеобразовательном учреждении.</a:t>
            </a:r>
            <a:r>
              <a:rPr b="1" i="1" lang="en-US" sz="2800" spc="-1" strike="noStrike">
                <a:solidFill>
                  <a:srgbClr val="b73551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b73551"/>
                </a:solidFill>
                <a:latin typeface="Times New Roman"/>
              </a:rPr>
              <a:t>докладчик: Руководитель методического объединения начальных классов Ковалева М.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219320" y="2133720"/>
            <a:ext cx="70866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учебном процессе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докладчик: учитель 3 «А» класса Владимирова Л.В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период адаптации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ервоклассников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. ( докладчик: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учитель1 «Б» класс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Нестерова Т.Ю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едставления о здоровой школе учеников средней школ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8000" y="2170080"/>
            <a:ext cx="70660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 здоровой школе не должно быть плохих слов, куре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се должны уважать друг друга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Там должны быть чистые туалеты, здоровая пища, физические упражнения, свежий возду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не должны кричать на учеников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Окружающая обстановка и атмосфера должны быть чистой и свежей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Не должно быть запугива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и дети должны иметь хорошие манеры и быть вежливыми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Школы России"/>
          <p:cNvPicPr/>
          <p:nvPr/>
        </p:nvPicPr>
        <p:blipFill>
          <a:blip r:embed="rId1"/>
          <a:stretch/>
        </p:blipFill>
        <p:spPr>
          <a:xfrm>
            <a:off x="6629400" y="404640"/>
            <a:ext cx="20574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429000" y="990720"/>
            <a:ext cx="23623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43680" y="981000"/>
            <a:ext cx="26431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95280" y="990720"/>
            <a:ext cx="21337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66680" y="2438280"/>
            <a:ext cx="2071800" cy="1656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05320" y="126828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600200" y="1197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867280" y="1197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актика нарком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066680" y="4114800"/>
            <a:ext cx="25909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143000" y="42926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124080" y="2438280"/>
            <a:ext cx="2567160" cy="165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914400" y="2438280"/>
            <a:ext cx="6905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990720" y="270828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50020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3429000" y="4076640"/>
            <a:ext cx="2057400" cy="158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429264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буч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5334120" y="4006800"/>
            <a:ext cx="2309760" cy="165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715000" y="2421000"/>
            <a:ext cx="2071800" cy="16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2708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е здоров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838080" y="4038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14368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357880" y="43657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ве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867280" y="278136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суальное обра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133720" y="449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ая шко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7" descr="C:\Documents and Settings\Марина Борисовна\Рабочий стол\картинки и анимашки\картинки Scholl\1_1_2.jpg"/>
          <p:cNvPicPr/>
          <p:nvPr/>
        </p:nvPicPr>
        <p:blipFill>
          <a:blip r:embed="rId1"/>
          <a:stretch/>
        </p:blipFill>
        <p:spPr>
          <a:xfrm>
            <a:off x="7010280" y="4191120"/>
            <a:ext cx="16462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507960"/>
            <a:ext cx="76201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143000" y="1143000"/>
          <a:ext cx="739152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391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219320" y="1371600"/>
          <a:ext cx="7315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315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248760"/>
            <a:ext cx="637236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21304"/>
                </a:solidFill>
                <a:uFillTx/>
                <a:latin typeface="Times New Roman"/>
              </a:rPr>
              <a:t>Подумай о следующих утверждениях …</a:t>
            </a:r>
            <a:r>
              <a:rPr b="0" lang="en-US" sz="3100" spc="-1" strike="noStrike" u="sng">
                <a:solidFill>
                  <a:srgbClr val="22130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5800" y="30960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1295280" y="914400"/>
          <a:ext cx="70106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70106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9"/>
          <p:cNvGraphicFramePr/>
          <p:nvPr/>
        </p:nvGraphicFramePr>
        <p:xfrm>
          <a:off x="1523880" y="2514600"/>
          <a:ext cx="63277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63277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0"/>
          <p:cNvSpPr/>
          <p:nvPr/>
        </p:nvSpPr>
        <p:spPr>
          <a:xfrm>
            <a:off x="1600200" y="76212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rial"/>
              </a:rPr>
              <a:t>В школе на переменах  и в свободное от уроков время чувствуешь ли ты себя 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3640" y="-2265480"/>
            <a:ext cx="54612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C:\Documents and Settings\Марина Борисовна\Рабочий стол\картинки и анимашки\картинки Scholl\baby18.gif"/>
          <p:cNvPicPr/>
          <p:nvPr/>
        </p:nvPicPr>
        <p:blipFill>
          <a:blip r:embed="rId3"/>
          <a:stretch/>
        </p:blipFill>
        <p:spPr>
          <a:xfrm>
            <a:off x="1295280" y="5181480"/>
            <a:ext cx="10670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19360" y="38052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Цели программы «Здоровье»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в школ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10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школьной среды, благоприятствующей безопасности, укреплению и развитию здоровья, превращение школы в место, где комфортно учиться, работать и развив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их технологий, направленных на развитие  здоровья всех участник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:\Documents and Settings\Марина Борисовна\Рабочий стол\картинки и анимашки\картинки Scholl\7.gif"/>
          <p:cNvPicPr/>
          <p:nvPr/>
        </p:nvPicPr>
        <p:blipFill>
          <a:blip r:embed="rId1"/>
          <a:stretch/>
        </p:blipFill>
        <p:spPr>
          <a:xfrm>
            <a:off x="914400" y="-15228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523880" y="1219320"/>
            <a:ext cx="6553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Задачи программ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"Здоровье"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C:\Documents and Settings\Марина Борисовна\Рабочий стол\картинки и анимашки\картинки Scholl\a2b65e76af0d72fc2dfd48baf7b3ac3d.gif"/>
          <p:cNvPicPr/>
          <p:nvPr/>
        </p:nvPicPr>
        <p:blipFill>
          <a:blip r:embed="rId1"/>
          <a:stretch/>
        </p:blipFill>
        <p:spPr>
          <a:xfrm>
            <a:off x="2286000" y="3429000"/>
            <a:ext cx="533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42640" y="5335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безопасной и здоровой среды обит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обязательного питания учащихся 1-4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системы укрепления и развития здоровья посредством физической 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сопровождения детей с ограничениями в состоянии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профилактических программ для педаг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Действие программы профилактики поведения (в том числе курения и наркозависим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Формирование через содержание учебных предметов престижа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Повышение компетентности педагогов в вопросах сохранения и развития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работы с родителями по вопросам здоровья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Марина Борисовна\Рабочий стол\фото\P9250001.JPG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337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371600" y="609480"/>
            <a:ext cx="5651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ма: "Здоровье сберегающа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ятельность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едагога  в общеобразовательном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чреждении "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28"/>
          <p:cNvSpPr txBox="1"/>
          <p:nvPr/>
        </p:nvSpPr>
        <p:spPr>
          <a:xfrm>
            <a:off x="1295280" y="2286000"/>
            <a:ext cx="723924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лагодарю за внимание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1029" descr="C:\Documents and Settings\Марина Борисовна\Рабочий стол\картинки и анимашки\картинки Scholl\22.gif"/>
          <p:cNvPicPr/>
          <p:nvPr/>
        </p:nvPicPr>
        <p:blipFill>
          <a:blip r:embed="rId1"/>
          <a:stretch/>
        </p:blipFill>
        <p:spPr>
          <a:xfrm>
            <a:off x="6553080" y="396252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0" descr="C:\Documents and Settings\Марина Борисовна\Рабочий стол\картинки и анимашки\картинки Scholl\2l.gif"/>
          <p:cNvPicPr/>
          <p:nvPr/>
        </p:nvPicPr>
        <p:blipFill>
          <a:blip r:embed="rId2"/>
          <a:stretch/>
        </p:blipFill>
        <p:spPr>
          <a:xfrm>
            <a:off x="1219320" y="4267080"/>
            <a:ext cx="1508040" cy="192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6" descr="C:\Documents and Settings\Марина Борисовна\Рабочий стол\картинки и анимашки\картинки Scholl\ratf4aae01e36e2c41275367025e2f40a9d.jpg"/>
          <p:cNvPicPr/>
          <p:nvPr/>
        </p:nvPicPr>
        <p:blipFill>
          <a:blip r:embed="rId3"/>
          <a:stretch/>
        </p:blipFill>
        <p:spPr>
          <a:xfrm>
            <a:off x="1143000" y="30492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66680" y="609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Цель  здоровье сберегающих образовательных технологий обучения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Обеспечить школьнику возможность сохранения здоровья: в период обучения в школе.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Сформировать у него необходимые знания, умения, навыки по здоровому образу жизни. 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Научить использовать полученные знания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3124080"/>
            <a:ext cx="754380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ополагающие приоритеты для педагогики оздоро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Здоровый ребенок – практически достижимая норма детского разви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Оздоровление – не совокупность лечебно – профилактиче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р, а форма развития психофизиологических возможностей детей.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Индивидуально–дифференцированный подход – основное средство оздоровительно-развивающей работы с учащими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533000" cy="6067440"/>
          </a:xfrm>
          <a:prstGeom prst="rect">
            <a:avLst/>
          </a:prstGeom>
          <a:solidFill>
            <a:srgbClr val="3694b6"/>
          </a:solidFill>
          <a:ln w="9360">
            <a:solidFill>
              <a:srgbClr val="660066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Здоровье </a:t>
            </a:r>
            <a:br>
              <a:rPr sz="6300"/>
            </a:b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как образовательный результат</a:t>
            </a:r>
            <a:br>
              <a:rPr sz="6300"/>
            </a:br>
            <a:br>
              <a:rPr sz="6300"/>
            </a:br>
            <a:r>
              <a:rPr b="0" lang="en-US" sz="63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63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76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76160" y="27432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плата за образова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бонус к образованию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Documents and Settings\Марина Борисовна\Рабочий стол\картинки и анимашки\картинки Scholl\head.jpg"/>
          <p:cNvPicPr/>
          <p:nvPr/>
        </p:nvPicPr>
        <p:blipFill>
          <a:blip r:embed="rId1"/>
          <a:stretch/>
        </p:blipFill>
        <p:spPr>
          <a:xfrm>
            <a:off x="1295280" y="533520"/>
            <a:ext cx="42674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585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Здоровье - это состояние полного физического, умственного, и социального благополучия, а не только отсутствие болезни или немощи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3" descr="C:\Documents and Settings\Марина Борисовна\Рабочий стол\картинки и анимашки\картинки Scholl\237.gif"/>
          <p:cNvPicPr/>
          <p:nvPr/>
        </p:nvPicPr>
        <p:blipFill>
          <a:blip r:embed="rId1"/>
          <a:stretch/>
        </p:blipFill>
        <p:spPr>
          <a:xfrm>
            <a:off x="6607080" y="0"/>
            <a:ext cx="25369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Марина Борисовна\Рабочий стол\картинки и анимашки\картинки Scholl\404.gif"/>
          <p:cNvPicPr/>
          <p:nvPr/>
        </p:nvPicPr>
        <p:blipFill>
          <a:blip r:embed="rId2"/>
          <a:stretch/>
        </p:blipFill>
        <p:spPr>
          <a:xfrm>
            <a:off x="2286000" y="434340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4"/>
          <p:cNvSpPr/>
          <p:nvPr/>
        </p:nvSpPr>
        <p:spPr>
          <a:xfrm>
            <a:off x="1143000" y="914400"/>
            <a:ext cx="731988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Педагоги, с которыми дети проводят большую часть времени,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не умеют развивать здоровь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школьников и не ставят такой задач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Н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 чет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разработ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систем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комплексной оценки детского здоровья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5" descr="C:\Documents and Settings\Марина Борисовна\Рабочий стол\картинки и анимашки\картинки Scholl\3l.gif"/>
          <p:cNvPicPr/>
          <p:nvPr/>
        </p:nvPicPr>
        <p:blipFill>
          <a:blip r:embed="rId1"/>
          <a:stretch/>
        </p:blipFill>
        <p:spPr>
          <a:xfrm>
            <a:off x="6553080" y="4114800"/>
            <a:ext cx="18892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3200" y="38052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Что такое здоровый челове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3048120" y="2666880"/>
            <a:ext cx="1706400" cy="170676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4495680" y="1371600"/>
            <a:ext cx="2737080" cy="187164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-то близ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3733920" y="3809880"/>
            <a:ext cx="2514600" cy="22860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1143000" y="914400"/>
            <a:ext cx="2808360" cy="26766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914400" y="3962520"/>
            <a:ext cx="2514600" cy="220968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8" descr="C:\Documents and Settings\Марина Борисовна\Рабочий стол\картинки и анимашки\картинки Scholl\futbol.gif"/>
          <p:cNvPicPr/>
          <p:nvPr/>
        </p:nvPicPr>
        <p:blipFill>
          <a:blip r:embed="rId1"/>
          <a:stretch/>
        </p:blipFill>
        <p:spPr>
          <a:xfrm>
            <a:off x="5791320" y="1676520"/>
            <a:ext cx="2971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4876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едставления малышей 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В здоровой шко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0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Добрые, улыбающиеся 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Красивые и чистые туа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Вкусная 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Можно радов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ебя никто не обз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ы можешь дружить со всеми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4:04:28Z</dcterms:created>
  <dc:creator>Федоренко Е. Ю.</dc:creator>
  <dc:description/>
  <dc:language>en-US</dc:language>
  <cp:lastModifiedBy>Малхасян Сергей</cp:lastModifiedBy>
  <dcterms:modified xsi:type="dcterms:W3CDTF">2011-12-04T10:16:04Z</dcterms:modified>
  <cp:revision>30</cp:revision>
  <dc:subject/>
  <dc:title>Слайд 1</dc:title>
</cp:coreProperties>
</file>