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wmf" ContentType="image/x-wmf"/>
  <Override PartName="/ppt/media/image5.png" ContentType="image/png"/>
  <Override PartName="/ppt/media/image16.gif" ContentType="image/gif"/>
  <Override PartName="/ppt/media/image15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0CB-B721-4D86-A031-D0A8EDCD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B4B-DDAF-466D-A3E7-74CB2D5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7C4-B34C-4D28-83CB-7EB6F82E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1C0-1E33-4EA7-A9B5-41C0C99A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F3C-4767-494D-9B1C-8A18878F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C8A-5783-4661-AE27-A8B432AC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395-ED94-4C6F-9BC7-76C45593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411-1047-406B-9C9F-68C0C9C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5AA-E122-4F70-B510-603ECC9F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95A-9399-4734-9FD5-58FD071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F43-3016-4831-B1A6-74296F4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76D-5072-46F4-B968-57472A9B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6C2-19C0-48B8-BC45-97C68A029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Tahoma"/>
                <a:ea typeface="Tahoma"/>
              </a:rPr>
              <a:t>Современные воспитательные технологии, используемые педагогами в практической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Выступление социального педагога Гимназии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Кидяевой Юлии Валерьевны на заседании городского методического объединения социальных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2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4e89"/>
                </a:solidFill>
                <a:uFillTx/>
                <a:latin typeface="Arial"/>
              </a:rPr>
              <a:t>Гуманно – личностная технология </a:t>
            </a:r>
            <a:br>
              <a:rPr sz="2400"/>
            </a:br>
            <a:r>
              <a:rPr b="1" lang="ru-RU" sz="2400" spc="-1" strike="noStrike" u="sng">
                <a:solidFill>
                  <a:srgbClr val="0d4e89"/>
                </a:solidFill>
                <a:uFillTx/>
                <a:latin typeface="Arial"/>
              </a:rPr>
              <a:t>Ш.А. Амонаш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Целевые 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пособствование становлению, развитию и воспитанию в ребенке благородного человека путем раскрытия его личностн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азвитие и становление познавательных сил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деал воспитания – само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педагогического общени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основанная на взаимодействии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1752120"/>
            <a:ext cx="8001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педагогического разрешения конфликта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конструктивного устранения противоречий в отношениях между су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предъявления педагогического требования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ведущим принципом которой является культуросообразность форм предъявления требования, защищающих ребенка от прямо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err_an4"/>
          <p:cNvPicPr/>
          <p:nvPr/>
        </p:nvPicPr>
        <p:blipFill>
          <a:blip r:embed="rId1"/>
          <a:stretch/>
        </p:blipFill>
        <p:spPr>
          <a:xfrm>
            <a:off x="7848720" y="2590920"/>
            <a:ext cx="1092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педагогической оценки поведения и поступков детей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технология воспитания, в основе которой оценка качества личности ребенка, ориентированная на нормы современ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440" y="236196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Информационно – коммуникационная технология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формирование умений работать с информацией, развитие коммуникативных способностей учащихся, формирование исследовательских ум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nalyze"/>
          <p:cNvPicPr/>
          <p:nvPr/>
        </p:nvPicPr>
        <p:blipFill>
          <a:blip r:embed="rId1"/>
          <a:stretch/>
        </p:blipFill>
        <p:spPr>
          <a:xfrm>
            <a:off x="6629400" y="4191120"/>
            <a:ext cx="210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воспитания на основе системного подх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ориентация на личность школьника, его интересы и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2361960"/>
            <a:ext cx="80010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самосовершенствования личности школьн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– основывается на широком использовании самоуправляющих механизмов развит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E00578_"/>
          <p:cNvPicPr/>
          <p:nvPr/>
        </p:nvPicPr>
        <p:blipFill>
          <a:blip r:embed="rId1"/>
          <a:stretch/>
        </p:blipFill>
        <p:spPr>
          <a:xfrm>
            <a:off x="6248520" y="4038480"/>
            <a:ext cx="2073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коллективного творческого воспитания И.П. Ива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371240"/>
            <a:ext cx="8077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рганизация определенного образа жизнедеятельности коллектива, охватывающая все практические дела,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я гуманного коллективного воспитания В.А. Сухомли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нравственно – воспитанный мыслитель, любящий Родину и своб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j0292112"/>
          <p:cNvPicPr/>
          <p:nvPr/>
        </p:nvPicPr>
        <p:blipFill>
          <a:blip r:embed="rId1"/>
          <a:stretch/>
        </p:blipFill>
        <p:spPr>
          <a:xfrm>
            <a:off x="6553080" y="4648320"/>
            <a:ext cx="1817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Педагогические технологии </a:t>
            </a:r>
            <a:br>
              <a:rPr sz="2800"/>
            </a:b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авторск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040" y="1515960"/>
            <a:ext cx="79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хнология «Экология и диалектика» Л.В. Тарас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модель трудового воспитания А.А. Католик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рская модель «Русская школа» И.Ф. Гончаров, Л.Н. По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012680" y="1295280"/>
            <a:ext cx="762120" cy="665280"/>
            <a:chOff x="1012680" y="1295280"/>
            <a:chExt cx="762120" cy="665280"/>
          </a:xfrm>
        </p:grpSpPr>
        <p:sp>
          <p:nvSpPr>
            <p:cNvPr id="234" name="AutoShape 4"/>
            <p:cNvSpPr/>
            <p:nvPr/>
          </p:nvSpPr>
          <p:spPr>
            <a:xfrm>
              <a:off x="1018800" y="1306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1012680" y="1295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1056960" y="13345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"/>
          <p:cNvGrpSpPr/>
          <p:nvPr/>
        </p:nvGrpSpPr>
        <p:grpSpPr>
          <a:xfrm>
            <a:off x="1069920" y="2798640"/>
            <a:ext cx="762120" cy="665280"/>
            <a:chOff x="1069920" y="2798640"/>
            <a:chExt cx="762120" cy="665280"/>
          </a:xfrm>
        </p:grpSpPr>
        <p:sp>
          <p:nvSpPr>
            <p:cNvPr id="238" name="AutoShape 4"/>
            <p:cNvSpPr/>
            <p:nvPr/>
          </p:nvSpPr>
          <p:spPr>
            <a:xfrm>
              <a:off x="1076040" y="2809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1069920" y="2798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1114200" y="28378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1085760" y="4191120"/>
            <a:ext cx="761760" cy="664920"/>
            <a:chOff x="1085760" y="4191120"/>
            <a:chExt cx="761760" cy="664920"/>
          </a:xfrm>
        </p:grpSpPr>
        <p:sp>
          <p:nvSpPr>
            <p:cNvPr id="242" name="AutoShape 8"/>
            <p:cNvSpPr/>
            <p:nvPr/>
          </p:nvSpPr>
          <p:spPr>
            <a:xfrm>
              <a:off x="1091880" y="42022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9"/>
            <p:cNvSpPr/>
            <p:nvPr/>
          </p:nvSpPr>
          <p:spPr>
            <a:xfrm>
              <a:off x="1085760" y="4191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0"/>
            <p:cNvSpPr/>
            <p:nvPr/>
          </p:nvSpPr>
          <p:spPr>
            <a:xfrm>
              <a:off x="1130040" y="4230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b3e5e"/>
                </a:gs>
                <a:gs pos="100000">
                  <a:srgbClr val="3b86cb"/>
                </a:gs>
              </a:gsLst>
              <a:lin ang="27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8" descr="HH00546_"/>
          <p:cNvPicPr/>
          <p:nvPr/>
        </p:nvPicPr>
        <p:blipFill>
          <a:blip r:embed="rId1"/>
          <a:stretch/>
        </p:blipFill>
        <p:spPr>
          <a:xfrm>
            <a:off x="7010280" y="5162400"/>
            <a:ext cx="13255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1760" y="685800"/>
            <a:ext cx="78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d4e89"/>
                </a:solidFill>
                <a:latin typeface="Arial"/>
              </a:rPr>
              <a:t>Владение педагогическими технологиями обеспечивает педагогу возможность организации педагогического воздействия в соответствии с его основным назначением – переводом ребенка в позицию су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Documents and Settings\Teach\Рабочий стол\для презентаций\картинки на школьныю тему\Рисунок16.png"/>
          <p:cNvPicPr/>
          <p:nvPr/>
        </p:nvPicPr>
        <p:blipFill>
          <a:blip r:embed="rId1"/>
          <a:stretch/>
        </p:blipFill>
        <p:spPr>
          <a:xfrm>
            <a:off x="6469200" y="3533760"/>
            <a:ext cx="2660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20295000">
            <a:off x="1318680" y="1510920"/>
            <a:ext cx="733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omic Sans MS"/>
              </a:rPr>
              <a:t>Успешного взаимодействи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AN141"/>
          <p:cNvPicPr/>
          <p:nvPr/>
        </p:nvPicPr>
        <p:blipFill>
          <a:blip r:embed="rId1"/>
          <a:stretch/>
        </p:blipFill>
        <p:spPr>
          <a:xfrm>
            <a:off x="6262560" y="2819520"/>
            <a:ext cx="1619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  <a:ea typeface="Tahoma"/>
              </a:rPr>
              <a:t>«Технология»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от греческог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ch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искусство, мастерство, ум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логия»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– на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я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– это совокупность приемов, применяемых в каком – либо деле, мастерстве, искус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4b50"/>
                </a:solidFill>
                <a:latin typeface="Arial"/>
              </a:rPr>
              <a:t>– это одновременно система совокупности знаний, умений, навыков, методов, способов деятельности и алгоритм, научная разработка решения каких-либо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BS01638_"/>
          <p:cNvPicPr/>
          <p:nvPr/>
        </p:nvPicPr>
        <p:blipFill>
          <a:blip r:embed="rId1"/>
          <a:stretch/>
        </p:blipFill>
        <p:spPr>
          <a:xfrm>
            <a:off x="7696080" y="5257800"/>
            <a:ext cx="944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Педагогические технологии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3"/>
                </a:solidFill>
                <a:latin typeface="Arial"/>
              </a:rPr>
              <a:t>это сложные системы приёмов и методик, объединенных приоритетными общеобразовательными целями и содержанием, формами и методами организации учебно – воспитательного процесса, где каждая позиция накладывает отпечаток на все другие, что и создает в итоге определенную совокупность условий для развит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Teach\Рабочий стол\для презентаций\картинки на школьныю тему\Рисунок13.png"/>
          <p:cNvPicPr/>
          <p:nvPr/>
        </p:nvPicPr>
        <p:blipFill>
          <a:blip r:embed="rId1"/>
          <a:stretch/>
        </p:blipFill>
        <p:spPr>
          <a:xfrm>
            <a:off x="5638680" y="4033800"/>
            <a:ext cx="3122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Arial"/>
                <a:ea typeface="Tahoma"/>
              </a:rPr>
              <a:t>Воспитательные технологи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это одно из средств воспитания, система научно обоснованных приемов и методик, способствующих установлению таких отношений между субъектами процесса, при которых в непосредственном контакте достигается поставленная цель – приобщение воспитуемых к общечеловеческим культурным ц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Teach\Рабочий стол\для презентаций\картинки на школьныю тему\Рисунок18.png"/>
          <p:cNvPicPr/>
          <p:nvPr/>
        </p:nvPicPr>
        <p:blipFill>
          <a:blip r:embed="rId1"/>
          <a:stretch/>
        </p:blipFill>
        <p:spPr>
          <a:xfrm>
            <a:off x="4267080" y="3664080"/>
            <a:ext cx="252252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0720" y="457200"/>
            <a:ext cx="4321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спит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 rot="17973000">
            <a:off x="4985640" y="21308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3465600">
            <a:off x="5045400" y="47919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 rot="14368800">
            <a:off x="3250080" y="20815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 rot="7534800">
            <a:off x="3000960" y="4722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721480" y="3527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 rot="10800000">
            <a:off x="2418840" y="341640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2057400" y="1371600"/>
            <a:ext cx="4800600" cy="457200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3139920" y="1541520"/>
            <a:ext cx="360360" cy="360360"/>
            <a:chOff x="3139920" y="1541520"/>
            <a:chExt cx="360360" cy="360360"/>
          </a:xfrm>
        </p:grpSpPr>
        <p:sp>
          <p:nvSpPr>
            <p:cNvPr id="61" name="Oval 11"/>
            <p:cNvSpPr/>
            <p:nvPr/>
          </p:nvSpPr>
          <p:spPr>
            <a:xfrm>
              <a:off x="313992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2"/>
            <p:cNvSpPr/>
            <p:nvPr/>
          </p:nvSpPr>
          <p:spPr>
            <a:xfrm>
              <a:off x="315576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1901880" y="3419640"/>
            <a:ext cx="360360" cy="360360"/>
            <a:chOff x="1901880" y="3419640"/>
            <a:chExt cx="360360" cy="360360"/>
          </a:xfrm>
        </p:grpSpPr>
        <p:sp>
          <p:nvSpPr>
            <p:cNvPr id="64" name="Oval 14"/>
            <p:cNvSpPr/>
            <p:nvPr/>
          </p:nvSpPr>
          <p:spPr>
            <a:xfrm>
              <a:off x="1901880" y="341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5"/>
            <p:cNvSpPr/>
            <p:nvPr/>
          </p:nvSpPr>
          <p:spPr>
            <a:xfrm>
              <a:off x="1917720" y="344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2724120" y="5203800"/>
            <a:ext cx="360360" cy="360360"/>
            <a:chOff x="2724120" y="5203800"/>
            <a:chExt cx="360360" cy="360360"/>
          </a:xfrm>
        </p:grpSpPr>
        <p:sp>
          <p:nvSpPr>
            <p:cNvPr id="67" name="Oval 17"/>
            <p:cNvSpPr/>
            <p:nvPr/>
          </p:nvSpPr>
          <p:spPr>
            <a:xfrm>
              <a:off x="2724120" y="5203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2739960" y="5234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5565600" y="1541520"/>
            <a:ext cx="360360" cy="360360"/>
            <a:chOff x="5565600" y="1541520"/>
            <a:chExt cx="360360" cy="360360"/>
          </a:xfrm>
        </p:grpSpPr>
        <p:sp>
          <p:nvSpPr>
            <p:cNvPr id="70" name="Oval 20"/>
            <p:cNvSpPr/>
            <p:nvPr/>
          </p:nvSpPr>
          <p:spPr>
            <a:xfrm>
              <a:off x="556560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1"/>
            <p:cNvSpPr/>
            <p:nvPr/>
          </p:nvSpPr>
          <p:spPr>
            <a:xfrm>
              <a:off x="558144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6243480" y="3417840"/>
            <a:ext cx="744840" cy="360360"/>
            <a:chOff x="6243480" y="3417840"/>
            <a:chExt cx="744840" cy="360360"/>
          </a:xfrm>
        </p:grpSpPr>
        <p:sp>
          <p:nvSpPr>
            <p:cNvPr id="73" name="Oval 23"/>
            <p:cNvSpPr/>
            <p:nvPr/>
          </p:nvSpPr>
          <p:spPr>
            <a:xfrm>
              <a:off x="6627960" y="3417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4"/>
            <p:cNvSpPr/>
            <p:nvPr/>
          </p:nvSpPr>
          <p:spPr>
            <a:xfrm>
              <a:off x="6243480" y="3435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5694480" y="5383080"/>
            <a:ext cx="360360" cy="360360"/>
            <a:chOff x="5694480" y="5383080"/>
            <a:chExt cx="360360" cy="360360"/>
          </a:xfrm>
        </p:grpSpPr>
        <p:sp>
          <p:nvSpPr>
            <p:cNvPr id="76" name="Oval 26"/>
            <p:cNvSpPr/>
            <p:nvPr/>
          </p:nvSpPr>
          <p:spPr>
            <a:xfrm>
              <a:off x="5694480" y="5383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7"/>
            <p:cNvSpPr/>
            <p:nvPr/>
          </p:nvSpPr>
          <p:spPr>
            <a:xfrm>
              <a:off x="5710320" y="54129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3381480" y="2438280"/>
            <a:ext cx="2228760" cy="221292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4"/>
          <p:cNvGrpSpPr/>
          <p:nvPr/>
        </p:nvGrpSpPr>
        <p:grpSpPr>
          <a:xfrm>
            <a:off x="3502080" y="2438280"/>
            <a:ext cx="1960200" cy="2080800"/>
            <a:chOff x="3502080" y="2438280"/>
            <a:chExt cx="1960200" cy="2080800"/>
          </a:xfrm>
        </p:grpSpPr>
        <p:sp>
          <p:nvSpPr>
            <p:cNvPr id="83" name="Oval 32"/>
            <p:cNvSpPr/>
            <p:nvPr/>
          </p:nvSpPr>
          <p:spPr>
            <a:xfrm>
              <a:off x="3520440" y="2770200"/>
              <a:ext cx="1941840" cy="174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3"/>
            <p:cNvSpPr/>
            <p:nvPr/>
          </p:nvSpPr>
          <p:spPr>
            <a:xfrm>
              <a:off x="3548880" y="2792160"/>
              <a:ext cx="1876680" cy="1692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4"/>
            <p:cNvSpPr/>
            <p:nvPr/>
          </p:nvSpPr>
          <p:spPr>
            <a:xfrm>
              <a:off x="3502080" y="2438280"/>
              <a:ext cx="1903320" cy="2013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5"/>
            <p:cNvSpPr/>
            <p:nvPr/>
          </p:nvSpPr>
          <p:spPr>
            <a:xfrm>
              <a:off x="3591000" y="2819520"/>
              <a:ext cx="1743480" cy="1540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6"/>
            <p:cNvSpPr/>
            <p:nvPr/>
          </p:nvSpPr>
          <p:spPr>
            <a:xfrm>
              <a:off x="3694320" y="2861280"/>
              <a:ext cx="1549440" cy="125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37"/>
          <p:cNvSpPr/>
          <p:nvPr/>
        </p:nvSpPr>
        <p:spPr>
          <a:xfrm>
            <a:off x="3425760" y="2989440"/>
            <a:ext cx="21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6113520" y="128268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2.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55680" y="1203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1. 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926400" y="34290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3. 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113520" y="55753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4. 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355680" y="5518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5. Организационно - 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995400" y="457200"/>
            <a:ext cx="4321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спитатель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 rot="17973000">
            <a:off x="4991760" y="21308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 rot="3465600">
            <a:off x="5050080" y="47919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4368800">
            <a:off x="3256200" y="20811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7534800">
            <a:off x="3005640" y="4722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727600" y="3527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 rot="10800000">
            <a:off x="2425320" y="341640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5b88">
                  <a:alpha val="0"/>
                </a:srgbClr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2062080" y="1371600"/>
            <a:ext cx="4800600" cy="457200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3146400" y="1541520"/>
            <a:ext cx="360360" cy="360360"/>
            <a:chOff x="3146400" y="1541520"/>
            <a:chExt cx="360360" cy="360360"/>
          </a:xfrm>
        </p:grpSpPr>
        <p:sp>
          <p:nvSpPr>
            <p:cNvPr id="103" name="Oval 11"/>
            <p:cNvSpPr/>
            <p:nvPr/>
          </p:nvSpPr>
          <p:spPr>
            <a:xfrm>
              <a:off x="314640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16224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"/>
          <p:cNvGrpSpPr/>
          <p:nvPr/>
        </p:nvGrpSpPr>
        <p:grpSpPr>
          <a:xfrm>
            <a:off x="1906560" y="3419640"/>
            <a:ext cx="360360" cy="360360"/>
            <a:chOff x="1906560" y="3419640"/>
            <a:chExt cx="360360" cy="360360"/>
          </a:xfrm>
        </p:grpSpPr>
        <p:sp>
          <p:nvSpPr>
            <p:cNvPr id="106" name="Oval 14"/>
            <p:cNvSpPr/>
            <p:nvPr/>
          </p:nvSpPr>
          <p:spPr>
            <a:xfrm>
              <a:off x="1906560" y="3419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1922400" y="3449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6"/>
          <p:cNvGrpSpPr/>
          <p:nvPr/>
        </p:nvGrpSpPr>
        <p:grpSpPr>
          <a:xfrm>
            <a:off x="2728800" y="5203800"/>
            <a:ext cx="360360" cy="360360"/>
            <a:chOff x="2728800" y="5203800"/>
            <a:chExt cx="360360" cy="360360"/>
          </a:xfrm>
        </p:grpSpPr>
        <p:sp>
          <p:nvSpPr>
            <p:cNvPr id="109" name="Oval 17"/>
            <p:cNvSpPr/>
            <p:nvPr/>
          </p:nvSpPr>
          <p:spPr>
            <a:xfrm>
              <a:off x="2728800" y="5203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2744640" y="5234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9"/>
          <p:cNvGrpSpPr/>
          <p:nvPr/>
        </p:nvGrpSpPr>
        <p:grpSpPr>
          <a:xfrm>
            <a:off x="5572080" y="1541520"/>
            <a:ext cx="360360" cy="360360"/>
            <a:chOff x="5572080" y="1541520"/>
            <a:chExt cx="360360" cy="360360"/>
          </a:xfrm>
        </p:grpSpPr>
        <p:sp>
          <p:nvSpPr>
            <p:cNvPr id="112" name="Oval 20"/>
            <p:cNvSpPr/>
            <p:nvPr/>
          </p:nvSpPr>
          <p:spPr>
            <a:xfrm>
              <a:off x="5572080" y="1541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"/>
            <p:cNvSpPr/>
            <p:nvPr/>
          </p:nvSpPr>
          <p:spPr>
            <a:xfrm>
              <a:off x="5587920" y="1571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6248520" y="3417840"/>
            <a:ext cx="744120" cy="360360"/>
            <a:chOff x="6248520" y="3417840"/>
            <a:chExt cx="744120" cy="360360"/>
          </a:xfrm>
        </p:grpSpPr>
        <p:sp>
          <p:nvSpPr>
            <p:cNvPr id="115" name="Oval 23"/>
            <p:cNvSpPr/>
            <p:nvPr/>
          </p:nvSpPr>
          <p:spPr>
            <a:xfrm>
              <a:off x="6632640" y="341784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6248520" y="3435120"/>
              <a:ext cx="223560" cy="225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5"/>
          <p:cNvGrpSpPr/>
          <p:nvPr/>
        </p:nvGrpSpPr>
        <p:grpSpPr>
          <a:xfrm>
            <a:off x="5699160" y="5383080"/>
            <a:ext cx="360360" cy="360360"/>
            <a:chOff x="5699160" y="5383080"/>
            <a:chExt cx="360360" cy="360360"/>
          </a:xfrm>
        </p:grpSpPr>
        <p:sp>
          <p:nvSpPr>
            <p:cNvPr id="118" name="Oval 26"/>
            <p:cNvSpPr/>
            <p:nvPr/>
          </p:nvSpPr>
          <p:spPr>
            <a:xfrm>
              <a:off x="5699160" y="5383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715000" y="54129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eebaa9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Oval 28"/>
          <p:cNvSpPr/>
          <p:nvPr/>
        </p:nvSpPr>
        <p:spPr>
          <a:xfrm>
            <a:off x="362916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9"/>
          <p:cNvSpPr/>
          <p:nvPr/>
        </p:nvSpPr>
        <p:spPr>
          <a:xfrm>
            <a:off x="362268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375588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3386160" y="2438280"/>
            <a:ext cx="2228760" cy="221292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4"/>
          <p:cNvGrpSpPr/>
          <p:nvPr/>
        </p:nvGrpSpPr>
        <p:grpSpPr>
          <a:xfrm>
            <a:off x="3508200" y="2438280"/>
            <a:ext cx="1958400" cy="2080800"/>
            <a:chOff x="3508200" y="2438280"/>
            <a:chExt cx="1958400" cy="2080800"/>
          </a:xfrm>
        </p:grpSpPr>
        <p:sp>
          <p:nvSpPr>
            <p:cNvPr id="125" name="Oval 32"/>
            <p:cNvSpPr/>
            <p:nvPr/>
          </p:nvSpPr>
          <p:spPr>
            <a:xfrm>
              <a:off x="3526200" y="2770200"/>
              <a:ext cx="1940400" cy="1748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3"/>
            <p:cNvSpPr/>
            <p:nvPr/>
          </p:nvSpPr>
          <p:spPr>
            <a:xfrm>
              <a:off x="3555000" y="2792160"/>
              <a:ext cx="1875240" cy="1692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4"/>
            <p:cNvSpPr/>
            <p:nvPr/>
          </p:nvSpPr>
          <p:spPr>
            <a:xfrm>
              <a:off x="3508200" y="2438280"/>
              <a:ext cx="1901880" cy="2013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5"/>
            <p:cNvSpPr/>
            <p:nvPr/>
          </p:nvSpPr>
          <p:spPr>
            <a:xfrm>
              <a:off x="3597120" y="2819520"/>
              <a:ext cx="1742400" cy="1540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6"/>
            <p:cNvSpPr/>
            <p:nvPr/>
          </p:nvSpPr>
          <p:spPr>
            <a:xfrm>
              <a:off x="3700440" y="2861280"/>
              <a:ext cx="1548000" cy="125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37"/>
          <p:cNvSpPr/>
          <p:nvPr/>
        </p:nvSpPr>
        <p:spPr>
          <a:xfrm>
            <a:off x="3432240" y="2989440"/>
            <a:ext cx="21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исте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6118200" y="12826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2.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60360" y="1203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6118200" y="55753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4. 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360360" y="5518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3558"/>
                </a:solidFill>
                <a:latin typeface="Arial"/>
              </a:rPr>
              <a:t>5. Организационно - 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52280" y="3416400"/>
            <a:ext cx="19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. Контрольно - управлен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0000" y="1599840"/>
            <a:ext cx="832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Технологии воспитания классифициру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6148440" y="3891600"/>
            <a:ext cx="2819520" cy="1586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81" y="0"/>
                </a:lnTo>
                <a:lnTo>
                  <a:pt x="21600" y="10800"/>
                </a:lnTo>
                <a:lnTo>
                  <a:pt x="19581" y="21600"/>
                </a:lnTo>
                <a:lnTo>
                  <a:pt x="0" y="21600"/>
                </a:lnTo>
                <a:lnTo>
                  <a:pt x="2019" y="10800"/>
                </a:lnTo>
                <a:close/>
              </a:path>
            </a:pathLst>
          </a:custGeom>
          <a:gradFill rotWithShape="0">
            <a:gsLst>
              <a:gs pos="0">
                <a:srgbClr val="5cb68d"/>
              </a:gs>
              <a:gs pos="100000">
                <a:srgbClr val="2b5441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222720" y="3891600"/>
            <a:ext cx="3124080" cy="15861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6" y="0"/>
                </a:lnTo>
                <a:lnTo>
                  <a:pt x="21600" y="10800"/>
                </a:lnTo>
                <a:lnTo>
                  <a:pt x="19626" y="21600"/>
                </a:lnTo>
                <a:lnTo>
                  <a:pt x="0" y="21600"/>
                </a:lnTo>
                <a:lnTo>
                  <a:pt x="1974" y="108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иоризатор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йролингвистическ. програм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8200" y="3890520"/>
            <a:ext cx="2971800" cy="15861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5" y="0"/>
                </a:lnTo>
                <a:lnTo>
                  <a:pt x="21600" y="10800"/>
                </a:lnTo>
                <a:lnTo>
                  <a:pt x="19445" y="21600"/>
                </a:lnTo>
                <a:lnTo>
                  <a:pt x="0" y="21600"/>
                </a:lnTo>
                <a:lnTo>
                  <a:pt x="2155" y="10800"/>
                </a:lnTo>
                <a:close/>
              </a:path>
            </a:pathLst>
          </a:custGeom>
          <a:gradFill rotWithShape="0">
            <a:gsLst>
              <a:gs pos="0">
                <a:srgbClr val="3b86cb"/>
              </a:gs>
              <a:gs pos="100000">
                <a:srgbClr val="1b3e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и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г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ропософ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92200" y="2019240"/>
            <a:ext cx="243828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86cb"/>
              </a:gs>
              <a:gs pos="100000">
                <a:srgbClr val="1b3e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философ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244680" y="2019240"/>
            <a:ext cx="251460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нау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6248520" y="2055960"/>
            <a:ext cx="228600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b68d"/>
              </a:gs>
              <a:gs pos="100000">
                <a:srgbClr val="2b544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организации и проведения группового воспитательного дела </a:t>
            </a:r>
            <a:br>
              <a:rPr sz="28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по Н.Е. Щурк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1760" y="1676520"/>
            <a:ext cx="7924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формирование относительно устойчивых отношений человека к себе, окружающим, природе,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</a:rPr>
              <a:t>Технологическая цепочка воспитательного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одготовительный эта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сихологический наст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содержательная дея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заверш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роекция на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Технология здоровьесберега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8240" y="1123920"/>
            <a:ext cx="79250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хранение физического и психического здоровья ребенка и обучение навыкам сохранени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лассификация, предложенная Н.К. Смирновы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957240" y="2660760"/>
            <a:ext cx="2170080" cy="4034880"/>
            <a:chOff x="957240" y="2660760"/>
            <a:chExt cx="2170080" cy="4034880"/>
          </a:xfrm>
        </p:grpSpPr>
        <p:sp>
          <p:nvSpPr>
            <p:cNvPr id="150" name="AutoShape 4"/>
            <p:cNvSpPr/>
            <p:nvPr/>
          </p:nvSpPr>
          <p:spPr>
            <a:xfrm>
              <a:off x="957240" y="29682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5"/>
            <p:cNvSpPr/>
            <p:nvPr/>
          </p:nvSpPr>
          <p:spPr>
            <a:xfrm>
              <a:off x="990720" y="29764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1008000" y="50400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1008000" y="29984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"/>
            <p:cNvSpPr/>
            <p:nvPr/>
          </p:nvSpPr>
          <p:spPr>
            <a:xfrm>
              <a:off x="963720" y="58258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1008000" y="58496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10"/>
            <p:cNvGrpSpPr/>
            <p:nvPr/>
          </p:nvGrpSpPr>
          <p:grpSpPr>
            <a:xfrm>
              <a:off x="1701720" y="2660760"/>
              <a:ext cx="642960" cy="642600"/>
              <a:chOff x="1701720" y="2660760"/>
              <a:chExt cx="642960" cy="642600"/>
            </a:xfrm>
          </p:grpSpPr>
          <p:sp>
            <p:nvSpPr>
              <p:cNvPr id="157" name="Oval 11"/>
              <p:cNvSpPr/>
              <p:nvPr/>
            </p:nvSpPr>
            <p:spPr>
              <a:xfrm>
                <a:off x="1701720" y="2660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2"/>
              <p:cNvSpPr/>
              <p:nvPr/>
            </p:nvSpPr>
            <p:spPr>
              <a:xfrm>
                <a:off x="1708200" y="2665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3"/>
              <p:cNvSpPr/>
              <p:nvPr/>
            </p:nvSpPr>
            <p:spPr>
              <a:xfrm>
                <a:off x="1716120" y="2669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4"/>
              <p:cNvSpPr/>
              <p:nvPr/>
            </p:nvSpPr>
            <p:spPr>
              <a:xfrm>
                <a:off x="1722600" y="26751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5"/>
              <p:cNvSpPr/>
              <p:nvPr/>
            </p:nvSpPr>
            <p:spPr>
              <a:xfrm>
                <a:off x="1756440" y="2690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6"/>
            <p:cNvSpPr/>
            <p:nvPr/>
          </p:nvSpPr>
          <p:spPr>
            <a:xfrm>
              <a:off x="1841760" y="275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1033560" y="3422520"/>
              <a:ext cx="2057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Медико – гигиенические технологии (МГ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8"/>
          <p:cNvGrpSpPr/>
          <p:nvPr/>
        </p:nvGrpSpPr>
        <p:grpSpPr>
          <a:xfrm>
            <a:off x="3544920" y="2668680"/>
            <a:ext cx="2166840" cy="4034880"/>
            <a:chOff x="3544920" y="2668680"/>
            <a:chExt cx="2166840" cy="4034880"/>
          </a:xfrm>
        </p:grpSpPr>
        <p:sp>
          <p:nvSpPr>
            <p:cNvPr id="165" name="AutoShape 19"/>
            <p:cNvSpPr/>
            <p:nvPr/>
          </p:nvSpPr>
          <p:spPr>
            <a:xfrm>
              <a:off x="3544920" y="29761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0"/>
            <p:cNvSpPr/>
            <p:nvPr/>
          </p:nvSpPr>
          <p:spPr>
            <a:xfrm>
              <a:off x="3578040" y="29844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1"/>
            <p:cNvSpPr/>
            <p:nvPr/>
          </p:nvSpPr>
          <p:spPr>
            <a:xfrm>
              <a:off x="3595680" y="50479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2"/>
            <p:cNvSpPr/>
            <p:nvPr/>
          </p:nvSpPr>
          <p:spPr>
            <a:xfrm>
              <a:off x="3595680" y="30063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4289400" y="26686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4295520" y="26730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4303800" y="26762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6"/>
            <p:cNvSpPr/>
            <p:nvPr/>
          </p:nvSpPr>
          <p:spPr>
            <a:xfrm>
              <a:off x="4309920" y="26827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7"/>
            <p:cNvSpPr/>
            <p:nvPr/>
          </p:nvSpPr>
          <p:spPr>
            <a:xfrm>
              <a:off x="4344840" y="26985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429440" y="2760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9"/>
            <p:cNvSpPr/>
            <p:nvPr/>
          </p:nvSpPr>
          <p:spPr>
            <a:xfrm>
              <a:off x="3620880" y="343044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Физкультурно – оздоровитель-ные технологии (ФО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0"/>
            <p:cNvSpPr/>
            <p:nvPr/>
          </p:nvSpPr>
          <p:spPr>
            <a:xfrm>
              <a:off x="3547800" y="58338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1"/>
            <p:cNvSpPr/>
            <p:nvPr/>
          </p:nvSpPr>
          <p:spPr>
            <a:xfrm>
              <a:off x="3592440" y="585756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135840" y="2660760"/>
            <a:ext cx="2170080" cy="4034880"/>
            <a:chOff x="6135840" y="2660760"/>
            <a:chExt cx="2170080" cy="4034880"/>
          </a:xfrm>
        </p:grpSpPr>
        <p:sp>
          <p:nvSpPr>
            <p:cNvPr id="179" name="AutoShape 33"/>
            <p:cNvSpPr/>
            <p:nvPr/>
          </p:nvSpPr>
          <p:spPr>
            <a:xfrm>
              <a:off x="6141960" y="296820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4"/>
            <p:cNvSpPr/>
            <p:nvPr/>
          </p:nvSpPr>
          <p:spPr>
            <a:xfrm>
              <a:off x="6175440" y="297648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5"/>
            <p:cNvSpPr/>
            <p:nvPr/>
          </p:nvSpPr>
          <p:spPr>
            <a:xfrm>
              <a:off x="6192720" y="504000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6"/>
            <p:cNvSpPr/>
            <p:nvPr/>
          </p:nvSpPr>
          <p:spPr>
            <a:xfrm>
              <a:off x="6192720" y="299844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37"/>
            <p:cNvGrpSpPr/>
            <p:nvPr/>
          </p:nvGrpSpPr>
          <p:grpSpPr>
            <a:xfrm>
              <a:off x="6886440" y="2660760"/>
              <a:ext cx="642960" cy="642600"/>
              <a:chOff x="6886440" y="2660760"/>
              <a:chExt cx="642960" cy="642600"/>
            </a:xfrm>
          </p:grpSpPr>
          <p:sp>
            <p:nvSpPr>
              <p:cNvPr id="184" name="Oval 38"/>
              <p:cNvSpPr/>
              <p:nvPr/>
            </p:nvSpPr>
            <p:spPr>
              <a:xfrm>
                <a:off x="6886440" y="26607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9"/>
              <p:cNvSpPr/>
              <p:nvPr/>
            </p:nvSpPr>
            <p:spPr>
              <a:xfrm>
                <a:off x="6892920" y="2665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0"/>
              <p:cNvSpPr/>
              <p:nvPr/>
            </p:nvSpPr>
            <p:spPr>
              <a:xfrm>
                <a:off x="6900840" y="2669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1"/>
              <p:cNvSpPr/>
              <p:nvPr/>
            </p:nvSpPr>
            <p:spPr>
              <a:xfrm>
                <a:off x="6907320" y="26751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42"/>
              <p:cNvSpPr/>
              <p:nvPr/>
            </p:nvSpPr>
            <p:spPr>
              <a:xfrm>
                <a:off x="6941160" y="26906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43"/>
            <p:cNvSpPr/>
            <p:nvPr/>
          </p:nvSpPr>
          <p:spPr>
            <a:xfrm>
              <a:off x="7026840" y="275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6218280" y="3422520"/>
              <a:ext cx="2057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Экологические здоровьесбере-гающие технологии (ЭЗ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5"/>
            <p:cNvSpPr/>
            <p:nvPr/>
          </p:nvSpPr>
          <p:spPr>
            <a:xfrm>
              <a:off x="6135840" y="58258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6"/>
            <p:cNvSpPr/>
            <p:nvPr/>
          </p:nvSpPr>
          <p:spPr>
            <a:xfrm>
              <a:off x="6180120" y="58496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00"/>
                </a:solidFill>
                <a:uFillTx/>
                <a:latin typeface="Arial"/>
              </a:rPr>
              <a:t>Технологии личностно-ориентирова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544760"/>
            <a:ext cx="78393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здание наиболее благоприятных условий для развития личности ученика как индивиду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7"/>
          <p:cNvGrpSpPr/>
          <p:nvPr/>
        </p:nvGrpSpPr>
        <p:grpSpPr>
          <a:xfrm>
            <a:off x="1079640" y="4008600"/>
            <a:ext cx="2272680" cy="2366280"/>
            <a:chOff x="1079640" y="4008600"/>
            <a:chExt cx="2272680" cy="2366280"/>
          </a:xfrm>
        </p:grpSpPr>
        <p:sp>
          <p:nvSpPr>
            <p:cNvPr id="196" name="Oval 28"/>
            <p:cNvSpPr/>
            <p:nvPr/>
          </p:nvSpPr>
          <p:spPr>
            <a:xfrm>
              <a:off x="1240920" y="5966640"/>
              <a:ext cx="1905480" cy="40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9"/>
            <p:cNvSpPr/>
            <p:nvPr/>
          </p:nvSpPr>
          <p:spPr>
            <a:xfrm>
              <a:off x="1079640" y="4008600"/>
              <a:ext cx="2272680" cy="2068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30"/>
            <p:cNvSpPr/>
            <p:nvPr/>
          </p:nvSpPr>
          <p:spPr>
            <a:xfrm>
              <a:off x="1128600" y="4057200"/>
              <a:ext cx="2167200" cy="1975320"/>
            </a:xfrm>
            <a:prstGeom prst="ellipse">
              <a:avLst/>
            </a:prstGeom>
            <a:gradFill rotWithShape="0">
              <a:gsLst>
                <a:gs pos="0">
                  <a:srgbClr val="5cb68d">
                    <a:alpha val="85098"/>
                  </a:srgbClr>
                </a:gs>
                <a:gs pos="100000">
                  <a:srgbClr val="3a74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1"/>
            <p:cNvSpPr/>
            <p:nvPr/>
          </p:nvSpPr>
          <p:spPr>
            <a:xfrm>
              <a:off x="1212840" y="4129560"/>
              <a:ext cx="1959480" cy="1783800"/>
            </a:xfrm>
            <a:prstGeom prst="ellipse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438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1128600" y="4129560"/>
              <a:ext cx="1438560" cy="13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33"/>
            <p:cNvSpPr/>
            <p:nvPr/>
          </p:nvSpPr>
          <p:spPr>
            <a:xfrm>
              <a:off x="1362240" y="45378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Гуман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личнос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3679920" y="4019400"/>
            <a:ext cx="2158560" cy="2344680"/>
            <a:chOff x="3679920" y="4019400"/>
            <a:chExt cx="2158560" cy="2344680"/>
          </a:xfrm>
        </p:grpSpPr>
        <p:sp>
          <p:nvSpPr>
            <p:cNvPr id="203" name="Oval 21"/>
            <p:cNvSpPr/>
            <p:nvPr/>
          </p:nvSpPr>
          <p:spPr>
            <a:xfrm>
              <a:off x="3892680" y="5959440"/>
              <a:ext cx="1810440" cy="4046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3679920" y="4019400"/>
              <a:ext cx="2158560" cy="2049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3726000" y="4067640"/>
              <a:ext cx="2058840" cy="1957320"/>
            </a:xfrm>
            <a:prstGeom prst="ellipse">
              <a:avLst/>
            </a:prstGeom>
            <a:gradFill rotWithShape="0">
              <a:gsLst>
                <a:gs pos="0">
                  <a:srgbClr val="cc3300">
                    <a:alpha val="85098"/>
                  </a:srgbClr>
                </a:gs>
                <a:gs pos="100000">
                  <a:srgbClr val="82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3805920" y="4139280"/>
              <a:ext cx="1861560" cy="176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942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3726000" y="4139280"/>
              <a:ext cx="1366920" cy="12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6"/>
            <p:cNvSpPr/>
            <p:nvPr/>
          </p:nvSpPr>
          <p:spPr>
            <a:xfrm>
              <a:off x="3729240" y="467856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сотрудни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3"/>
          <p:cNvGrpSpPr/>
          <p:nvPr/>
        </p:nvGrpSpPr>
        <p:grpSpPr>
          <a:xfrm>
            <a:off x="6232680" y="4008600"/>
            <a:ext cx="2183760" cy="2410560"/>
            <a:chOff x="6232680" y="4008600"/>
            <a:chExt cx="2183760" cy="2410560"/>
          </a:xfrm>
        </p:grpSpPr>
        <p:sp>
          <p:nvSpPr>
            <p:cNvPr id="210" name="Oval 14"/>
            <p:cNvSpPr/>
            <p:nvPr/>
          </p:nvSpPr>
          <p:spPr>
            <a:xfrm>
              <a:off x="6447960" y="6003360"/>
              <a:ext cx="1831680" cy="415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6232680" y="4008600"/>
              <a:ext cx="2183760" cy="2107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6279840" y="4057920"/>
              <a:ext cx="2082600" cy="201240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85098"/>
                  </a:srgbClr>
                </a:gs>
                <a:gs pos="100000">
                  <a:srgbClr val="2555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6360120" y="4131720"/>
              <a:ext cx="1883160" cy="181764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2b61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6279840" y="4131720"/>
              <a:ext cx="138204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9"/>
            <p:cNvSpPr/>
            <p:nvPr/>
          </p:nvSpPr>
          <p:spPr>
            <a:xfrm>
              <a:off x="6524640" y="4601880"/>
              <a:ext cx="159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Технолог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свобод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воспит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3"/>
          <p:cNvSpPr/>
          <p:nvPr/>
        </p:nvSpPr>
        <p:spPr>
          <a:xfrm>
            <a:off x="1933560" y="2376360"/>
            <a:ext cx="5759640" cy="16542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</cp:lastModifiedBy>
  <dcterms:modified xsi:type="dcterms:W3CDTF">2011-11-01T16:51:2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