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090-2750-47FF-BB9A-11DCA102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DBE-AF9C-4FB5-A6BB-3DAD49A7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0ED6D-D8DB-49D5-8048-6EC04F5B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F081D-4940-464C-80F4-7F552FE9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F4BE8-81CC-4120-BC57-04B5D37E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86E0B-6B85-47D3-BC64-0FD1171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11533-8B1C-4B8B-B4E4-406A0E22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69098-8010-486F-B2E6-919FA3D0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119F4-C4FA-4631-AADD-90B46CBA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59F96-5FD1-4A77-BE1B-31342349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86A56-AFF1-4C3C-9BA7-0E47E8BA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38220-9A92-470D-BF73-54604E44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59B-11F4-4828-96DC-850484F9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80730-0D8C-465F-88CD-83B70566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523E4-583F-43B8-B6BE-EB91301B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F3A61-A6BB-4418-ABD2-436A74BF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33B30-9806-4DB2-ACD7-ABDCF07D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D339B-2A28-4D12-B50D-D133CAB8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F483E-D32E-4B19-864E-9445DA6F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2BD39-57A5-4279-8734-C56BF8F0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39CA2-9467-4F55-9BDD-4C1FD906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46E7C-D3CA-470E-B05F-F6AD2BBD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77447-73D9-4CE8-82D7-62D22F6D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F87-30CF-4B6D-A57C-7D7C4CC4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60687-E24B-4D22-810F-9F2F573E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E0CF-5785-4576-A733-E0365FFA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1F93-ECEE-461B-B8D3-6F94A72D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07F9-A553-4CD4-84FB-BF41A050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521B-F69B-4671-A321-7F6D424B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53D7-28E5-4212-A588-2E269F5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1B01-6E21-488B-82AF-F48B1CD6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D291-85EA-4971-8B53-7C90636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73A-F13E-465E-9E24-6C2360EF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BA94-C22F-4C19-8E5E-2B46C72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8384-C6AF-41F4-8428-B21A20A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C57E-8E89-4C6A-ADFC-2F1B2231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5310-A40B-42AC-B394-CEB19C6E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0F19-6EA9-4EC4-82AE-DA375E0D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2F9FE-986A-4309-9A54-39100BA9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2D866-58E0-4665-9898-6016324A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55CB4-0CEA-4BE4-BD6B-E7F41C40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72FBF-E62D-4B05-8087-4DF8CD20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406D8-BFCA-45C2-85A9-B6306526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240-E4DB-4523-BB33-56CE112D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51B10-3964-42D4-BDF4-35F944F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85AF8-F8A3-49A3-9396-3C6C1724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3771E-9859-4E4A-A4C3-41110A20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A77C6-338D-473F-9E46-B61D945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02563-2682-4D04-86B6-ECDEBED2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63FC6-DD8D-42F5-B8D8-15F524DE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C18A8-5F18-4674-A201-F49E5B57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035E-C2BF-4536-8D3E-F34705BE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7D2E4-92D2-4659-8EDA-DEC9C6AC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A1EC5-5DAE-4324-8062-3F773751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45A-4DAB-4B91-AE24-2F964985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54F7D-59E4-4AEE-A48C-157F246B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CC4E-ED22-4846-B583-A9E7C081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C0731-606D-4581-BB8B-A73C56AE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F355B-C42B-4630-B906-1C88BE5A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BB4F-97F8-49AF-ACB2-4787F19B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CA9C-F32C-4165-9CA9-F71B02EC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F52B-8C15-4B80-99A6-C08A2C2D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5950-85EB-4492-8DE5-B4749F70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0370-6079-413A-BD2D-9436AC71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05507-9261-4545-80AD-B41DA1E9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45C-F660-4E5E-8128-6FC55D3C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75ADC-BC96-483E-B201-22FF974D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AD003-1C12-4424-921E-54447F6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42147-50C3-48F4-850E-465024B8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F6DB7-FA43-43C2-AEA6-616A0971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8BF0C-A932-431C-85F0-4D228971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F5E47-4A62-4043-977C-6D745AC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1DA3A-B600-4EE0-8010-3EAC693E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118C6-7DDF-4638-A041-A6BCEDEB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3E735-7EDA-4337-A3B1-AA854BEB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C356E-12BB-4430-8D66-EC275CD0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AFC-FDC6-45B6-8D20-84BAE9DA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07265-9414-41A0-913F-3451F569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5EB3-6947-4762-9A88-EE5B94BC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B4FBE-E7F0-4AC2-A3CF-5623E594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E3EA-3472-4D5A-AB1C-1EDECDE2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08487-F3FE-48F5-8AFF-0112657E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213F-B756-460D-9B46-B8B7CC5F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B58D1-4B25-460D-B306-1A0F81C6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0678E-45C8-414F-AACB-36368F29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5BCC6-759E-4F3A-90A7-EAF8F638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A1E81-F464-43A6-A06C-319ECF21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F3B-72C9-4A8E-9CB6-FE65E22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3C56E-10ED-459A-B7F8-94208B43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138C8-131C-4C63-A7BD-73ED33B6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DD034-5151-4B72-B827-E03A3E13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D50FC-195C-40F2-8E08-F1E6DD40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1B59D-59B8-47C9-9176-16B5AEC5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F0FD2-A008-4041-BAEE-D87B3903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5350E-86FC-4A02-9EFE-DBEF57D9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75627-D795-401C-8902-8F58F383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8213E-0686-42F3-AF9A-CE39D74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ED26F-4DCA-462F-863D-1AB0500F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863-1EF1-4D70-A385-E28B784E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525A1-3F01-4641-ACBA-5DE0BE18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35702-62E5-44E7-ACF9-FE01CDB8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45C7-A125-4603-B8E4-1E9DEC83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41F89-1F18-44B9-97F6-5D949B59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7FCAF-F3CB-4F19-B392-73E2A4C1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2FE4-F270-4CF8-892C-08067232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B8F89-5A84-41EA-9A19-9E7EDF74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3C5A0-9161-440A-BCA9-F9D61981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F2F0A-D668-4A7A-A93D-D353F68D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A8F9F-D5A5-4685-A1BA-741FBA46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A3B-B409-4A83-BB15-C1A8B2EC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E59CF-E3C1-46C9-BD7D-6C2618B4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B392-9FAD-45BD-9002-F83B3002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E2D55-1EBB-4F6B-9636-A45A84D2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4BBE2-FC9E-4D72-88B9-C664119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42831-5692-4573-83AC-188E431E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F6251-1421-4D07-A7A6-F8766006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1B971-9BC8-4C0E-B064-168D0D78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31B92-76B1-4F98-B3BB-5378EF90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C09D2-8075-4096-B127-D1F70FD7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8D490-5A1A-43D3-AE36-9BE6A7AB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09C8-CA1E-4660-B80C-E8DD72042B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4183-6038-476E-9BEA-D69F35F622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74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6272-AA3E-4B77-9CB6-EDB914C49F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FBCB-2C85-45DA-8E82-5B0975E96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45C-A483-40C8-B680-F6F68870E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D9DF-8913-458C-99BE-F24F03CC0D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0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0E71-8A8D-4D25-B43D-2FCDB39A9A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0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2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7799-F0F6-4392-AF86-E7DE8938F7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312B-40D2-488B-9DA0-19C1791449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C6E8-DF99-4350-84E0-0D059D738B2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иктор  Цой –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одиночество,  тайна  и  доброта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79200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Поэты  не  рождаются  случай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Они  летят  на  землю  с  выс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Их  жизнь  окружена  глубокой  тай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Хотя  они  открыты  и  про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Глаза  таких  божественных  посла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Всегда  печальны  и  верны  меч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И  в  хаосе  проблем  их  души  свет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Мирам,  что  заблудились  в  темно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. Тальков. (из  песни  « К  Виктору  Цою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-56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мотря  на  то  что  песни  Виктора  Цоя 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несут  философский  смысл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тексты  песен   достаточно  прос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о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тема – призыв  к  поступ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ая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мыс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необходимость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движения  вперёд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т  тьмы  к  свету,  от  ночи  к  дню), решимость,  воля  к  действию,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внутренняя  своб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«Странная  сказ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87 г. – Виктор  Цой  признан  лучшим  киноактёром  года (по  опросам  кинокритиков  журнала  «Советский  экран» )  после  съёмок  в  фильм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л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  группы  «Кино»  прозвучала  в  фильма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Асс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оро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3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  интервью  с  Виктором  Цоем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-  я  пишу  о  том,  что  происходит  вокруг  меня…  Я  пишу  песни  не  потому,  что  нужно,  а  потому  что  меня  лично  волнуют  проблемы. А  если  не  почувствовал,  то  не  могу  писать  песню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-творчество  для  меня – физическая  потребность.  Берёшь  гитару  в  руки,  перебираешь  аккорды, и  появляются  слов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- главное  в  музыке – её  активность.  Я  считаю,  что  слова  играют  огромную  роль.  Часто  текст  доминирует  над  музыкой,  и  это  единственный  путь  для  самодеятельных  групп,  чтобы  выжить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55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-  Какие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образы – символ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       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вы  встретили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      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в  песнях  Цоя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-425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Образы  оживлённые  и  наполненные  светом: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звезд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Солнце  -  лу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день -  ночь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4000" spc="-1" strike="noStrike">
                <a:solidFill>
                  <a:srgbClr val="cc9900"/>
                </a:solidFill>
                <a:latin typeface="Verdana"/>
              </a:rPr>
              <a:t>песня  «Кукушка».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3520" y="-58140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1532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613400" cy="55544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6561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-320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404640"/>
            <a:ext cx="81532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олоритная  восточная  внешность, суровое  выражение  лица. Прохладность  загадочно-кошачьей  пластики,  отстранённость  мимик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н  никогда  не  расставался  с  чёрным  костюмом,  гитарой  шестиструнко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го  выделяла  застенчивость.  Он  не  любил  говорить.  Особенно  он  не  любил  разговаривать  с  людьми  много  старше  его,  он  сразу  сжимался  и  замолка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диночество,  справедливость,  доброта  и  чёрный  цвет -  таков  Цо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82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  Робертович  Цой (21.06.1962-15.08.1990) родился  в  Ленингра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 музыкальный  опыт  в  школьной  группе «Палата №6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нчил 8 классов, поступил  в  художественное  училище им. Серова, исключён  за «неуспеваемость»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упил  в  СПТУ-61  на  специальность резчика  по  дере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1 – создаёт  группу  «Гарин  и  Гиперболоид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2- поступает  работать  в  реставрационные  мастерские в г. Пушкине, затем – на  работу  в  садово-парковый  трест  резчиком  по  дере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6- работа  в  котель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 «Камчат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звание  котельной,  гд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ходили концерты  Цо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вартирники»- репет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онцерты  на  кварти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6230880" y="2924280"/>
            <a:ext cx="26780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 1986 г. растёт  популярность 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ино»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диплом  за  лучшие 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из  «за  творческое  совершенноле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1987 «Кино»  названо  лучше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ой  сезона,  особенно  после  появления  альб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«Группа  кров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676160" y="26064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547280" y="691920"/>
            <a:ext cx="6985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  Цоя -  братство  одиноч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 лирический  герой -  одиночка,  путешественник,  путник,  идущий  за  какой-то  призрачной  меч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Стук». («..но  странный  стук  зовёт  в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рогу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189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 текстах  Виктора  Цоя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омантичес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озвыше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образы  смешиваются  с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алистическими,  бытовыми  зарисовками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отражая  внутренний  мир современного  молодого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ые  обращения  соседствуют  с  добрым  юмором,  а  иногда  и  ирон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ино»  было  символом  «потерянного»  поколения к. 80-х,  отражало  протест  против  духовного  засто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зрения  тех,  кто  ощущал  определённую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безысход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Переме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189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620280"/>
            <a:ext cx="70102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ая  песня  Цоя  о  любви  и  свободе.  Одной  фразой  закрыл  в  своём  творчестве  болезненную  для  нашей  страны  тему  войны : «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ойна – дело  молодых,  лекарство  против  морщин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Звезда  по  имени  Солнц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04:07Z</dcterms:created>
  <dc:creator>Андрей Валентина</dc:creator>
  <dc:description/>
  <dc:language>en-US</dc:language>
  <cp:lastModifiedBy>Андрей Валентина</cp:lastModifiedBy>
  <dcterms:modified xsi:type="dcterms:W3CDTF">2001-12-31T18:28:56Z</dcterms:modified>
  <cp:revision>4</cp:revision>
  <dc:subject/>
  <dc:title>Виктор  Цой – «одиночество,  тайна  и  доброта».</dc:title>
</cp:coreProperties>
</file>