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EE7-CCEA-4943-A570-28CCFB1C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DF9-CC13-466F-9CDC-574E9BD0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B47F0-DD76-4D77-8505-C74BD17F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B6320-268A-4B23-BD38-340F6876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412F1-4831-4B9F-B026-2A7BF160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DBD0A-6CB4-4883-ADFB-65413354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EBEB9-56F6-44BB-AEEC-7CBFE401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62BDF-0925-474A-8EA3-EEFD77FB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882C0-470A-4BB6-B669-B18F0FA7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ED3EE-CC4F-4522-B6DE-791CEFF6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01C97-EB26-48D9-9FA2-147D8226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EA41C-1267-4A2C-A9E1-B75941A4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9EA-B09F-4009-8931-3D6BC6DB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E79A6-6C42-4A8B-AD48-A208A27D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DFB6B-879A-44DD-8D1B-77ABECF5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189B5-E33F-40D9-82B1-B8F2E92D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5BE9C-5D93-4B60-A398-50C23D03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29A90-B32C-4476-83B3-7A6B6F05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7EFDC-E493-4E1D-B1D6-F20EB5E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CCA51-699D-4D8D-BEFC-8289CB9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74BF3-3456-4BA2-AF53-EECE20D4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BB413-B08A-4BD9-B6F9-133F7B70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AC862-D708-49D7-AC81-2143435F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19B-641E-48C7-A739-3330B808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A885F-5AA3-410D-85B8-89B4FD73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0741-D8C1-429A-8620-CB85F82D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7073-A3C0-4A59-A399-8A38B44C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A651-0D01-4210-9768-08CD12E9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17BA-C007-4F7B-928B-807CE7F8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252D-C225-4CA0-B6D4-6A92A692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455A-6CE5-4D60-AB67-AADA5FD8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1C99-E523-4821-AB6B-56520405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DC3-DFE7-423D-9652-2C3C27B4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36AF-842F-4C9F-848F-0598E6FA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A113-AECF-4120-920F-38451E23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A8D0-59D4-487A-8609-171EECFE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6465-B178-4C3A-A689-E6B1A0F7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11DA-9165-4C4B-B82A-FA6AADD9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403C4-3647-4E20-B10F-74327F8A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808B5-CB1A-4C55-AB8D-4A0F94B7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A326E-4DE0-4359-BEA6-22E0C313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FA020-5CD4-4CE7-BA15-9187AD62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1084B-850B-4AF0-B7D6-4AF8510D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E56-F75C-4CD1-BDDF-724BB8B3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EE050-B7F1-4B26-878B-7BC94BD9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C11F7-9FEB-47DE-B7D5-B3C6DF5F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DCFA3-6280-4C44-A8F3-D832F04C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C831E-20F8-48EF-A6C1-159BA71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8B026-BC05-4E85-B36C-F349ADBF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8ABAE-9F6A-4697-8FE1-84E39551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50992-3553-4B2D-9434-4B85346F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A3F60-6C3B-4153-B131-FBB25E7B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F3887-4929-4ED2-81C2-1958DC58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F8DA-3842-4459-9479-A017F06C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ABF-F0D3-469C-B957-76065564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F3DA2-12F6-4625-9FF1-7FA5119A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532BD-BCC3-4F76-A015-C9C6490B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F68A-2B36-46C4-A095-5999DC43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F62F0-6F28-4A79-9472-1B26BB42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917C-8950-4988-822A-DD86319D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1CC4F-2541-4720-AA82-EE634E5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EB275-11A2-4BB8-92B6-EA9531F9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788C-7317-4053-9437-DE93BD70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D34DA-5A6F-4105-877D-1BFA804C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C294C-EC1D-4907-A295-65BD374F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AB0-4AB8-446E-A1CC-AC40B571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55C78-0FD6-4EDC-94C1-EEB120A5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1C0EF-783E-481A-8864-5103F5CD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6BCF3-94AB-4A9C-9F6F-412EE3D6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B2F83-ACED-47A0-9453-F405609B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9EC85-4F42-434A-AD01-F91A4A36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8EBA1-77CD-4BC0-AB53-C03C0629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FCE7F-5FCC-4717-BC27-73E24DCE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AE0E3-2764-4B05-96C3-0998DD2F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F5077-08E9-4BBA-B463-44DA092A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4B4A2-5588-4E4F-AFDE-07C36E51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4F9-EB14-46EB-B7D7-F0452A95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D26DB-5595-4581-9688-8530DF06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2479C-00AC-4603-9F37-392E9058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CCC18-CD72-455F-8A4C-5D5AC604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530D2-7CBD-408A-BDE3-EF97BE47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F50E2-A58D-4247-8BB9-D9B05E04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E02E0-4121-4D0D-99B0-0CDFA63F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F6EA2-5E11-4100-BA1F-F559A66D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C8831-E68D-41A1-AA8A-54DD0787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11A95-77D8-4670-A1F5-EA97C48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14777-0AEF-4119-BFD3-AB6348B8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61F-E3DA-49C2-AB6A-968DDFED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F880D-57D6-4204-BE69-FF4854C8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703A9-DD45-43F6-AC9A-7E2D9BC1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C7491-B72D-4401-8ABF-98D686E1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48E7B-8270-4360-B38B-56A2DC25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25F59-3B55-483F-AD64-185C029B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820BE-5813-4AE9-A00D-A24D8DE9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D4BC8-0EAD-416D-8CF7-B12E6E8E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9A96C-FF69-4490-80F2-A8BC5271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421D4-0F02-4FE8-AD2A-EAC6AC7E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3CE32-0BFD-4ECE-848B-4DF4D91A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5B8-6201-49D8-9532-FDBCC394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9A635-50F7-41C3-8C34-7D263E66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61C67-2264-4515-91D6-F39832F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4176-2C83-4FD2-BA9D-2229C16A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FCDEF-F2E4-48DB-A81A-AD2DB5C1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79244-05DF-4828-842F-1E1C1FF9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AAA3A-7FF0-489F-985C-C8FB6E01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3471F-C110-42D6-B065-04D62354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3B19C-2EC0-4A8D-9876-0517F6E3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C8283-3F1D-48DA-827E-81AA4B4B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70ADC-D2A2-4AB1-84DF-4E715D7A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781-E3CE-47F7-BEDD-2DF5B22D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5C817-A020-4D9E-9200-54E179F6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E2E79-89ED-44B9-8302-0585CFF9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B3BC9-AB1F-442E-858D-3DCEA2B0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6EA12-E45C-4F34-A212-9245D226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E99AD-C667-490C-BB14-092391C2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F844E-1A7A-4D00-B948-174F6A88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95669-179D-4059-BC0C-EF3F73C6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08BC6-6290-4D1B-94EF-AD2AFB7D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B7855-54C3-4A86-9C7C-68C16F8E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3D690-D2D4-4213-A08D-19F16B10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A4AA-B08D-447D-9A6D-0116A2E5E2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66AF-6E7F-47EF-B74A-9CDE62D574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74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4879-15B8-4A8E-BF5A-BC834F31AD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86B8-28AF-4EB8-93F0-049600159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F17F-1A0E-40F1-89CB-75E809163E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1B8A-D0D5-4D1C-B322-B0F8BF94AA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0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0DAA-F871-4F3D-8584-E909C62214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5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0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2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9173-5425-475E-A95A-E11CC59270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6575-6784-4540-9E31-CFFFE8B629A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CB33-00E8-4478-ABF8-B6B8A6D194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иктор  Цой –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«одиночество,  тайна  и  доброта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79200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Поэты  не  рождаются  случай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Они  летят  на  землю  с  выс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Их  жизнь  окружена  глубокой  тай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Хотя  они  открыты  и  про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Глаза  таких  божественных  послан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Всегда  печальны  и  верны  меч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И  в  хаосе  проблем  их  души  свет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Мирам,  что  заблудились  в  темнот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. Тальков. (из  песни  « К  Виктору  Цою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-56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смотря  на  то  что  песни  Виктора  Цоя 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несут  философский  смысл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тексты  песен   достаточно  прос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о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тема – призыв  к  поступ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ая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мысл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необходимость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движения  вперёд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т  тьмы  к  свету,  от  ночи  к  дню), решимость,  воля  к  действию,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внутренняя  своб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«Странная  сказ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87 г. – Виктор  Цой  признан  лучшим  киноактёром  года (по  опросам  кинокритиков  журнала  «Советский  экран» )  после  съёмок  в  фильм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л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  группы  «Кино»  прозвучала  в  фильмах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Асс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Горо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13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  интервью  с  Виктором  Цоем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-  я  пишу  о  том,  что  происходит  вокруг  меня…  Я  пишу  песни  не  потому,  что  нужно,  а  потому  что  меня  лично  волнуют  проблемы. А  если  не  почувствовал,  то  не  могу  писать  песню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-творчество  для  меня – физическая  потребность.  Берёшь  гитару  в  руки,  перебираешь  аккорды, и  появляются  слов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- главное  в  музыке – её  активность.  Я  считаю,  что  слова  играют  огромную  роль.  Часто  текст  доминирует  над  музыкой,  и  это  единственный  путь  для  самодеятельных  групп,  чтобы  выжить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-355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-  Какие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образы – символ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       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вы  встретили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      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в  песнях  Цоя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-425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Образы  оживлённые  и  наполненные  светом: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звезд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Солнце  -  лу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день -  ночь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4000" spc="-1" strike="noStrike">
                <a:solidFill>
                  <a:srgbClr val="cc9900"/>
                </a:solidFill>
                <a:latin typeface="Verdana"/>
              </a:rPr>
              <a:t>песня  «Кукушка».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3520" y="-58140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1532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4613400" cy="55544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6561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-320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404640"/>
            <a:ext cx="81532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олоритная  восточная  внешность, суровое  выражение  лица. Прохладность  загадочно-кошачьей  пластики,  отстранённость  мимики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н  никогда  не  расставался  с  чёрным  костюмом,  гитарой  шестистрункой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Его  выделяла  застенчивость.  Он  не  любил  говорить.  Особенно  он  не  любил  разговаривать  с  людьми  много  старше  его,  он  сразу  сжимался  и  замолкал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диночество,  справедливость,  доброта  и  чёрный  цвет -  таков  Цой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82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  Робертович  Цой (21.06.1962-15.08.1990) родился  в  Ленингра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 музыкальный  опыт  в  школьной  группе «Палата №6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нчил 8 классов, поступил  в  художественное  училище им. Серова, исключён  за «неуспеваемость»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упил  в  СПТУ-61  на  специальность резчика  по  дере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81 – создаёт  группу  «Гарин  и  Гиперболоид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82- поступает  работать  в  реставрационные  мастерские в г. Пушкине, затем – на  работу  в  садово-парковый  трест  резчиком  по  дере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86- работа  в  котельн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о  «Камчат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азвание  котельной,  гд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ходили концерты  Цо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вартирники»- репет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онцерты  на  кварти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6230880" y="2924280"/>
            <a:ext cx="26780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 1986 г. растёт  популярность 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Кино»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диплом  за  лучшие 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риз  «за  творческое  совершенноле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1987 «Кино»  названо  лучше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ой  сезона,  особенно  после  появления  альб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«Группа  кров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676160" y="26064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547280" y="691920"/>
            <a:ext cx="6985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р  Цоя -  братство  одиноч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го  лирический  герой -  одиночка,  путешественник,  путник,  идущий  за  какой-то  призрачной  меч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Стук». («..но  странный  стук  зовёт  в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рогу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189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 текстах  Виктора  Цоя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омантическ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озвышен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образы  смешиваются  с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алистическими,  бытовыми  зарисовками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отражая  внутренний  мир современного  молодого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ые  обращения  соседствуют  с  добрым  юмором,  а  иногда  и  ирон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ино»  было  символом  «потерянного»  поколения к. 80-х,  отражало  протест  против  духовного  засто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зрения  тех,  кто  ощущал  определённую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безысход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Перемен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189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620280"/>
            <a:ext cx="70102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ая  песня  Цоя  о  любви  и  свободе.  Одной  фразой  закрыл  в  своём  творчестве  болезненную  для  нашей  страны  тему  войны : «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ойна – дело  молодых,  лекарство  против  морщин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Звезда  по  имени  Солнц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7:04:07Z</dcterms:created>
  <dc:creator>Андрей Валентина</dc:creator>
  <dc:description/>
  <dc:language>en-US</dc:language>
  <cp:lastModifiedBy>Андрей Валентина</cp:lastModifiedBy>
  <dcterms:modified xsi:type="dcterms:W3CDTF">2001-12-31T18:28:56Z</dcterms:modified>
  <cp:revision>4</cp:revision>
  <dc:subject/>
  <dc:title>Виктор  Цой – «одиночество,  тайна  и  доброта».</dc:title>
</cp:coreProperties>
</file>