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03C-3CEC-4B2A-A0FF-7B1DA0C7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17C-B3B7-48AB-AE68-66A7926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92F30-72A6-44DC-92F7-7BA4E0CB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C99A7-B0DA-44FA-BE5E-F47B2778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64791-2051-438F-A770-5B0764D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BFEEF-2278-41BE-81B0-338B4FD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1C728-659E-4997-9C0C-62E8DAF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C0FD5-20EB-4180-BA3E-67C5F76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212E-0762-480A-BD6A-BE8C35F2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C70CB-6B8F-47D8-AC21-DBD25FE3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F07A-92CA-4BD3-97CC-124B8962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99B0-A340-41CD-A891-0045988B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DFE-752E-4162-9270-92D37E91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95CDE-67A4-4CAC-A949-917A7CE5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F12D-49FA-4593-900A-153B251D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9B4DB-2555-4E96-A1CB-0E6902B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E6C2F-863F-4B05-A742-3ED9A1B5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3BC41-5E92-4B06-BD3D-5ACD032E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4D50F-0A97-4871-BCA8-1731E84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638D0-FFD9-4A53-81C1-EBD6CFC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A5FBF-903F-4EC2-AE6D-5DAE010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E4871-9B42-4E1C-9F95-44950DF6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AF616-A197-4A64-A9A6-6086F5DA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E86-B4B2-4354-A36E-2A6101AA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9E1B2-C0C3-4D23-820C-BEF3D5E9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52D9-2FE8-4301-99CC-9104DD9B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6D58-BF68-4DE3-AA49-868E3BD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3E4A-F1DC-45A1-8C67-8AE6DAEF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D63-59AF-4031-BD79-007D314E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4BE5-1446-435F-BB56-2D03DAC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3979-0B6D-4E30-AE4E-28A38FD9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C85E-4DB4-472D-B0BF-6C95B8D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622-847B-4C3F-955B-BAADF717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4C2A-2F81-41B6-91A6-38FBEDA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C39-7DC2-455D-A6E9-F37AF7EB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43F7-5B7D-4AFC-AD70-E8F27D1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1618-69D8-4034-9BD6-F456BB3C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A946-69AA-4073-AC35-B3AB189C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5B3B1-2EE0-44FA-B93C-A40E1029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10E4D-1BB5-47C3-90C3-65D4EB28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8EFE0-C764-4D8F-AACE-D109DE24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D232C-4F4E-4F5C-B5D8-BBF76EB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A23AD-DAC7-4E0F-A2DF-9B7759CD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E94-D7B0-4DBC-9206-C55C53E0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EAA0A-9841-4B7F-9A34-97DDA3F7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76B9D-F8B6-4943-AEDC-46A2413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12703-7B22-43A9-A2C7-504E559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3A674-323A-469B-B62D-606A0EB1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27551-9F2F-4C79-8C69-B4B8FFDB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9D6C0-01B2-4A0F-8736-98E1DC11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765A5-10AA-424B-BE67-C997E27F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B430A-C8F8-4372-AB20-A93212E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8090-EF75-4123-919C-862B6F9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4215-99BD-48ED-958D-4F4D7CF6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B03-FD2C-449E-99F6-0DC3926E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D97F-9506-44AA-A69F-8F17C180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DF3AF-FC05-4EAE-A4B0-A697FCF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9B51-BBE1-4D5A-970C-697034C0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F8F0-18B8-4773-BC09-DBE153D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C2E7-7DDB-4DDF-9B77-4DDC268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51B5-E9C4-4F77-A014-934E25B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6670-8B70-462B-AA28-1D1F5B0A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AD5C-CE27-479A-854A-E0C4A5C6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E727-E6CE-4FAA-BBEF-075B2141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D7F29-7A25-4C06-BEB9-5D1B1CCB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A34-0015-450D-87EF-465CC9C2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B6BC5-8238-4CE7-AB7B-1C05370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29B96-BF1B-46A8-BB59-2B509957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AC320-986C-4438-9D1B-BF72CD9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E5EEC-D392-41B9-B74D-E71408E4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9DC2F-F1E5-4F20-9916-68395E34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18866-147F-425B-81B1-EF3D34A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D5876-DEF2-4737-99B2-7B21274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28054-7342-4DA9-A712-34237CA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2A6E3-B225-494B-8099-1EF41DB2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305F6-90E4-4D6D-B980-A141E538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EC1-786E-4850-A8CB-8E1C9A5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BCA4F-2AA6-47EC-930D-49B9446F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6B619-5FC8-4E5A-8069-E865731E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DDD8-4578-48B4-A779-0DDB20D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40E93-7D2E-4A45-9737-4F48EF0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AFDCE-34A5-4A50-A40A-EF14D98B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EA7BF-4D0E-4A2E-A489-B08E6435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F316-434A-4882-B0D9-6F1E9C19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533E6-D425-43B9-B686-6CBA785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32B9B-DD87-4EE3-919F-07B7FB5D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8F3E9-D98B-4AC2-A63B-6D4E76D7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A11-D7E8-4369-B53F-F6DC9D9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E6CAD-8F5F-4A0E-8FF6-1D7F21E8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7AE5E-F374-42C4-9FF1-E2855B38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30F7-3797-4834-A295-8C0A5B18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597B-73A9-41B9-B017-57968CE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C241-1E29-4756-9DD2-8A9D0C2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16697-E613-45ED-9056-C7419FA0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B6CCA-23D1-4440-B333-BBDBBBA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0CE6-ADA0-44F1-BF97-F4E8B9E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3148-DAB0-49CA-8421-661B69FB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F5984-6BBB-4919-8EF2-3A221D6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4BF-AEC5-4A63-938F-70E472E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1BFC-588F-4C8E-B4E4-0E88DEB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7758-ED4F-4863-865D-1CA984C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B8AC-D82B-4039-91B3-24C6657D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8372-1221-4480-8E45-2D750ED3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232AA-DA67-45C7-820B-FFA4A6CC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4DC70-1244-464B-94F8-6764F5A0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172D-85C0-4FD4-8BBD-322B8F65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14C37-FC65-4E3D-B8E2-6DF097B2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8B412-5219-469A-B62D-3F0E92CC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D848C-143B-4DF3-8EC9-01998ABA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B71-888A-43DB-85B5-D45A03F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6CE6-C160-463D-8C8C-A4713EA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4643-AA38-4E8D-B001-D39CF25A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2300-81AD-4236-B7D8-3203CD30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BF3C0-6209-46D0-9D0C-351AA2C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2D53-CDAE-4C5E-923D-10AAA97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603A-DF80-42F4-B316-B883927B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7470-2D56-405D-871B-55AD5E21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B67BD-46A0-4B87-BA85-EF48D9A8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AEEA7-45E6-476D-B699-F2722382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BF022-C06F-4885-BFA7-B493CBB4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5A79-104D-47C3-ADDC-E12FC19DA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6AD8-79EF-40B0-AA9C-3BCD7EC9B7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4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F5D8-B574-4526-B3BC-9E09A3ABFF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7B4-F507-49B6-BDED-F7A2131F7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C7B-FD0D-4E16-84A4-C20873149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120B-21C5-4549-B628-B933ADF2FD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0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2DA0-66D2-4D4B-B838-94E9955B4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9F5-0639-47BE-A844-93329CFA88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175-C453-439A-BCC7-8F4A1066B3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76C-352F-4E89-BE2B-9374482D6D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иктор  Цой –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«одиночество,  тайна  и  доброта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79200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оэты  не  рождаются  случай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Они  летят  на  землю  с  выс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х  жизнь  окружена  глубокой  тайн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Хотя  они  открыты  и  про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Глаза  таких  божественных  посл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сегда  печальны  и  верны  меч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И  в  хаосе  проблем  их  души  свет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Мирам,  что  заблудились  в  темнот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. Тальков. (из  песни  « К  Виктору  Цою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-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мотря  на  то  что  песни  Виктора  Цоя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несут  философский  смыс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тексты  песен   достаточно  прос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тема – призыв  к  поступ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мыс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необходимость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движения  вперёд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от  тьмы  к  свету,  от  ночи  к  дню), решимость,  воля  к  действию,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внутренняя  своб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a3c145"/>
                </a:solidFill>
                <a:latin typeface="Tahoma"/>
              </a:rPr>
              <a:t>«Странная  сказ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87 г. – Виктор  Цой  признан  лучшим  киноактёром  года (по  опросам  кинокритиков  журнала  «Советский  экран» )  после  съёмок  в  фильм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 группы  «Кино»  прозвучала  в  фильма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Асс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оро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з  интервью  с  Виктором  Цоем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 я  пишу  о  том,  что  происходит  вокруг  меня…  Я  пишу  песни  не  потому,  что  нужно,  а  потому  что  меня  лично  волнуют  проблемы. А  если  не  почувствовал,  то  не  могу  писать  песню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творчество  для  меня – физическая  потребность.  Берёшь  гитару  в  руки,  перебираешь  аккорды, и  появляются  слов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00"/>
                </a:solidFill>
                <a:latin typeface="Arial"/>
              </a:rPr>
              <a:t>- главное  в  музыке – её  активность.  Я  считаю,  что  слова  играют  огромную  роль.  Часто  текст  доминирует  над  музыкой,  и  это  единственный  путь  для  самодеятельных  групп,  чтобы  выжить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55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-  Какие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образы – символы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ы  встретил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99cc00"/>
                </a:solidFill>
                <a:latin typeface="Verdana"/>
              </a:rPr>
              <a:t>в  песнях  Цоя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425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Образы  оживлённые  и  наполненные  светом: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Солнце  -  лу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99cc00"/>
                </a:solidFill>
                <a:latin typeface="Verdana"/>
              </a:rPr>
              <a:t>день -  ночь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cc9900"/>
                </a:solidFill>
                <a:latin typeface="Verdana"/>
              </a:rPr>
              <a:t>песня  «Кукушка»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-58140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620640"/>
            <a:ext cx="81532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613400" cy="55544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3656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-3204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404640"/>
            <a:ext cx="8153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Колоритная  восточная  внешность, суровое  выражение  лица. Прохладность  загадочно-кошачьей  пластики,  отстранённость  мимики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н  никогда  не  расставался  с  чёрным  костюмом,  гитарой  шестиструнк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го  выделяла  застенчивость.  Он  не  любил  говорить.  Особенно  он  не  любил  разговаривать  с  людьми  много  старше  его,  он  сразу  сжимался  и  замолка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диночество,  справедливость,  доброта  и  чёрный  цвет -  таков  Цо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82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тор  Робертович  Цой (21.06.1962-15.08.1990) родился  в  Ленингр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 музыкальный  опыт  в  школьной  группе «Палата №6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нчил 8 классов, поступил  в  художественное  училище им. Серова, исключён  за «неуспеваемость»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упил  в  СПТУ-61  на  специальность резчика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1 – создаёт  группу  «Гарин  и  Гиперболои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2- поступает  работать  в  реставрационные  мастерские в г. Пушкине, затем – на  работу  в  садово-парковый  трест  резчиком  по  дере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86- работа  в  котельн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 «Камчат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звание  котельной,  гд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или концерты  Цо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ирники»- репет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онцерты  на  кварти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6230880" y="2924280"/>
            <a:ext cx="2678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 1986 г. растёт  популярность 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ино»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диплом  за  лучши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из  «за  творческое  совершенноле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6-1987 «Кино»  названо  лучше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й  сезона,  особенно  после  появления  альб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«Группа  кров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76160" y="26064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547280" y="691920"/>
            <a:ext cx="698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  Цоя -  братство  один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 лирический  герой -  одиночка,  путешественник,  путник,  идущий  за  какой-то  призрачной  меч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Стук». («..но  странный  стук  зовёт  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орогу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 текстах  Виктора  Цоя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омантическ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звыш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бразы  смешиваются  с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алистическими,  бытовыми  зарисовками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отражая  внутренний  мир современного  молод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е  обращения  соседствуют  с  добрым  юмором,  а  иногда  и  ирон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Кино»  было  символом  «потерянного»  поколения к. 80-х,  отражало  протест  против  духовного  засто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зрения  тех,  кто  ощущал  определённую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безысход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Перемен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620280"/>
            <a:ext cx="70102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 песня  Цоя  о  любви  и  свободе.  Одной  фразой  закрыл  в  своём  творчестве  болезненную  для  нашей  страны  тему  войны : «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Война – дело  молодых,  лекарство  против  морщин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«Звезда  по  имени  Солнц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04:07Z</dcterms:created>
  <dc:creator>Андрей Валентина</dc:creator>
  <dc:description/>
  <dc:language>en-US</dc:language>
  <cp:lastModifiedBy>Андрей Валентина</cp:lastModifiedBy>
  <dcterms:modified xsi:type="dcterms:W3CDTF">2001-12-31T18:28:56Z</dcterms:modified>
  <cp:revision>4</cp:revision>
  <dc:subject/>
  <dc:title>Виктор  Цой – «одиночество,  тайна  и  доброта».</dc:title>
</cp:coreProperties>
</file>