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EA33-CC40-4EF2-A819-95A4B03BC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4A8-3B63-4DAA-BB27-89740A42F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ржение вулкана Везу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F773-8549-4E84-84DE-00F5E3BC5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ю – Даг    Кракат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27B7-8874-4319-9391-4626C066A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 Везу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FE5-53E7-4125-A899-EE1DCB21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02F-A5AE-490C-BF7F-1922F87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047A-5C2D-4C1B-B410-3B29005E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C192-F3AB-4128-A85C-23F7F82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F0258-73A3-406C-8126-7472FB76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C6EE4-4A65-4042-9D24-E0E24BB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14E0-6501-4E70-8692-C5112D9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6E127-DFA0-4214-BBA3-6C8EC00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2FB8A-235E-43D5-9BE4-7DC2D84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61870-51E9-4580-AFA9-A1FF62BC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A7754-4654-45E4-A1B4-56A13462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B58EB-0250-489F-A4DB-3543ECD9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AAE-FF82-4625-BE5D-07179C44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4E1EB-074D-41EE-800D-C39BCB0B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408B6-8535-43A6-8A19-11371C37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5B052-CD2E-4C8B-A485-6736EB2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DD19F-3C82-424C-B075-E4EBDF5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A392-A136-444C-A7F2-3C29A8E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CC46-3B54-4344-9B3E-3F72928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2DAB2-A4B8-4879-AF49-99EDC80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9D4BD-EB33-4C23-BD5D-8C34E90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A5F5F-BB8C-4808-B0E8-4222296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C0FAE-1122-4BD4-AC27-8E2B5196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A9A-0EF9-42B2-BCC0-D31A5011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49CF5-6755-48FA-AA91-A3571793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8E5-0EE8-4D94-A5C5-E2DC7CC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D9D9-CAEC-44AD-B0A7-A1A62EB5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12B3-B289-4E79-A9DA-DC7DD42B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2112-EE8B-4E5B-845E-9D1F555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700A-D586-4CD7-B83E-B04997D8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44EF-1079-4442-9DD6-8F081A30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13E-15E5-4D36-9DA9-24026F8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87F-8280-4D27-9615-02E02F66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EEDD-B7CE-4DE7-9903-DCD91491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F25-C90B-45F6-881C-0E59F303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80D8-A903-4366-9901-8156EA9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D2F9-4D93-4924-B3F7-0A73704E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683C-99E1-488F-970A-0121C42E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DDFF-8F54-4BB2-BAE3-C6B8ECD9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2763-CB91-40AE-9A25-740B40B5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3D40-84C9-41AB-8217-24F32D2D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76EE-0743-435E-B1CF-D4A7E373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00D7-74CC-4EA3-9135-B1ECB91B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425-9048-4FE1-B9F5-CF6A1A90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8D27-D064-4222-AD8F-CD39868A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5679-773C-4647-AEF9-2DBF754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F42A-44B0-4D4A-A6A4-599A0DA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A7FF-788C-4843-B760-B31DA92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45AE-2BB9-457C-A6D4-3039B409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8C13-E8A6-4C0C-ADD1-27E5D43E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3FA7-AE70-4B70-9EDE-585792DB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2F9E-ED8E-4AEC-B62F-04144B27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45F2-1AA6-4758-A7BD-06E96467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AB6E-DA5D-4379-9240-A2DD439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74B-DFBA-4056-88DF-1128CF0D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9C17-FC0E-4A9F-83AC-835CA8E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7D39-25E9-4A9E-B347-8B06BCB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7D87-6292-4E0A-9182-B499EDF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5948-36C8-4C36-8E5B-81C393D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8531E-298A-4355-8708-5C61DE9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785D-C293-4288-A3F7-FD3C935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2D9C-6106-4852-9C50-29E2161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4537-166F-48EA-A97D-29846AB9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858A-FACC-4CEE-89F8-2A6593A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FC32-F643-4130-AE90-25267103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624-F11F-4593-87C5-0A6A291A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ABAAE-DC15-4D19-807B-A7B68CC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1D69-B6C9-42C4-B9B6-330B16FC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3035-B81C-487C-ABF7-C8ED4DB1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72B7-BCE6-4AB9-A4E0-7D277E1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7195-3D02-4A09-AA35-95922CBE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97C5D-B31A-4185-BAAF-E6C5A73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7253-E3A5-42EC-A3A7-5DFD95E4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ADFD-2C30-467A-9519-3379F73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4C155-AF79-4B00-AAB8-016448F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B02A-AFBC-405A-BA3C-EDA11115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AAD-A621-4454-8748-A507470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07C4-E9AA-49F0-B63E-B327C00A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B586-B999-49FE-B45B-3E1A70CB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08E0-6D6E-4A65-90A1-6300DEC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AE59-05E6-4C4D-8CF9-ED50CA1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D399-5F14-4678-B53C-302C415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F15A3-DBFF-4A31-AD62-537E1588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610F-E7AE-4875-AAD5-5C87EB8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CABD-FB97-4F48-8929-ABA7548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3B91-E6D3-4BBD-AC4D-E52BC11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D7E8-6194-4180-9ECD-9977E294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E44-0254-40BC-988B-5A3DD7C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6531-09FB-451A-B060-B4051E5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A941-6D9E-4C03-B9A5-A2689FF9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CBCD6-5B9E-41E3-AA29-88A02496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7453-3346-4F6C-A3B2-21B9DB86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9E0E-4570-4A68-952D-AD955AA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BF73F-96A3-4CF5-9BE6-992FC9BB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4403-C6E1-41A5-8F47-8511047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E2DE-8ECB-4D3F-8733-5BBB1A3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6C70-921E-4666-92C5-2FB78391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4BBC-ECB2-4764-BB57-8288DC2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B00-7A59-4AEC-8B98-7CDE46D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9DE7-068E-4C2C-BF0B-3C1F25FD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763B-3EF1-422E-9290-BE98B10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CEDA6-BC44-4B91-9F65-DB64D159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C44E-002E-40E3-8D6B-A54D6965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2537-24AB-497F-B590-103272CD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4C35-5EE1-48A4-AC14-03095870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90678-5DCF-4DE5-A963-19AF5E01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A557-A191-4499-B375-58D84EB7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3248-97BA-4A48-B3BA-2FB2045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C43E4-EB37-4DA7-9FFB-05F434E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B67-BFDE-4C44-B561-A203236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2C46-87C7-43AC-B73C-BBF2648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E4A63-73F0-4068-B20D-3BBDD56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88188-CEE6-4F18-A4B5-62012016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3E795-280E-41D6-99FB-6720E03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98073-8AD6-4C31-930D-0E3436B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995E-3328-4483-9771-39DB8A5D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98D9F-C0A8-47DC-B4FA-18AD1D46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1573-9F39-455D-BECC-20F3555E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087D2-E50F-4973-9E32-8A01F369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D2F34-4C34-4F83-9691-3990A7EF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F68E-8373-4146-86BF-DA68DD7002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5E56-8318-4580-B3E4-DFB2876E6B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151-C832-40BE-80F2-821A85E297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6BB-0E34-444C-9921-1C566175AA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F25-3035-4430-8643-4886A311A2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37B0-512F-4DBB-97A3-4B4CB74965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34F-F06D-4AC9-98CB-FA27168C76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04E9-98CD-40A3-8AC3-0A4D68B562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A272-99B7-4E32-9BBF-C03A825C29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CED-2D25-4D8D-AE77-39B5BD3DD8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ru.wikipedia.org/wiki/&#208;&#152;&#208;&#183;&#208;&#190;&#208;&#177;&#209;&#128;&#208;&#176;&#208;&#182;&#208;&#181;&#208;&#189;&#208;&#184;&#208;&#181;:Elbrus_01.jpg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2;&#1059;&#1051;&#1050;&#1040;&#1053;&#1067;/&#1057;&#1090;&#1088;&#1086;&#1077;&#1085;&#1080;&#1077;%20&#1074;&#1091;&#1083;&#1082;&#1072;&#1085;&#1072;.files/shem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езентация к уроку географ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6 кла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285840"/>
            <a:ext cx="7499520" cy="621504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Великие вулканы мира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 М.Д. Комарова с использованием ресурсов интерне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etna1999"/>
          <p:cNvPicPr/>
          <p:nvPr/>
        </p:nvPicPr>
        <p:blipFill>
          <a:blip r:embed="rId1"/>
          <a:stretch/>
        </p:blipFill>
        <p:spPr>
          <a:xfrm>
            <a:off x="0" y="0"/>
            <a:ext cx="5029200" cy="3362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Hawai_b"/>
          <p:cNvPicPr/>
          <p:nvPr/>
        </p:nvPicPr>
        <p:blipFill>
          <a:blip r:embed="rId2"/>
          <a:stretch/>
        </p:blipFill>
        <p:spPr>
          <a:xfrm>
            <a:off x="3886200" y="3505320"/>
            <a:ext cx="5029200" cy="3143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lava_fountains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33940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1285920" y="3930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ав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т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00120" y="3571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Arial"/>
                <a:ea typeface="Arial"/>
              </a:rPr>
              <a:t>Везувий- древнейший действующий вулкан на юге Италии. Слава к вулкану пришла в 79 году н.э., тогда под пеплом и лавой  были погребены Помпея и Геркуланум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523" name="Picture 2" descr="C:\Documents and Settings\user\Рабочий стол\вулканы\везувий.jpg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0" descr="ramki2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200px-Cities-destroyed-by-Vesuvius"/>
          <p:cNvPicPr/>
          <p:nvPr/>
        </p:nvPicPr>
        <p:blipFill>
          <a:blip r:embed="rId2"/>
          <a:stretch/>
        </p:blipFill>
        <p:spPr>
          <a:xfrm>
            <a:off x="4643280" y="765000"/>
            <a:ext cx="3889440" cy="3635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200px-Pompeii_the_last_day_1"/>
          <p:cNvPicPr/>
          <p:nvPr/>
        </p:nvPicPr>
        <p:blipFill>
          <a:blip r:embed="rId3"/>
          <a:stretch/>
        </p:blipFill>
        <p:spPr>
          <a:xfrm>
            <a:off x="900000" y="2276640"/>
            <a:ext cx="3568680" cy="39607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3"/>
          <p:cNvSpPr/>
          <p:nvPr/>
        </p:nvSpPr>
        <p:spPr>
          <a:xfrm>
            <a:off x="688320" y="1052640"/>
            <a:ext cx="39542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звержение вулк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езу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4"/>
          <p:cNvSpPr/>
          <p:nvPr/>
        </p:nvSpPr>
        <p:spPr>
          <a:xfrm>
            <a:off x="7164360" y="2060640"/>
            <a:ext cx="360360" cy="3380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a7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048120" y="838080"/>
            <a:ext cx="29718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lin ang="5400000"/>
          </a:gra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улк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/>
          <p:cNvSpPr/>
          <p:nvPr/>
        </p:nvSpPr>
        <p:spPr>
          <a:xfrm rot="7641000">
            <a:off x="2412000" y="1702440"/>
            <a:ext cx="77652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 rot="5406600">
            <a:off x="4164840" y="1778400"/>
            <a:ext cx="77616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 rot="3334800">
            <a:off x="5993640" y="1702440"/>
            <a:ext cx="77652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80880" y="2286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3276720" y="2286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ух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5943600" y="2286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6095880" y="2286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609480" y="297180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вержение которых проходило на памяти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3352680" y="30481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 их извержении не сохранилось никаких с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6477120" y="30481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итавшиеся потухшими и вдруг начинают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5" descr="дейст вулкан ключевская сопка"/>
          <p:cNvPicPr/>
          <p:nvPr/>
        </p:nvPicPr>
        <p:blipFill>
          <a:blip r:embed="rId1"/>
          <a:stretch/>
        </p:blipFill>
        <p:spPr>
          <a:xfrm>
            <a:off x="914400" y="4419720"/>
            <a:ext cx="1689120" cy="2171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8" descr="эльбрус2"/>
          <p:cNvPicPr/>
          <p:nvPr/>
        </p:nvPicPr>
        <p:blipFill>
          <a:blip r:embed="rId2"/>
          <a:stretch/>
        </p:blipFill>
        <p:spPr>
          <a:xfrm>
            <a:off x="3124080" y="4443480"/>
            <a:ext cx="2667240" cy="185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2" descr="Толбачик"/>
          <p:cNvPicPr/>
          <p:nvPr/>
        </p:nvPicPr>
        <p:blipFill>
          <a:blip r:embed="rId3"/>
          <a:stretch/>
        </p:blipFill>
        <p:spPr>
          <a:xfrm>
            <a:off x="6248520" y="4495680"/>
            <a:ext cx="2565360" cy="1922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23"/>
          <p:cNvSpPr/>
          <p:nvPr/>
        </p:nvSpPr>
        <p:spPr>
          <a:xfrm>
            <a:off x="533520" y="64911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лючевская с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3276720" y="6324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640080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зу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26" descr="350px-Kibo_summit_of_Mt_Kilimanjaro_001"/>
          <p:cNvPicPr/>
          <p:nvPr/>
        </p:nvPicPr>
        <p:blipFill>
          <a:blip r:embed="rId1"/>
          <a:stretch/>
        </p:blipFill>
        <p:spPr>
          <a:xfrm>
            <a:off x="324000" y="189000"/>
            <a:ext cx="3024000" cy="22730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027"/>
          <p:cNvSpPr/>
          <p:nvPr/>
        </p:nvSpPr>
        <p:spPr>
          <a:xfrm>
            <a:off x="3492360" y="2714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лиманджа́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лкан на северо-востоке Танза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чайший пик Аф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28" descr="280px-Elbrus_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349360"/>
            <a:ext cx="3309840" cy="2303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29" descr="казбек3"/>
          <p:cNvPicPr/>
          <p:nvPr/>
        </p:nvPicPr>
        <p:blipFill>
          <a:blip r:embed="rId4"/>
          <a:stretch/>
        </p:blipFill>
        <p:spPr>
          <a:xfrm>
            <a:off x="5651640" y="4437000"/>
            <a:ext cx="3168360" cy="22464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30"/>
          <p:cNvSpPr/>
          <p:nvPr/>
        </p:nvSpPr>
        <p:spPr>
          <a:xfrm>
            <a:off x="6136560" y="2340000"/>
            <a:ext cx="2277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ьбр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чай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ш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казских 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31"/>
          <p:cNvSpPr/>
          <p:nvPr/>
        </p:nvSpPr>
        <p:spPr>
          <a:xfrm>
            <a:off x="320364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з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032"/>
          <p:cNvSpPr/>
          <p:nvPr/>
        </p:nvSpPr>
        <p:spPr>
          <a:xfrm>
            <a:off x="4859280" y="6237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33"/>
          <p:cNvSpPr/>
          <p:nvPr/>
        </p:nvSpPr>
        <p:spPr>
          <a:xfrm>
            <a:off x="250920" y="4653000"/>
            <a:ext cx="2627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улк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извергавш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46"/>
          <p:cNvGrpSpPr/>
          <p:nvPr/>
        </p:nvGrpSpPr>
        <p:grpSpPr>
          <a:xfrm>
            <a:off x="304920" y="1203480"/>
            <a:ext cx="8456760" cy="5045040"/>
            <a:chOff x="304920" y="1203480"/>
            <a:chExt cx="8456760" cy="5045040"/>
          </a:xfrm>
        </p:grpSpPr>
        <p:grpSp>
          <p:nvGrpSpPr>
            <p:cNvPr id="555" name="Group 34"/>
            <p:cNvGrpSpPr/>
            <p:nvPr/>
          </p:nvGrpSpPr>
          <p:grpSpPr>
            <a:xfrm>
              <a:off x="5029200" y="1219320"/>
              <a:ext cx="1980720" cy="685800"/>
              <a:chOff x="5029200" y="1219320"/>
              <a:chExt cx="1980720" cy="685800"/>
            </a:xfrm>
          </p:grpSpPr>
          <p:sp>
            <p:nvSpPr>
              <p:cNvPr id="556" name="Rectangle 5"/>
              <p:cNvSpPr/>
              <p:nvPr/>
            </p:nvSpPr>
            <p:spPr>
              <a:xfrm>
                <a:off x="5029200" y="1219320"/>
                <a:ext cx="1980720" cy="68580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6"/>
              <p:cNvSpPr/>
              <p:nvPr/>
            </p:nvSpPr>
            <p:spPr>
              <a:xfrm>
                <a:off x="5237280" y="12762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 суш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35"/>
            <p:cNvGrpSpPr/>
            <p:nvPr/>
          </p:nvGrpSpPr>
          <p:grpSpPr>
            <a:xfrm>
              <a:off x="5791320" y="2590920"/>
              <a:ext cx="2286000" cy="914400"/>
              <a:chOff x="5791320" y="2590920"/>
              <a:chExt cx="2286000" cy="914400"/>
            </a:xfrm>
          </p:grpSpPr>
          <p:sp>
            <p:nvSpPr>
              <p:cNvPr id="559" name="Rectangle 9"/>
              <p:cNvSpPr/>
              <p:nvPr/>
            </p:nvSpPr>
            <p:spPr>
              <a:xfrm>
                <a:off x="5791320" y="2590920"/>
                <a:ext cx="2286000" cy="91440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000094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0"/>
              <p:cNvSpPr/>
              <p:nvPr/>
            </p:nvSpPr>
            <p:spPr>
              <a:xfrm>
                <a:off x="5867280" y="2590920"/>
                <a:ext cx="2133720" cy="82548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атериковая земная кор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36"/>
            <p:cNvGrpSpPr/>
            <p:nvPr/>
          </p:nvGrpSpPr>
          <p:grpSpPr>
            <a:xfrm>
              <a:off x="5486400" y="4114800"/>
              <a:ext cx="2209320" cy="762120"/>
              <a:chOff x="5486400" y="4114800"/>
              <a:chExt cx="2209320" cy="762120"/>
            </a:xfrm>
          </p:grpSpPr>
          <p:sp>
            <p:nvSpPr>
              <p:cNvPr id="562" name="Rectangle 12"/>
              <p:cNvSpPr/>
              <p:nvPr/>
            </p:nvSpPr>
            <p:spPr>
              <a:xfrm>
                <a:off x="5486400" y="4114800"/>
                <a:ext cx="2133360" cy="76212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4"/>
              <p:cNvSpPr/>
              <p:nvPr/>
            </p:nvSpPr>
            <p:spPr>
              <a:xfrm>
                <a:off x="5562360" y="4177800"/>
                <a:ext cx="2133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 зоне разлом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37"/>
            <p:cNvGrpSpPr/>
            <p:nvPr/>
          </p:nvGrpSpPr>
          <p:grpSpPr>
            <a:xfrm>
              <a:off x="1447920" y="1203480"/>
              <a:ext cx="2057040" cy="777600"/>
              <a:chOff x="1447920" y="1203480"/>
              <a:chExt cx="2057040" cy="777600"/>
            </a:xfrm>
          </p:grpSpPr>
          <p:sp>
            <p:nvSpPr>
              <p:cNvPr id="565" name="Rectangle 16"/>
              <p:cNvSpPr/>
              <p:nvPr/>
            </p:nvSpPr>
            <p:spPr>
              <a:xfrm>
                <a:off x="1447920" y="1203480"/>
                <a:ext cx="2057040" cy="777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7"/>
              <p:cNvSpPr/>
              <p:nvPr/>
            </p:nvSpPr>
            <p:spPr>
              <a:xfrm>
                <a:off x="1664640" y="1268280"/>
                <a:ext cx="16239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 дне океа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38"/>
            <p:cNvGrpSpPr/>
            <p:nvPr/>
          </p:nvGrpSpPr>
          <p:grpSpPr>
            <a:xfrm>
              <a:off x="762120" y="2590920"/>
              <a:ext cx="2286000" cy="825480"/>
              <a:chOff x="762120" y="2590920"/>
              <a:chExt cx="2286000" cy="825480"/>
            </a:xfrm>
          </p:grpSpPr>
          <p:sp>
            <p:nvSpPr>
              <p:cNvPr id="568" name="Rectangle 19"/>
              <p:cNvSpPr/>
              <p:nvPr/>
            </p:nvSpPr>
            <p:spPr>
              <a:xfrm>
                <a:off x="762120" y="2590920"/>
                <a:ext cx="2286000" cy="358920"/>
              </a:xfrm>
              <a:prstGeom prst="rect">
                <a:avLst/>
              </a:prstGeom>
              <a:solidFill>
                <a:srgbClr val="f8f8f8"/>
              </a:soli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0"/>
              <p:cNvSpPr/>
              <p:nvPr/>
            </p:nvSpPr>
            <p:spPr>
              <a:xfrm>
                <a:off x="762120" y="2590920"/>
                <a:ext cx="2286000" cy="825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кеаническая земная кор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9"/>
            <p:cNvGrpSpPr/>
            <p:nvPr/>
          </p:nvGrpSpPr>
          <p:grpSpPr>
            <a:xfrm>
              <a:off x="1143000" y="4094280"/>
              <a:ext cx="2362320" cy="869040"/>
              <a:chOff x="1143000" y="4094280"/>
              <a:chExt cx="2362320" cy="869040"/>
            </a:xfrm>
          </p:grpSpPr>
          <p:sp>
            <p:nvSpPr>
              <p:cNvPr id="571" name="Rectangle 22"/>
              <p:cNvSpPr/>
              <p:nvPr/>
            </p:nvSpPr>
            <p:spPr>
              <a:xfrm>
                <a:off x="1143000" y="4094280"/>
                <a:ext cx="2286000" cy="83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3"/>
              <p:cNvSpPr/>
              <p:nvPr/>
            </p:nvSpPr>
            <p:spPr>
              <a:xfrm>
                <a:off x="1219320" y="4094280"/>
                <a:ext cx="228600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Лава прожига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емную кор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AutoShape 27"/>
            <p:cNvSpPr/>
            <p:nvPr/>
          </p:nvSpPr>
          <p:spPr>
            <a:xfrm rot="6721800">
              <a:off x="6629040" y="3690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40"/>
            <p:cNvGrpSpPr/>
            <p:nvPr/>
          </p:nvGrpSpPr>
          <p:grpSpPr>
            <a:xfrm>
              <a:off x="304920" y="5334120"/>
              <a:ext cx="8456760" cy="914400"/>
              <a:chOff x="304920" y="5334120"/>
              <a:chExt cx="8456760" cy="914400"/>
            </a:xfrm>
          </p:grpSpPr>
          <p:sp>
            <p:nvSpPr>
              <p:cNvPr id="575" name="AutoShape 32"/>
              <p:cNvSpPr/>
              <p:nvPr/>
            </p:nvSpPr>
            <p:spPr>
              <a:xfrm>
                <a:off x="304920" y="5334120"/>
                <a:ext cx="8456760" cy="914400"/>
              </a:xfrm>
              <a:custGeom>
                <a:avLst/>
                <a:gdLst>
                  <a:gd name="textAreaLeft" fmla="*/ 1930320 w 8456760"/>
                  <a:gd name="textAreaRight" fmla="*/ 6526440 w 8456760"/>
                  <a:gd name="textAreaTop" fmla="*/ 208800 h 914400"/>
                  <a:gd name="textAreaBottom" fmla="*/ 7056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29"/>
              <p:cNvSpPr/>
              <p:nvPr/>
            </p:nvSpPr>
            <p:spPr>
              <a:xfrm>
                <a:off x="930600" y="5622840"/>
                <a:ext cx="68911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4f271c"/>
                    </a:solidFill>
                    <a:latin typeface="Times New Roman"/>
                  </a:rPr>
                  <a:t>Вулкан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41"/>
            <p:cNvSpPr/>
            <p:nvPr/>
          </p:nvSpPr>
          <p:spPr>
            <a:xfrm rot="3681600">
              <a:off x="5943600" y="205740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42"/>
            <p:cNvSpPr/>
            <p:nvPr/>
          </p:nvSpPr>
          <p:spPr>
            <a:xfrm rot="6721800">
              <a:off x="6019200" y="5028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43"/>
            <p:cNvSpPr/>
            <p:nvPr/>
          </p:nvSpPr>
          <p:spPr>
            <a:xfrm rot="7261800">
              <a:off x="2286000" y="2133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44"/>
            <p:cNvSpPr/>
            <p:nvPr/>
          </p:nvSpPr>
          <p:spPr>
            <a:xfrm rot="3681600">
              <a:off x="1904400" y="35812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45"/>
            <p:cNvSpPr/>
            <p:nvPr/>
          </p:nvSpPr>
          <p:spPr>
            <a:xfrm rot="3681600">
              <a:off x="2361600" y="5028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d7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улканов больше на дне океанов, т.к. там тонкая земная кора, которую легче прожечь, а на суше вулканы встречаются в зоне расхождения литосферных плит т.е. в зоне разл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3" name="Picture 4" descr="Рисунок17"/>
          <p:cNvPicPr/>
          <p:nvPr/>
        </p:nvPicPr>
        <p:blipFill>
          <a:blip r:embed="rId1"/>
          <a:stretch/>
        </p:blipFill>
        <p:spPr>
          <a:xfrm>
            <a:off x="631800" y="2170080"/>
            <a:ext cx="79614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екла- стратовулкан расположенный на юге Исланд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(с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74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года извергался более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раз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5" name="Picture 2" descr="C:\Documents and Settings\user\Рабочий стол\вулканы\гекла.jpg"/>
          <p:cNvPicPr/>
          <p:nvPr/>
        </p:nvPicPr>
        <p:blipFill>
          <a:blip r:embed="rId1"/>
          <a:stretch/>
        </p:blipFill>
        <p:spPr>
          <a:xfrm>
            <a:off x="1143000" y="164304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лючевская сопка- действующий вулкан на востоке Камчат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7" name="Picture 2" descr="C:\Documents and Settings\user\Рабочий стол\вулканы\ключевская сопка.jpg"/>
          <p:cNvPicPr/>
          <p:nvPr/>
        </p:nvPicPr>
        <p:blipFill>
          <a:blip r:embed="rId1"/>
          <a:stretch/>
        </p:blipFill>
        <p:spPr>
          <a:xfrm>
            <a:off x="1571760" y="1500120"/>
            <a:ext cx="72151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505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илиманджаро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самая высшая точка Африки и самый высокий вулкан мира 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9" name="Picture 2" descr="C:\Documents and Settings\user\Рабочий стол\вулканы\килиманджаро.jpg"/>
          <p:cNvPicPr/>
          <p:nvPr/>
        </p:nvPicPr>
        <p:blipFill>
          <a:blip r:embed="rId1"/>
          <a:stretch/>
        </p:blipFill>
        <p:spPr>
          <a:xfrm>
            <a:off x="1357200" y="1571760"/>
            <a:ext cx="3786480" cy="4429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C:\Documents and Settings\user\Рабочий стол\вулканы\килиманджаро 1.jpg"/>
          <p:cNvPicPr/>
          <p:nvPr/>
        </p:nvPicPr>
        <p:blipFill>
          <a:blip r:embed="rId2"/>
          <a:stretch/>
        </p:blipFill>
        <p:spPr>
          <a:xfrm>
            <a:off x="5214960" y="1571760"/>
            <a:ext cx="36576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vul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Этна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самый высокий  вулкан Европ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2" name="Picture 2" descr="C:\Documents and Settings\user\Рабочий стол\вулканы\этна.jpg"/>
          <p:cNvPicPr/>
          <p:nvPr/>
        </p:nvPicPr>
        <p:blipFill>
          <a:blip r:embed="rId1"/>
          <a:stretch/>
        </p:blipFill>
        <p:spPr>
          <a:xfrm>
            <a:off x="2968560" y="1928880"/>
            <a:ext cx="4629240" cy="4000320"/>
          </a:xfrm>
          <a:prstGeom prst="rect">
            <a:avLst/>
          </a:prstGeom>
          <a:ln w="0">
            <a:noFill/>
          </a:ln>
        </p:spPr>
      </p:pic>
      <p:sp>
        <p:nvSpPr>
          <p:cNvPr id="593" name="Скругленный прямоугольник 4"/>
          <p:cNvSpPr/>
          <p:nvPr/>
        </p:nvSpPr>
        <p:spPr>
          <a:xfrm>
            <a:off x="6000840" y="5214960"/>
            <a:ext cx="1857240" cy="1000080"/>
          </a:xfrm>
          <a:prstGeom prst="roundRect">
            <a:avLst>
              <a:gd name="adj" fmla="val 16667"/>
            </a:avLst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амый а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Фудзияма- высочайшая гора Япон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5" name="Picture 2" descr="C:\Documents and Settings\user\Рабочий стол\вулканы\фудзияма1.jpg"/>
          <p:cNvPicPr/>
          <p:nvPr/>
        </p:nvPicPr>
        <p:blipFill>
          <a:blip r:embed="rId1"/>
          <a:stretch/>
        </p:blipFill>
        <p:spPr>
          <a:xfrm>
            <a:off x="1434960" y="1500120"/>
            <a:ext cx="3657600" cy="4643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C:\Documents and Settings\user\Рабочий стол\вулканы\Фудзияма.jpg"/>
          <p:cNvPicPr/>
          <p:nvPr/>
        </p:nvPicPr>
        <p:blipFill>
          <a:blip r:embed="rId2"/>
          <a:stretch/>
        </p:blipFill>
        <p:spPr>
          <a:xfrm>
            <a:off x="5214960" y="1500120"/>
            <a:ext cx="365760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rbel"/>
              </a:rPr>
              <a:t>Крупнейшие вулканы планеты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Rectangle 3"/>
          <p:cNvSpPr/>
          <p:nvPr/>
        </p:nvSpPr>
        <p:spPr>
          <a:xfrm flipV="1">
            <a:off x="1403280" y="4035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819520" y="1447920"/>
          <a:ext cx="3614760" cy="4595760"/>
        </p:xfrm>
        <a:graphic>
          <a:graphicData uri="http://schemas.openxmlformats.org/drawingml/2006/table">
            <a:tbl>
              <a:tblPr/>
              <a:tblGrid>
                <a:gridCol w="1828800"/>
                <a:gridCol w="178596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вулк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й или потух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ская Соп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ув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бр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ff"/>
                          </a:solidFill>
                          <a:latin typeface="Times New Roman"/>
                          <a:ea typeface="Times New Roman"/>
                        </a:rPr>
                        <a:t>потух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кат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дзия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па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са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72"/>
          <p:cNvSpPr/>
          <p:nvPr/>
        </p:nvSpPr>
        <p:spPr>
          <a:xfrm>
            <a:off x="0" y="62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9d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31600" y="274320"/>
            <a:ext cx="69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Вулкан – Бог огня и кузнечного дела у древних римлян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12560" y="1600200"/>
            <a:ext cx="647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rbel"/>
              </a:rPr>
              <a:t>Вулкан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особая по форме и составу пород г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rbel"/>
              </a:rPr>
              <a:t>Вулка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отверстие, круглое или в виде трещины, через которое из глубин на земную поверхность поступает лава, вулканический пепел, газы и па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4" name="Picture 1028" descr="vulcan"/>
          <p:cNvPicPr/>
          <p:nvPr/>
        </p:nvPicPr>
        <p:blipFill>
          <a:blip r:embed="rId1"/>
          <a:stretch/>
        </p:blipFill>
        <p:spPr>
          <a:xfrm>
            <a:off x="155520" y="907920"/>
            <a:ext cx="1824120" cy="482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00000" y="476280"/>
            <a:ext cx="734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Строение вулка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0" y="1268280"/>
            <a:ext cx="4572000" cy="60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шевидное отверстие на вершине вулкана через которое на поверхность земли выходит лава, пепел, пар, вулканические бомб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по которому движется  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лавленное вещество мантии возникающее в отдельных очагах на разных глубинах верхней ман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вшаяся на поверхность магма. Температура 750 – 12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Скорость течения 300 – 500 метров в 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she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4187880" cy="50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478" name="WordArt 5"/>
          <p:cNvSpPr txBox="1"/>
          <p:nvPr/>
        </p:nvSpPr>
        <p:spPr>
          <a:xfrm>
            <a:off x="1403280" y="6021360"/>
            <a:ext cx="1790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чаг магм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9" name="WordArt 6"/>
          <p:cNvSpPr txBox="1"/>
          <p:nvPr/>
        </p:nvSpPr>
        <p:spPr>
          <a:xfrm rot="5400000">
            <a:off x="1296000" y="4039200"/>
            <a:ext cx="172692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р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0" name="WordArt 7"/>
          <p:cNvSpPr txBox="1"/>
          <p:nvPr/>
        </p:nvSpPr>
        <p:spPr>
          <a:xfrm>
            <a:off x="611280" y="206064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 flipV="1">
            <a:off x="1187280" y="2421000"/>
            <a:ext cx="648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 rot="10800000">
            <a:off x="1834920" y="2420640"/>
            <a:ext cx="649080" cy="360360"/>
          </a:xfrm>
          <a:prstGeom prst="pi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10"/>
          <p:cNvSpPr txBox="1"/>
          <p:nvPr/>
        </p:nvSpPr>
        <p:spPr>
          <a:xfrm>
            <a:off x="3203640" y="2492280"/>
            <a:ext cx="933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2626920" y="27082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12"/>
          <p:cNvSpPr txBox="1"/>
          <p:nvPr/>
        </p:nvSpPr>
        <p:spPr>
          <a:xfrm>
            <a:off x="4716360" y="1341360"/>
            <a:ext cx="14097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тер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WordArt 13"/>
          <p:cNvSpPr txBox="1"/>
          <p:nvPr/>
        </p:nvSpPr>
        <p:spPr>
          <a:xfrm>
            <a:off x="4284720" y="2852640"/>
            <a:ext cx="12999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рло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7" name="WordArt 14"/>
          <p:cNvSpPr txBox="1"/>
          <p:nvPr/>
        </p:nvSpPr>
        <p:spPr>
          <a:xfrm>
            <a:off x="4356000" y="3733920"/>
            <a:ext cx="1656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аг магмы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WordArt 15"/>
          <p:cNvSpPr txBox="1"/>
          <p:nvPr/>
        </p:nvSpPr>
        <p:spPr>
          <a:xfrm>
            <a:off x="4716360" y="5181480"/>
            <a:ext cx="9352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ва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чины образования вулканов, горячих источников, гейзер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вокупность процессов и явлений, связанных с движением магмы в верхней мантии, земной ко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оянные вет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оголетние ль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земные толчки и колебания земной поверх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ывы и смещения земной ко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рещины в земной ко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гревание подземных вод магмо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4292640"/>
            <a:ext cx="4032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Температура магмы составляет от 2000 до 2500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  <a:ea typeface="Arial"/>
              </a:rPr>
              <a:t>◦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 С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3" name="Picture 10" descr="лавовый поток"/>
          <p:cNvPicPr/>
          <p:nvPr/>
        </p:nvPicPr>
        <p:blipFill>
          <a:blip r:embed="rId2"/>
          <a:stretch/>
        </p:blipFill>
        <p:spPr>
          <a:xfrm rot="675000">
            <a:off x="4788000" y="2133720"/>
            <a:ext cx="3290760" cy="3916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94" name="Picture 7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4608720" cy="29383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6" name="Picture 7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аюдаг"/>
          <p:cNvPicPr/>
          <p:nvPr/>
        </p:nvPicPr>
        <p:blipFill>
          <a:blip r:embed="rId2"/>
          <a:stretch/>
        </p:blipFill>
        <p:spPr>
          <a:xfrm>
            <a:off x="539640" y="3789360"/>
            <a:ext cx="3810240" cy="263376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4"/>
          <p:cNvSpPr/>
          <p:nvPr/>
        </p:nvSpPr>
        <p:spPr>
          <a:xfrm>
            <a:off x="5076720" y="1916280"/>
            <a:ext cx="3384720" cy="10429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вулкан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755640" y="1916280"/>
            <a:ext cx="3384720" cy="1042920"/>
          </a:xfrm>
          <a:prstGeom prst="bevel">
            <a:avLst>
              <a:gd name="adj" fmla="val 12500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лакколиты)</a:t>
            </a: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916360" y="620640"/>
            <a:ext cx="3384360" cy="1042920"/>
          </a:xfrm>
          <a:prstGeom prst="bevel">
            <a:avLst>
              <a:gd name="adj" fmla="val 12500"/>
            </a:avLst>
          </a:prstGeom>
          <a:solidFill>
            <a:srgbClr val="bff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 flipH="1">
            <a:off x="2339640" y="1628640"/>
            <a:ext cx="576360" cy="28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6300720" y="1628640"/>
            <a:ext cx="576360" cy="28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4" descr="385610"/>
          <p:cNvPicPr/>
          <p:nvPr/>
        </p:nvPicPr>
        <p:blipFill>
          <a:blip r:embed="rId3"/>
          <a:stretch/>
        </p:blipFill>
        <p:spPr>
          <a:xfrm>
            <a:off x="4788000" y="378936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7"/>
          <p:cNvSpPr/>
          <p:nvPr/>
        </p:nvSpPr>
        <p:spPr>
          <a:xfrm>
            <a:off x="1547640" y="321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ю - Д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5943240" y="3141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кат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4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"/>
          <p:cNvSpPr/>
          <p:nvPr/>
        </p:nvSpPr>
        <p:spPr>
          <a:xfrm>
            <a:off x="682200" y="603720"/>
            <a:ext cx="685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улка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горы кони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, сложенные продук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 извер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3" descr="везувий 1"/>
          <p:cNvPicPr/>
          <p:nvPr/>
        </p:nvPicPr>
        <p:blipFill>
          <a:blip r:embed="rId2"/>
          <a:stretch/>
        </p:blipFill>
        <p:spPr>
          <a:xfrm>
            <a:off x="684360" y="2263680"/>
            <a:ext cx="5400360" cy="4046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09" name="Rectangle 15"/>
          <p:cNvSpPr/>
          <p:nvPr/>
        </p:nvSpPr>
        <p:spPr>
          <a:xfrm>
            <a:off x="6374160" y="3351240"/>
            <a:ext cx="20887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улк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зу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ВНУТРЕННЕЕ СТРОЕНИЕ ВУЛКАН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11" name="Picture 3" descr="Вулкан"/>
          <p:cNvPicPr/>
          <p:nvPr/>
        </p:nvPicPr>
        <p:blipFill>
          <a:blip r:embed="rId1"/>
          <a:srcRect l="13082" t="0" r="0" b="0"/>
          <a:stretch/>
        </p:blipFill>
        <p:spPr>
          <a:xfrm>
            <a:off x="0" y="83664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8"/>
          <p:cNvSpPr/>
          <p:nvPr/>
        </p:nvSpPr>
        <p:spPr>
          <a:xfrm rot="16200000">
            <a:off x="588240" y="714600"/>
            <a:ext cx="1081080" cy="1467000"/>
          </a:xfrm>
          <a:prstGeom prst="wedgeRoundRectCallout">
            <a:avLst>
              <a:gd name="adj1" fmla="val 23861"/>
              <a:gd name="adj2" fmla="val 134847"/>
              <a:gd name="adj3" fmla="val 16667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 rot="661800">
            <a:off x="6141600" y="2577600"/>
            <a:ext cx="1584360" cy="863640"/>
          </a:xfrm>
          <a:prstGeom prst="wedgeRoundRectCallout">
            <a:avLst>
              <a:gd name="adj1" fmla="val -103893"/>
              <a:gd name="adj2" fmla="val -2972"/>
              <a:gd name="adj3" fmla="val 1666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УСЫ 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7:10:15Z</dcterms:created>
  <dc:creator>user</dc:creator>
  <dc:description/>
  <dc:language>en-US</dc:language>
  <cp:lastModifiedBy>DNA7 X86</cp:lastModifiedBy>
  <dcterms:modified xsi:type="dcterms:W3CDTF">2012-05-18T16:51:19Z</dcterms:modified>
  <cp:revision>28</cp:revision>
  <dc:subject/>
  <dc:title>везувий</dc:title>
</cp:coreProperties>
</file>