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066-5296-4B01-B75C-82EF82AFF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1F1-E6B4-4C17-926A-3098383B0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ржение вулкана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8BE-8FB3-4409-A8EC-D3102961C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ю – Даг    Кракат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C26-9E2B-46AA-8970-92C38CD8D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17F-9E8D-4420-98BC-B7B2424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66F-7A1A-4ABD-9A07-8D0BE0C1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7A5B0-7E1B-4A8B-9521-D56B2AD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1104A-DF73-4820-86BF-A3486627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EB0D-14E4-48C4-9B8E-C1ED09F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F683A-F046-4D76-A92E-493576A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12E1A-647F-453F-A9DE-924E27B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81C4-56DD-440F-92BC-4BC55D9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5680-BC58-47A4-945E-CB93D4B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E4700-09FF-4992-A50D-B3508BF8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BEB9F-0239-4550-A42C-FEFE9BEA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3D3C5-C81A-4F15-AEAD-E52A2BE1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0D4-D77D-4E6A-B913-6F7ABC5C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E8C0-3E77-482F-BC95-43CF08A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6C919-CB52-44E1-AC43-75FD87A5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374EB-4C11-4A2B-8DE4-F05C3AE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A86E4-8169-4CA9-B335-0D95157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C77DC-51E5-4E59-B86E-861C3A2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F8EDB-52B4-40CD-8795-BAEB1AA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2B8A-A206-4470-8774-5380DD0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7E590-B324-4EF0-840F-765AF611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DEE0-0DFC-4C32-B872-CB1569E6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48814-9162-46E4-8121-35024E3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F53-E96F-4AD3-8B54-D9D2AE5B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7E5DF-DF5D-41C7-9DAC-D1D63576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A63-5AA6-4300-94FE-B3A5D4FA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AEDF-ABDF-42CE-B4CF-EEC4708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F4E8-85F8-4369-A7D9-19987CA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F3B1-4C20-429B-8AAE-2EE7D09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E55D-422B-4996-A844-5D148BB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EEC3-D68C-46A6-9595-9CE557C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E95-B3B2-4114-B3FC-F1F9610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8FE-1581-4B77-B866-024BAF31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CD76-2671-40EC-94CC-6E03F8BD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8324-1E72-4AF4-A5A1-73907A7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EBD4-DE3D-464B-8AC9-134708D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0B48-A7FF-4858-A710-5049F618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C7DA-5BDC-4A06-A9A9-4BAE99DA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F65B-FF62-4412-ADA6-C14F8D8C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7F4E-E87E-4B05-B5FE-3CADF4B3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F35F-66C7-43A4-A4AD-FC22536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B53C-988E-41E0-9FCE-0B9F3AC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0B51-1602-4100-A10F-C65E6F0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724-7BD8-4330-BDD2-39EB167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CE4E-8240-4318-BD7F-9394189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4DE3-82C6-4BBB-842E-55F3522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FC83-5C51-4872-997B-2423DA5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9772-76E0-40A4-84DA-3BA54356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9632-0315-4112-923E-F5430F62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ACE5-D5D4-47F7-82EC-D8ABFC8F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9287-FE28-4372-9B44-F3EF554D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34D6-6CFF-4080-AA16-BA2676E6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F0B4-BB26-4168-B873-1FA098E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DBB2-0175-498A-B537-F5B5B98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F0F-7BFF-43A6-AA2C-C213C385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53AD-F3B6-4A3F-821D-59B61B0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DED6-04FC-4D53-B1C6-60A2F9CF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FBB5-10BD-4A3A-86EA-71F140A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0306-AEB2-4625-895F-C13B6CE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81FA-6129-4073-9F76-2B42418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2CC0-5A34-4AB0-BCC4-FC579FF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ABB3-DE74-4B50-BF43-6F1BC3C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0EB4-A0E1-4160-A919-5B7678CC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99C0-5301-41E3-BFA6-EF6D3F51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88E0-180C-4D81-A672-6C00B419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AA2-F9E8-4608-9EBA-0DAF316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7CD4-C066-405C-8389-92C1A55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3732-4B27-428D-9AB1-5AF297D2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2CA6-03F2-45C1-9E63-B9675A6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F750-5ED3-4234-931F-3B3C7FB5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42DE-44E6-4B3B-B024-117BDBE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3AE84-73AB-4418-AB9D-ACC10D45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0CAA-D3FD-406F-8C83-194250A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DE81-98E4-43F1-8A98-1DA13CF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BD8E-ABBC-42A0-8EAF-AC3D26B2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0B30-8BF8-4BDF-A50B-CDFFAE6F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1A9-EB9C-4E28-A289-5A6BCB3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F955-732E-441C-A475-62F1293D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4727-5FEF-4F52-B2D1-C379729D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6849-4CCC-4E27-A36E-79CDA0C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F635-3C89-4B11-B608-3A4A8CB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A737A-7AD9-4C6D-8764-B7283954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8B40E-5778-46FE-B555-70ECDA0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702D-2B84-4771-99EA-ED66E873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31126-E87D-45D1-8382-DDC5224B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DB5B-2EB6-436B-B82F-16E77AE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D4AA-D637-4864-BF64-44178CA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074-ABFE-4333-8151-C545E2A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A80E9-4452-49A6-A5C2-91A3F72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98EC-988D-4554-8D93-42697B27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3179-9B89-45BF-8770-88F9569E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EA7F-053F-43AC-A269-C90A4B94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1B6EF-4913-4F04-A7C0-9F0D7A9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6311-270B-42B3-AF82-640B2E8F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6B4E2-F8B8-488B-8F91-657B2828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7C92-4AFD-4F36-91CB-8E82DA2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C33F-2E0E-41BD-A0AB-9860CB4C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0433-7231-412E-99E6-5A2DAD8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25B-55BD-4B05-8361-A5567AD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3922-A292-448A-89AC-FAF939C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E449-71C2-4E6D-AD54-89706E0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AAD0-5C11-4019-8184-12EB934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B49C-14E4-41C8-A1C7-7D5006C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B655-4BA6-4F19-AAAA-BA9C1F21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59D53-63FB-40A6-AFD3-24515AB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E1B25-0DD4-47AF-882B-38C19092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E03CB-70E0-4F1B-8BEE-FC2D568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0D57-AA68-46A1-A7DB-C4389297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C3F8B-E6AC-4E72-A018-2254E8A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3E7-6A9A-4D85-AA43-BE5A8C28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5206-758C-43C6-BE43-0A919DB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9962-3E0A-4538-A2B4-F1E2CC5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78B3-1FCF-4A73-B834-12BBF21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10C12-9404-4B91-AC31-7439630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9D6C-97DD-4581-9CB3-3A87B1CD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790A9-BCCF-4E98-B0EA-04292ACB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56CC-DAEE-431C-9245-98C045CF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701B-CA94-4FB8-9C30-1E59787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68B78-34E6-4673-BAAA-EF8BFC5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35D36-FA5D-4840-8824-F0DAAA1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1EE-780D-4CA4-948E-CA47742003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25FF-6453-43CE-95A6-44AE67024B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6BC6-12FC-4224-B50D-5E1D2802F9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DB2-4540-4667-9478-89F14DB110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BF60-0A61-4DEA-972D-B11CA994B1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05F-4681-4973-809C-382F29EA33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9B1-4AA1-476E-A0B1-65C86A5EB4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559B-1E92-4B04-B27A-1D7D73CD6B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8D1-244C-4747-8A27-FDEED3437E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E72-CE8B-4310-A19F-4815889DC6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Elbrus_01.jpg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59;&#1051;&#1050;&#1040;&#1053;&#1067;/&#1057;&#1090;&#1088;&#1086;&#1077;&#1085;&#1080;&#1077;%20&#1074;&#1091;&#1083;&#1082;&#1072;&#1085;&#1072;.files/shem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зентация к уроку географ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6 кла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285840"/>
            <a:ext cx="7499520" cy="621504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Великие вулканы мира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 М.Д. Комарова с использованием ресурсов интерне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etna1999"/>
          <p:cNvPicPr/>
          <p:nvPr/>
        </p:nvPicPr>
        <p:blipFill>
          <a:blip r:embed="rId1"/>
          <a:stretch/>
        </p:blipFill>
        <p:spPr>
          <a:xfrm>
            <a:off x="0" y="0"/>
            <a:ext cx="5029200" cy="3362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Hawai_b"/>
          <p:cNvPicPr/>
          <p:nvPr/>
        </p:nvPicPr>
        <p:blipFill>
          <a:blip r:embed="rId2"/>
          <a:stretch/>
        </p:blipFill>
        <p:spPr>
          <a:xfrm>
            <a:off x="3886200" y="3505320"/>
            <a:ext cx="5029200" cy="3143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lava_fountains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33940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1285920" y="3930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ав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т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00120" y="357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Arial"/>
                <a:ea typeface="Arial"/>
              </a:rPr>
              <a:t>Везувий- древнейший действующий вулкан на юге Италии. Слава к вулкану пришла в 79 году н.э., тогда под пеплом и лавой  были погребены Помпея и Геркуланум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523" name="Picture 2" descr="C:\Documents and Settings\user\Рабочий стол\вулканы\везувий.jpg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0" descr="ramki2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200px-Cities-destroyed-by-Vesuvius"/>
          <p:cNvPicPr/>
          <p:nvPr/>
        </p:nvPicPr>
        <p:blipFill>
          <a:blip r:embed="rId2"/>
          <a:stretch/>
        </p:blipFill>
        <p:spPr>
          <a:xfrm>
            <a:off x="4643280" y="765000"/>
            <a:ext cx="3889440" cy="3635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200px-Pompeii_the_last_day_1"/>
          <p:cNvPicPr/>
          <p:nvPr/>
        </p:nvPicPr>
        <p:blipFill>
          <a:blip r:embed="rId3"/>
          <a:stretch/>
        </p:blipFill>
        <p:spPr>
          <a:xfrm>
            <a:off x="900000" y="2276640"/>
            <a:ext cx="3568680" cy="39607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3"/>
          <p:cNvSpPr/>
          <p:nvPr/>
        </p:nvSpPr>
        <p:spPr>
          <a:xfrm>
            <a:off x="688320" y="1052640"/>
            <a:ext cx="39542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вержение вулк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езу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4"/>
          <p:cNvSpPr/>
          <p:nvPr/>
        </p:nvSpPr>
        <p:spPr>
          <a:xfrm>
            <a:off x="7164360" y="2060640"/>
            <a:ext cx="360360" cy="3380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a7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048120" y="838080"/>
            <a:ext cx="29718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5400000"/>
          </a:gra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улк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/>
          <p:cNvSpPr/>
          <p:nvPr/>
        </p:nvSpPr>
        <p:spPr>
          <a:xfrm rot="7641000">
            <a:off x="241200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 rot="5406600">
            <a:off x="4164840" y="1778400"/>
            <a:ext cx="77616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 rot="3334800">
            <a:off x="599364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8088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276720" y="2286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ух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943600" y="2286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6095880" y="2286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609480" y="297180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ержение которых проходило на памяти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352680" y="3048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их извержении не сохранилось никаких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6477120" y="30481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итавшиеся потухшими и вдруг начинают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5" descr="дейст вулкан ключевская сопка"/>
          <p:cNvPicPr/>
          <p:nvPr/>
        </p:nvPicPr>
        <p:blipFill>
          <a:blip r:embed="rId1"/>
          <a:stretch/>
        </p:blipFill>
        <p:spPr>
          <a:xfrm>
            <a:off x="914400" y="4419720"/>
            <a:ext cx="1689120" cy="2171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8" descr="эльбрус2"/>
          <p:cNvPicPr/>
          <p:nvPr/>
        </p:nvPicPr>
        <p:blipFill>
          <a:blip r:embed="rId2"/>
          <a:stretch/>
        </p:blipFill>
        <p:spPr>
          <a:xfrm>
            <a:off x="3124080" y="4443480"/>
            <a:ext cx="2667240" cy="185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2" descr="Толбачик"/>
          <p:cNvPicPr/>
          <p:nvPr/>
        </p:nvPicPr>
        <p:blipFill>
          <a:blip r:embed="rId3"/>
          <a:stretch/>
        </p:blipFill>
        <p:spPr>
          <a:xfrm>
            <a:off x="6248520" y="4495680"/>
            <a:ext cx="2565360" cy="1922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23"/>
          <p:cNvSpPr/>
          <p:nvPr/>
        </p:nvSpPr>
        <p:spPr>
          <a:xfrm>
            <a:off x="533520" y="64911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лючевская с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3276720" y="6324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640080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зу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26" descr="350px-Kibo_summit_of_Mt_Kilimanjaro_001"/>
          <p:cNvPicPr/>
          <p:nvPr/>
        </p:nvPicPr>
        <p:blipFill>
          <a:blip r:embed="rId1"/>
          <a:stretch/>
        </p:blipFill>
        <p:spPr>
          <a:xfrm>
            <a:off x="324000" y="189000"/>
            <a:ext cx="3024000" cy="22730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027"/>
          <p:cNvSpPr/>
          <p:nvPr/>
        </p:nvSpPr>
        <p:spPr>
          <a:xfrm>
            <a:off x="3492360" y="2714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́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лкан на северо-востоке Танза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ий пик Аф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28" descr="280px-Elbrus_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349360"/>
            <a:ext cx="3309840" cy="2303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29" descr="казбек3"/>
          <p:cNvPicPr/>
          <p:nvPr/>
        </p:nvPicPr>
        <p:blipFill>
          <a:blip r:embed="rId4"/>
          <a:stretch/>
        </p:blipFill>
        <p:spPr>
          <a:xfrm>
            <a:off x="5651640" y="4437000"/>
            <a:ext cx="3168360" cy="22464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30"/>
          <p:cNvSpPr/>
          <p:nvPr/>
        </p:nvSpPr>
        <p:spPr>
          <a:xfrm>
            <a:off x="6136560" y="2340000"/>
            <a:ext cx="2277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ьбр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ш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казских 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320364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з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032"/>
          <p:cNvSpPr/>
          <p:nvPr/>
        </p:nvSpPr>
        <p:spPr>
          <a:xfrm>
            <a:off x="4859280" y="6237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33"/>
          <p:cNvSpPr/>
          <p:nvPr/>
        </p:nvSpPr>
        <p:spPr>
          <a:xfrm>
            <a:off x="250920" y="4653000"/>
            <a:ext cx="2627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улк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извергавш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46"/>
          <p:cNvGrpSpPr/>
          <p:nvPr/>
        </p:nvGrpSpPr>
        <p:grpSpPr>
          <a:xfrm>
            <a:off x="304920" y="1203480"/>
            <a:ext cx="8456760" cy="5045040"/>
            <a:chOff x="304920" y="1203480"/>
            <a:chExt cx="8456760" cy="5045040"/>
          </a:xfrm>
        </p:grpSpPr>
        <p:grpSp>
          <p:nvGrpSpPr>
            <p:cNvPr id="555" name="Group 34"/>
            <p:cNvGrpSpPr/>
            <p:nvPr/>
          </p:nvGrpSpPr>
          <p:grpSpPr>
            <a:xfrm>
              <a:off x="5029200" y="1219320"/>
              <a:ext cx="1980720" cy="685800"/>
              <a:chOff x="5029200" y="1219320"/>
              <a:chExt cx="1980720" cy="685800"/>
            </a:xfrm>
          </p:grpSpPr>
          <p:sp>
            <p:nvSpPr>
              <p:cNvPr id="556" name="Rectangle 5"/>
              <p:cNvSpPr/>
              <p:nvPr/>
            </p:nvSpPr>
            <p:spPr>
              <a:xfrm>
                <a:off x="5029200" y="1219320"/>
                <a:ext cx="1980720" cy="6858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"/>
              <p:cNvSpPr/>
              <p:nvPr/>
            </p:nvSpPr>
            <p:spPr>
              <a:xfrm>
                <a:off x="5237280" y="12762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суш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35"/>
            <p:cNvGrpSpPr/>
            <p:nvPr/>
          </p:nvGrpSpPr>
          <p:grpSpPr>
            <a:xfrm>
              <a:off x="5791320" y="2590920"/>
              <a:ext cx="2286000" cy="914400"/>
              <a:chOff x="5791320" y="2590920"/>
              <a:chExt cx="2286000" cy="91440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5791320" y="2590920"/>
                <a:ext cx="2286000" cy="9144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000094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0"/>
              <p:cNvSpPr/>
              <p:nvPr/>
            </p:nvSpPr>
            <p:spPr>
              <a:xfrm>
                <a:off x="5867280" y="2590920"/>
                <a:ext cx="2133720" cy="8254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атериков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36"/>
            <p:cNvGrpSpPr/>
            <p:nvPr/>
          </p:nvGrpSpPr>
          <p:grpSpPr>
            <a:xfrm>
              <a:off x="5486400" y="4114800"/>
              <a:ext cx="2209320" cy="762120"/>
              <a:chOff x="5486400" y="4114800"/>
              <a:chExt cx="2209320" cy="762120"/>
            </a:xfrm>
          </p:grpSpPr>
          <p:sp>
            <p:nvSpPr>
              <p:cNvPr id="562" name="Rectangle 12"/>
              <p:cNvSpPr/>
              <p:nvPr/>
            </p:nvSpPr>
            <p:spPr>
              <a:xfrm>
                <a:off x="5486400" y="4114800"/>
                <a:ext cx="2133360" cy="76212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4"/>
              <p:cNvSpPr/>
              <p:nvPr/>
            </p:nvSpPr>
            <p:spPr>
              <a:xfrm>
                <a:off x="5562360" y="4177800"/>
                <a:ext cx="2133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зоне разлом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7"/>
            <p:cNvGrpSpPr/>
            <p:nvPr/>
          </p:nvGrpSpPr>
          <p:grpSpPr>
            <a:xfrm>
              <a:off x="1447920" y="1203480"/>
              <a:ext cx="2057040" cy="777600"/>
              <a:chOff x="1447920" y="1203480"/>
              <a:chExt cx="2057040" cy="777600"/>
            </a:xfrm>
          </p:grpSpPr>
          <p:sp>
            <p:nvSpPr>
              <p:cNvPr id="565" name="Rectangle 16"/>
              <p:cNvSpPr/>
              <p:nvPr/>
            </p:nvSpPr>
            <p:spPr>
              <a:xfrm>
                <a:off x="1447920" y="1203480"/>
                <a:ext cx="2057040" cy="777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7"/>
              <p:cNvSpPr/>
              <p:nvPr/>
            </p:nvSpPr>
            <p:spPr>
              <a:xfrm>
                <a:off x="1664640" y="1268280"/>
                <a:ext cx="16239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дне океа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38"/>
            <p:cNvGrpSpPr/>
            <p:nvPr/>
          </p:nvGrpSpPr>
          <p:grpSpPr>
            <a:xfrm>
              <a:off x="762120" y="2590920"/>
              <a:ext cx="2286000" cy="825480"/>
              <a:chOff x="762120" y="2590920"/>
              <a:chExt cx="2286000" cy="825480"/>
            </a:xfrm>
          </p:grpSpPr>
          <p:sp>
            <p:nvSpPr>
              <p:cNvPr id="568" name="Rectangle 19"/>
              <p:cNvSpPr/>
              <p:nvPr/>
            </p:nvSpPr>
            <p:spPr>
              <a:xfrm>
                <a:off x="762120" y="2590920"/>
                <a:ext cx="2286000" cy="358920"/>
              </a:xfrm>
              <a:prstGeom prst="rect">
                <a:avLst/>
              </a:prstGeom>
              <a:solidFill>
                <a:srgbClr val="f8f8f8"/>
              </a:soli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0"/>
              <p:cNvSpPr/>
              <p:nvPr/>
            </p:nvSpPr>
            <p:spPr>
              <a:xfrm>
                <a:off x="762120" y="2590920"/>
                <a:ext cx="2286000" cy="825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кеаническ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9"/>
            <p:cNvGrpSpPr/>
            <p:nvPr/>
          </p:nvGrpSpPr>
          <p:grpSpPr>
            <a:xfrm>
              <a:off x="1143000" y="4094280"/>
              <a:ext cx="2362320" cy="869040"/>
              <a:chOff x="1143000" y="4094280"/>
              <a:chExt cx="2362320" cy="869040"/>
            </a:xfrm>
          </p:grpSpPr>
          <p:sp>
            <p:nvSpPr>
              <p:cNvPr id="571" name="Rectangle 22"/>
              <p:cNvSpPr/>
              <p:nvPr/>
            </p:nvSpPr>
            <p:spPr>
              <a:xfrm>
                <a:off x="1143000" y="4094280"/>
                <a:ext cx="228600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3"/>
              <p:cNvSpPr/>
              <p:nvPr/>
            </p:nvSpPr>
            <p:spPr>
              <a:xfrm>
                <a:off x="1219320" y="4094280"/>
                <a:ext cx="228600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Лава прожига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емную кор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AutoShape 27"/>
            <p:cNvSpPr/>
            <p:nvPr/>
          </p:nvSpPr>
          <p:spPr>
            <a:xfrm rot="6721800">
              <a:off x="6629040" y="3690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40"/>
            <p:cNvGrpSpPr/>
            <p:nvPr/>
          </p:nvGrpSpPr>
          <p:grpSpPr>
            <a:xfrm>
              <a:off x="304920" y="5334120"/>
              <a:ext cx="8456760" cy="914400"/>
              <a:chOff x="304920" y="5334120"/>
              <a:chExt cx="8456760" cy="914400"/>
            </a:xfrm>
          </p:grpSpPr>
          <p:sp>
            <p:nvSpPr>
              <p:cNvPr id="575" name="AutoShape 32"/>
              <p:cNvSpPr/>
              <p:nvPr/>
            </p:nvSpPr>
            <p:spPr>
              <a:xfrm>
                <a:off x="304920" y="5334120"/>
                <a:ext cx="8456760" cy="914400"/>
              </a:xfrm>
              <a:custGeom>
                <a:avLst/>
                <a:gdLst>
                  <a:gd name="textAreaLeft" fmla="*/ 1930320 w 8456760"/>
                  <a:gd name="textAreaRight" fmla="*/ 6526440 w 8456760"/>
                  <a:gd name="textAreaTop" fmla="*/ 208800 h 914400"/>
                  <a:gd name="textAreaBottom" fmla="*/ 7056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29"/>
              <p:cNvSpPr/>
              <p:nvPr/>
            </p:nvSpPr>
            <p:spPr>
              <a:xfrm>
                <a:off x="930600" y="5622840"/>
                <a:ext cx="68911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4f271c"/>
                    </a:solidFill>
                    <a:latin typeface="Times New Roman"/>
                  </a:rPr>
                  <a:t>Вулкан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41"/>
            <p:cNvSpPr/>
            <p:nvPr/>
          </p:nvSpPr>
          <p:spPr>
            <a:xfrm rot="3681600">
              <a:off x="5943600" y="205740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42"/>
            <p:cNvSpPr/>
            <p:nvPr/>
          </p:nvSpPr>
          <p:spPr>
            <a:xfrm rot="6721800">
              <a:off x="60192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43"/>
            <p:cNvSpPr/>
            <p:nvPr/>
          </p:nvSpPr>
          <p:spPr>
            <a:xfrm rot="7261800">
              <a:off x="2286000" y="2133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4"/>
            <p:cNvSpPr/>
            <p:nvPr/>
          </p:nvSpPr>
          <p:spPr>
            <a:xfrm rot="3681600">
              <a:off x="1904400" y="35812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45"/>
            <p:cNvSpPr/>
            <p:nvPr/>
          </p:nvSpPr>
          <p:spPr>
            <a:xfrm rot="3681600">
              <a:off x="23616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d7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улканов больше на дне океанов, т.к. там тонкая земная кора, которую легче прожечь, а на суше вулканы встречаются в зоне расхождения литосферных плит т.е. в зоне разл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3" name="Picture 4" descr="Рисунок17"/>
          <p:cNvPicPr/>
          <p:nvPr/>
        </p:nvPicPr>
        <p:blipFill>
          <a:blip r:embed="rId1"/>
          <a:stretch/>
        </p:blipFill>
        <p:spPr>
          <a:xfrm>
            <a:off x="631800" y="2170080"/>
            <a:ext cx="79614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екла- стратовулкан расположенный на юге Исланд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с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74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года извергался более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раз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5" name="Picture 2" descr="C:\Documents and Settings\user\Рабочий стол\вулканы\гекла.jp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лючевская сопка- действующий вулкан на востоке Камчат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7" name="Picture 2" descr="C:\Documents and Settings\user\Рабочий стол\вулканы\ключевская сопк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151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505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илиманджаро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ая высшая точка Африки и самый высокий вулкан мира 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9" name="Picture 2" descr="C:\Documents and Settings\user\Рабочий стол\вулканы\килиманджаро.jpg"/>
          <p:cNvPicPr/>
          <p:nvPr/>
        </p:nvPicPr>
        <p:blipFill>
          <a:blip r:embed="rId1"/>
          <a:stretch/>
        </p:blipFill>
        <p:spPr>
          <a:xfrm>
            <a:off x="1357200" y="1571760"/>
            <a:ext cx="3786480" cy="4429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Documents and Settings\user\Рабочий стол\вулканы\килиманджаро 1.jpg"/>
          <p:cNvPicPr/>
          <p:nvPr/>
        </p:nvPicPr>
        <p:blipFill>
          <a:blip r:embed="rId2"/>
          <a:stretch/>
        </p:blipFill>
        <p:spPr>
          <a:xfrm>
            <a:off x="5214960" y="1571760"/>
            <a:ext cx="36576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vul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Этна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ый высокий  вулкан Европ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2" name="Picture 2" descr="C:\Documents and Settings\user\Рабочий стол\вулканы\этна.jpg"/>
          <p:cNvPicPr/>
          <p:nvPr/>
        </p:nvPicPr>
        <p:blipFill>
          <a:blip r:embed="rId1"/>
          <a:stretch/>
        </p:blipFill>
        <p:spPr>
          <a:xfrm>
            <a:off x="2968560" y="1928880"/>
            <a:ext cx="4629240" cy="4000320"/>
          </a:xfrm>
          <a:prstGeom prst="rect">
            <a:avLst/>
          </a:prstGeom>
          <a:ln w="0">
            <a:noFill/>
          </a:ln>
        </p:spPr>
      </p:pic>
      <p:sp>
        <p:nvSpPr>
          <p:cNvPr id="593" name="Скругленный прямоугольник 4"/>
          <p:cNvSpPr/>
          <p:nvPr/>
        </p:nvSpPr>
        <p:spPr>
          <a:xfrm>
            <a:off x="6000840" y="5214960"/>
            <a:ext cx="1857240" cy="1000080"/>
          </a:xfrm>
          <a:prstGeom prst="roundRect">
            <a:avLst>
              <a:gd name="adj" fmla="val 16667"/>
            </a:avLst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ый а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удзияма- высочайшая гора Япон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5" name="Picture 2" descr="C:\Documents and Settings\user\Рабочий стол\вулканы\фудзияма1.jpg"/>
          <p:cNvPicPr/>
          <p:nvPr/>
        </p:nvPicPr>
        <p:blipFill>
          <a:blip r:embed="rId1"/>
          <a:stretch/>
        </p:blipFill>
        <p:spPr>
          <a:xfrm>
            <a:off x="1434960" y="150012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C:\Documents and Settings\user\Рабочий стол\вулканы\Фудзияма.jpg"/>
          <p:cNvPicPr/>
          <p:nvPr/>
        </p:nvPicPr>
        <p:blipFill>
          <a:blip r:embed="rId2"/>
          <a:stretch/>
        </p:blipFill>
        <p:spPr>
          <a:xfrm>
            <a:off x="5214960" y="1500120"/>
            <a:ext cx="36576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rbel"/>
              </a:rPr>
              <a:t>Крупнейшие вулканы планеты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Rectangle 3"/>
          <p:cNvSpPr/>
          <p:nvPr/>
        </p:nvSpPr>
        <p:spPr>
          <a:xfrm flipV="1">
            <a:off x="1403280" y="4035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819520" y="1447920"/>
          <a:ext cx="3614760" cy="4595760"/>
        </p:xfrm>
        <a:graphic>
          <a:graphicData uri="http://schemas.openxmlformats.org/drawingml/2006/table">
            <a:tbl>
              <a:tblPr/>
              <a:tblGrid>
                <a:gridCol w="1828800"/>
                <a:gridCol w="178596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вул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й или потух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ская Со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ув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бр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ff"/>
                          </a:solidFill>
                          <a:latin typeface="Times New Roman"/>
                          <a:ea typeface="Times New Roman"/>
                        </a:rPr>
                        <a:t>потух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кат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дзия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па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са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72"/>
          <p:cNvSpPr/>
          <p:nvPr/>
        </p:nvSpPr>
        <p:spPr>
          <a:xfrm>
            <a:off x="0" y="62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9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69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Вулкан – Бог огня и кузнечного дела у древних римлян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12560" y="1600200"/>
            <a:ext cx="647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особая по форме и составу пород г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отверстие, круглое или в виде трещины, через которое из глубин на земную поверхность поступает лава, вулканический пепел, газы и па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4" name="Picture 1028" descr="vulcan"/>
          <p:cNvPicPr/>
          <p:nvPr/>
        </p:nvPicPr>
        <p:blipFill>
          <a:blip r:embed="rId1"/>
          <a:stretch/>
        </p:blipFill>
        <p:spPr>
          <a:xfrm>
            <a:off x="155520" y="907920"/>
            <a:ext cx="1824120" cy="482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00000" y="476280"/>
            <a:ext cx="734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Строение вулка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0" y="1268280"/>
            <a:ext cx="4572000" cy="60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шевидное отверстие на вершине вулкана через которое на поверхность земли выходит лава, пепел, пар, вулканические бомб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по которому движется  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лавленное вещество мантии возникающее в отдельных очагах на разных глубинах верхней ман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вшаяся на поверхность магма. Температура 750 – 12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Скорость течения 300 – 500 метров в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she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4187880" cy="50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478" name="WordArt 5"/>
          <p:cNvSpPr txBox="1"/>
          <p:nvPr/>
        </p:nvSpPr>
        <p:spPr>
          <a:xfrm>
            <a:off x="1403280" y="6021360"/>
            <a:ext cx="1790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чаг магм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9" name="WordArt 6"/>
          <p:cNvSpPr txBox="1"/>
          <p:nvPr/>
        </p:nvSpPr>
        <p:spPr>
          <a:xfrm rot="5400000">
            <a:off x="1296000" y="4039200"/>
            <a:ext cx="172692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р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0" name="WordArt 7"/>
          <p:cNvSpPr txBox="1"/>
          <p:nvPr/>
        </p:nvSpPr>
        <p:spPr>
          <a:xfrm>
            <a:off x="611280" y="20606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 flipV="1">
            <a:off x="1187280" y="2421000"/>
            <a:ext cx="648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 rot="10800000">
            <a:off x="1834920" y="2420640"/>
            <a:ext cx="649080" cy="360360"/>
          </a:xfrm>
          <a:prstGeom prst="pi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10"/>
          <p:cNvSpPr txBox="1"/>
          <p:nvPr/>
        </p:nvSpPr>
        <p:spPr>
          <a:xfrm>
            <a:off x="3203640" y="2492280"/>
            <a:ext cx="933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2626920" y="27082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12"/>
          <p:cNvSpPr txBox="1"/>
          <p:nvPr/>
        </p:nvSpPr>
        <p:spPr>
          <a:xfrm>
            <a:off x="4716360" y="1341360"/>
            <a:ext cx="14097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тер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WordArt 13"/>
          <p:cNvSpPr txBox="1"/>
          <p:nvPr/>
        </p:nvSpPr>
        <p:spPr>
          <a:xfrm>
            <a:off x="4284720" y="2852640"/>
            <a:ext cx="12999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рло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7" name="WordArt 14"/>
          <p:cNvSpPr txBox="1"/>
          <p:nvPr/>
        </p:nvSpPr>
        <p:spPr>
          <a:xfrm>
            <a:off x="4356000" y="3733920"/>
            <a:ext cx="1656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аг магмы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WordArt 15"/>
          <p:cNvSpPr txBox="1"/>
          <p:nvPr/>
        </p:nvSpPr>
        <p:spPr>
          <a:xfrm>
            <a:off x="4716360" y="5181480"/>
            <a:ext cx="9352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ва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чины образования вулканов, горячих источников, гейзер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вокупность процессов и явлений, связанных с движением магмы в верхней мантии,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оянные вет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оголетние ль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земные толчки и колебания земной поверх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ывы и смещения земной ко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рещины в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гревание подземных вод магмо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403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Температура магмы составляет от 2000 до 2500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  <a:ea typeface="Arial"/>
              </a:rPr>
              <a:t>◦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 С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3" name="Picture 10" descr="лавовый поток"/>
          <p:cNvPicPr/>
          <p:nvPr/>
        </p:nvPicPr>
        <p:blipFill>
          <a:blip r:embed="rId2"/>
          <a:stretch/>
        </p:blipFill>
        <p:spPr>
          <a:xfrm rot="675000">
            <a:off x="4788000" y="2133720"/>
            <a:ext cx="3290760" cy="3916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94" name="Picture 7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4608720" cy="29383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6" name="Picture 7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аюдаг"/>
          <p:cNvPicPr/>
          <p:nvPr/>
        </p:nvPicPr>
        <p:blipFill>
          <a:blip r:embed="rId2"/>
          <a:stretch/>
        </p:blipFill>
        <p:spPr>
          <a:xfrm>
            <a:off x="539640" y="3789360"/>
            <a:ext cx="3810240" cy="263376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4"/>
          <p:cNvSpPr/>
          <p:nvPr/>
        </p:nvSpPr>
        <p:spPr>
          <a:xfrm>
            <a:off x="507672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улкан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75564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лакколиты)</a:t>
            </a: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916360" y="620640"/>
            <a:ext cx="3384360" cy="1042920"/>
          </a:xfrm>
          <a:prstGeom prst="bevel">
            <a:avLst>
              <a:gd name="adj" fmla="val 12500"/>
            </a:avLst>
          </a:prstGeom>
          <a:solidFill>
            <a:srgbClr val="bff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H="1">
            <a:off x="233964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630072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4" descr="385610"/>
          <p:cNvPicPr/>
          <p:nvPr/>
        </p:nvPicPr>
        <p:blipFill>
          <a:blip r:embed="rId3"/>
          <a:stretch/>
        </p:blipFill>
        <p:spPr>
          <a:xfrm>
            <a:off x="4788000" y="378936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7"/>
          <p:cNvSpPr/>
          <p:nvPr/>
        </p:nvSpPr>
        <p:spPr>
          <a:xfrm>
            <a:off x="1547640" y="321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ю - Д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5943240" y="3141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кат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"/>
          <p:cNvSpPr/>
          <p:nvPr/>
        </p:nvSpPr>
        <p:spPr>
          <a:xfrm>
            <a:off x="682200" y="603720"/>
            <a:ext cx="685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улк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горы кон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, сложенные продук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 извер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3" descr="везувий 1"/>
          <p:cNvPicPr/>
          <p:nvPr/>
        </p:nvPicPr>
        <p:blipFill>
          <a:blip r:embed="rId2"/>
          <a:stretch/>
        </p:blipFill>
        <p:spPr>
          <a:xfrm>
            <a:off x="684360" y="2263680"/>
            <a:ext cx="5400360" cy="4046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09" name="Rectangle 15"/>
          <p:cNvSpPr/>
          <p:nvPr/>
        </p:nvSpPr>
        <p:spPr>
          <a:xfrm>
            <a:off x="6374160" y="3351240"/>
            <a:ext cx="2088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улк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ВНУТРЕННЕЕ СТРОЕНИЕ ВУЛКА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11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664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8"/>
          <p:cNvSpPr/>
          <p:nvPr/>
        </p:nvSpPr>
        <p:spPr>
          <a:xfrm rot="16200000">
            <a:off x="588240" y="714600"/>
            <a:ext cx="1081080" cy="1467000"/>
          </a:xfrm>
          <a:prstGeom prst="wedgeRoundRectCallout">
            <a:avLst>
              <a:gd name="adj1" fmla="val 23861"/>
              <a:gd name="adj2" fmla="val 134847"/>
              <a:gd name="adj3" fmla="val 16667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 rot="661800">
            <a:off x="6141600" y="2577600"/>
            <a:ext cx="1584360" cy="863640"/>
          </a:xfrm>
          <a:prstGeom prst="wedgeRoundRectCallout">
            <a:avLst>
              <a:gd name="adj1" fmla="val -103893"/>
              <a:gd name="adj2" fmla="val -2972"/>
              <a:gd name="adj3" fmla="val 1666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УСЫ 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7:10:15Z</dcterms:created>
  <dc:creator>user</dc:creator>
  <dc:description/>
  <dc:language>en-US</dc:language>
  <cp:lastModifiedBy>DNA7 X86</cp:lastModifiedBy>
  <dcterms:modified xsi:type="dcterms:W3CDTF">2012-05-18T16:51:19Z</dcterms:modified>
  <cp:revision>28</cp:revision>
  <dc:subject/>
  <dc:title>везувий</dc:title>
</cp:coreProperties>
</file>