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F715-2530-42BC-93C6-67B3484DF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3006-821E-4600-BD31-19846F37D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ржение вулкана Везу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E166-B52A-4B9F-8CAF-B0647CAA7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ю – Даг    Кракат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FBFB-CE2C-4A98-9266-5E078A61B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 Везу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954-AB7A-4016-ACCC-E590317A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C9D-75BB-41E5-BCF5-2FC8A378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F8372-9833-4373-97ED-B89B75F2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B4309-3CAD-40A0-A520-99975470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4094B-01FB-40B3-9EA8-24351DF8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E5AB8-A21A-4CBD-94D7-9CFB5A51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FF071-3F6E-4641-9313-8DB0638C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6A5A4-7495-47F5-B1BB-94894A3F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24E24-EAB0-4ED0-ACD6-22D8404E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9EF3D-44C1-4D22-8D63-DA425C7F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3F86F-64E3-491F-84D1-148A62F7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2D670-8B1B-418A-A703-4A75AD3A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186-6DCB-49BF-81FA-D524E2EE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F6277-B184-4BAC-A58C-B8FAFABD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DFC8E-6348-4614-A768-B76005C1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2D489-9F35-4FB7-8D36-49698F2F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C9C45-4BCF-4D6E-A441-5C672F28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4875F-4CDE-42D5-A7A4-3A440D4E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F0029-E052-42C8-9B6F-20A43A21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D322B-D029-46D1-AD0D-259FBCA6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4CFCB-956A-43BA-8878-26ACBB72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C51FA-9176-4AFE-BB45-71BBBE2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6724E-F542-498A-AAAB-DE749C66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D88-5F71-4522-8EAF-86AF3DAE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D10C8-84CE-4B6B-AECF-A27E1AF2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BC50-257F-4074-AD11-C6222BFC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9B47-E94B-4CF8-A9A6-4E3E75FE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048B-1248-49FB-979F-E2769499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0DE7-B923-4C84-8212-32CCA09C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CA91-CCF2-4FC5-B2F6-BDAA7E6A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43E4-ADCA-4B76-AE3F-891D023B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A573-395E-44F3-BB45-21854109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C67-E24F-4B37-8475-2FE748EB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B4C2-7B41-4AC4-BE2D-E0F60E88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46F9-C32D-4080-8116-FE4CDDC5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90C0-6D8D-42D3-90F7-F6C85BA9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6CB1-9408-4720-9823-CEA84056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E97D-D430-42B7-8EFE-D6E62A1E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8284-0ED8-4559-B031-BFE9DC50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D2CA-E0C9-4F18-93D0-EB425373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FE07A-F258-4446-ADB2-D2939863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65C86-497D-4FF0-AA20-24AF4A06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EA5B-1996-4266-8BF5-73701D76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178-72BE-448A-B417-AFD7E0E9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C695-5EC0-4ED0-8042-D9A6D848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997A-5C8B-4C13-89DA-4B7AEC0E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C1CB6-2A83-4BD9-AA08-D1DBCFAE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71E0-43AF-45FC-824E-2BBF57EF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38D7-E3C2-4E9B-8E48-6E942257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1DEE3-7927-4FD4-8A13-5F324565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12A2-FFAF-4373-9747-69361D06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3B0B-5D09-4183-8C65-2E57F38D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BF870-7B4B-4461-80CE-E243C0E5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68520-B45A-4855-AA79-F92AAAA6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2BA-18DF-4DF1-B095-594BC493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7ECE-07B7-4923-B1C4-F8A50171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83BC3-BCA1-4709-B803-19514692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DB91D-6A78-4272-868B-59F0514D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201D-0BD2-4EDE-B25F-F53C9B81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7D804-B814-43E4-A7D0-5E4D3BF9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5A6C-C4DE-48A4-979E-C02BBC74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1BF0D-7AB3-4106-BC1A-2F7CCB7D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65915-7B77-4676-B37C-CCBA24D5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F338-B7FA-4FDA-84C4-41BE37EB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5BC3E-BE0E-4965-85EC-E9FDA0CA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D6C-441B-4898-8E93-1CC08EAE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7589A-3101-4D7C-AF79-6EF3A919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DF9A7-7E9E-42DE-82F7-76DD14F2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54B3F-B308-4508-AD0A-7B128964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F8807-C981-423C-9308-8538FFEC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5DFE3-F0FE-4B9F-9F33-C3210047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15EAC-424D-40A6-AC22-FC1C5411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9457E-5804-4947-8205-58C3A590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45E21-DC06-459C-AAA1-07A3E27C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53E43-0D3B-49E8-8B9D-297F9585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A5212-854C-418E-957C-8BEB5756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28E-7F3F-49C5-B900-5E899724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1FD6B-0EFD-4B96-9DAA-75CE5304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FDA77-D4EA-44C4-A8EF-EDC3AD1C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5192A-301D-4A7F-B8C7-59F3F722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66162-3A04-441A-8CD1-A70935E1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3B915-1DFC-46DD-87F1-FD01466E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A86B7-710A-4A67-BDDB-64ABEBEC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DD842-06FF-48E5-ACBF-C3C7113E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5C9E2-F1B4-47C0-BFFB-53449D49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56F25-6940-4767-9DAE-52B927CF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8F885-E93B-48B0-AEF1-AF6F8B8C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F50-A5C4-4051-8045-AA68FAD6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0414A-9A14-4219-9C6F-E94ADB1D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D7E83-2BB1-4160-A3E0-FE080C47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B344C-49E2-4E6F-8490-4F8C7800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A86E0-2218-42F1-8470-5298424B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9CE4C-3F3C-4CD0-A873-5455413B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971C5-D8E5-4787-B808-3828A411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CAFF5-7637-434F-B62B-43949B1F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BFC53-92DE-41A5-BBD6-443B911B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848FE-747A-4A39-8567-F836D203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C9D5A-052D-45DA-871D-7B088DAC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3D6-3E0D-4A1C-BE47-1CA0751F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09FD1-451C-4C54-AD46-0BF4A5F6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2CCBB-B0DF-4A08-8CFD-149CEDAA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E8575-C8E9-407F-A59C-C93968D2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AC400-470C-4A44-BCAA-0524B43D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CF08A-8767-4F47-B463-9E294089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811AB-F0F6-4042-9CC1-D19D8185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08D6D-0B72-42DC-8A02-A6C4F3BD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053BB-E376-4565-8D13-D0ECBAB8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3BBD0-B9A1-4617-9B87-067FBA97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D9E97-A7CC-4388-9215-026DEDB0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1B3-C8FE-4ACF-AFA4-5172E198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4A053-6C01-422B-9678-2058F660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5E683-6643-4D0A-9559-0AF119D6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E37E9-3F0B-493B-AC5D-A49B3CD3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D4D0C-4D63-4630-88AB-6CF93611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2E145-08D9-497D-BAB9-76C59ABF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70465-7C75-4F72-808C-036D4AC9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4A564-7BA3-4B60-8E25-4F9B6871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186D5-0AF8-4E05-929E-19FB1201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05FF2-89F2-48B6-9671-F96E7FAC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814C9-5857-4B34-9283-989995DD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43AE-72E1-45AE-839B-2FF00D6DC08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C9DB-7B8A-4588-BDC6-44177937D8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7D25-4697-4F02-8BEF-AC09CFA583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8D21-557A-4589-ACFA-479BA729244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8FBB-3947-4C7F-B2FB-782BDCA478F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5518-AEA0-4884-82FA-C5AAEB7461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A39C-0895-40BD-90C8-BB0FB6B90B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706A-F7ED-48C7-8379-2AE356E89C2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CE60-139A-4C8D-8568-09133087F3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7C58-8558-4A73-8987-B901485D10F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ru.wikipedia.org/wiki/&#208;&#152;&#208;&#183;&#208;&#190;&#208;&#177;&#209;&#128;&#208;&#176;&#208;&#182;&#208;&#181;&#208;&#189;&#208;&#184;&#208;&#181;:Elbrus_01.jpg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2;&#1059;&#1051;&#1050;&#1040;&#1053;&#1067;/&#1057;&#1090;&#1088;&#1086;&#1077;&#1085;&#1080;&#1077;%20&#1074;&#1091;&#1083;&#1082;&#1072;&#1085;&#1072;.files/shem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c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d5998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езентация к уроку географии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6 клас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285840"/>
            <a:ext cx="7499520" cy="6215040"/>
          </a:xfrm>
          <a:prstGeom prst="rect">
            <a:avLst/>
          </a:prstGeom>
          <a:solidFill>
            <a:srgbClr val="d59988"/>
          </a:solidFill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Великие вулканы мира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географии М.Д. Комарова с использованием ресурсов интерне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etna1999"/>
          <p:cNvPicPr/>
          <p:nvPr/>
        </p:nvPicPr>
        <p:blipFill>
          <a:blip r:embed="rId1"/>
          <a:stretch/>
        </p:blipFill>
        <p:spPr>
          <a:xfrm>
            <a:off x="0" y="0"/>
            <a:ext cx="5029200" cy="33624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Hawai_b"/>
          <p:cNvPicPr/>
          <p:nvPr/>
        </p:nvPicPr>
        <p:blipFill>
          <a:blip r:embed="rId2"/>
          <a:stretch/>
        </p:blipFill>
        <p:spPr>
          <a:xfrm>
            <a:off x="3886200" y="3505320"/>
            <a:ext cx="5029200" cy="3143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lava_fountains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339408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5"/>
          <p:cNvSpPr/>
          <p:nvPr/>
        </p:nvSpPr>
        <p:spPr>
          <a:xfrm>
            <a:off x="1285920" y="3930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аво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от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00120" y="3571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Arial"/>
                <a:ea typeface="Arial"/>
              </a:rPr>
              <a:t>Везувий- древнейший действующий вулкан на юге Италии. Слава к вулкану пришла в 79 году н.э., тогда под пеплом и лавой  были погребены Помпея и Геркуланум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523" name="Picture 2" descr="C:\Documents and Settings\user\Рабочий стол\вулканы\везувий.jpg"/>
          <p:cNvPicPr/>
          <p:nvPr/>
        </p:nvPicPr>
        <p:blipFill>
          <a:blip r:embed="rId1"/>
          <a:stretch/>
        </p:blipFill>
        <p:spPr>
          <a:xfrm>
            <a:off x="1523880" y="1857240"/>
            <a:ext cx="726300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0" descr="ramki2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200px-Cities-destroyed-by-Vesuvius"/>
          <p:cNvPicPr/>
          <p:nvPr/>
        </p:nvPicPr>
        <p:blipFill>
          <a:blip r:embed="rId2"/>
          <a:stretch/>
        </p:blipFill>
        <p:spPr>
          <a:xfrm>
            <a:off x="4643280" y="765000"/>
            <a:ext cx="3889440" cy="3635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200px-Pompeii_the_last_day_1"/>
          <p:cNvPicPr/>
          <p:nvPr/>
        </p:nvPicPr>
        <p:blipFill>
          <a:blip r:embed="rId3"/>
          <a:stretch/>
        </p:blipFill>
        <p:spPr>
          <a:xfrm>
            <a:off x="900000" y="2276640"/>
            <a:ext cx="3568680" cy="39607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3"/>
          <p:cNvSpPr/>
          <p:nvPr/>
        </p:nvSpPr>
        <p:spPr>
          <a:xfrm>
            <a:off x="688320" y="1052640"/>
            <a:ext cx="39542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звержение вулк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езу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4"/>
          <p:cNvSpPr/>
          <p:nvPr/>
        </p:nvSpPr>
        <p:spPr>
          <a:xfrm>
            <a:off x="7164360" y="2060640"/>
            <a:ext cx="360360" cy="3380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a7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3048120" y="838080"/>
            <a:ext cx="29718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00"/>
              </a:gs>
            </a:gsLst>
            <a:lin ang="5400000"/>
          </a:gradFill>
          <a:ln cap="sq"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улк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"/>
          <p:cNvSpPr/>
          <p:nvPr/>
        </p:nvSpPr>
        <p:spPr>
          <a:xfrm rot="7641000">
            <a:off x="2412000" y="1702440"/>
            <a:ext cx="776520" cy="41904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4"/>
          <p:cNvSpPr/>
          <p:nvPr/>
        </p:nvSpPr>
        <p:spPr>
          <a:xfrm rot="5406600">
            <a:off x="4164840" y="1778400"/>
            <a:ext cx="776160" cy="41904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5"/>
          <p:cNvSpPr/>
          <p:nvPr/>
        </p:nvSpPr>
        <p:spPr>
          <a:xfrm rot="3334800">
            <a:off x="5993640" y="1702440"/>
            <a:ext cx="776520" cy="41904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7d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380880" y="2286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3276720" y="2286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ух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5943600" y="2286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6095880" y="22860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нув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609480" y="297180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вержение которых проходило на памяти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3352680" y="30481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 их извержении не сохранилось никаких с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6477120" y="30481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читавшиеся потухшими и вдруг начинают дей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5" descr="дейст вулкан ключевская сопка"/>
          <p:cNvPicPr/>
          <p:nvPr/>
        </p:nvPicPr>
        <p:blipFill>
          <a:blip r:embed="rId1"/>
          <a:stretch/>
        </p:blipFill>
        <p:spPr>
          <a:xfrm>
            <a:off x="914400" y="4419720"/>
            <a:ext cx="1689120" cy="2171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8" descr="эльбрус2"/>
          <p:cNvPicPr/>
          <p:nvPr/>
        </p:nvPicPr>
        <p:blipFill>
          <a:blip r:embed="rId2"/>
          <a:stretch/>
        </p:blipFill>
        <p:spPr>
          <a:xfrm>
            <a:off x="3124080" y="4443480"/>
            <a:ext cx="2667240" cy="185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2" descr="Толбачик"/>
          <p:cNvPicPr/>
          <p:nvPr/>
        </p:nvPicPr>
        <p:blipFill>
          <a:blip r:embed="rId3"/>
          <a:stretch/>
        </p:blipFill>
        <p:spPr>
          <a:xfrm>
            <a:off x="6248520" y="4495680"/>
            <a:ext cx="2565360" cy="1922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23"/>
          <p:cNvSpPr/>
          <p:nvPr/>
        </p:nvSpPr>
        <p:spPr>
          <a:xfrm>
            <a:off x="533520" y="649116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лючевская со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3276720" y="6324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льб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6400800" y="6324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езу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0e4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026" descr="350px-Kibo_summit_of_Mt_Kilimanjaro_001"/>
          <p:cNvPicPr/>
          <p:nvPr/>
        </p:nvPicPr>
        <p:blipFill>
          <a:blip r:embed="rId1"/>
          <a:stretch/>
        </p:blipFill>
        <p:spPr>
          <a:xfrm>
            <a:off x="324000" y="189000"/>
            <a:ext cx="3024000" cy="22730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027"/>
          <p:cNvSpPr/>
          <p:nvPr/>
        </p:nvSpPr>
        <p:spPr>
          <a:xfrm>
            <a:off x="3492360" y="27144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лиманджа́р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лкан на северо-востоке Танза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чайший пик Аф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028" descr="280px-Elbrus_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2349360"/>
            <a:ext cx="3309840" cy="23036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029" descr="казбек3"/>
          <p:cNvPicPr/>
          <p:nvPr/>
        </p:nvPicPr>
        <p:blipFill>
          <a:blip r:embed="rId4"/>
          <a:stretch/>
        </p:blipFill>
        <p:spPr>
          <a:xfrm>
            <a:off x="5651640" y="4437000"/>
            <a:ext cx="3168360" cy="22464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030"/>
          <p:cNvSpPr/>
          <p:nvPr/>
        </p:nvSpPr>
        <p:spPr>
          <a:xfrm>
            <a:off x="6136560" y="2340000"/>
            <a:ext cx="2277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ьбру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чайш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ш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вказских 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31"/>
          <p:cNvSpPr/>
          <p:nvPr/>
        </p:nvSpPr>
        <p:spPr>
          <a:xfrm>
            <a:off x="3203640" y="59500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з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032"/>
          <p:cNvSpPr/>
          <p:nvPr/>
        </p:nvSpPr>
        <p:spPr>
          <a:xfrm>
            <a:off x="4859280" y="6237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33"/>
          <p:cNvSpPr/>
          <p:nvPr/>
        </p:nvSpPr>
        <p:spPr>
          <a:xfrm>
            <a:off x="250920" y="4653000"/>
            <a:ext cx="2627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улк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извергавш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46"/>
          <p:cNvGrpSpPr/>
          <p:nvPr/>
        </p:nvGrpSpPr>
        <p:grpSpPr>
          <a:xfrm>
            <a:off x="304920" y="1203480"/>
            <a:ext cx="8456760" cy="5045040"/>
            <a:chOff x="304920" y="1203480"/>
            <a:chExt cx="8456760" cy="5045040"/>
          </a:xfrm>
        </p:grpSpPr>
        <p:grpSp>
          <p:nvGrpSpPr>
            <p:cNvPr id="555" name="Group 34"/>
            <p:cNvGrpSpPr/>
            <p:nvPr/>
          </p:nvGrpSpPr>
          <p:grpSpPr>
            <a:xfrm>
              <a:off x="5029200" y="1219320"/>
              <a:ext cx="1980720" cy="685800"/>
              <a:chOff x="5029200" y="1219320"/>
              <a:chExt cx="1980720" cy="685800"/>
            </a:xfrm>
          </p:grpSpPr>
          <p:sp>
            <p:nvSpPr>
              <p:cNvPr id="556" name="Rectangle 5"/>
              <p:cNvSpPr/>
              <p:nvPr/>
            </p:nvSpPr>
            <p:spPr>
              <a:xfrm>
                <a:off x="5029200" y="1219320"/>
                <a:ext cx="1980720" cy="68580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ffff"/>
                  </a:gs>
                </a:gsLst>
                <a:lin ang="5400000"/>
              </a:gra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6"/>
              <p:cNvSpPr/>
              <p:nvPr/>
            </p:nvSpPr>
            <p:spPr>
              <a:xfrm>
                <a:off x="5237280" y="1276200"/>
                <a:ext cx="156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а суш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35"/>
            <p:cNvGrpSpPr/>
            <p:nvPr/>
          </p:nvGrpSpPr>
          <p:grpSpPr>
            <a:xfrm>
              <a:off x="5791320" y="2590920"/>
              <a:ext cx="2286000" cy="914400"/>
              <a:chOff x="5791320" y="2590920"/>
              <a:chExt cx="2286000" cy="914400"/>
            </a:xfrm>
          </p:grpSpPr>
          <p:sp>
            <p:nvSpPr>
              <p:cNvPr id="559" name="Rectangle 9"/>
              <p:cNvSpPr/>
              <p:nvPr/>
            </p:nvSpPr>
            <p:spPr>
              <a:xfrm>
                <a:off x="5791320" y="2590920"/>
                <a:ext cx="2286000" cy="91440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000094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10"/>
              <p:cNvSpPr/>
              <p:nvPr/>
            </p:nvSpPr>
            <p:spPr>
              <a:xfrm>
                <a:off x="5867280" y="2590920"/>
                <a:ext cx="2133720" cy="82548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атериковая земная кор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36"/>
            <p:cNvGrpSpPr/>
            <p:nvPr/>
          </p:nvGrpSpPr>
          <p:grpSpPr>
            <a:xfrm>
              <a:off x="5486400" y="4114800"/>
              <a:ext cx="2209320" cy="762120"/>
              <a:chOff x="5486400" y="4114800"/>
              <a:chExt cx="2209320" cy="762120"/>
            </a:xfrm>
          </p:grpSpPr>
          <p:sp>
            <p:nvSpPr>
              <p:cNvPr id="562" name="Rectangle 12"/>
              <p:cNvSpPr/>
              <p:nvPr/>
            </p:nvSpPr>
            <p:spPr>
              <a:xfrm>
                <a:off x="5486400" y="4114800"/>
                <a:ext cx="2133360" cy="76212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ffff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4"/>
              <p:cNvSpPr/>
              <p:nvPr/>
            </p:nvSpPr>
            <p:spPr>
              <a:xfrm>
                <a:off x="5562360" y="4177800"/>
                <a:ext cx="21333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 зоне разлом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37"/>
            <p:cNvGrpSpPr/>
            <p:nvPr/>
          </p:nvGrpSpPr>
          <p:grpSpPr>
            <a:xfrm>
              <a:off x="1447920" y="1203480"/>
              <a:ext cx="2057040" cy="777600"/>
              <a:chOff x="1447920" y="1203480"/>
              <a:chExt cx="2057040" cy="777600"/>
            </a:xfrm>
          </p:grpSpPr>
          <p:sp>
            <p:nvSpPr>
              <p:cNvPr id="565" name="Rectangle 16"/>
              <p:cNvSpPr/>
              <p:nvPr/>
            </p:nvSpPr>
            <p:spPr>
              <a:xfrm>
                <a:off x="1447920" y="1203480"/>
                <a:ext cx="2057040" cy="777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17"/>
              <p:cNvSpPr/>
              <p:nvPr/>
            </p:nvSpPr>
            <p:spPr>
              <a:xfrm>
                <a:off x="1664640" y="1268280"/>
                <a:ext cx="162396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а дне океан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38"/>
            <p:cNvGrpSpPr/>
            <p:nvPr/>
          </p:nvGrpSpPr>
          <p:grpSpPr>
            <a:xfrm>
              <a:off x="762120" y="2590920"/>
              <a:ext cx="2286000" cy="825480"/>
              <a:chOff x="762120" y="2590920"/>
              <a:chExt cx="2286000" cy="825480"/>
            </a:xfrm>
          </p:grpSpPr>
          <p:sp>
            <p:nvSpPr>
              <p:cNvPr id="568" name="Rectangle 19"/>
              <p:cNvSpPr/>
              <p:nvPr/>
            </p:nvSpPr>
            <p:spPr>
              <a:xfrm>
                <a:off x="762120" y="2590920"/>
                <a:ext cx="2286000" cy="358920"/>
              </a:xfrm>
              <a:prstGeom prst="rect">
                <a:avLst/>
              </a:prstGeom>
              <a:solidFill>
                <a:srgbClr val="f8f8f8"/>
              </a:soli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0"/>
              <p:cNvSpPr/>
              <p:nvPr/>
            </p:nvSpPr>
            <p:spPr>
              <a:xfrm>
                <a:off x="762120" y="2590920"/>
                <a:ext cx="2286000" cy="825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кеаническая земная кор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39"/>
            <p:cNvGrpSpPr/>
            <p:nvPr/>
          </p:nvGrpSpPr>
          <p:grpSpPr>
            <a:xfrm>
              <a:off x="1143000" y="4094280"/>
              <a:ext cx="2362320" cy="869040"/>
              <a:chOff x="1143000" y="4094280"/>
              <a:chExt cx="2362320" cy="869040"/>
            </a:xfrm>
          </p:grpSpPr>
          <p:sp>
            <p:nvSpPr>
              <p:cNvPr id="571" name="Rectangle 22"/>
              <p:cNvSpPr/>
              <p:nvPr/>
            </p:nvSpPr>
            <p:spPr>
              <a:xfrm>
                <a:off x="1143000" y="4094280"/>
                <a:ext cx="2286000" cy="838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23"/>
              <p:cNvSpPr/>
              <p:nvPr/>
            </p:nvSpPr>
            <p:spPr>
              <a:xfrm>
                <a:off x="1219320" y="4094280"/>
                <a:ext cx="228600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Лава прожигае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емную кор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AutoShape 27"/>
            <p:cNvSpPr/>
            <p:nvPr/>
          </p:nvSpPr>
          <p:spPr>
            <a:xfrm rot="6721800">
              <a:off x="6629040" y="36907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80000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40"/>
            <p:cNvGrpSpPr/>
            <p:nvPr/>
          </p:nvGrpSpPr>
          <p:grpSpPr>
            <a:xfrm>
              <a:off x="304920" y="5334120"/>
              <a:ext cx="8456760" cy="914400"/>
              <a:chOff x="304920" y="5334120"/>
              <a:chExt cx="8456760" cy="914400"/>
            </a:xfrm>
          </p:grpSpPr>
          <p:sp>
            <p:nvSpPr>
              <p:cNvPr id="575" name="AutoShape 32"/>
              <p:cNvSpPr/>
              <p:nvPr/>
            </p:nvSpPr>
            <p:spPr>
              <a:xfrm>
                <a:off x="304920" y="5334120"/>
                <a:ext cx="8456760" cy="914400"/>
              </a:xfrm>
              <a:custGeom>
                <a:avLst/>
                <a:gdLst>
                  <a:gd name="textAreaLeft" fmla="*/ 1930320 w 8456760"/>
                  <a:gd name="textAreaRight" fmla="*/ 6526440 w 8456760"/>
                  <a:gd name="textAreaTop" fmla="*/ 208800 h 914400"/>
                  <a:gd name="textAreaBottom" fmla="*/ 70560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cap="sq" w="12600">
                <a:solidFill>
                  <a:srgbClr val="e7d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29"/>
              <p:cNvSpPr/>
              <p:nvPr/>
            </p:nvSpPr>
            <p:spPr>
              <a:xfrm>
                <a:off x="930600" y="5622840"/>
                <a:ext cx="689112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4f271c"/>
                    </a:solidFill>
                    <a:latin typeface="Times New Roman"/>
                  </a:rPr>
                  <a:t>Вулкан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AutoShape 41"/>
            <p:cNvSpPr/>
            <p:nvPr/>
          </p:nvSpPr>
          <p:spPr>
            <a:xfrm rot="3681600">
              <a:off x="5943600" y="205740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80000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42"/>
            <p:cNvSpPr/>
            <p:nvPr/>
          </p:nvSpPr>
          <p:spPr>
            <a:xfrm rot="6721800">
              <a:off x="6019200" y="502884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80000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43"/>
            <p:cNvSpPr/>
            <p:nvPr/>
          </p:nvSpPr>
          <p:spPr>
            <a:xfrm rot="7261800">
              <a:off x="2286000" y="21337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00008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44"/>
            <p:cNvSpPr/>
            <p:nvPr/>
          </p:nvSpPr>
          <p:spPr>
            <a:xfrm rot="3681600">
              <a:off x="1904400" y="35812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00008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45"/>
            <p:cNvSpPr/>
            <p:nvPr/>
          </p:nvSpPr>
          <p:spPr>
            <a:xfrm rot="3681600">
              <a:off x="2361600" y="502884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000080"/>
            </a:solidFill>
            <a:ln cap="sq" w="1260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d7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686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улканов больше на дне океанов, т.к. там тонкая земная кора, которую легче прожечь, а на суше вулканы встречаются в зоне расхождения литосферных плит т.е. в зоне разлом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3" name="Picture 4" descr="Рисунок17"/>
          <p:cNvPicPr/>
          <p:nvPr/>
        </p:nvPicPr>
        <p:blipFill>
          <a:blip r:embed="rId1"/>
          <a:stretch/>
        </p:blipFill>
        <p:spPr>
          <a:xfrm>
            <a:off x="631800" y="2170080"/>
            <a:ext cx="796140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Гекла- стратовулкан расположенный на юге Исландии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(с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874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года извергался более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0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раз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5" name="Picture 2" descr="C:\Documents and Settings\user\Рабочий стол\вулканы\гекла.jpg"/>
          <p:cNvPicPr/>
          <p:nvPr/>
        </p:nvPicPr>
        <p:blipFill>
          <a:blip r:embed="rId1"/>
          <a:stretch/>
        </p:blipFill>
        <p:spPr>
          <a:xfrm>
            <a:off x="1143000" y="1643040"/>
            <a:ext cx="75722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лючевская сопка- действующий вулкан на востоке Камчатк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7" name="Picture 2" descr="C:\Documents and Settings\user\Рабочий стол\вулканы\ключевская сопка.jpg"/>
          <p:cNvPicPr/>
          <p:nvPr/>
        </p:nvPicPr>
        <p:blipFill>
          <a:blip r:embed="rId1"/>
          <a:stretch/>
        </p:blipFill>
        <p:spPr>
          <a:xfrm>
            <a:off x="1571760" y="1500120"/>
            <a:ext cx="721512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5056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илиманджаро-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самая высшая точка Африки и самый высокий вулкан мира 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9" name="Picture 2" descr="C:\Documents and Settings\user\Рабочий стол\вулканы\килиманджаро.jpg"/>
          <p:cNvPicPr/>
          <p:nvPr/>
        </p:nvPicPr>
        <p:blipFill>
          <a:blip r:embed="rId1"/>
          <a:stretch/>
        </p:blipFill>
        <p:spPr>
          <a:xfrm>
            <a:off x="1357200" y="1571760"/>
            <a:ext cx="3786480" cy="4429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C:\Documents and Settings\user\Рабочий стол\вулканы\килиманджаро 1.jpg"/>
          <p:cNvPicPr/>
          <p:nvPr/>
        </p:nvPicPr>
        <p:blipFill>
          <a:blip r:embed="rId2"/>
          <a:stretch/>
        </p:blipFill>
        <p:spPr>
          <a:xfrm>
            <a:off x="5214960" y="1571760"/>
            <a:ext cx="365760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vul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Этна-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самый высокий  вулкан Европы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92" name="Picture 2" descr="C:\Documents and Settings\user\Рабочий стол\вулканы\этна.jpg"/>
          <p:cNvPicPr/>
          <p:nvPr/>
        </p:nvPicPr>
        <p:blipFill>
          <a:blip r:embed="rId1"/>
          <a:stretch/>
        </p:blipFill>
        <p:spPr>
          <a:xfrm>
            <a:off x="2968560" y="1928880"/>
            <a:ext cx="4629240" cy="4000320"/>
          </a:xfrm>
          <a:prstGeom prst="rect">
            <a:avLst/>
          </a:prstGeom>
          <a:ln w="0">
            <a:noFill/>
          </a:ln>
        </p:spPr>
      </p:pic>
      <p:sp>
        <p:nvSpPr>
          <p:cNvPr id="593" name="Скругленный прямоугольник 4"/>
          <p:cNvSpPr/>
          <p:nvPr/>
        </p:nvSpPr>
        <p:spPr>
          <a:xfrm>
            <a:off x="6000840" y="5214960"/>
            <a:ext cx="1857240" cy="1000080"/>
          </a:xfrm>
          <a:prstGeom prst="roundRect">
            <a:avLst>
              <a:gd name="adj" fmla="val 16667"/>
            </a:avLst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амый а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Фудзияма- высочайшая гора Япон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95" name="Picture 2" descr="C:\Documents and Settings\user\Рабочий стол\вулканы\фудзияма1.jpg"/>
          <p:cNvPicPr/>
          <p:nvPr/>
        </p:nvPicPr>
        <p:blipFill>
          <a:blip r:embed="rId1"/>
          <a:stretch/>
        </p:blipFill>
        <p:spPr>
          <a:xfrm>
            <a:off x="1434960" y="1500120"/>
            <a:ext cx="3657600" cy="46436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C:\Documents and Settings\user\Рабочий стол\вулканы\Фудзияма.jpg"/>
          <p:cNvPicPr/>
          <p:nvPr/>
        </p:nvPicPr>
        <p:blipFill>
          <a:blip r:embed="rId2"/>
          <a:stretch/>
        </p:blipFill>
        <p:spPr>
          <a:xfrm>
            <a:off x="5214960" y="1500120"/>
            <a:ext cx="365760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orbel"/>
              </a:rPr>
              <a:t>Крупнейшие вулканы планеты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8" name="Rectangle 3"/>
          <p:cNvSpPr/>
          <p:nvPr/>
        </p:nvSpPr>
        <p:spPr>
          <a:xfrm flipV="1">
            <a:off x="1403280" y="40356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2819520" y="1447920"/>
          <a:ext cx="3614760" cy="4595760"/>
        </p:xfrm>
        <a:graphic>
          <a:graphicData uri="http://schemas.openxmlformats.org/drawingml/2006/table">
            <a:tbl>
              <a:tblPr/>
              <a:tblGrid>
                <a:gridCol w="1828800"/>
                <a:gridCol w="178596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вулк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й или потухш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ская Соп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зув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ьбр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ff"/>
                          </a:solidFill>
                          <a:latin typeface="Times New Roman"/>
                          <a:ea typeface="Times New Roman"/>
                        </a:rPr>
                        <a:t>потухш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ката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дзия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пах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са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йствующ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Rectangle 72"/>
          <p:cNvSpPr/>
          <p:nvPr/>
        </p:nvSpPr>
        <p:spPr>
          <a:xfrm>
            <a:off x="0" y="62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9d7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31600" y="274320"/>
            <a:ext cx="695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rbel"/>
              </a:rPr>
              <a:t>Вулкан – Бог огня и кузнечного дела у древних римлян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12560" y="1600200"/>
            <a:ext cx="647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rbel"/>
              </a:rPr>
              <a:t>Вулкан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особая по форме и составу пород го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rbel"/>
              </a:rPr>
              <a:t>Вулкан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отверстие, круглое или в виде трещины, через которое из глубин на земную поверхность поступает лава, вулканический пепел, газы и па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4" name="Picture 1028" descr="vulcan"/>
          <p:cNvPicPr/>
          <p:nvPr/>
        </p:nvPicPr>
        <p:blipFill>
          <a:blip r:embed="rId1"/>
          <a:stretch/>
        </p:blipFill>
        <p:spPr>
          <a:xfrm>
            <a:off x="155520" y="907920"/>
            <a:ext cx="1824120" cy="482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900000" y="476280"/>
            <a:ext cx="7345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Строение вулка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0" y="1268280"/>
            <a:ext cx="4572000" cy="60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шевидное отверстие на вершине вулкана через которое на поверхность земли выходит лава, пепел, пар, вулканические бомб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 по которому движется  л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лавленное вещество мантии возникающее в отдельных очагах на разных глубинах верхней ман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вшаяся на поверхность магма. Температура 750 – 12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Скорость течения 300 – 500 метров в ч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she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4187880" cy="5040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478" name="WordArt 5"/>
          <p:cNvSpPr txBox="1"/>
          <p:nvPr/>
        </p:nvSpPr>
        <p:spPr>
          <a:xfrm>
            <a:off x="1403280" y="6021360"/>
            <a:ext cx="1790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чаг магмы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79" name="WordArt 6"/>
          <p:cNvSpPr txBox="1"/>
          <p:nvPr/>
        </p:nvSpPr>
        <p:spPr>
          <a:xfrm rot="5400000">
            <a:off x="1296000" y="4039200"/>
            <a:ext cx="172692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ер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0" name="WordArt 7"/>
          <p:cNvSpPr txBox="1"/>
          <p:nvPr/>
        </p:nvSpPr>
        <p:spPr>
          <a:xfrm>
            <a:off x="611280" y="2060640"/>
            <a:ext cx="1038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рат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81" name="Line 8"/>
          <p:cNvSpPr/>
          <p:nvPr/>
        </p:nvSpPr>
        <p:spPr>
          <a:xfrm flipH="1" flipV="1">
            <a:off x="1187280" y="2421000"/>
            <a:ext cx="64800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9"/>
          <p:cNvSpPr/>
          <p:nvPr/>
        </p:nvSpPr>
        <p:spPr>
          <a:xfrm rot="10800000">
            <a:off x="1834920" y="2420640"/>
            <a:ext cx="649080" cy="360360"/>
          </a:xfrm>
          <a:prstGeom prst="pi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WordArt 10"/>
          <p:cNvSpPr txBox="1"/>
          <p:nvPr/>
        </p:nvSpPr>
        <p:spPr>
          <a:xfrm>
            <a:off x="3203640" y="2492280"/>
            <a:ext cx="933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84" name="Line 11"/>
          <p:cNvSpPr/>
          <p:nvPr/>
        </p:nvSpPr>
        <p:spPr>
          <a:xfrm flipH="1">
            <a:off x="2626920" y="27082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WordArt 12"/>
          <p:cNvSpPr txBox="1"/>
          <p:nvPr/>
        </p:nvSpPr>
        <p:spPr>
          <a:xfrm>
            <a:off x="4716360" y="1341360"/>
            <a:ext cx="14097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атер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6" name="WordArt 13"/>
          <p:cNvSpPr txBox="1"/>
          <p:nvPr/>
        </p:nvSpPr>
        <p:spPr>
          <a:xfrm>
            <a:off x="4284720" y="2852640"/>
            <a:ext cx="12999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рло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7" name="WordArt 14"/>
          <p:cNvSpPr txBox="1"/>
          <p:nvPr/>
        </p:nvSpPr>
        <p:spPr>
          <a:xfrm>
            <a:off x="4356000" y="3733920"/>
            <a:ext cx="1656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чаг магмы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8" name="WordArt 15"/>
          <p:cNvSpPr txBox="1"/>
          <p:nvPr/>
        </p:nvSpPr>
        <p:spPr>
          <a:xfrm>
            <a:off x="4716360" y="5181480"/>
            <a:ext cx="93528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ава</a:t>
            </a:r>
            <a:endParaRPr b="0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чины образования вулканов, горячих источников, гейзеро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вокупность процессов и явлений, связанных с движением магмы в верхней мантии, земной кор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тоянные вет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ноголетние льд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земные толчки и колебания земной поверх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рывы и смещения земной кор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рещины в земной кор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гревание подземных вод магмо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ramki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1280" y="4292640"/>
            <a:ext cx="4032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Температура магмы составляет от 2000 до 2500</a:t>
            </a:r>
            <a:r>
              <a:rPr b="1" lang="ru-RU" sz="2200" spc="-1" strike="noStrike">
                <a:solidFill>
                  <a:srgbClr val="572314"/>
                </a:solidFill>
                <a:latin typeface="Corbel"/>
                <a:ea typeface="Arial"/>
              </a:rPr>
              <a:t>◦</a:t>
            </a: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 С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93" name="Picture 10" descr="лавовый поток"/>
          <p:cNvPicPr/>
          <p:nvPr/>
        </p:nvPicPr>
        <p:blipFill>
          <a:blip r:embed="rId2"/>
          <a:stretch/>
        </p:blipFill>
        <p:spPr>
          <a:xfrm rot="675000">
            <a:off x="4788000" y="2133720"/>
            <a:ext cx="3290760" cy="3916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494" name="Picture 7" descr=""/>
          <p:cNvPicPr/>
          <p:nvPr/>
        </p:nvPicPr>
        <p:blipFill>
          <a:blip r:embed="rId3"/>
          <a:stretch/>
        </p:blipFill>
        <p:spPr>
          <a:xfrm>
            <a:off x="826920" y="692280"/>
            <a:ext cx="4608720" cy="29383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96" name="Picture 7" descr="ramki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1" descr="аюдаг"/>
          <p:cNvPicPr/>
          <p:nvPr/>
        </p:nvPicPr>
        <p:blipFill>
          <a:blip r:embed="rId2"/>
          <a:stretch/>
        </p:blipFill>
        <p:spPr>
          <a:xfrm>
            <a:off x="539640" y="3789360"/>
            <a:ext cx="3810240" cy="2633760"/>
          </a:xfrm>
          <a:prstGeom prst="rect">
            <a:avLst/>
          </a:prstGeom>
          <a:ln w="0">
            <a:noFill/>
          </a:ln>
        </p:spPr>
      </p:pic>
      <p:sp>
        <p:nvSpPr>
          <p:cNvPr id="498" name="AutoShape 4"/>
          <p:cNvSpPr/>
          <p:nvPr/>
        </p:nvSpPr>
        <p:spPr>
          <a:xfrm>
            <a:off x="5076720" y="1916280"/>
            <a:ext cx="3384720" cy="104292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вулкан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755640" y="1916280"/>
            <a:ext cx="3384720" cy="1042920"/>
          </a:xfrm>
          <a:prstGeom prst="bevel">
            <a:avLst>
              <a:gd name="adj" fmla="val 12500"/>
            </a:avLst>
          </a:prstGeom>
          <a:solidFill>
            <a:srgbClr val="cfe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ен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лакколиты)</a:t>
            </a:r>
            <a:r>
              <a:rPr b="1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916360" y="620640"/>
            <a:ext cx="3384360" cy="1042920"/>
          </a:xfrm>
          <a:prstGeom prst="bevel">
            <a:avLst>
              <a:gd name="adj" fmla="val 12500"/>
            </a:avLst>
          </a:prstGeom>
          <a:solidFill>
            <a:srgbClr val="bffb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Ма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9"/>
          <p:cNvSpPr/>
          <p:nvPr/>
        </p:nvSpPr>
        <p:spPr>
          <a:xfrm flipH="1">
            <a:off x="2339640" y="1628640"/>
            <a:ext cx="576360" cy="28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0"/>
          <p:cNvSpPr/>
          <p:nvPr/>
        </p:nvSpPr>
        <p:spPr>
          <a:xfrm>
            <a:off x="6300720" y="1628640"/>
            <a:ext cx="576360" cy="28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4" descr="385610"/>
          <p:cNvPicPr/>
          <p:nvPr/>
        </p:nvPicPr>
        <p:blipFill>
          <a:blip r:embed="rId3"/>
          <a:stretch/>
        </p:blipFill>
        <p:spPr>
          <a:xfrm>
            <a:off x="4788000" y="3789360"/>
            <a:ext cx="3816360" cy="259236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7"/>
          <p:cNvSpPr/>
          <p:nvPr/>
        </p:nvSpPr>
        <p:spPr>
          <a:xfrm>
            <a:off x="1547640" y="321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ю - Д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5943240" y="31417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кат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4" descr="ramki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2"/>
          <p:cNvSpPr/>
          <p:nvPr/>
        </p:nvSpPr>
        <p:spPr>
          <a:xfrm>
            <a:off x="682200" y="603720"/>
            <a:ext cx="685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Вулкан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это горы кониче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, сложенные продук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х извер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3" descr="везувий 1"/>
          <p:cNvPicPr/>
          <p:nvPr/>
        </p:nvPicPr>
        <p:blipFill>
          <a:blip r:embed="rId2"/>
          <a:stretch/>
        </p:blipFill>
        <p:spPr>
          <a:xfrm>
            <a:off x="684360" y="2263680"/>
            <a:ext cx="5400360" cy="4046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09" name="Rectangle 15"/>
          <p:cNvSpPr/>
          <p:nvPr/>
        </p:nvSpPr>
        <p:spPr>
          <a:xfrm>
            <a:off x="6374160" y="3351240"/>
            <a:ext cx="20887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улк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езу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Corbel"/>
              </a:rPr>
              <a:t>ВНУТРЕННЕЕ СТРОЕНИЕ ВУЛКАН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11" name="Picture 3" descr="Вулкан"/>
          <p:cNvPicPr/>
          <p:nvPr/>
        </p:nvPicPr>
        <p:blipFill>
          <a:blip r:embed="rId1"/>
          <a:srcRect l="13082" t="0" r="0" b="0"/>
          <a:stretch/>
        </p:blipFill>
        <p:spPr>
          <a:xfrm>
            <a:off x="0" y="83664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4"/>
          <p:cNvSpPr/>
          <p:nvPr/>
        </p:nvSpPr>
        <p:spPr>
          <a:xfrm>
            <a:off x="3962520" y="762120"/>
            <a:ext cx="3047760" cy="761760"/>
          </a:xfrm>
          <a:prstGeom prst="wedgeRoundRectCallout">
            <a:avLst>
              <a:gd name="adj1" fmla="val -74217"/>
              <a:gd name="adj2" fmla="val 272500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Р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УЛК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6"/>
          <p:cNvSpPr/>
          <p:nvPr/>
        </p:nvSpPr>
        <p:spPr>
          <a:xfrm>
            <a:off x="7086600" y="914400"/>
            <a:ext cx="2057400" cy="838080"/>
          </a:xfrm>
          <a:prstGeom prst="wedgeRoundRectCallout">
            <a:avLst>
              <a:gd name="adj1" fmla="val -67050"/>
              <a:gd name="adj2" fmla="val 46023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К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7"/>
          <p:cNvSpPr/>
          <p:nvPr/>
        </p:nvSpPr>
        <p:spPr>
          <a:xfrm>
            <a:off x="1447920" y="5867280"/>
            <a:ext cx="2209680" cy="762120"/>
          </a:xfrm>
          <a:prstGeom prst="wedgeRoundRectCallout">
            <a:avLst>
              <a:gd name="adj1" fmla="val 6467"/>
              <a:gd name="adj2" fmla="val -133541"/>
              <a:gd name="adj3" fmla="val 16667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Г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8"/>
          <p:cNvSpPr/>
          <p:nvPr/>
        </p:nvSpPr>
        <p:spPr>
          <a:xfrm rot="16200000">
            <a:off x="588240" y="714600"/>
            <a:ext cx="1081080" cy="1467000"/>
          </a:xfrm>
          <a:prstGeom prst="wedgeRoundRectCallout">
            <a:avLst>
              <a:gd name="adj1" fmla="val 23861"/>
              <a:gd name="adj2" fmla="val 134847"/>
              <a:gd name="adj3" fmla="val 16667"/>
            </a:avLst>
          </a:prstGeom>
          <a:solidFill>
            <a:srgbClr val="cfe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9"/>
          <p:cNvSpPr/>
          <p:nvPr/>
        </p:nvSpPr>
        <p:spPr>
          <a:xfrm rot="661800">
            <a:off x="6141600" y="2577600"/>
            <a:ext cx="1584360" cy="863640"/>
          </a:xfrm>
          <a:prstGeom prst="wedgeRoundRectCallout">
            <a:avLst>
              <a:gd name="adj1" fmla="val -103893"/>
              <a:gd name="adj2" fmla="val -2972"/>
              <a:gd name="adj3" fmla="val 1666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УСЫ ВУЛК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7:10:15Z</dcterms:created>
  <dc:creator>user</dc:creator>
  <dc:description/>
  <dc:language>en-US</dc:language>
  <cp:lastModifiedBy>DNA7 X86</cp:lastModifiedBy>
  <dcterms:modified xsi:type="dcterms:W3CDTF">2012-05-18T16:51:19Z</dcterms:modified>
  <cp:revision>28</cp:revision>
  <dc:subject/>
  <dc:title>везувий</dc:title>
</cp:coreProperties>
</file>