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85F-16E2-43FE-AAA0-4DDEB056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4CF-9DC5-43EB-9552-6651877A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4F7-3A22-4B2F-A053-1EAAA510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D6F-2797-4048-888F-19311C22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E3A8-8417-4BE2-B0A5-ADF31085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F3DD-17C6-409B-B432-6F7DB136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D85F-8A21-41C2-A5D1-DA11EA6B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CA2B-39D0-4145-959B-AD1C4AA5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83A5-06E3-4F65-87AD-EE754012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0FCC-6D5D-4E6B-BFC2-7DA55EAA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D259-111F-49ED-A8FB-C2E7A6C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298-6B67-416E-9EA9-95BB0F8B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3EF2-808E-4745-827D-4EC2DFF0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53B5-1518-454A-8EFF-87C576CA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6B41-C9D4-4472-B460-D2915D33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6DF3-62F5-40BC-B1BA-25A4E3E6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162F-9BBF-470E-B734-9C30C2F5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6B5-E513-4407-A83A-D52213AD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3FC-5007-48D7-BC30-F9F06DD1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ECA-4F53-4FC8-A966-A094AECF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281-746A-4AE5-9931-C7861DDA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C27-9646-4CB1-9E07-7B9CE405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7AC-4CBF-4953-AC37-1FC76115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E0C-4DDC-438B-818D-E68B1C95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5B87-B208-415D-B6E1-1A3EF35A73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AEE1-F78E-481E-AA93-376B58313B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алеологические требования к уроку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исова А. Н. доцент кафедры ЕНД БИПКиП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9. Наличие, место, содержание и продолжительность оздоровительных моментов на уроке: физкультминутки, динамические паузы, минуты релаксации, дыхательная гимнастика, гимнастика для глаз, массаж активных точек; соответствуют ли условия в классе для проведения таких форм работы, особенно для дыхательных упражнений. Норма: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 15-20 минут урока по 1 минуте из 3-х легких упражнений с 3-4 повторениями каждог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 Наличие в содержательной части урока вопросов, связанных со здоровьем и здоровым образом жизни, демонстрация, прослеживание этих связей. Формирование отношение к человеку и его здоровью как к ценности; выработка понимания сущности здорового образа жизни; выработка индивидуального способа безопасного поведения, сообщение учащимся знаний о возможных последствиях выбора поведения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. Наличие мотивации деятельности учащихся на уроке. Внешняя мотивация: оценка, похвала, поддержка, соревновательный момент и т.п. Стимуляция  внутренней мотивации: стремление больше узнать, радость от активности, интерес к изучаемому материалу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. Наличие на уроке эмоциональных разрядок: шутка, улыбка, юмористическая или поучительная картинка, поговорка, известное высказывание с комментарием, небольшое стихотворение, музыкальная минутк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Психологический климат на уроке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заимоотношения на уроке: между учителем и уче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омфорт – напряжение, сотрудничество – авторитарность, индивидуальные – фронтальные, учет возрастных особенностей: достаточный – недостаточный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жду уче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отрудничество – соперничество, дружелюбие – враждебность, заинтересованность-безразличие, активность-пассив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  Плотность урока, то есть количество времени, затраченного школьниками на учебную работу. Норм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енее 60 % и не более 75-8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05228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    Момент наступления утомления учащихся и снижение их  учебной активности. определяется в ходе наблюдения по возрастанию двигательных и пассивных отвлечений у детей в процессе учебной работы. Норма: не ранее 25-30 минут в 1 классе, 35-40 минут в начальной школе, 40 минут в средней и старшей школе, 30 минут для учащихся классов компенсирующе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.     Темп окончания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ыстрый темп, «скомканность», нет времени на вопросы учащихся, быстрое, практически без комментариев записывание домашней работы,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покойное завершение урока, учащиеся имеют возможность задать учителю вопросы, педагог комментирует заданное им на дом задание, учитель и учащиеся прощаю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держивание учащихся в классе после звонка (на переме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       Обстановка и гигиенические условия в классе: температура и свежесть воздуха, рациональность освещения класса и доски, наличие/отсутствие монотонных, неприятных звуков, раздражител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95640" y="1600200"/>
            <a:ext cx="6643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   Количество видов учебной деятельности: опрос учащихся, письмо, чтение, рассказ. Слушание, рассматривание наглядных пособий, ответы на вопросы, решение примеров и задач и т.д. Норм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7 видов за у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образность уроков способствует утомлению школьников, как бывает, например, при выполнении контрольной работы. Сочинение – более творческая задача, и коэффициент утомления при этом несколько ниже. Наоборот: частая смена одной деятельности на другую потребует от учащихся дополнительных адаптационных уси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       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няя продолжительность и частота чередования различных видов учебной деятельности. Ориентировочная норма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-10 мину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        Количество видов преподавания: словесный, наглядный, аудиовизуальный, самостоятельная работа и т.д. норма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менее тре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        Чередование видов преподавания: норма: не позже чем через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-1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мин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0920" y="1125360"/>
            <a:ext cx="6788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6.Творческого самовыражения самих учащихся, когда они действительно превращаются из «потребителей знаний» в субъектов действия по их получению и созиданию. Это такие методы как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метод свободного выбор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свободная беседа, выбор действия, выбор способа действия, выбор способа взаимодействия, свобода творчества);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активные методы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ученики в роли учителя, обучения действием, обсуждение в группах, ролевая игра, дискуссия, семинар, ученик как исследователь);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методы, направленные на самопознание и развити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интеллекта, эмоций, общения, воображения, самооценки, взаимооценки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Место и длительность применения ТСО (в соответствии с гигиеническими нормами), умение учителя использовать их как возможности инициирования дискуссии, об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а учащих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чередование позы (наблюдает ли учитель реально за посадкой учащихся; чередуются ли позы в соответствии с видом работ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3:53:37Z</dcterms:created>
  <dc:creator>OEM</dc:creator>
  <dc:description/>
  <dc:language>en-US</dc:language>
  <cp:lastModifiedBy>Пользователь</cp:lastModifiedBy>
  <dcterms:modified xsi:type="dcterms:W3CDTF">2012-12-15T03:55:11Z</dcterms:modified>
  <cp:revision>2</cp:revision>
  <dc:subject/>
  <dc:title>Валеологические требования к уроку</dc:title>
</cp:coreProperties>
</file>