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3D6-196B-44A9-8A01-852AD14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BA5-D584-459C-8832-B744E82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1BB-1208-423A-8522-396E0613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20E-DE29-4A56-B3C5-255E4ED5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BFA-AF66-48B9-AACC-46581A20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2DAC-06EA-4529-9E9E-195E614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9E0C-3665-4025-A733-F374B58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D5F-A068-4D59-AB48-85A910D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AED-9793-472A-B035-F4BC6E8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245-839D-41E8-89CA-1BCA110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2C66-CF55-46CC-964B-2D749B1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89B-FEEA-47EC-B6B6-1A0A186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F34B-DE8E-4DF1-B6BD-2A16D6E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8B91-57AA-4B38-8FF7-02F31F7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410-563B-4FF2-9E17-5474B29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4882-6256-442E-BFC6-21B2DA31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1AC-B232-47E0-8885-AF7B3C98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64D-D6D1-4C47-9C9A-978CF7D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3FE-5109-4471-AA85-6884F1F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9D6-128F-499A-9BF8-F7C4F2F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593-1AE3-4DFC-81DC-01E29D7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9CD-AED4-4C10-B28E-4AFEC515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D7A-CE05-411D-9730-39FA0B4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B39-24E3-4E84-AC31-B8AFF5C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178-8FF2-4CBE-BE18-6AEC715223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FCD2-9650-42A1-9D71-465B212A7C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леологические требования к уроку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А. Н. доцент кафедры ЕНД БИПКи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 Наличие, место, содержание и продолжительность оздоровительных моментов на уроке: физкультминутки, динамические паузы, минуты релаксации, дыхательная гимнастика, гимнастика для глаз, массаж активных точек; соответствуют ли условия в классе для проведения таких форм работы, особенно для дыхательных упражнений. Норма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15-20 минут урока по 1 минуте из 3-х легких упражнений с 3-4 повторениями кажд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 Наличие в содержательной части урока вопросов, связанных со здоровьем и здоровым образом жизни, демонстрация, прослеживание этих связей. Формирование отношение к человеку и его здоровью как к ценности; выработка понимания сущности здорового образа жизни; выработка индивидуального способа безопасного поведения, сообщение учащимся знаний о возможных последствиях выбора повед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аличие мотивации деятельности учащихся на уроке. Внешняя мотивация: оценка, похвала, поддержка, соревновательный момент и т.п. Стимуляция  внутренней мотивации: стремление больше узнать, радость от активности, интерес к изучаемому материалу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 Наличие на уроке эмоциональных разрядок: шутка, улыбка, юмористическая или поучительная картинка, поговорка, известное высказывание с комментарием, небольшое стихотворение, музыкальная минут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Психологический климат на уроке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заимоотношения на уроке: между учителем и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форт – напряжение, сотрудничество – авторитарность, индивидуальные – фронтальные, учет возрастных особенностей: достаточный – недостаточный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жду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трудничество – соперничество, дружелюбие – враждебность, заинтересованность-безразличие, активность-пасс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 Плотность урока, то есть количество времени, затраченного школьниками на учебную работу. Нор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60 % и не более 75-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    Момент наступления утомления учащихся и снижение их  учебной активности. определяется в ходе наблюдения по возрастанию двигательных и пассивных отвлечений у детей в процессе учебной работы. Норма: не ранее 25-30 минут в 1 классе, 35-40 минут в начальной школе, 40 минут в средней и старшей школе, 30 минут для учащихся классов компенсиру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    Темп окончания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ый темп, «скомканность», нет времени на вопросы учащихся, быстрое, практически без комментариев записывание домашней работы,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койное завершение урока, учащиеся имеют возможность задать учителю вопросы, педагог комментирует заданное им на дом задание, учитель и учащиеся прощ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ерживание учащихся в классе после звонка (на перем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       Обстановка и гигиенические условия в классе: температура и свежесть воздуха, рациональность освещения класса и доски, наличие/отсутствие монотонных, неприятных звуков, раздражител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   Количество видов учебной деятельности: опрос учащихся, письмо, чтение, рассказ. Слушание, рассматривание наглядных пособий, ответы на вопросы, решение примеров и задач и т.д. Нор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7 видов за у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образность уроков способствует утомлению школьников, как бывает, например, при выполнении контрольной работы. Сочинение – более творческая задача, и коэффициент утомления при этом несколько ниже. Наоборот: частая смена одной деятельности на другую потребует от учащихся дополнительных адаптационн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      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 Ориентировочная норм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-10 мин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        Количество видов преподавания: словесный, наглядный, аудиовизуальный, самостоятельная работа и т.д. норма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менее т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        Чередование видов преподавания: норма: не позже чем чере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.Творческого самовыражения самих учащихся, когда они действительно превращаются из «потребителей знаний» в субъектов действия по их получению и созиданию. Это такие методы как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 свободного выбо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свободная беседа, выбор действия, выбор способа действия, выбор способа взаимодействия, свобода творчества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ученики в роли учителя, обучения действием, обсуждение в группах, ролевая игра, дискуссия, семинар, ученик как исследователь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ы, направленные на самопознание и развит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интеллекта, эмоций, общения, воображения, самооценки, взаимооценк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сто и длительность применения ТСО (в соответствии с гигиеническими нормами), умение учителя использовать их как возможности инициирования дискуссии, об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а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редование позы (наблюдает ли учитель реально за посадкой учащихся; чередуются ли позы в соответствии с видом рабо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53:37Z</dcterms:created>
  <dc:creator>OEM</dc:creator>
  <dc:description/>
  <dc:language>en-US</dc:language>
  <cp:lastModifiedBy>Пользователь</cp:lastModifiedBy>
  <dcterms:modified xsi:type="dcterms:W3CDTF">2012-12-15T03:55:11Z</dcterms:modified>
  <cp:revision>2</cp:revision>
  <dc:subject/>
  <dc:title>Валеологические требования к уроку</dc:title>
</cp:coreProperties>
</file>