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5388-7CDB-4A6A-99DC-FF3DDB573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6DBA-16B3-4AC0-BE3A-4C60A260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9E62-824A-4B89-99FE-86B4469E9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B851-2FD0-477C-9D54-D2D5F737D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F1859-388D-46D5-9E1A-7FA246E9D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90A1-9B5F-41EC-8F08-C6019246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62B1-D0AD-436E-93B4-D1654076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65B6-A9E3-44CA-BE49-79E1DEAF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9C1A-BDC9-4A78-BFD0-1C1EDBEA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0DE1-D810-4E4C-A533-2B5196F3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0779-9799-4A3E-BFD5-F2F9591E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FE7A-4BE7-4BEC-97B9-9D7ED5D9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D517-C35B-4A99-9E1D-01BF81AF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8BCB-9F73-48B7-A5EE-227F8CA5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C4048-8BEE-4891-B681-C3F77A02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5CEE-7A14-4CC2-AC5A-1131C9033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A6B8-ACFC-498A-9D5C-BE2A835AF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9D21-0B1E-4EE2-A60F-2730A06C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696B-CABD-4419-826E-29CE9015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571E-9C0A-4E1C-BEC3-22C78472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9B0D-78C3-446C-A1A3-061E872E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F374-122F-4E21-968F-01F86E88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1B20-CBB3-4C9B-9296-2D342668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B6B8-A03A-479E-BB12-5A7ED4AC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2D36-42D6-4B9D-B648-952F1C19912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4B07-EAE3-4074-9996-957750CF044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6924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алеологические требования к уроку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нисова А. Н. доцент кафедры ЕНД БИПКиП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197000"/>
            <a:ext cx="6400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9. Наличие, место, содержание и продолжительность оздоровительных моментов на уроке: физкультминутки, динамические паузы, минуты релаксации, дыхательная гимнастика, гимнастика для глаз, массаж активных точек; соответствуют ли условия в классе для проведения таких форм работы, особенно для дыхательных упражнений. Норма: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а 15-20 минут урока по 1 минуте из 3-х легких упражнений с 3-4 повторениями каждог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. Наличие в содержательной части урока вопросов, связанных со здоровьем и здоровым образом жизни, демонстрация, прослеживание этих связей. Формирование отношение к человеку и его здоровью как к ценности; выработка понимания сущности здорового образа жизни; выработка индивидуального способа безопасного поведения, сообщение учащимся знаний о возможных последствиях выбора поведения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1. Наличие мотивации деятельности учащихся на уроке. Внешняя мотивация: оценка, похвала, поддержка, соревновательный момент и т.п. Стимуляция  внутренней мотивации: стремление больше узнать, радость от активности, интерес к изучаемому материалу и 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. Наличие на уроке эмоциональных разрядок: шутка, улыбка, юмористическая или поучительная картинка, поговорка, известное высказывание с комментарием, небольшое стихотворение, музыкальная минутка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11280" y="1628280"/>
            <a:ext cx="6400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3. Психологический климат на уроке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заимоотношения на уроке: между учителем и ученика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комфорт – напряжение, сотрудничество – авторитарность, индивидуальные – фронтальные, учет возрастных особенностей: достаточный – недостаточный)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ежду ученика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сотрудничество – соперничество, дружелюбие – враждебность, заинтересованность-безразличие, активность-пассивно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конце урока обратите внимание на следующе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4.  Плотность урока, то есть количество времени, затраченного школьниками на учебную работу. Норма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менее 60 % и не более 75-80 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052280"/>
            <a:ext cx="6400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конце урока обратите внимание на следующе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5.     Момент наступления утомления учащихся и снижение их  учебной активности. определяется в ходе наблюдения по возрастанию двигательных и пассивных отвлечений у детей в процессе учебной работы. Норма: не ранее 25-30 минут в 1 классе, 35-40 минут в начальной школе, 40 минут в средней и старшей школе, 30 минут для учащихся классов компенсирующего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конце урока обратите внимание на следующе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6.     Темп окончания у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быстрый темп, «скомканность», нет времени на вопросы учащихся, быстрое, практически без комментариев записывание домашней работы, зад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покойное завершение урока, учащиеся имеют возможность задать учителю вопросы, педагог комментирует заданное им на дом задание, учитель и учащиеся прощают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задерживание учащихся в классе после звонка (на перемен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        Обстановка и гигиенические условия в классе: температура и свежесть воздуха, рациональность освещения класса и доски, наличие/отсутствие монотонных, неприятных звуков, раздражителей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195640" y="1600200"/>
            <a:ext cx="6643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      Количество видов учебной деятельности: опрос учащихся, письмо, чтение, рассказ. Слушание, рассматривание наглядных пособий, ответы на вопросы, решение примеров и задач и т.д. Норма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-7 видов за ур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днообразность уроков способствует утомлению школьников, как бывает, например, при выполнении контрольной работы. Сочинение – более творческая задача, и коэффициент утомления при этом несколько ниже. Наоборот: частая смена одной деятельности на другую потребует от учащихся дополнительных адаптационных усил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       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редняя продолжительность и частота чередования различных видов учебной деятельности. Ориентировочная норма –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-10 мину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.        Количество видов преподавания: словесный, наглядный, аудиовизуальный, самостоятельная работа и т.д. норма: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е менее тре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5.        Чередование видов преподавания: норма: не позже чем через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-15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мину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0920" y="1125360"/>
            <a:ext cx="67881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6.Творческого самовыражения самих учащихся, когда они действительно превращаются из «потребителей знаний» в субъектов действия по их получению и созиданию. Это такие методы как 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метод свободного выбора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(свободная беседа, выбор действия, выбор способа действия, выбор способа взаимодействия, свобода творчества); 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активные методы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(ученики в роли учителя, обучения действием, обсуждение в группах, ролевая игра, дискуссия, семинар, ученик как исследователь); 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методы, направленные на самопознание и развитие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(интеллекта, эмоций, общения, воображения, самооценки, взаимооценки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Место и длительность применения ТСО (в соответствии с гигиеническими нормами), умение учителя использовать их как возможности инициирования дискуссии, обсуж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.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за учащих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чередование позы (наблюдает ли учитель реально за посадкой учащихся; чередуются ли позы в соответствии с видом работ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0T13:53:37Z</dcterms:created>
  <dc:creator>OEM</dc:creator>
  <dc:description/>
  <dc:language>en-US</dc:language>
  <cp:lastModifiedBy>Пользователь</cp:lastModifiedBy>
  <dcterms:modified xsi:type="dcterms:W3CDTF">2012-12-15T03:55:11Z</dcterms:modified>
  <cp:revision>2</cp:revision>
  <dc:subject/>
  <dc:title>Валеологические требования к уроку</dc:title>
</cp:coreProperties>
</file>