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3D7-ACBF-4402-8707-1C819971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679-3945-4F93-9CFC-33068755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BF1-C284-485D-A83E-C0965727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4B0-1652-4E11-A723-BC2475BC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578-6AE6-4B27-B122-0648A59C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6DD-F433-47E9-84AA-0D3AA932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10B-D28B-4549-A472-644DBCB7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149-9237-4868-96D3-5EF8D5E5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EBE-A101-47FB-A5C2-C2E1BB7B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3EC-F942-48FD-87DA-C83BE0BD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D93-153B-4787-AB12-5A32A9C7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DF4-0840-4375-B806-4D2AF267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A884-5E76-42C6-9175-2D26D750C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4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о-воспитательный процесс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спекте содерж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ГОС НО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797360"/>
            <a:ext cx="8713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446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a39"/>
                </a:solidFill>
                <a:latin typeface="Arial"/>
              </a:rPr>
              <a:t>Ларина А.В., учитель нач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a39"/>
                </a:solidFill>
                <a:latin typeface="Arial"/>
              </a:rPr>
              <a:t>классов МАОУ «СОШ №7»</a:t>
            </a:r>
            <a:r>
              <a:rPr b="1" lang="ru-RU" sz="2000" spc="-1" strike="noStrike">
                <a:solidFill>
                  <a:srgbClr val="003a3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a3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Патриот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Интеллек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Познавашка» (руководитель Ларина А.В.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Веселые ритмы» (рук. Мищенко О.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Народные промыслы» (рук. Матюх О.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Формула рукоделия» (рук. Лапаева Е.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Актерское мастерство» (рук.Чугирова В. 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Хореография» (рук. Чугирова В. Г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Солнечный лучик» (рук. Голубева Л. И.)</a:t>
            </a:r>
            <a:r>
              <a:rPr b="1" lang="ru-RU" sz="2800" spc="-1" strike="noStrike">
                <a:solidFill>
                  <a:srgbClr val="172b1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урочная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DSCN1927"/>
          <p:cNvPicPr/>
          <p:nvPr/>
        </p:nvPicPr>
        <p:blipFill>
          <a:blip r:embed="rId1"/>
          <a:stretch/>
        </p:blipFill>
        <p:spPr>
          <a:xfrm>
            <a:off x="212400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Фото0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Фото0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SCN18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Подари ребенку радость творчества, осознание авторского гол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Веди ученика от собственного опыта к обществен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Будь не «НАД», а «РЯДО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Радуйся вопросу, но отвечать не спе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Учи анализировать каждый этап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Критикуя, стимулируй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 - блестящ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ас прекрасные учени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175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950"/>
                            </p:stCondLst>
                            <p:childTnLst>
                              <p:par>
                                <p:cTn id="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63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635"/>
                </a:solidFill>
                <a:latin typeface="Arial"/>
              </a:rPr>
              <a:t>Цели и задачи системы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168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Цель: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общекультурное,   личностное   и познавательное   развитие   учащихся, обеспечивающие   такую   ключевую компетенцию образования, как «научить учиться».</a:t>
            </a:r>
            <a:r>
              <a:rPr b="0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Задача: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формирование   совокупности универсальных   учебных   действий, обеспечивающих компетенцию «научить учитьс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4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учебно-воспитательног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а в 1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8000" y="4142880"/>
            <a:ext cx="9036000" cy="25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Система оцен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Портфол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Внеуроч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а 156 из 2872"/>
          <p:cNvPicPr/>
          <p:nvPr/>
        </p:nvPicPr>
        <p:blipFill>
          <a:blip r:embed="rId1"/>
          <a:stretch/>
        </p:blipFill>
        <p:spPr>
          <a:xfrm>
            <a:off x="3357720" y="1214280"/>
            <a:ext cx="557676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2408517_3c6c1fa7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500040" y="20001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000320" y="856800"/>
            <a:ext cx="47862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Деятельностный метод обучения является универсальным. Сообразно ему следовало бы поступать не только в начальных школах, но во всех школах, даже в высших учебных заведен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714680" y="5072040"/>
            <a:ext cx="7215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Этот метод уместен везде, где знание должно быть еще приобретено, то есть для всякого учащегос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А.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урока в 1 класс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79280" y="1197000"/>
            <a:ext cx="489924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437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1. Психологический наст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2. Иг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3. Создание проблем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4. Формулирование темы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5. Постановка целей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6. Поиск способов решения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7. Первичное закреп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8. Самостояте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9. Включение в систему знаний и повт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10. 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SCN18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3"/>
          <p:cNvSpPr/>
          <p:nvPr/>
        </p:nvSpPr>
        <p:spPr>
          <a:xfrm>
            <a:off x="5003640" y="765000"/>
            <a:ext cx="4284720" cy="3673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1712"/>
                </a:solidFill>
                <a:latin typeface="Arial"/>
              </a:rPr>
              <a:t>Метапредме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ные  универс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ые действия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вающие овла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ыми компетенц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ющими осн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я уч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еж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"/>
          <p:cNvSpPr/>
          <p:nvPr/>
        </p:nvSpPr>
        <p:spPr>
          <a:xfrm>
            <a:off x="468360" y="692280"/>
            <a:ext cx="4967280" cy="40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7c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1712"/>
                </a:solidFill>
                <a:latin typeface="Arial"/>
              </a:rPr>
              <a:t>Предме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фической для да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 по получению н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ния, его преобразован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ению, система основополага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ов научного знания, лежа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снове нау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ины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 flipH="1">
            <a:off x="713520" y="4500720"/>
            <a:ext cx="8215560" cy="2357280"/>
          </a:xfrm>
          <a:prstGeom prst="ellipse">
            <a:avLst/>
          </a:prstGeom>
          <a:solidFill>
            <a:srgbClr val="0796a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1712"/>
                </a:solidFill>
                <a:latin typeface="Arial"/>
              </a:rPr>
              <a:t>Лично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цен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ки обучающихся, социальные компетен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 ка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5589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667160" y="675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428760" y="0"/>
            <a:ext cx="8715240" cy="620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лексный подход к оценке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оритм выработки адекватно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715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1 шаг.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Что нужно было сделать в этом задании (задаче)? Какая была </a:t>
            </a:r>
            <a:r>
              <a:rPr b="1" i="1" lang="ru-RU" sz="2800" spc="-1" strike="noStrike">
                <a:solidFill>
                  <a:srgbClr val="003a39"/>
                </a:solidFill>
                <a:latin typeface="Arial"/>
              </a:rPr>
              <a:t>цель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, что нужно было  получить в результа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2 шаг.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Удалось получить </a:t>
            </a:r>
            <a:r>
              <a:rPr b="1" i="1" lang="ru-RU" sz="2800" spc="-1" strike="noStrike">
                <a:solidFill>
                  <a:srgbClr val="003a39"/>
                </a:solidFill>
                <a:latin typeface="Arial"/>
              </a:rPr>
              <a:t>результат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? Найдено решение, отв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3 шаг.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Справился полностью </a:t>
            </a:r>
            <a:r>
              <a:rPr b="1" i="1" lang="ru-RU" sz="2800" spc="-1" strike="noStrike">
                <a:solidFill>
                  <a:srgbClr val="003a39"/>
                </a:solidFill>
                <a:latin typeface="Arial"/>
              </a:rPr>
              <a:t>правильно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или с незначительной ошибкой (какой, в чем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4 шаг.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Справился полностью </a:t>
            </a:r>
            <a:r>
              <a:rPr b="1" i="1" lang="ru-RU" sz="2800" spc="-1" strike="noStrike">
                <a:solidFill>
                  <a:srgbClr val="003a39"/>
                </a:solidFill>
                <a:latin typeface="Arial"/>
              </a:rPr>
              <a:t>самостоятельно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или с небольшой помощью (кто помогал, в чем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фоли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ак метод оценива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чностного ро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1. «Кто я и чего хоч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2. «Чему я научился на ВСЕХ предмета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3. «Чему я научился на РАЗНЫХ предмета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4. «Достижения ВНЕ учеб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5. «Правила ведения Портфеля дост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и оценка его материал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2:03:33Z</dcterms:created>
  <dc:creator>Nataly</dc:creator>
  <dc:description/>
  <dc:language>en-US</dc:language>
  <cp:lastModifiedBy>Коля</cp:lastModifiedBy>
  <dcterms:modified xsi:type="dcterms:W3CDTF">2013-04-06T16:46:34Z</dcterms:modified>
  <cp:revision>37</cp:revision>
  <dc:subject/>
  <dc:title>Системно-деятельностный подход как технологическая основа ФГОС нового поколения</dc:title>
</cp:coreProperties>
</file>