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A37-1835-46F9-BF47-3E5ACAB4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1AB-61F6-47DF-B697-754E3629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E58-7A70-4E57-991A-AED258EE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87B-F773-479E-8BD7-7EC4BE1F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D04-2EA3-47AB-A07B-04BABD02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F5D-9BC0-4318-A2C3-2C878E2F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CE6-1643-48C3-8D48-19A3B161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BE5-C49A-462E-86F2-5481B90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AE4-A1CB-45F6-BDCB-A24771F7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F60-E788-4698-8BB1-8C1ABCC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82D-1A29-43F8-8272-6012F57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070-4B9A-44BB-9B32-E37DD16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963-5866-4F0F-A790-A6004134B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воспитательный процес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спекте содерж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ГОС НО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797360"/>
            <a:ext cx="871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446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a39"/>
                </a:solidFill>
                <a:latin typeface="Arial"/>
              </a:rPr>
              <a:t>Ларина А.В., учитель нач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a39"/>
                </a:solidFill>
                <a:latin typeface="Arial"/>
              </a:rPr>
              <a:t>классов МАОУ «СОШ №7»</a:t>
            </a:r>
            <a:r>
              <a:rPr b="1" lang="ru-RU" sz="20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Патриот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Интеллек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Познавашка» (руководитель Ларина А.В.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Веселые ритмы» (рук. Мищенко О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Народные промыслы» (рук. Матюх О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Формула рукоделия» (рук. Лапаева Е.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Актерское мастерство» (рук.Чугирова В.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Хореография» (рук. Чугирова В. Г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Солнечный лучик» (рук. Голубева Л. И.)</a:t>
            </a:r>
            <a:r>
              <a:rPr b="1" lang="ru-RU" sz="2800" spc="-1" strike="noStrike">
                <a:solidFill>
                  <a:srgbClr val="172b1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а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SCN1927"/>
          <p:cNvPicPr/>
          <p:nvPr/>
        </p:nvPicPr>
        <p:blipFill>
          <a:blip r:embed="rId1"/>
          <a:stretch/>
        </p:blipFill>
        <p:spPr>
          <a:xfrm>
            <a:off x="21240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Фото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Фото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SCN1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Подари ребенку радость творчества, осознание авторского 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Веди ученика от собственного опыта к обществе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Будь не «НАД», а «РЯД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Радуйся вопросу, но отвечать не спе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Учи анализировать каждый этап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Критикуя, стимулируй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 - блестящ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ас прекрасные уче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175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63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635"/>
                </a:solidFill>
                <a:latin typeface="Arial"/>
              </a:rPr>
              <a:t>Цели и задачи системы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68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Цель: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общекультурное,   личностное   и познавательное   развитие   учащихся, обеспечивающие   такую   ключевую компетенцию образования, как «научить учиться».</a:t>
            </a: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Задача: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формирование   совокупности универсальных   учебных   действий, обеспечивающих компетенцию «научить учить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учебно-воспитательног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а в 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8000" y="4142880"/>
            <a:ext cx="903600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Система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а 156 из 2872"/>
          <p:cNvPicPr/>
          <p:nvPr/>
        </p:nvPicPr>
        <p:blipFill>
          <a:blip r:embed="rId1"/>
          <a:stretch/>
        </p:blipFill>
        <p:spPr>
          <a:xfrm>
            <a:off x="3357720" y="1214280"/>
            <a:ext cx="557676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408517_3c6c1fa7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00040" y="2000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00320" y="856800"/>
            <a:ext cx="47862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«Деятельностный метод обучения является универсальным. Сообразно ему следовало бы поступать не только в начальных школах, но во всех школах, даже в высших учебных заведе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714680" y="5072040"/>
            <a:ext cx="7215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Этот метод уместен везде, где знание должно быть еще приобретено, то есть для всякого учащего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А.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урока в 1 класс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1197000"/>
            <a:ext cx="489924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437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. Психологический наст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2. И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3. Создание проблем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4. Формулирование темы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5. Постановка целей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6. Поиск способов решени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7. Первичное закре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8.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9. Включение в систему знаний и повт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0. 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N18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3"/>
          <p:cNvSpPr/>
          <p:nvPr/>
        </p:nvSpPr>
        <p:spPr>
          <a:xfrm>
            <a:off x="5003640" y="765000"/>
            <a:ext cx="4284720" cy="3673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Мета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ные  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действ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ющие овла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ыми компетенц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щими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ж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"/>
          <p:cNvSpPr/>
          <p:nvPr/>
        </p:nvSpPr>
        <p:spPr>
          <a:xfrm>
            <a:off x="468360" y="692280"/>
            <a:ext cx="496728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ческой для д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 по получению 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я, его преобраз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ю, система основополага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ов научного знания, лежа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снове на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 flipH="1">
            <a:off x="713520" y="4500720"/>
            <a:ext cx="8215560" cy="2357280"/>
          </a:xfrm>
          <a:prstGeom prst="ellipse">
            <a:avLst/>
          </a:prstGeom>
          <a:solidFill>
            <a:srgbClr val="0796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цен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ки обучающихся, социальные компетен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558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667160" y="675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428760" y="0"/>
            <a:ext cx="8715240" cy="620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лексный подход к оценке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 выработки адекватн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1 шаг.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Что нужно было сделать в этом задании (задаче)? Какая была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, что нужно было  получить в результа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2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Удалось получить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результат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? Найдено решение, отв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3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Справился полностью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правильно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или с незначительной ошибкой (какой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a39"/>
                </a:solidFill>
                <a:uFillTx/>
                <a:latin typeface="Arial"/>
              </a:rPr>
              <a:t>4 шаг.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Справился полностью </a:t>
            </a:r>
            <a:r>
              <a:rPr b="1" i="1" lang="ru-RU" sz="2800" spc="-1" strike="noStrike">
                <a:solidFill>
                  <a:srgbClr val="003a39"/>
                </a:solidFill>
                <a:latin typeface="Arial"/>
              </a:rPr>
              <a:t>самостоятельно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или с небольшой помощью (кто помогал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ак метод оценива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чностного р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1. «Кто я и чего хоч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2. «Чему я научился на ВСЕХ предмета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3. «Чему я научился на РАЗНЫХ предмета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4. «Достижения ВНЕ учеб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5. «Правила ведения Портфеля дост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a39"/>
                </a:solidFill>
                <a:latin typeface="Arial"/>
              </a:rPr>
              <a:t>и оценка его материал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0" y="0"/>
            <a:ext cx="42876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774"/>
                </a:solidFill>
                <a:latin typeface="Arial"/>
              </a:rPr>
              <a:t>НОО</a:t>
            </a:r>
            <a:r>
              <a:rPr b="1" lang="ru-RU" sz="2000" spc="-1" strike="noStrike">
                <a:solidFill>
                  <a:srgbClr val="0077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03:33Z</dcterms:created>
  <dc:creator>Nataly</dc:creator>
  <dc:description/>
  <dc:language>en-US</dc:language>
  <cp:lastModifiedBy>Коля</cp:lastModifiedBy>
  <dcterms:modified xsi:type="dcterms:W3CDTF">2013-04-06T16:46:34Z</dcterms:modified>
  <cp:revision>37</cp:revision>
  <dc:subject/>
  <dc:title>Системно-деятельностный подход как технологическая основа ФГОС нового поколения</dc:title>
</cp:coreProperties>
</file>