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02D-0E44-4384-89AA-AEFF9809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C46-B2AB-4CB2-AF78-924F81EB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040-2200-407B-A505-52EEFE03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10B-6CA3-4478-8708-FC043FAE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973-DC93-4E66-BED0-2C01867D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DB9-A227-4AA8-A38D-E467AB82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F8C-7094-4C89-B860-A81F6D6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76B-DF0B-45E0-B12A-1B64695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36C-A6D1-4DB7-87D3-AC635093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F72-8D46-4EDD-B266-B4A7C731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6CA-62AB-46F0-97FF-28CBD26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115-8562-42E7-B080-6572FE41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601-8B44-4898-A249-A6C8AE91C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о-воспитательный процесс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спекте содерж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ГОС НО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797360"/>
            <a:ext cx="871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446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a39"/>
                </a:solidFill>
                <a:latin typeface="Arial"/>
              </a:rPr>
              <a:t>Ларина А.В., учитель нач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a39"/>
                </a:solidFill>
                <a:latin typeface="Arial"/>
              </a:rPr>
              <a:t>классов МАОУ «СОШ №7»</a:t>
            </a:r>
            <a:r>
              <a:rPr b="1" lang="ru-RU" sz="20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Патриот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Интеллек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Познавашка» (руководитель Ларина А.В.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Веселые ритмы» (рук. Мищенко О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Народные промыслы» (рук. Матюх О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Формула рукоделия» (рук. Лапаева Е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Актерское мастерство» (рук.Чугирова В.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Хореография» (рук. Чугирова В. Г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Солнечный лучик» (рук. Голубева Л. И.)</a:t>
            </a:r>
            <a:r>
              <a:rPr b="1" lang="ru-RU" sz="2800" spc="-1" strike="noStrike">
                <a:solidFill>
                  <a:srgbClr val="172b1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урочна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SCN1927"/>
          <p:cNvPicPr/>
          <p:nvPr/>
        </p:nvPicPr>
        <p:blipFill>
          <a:blip r:embed="rId1"/>
          <a:stretch/>
        </p:blipFill>
        <p:spPr>
          <a:xfrm>
            <a:off x="212400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Фото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Фото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SCN18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Подари ребенку радость творчества, осознание авторского 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Веди ученика от собственного опыта к обществе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Будь не «НАД», а «РЯД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Радуйся вопросу, но отвечать не спе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Учи анализировать каждый этап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Критикуя, стимулируй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 - блестящ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ас прекрасные учени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175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63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635"/>
                </a:solidFill>
                <a:latin typeface="Arial"/>
              </a:rPr>
              <a:t>Цели и задачи системы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68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Цель: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общекультурное,   личностное   и познавательное   развитие   учащихся, обеспечивающие   такую   ключевую компетенцию образования, как «научить учиться».</a:t>
            </a: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Задача: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формирование   совокупности универсальных   учебных   действий, обеспечивающих компетенцию «научить учить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учебно-воспитательног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а в 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8000" y="4142880"/>
            <a:ext cx="9036000" cy="25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Система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а 156 из 2872"/>
          <p:cNvPicPr/>
          <p:nvPr/>
        </p:nvPicPr>
        <p:blipFill>
          <a:blip r:embed="rId1"/>
          <a:stretch/>
        </p:blipFill>
        <p:spPr>
          <a:xfrm>
            <a:off x="3357720" y="1214280"/>
            <a:ext cx="557676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408517_3c6c1fa7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00040" y="2000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00320" y="856800"/>
            <a:ext cx="47862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Деятельностный метод обучения является универсальным. Сообразно ему следовало бы поступать не только в начальных школах, но во всех школах, даже в высших учебных заведе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714680" y="5072040"/>
            <a:ext cx="7215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Этот метод уместен везде, где знание должно быть еще приобретено, то есть для всякого учащего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А.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урока в 1 класс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1197000"/>
            <a:ext cx="489924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437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. Психологический наст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2. Иг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3. Создание проблем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4. Формулирование темы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5. Постановка целей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6. Поиск способов решени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7. Первичное закре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8. 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9. Включение в систему знаний и повт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0. 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N18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3"/>
          <p:cNvSpPr/>
          <p:nvPr/>
        </p:nvSpPr>
        <p:spPr>
          <a:xfrm>
            <a:off x="5003640" y="765000"/>
            <a:ext cx="4284720" cy="3673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Метапредме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ные  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действия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ющие овла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ыми компетенц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щими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ж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"/>
          <p:cNvSpPr/>
          <p:nvPr/>
        </p:nvSpPr>
        <p:spPr>
          <a:xfrm>
            <a:off x="468360" y="692280"/>
            <a:ext cx="496728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Предме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ческой для д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 по получению н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я, его преобразо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ю, система основополага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ов научного знания, лежа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снове на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 flipH="1">
            <a:off x="713520" y="4500720"/>
            <a:ext cx="8215560" cy="2357280"/>
          </a:xfrm>
          <a:prstGeom prst="ellipse">
            <a:avLst/>
          </a:prstGeom>
          <a:solidFill>
            <a:srgbClr val="0796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цен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ки обучающихся, социальные компетен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5589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667160" y="675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428760" y="0"/>
            <a:ext cx="8715240" cy="620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лексный подход к оценке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 выработки адекватн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1 шаг.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Что нужно было сделать в этом задании (задаче)? Какая была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, что нужно было  получить в результа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2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Удалось получить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результат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? Найдено решение, отв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3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Справился полностью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правильно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или с незначительной ошибкой (какой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4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Справился полностью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самостоятельно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или с небольшой помощью (кто помогал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ак метод оценива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чностного р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. «Кто я и чего хоч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2. «Чему я научился на ВСЕХ предмета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3. «Чему я научился на РАЗНЫХ предмета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4. «Достижения ВНЕ учеб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5. «Правила ведения Портфеля дост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и оценка его материал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03:33Z</dcterms:created>
  <dc:creator>Nataly</dc:creator>
  <dc:description/>
  <dc:language>en-US</dc:language>
  <cp:lastModifiedBy>Коля</cp:lastModifiedBy>
  <dcterms:modified xsi:type="dcterms:W3CDTF">2013-04-06T16:46:34Z</dcterms:modified>
  <cp:revision>37</cp:revision>
  <dc:subject/>
  <dc:title>Системно-деятельностный подход как технологическая основа ФГОС нового поколения</dc:title>
</cp:coreProperties>
</file>