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237-9F8E-43E7-BED7-A9C4B46C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633-EA06-4A75-ABEF-94B30D62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9DB-7F63-47FB-B63E-BFFC8D9C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6659-6F39-48EB-B965-73AECA81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D610-734C-4A93-A084-421B8453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8B9F-5EAD-42CC-A800-D7967279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7616-CFC5-4172-AD8B-7922D70E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BE24-0023-448F-B45D-56B23FC2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4144-F072-4DA8-B1FC-266978B9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1201-523E-4C1B-AF5A-BFE996D7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81FD-4293-46DF-A177-446038C2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737-D518-4BD2-8DD8-0BD76B8D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9868-C0C9-46BA-B04F-A88A2056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A5E9-1745-4AC4-AD31-4F5E982E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6542-88D0-4B06-B896-7906E165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6781-2503-4E75-8546-382FAF69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1E10-27EE-4F94-9874-81C2CEA7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C48F9-2A9A-4BD4-9751-B561F38C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DD95A-A14C-41F6-A1D4-B9E83E80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E3AA2-8811-4D29-A79A-20E6F95D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3E3BE-FAED-4E00-89A6-918684CA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3F3CA-5CE9-47F4-B826-E94CD3B8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5DB-5E53-4A9B-9C10-46616F03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68E6D-0762-4FFD-A47A-112F1BCE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FFAA2-B943-43D9-955A-52789043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5B37C-856C-4602-8172-53082847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C0E95-3B40-4A56-BAFF-F04F59AA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B5D31-9897-4824-8E9E-47C7D9CF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C0BA7-0467-488B-BD29-877A10D6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8CF28-A4EF-4603-8816-1A851E69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C0E79B-BC24-44AC-9186-F2ECE6BE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585E4C-4C3C-4434-A010-0B02D6E1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ABD767-E712-4050-B794-BDD931CC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4715-7F53-4890-AF2C-95F4C30A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C219D0-995E-49D6-B195-F085585A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2DD163-E18B-4CC6-AF70-CAA2CD99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85DA69-55F6-47C8-830C-1EDCBA5D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1B7501-D59A-47A0-A363-B207EDD1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67F3EC-72E8-47E2-B397-0C1F6D89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A597E4-1C4F-4D21-A833-778BC1AC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6983D6-CD7C-4205-A178-F1ACDCD5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E73647-8A76-4995-98C1-BEADCB6E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865171-9C83-4628-B3BF-36A09029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70FE8-81A5-41E5-873B-A0498A09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AC6-D411-4CE3-AF2B-E0A68729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37B52-90D9-4C2C-91D8-5A578B94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D686C-D24C-4A65-B0CB-CD6E629A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70A6F-041C-458F-8CE0-0707E423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1B975-DBAD-411B-9441-9D71A84E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00690-54DB-4A66-818D-80BEA2EE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49AB7-9BB3-4142-B086-7D55E55B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3B840-1C5D-4A5C-A8E4-A308602A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F3E4F-3726-44BC-9EB7-2342E108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05385-7CE4-4D14-AC11-C40A6DC9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A8109-51ED-4B76-853F-A4CE08B3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E89-18DB-4DAA-808D-06B25CA1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E5B32-5F12-48DC-85B4-C8F801AE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58F61-B5BD-4C9B-A27F-4F0DE4E6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C5419-5D58-45BB-BA1C-A40390EF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90126-A7BC-4066-BFAA-E62D9C3F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E5A71-C534-4D26-AC25-30ABA606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33A3B-2D81-4A4D-B980-8DB6D094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344DD-D65C-48E0-A5F3-FB20D4D7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B38BA-80E7-4C82-A407-A40C828A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869C3-0725-437D-9777-F706844D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44EEE-12A4-4D94-A721-967054F5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734D-B83C-4053-A927-7DAA0E12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B2C90-1B6D-4E70-BD2F-57537376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82B80-BBBA-4405-BD50-6727BF80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22E2F-773A-478A-A985-FBB846A6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9EBDA-3522-424E-A5B8-355728C6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F3297-A300-48EF-AE29-8465F429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CB079-E6DE-4197-964B-512BF2FB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73445-251B-4A8A-A40D-9ADC4A06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40D55-44E7-422F-9DCB-9A8B0C0D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12D50-576E-44AA-B988-70F48C6A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99245-27C7-40CC-B870-EA055BAE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26F-17B8-4CEF-BCEB-A4EAFEAD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F1A23-D085-48CA-97C3-717057E9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7FA4D-9436-43E8-8271-FD8BD373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718D1-AC70-4C6F-9BFC-250DADDC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AA629-C2AC-4A0D-99E2-F4BC32BC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330C0-E99D-49B9-90ED-E4298DB7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96C-3670-4A45-8C45-235A903D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B403-EC09-496B-993F-784368188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924D-CEAE-4142-8721-30F11DB4718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A749-19BD-4E55-8787-F4CD48D7621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FBD1-0CC0-4FC4-84CC-9C81025A6C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5D5B-F689-4DA0-9DC7-83D961D2FD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EA9C-D294-45E3-B325-A1CE67B75A1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3E5B-7532-4976-9B6E-3965B8D492B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Физическая культура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и Олимпийское движение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  Росси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колай Панин - Коломен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410080" y="2743200"/>
            <a:ext cx="3353040" cy="3962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038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алисман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X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Олимпийских игр в Москве   в 1980 го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9528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809880" cy="2247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228600" y="4000680"/>
            <a:ext cx="3962520" cy="26287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4343400" y="205740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лимпийские объекты Мос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анкувер – 2010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Зимняя Олимпиа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876920" cy="24382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4876920" cy="25146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5715000" y="2057400"/>
            <a:ext cx="2971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зультаты на зимних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Олимпийских игр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80880" y="1981080"/>
          <a:ext cx="8305920" cy="4495680"/>
        </p:xfrm>
        <a:graphic>
          <a:graphicData uri="http://schemas.openxmlformats.org/drawingml/2006/table">
            <a:tbl>
              <a:tblPr/>
              <a:tblGrid>
                <a:gridCol w="1038240"/>
                <a:gridCol w="1038240"/>
                <a:gridCol w="1038240"/>
                <a:gridCol w="1038240"/>
                <a:gridCol w="1038240"/>
                <a:gridCol w="1038240"/>
                <a:gridCol w="1038240"/>
                <a:gridCol w="1038240"/>
              </a:tblGrid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ступление на летних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Олимпийских игр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57200" y="1981080"/>
          <a:ext cx="8229600" cy="46483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просы на закрепл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какого года  первые представители России участвовали в Олимпийских иг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д создания российского Олимпийского комит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какого года команда СССР принимала участие  в Олимпийских иг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«Об образовании» и физическая куль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ческая культура – часть общей культуры общества, достижения в области физического воспитания и совершенствования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358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1821960" y="171360"/>
            <a:ext cx="5499720" cy="6513120"/>
            <a:chOff x="1821960" y="171360"/>
            <a:chExt cx="5499720" cy="6513120"/>
          </a:xfrm>
        </p:grpSpPr>
        <p:sp>
          <p:nvSpPr>
            <p:cNvPr id="330" name="_s104485"/>
            <p:cNvSpPr/>
            <p:nvPr/>
          </p:nvSpPr>
          <p:spPr>
            <a:xfrm flipH="1" flipV="1">
              <a:off x="3249000" y="2612520"/>
              <a:ext cx="663120" cy="40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04484"/>
            <p:cNvSpPr/>
            <p:nvPr/>
          </p:nvSpPr>
          <p:spPr>
            <a:xfrm>
              <a:off x="1821960" y="1392840"/>
              <a:ext cx="1527480" cy="162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Зна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натом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04483"/>
            <p:cNvSpPr/>
            <p:nvPr/>
          </p:nvSpPr>
          <p:spPr>
            <a:xfrm flipH="1">
              <a:off x="3249000" y="3833280"/>
              <a:ext cx="663120" cy="40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04482"/>
            <p:cNvSpPr/>
            <p:nvPr/>
          </p:nvSpPr>
          <p:spPr>
            <a:xfrm>
              <a:off x="1823760" y="3836880"/>
              <a:ext cx="1527120" cy="162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истем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изическо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оспит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04481"/>
            <p:cNvSpPr/>
            <p:nvPr/>
          </p:nvSpPr>
          <p:spPr>
            <a:xfrm>
              <a:off x="4571640" y="4239000"/>
              <a:ext cx="0" cy="81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04480"/>
            <p:cNvSpPr/>
            <p:nvPr/>
          </p:nvSpPr>
          <p:spPr>
            <a:xfrm>
              <a:off x="3809880" y="5056920"/>
              <a:ext cx="1527480" cy="1627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бществен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  личн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гигие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04479"/>
            <p:cNvSpPr/>
            <p:nvPr/>
          </p:nvSpPr>
          <p:spPr>
            <a:xfrm>
              <a:off x="5231520" y="3833280"/>
              <a:ext cx="663120" cy="40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04478"/>
            <p:cNvSpPr/>
            <p:nvPr/>
          </p:nvSpPr>
          <p:spPr>
            <a:xfrm>
              <a:off x="5794200" y="3833280"/>
              <a:ext cx="1527480" cy="162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ежи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тру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 отдых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04477"/>
            <p:cNvSpPr/>
            <p:nvPr/>
          </p:nvSpPr>
          <p:spPr>
            <a:xfrm flipV="1">
              <a:off x="5231520" y="2612520"/>
              <a:ext cx="663120" cy="40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04476"/>
            <p:cNvSpPr/>
            <p:nvPr/>
          </p:nvSpPr>
          <p:spPr>
            <a:xfrm>
              <a:off x="5792760" y="1391400"/>
              <a:ext cx="1527120" cy="162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Закалива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И оздоравли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04475"/>
            <p:cNvSpPr/>
            <p:nvPr/>
          </p:nvSpPr>
          <p:spPr>
            <a:xfrm flipV="1">
              <a:off x="4571640" y="1798920"/>
              <a:ext cx="0" cy="81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04474"/>
            <p:cNvSpPr/>
            <p:nvPr/>
          </p:nvSpPr>
          <p:spPr>
            <a:xfrm>
              <a:off x="3808080" y="171360"/>
              <a:ext cx="1527120" cy="162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сихолог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04473"/>
            <p:cNvSpPr/>
            <p:nvPr/>
          </p:nvSpPr>
          <p:spPr>
            <a:xfrm>
              <a:off x="3808080" y="2614680"/>
              <a:ext cx="1527120" cy="162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изическ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ульту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267080" cy="44244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3810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тр Францевич Лесгаф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3962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на 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038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лица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импийских игр сов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льный секретарь комиссии по возрождению Олимпийских игр в 1894г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диции Олимпийских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572000" y="2514600"/>
            <a:ext cx="4419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0" y="36572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р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это средство и метод физического воспитания, система организации и проведения соревнований по различным вид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наряду с укреплением здоровья и общим физическим развитием человека, достижение высоких результатов и побед в состяза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3200400" cy="31622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505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юбители и профессионал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191120" cy="47246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4114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тыга</cp:lastModifiedBy>
  <dcterms:modified xsi:type="dcterms:W3CDTF">2010-04-06T08:15:53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