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CD3-1061-41DA-B768-866C6EEF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F67-2F35-47C7-B36C-FF7CCFFB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C8D-1DFE-495E-B433-3F59A73B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7BA-4CE1-48CD-9FAD-CBBC2B70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6420-A880-495D-962F-35E097EF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ADF5-1302-4DB1-9552-B90DD367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523E-34C4-48B2-AA5C-7B3BD457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CD96-E463-4737-8351-A5B780D1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86B4-8225-4DC9-9ABD-A91A82AE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EBCC-692A-4126-9070-13EC3756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514F-4403-437D-8CA9-09132F9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535-527E-4430-8F64-542567F5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FEEB-9CB4-44F4-8FC4-240995C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F73C-21F0-4B3B-8B25-2389194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A00E-8D10-4BE7-9C34-C4F38F25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CC1B-2D79-4756-A249-0D32A1FD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E323-27E6-484F-9703-3583E3FC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8481-CCF9-4115-A8AD-ED52A0FA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EF42-A307-4EA8-94CB-2E0E214A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1F3F-4096-41E8-8E5D-807A116F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02A8-2540-4A59-BD61-F6A9C7CA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741B-DCC6-418D-B922-F48F9ADF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12D-C752-4859-80BA-B5E5C5CA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7901-B7C5-4E49-8505-92336576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16A4-7940-49D5-B6A7-A7ECA1B3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D4BD-0F60-4DD3-8538-49E5F1BD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3B3B-40BC-48B1-925A-D009E150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9B50-AFDD-4332-99E4-5704516E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2B52-D865-4378-B58F-7E953D31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A23A-7CAB-4D2B-B255-63317DED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53698-50BF-4096-8D09-34EC864F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55FFE-8DF6-40E2-95CA-1FF5AEB9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D5443-C7A2-40FA-8C40-DEEF4FEC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549-97E0-4344-93AD-B959693D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2E9E4-9A0A-4A44-8A7F-73DCAA3E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6E795-2F9D-47F2-9920-86069C4D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B9433-B088-4CCE-BE1C-100E4809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ED3BB-F431-41D3-95B3-2C888D2C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917C4-C572-4C69-85EA-4A377211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2C831-A81D-4F3D-98CF-5DD0B206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0BEBA-4BA7-40FB-832A-BB3360A1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16272-119D-4C44-B173-20527992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084C2-A7F4-4205-920A-30965B32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87954-197F-4215-9BA1-5CFA6BF6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A64-CCCD-4746-B653-31C19B52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89DD2-89DB-4026-960C-57989769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DF38-F10B-4267-A886-7A2726F4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3B59-6168-463D-855F-67248E5F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A4D6-7DB8-489B-ACE1-EB57B383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FDE8-890F-4A44-B4FB-986351AD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8CA3B-8E49-4F95-A110-104E23E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492A0-3533-4F29-BF24-D9ACA9CA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B694D-7834-4082-9B8A-DB1F1173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5091F-D1FB-4A5B-BBAF-53B38492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B1DA8-6150-4738-998F-84C4A36A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1FA-1792-41EC-B538-F0F903F0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02FBE-5F27-4346-9C19-DCF05FE2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424FD-86F4-4785-B32C-ECAE7189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1C0F-0E88-4FD8-90E7-B39E52C8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D7F7C-E49D-4368-A67A-6DEA5A22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421C1-946E-480A-AA39-D071CADB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64789-007B-4CB5-886E-69619463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313DD-7DC5-47D3-B8A6-D0E12B36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10DED-C74A-44D4-936F-8258310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0887A-AB2A-401D-9EED-F31F9AB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A158-8EF6-44FC-8AD6-F588A0F2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BCE-9862-405F-9BBD-0254E454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2F95-DF14-404A-A056-016F1E84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7EEBC-B8DB-431D-98BF-6D8D4E8C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4EBDD-A80D-4C1B-A1A2-DA9A649F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BFEB5-B489-4867-9193-09284F1C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CA5FF-108F-45EA-ABF0-49B19ACE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A3420-49D7-487E-A5EF-4E440B5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E3C91-227E-4656-BB58-FAED36D6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94CF2-4EE8-4A91-98E8-36C32F42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6F30F-F38B-4009-956D-A0FDBC65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0266-1AE2-4C83-B3B2-490E51D5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5FB-0D54-4600-ABE0-834A9B97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AF295-D56C-4B2B-972B-B7B8C6C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8D8B5-9CBA-4853-960C-B0DEC472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05D82-F96B-440D-9112-D8633887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7AB47-0E06-429E-93C7-5ACA30D2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18B6-4EA5-47F2-9BFF-D6F0CE7B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0B5-6A7F-432F-8423-58DAB0D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E5E7-2D67-47A3-865C-59818E3CF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604C-C573-4E83-8FA3-97D6CDC201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5E77-D02B-422F-9E7E-22AD853476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D98A-00BD-436B-B52B-F15F5A82B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CE4E-02CA-4287-ADAF-B7165F501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9B9-9F70-4240-8DFD-5E8C915B58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23F2-F120-41D6-93C2-5C3B79564B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изическая культура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 Олимпийское движение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  Росс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Панин - Коломен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3353040" cy="3962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лисман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лимпийских игр в Москве   в 1980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952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809880" cy="2247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28600" y="4000680"/>
            <a:ext cx="3962520" cy="26287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лимпийские объекты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нкувер – 2010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Зимняя Олимпиа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876920" cy="2438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4876920" cy="25146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297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на зимни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Олимпийских игр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80880" y="1981080"/>
          <a:ext cx="8305920" cy="4495680"/>
        </p:xfrm>
        <a:graphic>
          <a:graphicData uri="http://schemas.openxmlformats.org/drawingml/2006/table">
            <a:tbl>
              <a:tblPr/>
              <a:tblGrid>
                <a:gridCol w="1038240"/>
                <a:gridCol w="1038240"/>
                <a:gridCol w="1038240"/>
                <a:gridCol w="1038240"/>
                <a:gridCol w="1038240"/>
                <a:gridCol w="1038240"/>
                <a:gridCol w="1038240"/>
                <a:gridCol w="103824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ступление на летни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Олимпийских игр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57200" y="1981080"/>
          <a:ext cx="8229600" cy="46483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 на закреп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го года  первые представители России участвовали в Олимпийски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д создания российского Олимпийского ком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го года команда СССР принимала участие  в Олимпийски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«Об образовании» и физическая куль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ческая культура – часть общей культуры общества, достижения в области физического воспитания и совершенствования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1821960" y="171360"/>
            <a:ext cx="5499720" cy="6513120"/>
            <a:chOff x="1821960" y="171360"/>
            <a:chExt cx="5499720" cy="6513120"/>
          </a:xfrm>
        </p:grpSpPr>
        <p:sp>
          <p:nvSpPr>
            <p:cNvPr id="330" name="_s104485"/>
            <p:cNvSpPr/>
            <p:nvPr/>
          </p:nvSpPr>
          <p:spPr>
            <a:xfrm flipH="1" flipV="1">
              <a:off x="3249000" y="261252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04484"/>
            <p:cNvSpPr/>
            <p:nvPr/>
          </p:nvSpPr>
          <p:spPr>
            <a:xfrm>
              <a:off x="1821960" y="1392840"/>
              <a:ext cx="152748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на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натом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04483"/>
            <p:cNvSpPr/>
            <p:nvPr/>
          </p:nvSpPr>
          <p:spPr>
            <a:xfrm flipH="1">
              <a:off x="3249000" y="383328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04482"/>
            <p:cNvSpPr/>
            <p:nvPr/>
          </p:nvSpPr>
          <p:spPr>
            <a:xfrm>
              <a:off x="1823760" y="383688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ческ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спит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04481"/>
            <p:cNvSpPr/>
            <p:nvPr/>
          </p:nvSpPr>
          <p:spPr>
            <a:xfrm>
              <a:off x="4571640" y="4239000"/>
              <a:ext cx="0" cy="81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4480"/>
            <p:cNvSpPr/>
            <p:nvPr/>
          </p:nvSpPr>
          <p:spPr>
            <a:xfrm>
              <a:off x="3809880" y="5056920"/>
              <a:ext cx="1527480" cy="162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ще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 лич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игие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04479"/>
            <p:cNvSpPr/>
            <p:nvPr/>
          </p:nvSpPr>
          <p:spPr>
            <a:xfrm>
              <a:off x="5231520" y="383328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4478"/>
            <p:cNvSpPr/>
            <p:nvPr/>
          </p:nvSpPr>
          <p:spPr>
            <a:xfrm>
              <a:off x="5794200" y="3833280"/>
              <a:ext cx="152748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жи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ру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отдых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4477"/>
            <p:cNvSpPr/>
            <p:nvPr/>
          </p:nvSpPr>
          <p:spPr>
            <a:xfrm flipV="1">
              <a:off x="5231520" y="261252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4476"/>
            <p:cNvSpPr/>
            <p:nvPr/>
          </p:nvSpPr>
          <p:spPr>
            <a:xfrm>
              <a:off x="5792760" y="139140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Закалива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 оздоравли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4475"/>
            <p:cNvSpPr/>
            <p:nvPr/>
          </p:nvSpPr>
          <p:spPr>
            <a:xfrm flipV="1">
              <a:off x="4571640" y="1798920"/>
              <a:ext cx="0" cy="81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4474"/>
            <p:cNvSpPr/>
            <p:nvPr/>
          </p:nvSpPr>
          <p:spPr>
            <a:xfrm>
              <a:off x="3808080" y="17136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04473"/>
            <p:cNvSpPr/>
            <p:nvPr/>
          </p:nvSpPr>
          <p:spPr>
            <a:xfrm>
              <a:off x="3808080" y="261468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ческ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уль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267080" cy="4424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тр Францевич Лесгаф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962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на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ица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импийских игр сов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ый секретарь комиссии по возрождению Олимпийских игр в 1894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и Олимпийски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4419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36572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р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это средство и метод физического воспитания, система организации и проведения соревнований по различным ви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наряду с укреплением здоровья и общим физическим развитием человека, достижение высоких результатов и побед в состяз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200400" cy="3162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юбители и профессиона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47246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тыга</cp:lastModifiedBy>
  <dcterms:modified xsi:type="dcterms:W3CDTF">2010-04-06T08:15:5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