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213-2847-42BB-AC44-F88968A7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4B4-758B-42EC-890A-A879B87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0C4-F2B2-4BE7-83B3-2AE215C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0E8-49AC-4BF1-B42A-15C58529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592E-49B8-407C-8983-9AFA97A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B36-9A39-4B75-8FB3-ED7E9C8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F2A6-6794-4E26-A2D4-B37B33F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0AD6-20DD-4DDA-98E6-AB4E832C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1EB-8CB6-41C2-9F8B-99F1ED6C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8872-BEEA-4393-AFE0-431E8229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E37B-4F10-484F-AB97-AC62DE5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34A-30DF-40B6-A2CA-6DC2CBF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C700-E8D7-4A38-B04D-E8E83E8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A084-5329-4D2F-838D-2B8A19C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46C0-0010-4CE4-8FBA-5C398145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728-522B-4CB5-8F11-F0AC22D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396-2B3B-4638-ADFC-6ED02C48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40F6-9233-45A5-A033-66228793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039F-9F38-4583-8172-7874439C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2567-0831-4A98-96EB-8434DEB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4C59-B034-4BF7-9306-73180B9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E285-A699-4435-8902-CDCF940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FAB-22FE-4227-8442-A63F54F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69AB-7C5C-4CE3-96D1-6AF0B46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41E8-49F6-4D7D-819B-CA07A52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89ED-42C0-4C53-9877-BDBF90E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0D13-8DE7-44E5-9CAB-F7F6BD5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54EA-1A23-4C12-833E-80C61D6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BA83-882D-44FF-9F4B-BA26A2C7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8906-0D4C-46FB-8AFC-9A770824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DABC8-CC70-4FB6-8D5D-1A63070A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81F11-B795-4BCD-A16D-A5B4B785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D0A0C-EA06-452F-88FB-C4B5EBC6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E2-A38E-4871-83F6-7A477D20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02C72-5D22-4127-81C7-4C860C4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3E7BD-EF15-44CA-A787-E823589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B3737-24CA-4F76-AEC9-7683814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39A28-9906-419C-ACC5-47F20E0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1D81A-A4F7-487F-A945-08D4F31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7CCE4-6E22-4784-A8A4-ED10E99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2B215-B0F5-4ECB-BEDE-FEBD0F4F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DE467-301C-4A24-8603-6F58758B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41115-EF0F-4585-8351-5AC9B1E8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6F44-A323-476A-8BC5-9351F53D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878-E363-4D74-968D-EAFAE17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EEEC-FA9D-4402-ABC3-DB6DCC4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2355B-A422-4E91-B3BD-A2F2E43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5732-90D1-45B5-8E0C-77CE4114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28EC-68D0-4D18-A8C3-6C240C0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DD70-97AF-4888-AFB9-71A12996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2E48-DCDA-4F3D-9584-2BD03C8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0C0D-2384-46BD-B0E3-486E183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797C-A81C-461D-A8E0-DB4E462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8081-470D-4516-B39A-9DCB549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6514-04E6-4E73-A5C6-B8268627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394-0EC9-457D-A548-AFE0C3CC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B0C9-F5EC-4885-A766-2E588D51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646B-F49F-42AE-9FE2-D9E91FAB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72DA-D599-42C2-92F0-9D4E443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06AE-C3A8-4611-A5FD-AC97A4A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01DF-A279-4DFC-9FD1-16EA1E8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9C37-2BE2-4597-A72A-52B9077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4D19-77C3-45E5-B0F3-BA553C35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F144-D33A-40E0-84E5-E1B42D3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FA7DF-3107-4E94-957B-63DA17D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7FF6-9DFF-428B-8CBB-DCF0C6D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F81-06D0-4ECA-BA59-A3B05AC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F86B-F9FB-46B8-8114-BA4FDA8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F661-9E6A-4356-BA3B-2CA9C093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54AA-2EAE-4083-89DE-4698450B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84AB1-EE2C-47B5-9D08-4C7854BB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D4E0-DA51-453F-AFD2-5CDDB842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CF65-DACD-46EE-9976-F3EB530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7ACF3-ED19-4414-B4B2-9200B089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3D18-5831-4C3C-90A4-726D0B24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8A18-A72B-4168-80A6-2A69799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BADF-D25A-479A-B4CC-68C0D19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4DE-19CD-4BA7-A796-6AF0D4C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1488-8F71-4701-867D-94EDCCD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4F28-2B2A-472F-B8B2-6E83C75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9CC9-EA59-4C06-80D0-C33BF1EF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7DA7D-4233-4F37-854F-CCBDD21A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6411-578E-4517-ABC5-D1B585F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BC7-3A3F-4202-B907-8BD8B83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8C7-E968-4743-9422-457FD7CDF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B13A-43D2-4AC4-809D-5C61B31F95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F19-0D8E-41EF-B74F-EFE4FB0761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F780-920B-4F91-9A39-DF75E757B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0E0-6BAC-401A-B53C-0B8E31D60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5F1-505D-4752-BBED-9E90FC3598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A332-BCE7-44CC-B751-90467198210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изическая культура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 Олимпийское движение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 Росс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Панин - Коломе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396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лисман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лимпийских игр в Москве   в 1980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52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28600" y="4000680"/>
            <a:ext cx="3962520" cy="2628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лимпийские объекты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нкувер – 2010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Зимняя Олимпи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876920" cy="2438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297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на зим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1981080"/>
          <a:ext cx="8305920" cy="4495680"/>
        </p:xfrm>
        <a:graphic>
          <a:graphicData uri="http://schemas.openxmlformats.org/drawingml/2006/table">
            <a:tbl>
              <a:tblPr/>
              <a:tblGrid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ступление на лет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1981080"/>
          <a:ext cx="8229600" cy="46483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на 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 первые представители России уча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 создания российского Олимпий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команда СССР принимала участие 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«Об образовании» и физическая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ая культура – часть общей культуры общества, достижения в области физического воспитания и совершенствования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821960" y="171360"/>
            <a:ext cx="5499720" cy="6513120"/>
            <a:chOff x="1821960" y="171360"/>
            <a:chExt cx="5499720" cy="6513120"/>
          </a:xfrm>
        </p:grpSpPr>
        <p:sp>
          <p:nvSpPr>
            <p:cNvPr id="330" name="_s104485"/>
            <p:cNvSpPr/>
            <p:nvPr/>
          </p:nvSpPr>
          <p:spPr>
            <a:xfrm flipH="1" flipV="1">
              <a:off x="324900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4484"/>
            <p:cNvSpPr/>
            <p:nvPr/>
          </p:nvSpPr>
          <p:spPr>
            <a:xfrm>
              <a:off x="1821960" y="139284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том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4483"/>
            <p:cNvSpPr/>
            <p:nvPr/>
          </p:nvSpPr>
          <p:spPr>
            <a:xfrm flipH="1">
              <a:off x="324900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4482"/>
            <p:cNvSpPr/>
            <p:nvPr/>
          </p:nvSpPr>
          <p:spPr>
            <a:xfrm>
              <a:off x="1823760" y="38368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4481"/>
            <p:cNvSpPr/>
            <p:nvPr/>
          </p:nvSpPr>
          <p:spPr>
            <a:xfrm>
              <a:off x="4571640" y="4239000"/>
              <a:ext cx="0" cy="81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4480"/>
            <p:cNvSpPr/>
            <p:nvPr/>
          </p:nvSpPr>
          <p:spPr>
            <a:xfrm>
              <a:off x="3809880" y="5056920"/>
              <a:ext cx="1527480" cy="162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ще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 лич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иги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4479"/>
            <p:cNvSpPr/>
            <p:nvPr/>
          </p:nvSpPr>
          <p:spPr>
            <a:xfrm>
              <a:off x="523152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4478"/>
            <p:cNvSpPr/>
            <p:nvPr/>
          </p:nvSpPr>
          <p:spPr>
            <a:xfrm>
              <a:off x="5794200" y="383328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отды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4477"/>
            <p:cNvSpPr/>
            <p:nvPr/>
          </p:nvSpPr>
          <p:spPr>
            <a:xfrm flipV="1">
              <a:off x="523152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4476"/>
            <p:cNvSpPr/>
            <p:nvPr/>
          </p:nvSpPr>
          <p:spPr>
            <a:xfrm>
              <a:off x="5792760" y="139140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акалив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оздоравли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4475"/>
            <p:cNvSpPr/>
            <p:nvPr/>
          </p:nvSpPr>
          <p:spPr>
            <a:xfrm flipV="1">
              <a:off x="4571640" y="1798920"/>
              <a:ext cx="0" cy="81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4474"/>
            <p:cNvSpPr/>
            <p:nvPr/>
          </p:nvSpPr>
          <p:spPr>
            <a:xfrm>
              <a:off x="3808080" y="17136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4473"/>
            <p:cNvSpPr/>
            <p:nvPr/>
          </p:nvSpPr>
          <p:spPr>
            <a:xfrm>
              <a:off x="3808080" y="26146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67080" cy="4424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Францевич Лесгаф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на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а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мпийских игр сов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ый секретарь комиссии по возрождению Олимпийских игр в 1894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 Олимпийски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36572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это средство и метод физического воспитания, система организации и проведения соревнований по различным ви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наряду с укреплением здоровья и общим физическим развитием человека, достижение высоких результатов и побед в состяз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200400" cy="3162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юбители и профессиона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4724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ыга</cp:lastModifiedBy>
  <dcterms:modified xsi:type="dcterms:W3CDTF">2010-04-06T08:15:5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