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5.jpeg" ContentType="image/jpeg"/>
  <Override PartName="/ppt/media/image16.gif" ContentType="image/gif"/>
  <Override PartName="/ppt/media/image8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273-E98B-4757-B6E7-ED446A75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922-3DAE-42A7-8354-2A1D40B1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6C4-2B26-4A61-8372-5AA4F4B8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6CA-47FF-4D61-BDF8-A10060A2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C91E-8171-40A8-87F7-62C3CCD0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A12F-5116-4F2E-A44D-B45AB687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4C85-CDA7-420D-97DE-EC7A8246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309D-AFAA-4AAD-A326-7611E209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E114-9B24-4FDB-9DE6-D9DE724A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5274-558A-4CD0-B47B-D4B10408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9C48-47CF-4592-ACF5-25B9E31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E22-4B89-420F-9135-4151D5A5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0CD6-8898-446C-80C3-9A0844C9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18B2-DE6A-471B-9744-9EE9EC9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65A7-1188-474A-8FB5-7F7871C6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81D-3A92-416C-88EB-5179A60C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9745-ABAA-471C-9276-BB09069A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27370-FD89-4C89-B594-F6DEC45A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87C69-AE81-4969-B34F-F5B56D00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AA054-889A-4A8C-B93C-67CAA779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315D2-44EE-4EC4-BFEE-96B8D7C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4FEE0-7F75-48FA-88F7-544A3FC1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670-7988-415E-804D-818E2571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C48CB-557A-4F19-9957-4B861EAA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9C082-E1E3-4D5C-980D-F4C3441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34E46-B701-465F-9BCA-75F9F564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04DAD-5F31-4834-887E-AC8E186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A6425-109A-4094-8EDC-B0F52A8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13175-1A6B-4490-82CD-5399A303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F980D-9CC3-4394-A1D1-A8285F7D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B1D4-C9F8-4542-ABE0-955C27C7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88B74-C2B3-48E3-B685-628940B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6503-F4BF-486B-A594-EE093C67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0E7-A9F7-4917-BC47-5A429457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9A9A0-385D-4617-B5AE-461B7E8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C70A6-E2E3-45D5-89F2-74BBA57A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01FE8-56D4-4713-B9E1-C14E3CAB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DADEC-4E02-4247-BA28-531CF748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C492-6AEE-496B-A328-2B27CB18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E15E-20A5-4876-B365-39577C0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F8547-92EE-4811-8948-74A9C632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E6A1C-2FA2-46F2-9495-D984402B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BA3CD-D74F-464B-8058-37E44757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45A91-665E-4B70-A4FC-EC22258D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D3E-52E1-48A2-AE21-707DA9E8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719CC-B11E-4FAC-9620-74CAEBC3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2B554-2104-4341-A579-7C07A6B3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7F7FF-E455-4072-B8E7-B1EDB645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3EA86-0155-48FA-99FE-157174E8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3FB23-F8A1-4740-B618-C9D7FD8C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F5604-FD12-4118-911F-7CD8CA8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CE250-8A3F-4473-8AB3-4A4BFB7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B3B5E-3D44-4F08-8B17-37206A09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55E55-E3C4-4C6C-8AAC-277C2D0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5987B-331B-44E7-9C58-40365ED4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D4F-F17A-4757-858C-224767E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CD13E-31F1-46BA-8BAB-B6604D46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1A7EB-47FE-43C3-9C35-CBC7FC89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9C7D3-A72F-4C67-8CD2-C659D5D2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8E9C4-8469-473C-807A-4EC5E3DC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B8C72-7DEF-4A65-BE62-1EACFA34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9B283-D3C3-4C7C-A7D4-27F3F448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16529-C90F-4726-B84A-7035E0F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53F76-BCB8-497C-9C1E-284327FC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F0208-BC56-4ACC-A99C-4D7CF78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471D8-6C96-4A73-9DC6-7230D297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A9B-C510-4DED-9377-4FE01753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71316-C7A4-440A-8642-35DF8FC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600D9-9C6F-4E46-990E-DECC1589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652C4-E4C0-4D69-97CD-79F4782A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EBAEB-5891-4027-8C9D-C685FD73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CB176-B027-4BAF-807F-A542FA7E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37C8B-99B8-400C-8363-57528A90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F306A-6D0B-4943-B335-0C8C8AA4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0782A6-5F52-417F-B493-967C75E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F26DA-CD93-45B3-B17F-D47184EF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B9AD7-0A77-4E08-9870-C535910E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4A5-DBD8-4E51-B4EC-8E31AB78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11864-7B06-41D9-A900-22AC9353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B84BE-1D1D-4DDE-82A1-77BFC41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296B8-B365-480E-A485-2FC1D1DD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3D748-C82A-4D81-8FC0-A2F7A2C6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565CA-7629-4890-91BF-F8BDC602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925-2F87-496F-B169-5AF4228B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70EB-C7C3-490F-B444-20EB80D19E7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C9AD-8F1B-497D-9DFA-EBB61266D79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0D44-CBF3-466F-9C6F-30994B8EF62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726D-CEB4-4509-8BFE-DD955AF711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E61B-D6B3-4E2D-B8E6-82AA1141BA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CE5A-19C0-46AD-8104-18416625E0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F5E-F2F0-4BB9-A8DC-120123D918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206800"/>
            <a:ext cx="7742520" cy="323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Documents and Settings\Admin\Рабочий стол\Новая папка (2)\кит4.jpg"/>
          <p:cNvPicPr/>
          <p:nvPr/>
        </p:nvPicPr>
        <p:blipFill>
          <a:blip r:embed="rId2"/>
          <a:stretch/>
        </p:blipFill>
        <p:spPr>
          <a:xfrm>
            <a:off x="3000240" y="142920"/>
            <a:ext cx="2714760" cy="2652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Documents and Settings\Admin\Рабочий стол\Новая папка (2)\кит4.jpg"/>
          <p:cNvPicPr/>
          <p:nvPr/>
        </p:nvPicPr>
        <p:blipFill>
          <a:blip r:embed="rId3"/>
          <a:stretch/>
        </p:blipFill>
        <p:spPr>
          <a:xfrm>
            <a:off x="6215040" y="3929040"/>
            <a:ext cx="2428920" cy="2500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Admin\Рабочий стол\Новая папка (2)\кит4.jpg"/>
          <p:cNvPicPr/>
          <p:nvPr/>
        </p:nvPicPr>
        <p:blipFill>
          <a:blip r:embed="rId4"/>
          <a:stretch/>
        </p:blipFill>
        <p:spPr>
          <a:xfrm>
            <a:off x="642960" y="4286160"/>
            <a:ext cx="2428920" cy="2286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8"/>
          <p:cNvSpPr/>
          <p:nvPr/>
        </p:nvSpPr>
        <p:spPr>
          <a:xfrm>
            <a:off x="436680" y="607212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ТАНЕЦ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2" descr="C:\Documents and Settings\Admin\Рабочий стол\Новая папка (2)\кит.jpg"/>
          <p:cNvPicPr/>
          <p:nvPr/>
        </p:nvPicPr>
        <p:blipFill>
          <a:blip r:embed="rId1"/>
          <a:stretch/>
        </p:blipFill>
        <p:spPr>
          <a:xfrm>
            <a:off x="2428920" y="2643120"/>
            <a:ext cx="4286160" cy="312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j0432535"/>
          <p:cNvPicPr/>
          <p:nvPr/>
        </p:nvPicPr>
        <p:blipFill>
          <a:blip r:embed="rId2"/>
          <a:stretch/>
        </p:blipFill>
        <p:spPr>
          <a:xfrm>
            <a:off x="285840" y="28584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5"/>
          <p:cNvSpPr/>
          <p:nvPr/>
        </p:nvSpPr>
        <p:spPr>
          <a:xfrm>
            <a:off x="650880" y="628668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 Black"/>
              </a:rPr>
              <a:t>«ЧЕМУ УЧАТ В ШКОЛЕ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Picture 2" descr="C:\Documents and Settings\Admin\Рабочий стол\Новая папка (2)\шаинский2.jpg"/>
          <p:cNvPicPr/>
          <p:nvPr/>
        </p:nvPicPr>
        <p:blipFill>
          <a:blip r:embed="rId1"/>
          <a:stretch/>
        </p:blipFill>
        <p:spPr>
          <a:xfrm>
            <a:off x="1357200" y="1571760"/>
            <a:ext cx="2928960" cy="3857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Documents and Settings\Admin\Рабочий стол\Новая папка (2)\пляцковский.jpg"/>
          <p:cNvPicPr/>
          <p:nvPr/>
        </p:nvPicPr>
        <p:blipFill>
          <a:blip r:embed="rId2"/>
          <a:stretch/>
        </p:blipFill>
        <p:spPr>
          <a:xfrm>
            <a:off x="4643280" y="1571760"/>
            <a:ext cx="3071880" cy="38574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1288080" y="61437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В.Ша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4904640" y="607212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.Пляц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44160" y="657216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 Black"/>
              </a:rPr>
              <a:t>РЕФЛЕКС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ак зовут «трёх китов»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Из каких звуков состоит музы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акие  ещё бывают зву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од какие звуки вы входили в класс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2" descr="D:\ДискС\лариса\картинки\аниме\09-2.gif"/>
          <p:cNvPicPr/>
          <p:nvPr/>
        </p:nvPicPr>
        <p:blipFill>
          <a:blip r:embed="rId1"/>
          <a:stretch/>
        </p:blipFill>
        <p:spPr>
          <a:xfrm>
            <a:off x="214200" y="214200"/>
            <a:ext cx="2214720" cy="1357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MCj04046990000[1]"/>
          <p:cNvPicPr/>
          <p:nvPr/>
        </p:nvPicPr>
        <p:blipFill>
          <a:blip r:embed="rId2"/>
          <a:stretch/>
        </p:blipFill>
        <p:spPr>
          <a:xfrm>
            <a:off x="857160" y="4071960"/>
            <a:ext cx="1763640" cy="1841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MCj04046990000[1]"/>
          <p:cNvPicPr/>
          <p:nvPr/>
        </p:nvPicPr>
        <p:blipFill>
          <a:blip r:embed="rId3"/>
          <a:stretch/>
        </p:blipFill>
        <p:spPr>
          <a:xfrm>
            <a:off x="3714840" y="4500720"/>
            <a:ext cx="1763640" cy="1841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MCj04046990000[1]"/>
          <p:cNvPicPr/>
          <p:nvPr/>
        </p:nvPicPr>
        <p:blipFill>
          <a:blip r:embed="rId4"/>
          <a:stretch/>
        </p:blipFill>
        <p:spPr>
          <a:xfrm>
            <a:off x="6357960" y="3929040"/>
            <a:ext cx="1763640" cy="18414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7"/>
          <p:cNvSpPr/>
          <p:nvPr/>
        </p:nvSpPr>
        <p:spPr>
          <a:xfrm>
            <a:off x="650880" y="650088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2193840" y="3206880"/>
            <a:ext cx="6297840" cy="19508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285640" y="2357280"/>
            <a:ext cx="617220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j0432535"/>
          <p:cNvPicPr/>
          <p:nvPr/>
        </p:nvPicPr>
        <p:blipFill>
          <a:blip r:embed="rId2"/>
          <a:stretch/>
        </p:blipFill>
        <p:spPr>
          <a:xfrm>
            <a:off x="-357120" y="1071720"/>
            <a:ext cx="2855880" cy="2855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j0432535"/>
          <p:cNvPicPr/>
          <p:nvPr/>
        </p:nvPicPr>
        <p:blipFill>
          <a:blip r:embed="rId3"/>
          <a:stretch/>
        </p:blipFill>
        <p:spPr>
          <a:xfrm>
            <a:off x="1214280" y="500040"/>
            <a:ext cx="2856240" cy="285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j0432535"/>
          <p:cNvPicPr/>
          <p:nvPr/>
        </p:nvPicPr>
        <p:blipFill>
          <a:blip r:embed="rId4"/>
          <a:stretch/>
        </p:blipFill>
        <p:spPr>
          <a:xfrm>
            <a:off x="2786040" y="0"/>
            <a:ext cx="2855880" cy="2855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507960" y="635796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57520" y="274680"/>
            <a:ext cx="3786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entury Schoolbook"/>
              </a:rPr>
              <a:t>С. В. Рахманинов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«Итальянская польк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C:\Documents and Settings\Admin\Рабочий стол\уроки музыки\рахманинов.jpg"/>
          <p:cNvPicPr/>
          <p:nvPr/>
        </p:nvPicPr>
        <p:blipFill>
          <a:blip r:embed="rId1"/>
          <a:stretch/>
        </p:blipFill>
        <p:spPr>
          <a:xfrm>
            <a:off x="857160" y="571680"/>
            <a:ext cx="4500720" cy="5715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365040" y="642924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45812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ВСЕ НА СВЕТЕ ДЕТИ ЗНАЮТ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ЗВУКИ РАЗНЫЕ БЫВАЮТ.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ЖУРАВЛЕЙ ПРОЩАЛЬНЫЙ КЛЁКОТ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САМОЛЁТА ГРОМКИЙ РОПОТ, 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ГУЛ МАШИНЫ ВО ДВОРЕ, 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ЛАЙ СОБАКИ В КОНУРЕ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СТУК КОЛЁС И ШУМ СТАНКА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ТИХИЙ ШЕЛЕСТ ВЕТЕРКА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C:\Documents and Settings\Admin\Рабочий стол\Новая папка (2)\кит.jpg"/>
          <p:cNvPicPr/>
          <p:nvPr/>
        </p:nvPicPr>
        <p:blipFill>
          <a:blip r:embed="rId1"/>
          <a:stretch/>
        </p:blipFill>
        <p:spPr>
          <a:xfrm>
            <a:off x="5000760" y="3571920"/>
            <a:ext cx="3786120" cy="312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j0432535"/>
          <p:cNvPicPr/>
          <p:nvPr/>
        </p:nvPicPr>
        <p:blipFill>
          <a:blip r:embed="rId2"/>
          <a:stretch/>
        </p:blipFill>
        <p:spPr>
          <a:xfrm>
            <a:off x="-285840" y="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0" descr="pe02282_"/>
          <p:cNvPicPr/>
          <p:nvPr/>
        </p:nvPicPr>
        <p:blipFill>
          <a:blip r:embed="rId3"/>
          <a:stretch/>
        </p:blipFill>
        <p:spPr>
          <a:xfrm>
            <a:off x="6072120" y="285840"/>
            <a:ext cx="2786040" cy="25718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6"/>
          <p:cNvSpPr/>
          <p:nvPr/>
        </p:nvSpPr>
        <p:spPr>
          <a:xfrm>
            <a:off x="365760" y="650088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 ;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4" descr=""/>
          <p:cNvPicPr/>
          <p:nvPr/>
        </p:nvPicPr>
        <p:blipFill>
          <a:blip r:embed="rId1"/>
          <a:stretch/>
        </p:blipFill>
        <p:spPr>
          <a:xfrm>
            <a:off x="2193840" y="1762200"/>
            <a:ext cx="6297840" cy="1888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2" descr="j0432535"/>
          <p:cNvPicPr/>
          <p:nvPr/>
        </p:nvPicPr>
        <p:blipFill>
          <a:blip r:embed="rId2"/>
          <a:stretch/>
        </p:blipFill>
        <p:spPr>
          <a:xfrm>
            <a:off x="285840" y="21420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j0432535"/>
          <p:cNvPicPr/>
          <p:nvPr/>
        </p:nvPicPr>
        <p:blipFill>
          <a:blip r:embed="rId3"/>
          <a:stretch/>
        </p:blipFill>
        <p:spPr>
          <a:xfrm>
            <a:off x="714240" y="6429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j0432535"/>
          <p:cNvPicPr/>
          <p:nvPr/>
        </p:nvPicPr>
        <p:blipFill>
          <a:blip r:embed="rId4"/>
          <a:stretch/>
        </p:blipFill>
        <p:spPr>
          <a:xfrm>
            <a:off x="5857920" y="421488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j0432535"/>
          <p:cNvPicPr/>
          <p:nvPr/>
        </p:nvPicPr>
        <p:blipFill>
          <a:blip r:embed="rId5"/>
          <a:stretch/>
        </p:blipFill>
        <p:spPr>
          <a:xfrm>
            <a:off x="6643800" y="464328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436680" y="64292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2" descr="C:\Documents and Settings\Admin\Рабочий стол\Новая папка (2)\баян.jpg"/>
          <p:cNvPicPr/>
          <p:nvPr/>
        </p:nvPicPr>
        <p:blipFill>
          <a:blip r:embed="rId1"/>
          <a:stretch/>
        </p:blipFill>
        <p:spPr>
          <a:xfrm>
            <a:off x="357120" y="0"/>
            <a:ext cx="3714840" cy="3429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Новая папка (2)\скрипка 2.jpeg"/>
          <p:cNvPicPr/>
          <p:nvPr/>
        </p:nvPicPr>
        <p:blipFill>
          <a:blip r:embed="rId2"/>
          <a:stretch/>
        </p:blipFill>
        <p:spPr>
          <a:xfrm>
            <a:off x="2571840" y="235728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Documents and Settings\Admin\Рабочий стол\Новая папка (2)\гитара 2.jpg"/>
          <p:cNvPicPr/>
          <p:nvPr/>
        </p:nvPicPr>
        <p:blipFill>
          <a:blip r:embed="rId3"/>
          <a:stretch/>
        </p:blipFill>
        <p:spPr>
          <a:xfrm>
            <a:off x="6000840" y="1643040"/>
            <a:ext cx="2928960" cy="5214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5"/>
          <p:cNvSpPr/>
          <p:nvPr/>
        </p:nvSpPr>
        <p:spPr>
          <a:xfrm>
            <a:off x="508320" y="635796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Стрелка вниз 5"/>
          <p:cNvSpPr/>
          <p:nvPr/>
        </p:nvSpPr>
        <p:spPr>
          <a:xfrm>
            <a:off x="0" y="357120"/>
            <a:ext cx="6357960" cy="17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компози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низ 6"/>
          <p:cNvSpPr/>
          <p:nvPr/>
        </p:nvSpPr>
        <p:spPr>
          <a:xfrm>
            <a:off x="1285920" y="2143080"/>
            <a:ext cx="6643800" cy="1785960"/>
          </a:xfrm>
          <a:prstGeom prst="downArrow">
            <a:avLst>
              <a:gd name="adj1" fmla="val 50000"/>
              <a:gd name="adj2" fmla="val 4657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исполн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трелка вниз 8"/>
          <p:cNvSpPr/>
          <p:nvPr/>
        </p:nvSpPr>
        <p:spPr>
          <a:xfrm>
            <a:off x="2571840" y="3929040"/>
            <a:ext cx="6572160" cy="1692360"/>
          </a:xfrm>
          <a:prstGeom prst="downArrow">
            <a:avLst>
              <a:gd name="adj1" fmla="val 50000"/>
              <a:gd name="adj2" fmla="val 4182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слуш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507960" y="635796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ПЕСН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Новая папка (2)\кит3.jpg"/>
          <p:cNvPicPr/>
          <p:nvPr/>
        </p:nvPicPr>
        <p:blipFill>
          <a:blip r:embed="rId1"/>
          <a:stretch/>
        </p:blipFill>
        <p:spPr>
          <a:xfrm>
            <a:off x="1785960" y="1785960"/>
            <a:ext cx="564372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j0432535"/>
          <p:cNvPicPr/>
          <p:nvPr/>
        </p:nvPicPr>
        <p:blipFill>
          <a:blip r:embed="rId2"/>
          <a:stretch/>
        </p:blipFill>
        <p:spPr>
          <a:xfrm>
            <a:off x="428760" y="428760"/>
            <a:ext cx="2286000" cy="19285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722520" y="62150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МАРШ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2" descr="C:\Documents and Settings\Admin\Рабочий стол\Новая папка (2)\кит4.jpg"/>
          <p:cNvPicPr/>
          <p:nvPr/>
        </p:nvPicPr>
        <p:blipFill>
          <a:blip r:embed="rId1"/>
          <a:stretch/>
        </p:blipFill>
        <p:spPr>
          <a:xfrm>
            <a:off x="2143080" y="1714680"/>
            <a:ext cx="4873680" cy="4873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j0432535"/>
          <p:cNvPicPr/>
          <p:nvPr/>
        </p:nvPicPr>
        <p:blipFill>
          <a:blip r:embed="rId2"/>
          <a:stretch/>
        </p:blipFill>
        <p:spPr>
          <a:xfrm>
            <a:off x="285840" y="28584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"/>
          <p:cNvSpPr/>
          <p:nvPr/>
        </p:nvSpPr>
        <p:spPr>
          <a:xfrm>
            <a:off x="579600" y="650088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11-12T19:23:22Z</dcterms:modified>
  <cp:revision>26</cp:revision>
  <dc:subject/>
  <dc:title>Слайд 1</dc:title>
</cp:coreProperties>
</file>