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5.jpeg" ContentType="image/jpeg"/>
  <Override PartName="/ppt/media/image16.gif" ContentType="image/gif"/>
  <Override PartName="/ppt/media/image8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C45-2CBD-4CAD-A37D-DE333957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3A5-2AE4-4F97-BA60-372E55C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027-5822-469C-96DB-F6A7EE22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3B0-D2B7-416A-8E33-B9D03EA8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F8C1-7171-4A55-9304-EACAF71D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D105-48C6-46BF-9E97-F89C78C5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F3F0-1BDD-47B4-A0E1-6CB9B992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8C1B-E7AD-43B2-8427-0532829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8C6-296B-47D0-B681-998AAD3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FB3-5FDC-4889-83E4-8812102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92D-B518-4551-AD30-E386CC9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5E7-0E5D-4D60-B45C-6BB17168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A956-0F35-4D19-9B59-45FC65B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0F8-F508-4FF3-A1E1-8978A69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6DE3-9BC9-45FD-9989-0AD1D080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75CF-DBCA-4E95-B724-96FFB65C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20D-A354-4F55-BCF5-E9639B8F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15A7A-B677-4682-AB34-80A1AFA9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959908-E599-477F-829D-264F1176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E4105-AFC6-4564-B72A-941F5A84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405E9-4125-4029-8C29-5BC175E1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40FE9-4832-4F39-8250-9254A7DA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245-92D2-4126-92A3-D653616C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31E94-A8BC-4A17-A493-BB6F336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25A6A-7E90-4D0F-BBBB-8DBBE0F7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2345C-3342-4519-BC83-F7142A9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FAD85-1792-4383-BCF1-A4287F5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B9F66-D871-408D-AA75-996A477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88790-7991-49C4-A963-D69733F2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916FC-B1F5-4311-B651-CA89DDCE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19DE-AF68-411F-AB43-BDF0212A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BD7D-81F9-43A6-AAE9-D9329280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227D1-EA27-4F39-A929-F884ACF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BD6-AFDD-4F64-A57C-4AB6D11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3EDF-3D67-4D95-A8D4-A23588B1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8288-4B11-44EA-A6DF-41D8B0A7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7A32-ED25-4849-B141-448AE2CE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3A67-7599-4CFD-BBC7-0E4F0C1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65AC-8698-4EA0-B384-9D6AF873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88EC-4C1B-421F-9F8F-086F15D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67D1-78CF-4448-B501-34E8D4E7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34FC-7CB6-41AD-9624-179181CE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17FC-4BED-48EE-875A-9043BB00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A3E17-E44B-4203-9832-8B73D269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23F-05F9-40C6-A4F9-2CB9671F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19230-C5E6-4B2B-9357-C421806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E5BC7-E0E9-49E2-B532-ED634853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25744-1527-43CB-8912-53DD4DB1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DFA20-0E6E-4D3F-B37F-B2B45C0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991ED-5124-43CE-9CB2-F3A7BEB5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10858-EAA6-4422-9649-9E2E8E3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B4C2A-36D5-4864-AB47-448E4662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17775-9344-4C94-962F-00676BB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73286-1A29-4AEB-8B99-527FA592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41781-9394-4AA8-9B49-7855FF4C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99B-6E3D-4754-A71E-E7482C65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80EEB-E198-4916-9343-78D57270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F1E8E-2482-4275-B474-26C8F139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5E404-3743-493F-A4D8-094809E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7A4A1-9D48-454C-9BC0-5AA70E08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294DD-2A50-4DC9-84F0-A190607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71D33-8048-46F1-8ED7-9B1022A3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3D5F8-24C0-4394-B9B7-D544145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73321-7A5E-412C-BC66-81ABF1D2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69156-2B21-4CFC-8996-70F004AC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3A10C-7A2B-499D-82F8-327345A5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8C8-BD38-48EB-A957-78F27DB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91D58-3CD8-4E6F-B460-0C635DAE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584F8-F1A4-4141-9371-8F7CA7F3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91F10-E755-442D-9226-105FEC9C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4ED66-EEE6-4908-895F-F7BE88DB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651BB-25BA-4F60-8866-DA3503B2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7FFE3-A419-4666-94DC-410BEAA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2F835-73BE-4639-BB0C-FCB1EB7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21D1F-E87E-4241-9DE7-34265131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58AEF-D919-46F4-BF00-F7A3281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2AD2A-5805-4038-BDA6-66041E6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218-35B2-4F28-9E30-1C3006E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955D0-9DD2-408A-94E4-AB73F91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8A6E7-2F72-480C-B774-33953E8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6DCE2-2F6A-46E8-BC1F-0F5C8B3A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D4252-FB07-4005-BDE5-E226194E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F054C-1070-4F8D-B06F-88ECA418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C37-3F33-45DC-9632-6EF5426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926-6264-415B-B6C9-94FA53E47C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FF0-0B1C-4C3F-91CC-DCC020555B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772-D388-467E-A0B7-C07D246346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0EE-6DDB-4B92-997E-A1FBEA27E6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86F-5C07-4770-8D1F-8CF7D83A50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DF43-6985-4284-8456-D96EDFFF9A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940-6191-45E2-94C8-9CB673227A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206800"/>
            <a:ext cx="7742520" cy="323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Admin\Рабочий стол\Новая папка (2)\кит4.jpg"/>
          <p:cNvPicPr/>
          <p:nvPr/>
        </p:nvPicPr>
        <p:blipFill>
          <a:blip r:embed="rId2"/>
          <a:stretch/>
        </p:blipFill>
        <p:spPr>
          <a:xfrm>
            <a:off x="3000240" y="142920"/>
            <a:ext cx="2714760" cy="26528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Documents and Settings\Admin\Рабочий стол\Новая папка (2)\кит4.jpg"/>
          <p:cNvPicPr/>
          <p:nvPr/>
        </p:nvPicPr>
        <p:blipFill>
          <a:blip r:embed="rId3"/>
          <a:stretch/>
        </p:blipFill>
        <p:spPr>
          <a:xfrm>
            <a:off x="6215040" y="3929040"/>
            <a:ext cx="2428920" cy="2500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Admin\Рабочий стол\Новая папка (2)\кит4.jpg"/>
          <p:cNvPicPr/>
          <p:nvPr/>
        </p:nvPicPr>
        <p:blipFill>
          <a:blip r:embed="rId4"/>
          <a:stretch/>
        </p:blipFill>
        <p:spPr>
          <a:xfrm>
            <a:off x="642960" y="4286160"/>
            <a:ext cx="2428920" cy="2286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8"/>
          <p:cNvSpPr/>
          <p:nvPr/>
        </p:nvSpPr>
        <p:spPr>
          <a:xfrm>
            <a:off x="436680" y="607212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ТАНЕЦ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2428920" y="2643120"/>
            <a:ext cx="4286160" cy="3124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50880" y="62866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«ЧЕМУ УЧАТ В ШКОЛЕ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C:\Documents and Settings\Admin\Рабочий стол\Новая папка (2)\шаинский2.jpg"/>
          <p:cNvPicPr/>
          <p:nvPr/>
        </p:nvPicPr>
        <p:blipFill>
          <a:blip r:embed="rId1"/>
          <a:stretch/>
        </p:blipFill>
        <p:spPr>
          <a:xfrm>
            <a:off x="1357200" y="1571760"/>
            <a:ext cx="2928960" cy="3857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Documents and Settings\Admin\Рабочий стол\Новая папка (2)\пляцковский.jpg"/>
          <p:cNvPicPr/>
          <p:nvPr/>
        </p:nvPicPr>
        <p:blipFill>
          <a:blip r:embed="rId2"/>
          <a:stretch/>
        </p:blipFill>
        <p:spPr>
          <a:xfrm>
            <a:off x="4643280" y="1571760"/>
            <a:ext cx="3071880" cy="38574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1288080" y="614376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В.Ша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4904640" y="607212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Schoolbook"/>
              </a:rPr>
              <a:t>М.Пляц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44160" y="65721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 Black"/>
              </a:rPr>
              <a:t>РЕФЛЕКС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 зовут «трёх китов»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Из каких звуков состоит музы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акие  ещё бывают зву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од какие звуки вы входили в класс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2" descr="D:\ДискС\лариса\картинки\аниме\09-2.gif"/>
          <p:cNvPicPr/>
          <p:nvPr/>
        </p:nvPicPr>
        <p:blipFill>
          <a:blip r:embed="rId1"/>
          <a:stretch/>
        </p:blipFill>
        <p:spPr>
          <a:xfrm>
            <a:off x="214200" y="214200"/>
            <a:ext cx="2214720" cy="1357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MCj04046990000[1]"/>
          <p:cNvPicPr/>
          <p:nvPr/>
        </p:nvPicPr>
        <p:blipFill>
          <a:blip r:embed="rId2"/>
          <a:stretch/>
        </p:blipFill>
        <p:spPr>
          <a:xfrm>
            <a:off x="857160" y="407196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9" descr="MCj04046990000[1]"/>
          <p:cNvPicPr/>
          <p:nvPr/>
        </p:nvPicPr>
        <p:blipFill>
          <a:blip r:embed="rId3"/>
          <a:stretch/>
        </p:blipFill>
        <p:spPr>
          <a:xfrm>
            <a:off x="3714840" y="4500720"/>
            <a:ext cx="1763640" cy="1841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MCj04046990000[1]"/>
          <p:cNvPicPr/>
          <p:nvPr/>
        </p:nvPicPr>
        <p:blipFill>
          <a:blip r:embed="rId4"/>
          <a:stretch/>
        </p:blipFill>
        <p:spPr>
          <a:xfrm>
            <a:off x="6357960" y="3929040"/>
            <a:ext cx="1763640" cy="1841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650880" y="650088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3" descr=""/>
          <p:cNvPicPr/>
          <p:nvPr/>
        </p:nvPicPr>
        <p:blipFill>
          <a:blip r:embed="rId1"/>
          <a:stretch/>
        </p:blipFill>
        <p:spPr>
          <a:xfrm>
            <a:off x="2193840" y="3206880"/>
            <a:ext cx="6297840" cy="1950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285640" y="235728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j0432535"/>
          <p:cNvPicPr/>
          <p:nvPr/>
        </p:nvPicPr>
        <p:blipFill>
          <a:blip r:embed="rId2"/>
          <a:stretch/>
        </p:blipFill>
        <p:spPr>
          <a:xfrm>
            <a:off x="-357120" y="1071720"/>
            <a:ext cx="2855880" cy="2855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j0432535"/>
          <p:cNvPicPr/>
          <p:nvPr/>
        </p:nvPicPr>
        <p:blipFill>
          <a:blip r:embed="rId3"/>
          <a:stretch/>
        </p:blipFill>
        <p:spPr>
          <a:xfrm>
            <a:off x="1214280" y="500040"/>
            <a:ext cx="2856240" cy="285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j0432535"/>
          <p:cNvPicPr/>
          <p:nvPr/>
        </p:nvPicPr>
        <p:blipFill>
          <a:blip r:embed="rId4"/>
          <a:stretch/>
        </p:blipFill>
        <p:spPr>
          <a:xfrm>
            <a:off x="2786040" y="0"/>
            <a:ext cx="2855880" cy="2855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57520" y="274680"/>
            <a:ext cx="3786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entury Schoolbook"/>
              </a:rPr>
              <a:t>С. В. Рахманинов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«Итальянская полька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C:\Documents and Settings\Admin\Рабочий стол\уроки музыки\рахманинов.jpg"/>
          <p:cNvPicPr/>
          <p:nvPr/>
        </p:nvPicPr>
        <p:blipFill>
          <a:blip r:embed="rId1"/>
          <a:stretch/>
        </p:blipFill>
        <p:spPr>
          <a:xfrm>
            <a:off x="857160" y="571680"/>
            <a:ext cx="4500720" cy="5715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365040" y="642924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9720" y="713880"/>
            <a:ext cx="7458120" cy="32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ВСЕ НА СВЕТЕ ДЕТИ ЗНАЮ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ЗВУКИ РАЗНЫЕ БЫВАЮТ.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ЖУРАВЛЕЙ ПРОЩАЛЬНЫЙ КЛЁКОТ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АМОЛЁТА ГРОМКИЙ РОПОТ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ГУЛ МАШИНЫ ВО ДВОРЕ, 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ЛАЙ СОБАКИ В КОНУРЕ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СТУК КОЛЁС И ШУМ СТАНКА,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 Black"/>
              </a:rPr>
              <a:t>ТИХИЙ ШЕЛЕСТ ВЕТЕРКА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C:\Documents and Settings\Admin\Рабочий стол\Новая папка (2)\кит.jpg"/>
          <p:cNvPicPr/>
          <p:nvPr/>
        </p:nvPicPr>
        <p:blipFill>
          <a:blip r:embed="rId1"/>
          <a:stretch/>
        </p:blipFill>
        <p:spPr>
          <a:xfrm>
            <a:off x="5000760" y="3571920"/>
            <a:ext cx="3786120" cy="312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j0432535"/>
          <p:cNvPicPr/>
          <p:nvPr/>
        </p:nvPicPr>
        <p:blipFill>
          <a:blip r:embed="rId2"/>
          <a:stretch/>
        </p:blipFill>
        <p:spPr>
          <a:xfrm>
            <a:off x="-285840" y="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0" descr="pe02282_"/>
          <p:cNvPicPr/>
          <p:nvPr/>
        </p:nvPicPr>
        <p:blipFill>
          <a:blip r:embed="rId3"/>
          <a:stretch/>
        </p:blipFill>
        <p:spPr>
          <a:xfrm>
            <a:off x="6072120" y="285840"/>
            <a:ext cx="278604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6"/>
          <p:cNvSpPr/>
          <p:nvPr/>
        </p:nvSpPr>
        <p:spPr>
          <a:xfrm>
            <a:off x="365760" y="650088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;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4" descr=""/>
          <p:cNvPicPr/>
          <p:nvPr/>
        </p:nvPicPr>
        <p:blipFill>
          <a:blip r:embed="rId1"/>
          <a:stretch/>
        </p:blipFill>
        <p:spPr>
          <a:xfrm>
            <a:off x="2193840" y="1762200"/>
            <a:ext cx="6297840" cy="1888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j0432535"/>
          <p:cNvPicPr/>
          <p:nvPr/>
        </p:nvPicPr>
        <p:blipFill>
          <a:blip r:embed="rId2"/>
          <a:stretch/>
        </p:blipFill>
        <p:spPr>
          <a:xfrm>
            <a:off x="285840" y="2142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j0432535"/>
          <p:cNvPicPr/>
          <p:nvPr/>
        </p:nvPicPr>
        <p:blipFill>
          <a:blip r:embed="rId3"/>
          <a:stretch/>
        </p:blipFill>
        <p:spPr>
          <a:xfrm>
            <a:off x="714240" y="6429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j0432535"/>
          <p:cNvPicPr/>
          <p:nvPr/>
        </p:nvPicPr>
        <p:blipFill>
          <a:blip r:embed="rId4"/>
          <a:stretch/>
        </p:blipFill>
        <p:spPr>
          <a:xfrm>
            <a:off x="5857920" y="421488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j0432535"/>
          <p:cNvPicPr/>
          <p:nvPr/>
        </p:nvPicPr>
        <p:blipFill>
          <a:blip r:embed="rId5"/>
          <a:stretch/>
        </p:blipFill>
        <p:spPr>
          <a:xfrm>
            <a:off x="6643800" y="464328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436680" y="64292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2" descr="C:\Documents and Settings\Admin\Рабочий стол\Новая папка (2)\баян.jpg"/>
          <p:cNvPicPr/>
          <p:nvPr/>
        </p:nvPicPr>
        <p:blipFill>
          <a:blip r:embed="rId1"/>
          <a:stretch/>
        </p:blipFill>
        <p:spPr>
          <a:xfrm>
            <a:off x="357120" y="0"/>
            <a:ext cx="3714840" cy="3429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Admin\Рабочий стол\Новая папка (2)\скрипка 2.jpeg"/>
          <p:cNvPicPr/>
          <p:nvPr/>
        </p:nvPicPr>
        <p:blipFill>
          <a:blip r:embed="rId2"/>
          <a:stretch/>
        </p:blipFill>
        <p:spPr>
          <a:xfrm>
            <a:off x="2571840" y="235728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Documents and Settings\Admin\Рабочий стол\Новая папка (2)\гитара 2.jpg"/>
          <p:cNvPicPr/>
          <p:nvPr/>
        </p:nvPicPr>
        <p:blipFill>
          <a:blip r:embed="rId3"/>
          <a:stretch/>
        </p:blipFill>
        <p:spPr>
          <a:xfrm>
            <a:off x="6000840" y="1643040"/>
            <a:ext cx="2928960" cy="5214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5"/>
          <p:cNvSpPr/>
          <p:nvPr/>
        </p:nvSpPr>
        <p:spPr>
          <a:xfrm>
            <a:off x="508320" y="6357960"/>
            <a:ext cx="521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Стрелка вниз 5"/>
          <p:cNvSpPr/>
          <p:nvPr/>
        </p:nvSpPr>
        <p:spPr>
          <a:xfrm>
            <a:off x="0" y="357120"/>
            <a:ext cx="6357960" cy="176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компози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низ 6"/>
          <p:cNvSpPr/>
          <p:nvPr/>
        </p:nvSpPr>
        <p:spPr>
          <a:xfrm>
            <a:off x="1285920" y="2143080"/>
            <a:ext cx="6643800" cy="1785960"/>
          </a:xfrm>
          <a:prstGeom prst="downArrow">
            <a:avLst>
              <a:gd name="adj1" fmla="val 50000"/>
              <a:gd name="adj2" fmla="val 4657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исполн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низ 8"/>
          <p:cNvSpPr/>
          <p:nvPr/>
        </p:nvSpPr>
        <p:spPr>
          <a:xfrm>
            <a:off x="2571840" y="3929040"/>
            <a:ext cx="6572160" cy="1692360"/>
          </a:xfrm>
          <a:prstGeom prst="downArrow">
            <a:avLst>
              <a:gd name="adj1" fmla="val 50000"/>
              <a:gd name="adj2" fmla="val 4182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entury Schoolbook"/>
              </a:rPr>
              <a:t>слуш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507960" y="635796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ПЕСН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2" name="Picture 2" descr="C:\Documents and Settings\Admin\Рабочий стол\Новая папка (2)\кит3.jpg"/>
          <p:cNvPicPr/>
          <p:nvPr/>
        </p:nvPicPr>
        <p:blipFill>
          <a:blip r:embed="rId1"/>
          <a:stretch/>
        </p:blipFill>
        <p:spPr>
          <a:xfrm>
            <a:off x="1785960" y="1785960"/>
            <a:ext cx="5643720" cy="4572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j0432535"/>
          <p:cNvPicPr/>
          <p:nvPr/>
        </p:nvPicPr>
        <p:blipFill>
          <a:blip r:embed="rId2"/>
          <a:stretch/>
        </p:blipFill>
        <p:spPr>
          <a:xfrm>
            <a:off x="428760" y="428760"/>
            <a:ext cx="2286000" cy="19285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722520" y="621504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КИТ МАРШ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C:\Documents and Settings\Admin\Рабочий стол\Новая папка (2)\кит4.jpg"/>
          <p:cNvPicPr/>
          <p:nvPr/>
        </p:nvPicPr>
        <p:blipFill>
          <a:blip r:embed="rId1"/>
          <a:stretch/>
        </p:blipFill>
        <p:spPr>
          <a:xfrm>
            <a:off x="2143080" y="1714680"/>
            <a:ext cx="4873680" cy="4873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j0432535"/>
          <p:cNvPicPr/>
          <p:nvPr/>
        </p:nvPicPr>
        <p:blipFill>
          <a:blip r:embed="rId2"/>
          <a:stretch/>
        </p:blipFill>
        <p:spPr>
          <a:xfrm>
            <a:off x="285840" y="28584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579600" y="6500880"/>
            <a:ext cx="51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чанов Владимир Александрович МОУ «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1-11-12T19:23:22Z</dcterms:modified>
  <cp:revision>26</cp:revision>
  <dc:subject/>
  <dc:title>Слайд 1</dc:title>
</cp:coreProperties>
</file>