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7.wmf" ContentType="image/x-wmf"/>
  <Override PartName="/ppt/media/image15.jpeg" ContentType="image/jpeg"/>
  <Override PartName="/ppt/media/image16.gif" ContentType="image/gif"/>
  <Override PartName="/ppt/media/image8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94A-1FB5-487A-BB4E-898AD8C9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01AC-154D-491A-BC5D-934451E7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CDE-DCB9-468B-AFD3-38614765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512-0965-4E99-9847-BF2F7F25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16CF-EF27-4D2C-B667-EA4CC5C7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88A9-8974-40FC-8334-06C0681E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14DC-9F49-40C1-AFD1-44649431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8153-28D1-4D68-A408-A14DE1DC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A403-9276-4130-A11D-7EC93940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4379-2029-4347-9BC8-ADD693E4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7A1B-BB4B-4D89-8BC7-EEA20C82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5A1-7C0A-41E2-9EC8-1876AB4E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6A48-2D01-432B-AD67-5A7B13CC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29EC-438D-4D45-9DCD-370D151B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AA0E-9DF9-4B6E-9B0F-D6FD9164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AB31-40A3-481C-99DC-BC2BCBC7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325C-4C16-4580-BFFD-81502BC8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406B7-DB16-4B40-BD4F-4F5699BE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DB973-237A-4C74-BA25-4BD2A0A7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38024-0B47-4E85-92A6-0A13F278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AA129-DC25-4322-8226-16BD4226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29E8E-4B2D-4652-B2A9-3799223A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7AB1-5506-40CA-BFE9-52C11819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F0017-7D97-4A68-B302-81EE219B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C8851-6DDB-473C-8758-AD903C40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A54D7-E721-4E06-A1CB-9ECDC546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5E65C-B408-4D73-9334-024A1F76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C7F29-2590-4983-B8D2-7026A32D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DA6A4-034F-47AD-914A-9C18BD01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8573AB-4D5A-4F8F-A008-E7EB419A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D14C6-1DDA-4C3D-BC99-554A3683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AD921-1176-4935-9D32-150DC953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55637-27D8-425F-A810-CB70D119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303-308A-4B58-B529-EE4DACF9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4A126-EDC1-4663-AB30-34F219A9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1B3E7-1EA4-45EC-8CA8-80638F5B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378C-3E4A-4988-97CD-3A3A5922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C75C3-E5CA-4C71-963C-6959915A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56086-C847-4790-980D-3560FFC8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0F2BF-E24D-46AE-A0C6-FB9927A2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BF8E5-F9A8-42FC-8BFC-BEFB3E77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1C542-C8F8-4E5D-AF52-88C36ABE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E2E9F-C342-493A-9569-59771A05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F92606-6211-408B-8CC5-BF9667D4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F11-99D6-4B31-9093-4513EF23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336F53-C030-43EE-9C23-84119A29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C684DD-9A82-4C47-B19D-7BE8891C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681DE-A795-4AD5-9E4C-B9E9EA54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6D255-F0AC-4A0C-9653-702EE023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FB478C-91BD-434D-ACCC-41DBB7F5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370447-D5D3-4677-BD4D-0D8D960B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6F1900-44B6-4A99-89A8-38122860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F2971-DF8F-4AE0-9F41-F76923F8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38C8A3-D8AF-4EA3-A341-67BA47DE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39CFD-C7A0-4798-9564-AB240BAB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4F3-1CE5-4386-8C10-C041B9E0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C6F32D-3FB6-4371-9584-12631A68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96D89F-CE06-47B7-B77C-6F8622B3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4CA575-C766-423C-A96F-84C3873D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478708-D6D7-4727-AE4E-B39B7D55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05D34C-B93E-42E4-8DE1-E29FBFC2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11F3D-DBBA-4BB6-A820-F08CCFA6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B855EE-8266-4EB6-B62A-4BEB3012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00A78-1031-4412-A34A-DAF5AA1A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5F36B2-E0E8-46F2-9D1B-6637FF97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B39F1-57C1-4782-9E86-A622A981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1F2-6A1A-486E-BACB-28BD58B0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26F20-C032-40A6-A2D3-2D751F02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E3090E-5B06-4A0C-93ED-D220E3B1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658B04-EC24-419B-AB73-1737282E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DC7EB5-C9E8-4DCC-BC57-D68C2DED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5FC076-1F86-43E8-95C9-5A1A20E5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B4C769-F780-494D-AD6D-A4D7BBAA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1FEDD2-AF55-4BF0-986E-D38A91CD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E06A2B-E8DC-4BBD-971F-002735E7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C1F204-BE5D-4C91-8DD0-42EDA016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EA0D31-722C-4B9C-B211-C86501D5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33D-5498-45F7-8742-1DDA8E68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B4E042-13E6-4F84-A47B-9D124008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0022A-0E61-46BF-B898-14D36654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3C9515-1D71-402F-B115-8FBDEA41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93D644-5D9E-48ED-92D3-7DE9E1BC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9C9D25-1415-47F9-94E4-05BF56F7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96F2-657C-433A-84BB-E9AA4323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87A9-A08B-4392-897E-D080C712913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0179-D4B8-41FA-9494-8AFD17E8BEA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F211-1D59-4259-A108-BD6A88ADA24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900B-AB94-431D-8855-B4CC398A523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509A-1634-4297-B9F2-47B6020C397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6F1A-8422-4EB4-8871-E59E7A2A075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9FD9-DC95-4D22-AE15-22863BD6E81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Прямоугольник 3" descr=""/>
          <p:cNvPicPr/>
          <p:nvPr/>
        </p:nvPicPr>
        <p:blipFill>
          <a:blip r:embed="rId1"/>
          <a:stretch/>
        </p:blipFill>
        <p:spPr>
          <a:xfrm>
            <a:off x="706320" y="2206800"/>
            <a:ext cx="7742520" cy="3230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C:\Documents and Settings\Admin\Рабочий стол\Новая папка (2)\кит4.jpg"/>
          <p:cNvPicPr/>
          <p:nvPr/>
        </p:nvPicPr>
        <p:blipFill>
          <a:blip r:embed="rId2"/>
          <a:stretch/>
        </p:blipFill>
        <p:spPr>
          <a:xfrm>
            <a:off x="3000240" y="142920"/>
            <a:ext cx="2714760" cy="2652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C:\Documents and Settings\Admin\Рабочий стол\Новая папка (2)\кит4.jpg"/>
          <p:cNvPicPr/>
          <p:nvPr/>
        </p:nvPicPr>
        <p:blipFill>
          <a:blip r:embed="rId3"/>
          <a:stretch/>
        </p:blipFill>
        <p:spPr>
          <a:xfrm>
            <a:off x="6215040" y="3929040"/>
            <a:ext cx="2428920" cy="2500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C:\Documents and Settings\Admin\Рабочий стол\Новая папка (2)\кит4.jpg"/>
          <p:cNvPicPr/>
          <p:nvPr/>
        </p:nvPicPr>
        <p:blipFill>
          <a:blip r:embed="rId4"/>
          <a:stretch/>
        </p:blipFill>
        <p:spPr>
          <a:xfrm>
            <a:off x="642960" y="4286160"/>
            <a:ext cx="2428920" cy="22860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8"/>
          <p:cNvSpPr/>
          <p:nvPr/>
        </p:nvSpPr>
        <p:spPr>
          <a:xfrm>
            <a:off x="436680" y="6072120"/>
            <a:ext cx="513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№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КИТ ТАНЕЦ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Picture 2" descr="C:\Documents and Settings\Admin\Рабочий стол\Новая папка (2)\кит.jpg"/>
          <p:cNvPicPr/>
          <p:nvPr/>
        </p:nvPicPr>
        <p:blipFill>
          <a:blip r:embed="rId1"/>
          <a:stretch/>
        </p:blipFill>
        <p:spPr>
          <a:xfrm>
            <a:off x="2428920" y="2643120"/>
            <a:ext cx="4286160" cy="3124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j0432535"/>
          <p:cNvPicPr/>
          <p:nvPr/>
        </p:nvPicPr>
        <p:blipFill>
          <a:blip r:embed="rId2"/>
          <a:stretch/>
        </p:blipFill>
        <p:spPr>
          <a:xfrm>
            <a:off x="285840" y="285840"/>
            <a:ext cx="2286000" cy="19288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5"/>
          <p:cNvSpPr/>
          <p:nvPr/>
        </p:nvSpPr>
        <p:spPr>
          <a:xfrm>
            <a:off x="650880" y="6286680"/>
            <a:ext cx="52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 Black"/>
              </a:rPr>
              <a:t>«ЧЕМУ УЧАТ В ШКОЛЕ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4" name="Picture 2" descr="C:\Documents and Settings\Admin\Рабочий стол\Новая папка (2)\шаинский2.jpg"/>
          <p:cNvPicPr/>
          <p:nvPr/>
        </p:nvPicPr>
        <p:blipFill>
          <a:blip r:embed="rId1"/>
          <a:stretch/>
        </p:blipFill>
        <p:spPr>
          <a:xfrm>
            <a:off x="1357200" y="1571760"/>
            <a:ext cx="2928960" cy="3857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C:\Documents and Settings\Admin\Рабочий стол\Новая папка (2)\пляцковский.jpg"/>
          <p:cNvPicPr/>
          <p:nvPr/>
        </p:nvPicPr>
        <p:blipFill>
          <a:blip r:embed="rId2"/>
          <a:stretch/>
        </p:blipFill>
        <p:spPr>
          <a:xfrm>
            <a:off x="4643280" y="1571760"/>
            <a:ext cx="3071880" cy="3857400"/>
          </a:xfrm>
          <a:prstGeom prst="rect">
            <a:avLst/>
          </a:prstGeom>
          <a:ln w="0">
            <a:noFill/>
          </a:ln>
        </p:spPr>
      </p:pic>
      <p:sp>
        <p:nvSpPr>
          <p:cNvPr id="406" name="TextBox 4"/>
          <p:cNvSpPr/>
          <p:nvPr/>
        </p:nvSpPr>
        <p:spPr>
          <a:xfrm>
            <a:off x="1288080" y="614376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В.Ша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4904640" y="607212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М.Пляц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344160" y="6572160"/>
            <a:ext cx="52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4» учитель музы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 Black"/>
              </a:rPr>
              <a:t>РЕФЛЕКС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Что нового узнали на урок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Как зовут «трёх китов»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Из каких звуков состоит музы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Какие  ещё бывают звук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Под какие звуки вы входили в класс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Picture 2" descr="D:\ДискС\лариса\картинки\аниме\09-2.gif"/>
          <p:cNvPicPr/>
          <p:nvPr/>
        </p:nvPicPr>
        <p:blipFill>
          <a:blip r:embed="rId1"/>
          <a:stretch/>
        </p:blipFill>
        <p:spPr>
          <a:xfrm>
            <a:off x="214200" y="214200"/>
            <a:ext cx="2214720" cy="1357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MCj04046990000[1]"/>
          <p:cNvPicPr/>
          <p:nvPr/>
        </p:nvPicPr>
        <p:blipFill>
          <a:blip r:embed="rId2"/>
          <a:stretch/>
        </p:blipFill>
        <p:spPr>
          <a:xfrm>
            <a:off x="857160" y="4071960"/>
            <a:ext cx="1763640" cy="1841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9" descr="MCj04046990000[1]"/>
          <p:cNvPicPr/>
          <p:nvPr/>
        </p:nvPicPr>
        <p:blipFill>
          <a:blip r:embed="rId3"/>
          <a:stretch/>
        </p:blipFill>
        <p:spPr>
          <a:xfrm>
            <a:off x="3714840" y="4500720"/>
            <a:ext cx="1763640" cy="1841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MCj04046990000[1]"/>
          <p:cNvPicPr/>
          <p:nvPr/>
        </p:nvPicPr>
        <p:blipFill>
          <a:blip r:embed="rId4"/>
          <a:stretch/>
        </p:blipFill>
        <p:spPr>
          <a:xfrm>
            <a:off x="6357960" y="3929040"/>
            <a:ext cx="1763640" cy="18414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7"/>
          <p:cNvSpPr/>
          <p:nvPr/>
        </p:nvSpPr>
        <p:spPr>
          <a:xfrm>
            <a:off x="650880" y="6500880"/>
            <a:ext cx="52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3" descr=""/>
          <p:cNvPicPr/>
          <p:nvPr/>
        </p:nvPicPr>
        <p:blipFill>
          <a:blip r:embed="rId1"/>
          <a:stretch/>
        </p:blipFill>
        <p:spPr>
          <a:xfrm>
            <a:off x="2193840" y="3206880"/>
            <a:ext cx="6297840" cy="19508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2285640" y="2357280"/>
            <a:ext cx="617220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2" descr="j0432535"/>
          <p:cNvPicPr/>
          <p:nvPr/>
        </p:nvPicPr>
        <p:blipFill>
          <a:blip r:embed="rId2"/>
          <a:stretch/>
        </p:blipFill>
        <p:spPr>
          <a:xfrm>
            <a:off x="-357120" y="1071720"/>
            <a:ext cx="2855880" cy="2855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j0432535"/>
          <p:cNvPicPr/>
          <p:nvPr/>
        </p:nvPicPr>
        <p:blipFill>
          <a:blip r:embed="rId3"/>
          <a:stretch/>
        </p:blipFill>
        <p:spPr>
          <a:xfrm>
            <a:off x="1214280" y="500040"/>
            <a:ext cx="2856240" cy="2855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j0432535"/>
          <p:cNvPicPr/>
          <p:nvPr/>
        </p:nvPicPr>
        <p:blipFill>
          <a:blip r:embed="rId4"/>
          <a:stretch/>
        </p:blipFill>
        <p:spPr>
          <a:xfrm>
            <a:off x="2786040" y="0"/>
            <a:ext cx="2855880" cy="28558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6"/>
          <p:cNvSpPr/>
          <p:nvPr/>
        </p:nvSpPr>
        <p:spPr>
          <a:xfrm>
            <a:off x="507960" y="6357960"/>
            <a:ext cx="51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371760" y="3200400"/>
            <a:ext cx="630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57520" y="274680"/>
            <a:ext cx="3786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entury Schoolbook"/>
              </a:rPr>
              <a:t>С. В. Рахманинов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«Итальянская полька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C:\Documents and Settings\Admin\Рабочий стол\уроки музыки\рахманинов.jpg"/>
          <p:cNvPicPr/>
          <p:nvPr/>
        </p:nvPicPr>
        <p:blipFill>
          <a:blip r:embed="rId1"/>
          <a:stretch/>
        </p:blipFill>
        <p:spPr>
          <a:xfrm>
            <a:off x="857160" y="571680"/>
            <a:ext cx="4500720" cy="5715000"/>
          </a:xfrm>
          <a:prstGeom prst="rect">
            <a:avLst/>
          </a:prstGeom>
          <a:ln w="0">
            <a:noFill/>
          </a:ln>
        </p:spPr>
      </p:pic>
      <p:sp>
        <p:nvSpPr>
          <p:cNvPr id="367" name="TextBox 4"/>
          <p:cNvSpPr/>
          <p:nvPr/>
        </p:nvSpPr>
        <p:spPr>
          <a:xfrm>
            <a:off x="365040" y="6429240"/>
            <a:ext cx="513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№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9720" y="713880"/>
            <a:ext cx="7458120" cy="32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ВСЕ НА СВЕТЕ ДЕТИ ЗНАЮТ,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ЗВУКИ РАЗНЫЕ БЫВАЮТ.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ЖУРАВЛЕЙ ПРОЩАЛЬНЫЙ КЛЁКОТ,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САМОЛЁТА ГРОМКИЙ РОПОТ, 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ГУЛ МАШИНЫ ВО ДВОРЕ, 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ЛАЙ СОБАКИ В КОНУРЕ,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СТУК КОЛЁС И ШУМ СТАНКА,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ТИХИЙ ШЕЛЕСТ ВЕТЕРКА.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2" descr="C:\Documents and Settings\Admin\Рабочий стол\Новая папка (2)\кит.jpg"/>
          <p:cNvPicPr/>
          <p:nvPr/>
        </p:nvPicPr>
        <p:blipFill>
          <a:blip r:embed="rId1"/>
          <a:stretch/>
        </p:blipFill>
        <p:spPr>
          <a:xfrm>
            <a:off x="5000760" y="3571920"/>
            <a:ext cx="3786120" cy="312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j0432535"/>
          <p:cNvPicPr/>
          <p:nvPr/>
        </p:nvPicPr>
        <p:blipFill>
          <a:blip r:embed="rId2"/>
          <a:stretch/>
        </p:blipFill>
        <p:spPr>
          <a:xfrm>
            <a:off x="-285840" y="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0" descr="pe02282_"/>
          <p:cNvPicPr/>
          <p:nvPr/>
        </p:nvPicPr>
        <p:blipFill>
          <a:blip r:embed="rId3"/>
          <a:stretch/>
        </p:blipFill>
        <p:spPr>
          <a:xfrm>
            <a:off x="6072120" y="285840"/>
            <a:ext cx="2786040" cy="2571840"/>
          </a:xfrm>
          <a:prstGeom prst="rect">
            <a:avLst/>
          </a:prstGeom>
          <a:ln w="0">
            <a:noFill/>
          </a:ln>
        </p:spPr>
      </p:pic>
      <p:sp>
        <p:nvSpPr>
          <p:cNvPr id="372" name="TextBox 6"/>
          <p:cNvSpPr/>
          <p:nvPr/>
        </p:nvSpPr>
        <p:spPr>
          <a:xfrm>
            <a:off x="365760" y="6500880"/>
            <a:ext cx="513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№ ;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4" descr=""/>
          <p:cNvPicPr/>
          <p:nvPr/>
        </p:nvPicPr>
        <p:blipFill>
          <a:blip r:embed="rId1"/>
          <a:stretch/>
        </p:blipFill>
        <p:spPr>
          <a:xfrm>
            <a:off x="2193840" y="1762200"/>
            <a:ext cx="6297840" cy="18889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Picture 2" descr="j0432535"/>
          <p:cNvPicPr/>
          <p:nvPr/>
        </p:nvPicPr>
        <p:blipFill>
          <a:blip r:embed="rId2"/>
          <a:stretch/>
        </p:blipFill>
        <p:spPr>
          <a:xfrm>
            <a:off x="285840" y="21420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j0432535"/>
          <p:cNvPicPr/>
          <p:nvPr/>
        </p:nvPicPr>
        <p:blipFill>
          <a:blip r:embed="rId3"/>
          <a:stretch/>
        </p:blipFill>
        <p:spPr>
          <a:xfrm>
            <a:off x="714240" y="64296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j0432535"/>
          <p:cNvPicPr/>
          <p:nvPr/>
        </p:nvPicPr>
        <p:blipFill>
          <a:blip r:embed="rId4"/>
          <a:stretch/>
        </p:blipFill>
        <p:spPr>
          <a:xfrm>
            <a:off x="5857920" y="421488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j0432535"/>
          <p:cNvPicPr/>
          <p:nvPr/>
        </p:nvPicPr>
        <p:blipFill>
          <a:blip r:embed="rId5"/>
          <a:stretch/>
        </p:blipFill>
        <p:spPr>
          <a:xfrm>
            <a:off x="6643800" y="4643280"/>
            <a:ext cx="2286000" cy="1928880"/>
          </a:xfrm>
          <a:prstGeom prst="rect">
            <a:avLst/>
          </a:prstGeom>
          <a:ln w="0">
            <a:noFill/>
          </a:ln>
        </p:spPr>
      </p:pic>
      <p:sp>
        <p:nvSpPr>
          <p:cNvPr id="379" name="TextBox 7"/>
          <p:cNvSpPr/>
          <p:nvPr/>
        </p:nvSpPr>
        <p:spPr>
          <a:xfrm>
            <a:off x="436680" y="6429240"/>
            <a:ext cx="51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№ 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Picture 2" descr="C:\Documents and Settings\Admin\Рабочий стол\Новая папка (2)\баян.jpg"/>
          <p:cNvPicPr/>
          <p:nvPr/>
        </p:nvPicPr>
        <p:blipFill>
          <a:blip r:embed="rId1"/>
          <a:stretch/>
        </p:blipFill>
        <p:spPr>
          <a:xfrm>
            <a:off x="357120" y="0"/>
            <a:ext cx="3714840" cy="3429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Admin\Рабочий стол\Новая папка (2)\скрипка 2.jpeg"/>
          <p:cNvPicPr/>
          <p:nvPr/>
        </p:nvPicPr>
        <p:blipFill>
          <a:blip r:embed="rId2"/>
          <a:stretch/>
        </p:blipFill>
        <p:spPr>
          <a:xfrm>
            <a:off x="2571840" y="2357280"/>
            <a:ext cx="3714840" cy="3714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C:\Documents and Settings\Admin\Рабочий стол\Новая папка (2)\гитара 2.jpg"/>
          <p:cNvPicPr/>
          <p:nvPr/>
        </p:nvPicPr>
        <p:blipFill>
          <a:blip r:embed="rId3"/>
          <a:stretch/>
        </p:blipFill>
        <p:spPr>
          <a:xfrm>
            <a:off x="6000840" y="1643040"/>
            <a:ext cx="2928960" cy="5214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5"/>
          <p:cNvSpPr/>
          <p:nvPr/>
        </p:nvSpPr>
        <p:spPr>
          <a:xfrm>
            <a:off x="508320" y="6357960"/>
            <a:ext cx="52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Стрелка вниз 5"/>
          <p:cNvSpPr/>
          <p:nvPr/>
        </p:nvSpPr>
        <p:spPr>
          <a:xfrm>
            <a:off x="0" y="357120"/>
            <a:ext cx="6357960" cy="176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компози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вниз 6"/>
          <p:cNvSpPr/>
          <p:nvPr/>
        </p:nvSpPr>
        <p:spPr>
          <a:xfrm>
            <a:off x="1285920" y="2143080"/>
            <a:ext cx="6643800" cy="1785960"/>
          </a:xfrm>
          <a:prstGeom prst="downArrow">
            <a:avLst>
              <a:gd name="adj1" fmla="val 50000"/>
              <a:gd name="adj2" fmla="val 46574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исполн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Стрелка вниз 8"/>
          <p:cNvSpPr/>
          <p:nvPr/>
        </p:nvSpPr>
        <p:spPr>
          <a:xfrm>
            <a:off x="2571840" y="3929040"/>
            <a:ext cx="6572160" cy="1692360"/>
          </a:xfrm>
          <a:prstGeom prst="downArrow">
            <a:avLst>
              <a:gd name="adj1" fmla="val 50000"/>
              <a:gd name="adj2" fmla="val 4182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слуш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507960" y="6357960"/>
            <a:ext cx="51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КИТ ПЕСН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2" name="Picture 2" descr="C:\Documents and Settings\Admin\Рабочий стол\Новая папка (2)\кит3.jpg"/>
          <p:cNvPicPr/>
          <p:nvPr/>
        </p:nvPicPr>
        <p:blipFill>
          <a:blip r:embed="rId1"/>
          <a:stretch/>
        </p:blipFill>
        <p:spPr>
          <a:xfrm>
            <a:off x="1785960" y="1785960"/>
            <a:ext cx="5643720" cy="4572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j0432535"/>
          <p:cNvPicPr/>
          <p:nvPr/>
        </p:nvPicPr>
        <p:blipFill>
          <a:blip r:embed="rId2"/>
          <a:stretch/>
        </p:blipFill>
        <p:spPr>
          <a:xfrm>
            <a:off x="428760" y="428760"/>
            <a:ext cx="2286000" cy="19285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4"/>
          <p:cNvSpPr/>
          <p:nvPr/>
        </p:nvSpPr>
        <p:spPr>
          <a:xfrm>
            <a:off x="722520" y="6215040"/>
            <a:ext cx="51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5480" y="4284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КИТ МАРШ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6" name="Picture 2" descr="C:\Documents and Settings\Admin\Рабочий стол\Новая папка (2)\кит4.jpg"/>
          <p:cNvPicPr/>
          <p:nvPr/>
        </p:nvPicPr>
        <p:blipFill>
          <a:blip r:embed="rId1"/>
          <a:stretch/>
        </p:blipFill>
        <p:spPr>
          <a:xfrm>
            <a:off x="2143080" y="1714680"/>
            <a:ext cx="4873680" cy="4873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j0432535"/>
          <p:cNvPicPr/>
          <p:nvPr/>
        </p:nvPicPr>
        <p:blipFill>
          <a:blip r:embed="rId2"/>
          <a:stretch/>
        </p:blipFill>
        <p:spPr>
          <a:xfrm>
            <a:off x="285840" y="285840"/>
            <a:ext cx="2286000" cy="1928880"/>
          </a:xfrm>
          <a:prstGeom prst="rect">
            <a:avLst/>
          </a:prstGeom>
          <a:ln w="0">
            <a:noFill/>
          </a:ln>
        </p:spPr>
      </p:pic>
      <p:sp>
        <p:nvSpPr>
          <p:cNvPr id="398" name="TextBox 4"/>
          <p:cNvSpPr/>
          <p:nvPr/>
        </p:nvSpPr>
        <p:spPr>
          <a:xfrm>
            <a:off x="579600" y="6500880"/>
            <a:ext cx="51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1-11-12T19:23:22Z</dcterms:modified>
  <cp:revision>26</cp:revision>
  <dc:subject/>
  <dc:title>Слайд 1</dc:title>
</cp:coreProperties>
</file>