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0FE45-EEAB-4D45-B9BC-6A8ECF31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256DA-8790-4876-BDCC-82309F42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E427-67F1-4872-A68D-3F47D6E3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6A0F-A6D1-4BAE-AA04-200A654F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CCE5-AEFF-44C2-AC61-53BEFC1D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B52C-AF00-4719-885D-4F56C588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0298-6E12-4B7C-8EFA-32591CF9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F1D8-9A87-4AA5-B46C-E7A5F29D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0BB3-7610-4A68-801B-C5B3D772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C089-AD74-49B4-B90F-2B1E0B60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8B75-C55B-4576-9C23-29918F19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CF540-BA7B-47D4-A25A-8B27E063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02F1-F375-4A5D-9CE3-C55D7345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6CFC-ACE7-4465-9B97-EF10A845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8CF2-AEC0-4A59-9C79-862C6A8C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2506-DEC3-421B-8BC7-FD5FA15C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27C4-4D4F-4AFE-844A-371AC65C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2674B-6368-4787-B6DA-7151AC05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FD4B-AC8C-4353-BF36-122D8AA3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1AC30-B384-4B09-A107-F135598C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9AC9-7047-4797-BAFB-3743E0EE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E139-3758-4831-A7EB-28D03879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9DBD5-72D3-420B-9FE6-8CD3D77C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0955-D313-4C7D-8A46-36104513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CCB1-71AA-44DB-A4ED-6A5867CFD0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D89F-A0A6-4B1E-8F9B-D2AB0F5BA9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Требования к результатам освоения основной образовательной программы начального общего образования стандартов 2 поколени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665244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ланируемые результаты по Музыке в начальной школе(продолжение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крыто выражать свое отношение к искусству, проявлять ценностно-смысловые ориентации, позитивную самооценку, самоуважение, жизненный оптимизм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учатся воспринимать музыку и размышлять о ней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площать музыкальные образы при создании театрализованных и музыкально-пластических композиций, разучивании и исполнении вокально-хоровых произведений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ланируемые результаты по Музыке в начальной школе(продолжение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е на элементарных музыкальных инструментах, импровизировать в разнообразных видах музыкально-творческой деятель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особны встать на позицию другого человека, вести диалог, участвовать в обсуждении значимых для человека явлений жизни и искусства, продуктивно сотрудничать со сверстниками и взрослы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ализовать собственный творческий потенциал, применяя муз. знания для выполнения задач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Действовать самостоятельно при  разрешении проблемно-творческой ситуации в повседневной жизн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Заголовок 1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ланируемые результаты по Музыке в начальной школе(продолжение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ичностные результа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формирование чувства гордости за свою Родину, российский народ и историю России, ценностей многонационального российского обществ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формирование целостного взгляда на мир в его органичном единстве и разнообразии природы, народов, культур и религий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формирование уважительного отношения к иному мнению, истории, культуре других народ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ичностные результа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)Овладение начальными навыками адаптации в мире;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)принятие социальной роли обучающегося, развитие мотивов учебной деятельност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)развитие самостоятельности и ответственности за свои поступк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) формирование эстетических потребностей, ценностей, чувст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8) развитие навыков сотрудничества со взрослым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ичностные результа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9)развитие этических чувств, доброжелательности и эмоционально-нравственной отзывчивост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0)формирование установки на безопасный, здоровый образ жизни, наличие мотивации к творческому труду, работе на результа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тапредметные результаты освоения программы начального образова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Овладение способностью принимать и сохранять цели учебной деятельности;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освоенияч способов решения проблем творческого и поискового характер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формирование  умения планировать, контролировать и оценивать учебные действия; определять наиболее эффективные способы достижения результат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3.формирование  умения понимать причины успеха и способа действовать в ситуации неуспех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тапредметные результаты освоения программы начального образова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освоение начальных форм познавательной и личностной рефлекси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.использование речевых и ИКТ для решения коммуникативных и познавательных задач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. использование различных способов поиска, сбора, обработки, анализа, организации, передачи, интерпретации, фиксации информаци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8.овладения навыка смыслового чтения текст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9.готовность слушать собеседника и вести диалог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тапредметные результаты освоения программы начального образова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0.определение общей цели и путей ее достижения; умение договариваться о распределении функций и ролей в совместной деятельности;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1.готовность конструктивно разрешать конфликты с учетом интересов сторон сотрудничеств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2.овладение базовыми предметными и межпредметными поняти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ные задачи реализации содержания дисциплин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Развитие способностей к художественно-образному, эмоционально-ценностному восприятию произведений изобразительного и музыкального искусства, выражению в творческих работах своего отношения к окружающему миру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ланируемые результаты по Музыке в начальной школ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ормированы основы музыкальной культуры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спитаны нравственные и эстетические чувства, художественный вкус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 интерес к музыкальному искусству и муз.деятельности,образное и ассоциативное мышление и воображение,муз.память и слух, певческий голос, учебно-творческие способности в различных видах муз.деятель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SONY</cp:lastModifiedBy>
  <dcterms:modified xsi:type="dcterms:W3CDTF">2012-08-04T19:32:5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