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E080F-ED46-4DB7-93A2-B741EC07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90E6-46B2-490E-85EA-AF328DD8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0FE9-DB4A-4BB6-8366-DEB99C33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E399-1213-470B-9A63-EB451D3D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108E-3855-4EC4-B4EE-472A2B45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A730-6D40-4009-8D47-FD0FC8AB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3F6D-EBFF-4608-A09E-9A65FA51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4C34-556C-4046-81FB-E44B3D0B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09DA-89F3-4F97-BCEE-9CC0E828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3D87-1DF0-4ACD-BCBC-916CE4EA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58F9-1E3C-4BD9-B855-99DB9B9A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0371-6D3C-4478-BD43-0E02A1A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CEE2-8171-4309-8B71-513E6EAA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1FEB-B649-4D8E-89A3-D79BE3E2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503E-4A67-4473-BEAF-2331794C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BC92-95CD-45F3-8FD2-2266E62A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3E36-1E99-47A4-92B0-54242259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42BCB-5EBF-4885-A7BF-E6121A09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B3FC-47F2-462C-BD46-FEF49F78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6EB7-E638-4858-B245-847307FB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9020-C9A1-4379-8216-B0FBB873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7DFF-7744-4B50-AF8B-F26E7529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765E-0E87-4C7E-9EC0-DA6A1408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FBB5-7865-414E-B3CB-276D07E8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686B-0AA6-44A0-BC3B-504E0D38EF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43F6-F0E8-4DAE-AA77-5435E2210B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Требования к результатам освоения основной образовательной программы начального общего образования стандартов 2 поколени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66524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ланируемые результаты по Музыке в начальной школе(продолжени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крыто выражать свое отношение к искусству, проявлять ценностно-смысловые ориентации, позитивную самооценку, самоуважение, жизненный оптимизм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учатся воспринимать музыку и размышлять о ней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площать музыкальные образы при создании театрализованных и музыкально-пластических композиций, разучивании и исполнении вокально-хоровых произведени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ланируемые результаты по Музыке в начальной школе(продолжени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е на элементарных музыкальных инструментах, импровизировать в разнообразных видах музыкально-творческой деятель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особны встать на позицию другого человека, вести диалог, участвовать в обсуждении значимых для человека явлений жизни и искусства, продуктивно сотрудничать со сверстниками и взрослы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изовать собственный творческий потенциал, применяя муз. знания для выполнения зада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Действовать самостоятельно при  разрешении проблемно-творческой ситуации в повседневной жизн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Заголовок 1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ланируемые результаты по Музыке в начальной школе(продолжени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чностные результа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формирование чувства гордости за свою Родину, российский народ и историю России, ценностей многонационального российского обществ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формирование целостного взгляда на мир в его органичном единстве и разнообразии природы, народов, культур и религий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формирование уважительного отношения к иному мнению, истории, культуре других народ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чностные результа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)Овладение начальными навыками адаптации в мире;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)принятие социальной роли обучающегося, развитие мотивов учебной деятельност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)развитие самостоятельности и ответственности за свои поступк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) формирование эстетических потребностей, ценностей, чувст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) развитие навыков сотрудничества со взрослы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чностные результа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9)развитие этических чувств, доброжелательности и эмоционально-нравственной отзывчивост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0)формирование установки на безопасный, здоровый образ жизни, наличие мотивации к творческому труду, работе на результа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тапредметные результаты освоения программы начального образов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Овладение способностью принимать и сохранять цели учебной деятельности;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освоенияч способов решения проблем творческого и поискового характер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формирование  умения планировать, контролировать и оценивать учебные действия; определять наиболее эффективные способы достижения результа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3.формирование  умения понимать причины успеха и способа действовать в ситуации неуспех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тапредметные результаты освоения программы начального образов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освоение начальных форм познавательной и личностной рефлекси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.использование речевых и ИКТ для решения коммуникативных и познавательных задач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. использование различных способов поиска, сбора, обработки, анализа, организации, передачи, интерпретации, фиксации информаци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.овладения навыка смыслового чтения текс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9.готовность слушать собеседника и вести диалог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тапредметные результаты освоения программы начального образов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0.определение общей цели и путей ее достижения; умение договариваться о распределении функций и ролей в совместной деятельности;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1.готовность конструктивно разрешать конфликты с учетом интересов сторон сотрудничеств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2.овладение базовыми предметными и межпредметными понят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ные задачи реализации содержания дисциплин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Развитие способностей к художественно-образному, эмоционально-ценностному восприятию произведений изобразительного и музыкального искусства, выражению в творческих работах своего отношения к окружающему миру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ланируемые результаты по Музыке в начальной школ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ормированы основы музыкальной культуры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спитаны нравственные и эстетические чувства, художественный вкус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 интерес к музыкальному искусству и муз.деятельности,образное и ассоциативное мышление и воображение,муз.память и слух, певческий голос, учебно-творческие способности в различных видах муз.деятель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SONY</cp:lastModifiedBy>
  <dcterms:modified xsi:type="dcterms:W3CDTF">2012-08-04T19:32:5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