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E3EEE-46AF-43F4-B466-F62F184C3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C2DB7-D9BF-43D4-8EFF-D5377872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50EC9-257E-4FFB-997C-A485B0B0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7FAC5-F3E6-4F84-ADC4-B2973EB2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770A-54A4-4FAE-AB70-151AD83F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8CE3-4CE3-4B09-B124-6E0E599F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7A7B-BB18-4D01-B188-2EA192CC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6EE0-6C67-40B9-9DDE-3A8FE1E2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58DD-3BF0-4C6F-A90A-233A644C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DBC9-B82B-445E-B68F-1A8A7782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BD08-1B52-469E-9DE4-85FA453E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3A244-8AC8-454B-9462-95BEA26A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9A95-A4A7-4A54-84CB-30FD9B13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6BFD-0658-486D-9C92-AC44725D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A6CF-09C1-4040-AEA2-6FC5D8BB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920E-8AF6-4EE9-9F4B-0955C2D77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D8D8-091A-40B9-B646-E79AF8EC6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BF29B-8C45-4BB5-9F06-50877B27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B9E62-1218-4EE9-BE05-0E4AC2CC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511D9-0084-439F-B116-5A5E2BA9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B3F42-DD36-477A-B258-F5532D74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4EE49-07A9-46D6-A6EA-F7AB961C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E99E2-B382-4F91-94B4-E11768B1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5C38F-9285-4DA3-B764-75914385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51F4-C039-4108-A5A3-5D4F5A36F5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6CFB-8B81-42E4-A95E-83873663B3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Требования к результатам освоения основной образовательной программы начального общего образования стандартов 2 поколения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665244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ланируемые результаты по Музыке в начальной школе(продолжение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ткрыто выражать свое отношение к искусству, проявлять ценностно-смысловые ориентации, позитивную самооценку, самоуважение, жизненный оптимизм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учатся воспринимать музыку и размышлять о ней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оплощать музыкальные образы при создании театрализованных и музыкально-пластических композиций, разучивании и исполнении вокально-хоровых произведений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ланируемые результаты по Музыке в начальной школе(продолжение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гре на элементарных музыкальных инструментах, импровизировать в разнообразных видах музыкально-творческой деятельност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пособны встать на позицию другого человека, вести диалог, участвовать в обсуждении значимых для человека явлений жизни и искусства, продуктивно сотрудничать со сверстниками и взрослым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еализовать собственный творческий потенциал, применяя муз. знания для выполнения задач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Действовать самостоятельно при  разрешении проблемно-творческой ситуации в повседневной жизни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Заголовок 1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ланируемые результаты по Музыке в начальной школе(продолжение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Личностные результат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)формирование чувства гордости за свою Родину, российский народ и историю России, ценностей многонационального российского общества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)формирование целостного взгляда на мир в его органичном единстве и разнообразии природы, народов, культур и религий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) формирование уважительного отношения к иному мнению, истории, культуре других народов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Личностные результат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4)Овладение начальными навыками адаптации в мире;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5)принятие социальной роли обучающегося, развитие мотивов учебной деятельности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6)развитие самостоятельности и ответственности за свои поступки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7) формирование эстетических потребностей, ценностей, чувств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8) развитие навыков сотрудничества со взрослым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Личностные результат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9)развитие этических чувств, доброжелательности и эмоционально-нравственной отзывчивости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0)формирование установки на безопасный, здоровый образ жизни, наличие мотивации к творческому труду, работе на результат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етапредметные результаты освоения программы начального образован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.Овладение способностью принимать и сохранять цели учебной деятельности;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.освоенияч способов решения проблем творческого и поискового характера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.формирование  умения планировать, контролировать и оценивать учебные действия; определять наиболее эффективные способы достижения результатов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4. 3.формирование  умения понимать причины успеха и способа действовать в ситуации неуспех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етапредметные результаты освоения программы начального образован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5.освоение начальных форм познавательной и личностной рефлексии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6.использование речевых и ИКТ для решения коммуникативных и познавательных задач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7. использование различных способов поиска, сбора, обработки, анализа, организации, передачи, интерпретации, фиксации информации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8.овладения навыка смыслового чтения текстов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9.готовность слушать собеседника и вести диалог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етапредметные результаты освоения программы начального образован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0.определение общей цели и путей ее достижения; умение договариваться о распределении функций и ролей в совместной деятельности;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1.готовность конструктивно разрешать конфликты с учетом интересов сторон сотрудничества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2.овладение базовыми предметными и межпредметными понятия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сновные задачи реализации содержания дисциплин Искус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Развитие способностей к художественно-образному, эмоционально-ценностному восприятию произведений изобразительного и музыкального искусства, выражению в творческих работах своего отношения к окружающему миру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ланируемые результаты по Музыке в начальной школе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формированы основы музыкальной культуры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оспитаны нравственные и эстетические чувства, художественный вкус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вит интерес к музыкальному искусству и муз.деятельности,образное и ассоциативное мышление и воображение,муз.память и слух, певческий голос, учебно-творческие способности в различных видах муз.деятельност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NY</dc:creator>
  <dc:description/>
  <dc:language>en-US</dc:language>
  <cp:lastModifiedBy>SONY</cp:lastModifiedBy>
  <dcterms:modified xsi:type="dcterms:W3CDTF">2012-08-04T19:32:5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