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Arial"/>
              </a:rPr>
              <a:t>Тесты </a:t>
            </a:r>
            <a:br>
              <a:rPr sz="5400"/>
            </a:br>
            <a:r>
              <a:rPr b="0" lang="en-US" sz="5400" spc="-1" strike="noStrike">
                <a:solidFill>
                  <a:srgbClr val="7030a0"/>
                </a:solidFill>
                <a:latin typeface="Arial"/>
              </a:rPr>
              <a:t>урок музыки 3 класс</a:t>
            </a:r>
            <a:endParaRPr b="0" lang="en-US" sz="54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835280" y="4365720"/>
            <a:ext cx="1361880" cy="1428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372360" y="1557360"/>
            <a:ext cx="1428480" cy="1371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284720" y="134136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050920" y="1844640"/>
            <a:ext cx="14288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9. Как называется окраска звука в музыке?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а) ритм          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б) тембр         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в) динамика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619280" y="465300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3851280" y="278136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6300720" y="155736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076720" y="47242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10. 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Кто такой композитор?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a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) человек, который пишет слова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б) человек, который пишет музыку 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в) человек, который рисует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95280" y="522936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050920" y="443700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708360" y="378936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5508720" y="5013360"/>
            <a:ext cx="1428480" cy="1285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6732720" y="321300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11. Что такое интонация?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а) выразительное исполнение произведения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б) темп произведения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в) дикция произведения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826920" y="501336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635280" y="501336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020000" y="256536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5796000" y="414972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12. Как звучит музыка, написанная в минорном ладу?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а) протяжно, уныло                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б) весело, торжественно, звонко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763640" y="4869000"/>
            <a:ext cx="1428840" cy="1285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708360" y="350028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716360" y="522936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6012000" y="328464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1547640" y="292428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13. Кто является руководителем хора и оркестра?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а) балетмейстер      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б) дирижер      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в) режиссёр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851280" y="278136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500720" y="4292640"/>
            <a:ext cx="1428480" cy="1285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2268360" y="414972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6443640" y="184464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14. Какие музыкальные произведения пишутся в куплетной форме?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а) мелодия          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б) песня              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в) марш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067280" y="3213000"/>
            <a:ext cx="1428480" cy="1285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5940360" y="170028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1835280" y="4724280"/>
            <a:ext cx="1428480" cy="1285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5508720" y="494172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15. Какую роль выполняют в ансамбле ударные музыкальные инструменты?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а) роль ритмического сопровождения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б) роль солирующих инструментов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в) служат дополнительным  инструментом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476360" y="515772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572000" y="4508640"/>
            <a:ext cx="1428840" cy="12855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588000" y="14842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16. Как называется современная музыка, предназначенная для отдыха и </a:t>
            </a:r>
            <a:br>
              <a:rPr sz="3600"/>
            </a:b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   развлечений?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а) народная музыка      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б) легкая музыка         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в) серьёзная музыка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076720" y="249228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250920" y="5157720"/>
            <a:ext cx="1428480" cy="12859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3419640" y="4581360"/>
            <a:ext cx="1428480" cy="1285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5796000" y="486900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17.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Ансамбль из 4-х исполнителей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а) квинтет   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б) квартет  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в) дуэт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851280" y="278136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372360" y="1628640"/>
            <a:ext cx="1428480" cy="1285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1116000" y="4508640"/>
            <a:ext cx="1428840" cy="12855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3276720" y="4797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6443640" y="314172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18. Низкий женский голос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а) сопрано       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б) альт       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в) тенор</a:t>
            </a: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11280" y="5084640"/>
            <a:ext cx="1428480" cy="1285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5003640" y="256536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5364000" y="501336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6877080" y="1341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3059280" y="4869000"/>
            <a:ext cx="14284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3068280"/>
            <a:ext cx="82072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4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030a0"/>
              </a:solidFill>
              <a:latin typeface="Calibri"/>
            </a:endParaRPr>
          </a:p>
          <a:p>
            <a:pPr lvl="1" marL="838080" indent="-380880">
              <a:lnSpc>
                <a:spcPct val="145000"/>
              </a:lnSpc>
              <a:spcBef>
                <a:spcPts val="2401"/>
              </a:spcBef>
              <a:buClr>
                <a:srgbClr val="c0504d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ансамбль               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marL="457200" indent="0">
              <a:lnSpc>
                <a:spcPct val="14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                         </a:t>
            </a: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б) дуэт            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marL="457200" indent="0">
              <a:lnSpc>
                <a:spcPct val="14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                                       </a:t>
            </a: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в)  хор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marL="457200" indent="0">
              <a:lnSpc>
                <a:spcPct val="14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marL="457200" indent="0">
              <a:lnSpc>
                <a:spcPct val="14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030a0"/>
              </a:solidFill>
              <a:latin typeface="Calibri"/>
            </a:endParaRPr>
          </a:p>
          <a:p>
            <a:pPr marL="457200" indent="0">
              <a:lnSpc>
                <a:spcPct val="14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030a0"/>
              </a:solidFill>
              <a:latin typeface="Calibri"/>
            </a:endParaRPr>
          </a:p>
          <a:p>
            <a:pPr marL="457200" indent="0">
              <a:lnSpc>
                <a:spcPct val="14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030a0"/>
              </a:solidFill>
              <a:latin typeface="Calibri"/>
            </a:endParaRPr>
          </a:p>
          <a:p>
            <a:pPr marL="457200" indent="0">
              <a:lnSpc>
                <a:spcPct val="14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030a0"/>
              </a:solidFill>
              <a:latin typeface="Calibri"/>
            </a:endParaRPr>
          </a:p>
          <a:p>
            <a:pPr marL="457200" indent="0">
              <a:lnSpc>
                <a:spcPct val="14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030a0"/>
              </a:solidFill>
              <a:latin typeface="Calibri"/>
            </a:endParaRPr>
          </a:p>
          <a:p>
            <a:pPr marL="457200" indent="0">
              <a:lnSpc>
                <a:spcPct val="14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030a0"/>
              </a:solidFill>
              <a:latin typeface="Calibri"/>
            </a:endParaRPr>
          </a:p>
          <a:p>
            <a:pPr marL="457200" indent="0">
              <a:lnSpc>
                <a:spcPct val="14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030a0"/>
              </a:solidFill>
              <a:latin typeface="Calibri"/>
            </a:endParaRPr>
          </a:p>
          <a:p>
            <a:pPr marL="457200" indent="0">
              <a:lnSpc>
                <a:spcPct val="14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1. Как называют большой коллектив певцов, исполняющих песню?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659640" y="4149720"/>
            <a:ext cx="73332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886200" y="2714760"/>
            <a:ext cx="13716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19. Виолончель – инструмент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а) струнно-смычковый     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б) струнно-щипковый       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в) духовой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900000" y="386064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3851280" y="278136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5003640" y="515772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6804000" y="177336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2340000" y="47973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800080"/>
                </a:solidFill>
                <a:latin typeface="Calibri"/>
              </a:rPr>
              <a:t>Умнички!!!</a:t>
            </a:r>
            <a:endParaRPr b="0" lang="en-US" sz="48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246" name="Текст 2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2296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960560"/>
            <a:ext cx="82072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a</a:t>
            </a: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) 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звучание мелодии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б) перерыв звучания в музыке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в) громкое звучание музыке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1" marL="39996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2. Что такое пауза?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55640" y="4292640"/>
            <a:ext cx="733320" cy="1428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635280" y="5084640"/>
            <a:ext cx="733680" cy="1428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443640" y="4221000"/>
            <a:ext cx="733320" cy="1428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427640" y="3789360"/>
            <a:ext cx="1371600" cy="1428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763640" y="3789360"/>
            <a:ext cx="1371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3. Как называют одного исполнителя?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a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) солист             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б) ансамбль           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                                    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в) трио</a:t>
            </a: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26920" y="414972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492360" y="515772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651640" y="3789360"/>
            <a:ext cx="1428480" cy="1285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916360" y="3500280"/>
            <a:ext cx="1371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4. Что такое ритм?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a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) чередование долгих и коротких звуков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б) длительности звуков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в) скорость звуков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547640" y="458136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076720" y="4869000"/>
            <a:ext cx="1428840" cy="1285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132000" y="530064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6300720" y="249228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324000" y="4437000"/>
            <a:ext cx="1371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5. Как называют 5 линеек, на которых пишутся ноты?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a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) нотный стан      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б) скрипичный ключ        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в) пауза</a:t>
            </a: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924360" y="4869000"/>
            <a:ext cx="1428840" cy="1285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084720" y="429264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826920" y="4292640"/>
            <a:ext cx="1371600" cy="1428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3419640" y="3213000"/>
            <a:ext cx="1371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6. Сколько музыкальных звуков ты знаешь?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а)   8                 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б)  5               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в)  7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857760" y="2786040"/>
            <a:ext cx="1428480" cy="1285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857760" y="2786040"/>
            <a:ext cx="1428480" cy="1285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3857760" y="2786040"/>
            <a:ext cx="1428480" cy="1285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3857760" y="2786040"/>
            <a:ext cx="1428480" cy="1285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6443640" y="1989000"/>
            <a:ext cx="733320" cy="1428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1619280" y="3789360"/>
            <a:ext cx="733320" cy="1428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3851280" y="278136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5076720" y="4869000"/>
            <a:ext cx="13716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7. Что такое темп?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a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) сила    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б) скорость звуков       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в) мелодичность звука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39640" y="4941720"/>
            <a:ext cx="733680" cy="1428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276720" y="4005360"/>
            <a:ext cx="733320" cy="1428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300720" y="2492280"/>
            <a:ext cx="733320" cy="1428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5003640" y="486900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8. Кто руководит симфоническим оркестром?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а) поэт         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б) дирижёр        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в) пианист</a:t>
            </a:r>
            <a:r>
              <a:rPr b="0" lang="en-US" sz="36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042920" y="4221000"/>
            <a:ext cx="733320" cy="1428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205160" y="2714760"/>
            <a:ext cx="733680" cy="14284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4211640" y="2708280"/>
            <a:ext cx="733320" cy="1428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564000" y="458136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6300720" y="112536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6300720" y="378936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3857760" y="2714760"/>
            <a:ext cx="14284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6:21:29Z</dcterms:created>
  <dc:creator>Наталия</dc:creator>
  <dc:description/>
  <dc:language>en-US</dc:language>
  <cp:lastModifiedBy>user</cp:lastModifiedBy>
  <dcterms:modified xsi:type="dcterms:W3CDTF">2014-01-20T23:30:15Z</dcterms:modified>
  <cp:revision>73</cp:revision>
  <dc:subject/>
  <dc:title>Слайд 1</dc:title>
</cp:coreProperties>
</file>