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7624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4920" y="159984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67624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4894920" y="4134960"/>
            <a:ext cx="2112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20320" y="413496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20320" y="1599840"/>
            <a:ext cx="320256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4960"/>
            <a:ext cx="656280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kripk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Skripk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54626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Современный урок музыки</a:t>
            </a:r>
            <a:endParaRPr b="0" lang="en-US" sz="6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7120" y="2286000"/>
            <a:ext cx="4788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Monotype Corsiva"/>
              </a:rPr>
              <a:t>Инновационные формы работы на уроках музыки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714840" y="4286160"/>
            <a:ext cx="5143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Работу выполнила учитель музыки МОУ СОШ №91 Ленинского района г.Нижнего Нов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Monotype Corsiva"/>
              </a:rPr>
              <a:t>Шибарова Марина Владимиро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28760" y="6143760"/>
            <a:ext cx="464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Нижний Нов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01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Содержимое 2"/>
          <p:cNvSpPr/>
          <p:nvPr/>
        </p:nvSpPr>
        <p:spPr>
          <a:xfrm>
            <a:off x="285840" y="357120"/>
            <a:ext cx="3643200" cy="2714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Monotype Corsiva"/>
              </a:rPr>
              <a:t>Особенности эмоционального  вос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2"/>
          <p:cNvSpPr/>
          <p:nvPr/>
        </p:nvSpPr>
        <p:spPr>
          <a:xfrm>
            <a:off x="4143240" y="357120"/>
            <a:ext cx="4429440" cy="27860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Ученики эмоционально правильно принимают материал  в полном объеме , способны анализировать музыкальный материал, а также самостоятельно разбирают его  гармоническую структуру и способы развития мело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285840" y="3429000"/>
            <a:ext cx="3643200" cy="2928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Monotype Corsiva"/>
              </a:rPr>
              <a:t>По уровню волевого развития и концентрации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4143240" y="3500280"/>
            <a:ext cx="4429440" cy="2857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В целом учащиеся могут быть охарактеризованы, как класс с высокой степенью работоспособности. У большинства учащихся хорошо развито произвольное внимание, быстрое включение в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8"/>
          <p:cNvSpPr/>
          <p:nvPr/>
        </p:nvSpPr>
        <p:spPr>
          <a:xfrm>
            <a:off x="3929040" y="1714680"/>
            <a:ext cx="2142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3929040" y="4857840"/>
            <a:ext cx="2142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одержимое 2"/>
          <p:cNvSpPr/>
          <p:nvPr/>
        </p:nvSpPr>
        <p:spPr>
          <a:xfrm>
            <a:off x="357120" y="571680"/>
            <a:ext cx="3643560" cy="542916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5429160"/>
              <a:gd name="textAreaBottom" fmla="*/ 5251320 h 5429160"/>
            </a:gdLst>
            <a:ahLst/>
            <a:rect l="textAreaLeft" t="textAreaTop" r="textAreaRight" b="textAreaBottom"/>
            <a:pathLst>
              <a:path w="21600" h="32184">
                <a:moveTo>
                  <a:pt x="3600" y="0"/>
                </a:moveTo>
                <a:arcTo wR="3600" hR="3600" stAng="16200000" swAng="-5400000"/>
                <a:lnTo>
                  <a:pt x="0" y="28584"/>
                </a:lnTo>
                <a:arcTo wR="3600" hR="3600" stAng="10800000" swAng="-5400000"/>
                <a:lnTo>
                  <a:pt x="18000" y="32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Monotype Corsiva"/>
              </a:rPr>
              <a:t>По особенностям поведения в процессе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держимое 2"/>
          <p:cNvSpPr/>
          <p:nvPr/>
        </p:nvSpPr>
        <p:spPr>
          <a:xfrm>
            <a:off x="4214880" y="571680"/>
            <a:ext cx="4429080" cy="550044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5500440"/>
              <a:gd name="textAreaBottom" fmla="*/ 5284440 h 5500440"/>
            </a:gdLst>
            <a:ahLst/>
            <a:rect l="textAreaLeft" t="textAreaTop" r="textAreaRight" b="textAreaBottom"/>
            <a:pathLst>
              <a:path w="21600" h="26824">
                <a:moveTo>
                  <a:pt x="3600" y="0"/>
                </a:moveTo>
                <a:arcTo wR="3600" hR="3600" stAng="16200000" swAng="-5400000"/>
                <a:lnTo>
                  <a:pt x="0" y="23224"/>
                </a:lnTo>
                <a:arcTo wR="3600" hR="3600" stAng="10800000" swAng="-5400000"/>
                <a:lnTo>
                  <a:pt x="18000" y="268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Практически все учащиеся  способны регулировать свое поведение на основе требований учителя. Но есть учащиеся нуждающиеся в дополнительной эмоциональной мотивации со стороны учителя. Отличительной особенностью данного класса является интерес к  изобразительности в музыке. Они внимательно слушают, а также активно участвуют в обсуждении музыка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4000680" y="3286080"/>
            <a:ext cx="2142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Monotype Corsiva"/>
              </a:rPr>
              <a:t>Ожидаемые результаты освоения программы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139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Monotype Corsiva"/>
              </a:rPr>
              <a:t>Овладение школьниками системой музыкально-теоретических знаний, умений;</a:t>
            </a:r>
            <a:endParaRPr b="0" lang="en-US" sz="3000" spc="-1" strike="noStrike">
              <a:solidFill>
                <a:srgbClr val="ffffff"/>
              </a:solidFill>
              <a:latin typeface="Monotype Corsiva"/>
            </a:endParaRPr>
          </a:p>
          <a:p>
            <a:pPr marL="288000" indent="-288000"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Monotype Corsiva"/>
              </a:rPr>
              <a:t>Формирование у школьников художественно-эстетического вкуса, любви к музыке;</a:t>
            </a:r>
            <a:endParaRPr b="0" lang="en-US" sz="3000" spc="-1" strike="noStrike">
              <a:solidFill>
                <a:srgbClr val="ffffff"/>
              </a:solidFill>
              <a:latin typeface="Monotype Corsiva"/>
            </a:endParaRPr>
          </a:p>
          <a:p>
            <a:pPr marL="288000" indent="-288000"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Monotype Corsiva"/>
              </a:rPr>
              <a:t>Умение анализировать музыкальный материал;</a:t>
            </a:r>
            <a:endParaRPr b="0" lang="en-US" sz="3000" spc="-1" strike="noStrike">
              <a:solidFill>
                <a:srgbClr val="ffffff"/>
              </a:solidFill>
              <a:latin typeface="Monotype Corsiva"/>
            </a:endParaRPr>
          </a:p>
          <a:p>
            <a:pPr marL="288000" indent="-288000"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Monotype Corsiva"/>
              </a:rPr>
              <a:t>Способность к контролю и самоконтролю;</a:t>
            </a:r>
            <a:endParaRPr b="0" lang="en-US" sz="3000" spc="-1" strike="noStrike">
              <a:solidFill>
                <a:srgbClr val="ffffff"/>
              </a:solidFill>
              <a:latin typeface="Monotype Corsiva"/>
            </a:endParaRPr>
          </a:p>
          <a:p>
            <a:pPr marL="288000" indent="-288000"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00"/>
                </a:solidFill>
                <a:latin typeface="Monotype Corsiva"/>
              </a:rPr>
              <a:t>Способность к творческому решению учебных и практических задач.</a:t>
            </a:r>
            <a:endParaRPr b="0" lang="en-US" sz="3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Monotype Corsiva"/>
              </a:rPr>
              <a:t>Инновационные формы работы на уроках музыки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5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Monotype Corsiva"/>
              </a:rPr>
              <a:t>Технология развивающего обучения </a:t>
            </a:r>
            <a:r>
              <a:rPr b="0" lang="ru-RU" sz="1800" spc="-1" strike="noStrike">
                <a:solidFill>
                  <a:srgbClr val="ff9900"/>
                </a:solidFill>
                <a:latin typeface="Monotype Corsiva"/>
              </a:rPr>
              <a:t>(проблемное изложение учебного материала, частичнопоисковая деятельность, самостоятельная проектная исследовательская деятельность)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Monotype Corsiva"/>
              </a:rPr>
              <a:t>Технология развития критического мышления </a:t>
            </a:r>
            <a:r>
              <a:rPr b="0" lang="ru-RU" sz="1600" spc="-1" strike="noStrike">
                <a:solidFill>
                  <a:srgbClr val="ff9900"/>
                </a:solidFill>
                <a:latin typeface="Monotype Corsiva"/>
              </a:rPr>
              <a:t>(</a:t>
            </a:r>
            <a:r>
              <a:rPr b="0" lang="ru-RU" sz="1800" spc="-1" strike="noStrike">
                <a:solidFill>
                  <a:srgbClr val="ff9900"/>
                </a:solidFill>
                <a:latin typeface="Monotype Corsiva"/>
              </a:rPr>
              <a:t>столкновение жизненных представлений обучающихся с научными фактами)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Monotype Corsiva"/>
              </a:rPr>
              <a:t>Информационные компьютерные технологии </a:t>
            </a:r>
            <a:r>
              <a:rPr b="0" lang="ru-RU" sz="1800" spc="-1" strike="noStrike">
                <a:solidFill>
                  <a:srgbClr val="ff9900"/>
                </a:solidFill>
                <a:latin typeface="Monotype Corsiva"/>
              </a:rPr>
              <a:t>(наличие в творческом плане проблем/задач, требующих  компьютерных технологий для их решения, использование готовых электронных образовательных ресурсов)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Monotype Corsiva"/>
              </a:rPr>
              <a:t>Технология индивидуально-деятельного подхода (</a:t>
            </a:r>
            <a:r>
              <a:rPr b="0" lang="ru-RU" sz="1800" spc="-1" strike="noStrike">
                <a:solidFill>
                  <a:srgbClr val="ff9900"/>
                </a:solidFill>
                <a:latin typeface="Monotype Corsiva"/>
              </a:rPr>
              <a:t>творческая работа учащихся, умение корректировать ее, самоконтроль)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227640" y="2492280"/>
            <a:ext cx="2664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onotype Corsiva"/>
              </a:rPr>
              <a:t>Типы уроков: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6923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Уроки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 овладения новыми знаниями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Уроки 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формирования и усвоения умений и навыков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Уроки 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обобщений и систематизации знаний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Уроки 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повторения, закрепления знаний, умений и навыков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Контрольно-проверочные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уроки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 (с устной и письменной проверкой знаний, умений и навыков), музыкальные викторины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Комбинированные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уроки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, на которых одновременно решается несколько дидактических задач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Monotype Corsiva"/>
              </a:rPr>
              <a:t>Методы обучения: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197000"/>
            <a:ext cx="6562800" cy="934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Методы организации и осуществления (самоорганизации)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2421000"/>
            <a:ext cx="3024360" cy="28083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Monotype Corsiva"/>
              </a:rPr>
              <a:t>Методы освоения учениками нового матери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otype Corsiva"/>
              </a:rPr>
              <a:t>Иллюстративно-объясн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otype Corsiva"/>
              </a:rPr>
              <a:t>Репродук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otype Corsiva"/>
              </a:rPr>
              <a:t>Проблемного из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otype Corsiva"/>
              </a:rPr>
              <a:t>Частично-поис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otype Corsiva"/>
              </a:rPr>
              <a:t>Исследовательски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otype Corsiva"/>
              </a:rPr>
              <a:t>Наглядные (</a:t>
            </a: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демонстрации, иллюстрации, показ картин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onotype Corsiva"/>
              </a:rPr>
              <a:t>Практические </a:t>
            </a:r>
            <a:r>
              <a:rPr b="0" lang="en-US" sz="1400" spc="-1" strike="noStrike">
                <a:solidFill>
                  <a:srgbClr val="ffffff"/>
                </a:solidFill>
                <a:latin typeface="Monotype Corsiva"/>
              </a:rPr>
              <a:t>(упражнения, исследования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4653000"/>
            <a:ext cx="2951280" cy="2016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Monotype Corsiva"/>
              </a:rPr>
              <a:t>Методы характеризующие мыслительные опер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onotype Corsiva"/>
              </a:rPr>
              <a:t>Индуктивные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(от частного к обще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onotype Corsiva"/>
              </a:rPr>
              <a:t>Дедуктивные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(от общего к частно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Monotype Corsiva"/>
              </a:rPr>
              <a:t>Традуктивные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(не меняя уровня обобщ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213372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213372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2133720"/>
            <a:ext cx="0" cy="2519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2951280" cy="2016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9900"/>
                </a:solidFill>
                <a:uFillTx/>
                <a:latin typeface="Monotype Corsiva"/>
              </a:rPr>
              <a:t>Методы передачи учебной информации: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onotype Corsiva"/>
              </a:rPr>
              <a:t>Словесные 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(рассказ, беседа, звуковоспроизведение и т.д.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onotype Corsiva"/>
              </a:rPr>
              <a:t>Наглядные 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(демонстрации, иллюстрации, показ картин и т.д.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onotype Corsiva"/>
              </a:rPr>
              <a:t>Практические 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(упражнения, исследования и т.д.)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1280" y="189000"/>
            <a:ext cx="6562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onotype Corsiva"/>
              </a:rPr>
              <a:t>Методы обуче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197000"/>
            <a:ext cx="6562800" cy="934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Методы стимулирования и мотиваци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421000"/>
            <a:ext cx="2951280" cy="2016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Monotype Corsiva"/>
              </a:rPr>
              <a:t>Методы стимулирования мотивов интереса к уче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Познавательные иг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Учебные диску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Неожида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Занима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Создание ситуаций новизны, успе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2421000"/>
            <a:ext cx="2951280" cy="2016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Monotype Corsiva"/>
              </a:rPr>
              <a:t>Методы стимулирования мотивов долга, сознательности, ответствен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Уб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Треб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При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Поощр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4869000"/>
            <a:ext cx="4896000" cy="15127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Monotype Corsiva"/>
              </a:rPr>
              <a:t>Методы музыкального вос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Метод интонационно-стилевого постижения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Метод сравнительного анали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Метод эмоциональной драматур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Проблемно-поисковый 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13372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213372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133720"/>
            <a:ext cx="0" cy="273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onotype Corsiva"/>
              </a:rPr>
              <a:t>Методы обучения: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44640"/>
            <a:ext cx="6562800" cy="934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Методы контроля и самоконтроля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068640"/>
            <a:ext cx="6767640" cy="1440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Устные или пись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Фронтальные, групповые, 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Итоговые или теку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С применением компьютеров  и других ТСО или без 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278136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Monotype Corsiva"/>
              </a:rPr>
              <a:t>Методы активизации обучающихся на уроках музыки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6994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Пение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Импровизаци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Голосовые игры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Речевые упражнени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Словесное высказывание о музыке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Интересный подбор музыкального материала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Задания на активизацию слухового внимания: поднятие руки при смене мелодии, частей, состава исполнителей, вступления инструментов и т.д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Создание рисунков, раскрашивание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Графическая звукозапись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Движение: дирижирование, ходьба, марширование, подскоки, наклоны, хлопки и т.д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Инсценирование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Игра на музыкальных инструментах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Monotype Corsiva"/>
              </a:rPr>
              <a:t>Принципы художественной дидактики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Увеличение объема репертуара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Увеличение теоретической емкости урока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Насыщенность урока музыкальным звучанием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Отход от репродуктивного уровня к творческому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Принцип эмоционально-ценностного развития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750096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Урок-это зеркало общей и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едагогической культуры учителя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мерило его интеллектуального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богатства, показатель его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кругозора и эрудиции.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000"/>
                </a:solidFill>
                <a:latin typeface="Monotype Corsiva"/>
              </a:rPr>
              <a:t>В.А.Сухомлинский</a:t>
            </a:r>
            <a:r>
              <a:rPr b="0" lang="en-US" sz="4000" spc="-1" strike="noStrike">
                <a:solidFill>
                  <a:srgbClr val="ffc000"/>
                </a:solidFill>
                <a:latin typeface="Monotype Corsiva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Формы организации учебной деятельности: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6049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-72000">
              <a:lnSpc>
                <a:spcPct val="150000"/>
              </a:lnSpc>
              <a:spcBef>
                <a:spcPts val="11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Фронтальная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72000" indent="-72000">
              <a:lnSpc>
                <a:spcPct val="150000"/>
              </a:lnSpc>
              <a:spcBef>
                <a:spcPts val="11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Групповая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72000" indent="-72000">
              <a:lnSpc>
                <a:spcPct val="150000"/>
              </a:lnSpc>
              <a:spcBef>
                <a:spcPts val="11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Monotype Corsiva"/>
              </a:rPr>
              <a:t>Индивидуальная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  <a:p>
            <a:pPr marL="720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4941720"/>
            <a:ext cx="273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587700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491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Monotype Corsiva"/>
              </a:rPr>
              <a:t>Система знаний и умений: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05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Формирование знаний об отличительных особенностях различных музыкальных жанров (опера, балет, мюзикл)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Знания о составе симфонического оркестра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Знание о многообразии тембральных различий музыкальных инструментов симфонического оркестра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Знание об изобразительных свойствах инструментов симфонического оркестра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Знание о строении музыкальных форм произведений (рондо, вариации, трехчастная, репризная формы и т.д.);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Monotype Corsiva"/>
              </a:rPr>
              <a:t>Знание о строении мелодии, ритмических особенностях, гармонической и полифонической основе музыки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6912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Тематическое планирование по разделу: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907920"/>
          <a:ext cx="8569440" cy="4929480"/>
        </p:xfrm>
        <a:graphic>
          <a:graphicData uri="http://schemas.openxmlformats.org/drawingml/2006/table">
            <a:tbl>
              <a:tblPr/>
              <a:tblGrid>
                <a:gridCol w="792360"/>
                <a:gridCol w="3416040"/>
                <a:gridCol w="1101960"/>
                <a:gridCol w="3259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Тема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Кол-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Практическая 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Опера: «Сказка о царе Салтане» Н.А Римского-Корса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Три чуда,Полет шм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исование иллюстраций к музыкальным фрагментам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Балет «Щелкунчик» муз  П. И. Чайковск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Вальс снежных хлопьев, Марш, Танец пастушков, Испанский танец (Шоколад), Китайский танец (чай), Арабский танец (Кофе), Танец фей Драже, Вальс ц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Музыкальная вик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Балет «Конек -Горбунок» муз Р. Щедрина, по сказке П. Ерш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Девичий хоро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Музыкальные кроссвор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Балет «Лебединое озеро»  муз П.И. Чайковск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Танец с кубками, Тема лебедей, Танец маленьких лебедей, Неаполитанский тан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2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оздание музыкально-художественного образа, Музыкальная вик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Опера «Руслан и Людмила» муз М. И. Гли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9900"/>
                          </a:solidFill>
                          <a:latin typeface="Monotype Corsiva"/>
                        </a:rPr>
                        <a:t>Рондо Фарла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итмическое изображение формы «рондо» в импров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Monotype Corsiva"/>
              </a:rPr>
              <a:t>Пример урока (3 класс):</a:t>
            </a:r>
            <a:endParaRPr b="0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386028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Тип урока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: </a:t>
            </a: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комбинированный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2421000"/>
            <a:ext cx="8137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Тема урока: </a:t>
            </a:r>
            <a:r>
              <a:rPr b="1" lang="en-US" sz="3600" spc="-1" strike="noStrike">
                <a:solidFill>
                  <a:srgbClr val="ff9900"/>
                </a:solidFill>
                <a:latin typeface="Monotype Corsiva"/>
              </a:rPr>
              <a:t>путешествие в музыкальный театр. Сказка и бал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1557360"/>
            <a:ext cx="656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Monotype Corsiva"/>
              </a:rPr>
              <a:t>14.10.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479736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Цель урока: 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развитие активного осознанного восприятия музыки учащимися на основе выявления в ней музыкальных образов, определения их харак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333360"/>
            <a:ext cx="81356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Образовательные: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 учить овладению навыкам осознанного слушания музыкальных произведений, дальнейшему их анализу. Формировать целостное представление о творчестве П.И. Чайко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Воспитательные: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 воспитывать мир чувств ребенка, его эмоциональную чут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Развивающие:</a:t>
            </a:r>
            <a:r>
              <a:rPr b="1" lang="en-US" sz="2800" spc="-1" strike="noStrike">
                <a:solidFill>
                  <a:srgbClr val="ff9900"/>
                </a:solidFill>
                <a:latin typeface="Monotype Corsiva"/>
              </a:rPr>
              <a:t> способствовать развитию основных мыслительных процессов: внимания, памяти, умений сравнивать, анализировать. Способствовать развитию навыка эмоционального слуш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620640"/>
            <a:ext cx="5977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Оборудование и материалы: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 Проектор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 Экран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 Компьютер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 Музыкальный центр, диски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 Фортепиано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 Цветные карточки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 Портреты композиторов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 Иллюстрации к сказкам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 Пример афиши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Monotype Corsiva"/>
              </a:rPr>
              <a:t>Слай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2708280"/>
            <a:ext cx="3168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Марш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600360" cy="2403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716360" y="4437000"/>
            <a:ext cx="316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Вальс 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6208560"/>
            <a:ext cx="316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Испанский т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260280"/>
            <a:ext cx="431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Демонстрационные 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Картинка 65 из 612"/>
          <p:cNvPicPr/>
          <p:nvPr/>
        </p:nvPicPr>
        <p:blipFill>
          <a:blip r:embed="rId2"/>
          <a:stretch/>
        </p:blipFill>
        <p:spPr>
          <a:xfrm>
            <a:off x="4211640" y="1628640"/>
            <a:ext cx="4319640" cy="2748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3600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87640" y="5661000"/>
            <a:ext cx="342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Китайский танец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2708280" cy="4105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5661000"/>
            <a:ext cx="342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Восточный т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260280"/>
            <a:ext cx="431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Демонстрационные 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26431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4186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Этапы урока: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784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240840">
              <a:spcBef>
                <a:spcPts val="49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Погружение в атмосферу сказки: </a:t>
            </a:r>
            <a:r>
              <a:rPr b="0" lang="ru-RU" sz="2800" spc="-1" strike="noStrike">
                <a:solidFill>
                  <a:srgbClr val="ff9900"/>
                </a:solidFill>
                <a:latin typeface="Monotype Corsiva"/>
              </a:rPr>
              <a:t>исполнение песни «Сказки гуляют по свету» </a:t>
            </a:r>
            <a:r>
              <a:rPr b="0" lang="ru-RU" sz="2000" spc="-1" strike="noStrike">
                <a:solidFill>
                  <a:srgbClr val="ff9900"/>
                </a:solidFill>
                <a:latin typeface="Monotype Corsiva"/>
              </a:rPr>
              <a:t>муз. Е. Птичкина, сл. М. Пляцковского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indent="240840"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Закрепление пройденного материала: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Monotype Corsiva"/>
              </a:rPr>
              <a:t>Игра «Угадай-ка» по отрывкам балета «Щелкунчик» П.И. Чайковского, показ слайдов.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Monotype Corsiva"/>
              </a:rPr>
              <a:t>В результате игры переход к новой теме.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indent="240840"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Обобщение знаний о творчестве П.И. Чайковского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indent="240840"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Краткое знакомство с содержанием балета «Лебединое озеро»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indent="240840"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Слушание и анализ музыкальных отрывков: «Тема лебедей», «Танец маленьких лебедей»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6767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Monotype Corsiva"/>
              </a:rPr>
              <a:t>Музыкальная физминутка.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Сравнительный анализ</a:t>
            </a:r>
            <a:r>
              <a:rPr b="0" lang="ru-RU" sz="2800" spc="-1" strike="noStrike">
                <a:solidFill>
                  <a:srgbClr val="ff9900"/>
                </a:solidFill>
                <a:latin typeface="Monotype Corsiva"/>
              </a:rPr>
              <a:t> «Темы лебедя» во втором действии третьей картины, на основе видеоролика из м/ф «Барби. Лебединое озеро»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Рефлексия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Monotype Corsiva"/>
              </a:rPr>
              <a:t>Домашнее задание: создать афишу к балету «Лебединое озеро»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1900080" cy="2691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50920" y="3933720"/>
            <a:ext cx="201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Пример афи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562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000"/>
                </a:solidFill>
                <a:uFillTx/>
                <a:latin typeface="Monotype Corsiva"/>
              </a:rPr>
              <a:t>ЦЕЛЬ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Monotype Corsiv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современного музыкального школьного образования: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4200" y="2714400"/>
            <a:ext cx="697248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Monotype Corsiva"/>
              </a:rPr>
              <a:t>«Становление музыкальной культуры, как неотъемлемой части духовной культуры»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Monotype Corsiva"/>
              </a:rPr>
              <a:t>Итог урока: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7283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Monotype Corsiva"/>
              </a:rPr>
              <a:t>Учащиеся обобщают знания о творческой судьбе П.И. Чайковского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1600" indent="-291600"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Monotype Corsiva"/>
              </a:rPr>
              <a:t>Закрепляют знание музыкальных отрывков из балета «Щелкунчик»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1600" indent="-291600"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Monotype Corsiva"/>
              </a:rPr>
              <a:t>Знакомятся с содержанием нового произведения П. И. Чайковского «Лебединое озеро»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1600" indent="-291600">
              <a:spcBef>
                <a:spcPts val="700"/>
              </a:spcBef>
              <a:buClr>
                <a:srgbClr val="ff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Monotype Corsiva"/>
              </a:rPr>
              <a:t>На основе слушания основной темы произведения учатся сравнивать и характеризовать образы и настроения, которые заложены в музыке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6923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Знания, умения, навыки и качества, которые актуализируют ученики в ходе уро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562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Monotype Corsiva"/>
              </a:rPr>
              <a:t>Список литературы: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7848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«Музыкальное образование в школе», под ред., Л.В.Школяр, М., Академия, 2001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Алиев Ю.Б. «Настольная книга школьного учителя-музыканта», М., Владос, 2002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сеннева М.Е., Безбородова Л.А. «Методика музыкального воспитания младших школьников», М.,Академия, 2001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Челышева Т.С. «Спутник учителя музыки», М., Просвещение, 1993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асина-Гроссман В. «Книга о музыке и великих музыкантах», М., Современник, 1999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Григорович В.Б. «Великие музыканты Западной Европы», М., Просвещение, 1982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«Как научить любить Родину», М., Аркти, 2003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митриева Л.Г. Н.М.Черноиваненко «Методика музыкального воспитания в школе», М., Академия, 2000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«Теория и методика музыкального образования детей», под ред. Л.В.Школяр, М., Флинта, Наука, 1998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Безбородова Л.А., Алиев Ю.Б. «Методика преподавания музыки в общеобразовательных учреждениях», М., Академия, 2002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Абдуллин Э.Б. «Теория и практика музыкального обучения в общеобразовательной школе», М., Просвещение, 1983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Аржаникова Л.Г. «Профессия-учитель музыки», М., Просвещение, 1985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Халазбурь П., Попов В. «Теория и методика музыкального воспитания», Санкт-Петербург, 2002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Кабалевский Д.Б. «Как рассказывать детям о музыке», М., Просвещение, 1989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12480" indent="-312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Кабалевский Д.Б. «Воспитание ума и сердца», М., Просвещение, 1989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728352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Булучевский Ю. «Краткий музыкальный словарь для учащихся», Ленинград, Музыка, 1989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амин Д.К. «Сто великих композиторов», М.,Вече, 2000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Кленов А. «Там, где музыка живет», М., Педагогика, 1986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«Веселые уроки музыки» /составитель З.Н. Бугаева/, М., Аст, 2002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«Традиции и новаторство в музыкально-эстетическом образовании»,/редакторы: Е.Д.Критская, Л.В.Школяр/,М., Флинта,1999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«Музыкальное воспитание в школе» сборники статей под ред. Апраксиной О.А. выпуск №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9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,17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«Музыка в школе» № №1-3, 2007г, №№1-6 – 2008г., №№1-5 – 2009 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«Искусство в школе» № 4 1995г., №№1-4 1996г., №2,4,6 1998г., № 2,3 1999г., № 2,3 2000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Ригина Г.С. «Музыка. Книга для учителя», М., Учебная литература,2000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Бакланова Т.И. «Обучение в 1 классе», М., Астрель, 2005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Тузлаева Г.С. «Поурочные планы по учебнику Г.С.Ригиной 1 класс», Волгоград, Учитель,2006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молина Е.А. «Современный урок музыки», Ярославль, Академия развития, 2006г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Разумовская О.К. Русские композиторы. Биографии, викторины, кроссворды.- М.: Айрис-пресс, 2007.- 176с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Золина Л.В. Уроки музыки с применением информационных технологий. 1-8 классы. Методическое пособие с электронным приложением.  М.: Глобус, 2008.- 176с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338760" indent="-3387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есенные сборники.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562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Monotype Corsiva"/>
              </a:rPr>
              <a:t>Интернет-ресурсы: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http://900igr.net/datas/stikhi/V-gostjakh-u-skazki.files/0032-032-Skazka-o-tsare-Saltane.jpg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http://www.balletart.ru/rus/news/2006/img/b06_06_3.jpg 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http://img-fotki.yandex.ru/get/4703/dioseya.26/0_482c4_4f175f16_L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http://www.operaballet.net/content/files/photoalbums/77/image.image8420.jpg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http://img1.liveinternet.ru/images/foto/b/3/55/2204055/f_13187638.jpg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http://img0.liveinternet.ru/images/attach/c/2/69/23/69023861_1294607115_IMG_4240_.jpg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http://www.kordram.ru/spektakli/schelkunchik/afisha.jpg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68664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000"/>
                </a:solidFill>
                <a:uFillTx/>
                <a:latin typeface="Monotype Corsiva"/>
              </a:rPr>
              <a:t>ЗАДАЧИ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современного музыкального школьного образования: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760" y="2428920"/>
            <a:ext cx="77436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3480" indent="-39348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развитие сознания, музыкального мышления детей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393480" indent="-39348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развитие эмоциональной сферы обучающихся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393480" indent="-39348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развитие волевой, активной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393480" indent="-39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стороны личности, связанной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393480" indent="-39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с освоением различных видов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393480" indent="-393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деятельности.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6562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000"/>
                </a:solidFill>
                <a:uFillTx/>
                <a:latin typeface="Monotype Corsiva"/>
              </a:rPr>
              <a:t>ПРОБЛЕМЫ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современного музыкального школьного образования: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3840" y="2286000"/>
            <a:ext cx="7572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использование комплексного подхода в преподавании на основе взаимодействия различных видов искусства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4840" indent="-29484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внедрение новых образовательных технологий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4840" indent="-29484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использование инновационных форм работы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4840" indent="-29484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использование современных методов музыкального воспитания;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4840" indent="-29484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использование принципов художественной дидактики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4840" indent="-29484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42960" y="713880"/>
            <a:ext cx="65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Урок не должен стать только фактом встречи ребенка с музыкой, его результатом должны стать изменения в самом ребенке.</a:t>
            </a:r>
            <a:endParaRPr b="0" lang="en-US" sz="4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712944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Тема раздела: </a:t>
            </a:r>
            <a:br>
              <a:rPr sz="4800"/>
            </a:br>
            <a:r>
              <a:rPr b="1" lang="en-US" sz="4800" spc="-1" strike="noStrike">
                <a:solidFill>
                  <a:srgbClr val="ffc000"/>
                </a:solidFill>
                <a:latin typeface="Monotype Corsiva"/>
              </a:rPr>
              <a:t>Сказка в опере и балете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(3 класс)</a:t>
            </a: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48243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65628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000"/>
                </a:solidFill>
                <a:uFillTx/>
                <a:latin typeface="Monotype Corsiva"/>
              </a:rPr>
              <a:t>Урок музык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– это, прежде всего, урок творчества, на котором должны быть решены следующие триединые задачи: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560" y="2214720"/>
            <a:ext cx="7777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Образовательная - 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вооружить учащихся  системой музыкальных знаний умений и навыков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Воспитательная - 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формировать у обучающихся духовные и нравственные качества личности через музыкальные сказочные образы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Развивающая - 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при обучении развивать у обучающихся познавательный интерес, творческие способности, любовь к музыке, эмоции, познавательные способности: речь, память, внимание, воображение, восприятие.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marL="291600" indent="-291600">
              <a:spcBef>
                <a:spcPts val="700"/>
              </a:spcBef>
              <a:buClr>
                <a:srgbClr val="ffc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Monotype Corsiva"/>
              </a:rPr>
              <a:t>Психолого-педагогические особенности учащихся: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8640" y="1664640"/>
            <a:ext cx="3513960" cy="1199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txBody>
          <a:bodyPr anchor="t">
            <a:normAutofit fontScale="74000"/>
          </a:bodyPr>
          <a:p>
            <a:pPr marL="6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Monotype Corsiva"/>
              </a:rPr>
              <a:t>По характеру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 marL="6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Monotype Corsiva"/>
              </a:rPr>
              <a:t>учебной мотивации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4071960" y="1643040"/>
            <a:ext cx="4714920" cy="1285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У учащихся класса преобладает эмоциональная и познавательная мотивация в обу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285840" y="3214800"/>
            <a:ext cx="3571920" cy="3000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</a:rPr>
              <a:t>По сформи-рованности навыков учеб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4071960" y="3214800"/>
            <a:ext cx="4786200" cy="30002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 большинства учащихся наблюдается высокий уровень сформированности учебных навыков. Они в основном понимают содержание материала, способны к самостоятельному анализу, и исправлению ошиб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7"/>
          <p:cNvSpPr/>
          <p:nvPr/>
        </p:nvSpPr>
        <p:spPr>
          <a:xfrm>
            <a:off x="3857760" y="2286000"/>
            <a:ext cx="2142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3857760" y="4714920"/>
            <a:ext cx="2142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0:12:42Z</dcterms:created>
  <dc:creator>Admin</dc:creator>
  <dc:description/>
  <dc:language>en-US</dc:language>
  <cp:lastModifiedBy>Admin</cp:lastModifiedBy>
  <dcterms:modified xsi:type="dcterms:W3CDTF">2012-09-03T18:48:29Z</dcterms:modified>
  <cp:revision>56</cp:revision>
  <dc:subject/>
  <dc:title>Современный урок музыки.</dc:title>
</cp:coreProperties>
</file>