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930-3676-47E2-9129-CABA1B8B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1A4-1021-41CE-AC24-BD9617AF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97A-95E4-43AC-ABAF-B6C70EAD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E40-76BB-4F35-97C3-388D3888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6D50-6E7D-40FF-B6FF-D5233D18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3E5B-97BE-4496-8B12-B137CA0E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5016-C0A6-45C1-948A-C23A4685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C41A-CEEE-4A0E-9674-4778CA7B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CF39-FCAF-403D-8233-1F053FA4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0357-D464-4282-ACB7-8F5FA087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B22E-EE6F-4D79-B811-4BDB7899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6BA-5505-4FDD-AB59-7BA6183F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7C73-8450-4E52-AE19-AC465B0D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EF94-E86C-4C9B-9BDE-035471B5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D58B-B0BA-4247-A4B6-499BC002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C47B-889C-45E5-BEE9-350D4DCF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2250-E0AB-4DE3-BC8B-2D4A5AD0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7FF-F1FF-497F-A660-E96F2969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8BC-BF44-4508-B8BF-3AD5F29A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0A9F-3D08-4274-A7B2-22D357BD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097-80D9-488A-B0D4-B0CF151F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27E-9F0F-4AB9-9879-5BD05A37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298-E725-4D09-865C-2F15B32E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177-201E-4F48-B4ED-AB9150B1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1045-91E2-430F-B821-E334ADC4F4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005C-B9EC-4266-B524-53C22D1EF1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23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539640" y="189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У СОШ №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5280" y="1341360"/>
            <a:ext cx="835344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99"/>
                </a:solidFill>
                <a:latin typeface="Times New Roman"/>
              </a:rPr>
              <a:t>Социально – педагогическа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99"/>
                </a:solidFill>
                <a:latin typeface="Times New Roman"/>
              </a:rPr>
              <a:t>работа с детьми девиантног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99"/>
                </a:solidFill>
                <a:latin typeface="Times New Roman"/>
              </a:rPr>
              <a:t>поведения в школ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826920" y="5157720"/>
            <a:ext cx="4753080" cy="13816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еловек есть не что иное, как ряд его поступ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. Гегел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Тематические классные мероприят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748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еем ли мы общать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и разных поколений. Давайте поймём взросл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у сегодня нужна любов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Что такое дружба?» Классное мероприятие по сплочению коллекти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й характер и темперам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фликт. Как его разреш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р моих увлечений». Профориентационное мероприят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4">
            <a:hlinkClick r:id="rId1" action="ppaction://hlinksldjump"/>
          </p:cNvPr>
          <p:cNvSpPr/>
          <p:nvPr/>
        </p:nvSpPr>
        <p:spPr>
          <a:xfrm>
            <a:off x="8459640" y="6165720"/>
            <a:ext cx="433440" cy="476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76280"/>
              <a:gd name="textAreaBottom" fmla="*/ 448200 h 476280"/>
            </a:gdLst>
            <a:ahLst/>
            <a:rect l="textAreaLeft" t="textAreaTop" r="textAreaRight" b="textAreaBottom"/>
            <a:pathLst>
              <a:path w="21600" h="23733">
                <a:moveTo>
                  <a:pt x="0" y="0"/>
                </a:moveTo>
                <a:lnTo>
                  <a:pt x="21600" y="0"/>
                </a:lnTo>
                <a:lnTo>
                  <a:pt x="21600" y="23733"/>
                </a:lnTo>
                <a:lnTo>
                  <a:pt x="0" y="23733"/>
                </a:lnTo>
                <a:close/>
              </a:path>
              <a:path fill="lightenLess" w="21600" h="237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3">
                <a:moveTo>
                  <a:pt x="21600" y="0"/>
                </a:moveTo>
                <a:lnTo>
                  <a:pt x="21600" y="23733"/>
                </a:lnTo>
                <a:lnTo>
                  <a:pt x="20200" y="22333"/>
                </a:lnTo>
                <a:lnTo>
                  <a:pt x="20200" y="1400"/>
                </a:lnTo>
                <a:close/>
              </a:path>
              <a:path fill="darkenLess" w="21600" h="23733">
                <a:moveTo>
                  <a:pt x="21600" y="23733"/>
                </a:moveTo>
                <a:lnTo>
                  <a:pt x="0" y="23733"/>
                </a:lnTo>
                <a:lnTo>
                  <a:pt x="1400" y="22333"/>
                </a:lnTo>
                <a:lnTo>
                  <a:pt x="20200" y="22333"/>
                </a:lnTo>
                <a:close/>
              </a:path>
              <a:path fill="lighten" w="21600" h="23733">
                <a:moveTo>
                  <a:pt x="0" y="237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3"/>
                </a:lnTo>
                <a:close/>
              </a:path>
              <a:path fill="darken" w="21600" h="23733">
                <a:moveTo>
                  <a:pt x="3794" y="11867"/>
                </a:moveTo>
                <a:lnTo>
                  <a:pt x="17806" y="4860"/>
                </a:lnTo>
                <a:lnTo>
                  <a:pt x="17806" y="1887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6516720" y="4102200"/>
            <a:ext cx="2386080" cy="1979640"/>
          </a:xfrm>
          <a:prstGeom prst="rect">
            <a:avLst/>
          </a:prstGeom>
          <a:ln w="38160">
            <a:solidFill>
              <a:srgbClr val="0088e4"/>
            </a:solidFill>
            <a:miter/>
          </a:ln>
        </p:spPr>
      </p:pic>
    </p:spTree>
  </p:cSld>
  <p:transition>
    <p:wipe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99"/>
                </a:solidFill>
                <a:latin typeface="Arial"/>
              </a:rPr>
              <a:t>Личностно – ориентированная направлен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770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еды и консультации с родител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Беседы с ребён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ещение семьи и обследование взаимоотношений её член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влечение в кружковую и другую внеклассную деятельность детей с проявлениями той или иной дезадаптированость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Контролирование посещаемости и успеваемости учащего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Работа по программе «Дети группы рис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4">
            <a:hlinkClick r:id="" action="ppaction://hlinkshowjump?jump=previous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4"/>
          <a:stretch/>
        </p:blipFill>
        <p:spPr>
          <a:xfrm>
            <a:off x="7380360" y="2778120"/>
            <a:ext cx="1290600" cy="2166840"/>
          </a:xfrm>
          <a:prstGeom prst="rect">
            <a:avLst/>
          </a:prstGeom>
          <a:ln w="38160">
            <a:solidFill>
              <a:srgbClr val="0088e4"/>
            </a:solidFill>
            <a:miter/>
          </a:ln>
        </p:spPr>
      </p:pic>
    </p:spTree>
  </p:cSld>
  <p:transition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Работа в микрогрупп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бота по программе «Дети группы риск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ужки по интересам и внеклассная работа с детьми, проявляющими те или иные признаки дезадаптирован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Микрогрупповые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психотренинги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4" action="ppaction://hlinksldjump"/>
              </a:rPr>
              <a:t> и 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5" action="ppaction://hlinksldjump"/>
              </a:rPr>
              <a:t>психокоррекционные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6" action="ppaction://hlinksldjump"/>
              </a:rPr>
              <a:t> занят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4">
            <a:hlinkClick r:id="" action="ppaction://hlinkshowjump?jump=previousslide"/>
          </p:cNvPr>
          <p:cNvSpPr/>
          <p:nvPr/>
        </p:nvSpPr>
        <p:spPr>
          <a:xfrm>
            <a:off x="838836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12934"/>
                </a:moveTo>
                <a:lnTo>
                  <a:pt x="17806" y="5928"/>
                </a:lnTo>
                <a:lnTo>
                  <a:pt x="17806" y="1994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8">
            <a:hlinkClick r:id="rId1" action="ppaction://hlinksldjump"/>
          </p:cNvPr>
          <p:cNvSpPr/>
          <p:nvPr/>
        </p:nvSpPr>
        <p:spPr>
          <a:xfrm>
            <a:off x="826920" y="3933720"/>
            <a:ext cx="8066160" cy="2519640"/>
          </a:xfrm>
          <a:prstGeom prst="rightArrowCallout">
            <a:avLst>
              <a:gd name="adj1" fmla="val 25002"/>
              <a:gd name="adj2" fmla="val 25000"/>
              <a:gd name="adj3" fmla="val -48920"/>
              <a:gd name="adj4" fmla="val 66667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755280" y="3933720"/>
            <a:ext cx="5040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Оказание консультативной помощи ребёнку, родителям, учител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7"/>
          <p:cNvGrpSpPr/>
          <p:nvPr/>
        </p:nvGrpSpPr>
        <p:grpSpPr>
          <a:xfrm>
            <a:off x="755640" y="836640"/>
            <a:ext cx="7991640" cy="2521080"/>
            <a:chOff x="755640" y="836640"/>
            <a:chExt cx="7991640" cy="2521080"/>
          </a:xfrm>
        </p:grpSpPr>
        <p:sp>
          <p:nvSpPr>
            <p:cNvPr id="268" name="AutoShape 4">
              <a:hlinkClick r:id="rId3" action="ppaction://hlinksldjump"/>
            </p:cNvPr>
            <p:cNvSpPr/>
            <p:nvPr/>
          </p:nvSpPr>
          <p:spPr>
            <a:xfrm>
              <a:off x="755640" y="836640"/>
              <a:ext cx="7991640" cy="2521080"/>
            </a:xfrm>
            <a:prstGeom prst="rightArrowCallout">
              <a:avLst>
                <a:gd name="adj1" fmla="val 25002"/>
                <a:gd name="adj2" fmla="val 25000"/>
                <a:gd name="adj3" fmla="val -49385"/>
                <a:gd name="adj4" fmla="val 66667"/>
              </a:avLst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5">
              <a:hlinkClick r:id="rId4" action="ppaction://hlinksldjump"/>
            </p:cNvPr>
            <p:cNvSpPr/>
            <p:nvPr/>
          </p:nvSpPr>
          <p:spPr>
            <a:xfrm>
              <a:off x="826920" y="1052640"/>
              <a:ext cx="4969080" cy="22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Коррекционно – развивающая работа с ребёнком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арушение эмоциональной сферы ребён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53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стояние психического дискомфор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раждебно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евожно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гресс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8604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8" descr=""/>
          <p:cNvPicPr/>
          <p:nvPr/>
        </p:nvPicPr>
        <p:blipFill>
          <a:blip r:embed="rId1"/>
          <a:stretch/>
        </p:blipFill>
        <p:spPr>
          <a:xfrm>
            <a:off x="5508720" y="2492280"/>
            <a:ext cx="2763720" cy="3705480"/>
          </a:xfrm>
          <a:prstGeom prst="rect">
            <a:avLst/>
          </a:prstGeom>
          <a:ln w="38160">
            <a:solidFill>
              <a:srgbClr val="0088e4"/>
            </a:solidFill>
            <a:miter/>
          </a:ln>
        </p:spPr>
      </p:pic>
    </p:spTree>
  </p:cSld>
  <p:transition>
    <p:wipe dir="r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Враждеб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АПРАВЛ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оррекционной рабо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ция поведения с помощью ролевых иг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ние адекватных форм пове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моциональное осознание своего пове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равственное воспит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 над выразительностью движ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учение приемам ауторелакс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 поведения в коллекти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4">
            <a:hlinkClick r:id="" action="ppaction://hlinkshowjump?jump=previousslide"/>
          </p:cNvPr>
          <p:cNvSpPr/>
          <p:nvPr/>
        </p:nvSpPr>
        <p:spPr>
          <a:xfrm>
            <a:off x="8459640" y="630864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5982" y="10800"/>
                </a:moveTo>
                <a:lnTo>
                  <a:pt x="19995" y="3794"/>
                </a:lnTo>
                <a:lnTo>
                  <a:pt x="19995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ecff"/>
                </a:solidFill>
                <a:uFillTx/>
                <a:latin typeface="Arial"/>
              </a:rPr>
              <a:t>ЗАДАЧИ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коррекционной работы :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ижение эмоционального напря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меньшение тревож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очь справится с негативными переживаниями, которые препятствуют нормальному самочувств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ятие страх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спитание  уверенности в себ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8532720" y="6237360"/>
            <a:ext cx="289080" cy="4316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1640"/>
              <a:gd name="textAreaBottom" fmla="*/ 412920 h 431640"/>
            </a:gdLst>
            <a:ahLst/>
            <a:rect l="textAreaLeft" t="textAreaTop" r="textAreaRight" b="textAreaBottom"/>
            <a:pathLst>
              <a:path w="21600" h="32239">
                <a:moveTo>
                  <a:pt x="0" y="0"/>
                </a:moveTo>
                <a:lnTo>
                  <a:pt x="21600" y="0"/>
                </a:lnTo>
                <a:lnTo>
                  <a:pt x="21600" y="32239"/>
                </a:lnTo>
                <a:lnTo>
                  <a:pt x="0" y="32239"/>
                </a:lnTo>
                <a:close/>
              </a:path>
              <a:path fill="lightenLess" w="21600" h="322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39">
                <a:moveTo>
                  <a:pt x="21600" y="0"/>
                </a:moveTo>
                <a:lnTo>
                  <a:pt x="21600" y="32239"/>
                </a:lnTo>
                <a:lnTo>
                  <a:pt x="20200" y="30839"/>
                </a:lnTo>
                <a:lnTo>
                  <a:pt x="20200" y="1400"/>
                </a:lnTo>
                <a:close/>
              </a:path>
              <a:path fill="darkenLess" w="21600" h="32239">
                <a:moveTo>
                  <a:pt x="21600" y="32239"/>
                </a:moveTo>
                <a:lnTo>
                  <a:pt x="0" y="32239"/>
                </a:lnTo>
                <a:lnTo>
                  <a:pt x="1400" y="30839"/>
                </a:lnTo>
                <a:lnTo>
                  <a:pt x="20200" y="30839"/>
                </a:lnTo>
                <a:close/>
              </a:path>
              <a:path fill="lighten" w="21600" h="32239">
                <a:moveTo>
                  <a:pt x="0" y="3223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39"/>
                </a:lnTo>
                <a:close/>
              </a:path>
              <a:path fill="darken" w="21600" h="32239">
                <a:moveTo>
                  <a:pt x="3794" y="16119"/>
                </a:moveTo>
                <a:lnTo>
                  <a:pt x="17806" y="9113"/>
                </a:lnTo>
                <a:lnTo>
                  <a:pt x="17806" y="2312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Тревожность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ПРАВЛЕ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коррекционной раб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Ι.   Повышение самооцен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ΙΙ.  Обучение ребенка умению         управлять собой в конкретных, наиболее волнующих его ситуация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ΙΙΙ. Снятие личностного напря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4">
            <a:hlinkClick r:id="" action="ppaction://hlinkshowjump?jump=nextslide"/>
          </p:cNvPr>
          <p:cNvSpPr/>
          <p:nvPr/>
        </p:nvSpPr>
        <p:spPr>
          <a:xfrm>
            <a:off x="845964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17815" y="10800"/>
                </a:lnTo>
                <a:lnTo>
                  <a:pt x="380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3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L2_p4б_6"/>
          <p:cNvPicPr/>
          <p:nvPr/>
        </p:nvPicPr>
        <p:blipFill>
          <a:blip r:embed="rId1"/>
          <a:stretch/>
        </p:blipFill>
        <p:spPr>
          <a:xfrm>
            <a:off x="6443640" y="0"/>
            <a:ext cx="2700360" cy="20257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757080" y="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Агрессивност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АПРАВЛ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оррекционной  рабо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Ι.   Работа с гневом. Обучение агрессивных де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емлемым способам выражения гн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ΙΙ.  Обучение детей навыкам распознания и контроля негативных эмоций, умению владеть собой в ситуациях, провоцирующих вспышки гн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ΙΙΙ. Формирование способности к эмпатии, довери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чувствию, сопереживанию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6">
            <a:hlinkClick r:id="" action="ppaction://hlinkshowjump?jump=nextslide"/>
          </p:cNvPr>
          <p:cNvSpPr/>
          <p:nvPr/>
        </p:nvSpPr>
        <p:spPr>
          <a:xfrm>
            <a:off x="8459640" y="6237360"/>
            <a:ext cx="289080" cy="4316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1640"/>
              <a:gd name="textAreaBottom" fmla="*/ 412920 h 431640"/>
            </a:gdLst>
            <a:ahLst/>
            <a:rect l="textAreaLeft" t="textAreaTop" r="textAreaRight" b="textAreaBottom"/>
            <a:pathLst>
              <a:path w="21600" h="32239">
                <a:moveTo>
                  <a:pt x="0" y="0"/>
                </a:moveTo>
                <a:lnTo>
                  <a:pt x="21600" y="0"/>
                </a:lnTo>
                <a:lnTo>
                  <a:pt x="21600" y="32239"/>
                </a:lnTo>
                <a:lnTo>
                  <a:pt x="0" y="32239"/>
                </a:lnTo>
                <a:close/>
              </a:path>
              <a:path fill="lightenLess" w="21600" h="322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39">
                <a:moveTo>
                  <a:pt x="21600" y="0"/>
                </a:moveTo>
                <a:lnTo>
                  <a:pt x="21600" y="32239"/>
                </a:lnTo>
                <a:lnTo>
                  <a:pt x="20200" y="30839"/>
                </a:lnTo>
                <a:lnTo>
                  <a:pt x="20200" y="1400"/>
                </a:lnTo>
                <a:close/>
              </a:path>
              <a:path fill="darkenLess" w="21600" h="32239">
                <a:moveTo>
                  <a:pt x="21600" y="32239"/>
                </a:moveTo>
                <a:lnTo>
                  <a:pt x="0" y="32239"/>
                </a:lnTo>
                <a:lnTo>
                  <a:pt x="1400" y="30839"/>
                </a:lnTo>
                <a:lnTo>
                  <a:pt x="20200" y="30839"/>
                </a:lnTo>
                <a:close/>
              </a:path>
              <a:path fill="lighten" w="21600" h="32239">
                <a:moveTo>
                  <a:pt x="0" y="3223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39"/>
                </a:lnTo>
                <a:close/>
              </a:path>
              <a:path fill="darken" w="21600" h="32239">
                <a:moveTo>
                  <a:pt x="3794" y="9113"/>
                </a:moveTo>
                <a:lnTo>
                  <a:pt x="17806" y="16119"/>
                </a:lnTo>
                <a:lnTo>
                  <a:pt x="3794" y="2312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ecff"/>
                </a:solidFill>
                <a:uFillTx/>
                <a:latin typeface="Arial"/>
              </a:rPr>
              <a:t>ЗАДАЧИ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коррекционной работы :</a:t>
            </a:r>
            <a:br>
              <a:rPr sz="40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ижение эмоционального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ние у детей моральных представл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наж психомоторных функ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е способности понимать эмоциональное состояние другого человека  и умения адекватно выразить св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ция эмоциональной сферы реб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ция поведения с помощью ролевых иг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учение ауторелакс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 rot="10800000">
            <a:off x="8459280" y="6237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12934"/>
                </a:moveTo>
                <a:lnTo>
                  <a:pt x="17806" y="5928"/>
                </a:lnTo>
                <a:lnTo>
                  <a:pt x="17806" y="1994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Трудные де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это те, чьё поведение откланяется от принятых в обществе стандартов и нор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Дивиантное повед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отклоняющееся от принятых в обществе норм, не обусловленн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сихически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болеван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468360" y="692280"/>
            <a:ext cx="8424720" cy="1368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8ae8"/>
              </a:gs>
            </a:gsLst>
            <a:lin ang="27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539640" y="76500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ОНСУЛЬТАЦИИ (индивидуальные, групповые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Group 15"/>
          <p:cNvGrpSpPr/>
          <p:nvPr/>
        </p:nvGrpSpPr>
        <p:grpSpPr>
          <a:xfrm>
            <a:off x="539640" y="2997360"/>
            <a:ext cx="3745080" cy="1511280"/>
            <a:chOff x="539640" y="2997360"/>
            <a:chExt cx="3745080" cy="1511280"/>
          </a:xfrm>
        </p:grpSpPr>
        <p:sp>
          <p:nvSpPr>
            <p:cNvPr id="293" name="AutoShape 6"/>
            <p:cNvSpPr/>
            <p:nvPr/>
          </p:nvSpPr>
          <p:spPr>
            <a:xfrm>
              <a:off x="539640" y="2997360"/>
              <a:ext cx="3745080" cy="15112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8ae"/>
                </a:gs>
              </a:gsLst>
              <a:lin ang="27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Text Box 9"/>
            <p:cNvSpPr/>
            <p:nvPr/>
          </p:nvSpPr>
          <p:spPr>
            <a:xfrm>
              <a:off x="971640" y="3500280"/>
              <a:ext cx="26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УЧИТЕЛЯ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Group 16"/>
          <p:cNvGrpSpPr/>
          <p:nvPr/>
        </p:nvGrpSpPr>
        <p:grpSpPr>
          <a:xfrm>
            <a:off x="4788000" y="2997360"/>
            <a:ext cx="3744720" cy="1511280"/>
            <a:chOff x="4788000" y="2997360"/>
            <a:chExt cx="3744720" cy="1511280"/>
          </a:xfrm>
        </p:grpSpPr>
        <p:sp>
          <p:nvSpPr>
            <p:cNvPr id="296" name="AutoShape 7"/>
            <p:cNvSpPr/>
            <p:nvPr/>
          </p:nvSpPr>
          <p:spPr>
            <a:xfrm>
              <a:off x="4788000" y="2997360"/>
              <a:ext cx="3744720" cy="15112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8ae"/>
                </a:gs>
              </a:gsLst>
              <a:lin ang="27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5219640" y="3500280"/>
              <a:ext cx="29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РОДИТЕЛЯ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Group 17"/>
          <p:cNvGrpSpPr/>
          <p:nvPr/>
        </p:nvGrpSpPr>
        <p:grpSpPr>
          <a:xfrm>
            <a:off x="2627280" y="5084640"/>
            <a:ext cx="3745080" cy="1511280"/>
            <a:chOff x="2627280" y="5084640"/>
            <a:chExt cx="3745080" cy="1511280"/>
          </a:xfrm>
        </p:grpSpPr>
        <p:sp>
          <p:nvSpPr>
            <p:cNvPr id="299" name="AutoShape 8"/>
            <p:cNvSpPr/>
            <p:nvPr/>
          </p:nvSpPr>
          <p:spPr>
            <a:xfrm>
              <a:off x="2627280" y="5084640"/>
              <a:ext cx="3745080" cy="15112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68ae"/>
                </a:gs>
                <a:gs pos="100000">
                  <a:srgbClr val="009999"/>
                </a:gs>
              </a:gsLst>
              <a:lin ang="189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11"/>
            <p:cNvSpPr/>
            <p:nvPr/>
          </p:nvSpPr>
          <p:spPr>
            <a:xfrm>
              <a:off x="3132000" y="5589720"/>
              <a:ext cx="28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ДЕТЯ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Line 12"/>
          <p:cNvSpPr/>
          <p:nvPr/>
        </p:nvSpPr>
        <p:spPr>
          <a:xfrm flipH="1">
            <a:off x="2556000" y="2060640"/>
            <a:ext cx="1944720" cy="8636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4500720" y="2060640"/>
            <a:ext cx="2016000" cy="8636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4"/>
          <p:cNvSpPr/>
          <p:nvPr/>
        </p:nvSpPr>
        <p:spPr>
          <a:xfrm>
            <a:off x="4500720" y="2060640"/>
            <a:ext cx="71280" cy="295272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Как работать с ребенком агрессивного       поведения?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Как строить свою работу с тревожным ребенком?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ступление на методическом совет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дивидуальные консульта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совместное обсуждение причи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дностей учащихся и их взаимоотношений со сверстниками и взросл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УЧИТЕЛЯМ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AutoShape 5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88720" cy="3603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3476"/>
                </a:moveTo>
                <a:lnTo>
                  <a:pt x="17806" y="6470"/>
                </a:lnTo>
                <a:lnTo>
                  <a:pt x="17806" y="2048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РОДИТЕЛЯ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коменда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«Как строить взаимоотношения с тревожным ребенком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«Причины возникновения негативного поведения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ступления на родительском собр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авлены на профилактику и предупреждение возможных нарушений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мейных отношениях и семейном воспитан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«Взаимоотношения в семь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«Конфликт в семье. Как его избежать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5">
            <a:hlinkClick r:id="" action="ppaction://hlinkshowjump?jump=nextslide"/>
          </p:cNvPr>
          <p:cNvSpPr/>
          <p:nvPr/>
        </p:nvSpPr>
        <p:spPr>
          <a:xfrm>
            <a:off x="8532720" y="6308640"/>
            <a:ext cx="287280" cy="360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60360"/>
              <a:gd name="textAreaBottom" fmla="*/ 34200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00" y="25688"/>
                </a:lnTo>
                <a:lnTo>
                  <a:pt x="20200" y="140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400" y="25688"/>
                </a:lnTo>
                <a:lnTo>
                  <a:pt x="20200" y="2568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88"/>
                </a:lnTo>
                <a:close/>
              </a:path>
              <a:path fill="darken" w="21600" h="27088">
                <a:moveTo>
                  <a:pt x="3794" y="6537"/>
                </a:moveTo>
                <a:lnTo>
                  <a:pt x="17806" y="13544"/>
                </a:lnTo>
                <a:lnTo>
                  <a:pt x="3794" y="2055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опровождение</a:t>
            </a: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детей группы «риска»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470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яснительная запи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ли и зада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ан работы с учащимися «группы рис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уемые диагностические метод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исок учащихся «группы риска» состоящих на внутришкольном уче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граммы раб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дивидуальная карта учащегося «группы рис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лож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8388360" y="6165720"/>
            <a:ext cx="431640" cy="5050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5080"/>
              <a:gd name="textAreaBottom" fmla="*/ 477360 h 505080"/>
            </a:gdLst>
            <a:ahLst/>
            <a:rect l="textAreaLeft" t="textAreaTop" r="textAreaRight" b="textAreaBottom"/>
            <a:pathLst>
              <a:path w="21600" h="25272">
                <a:moveTo>
                  <a:pt x="0" y="0"/>
                </a:moveTo>
                <a:lnTo>
                  <a:pt x="21600" y="0"/>
                </a:lnTo>
                <a:lnTo>
                  <a:pt x="21600" y="25272"/>
                </a:lnTo>
                <a:lnTo>
                  <a:pt x="0" y="25272"/>
                </a:lnTo>
                <a:close/>
              </a:path>
              <a:path fill="lightenLess" w="21600" h="252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72">
                <a:moveTo>
                  <a:pt x="21600" y="0"/>
                </a:moveTo>
                <a:lnTo>
                  <a:pt x="21600" y="25272"/>
                </a:lnTo>
                <a:lnTo>
                  <a:pt x="20200" y="23872"/>
                </a:lnTo>
                <a:lnTo>
                  <a:pt x="20200" y="1400"/>
                </a:lnTo>
                <a:close/>
              </a:path>
              <a:path fill="darkenLess" w="21600" h="25272">
                <a:moveTo>
                  <a:pt x="21600" y="25272"/>
                </a:moveTo>
                <a:lnTo>
                  <a:pt x="0" y="25272"/>
                </a:lnTo>
                <a:lnTo>
                  <a:pt x="1400" y="23872"/>
                </a:lnTo>
                <a:lnTo>
                  <a:pt x="20200" y="23872"/>
                </a:lnTo>
                <a:close/>
              </a:path>
              <a:path fill="lighten" w="21600" h="25272">
                <a:moveTo>
                  <a:pt x="0" y="252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72"/>
                </a:lnTo>
                <a:close/>
              </a:path>
              <a:path fill="darken" w="21600" h="25272">
                <a:moveTo>
                  <a:pt x="3794" y="12636"/>
                </a:moveTo>
                <a:lnTo>
                  <a:pt x="17806" y="5630"/>
                </a:lnTo>
                <a:lnTo>
                  <a:pt x="17806" y="19642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Дезадаптац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затруднённое, осложнённое какими – либо факторами приспособление к меняющимся условиям, выражающаяся в неадекватном реагировании и поведении лич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Психологическая дезадаптац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ражается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эмоционально- личностном нарушен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нарушении взаимоотношений с одноклассника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низкой успеваем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1"/>
          <p:cNvGrpSpPr/>
          <p:nvPr/>
        </p:nvGrpSpPr>
        <p:grpSpPr>
          <a:xfrm>
            <a:off x="1332000" y="1989000"/>
            <a:ext cx="6456240" cy="1297080"/>
            <a:chOff x="1332000" y="1989000"/>
            <a:chExt cx="6456240" cy="1297080"/>
          </a:xfrm>
        </p:grpSpPr>
        <p:sp>
          <p:nvSpPr>
            <p:cNvPr id="219" name="AutoShape 8">
              <a:hlinkClick r:id="rId1" action="ppaction://hlinksldjump"/>
            </p:cNvPr>
            <p:cNvSpPr/>
            <p:nvPr/>
          </p:nvSpPr>
          <p:spPr>
            <a:xfrm>
              <a:off x="1523880" y="1989000"/>
              <a:ext cx="6264360" cy="12970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cap="sq"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3">
              <a:hlinkClick r:id="rId2" action="ppaction://hlinksldjump"/>
            </p:cNvPr>
            <p:cNvSpPr/>
            <p:nvPr/>
          </p:nvSpPr>
          <p:spPr>
            <a:xfrm>
              <a:off x="1332000" y="2271600"/>
              <a:ext cx="632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3600" spc="-1" strike="noStrike" u="sng">
                  <a:solidFill>
                    <a:srgbClr val="99ff99"/>
                  </a:solidFill>
                  <a:uFillTx/>
                  <a:latin typeface="Times New Roman"/>
                  <a:hlinkClick r:id="rId3" action="ppaction://hlinksldjump"/>
                </a:rPr>
                <a:t>Диагностическая </a:t>
              </a:r>
              <a:r>
                <a:rPr b="1" lang="ru-RU" sz="3600" spc="-1" strike="noStrike" u="sng">
                  <a:solidFill>
                    <a:srgbClr val="99ff99"/>
                  </a:solidFill>
                  <a:uFillTx/>
                  <a:latin typeface="Times New Roman"/>
                </a:rPr>
                <a:t>работ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Group 12"/>
          <p:cNvGrpSpPr/>
          <p:nvPr/>
        </p:nvGrpSpPr>
        <p:grpSpPr>
          <a:xfrm>
            <a:off x="1547640" y="3933720"/>
            <a:ext cx="6264360" cy="1297080"/>
            <a:chOff x="1547640" y="3933720"/>
            <a:chExt cx="6264360" cy="1297080"/>
          </a:xfrm>
        </p:grpSpPr>
        <p:sp>
          <p:nvSpPr>
            <p:cNvPr id="222" name="AutoShape 9">
              <a:hlinkClick r:id="rId4" action="ppaction://hlinksldjump"/>
            </p:cNvPr>
            <p:cNvSpPr/>
            <p:nvPr/>
          </p:nvSpPr>
          <p:spPr>
            <a:xfrm>
              <a:off x="1547640" y="3933720"/>
              <a:ext cx="6264360" cy="12970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cap="sq"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5"/>
            <p:cNvSpPr/>
            <p:nvPr/>
          </p:nvSpPr>
          <p:spPr>
            <a:xfrm>
              <a:off x="1547640" y="4005360"/>
              <a:ext cx="61930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99ff99"/>
                  </a:solidFill>
                  <a:uFillTx/>
                  <a:latin typeface="Times New Roman"/>
                  <a:hlinkClick r:id="rId5" action="ppaction://hlinksldjump"/>
                </a:rPr>
                <a:t>Коррекционно</a:t>
              </a:r>
              <a:r>
                <a:rPr b="0" lang="ru-RU" sz="2800" spc="-1" strike="noStrike" u="sng">
                  <a:solidFill>
                    <a:srgbClr val="99ff99"/>
                  </a:solidFill>
                  <a:uFillTx/>
                  <a:latin typeface="Times New Roman"/>
                  <a:hlinkClick r:id="rId6" action="ppaction://hlinksldjump"/>
                </a:rPr>
                <a:t> – профилактическая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99ff99"/>
                  </a:solidFill>
                  <a:uFillTx/>
                  <a:latin typeface="Times New Roman"/>
                  <a:hlinkClick r:id="rId7" action="ppaction://hlinksldjump"/>
                </a:rPr>
                <a:t>работ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116000" y="765000"/>
            <a:ext cx="7416720" cy="20084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lin ang="5400000"/>
          </a:gra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116000" y="870120"/>
            <a:ext cx="73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187280" y="870120"/>
            <a:ext cx="7128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иагностический этап работы с детьми девиантного повед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Group 39"/>
          <p:cNvGrpSpPr/>
          <p:nvPr/>
        </p:nvGrpSpPr>
        <p:grpSpPr>
          <a:xfrm>
            <a:off x="762120" y="3733920"/>
            <a:ext cx="3671640" cy="2520720"/>
            <a:chOff x="762120" y="3733920"/>
            <a:chExt cx="3671640" cy="2520720"/>
          </a:xfrm>
        </p:grpSpPr>
        <p:sp>
          <p:nvSpPr>
            <p:cNvPr id="228" name="AutoShape 9">
              <a:hlinkClick r:id="rId1" action="ppaction://hlinksldjump"/>
            </p:cNvPr>
            <p:cNvSpPr/>
            <p:nvPr/>
          </p:nvSpPr>
          <p:spPr>
            <a:xfrm>
              <a:off x="762120" y="3733920"/>
              <a:ext cx="3671640" cy="25207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cap="sq"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11">
              <a:hlinkClick r:id="rId3" action="ppaction://hlinksldjump"/>
            </p:cNvPr>
            <p:cNvSpPr/>
            <p:nvPr/>
          </p:nvSpPr>
          <p:spPr>
            <a:xfrm>
              <a:off x="900000" y="4076640"/>
              <a:ext cx="331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99ff99"/>
                  </a:solidFill>
                  <a:uFillTx/>
                  <a:latin typeface="Times New Roman"/>
                  <a:hlinkClick r:id="rId4" action="ppaction://hlinksldjump"/>
                </a:rPr>
                <a:t>Выявление трудновоспитуем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Group 40"/>
          <p:cNvGrpSpPr/>
          <p:nvPr/>
        </p:nvGrpSpPr>
        <p:grpSpPr>
          <a:xfrm>
            <a:off x="4643280" y="3716280"/>
            <a:ext cx="4032360" cy="2521080"/>
            <a:chOff x="4643280" y="3716280"/>
            <a:chExt cx="4032360" cy="2521080"/>
          </a:xfrm>
        </p:grpSpPr>
        <p:sp>
          <p:nvSpPr>
            <p:cNvPr id="231" name="AutoShape 10"/>
            <p:cNvSpPr/>
            <p:nvPr/>
          </p:nvSpPr>
          <p:spPr>
            <a:xfrm>
              <a:off x="4643280" y="3716280"/>
              <a:ext cx="4032360" cy="25210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cap="sq"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4643280" y="3716280"/>
              <a:ext cx="403236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99ff99"/>
                  </a:solidFill>
                  <a:uFillTx/>
                  <a:latin typeface="Times New Roman"/>
                  <a:hlinkClick r:id="rId6" action="ppaction://hlinksldjump"/>
                </a:rPr>
                <a:t>Личностно – ориентированная диагностическая работа с детьми </a:t>
              </a:r>
              <a:r>
                <a:rPr b="0" lang="ru-RU" sz="2400" spc="-1" strike="noStrike" u="sng">
                  <a:solidFill>
                    <a:srgbClr val="99ff99"/>
                  </a:solidFill>
                  <a:uFillTx/>
                  <a:latin typeface="Times New Roman"/>
                  <a:hlinkClick r:id="rId7" action="ppaction://hlinksldjump"/>
                </a:rPr>
                <a:t>девиантного</a:t>
              </a:r>
              <a:r>
                <a:rPr b="0" lang="ru-RU" sz="2400" spc="-1" strike="noStrike" u="sng">
                  <a:solidFill>
                    <a:srgbClr val="99ff99"/>
                  </a:solidFill>
                  <a:uFillTx/>
                  <a:latin typeface="Times New Roman"/>
                  <a:hlinkClick r:id="rId8" action="ppaction://hlinksldjump"/>
                </a:rPr>
                <a:t> поведения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Line 37"/>
          <p:cNvSpPr/>
          <p:nvPr/>
        </p:nvSpPr>
        <p:spPr>
          <a:xfrm>
            <a:off x="2556000" y="2781360"/>
            <a:ext cx="0" cy="93492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38"/>
          <p:cNvSpPr/>
          <p:nvPr/>
        </p:nvSpPr>
        <p:spPr>
          <a:xfrm>
            <a:off x="6659640" y="2781360"/>
            <a:ext cx="0" cy="93492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497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еседы с классными руководителя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еседы с родителя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еседы социального педагога непосредственно с трудновоспитуемы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Диагностическая работа психолога школы с детьми </a:t>
            </a: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девиантного</a:t>
            </a: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 повед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Диагностическая работ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ение личностных характеристик уче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ение познавательного развития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ение характера взаимоотношений в клас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ение проблем класса с точки зрения учите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ение проблем класса с точки зрения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ение отношения «отвергаемых» к школе, к семь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 с родителями, с семь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формление личных социально-психологических карт на каждого учащегося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4">
            <a:hlinkClick r:id="rId1" action="ppaction://hlinksldjump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3794" y="11916"/>
                </a:moveTo>
                <a:lnTo>
                  <a:pt x="17806" y="4910"/>
                </a:lnTo>
                <a:lnTo>
                  <a:pt x="17806" y="18922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976"/>
          <p:cNvSpPr/>
          <p:nvPr/>
        </p:nvSpPr>
        <p:spPr>
          <a:xfrm>
            <a:off x="0" y="0"/>
            <a:ext cx="9144000" cy="2133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533520 h 2133720"/>
              <a:gd name="textAreaBottom" fmla="*/ 20707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477647"/>
              </a:gs>
            </a:gsLst>
            <a:lin ang="2700000"/>
          </a:gra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970"/>
          <p:cNvSpPr/>
          <p:nvPr/>
        </p:nvSpPr>
        <p:spPr>
          <a:xfrm>
            <a:off x="2286000" y="533520"/>
            <a:ext cx="4648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ционно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977"/>
          <p:cNvSpPr/>
          <p:nvPr/>
        </p:nvSpPr>
        <p:spPr>
          <a:xfrm>
            <a:off x="533520" y="2895480"/>
            <a:ext cx="3733560" cy="1295640"/>
          </a:xfrm>
          <a:prstGeom prst="rect">
            <a:avLst/>
          </a:prstGeom>
          <a:gradFill rotWithShape="0">
            <a:gsLst>
              <a:gs pos="0">
                <a:srgbClr val="afe1ff"/>
              </a:gs>
              <a:gs pos="100000">
                <a:srgbClr val="99ff99"/>
              </a:gs>
            </a:gsLst>
            <a:lin ang="189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978"/>
          <p:cNvSpPr/>
          <p:nvPr/>
        </p:nvSpPr>
        <p:spPr>
          <a:xfrm>
            <a:off x="4800600" y="2895480"/>
            <a:ext cx="3733920" cy="129564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0088e4"/>
              </a:gs>
            </a:gsLst>
            <a:lin ang="27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979"/>
          <p:cNvSpPr/>
          <p:nvPr/>
        </p:nvSpPr>
        <p:spPr>
          <a:xfrm>
            <a:off x="2195640" y="5013360"/>
            <a:ext cx="4647960" cy="1447920"/>
          </a:xfrm>
          <a:prstGeom prst="rect">
            <a:avLst/>
          </a:prstGeom>
          <a:gradFill rotWithShape="0">
            <a:gsLst>
              <a:gs pos="0">
                <a:srgbClr val="0088e4"/>
              </a:gs>
              <a:gs pos="100000">
                <a:srgbClr val="99ff99"/>
              </a:gs>
            </a:gsLst>
            <a:lin ang="27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973"/>
          <p:cNvSpPr/>
          <p:nvPr/>
        </p:nvSpPr>
        <p:spPr>
          <a:xfrm>
            <a:off x="685800" y="32004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Работа с класс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972"/>
          <p:cNvSpPr/>
          <p:nvPr/>
        </p:nvSpPr>
        <p:spPr>
          <a:xfrm>
            <a:off x="4876920" y="31240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Работа в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микрогрупп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971"/>
          <p:cNvSpPr/>
          <p:nvPr/>
        </p:nvSpPr>
        <p:spPr>
          <a:xfrm>
            <a:off x="2438280" y="50292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4" action="ppaction://hlinksldjump"/>
              </a:rPr>
              <a:t>Личностно – ориентированная направле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980"/>
          <p:cNvSpPr/>
          <p:nvPr/>
        </p:nvSpPr>
        <p:spPr>
          <a:xfrm flipH="1">
            <a:off x="2362320" y="2133720"/>
            <a:ext cx="220968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981"/>
          <p:cNvSpPr/>
          <p:nvPr/>
        </p:nvSpPr>
        <p:spPr>
          <a:xfrm>
            <a:off x="4572000" y="2133720"/>
            <a:ext cx="213372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982"/>
          <p:cNvSpPr/>
          <p:nvPr/>
        </p:nvSpPr>
        <p:spPr>
          <a:xfrm>
            <a:off x="4572000" y="2133720"/>
            <a:ext cx="0" cy="281916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Коррекционно – профилактическая работа с классом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сультирование классных руководителей и учителей – предметников по результатам исследований клас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плексная работа по воспитанию здорового образа жиз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определение учащихся и профориентацион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Тематические классные ча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6732720" y="4869000"/>
            <a:ext cx="21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2"/>
          <a:stretch/>
        </p:blipFill>
        <p:spPr>
          <a:xfrm>
            <a:off x="6877080" y="4653000"/>
            <a:ext cx="1862280" cy="2016000"/>
          </a:xfrm>
          <a:prstGeom prst="rect">
            <a:avLst/>
          </a:prstGeom>
          <a:ln w="38160">
            <a:solidFill>
              <a:srgbClr val="0088e4"/>
            </a:solidFill>
            <a:miter/>
          </a:ln>
        </p:spPr>
      </p:pic>
    </p:spTree>
  </p:cSld>
  <p:transition>
    <p:wipe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8:00:05Z</dcterms:created>
  <dc:creator>user</dc:creator>
  <dc:description/>
  <dc:language>en-US</dc:language>
  <cp:lastModifiedBy>Назирова</cp:lastModifiedBy>
  <dcterms:modified xsi:type="dcterms:W3CDTF">2011-01-24T09:00:00Z</dcterms:modified>
  <cp:revision>30</cp:revision>
  <dc:subject/>
  <dc:title>Презентация PowerPoint</dc:title>
</cp:coreProperties>
</file>