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26E-9C5E-41D3-87EC-F7F4E09F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39B-8EE3-4AB6-A84F-213A4112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A88-D8DD-4A83-A92B-FF6997F1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873-C247-4BA5-A65B-63CD8F14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322-0745-456F-86E3-FDE082AF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AA60-0515-4870-9C21-90A7FD5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8DA4-D156-4EE5-BC11-541404B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9FE-44D3-46EC-981D-C0E4D982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266-3EED-4C02-A43A-62CA089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36AC-B94B-40EB-B3AA-D28A215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3E7D-58A1-46D0-865C-7240F39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E32-DEEA-4DB8-851A-2038F3F5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23F4-D67D-4C99-A93B-1CF6810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8AB2-4CEF-4767-A247-7FB4BE4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7F83-6ACE-463E-B264-C738E269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B9A1-8660-4AEF-B03C-90B8DCDD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A13F-FE8C-4BF3-9DBC-9276C80D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CEF-C9E7-4428-A072-F9D9B7F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810-1893-41B7-87EA-6C18628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23C-BF44-4C2B-931C-18F14AA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5FB-B492-4105-87BE-48D12B4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CA0-3FBB-44DC-9855-744C501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5F1-6CE7-44C4-B8C0-7CF0FDA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951-D17C-484B-805E-515B37F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62E-35D3-44F9-8E62-E5B890869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D20-2896-48F7-9CA3-335E537EE3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2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СОШ №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5280" y="1341360"/>
            <a:ext cx="835344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Социально – педагогическ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работа с детьми девиантн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Times New Roman"/>
              </a:rPr>
              <a:t>поведения в школ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26920" y="5157720"/>
            <a:ext cx="4753080" cy="1381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 есть не что иное, как ряд его поступ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 Гег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тические классные меропри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4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ем ли мы общ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и разных поколений. Давайте поймём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у сегодня нужна любов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такое дружба?» Классное мероприятие по сплочению 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й характер и темпера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фликт. Как его разреш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р моих увлечений». Профориентационное меропри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">
            <a:hlinkClick r:id="rId1" action="ppaction://hlinksldjump"/>
          </p:cNvPr>
          <p:cNvSpPr/>
          <p:nvPr/>
        </p:nvSpPr>
        <p:spPr>
          <a:xfrm>
            <a:off x="8459640" y="6165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3794" y="11867"/>
                </a:moveTo>
                <a:lnTo>
                  <a:pt x="17806" y="4860"/>
                </a:lnTo>
                <a:lnTo>
                  <a:pt x="17806" y="1887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6516720" y="4102200"/>
            <a:ext cx="2386080" cy="19796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Личностно – ориентированная направлен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еды и консультации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Беседы с ребё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ещение семьи и обследование взаимоотношений её чле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влечение в кружковую и другую внеклассную деятельность детей с проявлениями той или иной дезадаптировано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онтролирование посещаемости и успеваемости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Работа по программе «Дети 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4"/>
          <a:stretch/>
        </p:blipFill>
        <p:spPr>
          <a:xfrm>
            <a:off x="7380360" y="2778120"/>
            <a:ext cx="1290600" cy="216684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абота в микрогрупп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по программе «Дети группы рис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ужки по интересам и внеклассная работа с детьми, проявляющими те или иные признаки дезадаптиров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икрогруппов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психотренинги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психокоррекционные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 зан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8">
            <a:hlinkClick r:id="rId1" action="ppaction://hlinksldjump"/>
          </p:cNvPr>
          <p:cNvSpPr/>
          <p:nvPr/>
        </p:nvSpPr>
        <p:spPr>
          <a:xfrm>
            <a:off x="826920" y="3933720"/>
            <a:ext cx="8066160" cy="2519640"/>
          </a:xfrm>
          <a:prstGeom prst="rightArrowCallout">
            <a:avLst>
              <a:gd name="adj1" fmla="val 25002"/>
              <a:gd name="adj2" fmla="val 25000"/>
              <a:gd name="adj3" fmla="val -48920"/>
              <a:gd name="adj4" fmla="val 66667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55280" y="3933720"/>
            <a:ext cx="504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Оказание консультативной помощи ребёнку, родителям, уч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755640" y="836640"/>
            <a:ext cx="7991640" cy="2521080"/>
            <a:chOff x="755640" y="836640"/>
            <a:chExt cx="7991640" cy="2521080"/>
          </a:xfrm>
        </p:grpSpPr>
        <p:sp>
          <p:nvSpPr>
            <p:cNvPr id="268" name="AutoShape 4">
              <a:hlinkClick r:id="rId3" action="ppaction://hlinksldjump"/>
            </p:cNvPr>
            <p:cNvSpPr/>
            <p:nvPr/>
          </p:nvSpPr>
          <p:spPr>
            <a:xfrm>
              <a:off x="755640" y="836640"/>
              <a:ext cx="7991640" cy="2521080"/>
            </a:xfrm>
            <a:prstGeom prst="rightArrowCallout">
              <a:avLst>
                <a:gd name="adj1" fmla="val 25002"/>
                <a:gd name="adj2" fmla="val 25000"/>
                <a:gd name="adj3" fmla="val -49385"/>
                <a:gd name="adj4" fmla="val 66667"/>
              </a:avLst>
            </a:prstGeom>
            <a:solidFill>
              <a:srgbClr val="0099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5">
              <a:hlinkClick r:id="rId4" action="ppaction://hlinksldjump"/>
            </p:cNvPr>
            <p:cNvSpPr/>
            <p:nvPr/>
          </p:nvSpPr>
          <p:spPr>
            <a:xfrm>
              <a:off x="826920" y="1052640"/>
              <a:ext cx="496908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Коррекционно – развивающая работа с ребёнком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ушение эмоциональной сферы ребён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5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ояние психического дискомфор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аждеб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евож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есс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63720" cy="370548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раждеб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адекватных форм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ое осознание своего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над выразительностью дв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приемам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 поведения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10800"/>
                </a:moveTo>
                <a:lnTo>
                  <a:pt x="19995" y="3794"/>
                </a:lnTo>
                <a:lnTo>
                  <a:pt x="1999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ньшение тревож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очь справится с негативными переживаниями, которые препятствуют нормальному самочувств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ятие страх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спитание  уверенности в с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853272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ревожность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коррекционной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.   Повышение самооце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.  Обучение ребенка умению         управлять собой в конкретных, наиболее волнующих его ситуаци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ΙΙΙ. Снятие личностного напря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L2_p4б_6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5708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грессивнос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оррекционной 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.   Работа с гневом. Обучение агрессивных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емлемым способам выражения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.  Обучение детей навыкам распознания и контроля негативных эмоций, умению владеть собой в ситуациях, провоцирующих вспышки гн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ΙΙΙ. Формирование способности к эмпатии, дов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увствию, сопереживанию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9113"/>
                </a:moveTo>
                <a:lnTo>
                  <a:pt x="17806" y="16119"/>
                </a:lnTo>
                <a:lnTo>
                  <a:pt x="3794" y="231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коррекционной работы :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ижен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у детей моральных предста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наж психомоторны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способности понимать эмоциональное состояние другого человека  и умения адекватно выразить св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эмоциональной сферы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я поведения с помощью роле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ение ауторелакс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 rot="10800000">
            <a:off x="8459280" y="623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Трудные де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те, чьё поведение откланяется от принятых в обществе стандартов и н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ивиантн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тклоняющееся от принятых в обществе норм, не обусловл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ически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лев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68360" y="692280"/>
            <a:ext cx="8424720" cy="1368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ae8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39640" y="7650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НСУЛЬТАЦИИ (индивидуальные, групповы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15"/>
          <p:cNvGrpSpPr/>
          <p:nvPr/>
        </p:nvGrpSpPr>
        <p:grpSpPr>
          <a:xfrm>
            <a:off x="539640" y="2997360"/>
            <a:ext cx="3745080" cy="1511280"/>
            <a:chOff x="539640" y="2997360"/>
            <a:chExt cx="3745080" cy="1511280"/>
          </a:xfrm>
        </p:grpSpPr>
        <p:sp>
          <p:nvSpPr>
            <p:cNvPr id="293" name="AutoShape 6"/>
            <p:cNvSpPr/>
            <p:nvPr/>
          </p:nvSpPr>
          <p:spPr>
            <a:xfrm>
              <a:off x="539640" y="299736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971640" y="350028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УЧ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16"/>
          <p:cNvGrpSpPr/>
          <p:nvPr/>
        </p:nvGrpSpPr>
        <p:grpSpPr>
          <a:xfrm>
            <a:off x="4788000" y="2997360"/>
            <a:ext cx="3744720" cy="1511280"/>
            <a:chOff x="4788000" y="2997360"/>
            <a:chExt cx="3744720" cy="1511280"/>
          </a:xfrm>
        </p:grpSpPr>
        <p:sp>
          <p:nvSpPr>
            <p:cNvPr id="296" name="AutoShape 7"/>
            <p:cNvSpPr/>
            <p:nvPr/>
          </p:nvSpPr>
          <p:spPr>
            <a:xfrm>
              <a:off x="4788000" y="2997360"/>
              <a:ext cx="374472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8ae"/>
                </a:gs>
              </a:gsLst>
              <a:lin ang="27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5219640" y="350028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ОДИТЕЛ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2627280" y="5084640"/>
            <a:ext cx="3745080" cy="1511280"/>
            <a:chOff x="2627280" y="5084640"/>
            <a:chExt cx="3745080" cy="1511280"/>
          </a:xfrm>
        </p:grpSpPr>
        <p:sp>
          <p:nvSpPr>
            <p:cNvPr id="299" name="AutoShape 8"/>
            <p:cNvSpPr/>
            <p:nvPr/>
          </p:nvSpPr>
          <p:spPr>
            <a:xfrm>
              <a:off x="2627280" y="5084640"/>
              <a:ext cx="3745080" cy="15112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68ae"/>
                </a:gs>
                <a:gs pos="100000">
                  <a:srgbClr val="009999"/>
                </a:gs>
              </a:gsLst>
              <a:lin ang="189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3132000" y="558972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ЕТЯ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Line 12"/>
          <p:cNvSpPr/>
          <p:nvPr/>
        </p:nvSpPr>
        <p:spPr>
          <a:xfrm flipH="1">
            <a:off x="2556000" y="2060640"/>
            <a:ext cx="194472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4500720" y="2060640"/>
            <a:ext cx="2016000" cy="8636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500720" y="2060640"/>
            <a:ext cx="71280" cy="29527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работать с ребенком агрессивного       поведения?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к строить свою работу с тревожным ребенком?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ступление на методическом совет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дивидуальные консуль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совместное обсуждение прич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ностей учащихся и их взаимоотношений со сверстниками и взросл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ЧИТЕЛЯМ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AutoShape 5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3476"/>
                </a:moveTo>
                <a:lnTo>
                  <a:pt x="17806" y="6470"/>
                </a:lnTo>
                <a:lnTo>
                  <a:pt x="17806" y="2048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ак строить взаимоотношения с тревожным ребенком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Причины возникновения негативного поведения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тупления на родительском собр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ы на профилактику и предупреждение возможных нарушений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ейных отношениях и семейном воспитан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Взаимоотношения в семь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онфликт в семье. Как его избежа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провождение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етей группы «риска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и и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работы с учащими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уемые диагностические метод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сок учащихся «группы риска» состоящих на внутришкольном уч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мы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ая карта учащегося «группы рис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38836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3794" y="12636"/>
                </a:moveTo>
                <a:lnTo>
                  <a:pt x="17806" y="5630"/>
                </a:lnTo>
                <a:lnTo>
                  <a:pt x="17806" y="1964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затруднённое, осложнённое какими – либо факторами приспособление к меняющимся условиям, выражающаяся в неадекватном реагировании и поведении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Психологическая дезадапт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аетс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эмоционально- личностном нарушен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арушении взаимоотношений с одноклассник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низкой успевае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1"/>
          <p:cNvGrpSpPr/>
          <p:nvPr/>
        </p:nvGrpSpPr>
        <p:grpSpPr>
          <a:xfrm>
            <a:off x="1332000" y="1989000"/>
            <a:ext cx="6456240" cy="1297080"/>
            <a:chOff x="1332000" y="1989000"/>
            <a:chExt cx="6456240" cy="1297080"/>
          </a:xfrm>
        </p:grpSpPr>
        <p:sp>
          <p:nvSpPr>
            <p:cNvPr id="219" name="AutoShape 8">
              <a:hlinkClick r:id="rId1" action="ppaction://hlinksldjump"/>
            </p:cNvPr>
            <p:cNvSpPr/>
            <p:nvPr/>
          </p:nvSpPr>
          <p:spPr>
            <a:xfrm>
              <a:off x="1523880" y="198900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3">
              <a:hlinkClick r:id="rId2" action="ppaction://hlinksldjump"/>
            </p:cNvPr>
            <p:cNvSpPr/>
            <p:nvPr/>
          </p:nvSpPr>
          <p:spPr>
            <a:xfrm>
              <a:off x="1332000" y="2271600"/>
              <a:ext cx="63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99ff99"/>
                  </a:solidFill>
                  <a:uFillTx/>
                  <a:latin typeface="Times New Roman"/>
                  <a:hlinkClick r:id="rId3" action="ppaction://hlinksldjump"/>
                </a:rPr>
                <a:t>Диагностическая </a:t>
              </a:r>
              <a:r>
                <a:rPr b="1" lang="ru-RU" sz="3600" spc="-1" strike="noStrike" u="sng">
                  <a:solidFill>
                    <a:srgbClr val="99ff99"/>
                  </a:solidFill>
                  <a:uFillTx/>
                  <a:latin typeface="Times New Roman"/>
                </a:rPr>
                <a:t>работ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1547640" y="3933720"/>
            <a:ext cx="6264360" cy="1297080"/>
            <a:chOff x="1547640" y="3933720"/>
            <a:chExt cx="6264360" cy="1297080"/>
          </a:xfrm>
        </p:grpSpPr>
        <p:sp>
          <p:nvSpPr>
            <p:cNvPr id="222" name="AutoShape 9">
              <a:hlinkClick r:id="rId4" action="ppaction://hlinksldjump"/>
            </p:cNvPr>
            <p:cNvSpPr/>
            <p:nvPr/>
          </p:nvSpPr>
          <p:spPr>
            <a:xfrm>
              <a:off x="1547640" y="3933720"/>
              <a:ext cx="6264360" cy="1297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5"/>
            <p:cNvSpPr/>
            <p:nvPr/>
          </p:nvSpPr>
          <p:spPr>
            <a:xfrm>
              <a:off x="1547640" y="4005360"/>
              <a:ext cx="6193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5" action="ppaction://hlinksldjump"/>
                </a:rPr>
                <a:t>Коррекционно</a:t>
              </a: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 – профилактическа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рабо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116000" y="765000"/>
            <a:ext cx="7416720" cy="2008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87012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187280" y="870120"/>
            <a:ext cx="712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иагностический этап работы с детьми девиантного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39"/>
          <p:cNvGrpSpPr/>
          <p:nvPr/>
        </p:nvGrpSpPr>
        <p:grpSpPr>
          <a:xfrm>
            <a:off x="762120" y="3733920"/>
            <a:ext cx="3671640" cy="2520720"/>
            <a:chOff x="762120" y="3733920"/>
            <a:chExt cx="3671640" cy="2520720"/>
          </a:xfrm>
        </p:grpSpPr>
        <p:sp>
          <p:nvSpPr>
            <p:cNvPr id="228" name="AutoShape 9">
              <a:hlinkClick r:id="rId1" action="ppaction://hlinksldjump"/>
            </p:cNvPr>
            <p:cNvSpPr/>
            <p:nvPr/>
          </p:nvSpPr>
          <p:spPr>
            <a:xfrm>
              <a:off x="762120" y="3733920"/>
              <a:ext cx="3671640" cy="252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1">
              <a:hlinkClick r:id="rId3" action="ppaction://hlinksldjump"/>
            </p:cNvPr>
            <p:cNvSpPr/>
            <p:nvPr/>
          </p:nvSpPr>
          <p:spPr>
            <a:xfrm>
              <a:off x="900000" y="407664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4" action="ppaction://hlinksldjump"/>
                </a:rPr>
                <a:t>Выявление трудновоспитуем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4643280" y="3716280"/>
            <a:ext cx="4032360" cy="2521080"/>
            <a:chOff x="4643280" y="3716280"/>
            <a:chExt cx="4032360" cy="2521080"/>
          </a:xfrm>
        </p:grpSpPr>
        <p:sp>
          <p:nvSpPr>
            <p:cNvPr id="231" name="AutoShape 10"/>
            <p:cNvSpPr/>
            <p:nvPr/>
          </p:nvSpPr>
          <p:spPr>
            <a:xfrm>
              <a:off x="4643280" y="3716280"/>
              <a:ext cx="4032360" cy="2521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4643280" y="3716280"/>
              <a:ext cx="40323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6" action="ppaction://hlinksldjump"/>
                </a:rPr>
                <a:t>Личностно – ориентированная диагностическая работа с детьми 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7" action="ppaction://hlinksldjump"/>
                </a:rPr>
                <a:t>девиантного</a:t>
              </a:r>
              <a:r>
                <a:rPr b="0" lang="ru-RU" sz="2400" spc="-1" strike="noStrike" u="sng">
                  <a:solidFill>
                    <a:srgbClr val="99ff99"/>
                  </a:solidFill>
                  <a:uFillTx/>
                  <a:latin typeface="Times New Roman"/>
                  <a:hlinkClick r:id="rId8" action="ppaction://hlinksldjump"/>
                </a:rPr>
                <a:t> поведе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Line 37"/>
          <p:cNvSpPr/>
          <p:nvPr/>
        </p:nvSpPr>
        <p:spPr>
          <a:xfrm>
            <a:off x="255600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6659640" y="278136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классными руков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 родител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седы социального педагога непосредственно с трудновоспитуем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Диагностическая работа психолога школы с детьми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девиантного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 по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Диагностическая работ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личностных характеристик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ознавательного развит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характера взаимоотношений в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проблем класса с точки зрен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ение отношения «отвергаемых» к школе, к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родителями, с семь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личных социально-психологических карт на каждого учащего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>
            <a:hlinkClick r:id="rId1" action="ppaction://hlinksldjump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976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27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70"/>
          <p:cNvSpPr/>
          <p:nvPr/>
        </p:nvSpPr>
        <p:spPr>
          <a:xfrm>
            <a:off x="2286000" y="53352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77"/>
          <p:cNvSpPr/>
          <p:nvPr/>
        </p:nvSpPr>
        <p:spPr>
          <a:xfrm>
            <a:off x="533520" y="2895480"/>
            <a:ext cx="3733560" cy="129564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100000">
                <a:srgbClr val="99ff99"/>
              </a:gs>
            </a:gsLst>
            <a:lin ang="189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78"/>
          <p:cNvSpPr/>
          <p:nvPr/>
        </p:nvSpPr>
        <p:spPr>
          <a:xfrm>
            <a:off x="4800600" y="2895480"/>
            <a:ext cx="3733920" cy="1295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0088e4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979"/>
          <p:cNvSpPr/>
          <p:nvPr/>
        </p:nvSpPr>
        <p:spPr>
          <a:xfrm>
            <a:off x="2195640" y="5013360"/>
            <a:ext cx="4647960" cy="1447920"/>
          </a:xfrm>
          <a:prstGeom prst="rect">
            <a:avLst/>
          </a:prstGeom>
          <a:gradFill rotWithShape="0">
            <a:gsLst>
              <a:gs pos="0">
                <a:srgbClr val="0088e4"/>
              </a:gs>
              <a:gs pos="100000">
                <a:srgbClr val="99ff99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73"/>
          <p:cNvSpPr/>
          <p:nvPr/>
        </p:nvSpPr>
        <p:spPr>
          <a:xfrm>
            <a:off x="685800" y="32004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Работа с клас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72"/>
          <p:cNvSpPr/>
          <p:nvPr/>
        </p:nvSpPr>
        <p:spPr>
          <a:xfrm>
            <a:off x="4876920" y="31240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Работа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микро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71"/>
          <p:cNvSpPr/>
          <p:nvPr/>
        </p:nvSpPr>
        <p:spPr>
          <a:xfrm>
            <a:off x="2438280" y="5029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Личностно – ориентированная направл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980"/>
          <p:cNvSpPr/>
          <p:nvPr/>
        </p:nvSpPr>
        <p:spPr>
          <a:xfrm flipH="1">
            <a:off x="2362320" y="2133720"/>
            <a:ext cx="220968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981"/>
          <p:cNvSpPr/>
          <p:nvPr/>
        </p:nvSpPr>
        <p:spPr>
          <a:xfrm>
            <a:off x="4572000" y="2133720"/>
            <a:ext cx="213372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82"/>
          <p:cNvSpPr/>
          <p:nvPr/>
        </p:nvSpPr>
        <p:spPr>
          <a:xfrm>
            <a:off x="4572000" y="2133720"/>
            <a:ext cx="0" cy="28191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оррекционно – профилактическая работа с классо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классных руководителей и учителей – предметников по результатам исследований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ексная работа по воспитанию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определение учащихся и профориен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Тематические классные ча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732720" y="486900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1862280" cy="2016000"/>
          </a:xfrm>
          <a:prstGeom prst="rect">
            <a:avLst/>
          </a:prstGeom>
          <a:ln w="38160">
            <a:solidFill>
              <a:srgbClr val="0088e4"/>
            </a:solidFill>
            <a:miter/>
          </a:ln>
        </p:spPr>
      </p:pic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8:00:05Z</dcterms:created>
  <dc:creator>user</dc:creator>
  <dc:description/>
  <dc:language>en-US</dc:language>
  <cp:lastModifiedBy>Назирова</cp:lastModifiedBy>
  <dcterms:modified xsi:type="dcterms:W3CDTF">2011-01-24T09:00:00Z</dcterms:modified>
  <cp:revision>30</cp:revision>
  <dc:subject/>
  <dc:title>Презентация PowerPoint</dc:title>
</cp:coreProperties>
</file>