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39B-D60C-4AD7-BA79-F5571419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485-BC1A-4505-87FA-A06B508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98C-792B-4A3D-A6C0-6D32804B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889-0A98-4B02-B9D7-DDED9914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F5F3-EE89-4C80-92AC-36BB448E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A1F4-50D8-493C-9BC7-20B31556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094F-A59F-413E-93FF-15891B39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5F43-65ED-4E13-ADD8-FFD923DD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4311-9CEA-48B0-BC90-9532351E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E69-8F0B-4C4E-A877-2EE054DD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7B7-DFD2-42E6-898E-A9D63FD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EDC-7C4F-448A-9732-743A3680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1810-9BB1-45EA-A95A-19298FA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AB9E-90E9-465D-A940-5ED9806A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CA2E-49FC-4C61-8302-CB71A17C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C21-CA82-40F9-B947-D59AE49C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655F-1592-4901-A70E-61240F0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684-2FBE-43B7-A07D-E38AC2FE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F23-E147-4BF1-9151-01222B5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091-5DA8-4913-9CDD-EE72465F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28A-846B-4749-AB6F-A8ADECF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97E-05CA-43EB-AD51-4935B7E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6DF-55D1-4B2F-815C-3A89496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E6F-553B-495F-9B96-60573D4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268-E2BC-4E4C-B357-14F077E90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2B3-2960-4297-B555-EAE5C73928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2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СОШ №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5280" y="1341360"/>
            <a:ext cx="835344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Социально – педагогическ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работа с детьми девиантн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поведения в школ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826920" y="5157720"/>
            <a:ext cx="4753080" cy="1381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 есть не что иное, как ряд его поступ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 Гег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матические классные меропри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4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ем ли мы общ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и разных поколений. Давайте поймём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у сегодня нужна любов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такое дружба?» Классное мероприятие по сплочению 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й характер и темпера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фликт. Как его разреш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р моих увлечений». Профориентационное меропри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3794" y="11867"/>
                </a:moveTo>
                <a:lnTo>
                  <a:pt x="17806" y="4860"/>
                </a:lnTo>
                <a:lnTo>
                  <a:pt x="17806" y="1887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6516720" y="4102200"/>
            <a:ext cx="2386080" cy="197964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Личностно – ориентированная направлен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еды и консультации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Беседы с ребён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ещение семьи и обследование взаимоотношений её чле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влечение в кружковую и другую внеклассную деятельность детей с проявлениями той или иной дезадаптировано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онтролирование посещаемости и успеваемости уча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Работа по программе «Дети 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7380360" y="2778120"/>
            <a:ext cx="1290600" cy="216684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Работа в микрогрупп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по программе «Дети группы рис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ужки по интересам и внеклассная работа с детьми, проявляющими те или иные признаки дезадаптирова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икрогрупповые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психотренинги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психокоррекционные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 зан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4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8">
            <a:hlinkClick r:id="rId1" action="ppaction://hlinksldjump"/>
          </p:cNvPr>
          <p:cNvSpPr/>
          <p:nvPr/>
        </p:nvSpPr>
        <p:spPr>
          <a:xfrm>
            <a:off x="826920" y="3933720"/>
            <a:ext cx="8066160" cy="2519640"/>
          </a:xfrm>
          <a:prstGeom prst="rightArrowCallout">
            <a:avLst>
              <a:gd name="adj1" fmla="val 25002"/>
              <a:gd name="adj2" fmla="val 25000"/>
              <a:gd name="adj3" fmla="val -48920"/>
              <a:gd name="adj4" fmla="val 66667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55280" y="3933720"/>
            <a:ext cx="504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Оказание консультативной помощи ребёнку, родителям, уч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755640" y="836640"/>
            <a:ext cx="7991640" cy="2521080"/>
            <a:chOff x="755640" y="836640"/>
            <a:chExt cx="7991640" cy="2521080"/>
          </a:xfrm>
        </p:grpSpPr>
        <p:sp>
          <p:nvSpPr>
            <p:cNvPr id="268" name="AutoShape 4">
              <a:hlinkClick r:id="rId3" action="ppaction://hlinksldjump"/>
            </p:cNvPr>
            <p:cNvSpPr/>
            <p:nvPr/>
          </p:nvSpPr>
          <p:spPr>
            <a:xfrm>
              <a:off x="755640" y="836640"/>
              <a:ext cx="7991640" cy="2521080"/>
            </a:xfrm>
            <a:prstGeom prst="rightArrowCallout">
              <a:avLst>
                <a:gd name="adj1" fmla="val 25002"/>
                <a:gd name="adj2" fmla="val 25000"/>
                <a:gd name="adj3" fmla="val -49385"/>
                <a:gd name="adj4" fmla="val 66667"/>
              </a:avLst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5">
              <a:hlinkClick r:id="rId4" action="ppaction://hlinksldjump"/>
            </p:cNvPr>
            <p:cNvSpPr/>
            <p:nvPr/>
          </p:nvSpPr>
          <p:spPr>
            <a:xfrm>
              <a:off x="826920" y="1052640"/>
              <a:ext cx="496908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Коррекционно – развивающая работа с ребёнком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рушение эмоциональной сферы ребён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5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ояние психического дискомфор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аждеб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евож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есс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63720" cy="370548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раждеб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оррекционной раб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поведения с помощью роле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адекватных форм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ое осознание своего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равственное воспит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над выразительностью дв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 приемам ауторелакс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 поведения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>
            <a:hlinkClick r:id="" action="ppaction://hlinkshowjump?jump=previousslide"/>
          </p:cNvPr>
          <p:cNvSpPr/>
          <p:nvPr/>
        </p:nvSpPr>
        <p:spPr>
          <a:xfrm>
            <a:off x="845964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10800"/>
                </a:moveTo>
                <a:lnTo>
                  <a:pt x="19995" y="3794"/>
                </a:lnTo>
                <a:lnTo>
                  <a:pt x="1999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коррекционной работы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ижение эмоционального напря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ьшение тревож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очь справится с негативными переживаниями, которые препятствуют нормальному самочувств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ятие страх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спитание  уверенности в с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853272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16119"/>
                </a:moveTo>
                <a:lnTo>
                  <a:pt x="17806" y="9113"/>
                </a:lnTo>
                <a:lnTo>
                  <a:pt x="17806" y="231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ревожность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коррекционн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.   Повышение самооцен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Ι.  Обучение ребенка умению         управлять собой в конкретных, наиболее волнующих его ситуаци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ΙΙ. Снятие личностного напря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L2_p4б_6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5708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грессивнос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оррекционной 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.   Работа с гневом. Обучение агрессивных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емлемым способам выражения г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Ι.  Обучение детей навыкам распознания и контроля негативных эмоций, умению владеть собой в ситуациях, провоцирующих вспышки г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ΙΙ. Формирование способности к эмпатии, довер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чувствию, сопереживанию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9113"/>
                </a:moveTo>
                <a:lnTo>
                  <a:pt x="17806" y="16119"/>
                </a:lnTo>
                <a:lnTo>
                  <a:pt x="3794" y="231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коррекционной работы :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у детей моральных предста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наж психомоторных фун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способности понимать эмоциональное состояние другого человека  и умения адекватно выразить св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эмоциональной сферы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поведения с помощью роле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 ауторелакс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 rot="10800000">
            <a:off x="8459280" y="623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Трудные де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те, чьё поведение откланяется от принятых в обществе стандартов и н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ивиантн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тклоняющееся от принятых в обществе норм, не обусловл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ически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68360" y="692280"/>
            <a:ext cx="8424720" cy="1368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ae8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39640" y="7650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НСУЛЬТАЦИИ (индивидуальные, групповы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15"/>
          <p:cNvGrpSpPr/>
          <p:nvPr/>
        </p:nvGrpSpPr>
        <p:grpSpPr>
          <a:xfrm>
            <a:off x="539640" y="2997360"/>
            <a:ext cx="3745080" cy="1511280"/>
            <a:chOff x="539640" y="2997360"/>
            <a:chExt cx="3745080" cy="1511280"/>
          </a:xfrm>
        </p:grpSpPr>
        <p:sp>
          <p:nvSpPr>
            <p:cNvPr id="293" name="AutoShape 6"/>
            <p:cNvSpPr/>
            <p:nvPr/>
          </p:nvSpPr>
          <p:spPr>
            <a:xfrm>
              <a:off x="539640" y="2997360"/>
              <a:ext cx="374508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8ae"/>
                </a:gs>
              </a:gsLst>
              <a:lin ang="27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971640" y="350028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УЧИТЕЛ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16"/>
          <p:cNvGrpSpPr/>
          <p:nvPr/>
        </p:nvGrpSpPr>
        <p:grpSpPr>
          <a:xfrm>
            <a:off x="4788000" y="2997360"/>
            <a:ext cx="3744720" cy="1511280"/>
            <a:chOff x="4788000" y="2997360"/>
            <a:chExt cx="3744720" cy="1511280"/>
          </a:xfrm>
        </p:grpSpPr>
        <p:sp>
          <p:nvSpPr>
            <p:cNvPr id="296" name="AutoShape 7"/>
            <p:cNvSpPr/>
            <p:nvPr/>
          </p:nvSpPr>
          <p:spPr>
            <a:xfrm>
              <a:off x="4788000" y="2997360"/>
              <a:ext cx="374472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8ae"/>
                </a:gs>
              </a:gsLst>
              <a:lin ang="27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5219640" y="350028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ОДИТЕЛ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2627280" y="5084640"/>
            <a:ext cx="3745080" cy="1511280"/>
            <a:chOff x="2627280" y="5084640"/>
            <a:chExt cx="3745080" cy="1511280"/>
          </a:xfrm>
        </p:grpSpPr>
        <p:sp>
          <p:nvSpPr>
            <p:cNvPr id="299" name="AutoShape 8"/>
            <p:cNvSpPr/>
            <p:nvPr/>
          </p:nvSpPr>
          <p:spPr>
            <a:xfrm>
              <a:off x="2627280" y="5084640"/>
              <a:ext cx="374508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8ae"/>
                </a:gs>
                <a:gs pos="100000">
                  <a:srgbClr val="009999"/>
                </a:gs>
              </a:gsLst>
              <a:lin ang="189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3132000" y="558972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ДЕТ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Line 12"/>
          <p:cNvSpPr/>
          <p:nvPr/>
        </p:nvSpPr>
        <p:spPr>
          <a:xfrm flipH="1">
            <a:off x="2556000" y="2060640"/>
            <a:ext cx="1944720" cy="8636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4500720" y="2060640"/>
            <a:ext cx="2016000" cy="8636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4500720" y="2060640"/>
            <a:ext cx="71280" cy="29527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к работать с ребенком агрессивного       поведения?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к строить свою работу с тревожным ребенком?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ступление на методическом совет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дивидуальные консуль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совместное обсуждение прич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ностей учащихся и их взаимоотношений со сверстниками и взросл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ЧИТЕЛЯ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AutoShape 5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3476"/>
                </a:moveTo>
                <a:lnTo>
                  <a:pt x="17806" y="6470"/>
                </a:lnTo>
                <a:lnTo>
                  <a:pt x="17806" y="2048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ак строить взаимоотношения с тревожным ребенком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Причины возникновения негативного поведения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тупления на родительском собр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ы на профилактику и предупреждение возможных нарушений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ейных отношениях и семейном воспитан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Взаимоотношения в семь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онфликт в семье. Как его избежа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>
            <a:hlinkClick r:id="" action="ppaction://hlinkshowjump?jump=nextslide"/>
          </p:cNvPr>
          <p:cNvSpPr/>
          <p:nvPr/>
        </p:nvSpPr>
        <p:spPr>
          <a:xfrm>
            <a:off x="8532720" y="630864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провождение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етей группы «риска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и и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работы с учащимися «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уемые диагностические метод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сок учащихся «группы риска» состоящих на внутришкольном уч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граммы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ая карта учащегося «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38836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3794" y="12636"/>
                </a:moveTo>
                <a:lnTo>
                  <a:pt x="17806" y="5630"/>
                </a:lnTo>
                <a:lnTo>
                  <a:pt x="17806" y="1964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задапт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затруднённое, осложнённое какими – либо факторами приспособление к меняющимся условиям, выражающаяся в неадекватном реагировании и поведении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Психологическая дезадапт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аетс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эмоционально- личностном нарушен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нарушении взаимоотношений с одноклассник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низкой успевае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1"/>
          <p:cNvGrpSpPr/>
          <p:nvPr/>
        </p:nvGrpSpPr>
        <p:grpSpPr>
          <a:xfrm>
            <a:off x="1332000" y="1989000"/>
            <a:ext cx="6456240" cy="1297080"/>
            <a:chOff x="1332000" y="1989000"/>
            <a:chExt cx="6456240" cy="1297080"/>
          </a:xfrm>
        </p:grpSpPr>
        <p:sp>
          <p:nvSpPr>
            <p:cNvPr id="219" name="AutoShape 8">
              <a:hlinkClick r:id="rId1" action="ppaction://hlinksldjump"/>
            </p:cNvPr>
            <p:cNvSpPr/>
            <p:nvPr/>
          </p:nvSpPr>
          <p:spPr>
            <a:xfrm>
              <a:off x="1523880" y="1989000"/>
              <a:ext cx="6264360" cy="1297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3">
              <a:hlinkClick r:id="rId2" action="ppaction://hlinksldjump"/>
            </p:cNvPr>
            <p:cNvSpPr/>
            <p:nvPr/>
          </p:nvSpPr>
          <p:spPr>
            <a:xfrm>
              <a:off x="1332000" y="2271600"/>
              <a:ext cx="63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99ff99"/>
                  </a:solidFill>
                  <a:uFillTx/>
                  <a:latin typeface="Times New Roman"/>
                  <a:hlinkClick r:id="rId3" action="ppaction://hlinksldjump"/>
                </a:rPr>
                <a:t>Диагностическая </a:t>
              </a:r>
              <a:r>
                <a:rPr b="1" lang="ru-RU" sz="3600" spc="-1" strike="noStrike" u="sng">
                  <a:solidFill>
                    <a:srgbClr val="99ff99"/>
                  </a:solidFill>
                  <a:uFillTx/>
                  <a:latin typeface="Times New Roman"/>
                </a:rPr>
                <a:t>работ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1547640" y="3933720"/>
            <a:ext cx="6264360" cy="1297080"/>
            <a:chOff x="1547640" y="3933720"/>
            <a:chExt cx="6264360" cy="1297080"/>
          </a:xfrm>
        </p:grpSpPr>
        <p:sp>
          <p:nvSpPr>
            <p:cNvPr id="222" name="AutoShape 9">
              <a:hlinkClick r:id="rId4" action="ppaction://hlinksldjump"/>
            </p:cNvPr>
            <p:cNvSpPr/>
            <p:nvPr/>
          </p:nvSpPr>
          <p:spPr>
            <a:xfrm>
              <a:off x="1547640" y="3933720"/>
              <a:ext cx="6264360" cy="1297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5"/>
            <p:cNvSpPr/>
            <p:nvPr/>
          </p:nvSpPr>
          <p:spPr>
            <a:xfrm>
              <a:off x="1547640" y="4005360"/>
              <a:ext cx="6193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5" action="ppaction://hlinksldjump"/>
                </a:rPr>
                <a:t>Коррекционно</a:t>
              </a: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6" action="ppaction://hlinksldjump"/>
                </a:rPr>
                <a:t> – профилактическа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7" action="ppaction://hlinksldjump"/>
                </a:rPr>
                <a:t>рабо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116000" y="765000"/>
            <a:ext cx="7416720" cy="2008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87012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187280" y="870120"/>
            <a:ext cx="712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иагностический этап работы с детьми девиантного по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39"/>
          <p:cNvGrpSpPr/>
          <p:nvPr/>
        </p:nvGrpSpPr>
        <p:grpSpPr>
          <a:xfrm>
            <a:off x="762120" y="3733920"/>
            <a:ext cx="3671640" cy="2520720"/>
            <a:chOff x="762120" y="3733920"/>
            <a:chExt cx="3671640" cy="2520720"/>
          </a:xfrm>
        </p:grpSpPr>
        <p:sp>
          <p:nvSpPr>
            <p:cNvPr id="228" name="AutoShape 9">
              <a:hlinkClick r:id="rId1" action="ppaction://hlinksldjump"/>
            </p:cNvPr>
            <p:cNvSpPr/>
            <p:nvPr/>
          </p:nvSpPr>
          <p:spPr>
            <a:xfrm>
              <a:off x="762120" y="3733920"/>
              <a:ext cx="3671640" cy="252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1">
              <a:hlinkClick r:id="rId3" action="ppaction://hlinksldjump"/>
            </p:cNvPr>
            <p:cNvSpPr/>
            <p:nvPr/>
          </p:nvSpPr>
          <p:spPr>
            <a:xfrm>
              <a:off x="900000" y="407664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4" action="ppaction://hlinksldjump"/>
                </a:rPr>
                <a:t>Выявление трудновоспитуем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4643280" y="3716280"/>
            <a:ext cx="4032360" cy="2521080"/>
            <a:chOff x="4643280" y="3716280"/>
            <a:chExt cx="4032360" cy="2521080"/>
          </a:xfrm>
        </p:grpSpPr>
        <p:sp>
          <p:nvSpPr>
            <p:cNvPr id="231" name="AutoShape 10"/>
            <p:cNvSpPr/>
            <p:nvPr/>
          </p:nvSpPr>
          <p:spPr>
            <a:xfrm>
              <a:off x="4643280" y="3716280"/>
              <a:ext cx="4032360" cy="2521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4643280" y="3716280"/>
              <a:ext cx="40323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6" action="ppaction://hlinksldjump"/>
                </a:rPr>
                <a:t>Личностно – ориентированная диагностическая работа с детьми </a:t>
              </a: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7" action="ppaction://hlinksldjump"/>
                </a:rPr>
                <a:t>девиантного</a:t>
              </a: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8" action="ppaction://hlinksldjump"/>
                </a:rPr>
                <a:t> поведе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Line 37"/>
          <p:cNvSpPr/>
          <p:nvPr/>
        </p:nvSpPr>
        <p:spPr>
          <a:xfrm>
            <a:off x="2556000" y="278136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6659640" y="278136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 классными руководит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 родит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оциального педагога непосредственно с трудновоспитуем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Диагностическая работа психолога школы с детьми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девиантного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 по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Диагностическая работ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личностных характеристик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ознавательного развит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характера взаимоотношений в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роблем класса с точки зрения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роблем класса с точки зрен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ение отношения «отвергаемых» к школе, к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родителями, с семь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личных социально-психологических карт на каждого учащего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">
            <a:hlinkClick r:id="rId1" action="ppaction://hlinksldjump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976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2700000"/>
          </a:gra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970"/>
          <p:cNvSpPr/>
          <p:nvPr/>
        </p:nvSpPr>
        <p:spPr>
          <a:xfrm>
            <a:off x="2286000" y="533520"/>
            <a:ext cx="4648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77"/>
          <p:cNvSpPr/>
          <p:nvPr/>
        </p:nvSpPr>
        <p:spPr>
          <a:xfrm>
            <a:off x="533520" y="2895480"/>
            <a:ext cx="3733560" cy="129564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100000">
                <a:srgbClr val="99ff99"/>
              </a:gs>
            </a:gsLst>
            <a:lin ang="189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78"/>
          <p:cNvSpPr/>
          <p:nvPr/>
        </p:nvSpPr>
        <p:spPr>
          <a:xfrm>
            <a:off x="4800600" y="2895480"/>
            <a:ext cx="3733920" cy="12956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0088e4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979"/>
          <p:cNvSpPr/>
          <p:nvPr/>
        </p:nvSpPr>
        <p:spPr>
          <a:xfrm>
            <a:off x="2195640" y="5013360"/>
            <a:ext cx="4647960" cy="1447920"/>
          </a:xfrm>
          <a:prstGeom prst="rect">
            <a:avLst/>
          </a:prstGeom>
          <a:gradFill rotWithShape="0">
            <a:gsLst>
              <a:gs pos="0">
                <a:srgbClr val="0088e4"/>
              </a:gs>
              <a:gs pos="100000">
                <a:srgbClr val="99ff99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73"/>
          <p:cNvSpPr/>
          <p:nvPr/>
        </p:nvSpPr>
        <p:spPr>
          <a:xfrm>
            <a:off x="685800" y="32004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Работа с клас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72"/>
          <p:cNvSpPr/>
          <p:nvPr/>
        </p:nvSpPr>
        <p:spPr>
          <a:xfrm>
            <a:off x="4876920" y="31240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Работа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микрогруп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71"/>
          <p:cNvSpPr/>
          <p:nvPr/>
        </p:nvSpPr>
        <p:spPr>
          <a:xfrm>
            <a:off x="2438280" y="50292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Личностно – ориентированная направ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980"/>
          <p:cNvSpPr/>
          <p:nvPr/>
        </p:nvSpPr>
        <p:spPr>
          <a:xfrm flipH="1">
            <a:off x="2362320" y="2133720"/>
            <a:ext cx="220968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981"/>
          <p:cNvSpPr/>
          <p:nvPr/>
        </p:nvSpPr>
        <p:spPr>
          <a:xfrm>
            <a:off x="4572000" y="2133720"/>
            <a:ext cx="213372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982"/>
          <p:cNvSpPr/>
          <p:nvPr/>
        </p:nvSpPr>
        <p:spPr>
          <a:xfrm>
            <a:off x="4572000" y="2133720"/>
            <a:ext cx="0" cy="281916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оррекционно – профилактическая работа с классо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ирование классных руководителей и учителей – предметников по результатам исследований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ексная работа по воспитанию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определение учащихся и профориен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Тематические классные ча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732720" y="486900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1862280" cy="201600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8:00:05Z</dcterms:created>
  <dc:creator>user</dc:creator>
  <dc:description/>
  <dc:language>en-US</dc:language>
  <cp:lastModifiedBy>Назирова</cp:lastModifiedBy>
  <dcterms:modified xsi:type="dcterms:W3CDTF">2011-01-24T09:00:00Z</dcterms:modified>
  <cp:revision>30</cp:revision>
  <dc:subject/>
  <dc:title>Презентация PowerPoint</dc:title>
</cp:coreProperties>
</file>