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0F5-EB2A-42FE-B833-9F2308A0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184-3DAD-456B-922F-25903ACD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516-E801-42DE-9B04-322E8475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AEB-A951-4C1C-851E-371673BB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F807-DDFB-427A-A074-09495571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B415-EE25-4B81-AD37-30527934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4D11-AAEE-4254-AEE2-E8A3A091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1467-C211-4631-9D9F-725D7E69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5E53-B8D3-4030-A7BF-04C57224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6B55-E1C9-4BCC-B48C-DF506E5F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C2B6-8FA5-4625-B267-767071C9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854-C12A-4DF1-A3F3-C9E2A090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6F47-9322-4552-8CB5-AFDD4DDA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AF19-A71D-42D9-B889-0929E036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B21B-7352-4249-9E25-70699FA8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3AD0-493A-4CEE-A32A-FC10D0D0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CE4D-5874-497C-9A8A-8DA3EC54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18E-50D9-468D-9119-39B4D7FA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C0D-AD41-4FBF-9AB1-F53762D0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B24-7F92-4928-9CDD-994CBE0B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4AA-3FE3-4595-B595-E2B31F9C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E76-46C4-441E-914A-01132473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396-54AA-4A90-8008-95FB8EE2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BDE-ACDB-4EFF-B017-A33D2C7A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765B-8B10-462D-9244-5844F3D10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AF0C-DC58-41AF-AFC4-9B06A2D3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2. &#1057;&#1083;&#1072;&#1081;&#1076; 12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6. &#1057;&#1083;&#1072;&#1081;&#1076; 6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6. &#1057;&#1083;&#1072;&#1081;&#1076; 6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6. &#1057;&#1083;&#1072;&#1081;&#1076; 6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6. &#1057;&#1083;&#1072;&#1081;&#1076; 6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5. &#1057;&#1083;&#1072;&#1081;&#1076; 5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5. &#1057;&#1083;&#1072;&#1081;&#1076; 5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5. &#1057;&#1083;&#1072;&#1081;&#1076; 5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8. &#1057;&#1083;&#1072;&#1081;&#1076; 8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8. &#1057;&#1083;&#1072;&#1081;&#1076; 8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4. &#1057;&#1083;&#1072;&#1081;&#1076; 14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4. &#1057;&#1083;&#1072;&#1081;&#1076; 14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4. &#1057;&#1083;&#1072;&#1081;&#1076; 14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" TargetMode="External"/><Relationship Id="rId3" Type="http://schemas.openxmlformats.org/officeDocument/2006/relationships/hyperlink" Target="file:///&#1052;&#1077;&#1097;&#1072;&#1085;&#1080;&#1085;%20&#1074;&#1086;%20&#1076;&#1074;&#1086;&#1088;&#1103;&#1085;&#1089;&#1090;&#1074;&#1077;.ppt#14. &#1057;&#1083;&#1072;&#1081;&#1076; 14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2. &#1057;&#1083;&#1072;&#1081;&#1076; 12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2. &#1057;&#1083;&#1072;&#1081;&#1076; 12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Драма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  <a:ea typeface="Arial"/>
              </a:rPr>
              <a:t>–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) род литературы, один из трёх, наряду с эпосом и лирикой,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основу драмы составляет действие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2) пьеса с острым конфликтом, который, однако, в отличие от трагического, не столь возвышен, более приземлён, обычен и так или иначе разрешим.                                                                    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5335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Тщеславие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стремление к славе, почестям, почитани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Ханжество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притворная, показная набожность, добродетельность; лицемер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Лицемерие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несоответствие слов, поступков, человека истинным чувствам убеждениям, намерениям; притворств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Чванство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тщеславная гордость, важничанье; кичливость, спес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Спесь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чрезмерное самомнение, стремление подчеркнуть свою важность и превосходство перед другими; высокомерие, надменность, чванств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Лиценциат (от лат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licentiatu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допущенный) –</a:t>
            </a:r>
            <a:r>
              <a:rPr b="1" lang="ru-RU" sz="2700" spc="-1" strike="noStrike">
                <a:solidFill>
                  <a:srgbClr val="5c5c8a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) в средневековых университетах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– преподаватель, получивший право читать лекции до защиты докторской диссертаци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2) первая учёная степень в ряде стран Западной Европы и Латинской Америк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638680"/>
            <a:ext cx="1981440" cy="60984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52" h="21600">
                <a:moveTo>
                  <a:pt x="0" y="0"/>
                </a:moveTo>
                <a:lnTo>
                  <a:pt x="70152" y="0"/>
                </a:lnTo>
                <a:lnTo>
                  <a:pt x="70152" y="21600"/>
                </a:lnTo>
                <a:lnTo>
                  <a:pt x="0" y="21600"/>
                </a:lnTo>
                <a:close/>
              </a:path>
              <a:path fill="lightenLess" w="70152" h="21600">
                <a:moveTo>
                  <a:pt x="0" y="0"/>
                </a:moveTo>
                <a:lnTo>
                  <a:pt x="70152" y="0"/>
                </a:lnTo>
                <a:lnTo>
                  <a:pt x="68752" y="1400"/>
                </a:lnTo>
                <a:lnTo>
                  <a:pt x="1400" y="1400"/>
                </a:lnTo>
                <a:close/>
              </a:path>
              <a:path fill="darken" w="70152" h="21600">
                <a:moveTo>
                  <a:pt x="70152" y="0"/>
                </a:moveTo>
                <a:lnTo>
                  <a:pt x="70152" y="21600"/>
                </a:lnTo>
                <a:lnTo>
                  <a:pt x="68752" y="20200"/>
                </a:lnTo>
                <a:lnTo>
                  <a:pt x="68752" y="1400"/>
                </a:lnTo>
                <a:close/>
              </a:path>
              <a:path fill="darkenLess" w="70152" h="21600">
                <a:moveTo>
                  <a:pt x="70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2" y="20200"/>
                </a:lnTo>
                <a:close/>
              </a:path>
              <a:path fill="lighten" w="70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c5c8a"/>
                </a:solidFill>
                <a:latin typeface="Arial"/>
              </a:rPr>
              <a:t>Дивертисмент (от франц. </a:t>
            </a:r>
            <a:r>
              <a:rPr b="1" lang="en-US" sz="2400" spc="-1" strike="noStrike">
                <a:solidFill>
                  <a:srgbClr val="5c5c8a"/>
                </a:solidFill>
                <a:latin typeface="Arial"/>
              </a:rPr>
              <a:t>divertissement </a:t>
            </a:r>
            <a:r>
              <a:rPr b="1" lang="ru-RU" sz="2400" spc="-1" strike="noStrike">
                <a:solidFill>
                  <a:srgbClr val="5c5c8a"/>
                </a:solidFill>
                <a:latin typeface="Arial"/>
              </a:rPr>
              <a:t>– развлечение) –</a:t>
            </a:r>
            <a:r>
              <a:rPr b="1" lang="ru-RU" sz="2700" spc="-1" strike="noStrike">
                <a:solidFill>
                  <a:srgbClr val="5c5c8a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селительное представление, состоящее из танцевальных номеров, песен; включается в программу спектакля обычно как его заключительное отде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танцевальная сюита или вставные номера в балете или опере, непосредственно не связанные с сюж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з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юита развлекательного характера (типа серенады) для инструментального ансамбля или оркес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егкая, иногда виртуозная пьеса  тип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пурри, вари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6094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685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Фарс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лёгкая комедия, один из видов драматического представления, широко развившийся в торговых городах средневековой Франц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 позднейшем понимании – комедия или водевиль грубоватого содерж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) шутовская выходка, грубая шут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) пере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нечто лицемерное, циничное и лживое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Пастораль ( от лат.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pastorali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пастушеский) –</a:t>
            </a:r>
            <a:r>
              <a:rPr b="1" lang="ru-RU" sz="22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ид литературы, рисующий идеализированную жизнь беззаботных пастухов и пастушек среди вечно прекрасной природ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Аллегория ( от греч.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allo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иной и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agoreuo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говорю) –</a:t>
            </a:r>
            <a:r>
              <a:rPr b="1" lang="ru-RU" sz="22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носказание; в искусстве развернутое уподобление; причём прямой смысл изображения не теряется, а дополняется возможностью его переносного истолкова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Диалог (от геч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dialogo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разговор, беседа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ид  устной речи, разговор двух или более ли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51055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5181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905120"/>
            <a:ext cx="7924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Бельэтаж (фр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bel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–  красивый)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торой, главный (обычно с более высокими комнатами) этаж здания (дворца, особняка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вый ярус балконов в зрительном зале над партером и амфитеатром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Балкон (ит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balcone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– балка)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ыступающая на верхний этаж здания площад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рхний или средний ярус в зрительном зал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752480"/>
            <a:ext cx="8534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Амфитеатр (гр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amphitheatrom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 древнегреческом театре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а для зрителей, расположенные полукругом на склонах хол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в древнеримской архитектуре – открытое круглое или эллиптическое сооружение для зрелищ, в котором места для зрителей располагались уступами вокруг арены;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временных театрах, концертных залах, цирках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– места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ительном зале, расположенные за партером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4572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533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Партер (фр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parterre </a:t>
            </a:r>
            <a:r>
              <a:rPr b="1" lang="en-US" sz="2800" spc="-1" strike="noStrike">
                <a:solidFill>
                  <a:srgbClr val="5c5c8a"/>
                </a:solidFill>
                <a:latin typeface="Wingdings 3"/>
                <a:ea typeface="Wingdings 3"/>
              </a:rPr>
              <a:t>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“par”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по +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“terre”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 земля)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а в зрительном зале, расположенные рядами параллельно сцене, эстраде, экрану; в театре 16 – 17вв.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ячие места перед сценой, предназначенные для зрителей низших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открытая часть сада или парка, украшенная газонами, цветниками бассейнами, фонтанами, расположенными в определённой систем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дно из положений спортсмена в состязаниях  по бор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335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693432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3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Бенуар (фр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baignoire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)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жний ярус лож в театре на уровне партера (ложа бенуара) или немного выш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9810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Ложа 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 у стены в зрительном зале, отделённое для нескольких лиц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9810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Галёрка 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разг.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амый верхний ярус в театре, цирке и тому подобном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Актуальный ( от лат.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actuali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деятельный) –</a:t>
            </a:r>
            <a:r>
              <a:rPr b="1" lang="ru-RU" sz="22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1) важный, существенный для настоящего времен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) существующий, проявляющийся в действительности; противоп. </a:t>
            </a:r>
            <a:r>
              <a:rPr b="0" i="1" lang="ru-RU" sz="3100" spc="-1" strike="noStrike">
                <a:solidFill>
                  <a:srgbClr val="000000"/>
                </a:solidFill>
                <a:latin typeface="Times New Roman"/>
              </a:rPr>
              <a:t>потенциальный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47242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5486400"/>
            <a:ext cx="3429000" cy="609480"/>
          </a:xfrm>
          <a:custGeom>
            <a:avLst/>
            <a:gdLst>
              <a:gd name="textAreaLeft" fmla="*/ 39240 w 3429000"/>
              <a:gd name="textAreaRight" fmla="*/ 3389760 w 3429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1465" h="21600">
                <a:moveTo>
                  <a:pt x="0" y="0"/>
                </a:moveTo>
                <a:lnTo>
                  <a:pt x="121465" y="0"/>
                </a:lnTo>
                <a:lnTo>
                  <a:pt x="121465" y="21600"/>
                </a:lnTo>
                <a:lnTo>
                  <a:pt x="0" y="21600"/>
                </a:lnTo>
                <a:close/>
              </a:path>
              <a:path fill="lightenLess" w="121465" h="21600">
                <a:moveTo>
                  <a:pt x="0" y="0"/>
                </a:moveTo>
                <a:lnTo>
                  <a:pt x="121465" y="0"/>
                </a:lnTo>
                <a:lnTo>
                  <a:pt x="120065" y="1400"/>
                </a:lnTo>
                <a:lnTo>
                  <a:pt x="1400" y="1400"/>
                </a:lnTo>
                <a:close/>
              </a:path>
              <a:path fill="darken" w="121465" h="21600">
                <a:moveTo>
                  <a:pt x="121465" y="0"/>
                </a:moveTo>
                <a:lnTo>
                  <a:pt x="121465" y="21600"/>
                </a:lnTo>
                <a:lnTo>
                  <a:pt x="120065" y="20200"/>
                </a:lnTo>
                <a:lnTo>
                  <a:pt x="120065" y="1400"/>
                </a:lnTo>
                <a:close/>
              </a:path>
              <a:path fill="darkenLess" w="121465" h="21600">
                <a:moveTo>
                  <a:pt x="121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065" y="20200"/>
                </a:lnTo>
                <a:close/>
              </a:path>
              <a:path fill="lighten" w="121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Конфликт ( от лат.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conflictu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столкновение) –</a:t>
            </a:r>
            <a:r>
              <a:rPr b="1" lang="ru-RU" sz="22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тивоборство, столкновение между изображаемыми в литературном произведении действующими силами: характерами, характером и обстоятельствами, различными сторонами характе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51814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52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Монолог (от греч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mono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один и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logo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слово) –</a:t>
            </a:r>
            <a:r>
              <a:rPr b="1" lang="ru-RU" sz="20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звернутое высказывание одного лица, не связанное с репликами других лиц.  Монолог – излюбленная форма характеристики персонажей в драме: обращаясь к себе или зрителям и на время выключаясь из сценического действия, герой в монологе раскрывает своё душевное состоя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6858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685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Кульминация (от лат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culmen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вершина)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высшее напряжение действия в художественном произведени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51055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5181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Ремарка (от франц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remarque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                                                                                    замечание, примечание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вторское пояснение в драматическом произведении, с помощью которого уточняются место действия, внешний или духовный облик персонажей, различные психологические состояния, переживаемые и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52578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52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Декорация ( от франц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decoration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  <a:ea typeface="Arial"/>
              </a:rPr>
              <a:t>&lt;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  <a:ea typeface="Arial"/>
              </a:rPr>
              <a:t>от лат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  <a:ea typeface="Arial"/>
              </a:rPr>
              <a:t>decorare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  <a:ea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украшать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художественное оформление спектакля средствами живописи, архитектуры, графики, освещения, постановочной техники и другого.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4952880"/>
            <a:ext cx="1981440" cy="60984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52" h="21600">
                <a:moveTo>
                  <a:pt x="0" y="0"/>
                </a:moveTo>
                <a:lnTo>
                  <a:pt x="70152" y="0"/>
                </a:lnTo>
                <a:lnTo>
                  <a:pt x="70152" y="21600"/>
                </a:lnTo>
                <a:lnTo>
                  <a:pt x="0" y="21600"/>
                </a:lnTo>
                <a:close/>
              </a:path>
              <a:path fill="lightenLess" w="70152" h="21600">
                <a:moveTo>
                  <a:pt x="0" y="0"/>
                </a:moveTo>
                <a:lnTo>
                  <a:pt x="70152" y="0"/>
                </a:lnTo>
                <a:lnTo>
                  <a:pt x="68752" y="1400"/>
                </a:lnTo>
                <a:lnTo>
                  <a:pt x="1400" y="1400"/>
                </a:lnTo>
                <a:close/>
              </a:path>
              <a:path fill="darken" w="70152" h="21600">
                <a:moveTo>
                  <a:pt x="70152" y="0"/>
                </a:moveTo>
                <a:lnTo>
                  <a:pt x="70152" y="21600"/>
                </a:lnTo>
                <a:lnTo>
                  <a:pt x="68752" y="20200"/>
                </a:lnTo>
                <a:lnTo>
                  <a:pt x="68752" y="1400"/>
                </a:lnTo>
                <a:close/>
              </a:path>
              <a:path fill="darkenLess" w="70152" h="21600">
                <a:moveTo>
                  <a:pt x="70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2" y="20200"/>
                </a:lnTo>
                <a:close/>
              </a:path>
              <a:path fill="lighten" w="70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Пародия (от греч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parodia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перепев, противопеснь) –</a:t>
            </a:r>
            <a:r>
              <a:rPr b="1" lang="ru-RU" sz="27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изведение подражающее другому произведению, автору или течению с целью их осмея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48769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Резонёрство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склонность к пространным рассуждениям нравоучительного характе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47242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/>
          </p:cNvPr>
          <p:cNvSpPr/>
          <p:nvPr/>
        </p:nvSpPr>
        <p:spPr>
          <a:xfrm>
            <a:off x="685800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dmila</cp:lastModifiedBy>
  <dcterms:modified xsi:type="dcterms:W3CDTF">2008-07-26T10:03:2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