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838-2DCE-4631-9224-D3E3DC1D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921-7A8B-46EA-A306-81E894A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7EE-D320-4658-A166-2FD9C5DF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975A-92BF-4C4F-8096-49B7B396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CD47-4335-4BDA-AF4F-52D78A8A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28CA-89D9-456E-9FB6-D339C488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4B65-10E4-4D8D-9F2C-6FFE8388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6685-0034-4F54-B6EA-302B38B7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117E-204B-4A1C-B717-E1612A0B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C0DD-C94C-492B-A2BA-6B56A595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D589-E052-4F5E-8CA0-A95BB668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C63-B08C-4EE3-AC9B-8EBF16A5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3D5D-F1BD-4DBB-B4CD-F6F5DA93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2BA-4884-48F7-B098-0D4C64C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F628-0F6C-491A-8898-5A52FEC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1132-8A0D-4A4B-8CB5-A7B80863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7E68-E2E2-421C-9F8C-36FF736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924-05E5-42CE-B99E-C0E25E0A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855-4CBD-4C71-AADF-316A807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F4F-3025-40A5-9290-06C027AD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AEA-230F-415D-84FF-CD0242A9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D3E-FCC4-45C5-9C6F-43387B0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425-A68E-4E0B-BE35-D37ACE3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EDB-5B6E-4AAB-9A59-5528C4F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CCB1-0420-4E6D-B469-A60CC7AA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C046-BF42-47DF-85BD-5D5403B9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8. &#1057;&#1083;&#1072;&#1081;&#1076; 8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8. &#1057;&#1083;&#1072;&#1081;&#1076; 8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" TargetMode="External"/><Relationship Id="rId3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рама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) род литературы, один из трёх, наряду с эпосом и лирикой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снову драмы составляет действи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2) пьеса с острым конфликтом, который, однако, в отличие от трагического, не столь возвышен, более приземлён, обычен и так или иначе разрешим.                                                                    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533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Тщеславие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тремление к славе, почестям, почитани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Ханже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притворная, показная набожность, добродетельность; лицемер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Лицемерие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несоответствие слов, поступков, человека истинным чувствам убеждениям, намерениям; притвор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Чван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тщеславная гордость, важничанье; кичливость, спес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Спесь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чрезмерное самомнение, стремление подчеркнуть свою важность и превосходство перед другими; высокомерие, надменность, чван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Лиценциат (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licentiatu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допущенный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) в средневековых университетах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– преподаватель, получивший право читать лекции до защиты докторской диссертаци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2) первая учёная степень в ряде стран Западной Европы и Латинской Америк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6386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c5c8a"/>
                </a:solidFill>
                <a:latin typeface="Arial"/>
              </a:rPr>
              <a:t>Дивертисмент (от франц. </a:t>
            </a:r>
            <a:r>
              <a:rPr b="1" lang="en-US" sz="2400" spc="-1" strike="noStrike">
                <a:solidFill>
                  <a:srgbClr val="5c5c8a"/>
                </a:solidFill>
                <a:latin typeface="Arial"/>
              </a:rPr>
              <a:t>divertissement </a:t>
            </a:r>
            <a:r>
              <a:rPr b="1" lang="ru-RU" sz="2400" spc="-1" strike="noStrike">
                <a:solidFill>
                  <a:srgbClr val="5c5c8a"/>
                </a:solidFill>
                <a:latin typeface="Arial"/>
              </a:rPr>
              <a:t>– развлечение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селительное представление, состоящее из танцевальных номеров, песен; включается в программу спектакля обычно как его заключительное отд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танцевальная сюита или вставные номера в балете или опере, непосредственно не связанные с сюж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юита развлекательного характера (типа серенады) для инструментального ансамбля или оркес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гкая, иногда виртуозная пьеса  тип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пурри, вари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6094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Фарс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лёгкая комедия, один из видов драматического представления, широко развившийся в торговых городах средневековой Фран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 позднейшем понимании – комедия или водевиль грубоватого содерж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) шутовская выходка, грубая шут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) пере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нечто лицемерное, циничное и лживое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стораль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pastorali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стушеский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ид литературы, рисующий идеализированную жизнь беззаботных пастухов и пастушек среди вечно прекрасной природ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Аллегория ( от греч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all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иной и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agoreuo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говорю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носказание; в искусстве развернутое уподобление; причём прямой смысл изображения не теряется, а дополняется возможностью его переносного истолкова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иалог (от г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dialog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разговор, беседа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ид  устной речи, разговор двух или более ли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51055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0512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ельэтаж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el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  красивый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торой, главный (обычно с более высокими комнатами) этаж здания (дворца, особняка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ый ярус балконов в зрительном зале над партером и амфитеатром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алкон (ит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alcone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 балка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ыступающая на верхний этаж здания площад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рхний или средний ярус в зрительном зал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Амфитеатр (г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amphitheatrom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 древнегреческом театре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а для зрителей, расположенные полукругом на склонах хол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в древнеримской архитектуре – открытое круглое или эллиптическое сооружение для зрелищ, в котором места для зрителей располагались уступами вокруг арены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ых театрах, концертных залах, цирках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– места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ительном зале, расположенные за партером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4572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533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Партер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parterre </a:t>
            </a:r>
            <a:r>
              <a:rPr b="1" lang="en-US" sz="2800" spc="-1" strike="noStrike">
                <a:solidFill>
                  <a:srgbClr val="5c5c8a"/>
                </a:solidFill>
                <a:latin typeface="Wingdings 3"/>
                <a:ea typeface="Wingdings 3"/>
              </a:rPr>
              <a:t>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“par”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по +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“terre”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 земля)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а в зрительном зале, расположенные рядами параллельно сцене, эстраде, экрану; в театре 16 – 17вв.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ячие места перед сценой, предназначенные для зрителей низши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открытая часть сада или парка, украшенная газонами, цветниками бассейнами, фонтанами, расположенными в определённой систем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дно из положений спортсмена в состязаниях  по бор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33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693432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енуар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aignoire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жний ярус лож в театре на уровне партера (ложа бенуара) или немного выш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Ложа 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 у стены в зрительном зале, отделённое для нескольких лиц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Галёрка 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разг.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амый верхний ярус в театре, цирке и тому подобном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Актуальный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actuali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еятельный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1) важный, существенный для настоящего времен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) существующий, проявляющийся в действительности; противоп. </a:t>
            </a:r>
            <a:r>
              <a:rPr b="0" i="1" lang="ru-RU" sz="3100" spc="-1" strike="noStrike">
                <a:solidFill>
                  <a:srgbClr val="000000"/>
                </a:solidFill>
                <a:latin typeface="Times New Roman"/>
              </a:rPr>
              <a:t>потенциальный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47242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5486400"/>
            <a:ext cx="3429000" cy="609480"/>
          </a:xfrm>
          <a:custGeom>
            <a:avLst/>
            <a:gdLst>
              <a:gd name="textAreaLeft" fmla="*/ 39240 w 3429000"/>
              <a:gd name="textAreaRight" fmla="*/ 3389760 w 3429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1465" h="21600">
                <a:moveTo>
                  <a:pt x="0" y="0"/>
                </a:moveTo>
                <a:lnTo>
                  <a:pt x="121465" y="0"/>
                </a:lnTo>
                <a:lnTo>
                  <a:pt x="121465" y="21600"/>
                </a:lnTo>
                <a:lnTo>
                  <a:pt x="0" y="21600"/>
                </a:lnTo>
                <a:close/>
              </a:path>
              <a:path fill="lightenLess" w="121465" h="21600">
                <a:moveTo>
                  <a:pt x="0" y="0"/>
                </a:moveTo>
                <a:lnTo>
                  <a:pt x="121465" y="0"/>
                </a:lnTo>
                <a:lnTo>
                  <a:pt x="120065" y="1400"/>
                </a:lnTo>
                <a:lnTo>
                  <a:pt x="1400" y="1400"/>
                </a:lnTo>
                <a:close/>
              </a:path>
              <a:path fill="darken" w="121465" h="21600">
                <a:moveTo>
                  <a:pt x="121465" y="0"/>
                </a:moveTo>
                <a:lnTo>
                  <a:pt x="121465" y="21600"/>
                </a:lnTo>
                <a:lnTo>
                  <a:pt x="120065" y="20200"/>
                </a:lnTo>
                <a:lnTo>
                  <a:pt x="120065" y="1400"/>
                </a:lnTo>
                <a:close/>
              </a:path>
              <a:path fill="darkenLess" w="121465" h="21600">
                <a:moveTo>
                  <a:pt x="121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65" y="20200"/>
                </a:lnTo>
                <a:close/>
              </a:path>
              <a:path fill="lighten" w="121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Конфликт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conflictu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столкновение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тивоборство, столкновение между изображаемыми в литературном произведении действующими силами: характерами, характером и обстоятельствами, различными сторонами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1814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Монолог (от гр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mon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один и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log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слово) –</a:t>
            </a:r>
            <a:r>
              <a:rPr b="1" lang="ru-RU" sz="20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звернутое высказывание одного лица, не связанное с репликами других лиц.  Монолог – излюбленная форма характеристики персонажей в драме: обращаясь к себе или зрителям и на время выключаясь из сценического действия, герой в монологе раскрывает своё душевное состоя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685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Кульминация (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culmen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вершина)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ысшее напряжение действия в художественном произведени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5105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Ремарка (от франц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remarque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                                                                                    замечание, примечание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вторское пояснение в драматическом произведении, с помощью которого уточняются место действия, внешний или духовный облик персонажей, различные психологические состояния, переживаемые и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5257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екорация ( от франц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decoration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  <a:ea typeface="Arial"/>
              </a:rPr>
              <a:t>&lt;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  <a:ea typeface="Arial"/>
              </a:rPr>
              <a:t>decorare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украшать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художественное оформление спектакля средствами живописи, архитектуры, графики, освещения, постановочной техники и другого.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9528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родия (от гр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parodia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перепев, противопеснь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изведение подражающее другому произведению, автору или течению с целью их осмея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Резонёр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клонность к пространным рассуждениям нравоучительного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47242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/>
          </p:cNvPr>
          <p:cNvSpPr/>
          <p:nvPr/>
        </p:nvSpPr>
        <p:spPr>
          <a:xfrm>
            <a:off x="685800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08-07-26T10:03:2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