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74C-67DA-476E-A295-95731B36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AB9-6161-44E2-9F2B-BD9C8640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BED-7A00-4BED-B15A-BE364AEA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2DF-C2EE-4212-9142-F6B42D4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52EF-8706-49BA-AA6A-B89B9333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525D-5C8E-43B4-8F2D-B54AEA1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0617-F8C7-4E07-8A36-F4317492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29CA-E204-4FAE-BFD4-FA4DF2DA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B2C-366F-455F-BA7C-CBDA1C72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A8A-8F7D-4279-B55D-F953A74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07F7-74BB-44A4-A7B1-B67E6F3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17D-B903-4F4C-BBBC-25E497B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7048-FF5F-4849-8D07-12B2D7E7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641-F263-4931-8AE0-E3B529C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234B-3F4F-4325-B50B-7A62412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423E-FAAC-44FC-8597-A89E21CB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12AB-F82A-4592-A6C2-796E6CA1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F91-F549-464E-855B-E454F8C1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D1E-0EDE-444E-8AC3-9C72FA9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4C9-862B-4547-B120-E36CB419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7D8-3CC5-4F65-8C9B-F7C42291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80E-A911-4DBE-8CA2-CF430021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279-4F8E-4B96-B2D8-5F1194FB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B9C-4F40-4C2F-96CD-C94C66D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A56B-D8A5-45A4-83CD-B7F29638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721-8FC0-4433-B532-95ADCA18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6. &#1057;&#1083;&#1072;&#1081;&#1076; 6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5. &#1057;&#1083;&#1072;&#1081;&#1076; 5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8. &#1057;&#1083;&#1072;&#1081;&#1076; 8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hyperlink" Target="file:///&#1052;&#1077;&#1097;&#1072;&#1085;&#1080;&#1085;%20&#1074;&#1086;%20&#1076;&#1074;&#1086;&#1088;&#1103;&#1085;&#1089;&#1090;&#1074;&#1077;.ppt#14. &#1057;&#1083;&#1072;&#1081;&#1076; 14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1. &#1057;&#1083;&#1072;&#1081;&#1076; 11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#12. &#1057;&#1083;&#1072;&#1081;&#1076; 12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2;&#1077;&#1097;&#1072;&#1085;&#1080;&#1085;%20&#1074;&#1086;%20&#1076;&#1074;&#1086;&#1088;&#1103;&#1085;&#1089;&#1090;&#1074;&#1077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рама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–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) род литературы, один из трёх, наряду с эпосом и лирикой,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основу драмы составляет действие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ьеса с острым конфликтом, который, однако, в отличие от трагического, не столь возвышен, более приземлён, обычен и так или иначе разрешим.                                                              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Тщеслав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тремление к славе, почестям, почитанию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Ханже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притворная, показная набожность, добродетельность; лицемер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Лицемерие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несоответствие слов, поступков, человека истинным чувствам убеждениям, намерениям; притвор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Чван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тщеславная гордость, важничанье; кичливость, спес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Спесь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чрезмерное самомнение, стремление подчеркнуть свою важность и превосходство перед другими; высокомерие, надменность, чванств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4864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Лиценциат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icentia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допущенный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) в средневековых университетах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– преподаватель, получивший право читать лекции до защиты докторской диссертаци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2) первая учёная степень в ряде стран Западной Европы и Латинской Амери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6386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Дивертисмент (от франц. </a:t>
            </a:r>
            <a:r>
              <a:rPr b="1" lang="en-US" sz="2400" spc="-1" strike="noStrike">
                <a:solidFill>
                  <a:srgbClr val="5c5c8a"/>
                </a:solidFill>
                <a:latin typeface="Arial"/>
              </a:rPr>
              <a:t>divertissement </a:t>
            </a:r>
            <a:r>
              <a:rPr b="1" lang="ru-RU" sz="2400" spc="-1" strike="noStrike">
                <a:solidFill>
                  <a:srgbClr val="5c5c8a"/>
                </a:solidFill>
                <a:latin typeface="Arial"/>
              </a:rPr>
              <a:t>– развлечение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селительное представление, состоящее из танцевальных номеров, песен; включается в программу спектакля обычно как его заключительное отде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танцевальная сюита или вставные номера в балете или опере, непосредственно не связанные с сюж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юита развлекательного характера (типа серенады) для инструментального ансамбля или оркес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гкая, иногда виртуозная пьеса  тип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урри, вари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609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Фарс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лёгкая комедия, один из видов драматического представления, широко развившийся в торговых городах средневековой Фран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 позднейшем понимании – комедия или водевиль грубоватого содерж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 шутовская выходка, грубая шу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) пере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нечто лицемерное, циничное и лживое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ораль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pastor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стушески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литературы, рисующий идеализированную жизнь беззаботных пастухов и пастушек среди вечно прекрасной природ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ллегория ( от греч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ll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иной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agoreuo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говорю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носказание; в искусстве развернутое уподобление; причём прямой смысл изображения не теряется, а дополняется возможностью его переносного истолкова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иалог (от г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ia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разговор, беседа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ид  устной речи, разговор двух или более лиц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51055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05120"/>
            <a:ext cx="7924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льэтаж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el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 красивый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торой, главный (обычно с более высокими комнатами) этаж здания (дворца, особняка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ый ярус балконов в зрительном зале над партером и амфитеат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алкон (ит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lcone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 балка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ыступающая на верхний этаж здания площад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рхний или средний ярус в зрительном зал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752480"/>
            <a:ext cx="8534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Амфитеатр (г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amphitheatrom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древнегреческом театре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а для зрителей, расположенные полукругом на склонах хол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 древнеримской архитектуре – открытое круглое или эллиптическое сооружение для зрелищ, в котором места для зрителей располагались уступами вокруг арены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ых театрах, концертных залах, цирках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места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ительном зале, расположенные за партером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4572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533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752480"/>
            <a:ext cx="85341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арте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parterre </a:t>
            </a:r>
            <a:r>
              <a:rPr b="1" lang="en-US" sz="2800" spc="-1" strike="noStrike">
                <a:solidFill>
                  <a:srgbClr val="5c5c8a"/>
                </a:solidFill>
                <a:latin typeface="Wingdings 3"/>
                <a:ea typeface="Wingdings 3"/>
              </a:rPr>
              <a:t>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“par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по +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“terre”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 земля)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а в зрительном зале, расположенные рядами параллельно сцене, эстраде, экрану; в театре 16 – 17вв.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ячие места перед сценой, предназначенные для зрителей низши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открытая часть сада или парка, украшенная газонами, цветниками бассейнами, фонтанами, расположенными в определённой систем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дно из положений спортсмена в состязаниях  по бор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33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/>
          </p:cNvPr>
          <p:cNvSpPr/>
          <p:nvPr/>
        </p:nvSpPr>
        <p:spPr>
          <a:xfrm>
            <a:off x="6934320" y="609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3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Бенуар (фр. 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baignoire</a:t>
            </a:r>
            <a:r>
              <a:rPr b="1" lang="ru-RU" sz="2800" spc="-1" strike="noStrike">
                <a:solidFill>
                  <a:srgbClr val="5c5c8a"/>
                </a:solidFill>
                <a:latin typeface="Arial"/>
              </a:rPr>
              <a:t>)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жний ярус лож в театре на уровне партера (ложа бенуара) или немного выш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Лож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 у стены в зрительном зале, отделённое для нескольких лиц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Театральный словарь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Галёрка 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разг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амый верхний ярус в театре, цирке и тому подобно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54100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Актуальный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actuali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ятельный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1) важный, существенный для настоящего времени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2) существующий, проявляющийся в действительности; противоп. </a:t>
            </a:r>
            <a:r>
              <a:rPr b="0" i="1" lang="ru-RU" sz="3100" spc="-1" strike="noStrike">
                <a:solidFill>
                  <a:srgbClr val="000000"/>
                </a:solidFill>
                <a:latin typeface="Times New Roman"/>
              </a:rPr>
              <a:t>потенциальный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486400"/>
            <a:ext cx="3429000" cy="609480"/>
          </a:xfrm>
          <a:custGeom>
            <a:avLst/>
            <a:gdLst>
              <a:gd name="textAreaLeft" fmla="*/ 39240 w 3429000"/>
              <a:gd name="textAreaRight" fmla="*/ 3389760 w 3429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1465" h="21600">
                <a:moveTo>
                  <a:pt x="0" y="0"/>
                </a:moveTo>
                <a:lnTo>
                  <a:pt x="121465" y="0"/>
                </a:lnTo>
                <a:lnTo>
                  <a:pt x="121465" y="21600"/>
                </a:lnTo>
                <a:lnTo>
                  <a:pt x="0" y="21600"/>
                </a:lnTo>
                <a:close/>
              </a:path>
              <a:path fill="lightenLess" w="121465" h="21600">
                <a:moveTo>
                  <a:pt x="0" y="0"/>
                </a:moveTo>
                <a:lnTo>
                  <a:pt x="121465" y="0"/>
                </a:lnTo>
                <a:lnTo>
                  <a:pt x="120065" y="1400"/>
                </a:lnTo>
                <a:lnTo>
                  <a:pt x="1400" y="1400"/>
                </a:lnTo>
                <a:close/>
              </a:path>
              <a:path fill="darken" w="121465" h="21600">
                <a:moveTo>
                  <a:pt x="121465" y="0"/>
                </a:moveTo>
                <a:lnTo>
                  <a:pt x="121465" y="21600"/>
                </a:lnTo>
                <a:lnTo>
                  <a:pt x="120065" y="20200"/>
                </a:lnTo>
                <a:lnTo>
                  <a:pt x="120065" y="1400"/>
                </a:lnTo>
                <a:close/>
              </a:path>
              <a:path fill="darkenLess" w="121465" h="21600">
                <a:moveTo>
                  <a:pt x="121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65" y="20200"/>
                </a:lnTo>
                <a:close/>
              </a:path>
              <a:path fill="lighten" w="121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онфликт ( от лат.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conflictu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столкновение) –</a:t>
            </a:r>
            <a:r>
              <a:rPr b="1" lang="ru-RU" sz="22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тивоборство, столкновение между изображаемыми в литературном произведении действующими силами: характерами, характером и обстоятельствами, различными сторонами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1814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Монолог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mon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один и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logos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слово) –</a:t>
            </a:r>
            <a:r>
              <a:rPr b="1" lang="ru-RU" sz="20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звернутое высказывание одного лица, не связанное с репликами других лиц.  Монолог – излюбленная форма характеристики персонажей в драме: обращаясь к себе или зрителям и на время выключаясь из сценического действия, герой в монологе раскрывает своё душевное состоя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685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Кульминация (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culmen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вершина)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ысшее напряжение действия в художественном произведен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5105520"/>
            <a:ext cx="1981440" cy="60948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94" h="21600">
                <a:moveTo>
                  <a:pt x="0" y="0"/>
                </a:moveTo>
                <a:lnTo>
                  <a:pt x="70194" y="0"/>
                </a:lnTo>
                <a:lnTo>
                  <a:pt x="70194" y="21600"/>
                </a:lnTo>
                <a:lnTo>
                  <a:pt x="0" y="21600"/>
                </a:lnTo>
                <a:close/>
              </a:path>
              <a:path fill="lightenLess" w="70194" h="21600">
                <a:moveTo>
                  <a:pt x="0" y="0"/>
                </a:moveTo>
                <a:lnTo>
                  <a:pt x="70194" y="0"/>
                </a:lnTo>
                <a:lnTo>
                  <a:pt x="68794" y="1400"/>
                </a:lnTo>
                <a:lnTo>
                  <a:pt x="1400" y="1400"/>
                </a:lnTo>
                <a:close/>
              </a:path>
              <a:path fill="darken" w="70194" h="21600">
                <a:moveTo>
                  <a:pt x="70194" y="0"/>
                </a:moveTo>
                <a:lnTo>
                  <a:pt x="70194" y="21600"/>
                </a:lnTo>
                <a:lnTo>
                  <a:pt x="68794" y="20200"/>
                </a:lnTo>
                <a:lnTo>
                  <a:pt x="68794" y="1400"/>
                </a:lnTo>
                <a:close/>
              </a:path>
              <a:path fill="darkenLess" w="70194" h="21600">
                <a:moveTo>
                  <a:pt x="7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94" y="20200"/>
                </a:lnTo>
                <a:close/>
              </a:path>
              <a:path fill="lighten" w="7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Ремарка (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remarque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                                                                                    замечание, примечание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вторское пояснение в драматическом произведении, с помощью которого уточняются место действия, внешний или духовный облик персонажей, различные психологические состояния, переживаемые и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25780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257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Декорация ( от франц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decoration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&lt;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от лат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  <a:ea typeface="Arial"/>
              </a:rPr>
              <a:t>decorare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  <a:ea typeface="Arial"/>
              </a:rPr>
              <a:t>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украшать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художественное оформление спектакля средствами живописи, архитектуры, графики, освещения, постановочной техники и другого.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4952880"/>
            <a:ext cx="1981440" cy="609840"/>
          </a:xfrm>
          <a:custGeom>
            <a:avLst/>
            <a:gdLst>
              <a:gd name="textAreaLeft" fmla="*/ 39240 w 1981440"/>
              <a:gd name="textAreaRight" fmla="*/ 1942200 w 19814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52" h="21600">
                <a:moveTo>
                  <a:pt x="0" y="0"/>
                </a:moveTo>
                <a:lnTo>
                  <a:pt x="70152" y="0"/>
                </a:lnTo>
                <a:lnTo>
                  <a:pt x="70152" y="21600"/>
                </a:lnTo>
                <a:lnTo>
                  <a:pt x="0" y="21600"/>
                </a:lnTo>
                <a:close/>
              </a:path>
              <a:path fill="lightenLess" w="70152" h="21600">
                <a:moveTo>
                  <a:pt x="0" y="0"/>
                </a:moveTo>
                <a:lnTo>
                  <a:pt x="70152" y="0"/>
                </a:lnTo>
                <a:lnTo>
                  <a:pt x="68752" y="1400"/>
                </a:lnTo>
                <a:lnTo>
                  <a:pt x="1400" y="1400"/>
                </a:lnTo>
                <a:close/>
              </a:path>
              <a:path fill="darken" w="70152" h="21600">
                <a:moveTo>
                  <a:pt x="70152" y="0"/>
                </a:moveTo>
                <a:lnTo>
                  <a:pt x="70152" y="21600"/>
                </a:lnTo>
                <a:lnTo>
                  <a:pt x="68752" y="20200"/>
                </a:lnTo>
                <a:lnTo>
                  <a:pt x="68752" y="1400"/>
                </a:lnTo>
                <a:close/>
              </a:path>
              <a:path fill="darkenLess" w="70152" h="21600">
                <a:moveTo>
                  <a:pt x="70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2" y="20200"/>
                </a:lnTo>
                <a:close/>
              </a:path>
              <a:path fill="lighten" w="70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02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cc"/>
                </a:solidFill>
                <a:uFillTx/>
                <a:latin typeface="Arial"/>
                <a:hlinkClick r:id="rId2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Пародия (от греч. </a:t>
            </a: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parodia </a:t>
            </a:r>
            <a:r>
              <a:rPr b="1" lang="ru-RU" sz="3100" spc="-1" strike="noStrike">
                <a:solidFill>
                  <a:srgbClr val="5c5c8a"/>
                </a:solidFill>
                <a:latin typeface="Arial"/>
              </a:rPr>
              <a:t>– перепев, противопеснь) –</a:t>
            </a:r>
            <a:r>
              <a:rPr b="1" lang="ru-RU" sz="2700" spc="-1" strike="noStrike">
                <a:solidFill>
                  <a:srgbClr val="5c5c8a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изведение подражающее другому произведению, автору или течению с целью их осмея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876920"/>
            <a:ext cx="1981080" cy="60948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Словарь урока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5c5c8a"/>
                </a:solidFill>
                <a:latin typeface="Arial"/>
              </a:rPr>
              <a:t>Резонёрство –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клонность к пространным рассуждениям нравоучительного характе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4724280"/>
            <a:ext cx="1981080" cy="609840"/>
          </a:xfrm>
          <a:custGeom>
            <a:avLst/>
            <a:gdLst>
              <a:gd name="textAreaLeft" fmla="*/ 39240 w 1981080"/>
              <a:gd name="textAreaRight" fmla="*/ 1941840 w 1981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70139" h="21600">
                <a:moveTo>
                  <a:pt x="0" y="0"/>
                </a:moveTo>
                <a:lnTo>
                  <a:pt x="70139" y="0"/>
                </a:lnTo>
                <a:lnTo>
                  <a:pt x="70139" y="21600"/>
                </a:lnTo>
                <a:lnTo>
                  <a:pt x="0" y="21600"/>
                </a:lnTo>
                <a:close/>
              </a:path>
              <a:path fill="lightenLess" w="70139" h="21600">
                <a:moveTo>
                  <a:pt x="0" y="0"/>
                </a:moveTo>
                <a:lnTo>
                  <a:pt x="70139" y="0"/>
                </a:lnTo>
                <a:lnTo>
                  <a:pt x="68740" y="1400"/>
                </a:lnTo>
                <a:lnTo>
                  <a:pt x="1400" y="1400"/>
                </a:lnTo>
                <a:close/>
              </a:path>
              <a:path fill="darken" w="70139" h="21600">
                <a:moveTo>
                  <a:pt x="70139" y="0"/>
                </a:moveTo>
                <a:lnTo>
                  <a:pt x="70139" y="21600"/>
                </a:lnTo>
                <a:lnTo>
                  <a:pt x="68740" y="20200"/>
                </a:lnTo>
                <a:lnTo>
                  <a:pt x="68740" y="1400"/>
                </a:lnTo>
                <a:close/>
              </a:path>
              <a:path fill="darkenLess" w="70139" h="21600">
                <a:moveTo>
                  <a:pt x="70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40" y="20200"/>
                </a:lnTo>
                <a:close/>
              </a:path>
              <a:path fill="lighten" w="70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/>
          </p:cNvPr>
          <p:cNvSpPr/>
          <p:nvPr/>
        </p:nvSpPr>
        <p:spPr>
          <a:xfrm>
            <a:off x="6858000" y="4800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08-07-26T10:03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