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5ED-B537-4284-AB95-CF2B56EC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B2C-92B8-40E3-A68F-8ED688CB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59B-0F96-4A0B-89AD-12602D2F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ECF-1299-4D8B-B121-02DE3364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DE1F-BF71-44D5-87D6-AE5809A8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EF5B-5B26-489D-B56F-A78AE49A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41FA-2C18-4EA5-81BE-BF1FA225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FBA1-0AC3-40B3-9358-7830B027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B6EC-3414-44FC-9EC0-F3C40A4C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BB64-0BEE-4CE3-B9F3-6B08B524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4C4E-16D5-44A0-B803-F64DC1EB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262-F1F9-4E66-AA05-8E9B51F9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2528-9727-4992-99FB-650B33E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F3C8-639D-41A8-BCDF-90CB9BBC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C63D-9A96-473C-AE0D-56EC75DF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E769-A37C-48FD-A0AB-AB6ADB29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9C05-6954-4634-B61D-76CDCC20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2797-F9FA-4CB4-8531-DA808628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DBE2-1E88-47D2-B205-C97BAA14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5CC9-437D-4B60-9C4A-C6EB7472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D394-29AD-443E-8F21-6A460A52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6C17-E5A7-471B-911F-0E84C7B1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943-7B93-499E-BB93-15EFE841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FEB7-A00F-47E2-9F0F-6CFAB12D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B61D-D949-4244-B24F-C8CDE382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14808-2086-4C01-9D26-B4ACC330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F11D5-0D85-4D24-B504-7D7C1330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4B57-34CF-4AC2-BC6D-3913EDA1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45B7-D3E5-48E5-8D34-92D44986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77EBB-83F9-4710-B0A9-642C665C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64A11-6BD4-46CF-BA68-2AEC58F6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BBA0-AC07-4C02-9FB9-1111B977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BA86D-56AC-4A53-A1D0-36823F03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FD5-DA36-40F0-B083-BBFC020F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2465C-F7F3-4499-829B-538B6FBC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AB08D-1367-4682-9FB8-EB24073D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34CCD-B293-4DFF-8D84-A9711A08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1DB0-56CA-44B0-BC9F-1B48023C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65E9F-9873-4B01-8C64-6436EA4F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90F94-DC80-429E-A901-A96C3934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70F62-CD37-4C5C-BC80-EABC8C6E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9DCCE-47FD-4B79-BDD2-7DC498DA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3114D-76EE-482D-899C-E3A43A02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0F46A-D48D-4FCC-8FE5-2A533F7C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871-4017-43A1-8765-FF7A8B8A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52671-1C83-4E6A-AEA5-FF6DE5FD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CAC84-4958-4598-A014-204C2314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6F853-96FD-48F6-BD50-BE7459F5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22643-4468-4668-8FB7-69B7081A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AD497-4988-4290-A75F-324465F1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8CD07-806D-46E4-9FFE-6CD4534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5461E-ACE5-44D7-8BEE-172A5748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2BF38-C2B3-4488-9760-CE8E1167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7176-2772-47D2-93FC-FAF01FB4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97AD7-F329-4869-9D5D-8B9FCD74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416-D928-4367-8765-F4B99D53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A0A80-66C8-4184-9139-DBBA826E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FEABBE-C8FE-48C6-9C24-4416BA07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B4522-BA8D-4B4C-BEC6-0C79107A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804FC-082D-418C-902C-445509F2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8F407-0716-4CFA-A568-3E1B1F68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72588-FC36-4F23-B1A8-81D3BE07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3C3F2-A9EE-4657-A45F-8A662CF3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D8839-D5E9-40E2-A06B-75AEE73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DA8AA-DD5D-4382-90D8-A62956E6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B4DB3-285E-4FFE-A883-FDBA30A5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F61-084F-4E62-A5E3-DE87EFE3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376A5-0E95-4A14-977E-27FD53CB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F6E84-A3DF-4523-B3F7-701EC4DC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33C60-8464-4C4F-9C7F-71003E82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CDB-3A00-46E9-AE6E-D07C993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452-8770-49FB-865F-56C5B633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3DFB-8D70-4638-84BB-58C16110596A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234A-9374-4C38-990E-ACA69DFDC40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7575-5CE8-46B4-839D-A04C64D8E798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ddc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ddc3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bddc3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bddc3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4674-1AA5-462D-A127-056B527C08D6}" type="slidenum">
              <a:rPr b="0" lang="ru-RU" sz="1100" spc="-1" strike="noStrike">
                <a:solidFill>
                  <a:srgbClr val="ebddc3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DB36-750D-44C3-9DE5-0D311FC088F1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6721-3E89-459E-A1AA-35BA6235816A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628560" y="762120"/>
            <a:ext cx="8266320" cy="35719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4572000" y="479736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цына Е.Е., учитель истории и права, Лицей ИСТЭк, Красно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97" descr=""/>
          <p:cNvPicPr/>
          <p:nvPr/>
        </p:nvPicPr>
        <p:blipFill>
          <a:blip r:embed="rId1"/>
          <a:stretch/>
        </p:blipFill>
        <p:spPr>
          <a:xfrm>
            <a:off x="1676520" y="311040"/>
            <a:ext cx="7065720" cy="134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250920" y="1484280"/>
          <a:ext cx="7848360" cy="5154480"/>
        </p:xfrm>
        <a:graphic>
          <a:graphicData uri="http://schemas.openxmlformats.org/drawingml/2006/table">
            <a:tbl>
              <a:tblPr/>
              <a:tblGrid>
                <a:gridCol w="2536560"/>
                <a:gridCol w="1046160"/>
                <a:gridCol w="1041480"/>
                <a:gridCol w="1197000"/>
                <a:gridCol w="1006560"/>
                <a:gridCol w="1020600"/>
              </a:tblGrid>
              <a:tr h="81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 воспитательн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требу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ся небольшие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ся умеренные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ся большие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духовно-нравственного мира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-патриотическое вос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ЗО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ое вос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вос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ое самоопре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асоциального поведение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их и интелле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альных способностей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ческое самоу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55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284" name="Line 102"/>
          <p:cNvSpPr/>
          <p:nvPr/>
        </p:nvSpPr>
        <p:spPr>
          <a:xfrm flipH="1">
            <a:off x="4284360" y="2421000"/>
            <a:ext cx="1439640" cy="57636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04"/>
          <p:cNvSpPr/>
          <p:nvPr/>
        </p:nvSpPr>
        <p:spPr>
          <a:xfrm flipH="1" flipV="1">
            <a:off x="3132000" y="2996640"/>
            <a:ext cx="1152720" cy="502920"/>
          </a:xfrm>
          <a:custGeom>
            <a:avLst/>
            <a:gdLst>
              <a:gd name="textAreaLeft" fmla="*/ 360 w 1152720"/>
              <a:gd name="textAreaRight" fmla="*/ 1153440 w 1152720"/>
              <a:gd name="textAreaTop" fmla="*/ -360 h 502920"/>
              <a:gd name="textAreaBottom" fmla="*/ 502920 h 502920"/>
            </a:gdLst>
            <a:ahLst/>
            <a:rect l="textAreaLeft" t="textAreaTop" r="textAreaRight" b="textAreaBottom"/>
            <a:pathLst>
              <a:path w="9" h="154">
                <a:moveTo>
                  <a:pt x="9" y="0"/>
                </a:moveTo>
                <a:lnTo>
                  <a:pt x="0" y="154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05"/>
          <p:cNvSpPr/>
          <p:nvPr/>
        </p:nvSpPr>
        <p:spPr>
          <a:xfrm>
            <a:off x="4356000" y="3789360"/>
            <a:ext cx="1511280" cy="36036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60360"/>
              <a:gd name="textAreaBottom" fmla="*/ 360360 h 360360"/>
            </a:gdLst>
            <a:ahLst/>
            <a:rect l="textAreaLeft" t="textAreaTop" r="textAreaRight" b="textAreaBottom"/>
            <a:pathLst>
              <a:path w="616" h="124">
                <a:moveTo>
                  <a:pt x="616" y="0"/>
                </a:moveTo>
                <a:lnTo>
                  <a:pt x="0" y="124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6"/>
          <p:cNvSpPr/>
          <p:nvPr/>
        </p:nvSpPr>
        <p:spPr>
          <a:xfrm>
            <a:off x="4356000" y="4149720"/>
            <a:ext cx="2016360" cy="43164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07"/>
          <p:cNvSpPr/>
          <p:nvPr/>
        </p:nvSpPr>
        <p:spPr>
          <a:xfrm flipH="1">
            <a:off x="4426920" y="6165720"/>
            <a:ext cx="936360" cy="287640"/>
          </a:xfrm>
          <a:custGeom>
            <a:avLst/>
            <a:gdLst>
              <a:gd name="textAreaLeft" fmla="*/ -360 w 936360"/>
              <a:gd name="textAreaRight" fmla="*/ 936360 w 93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608" h="327">
                <a:moveTo>
                  <a:pt x="0" y="0"/>
                </a:moveTo>
                <a:lnTo>
                  <a:pt x="608" y="327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8"/>
          <p:cNvSpPr/>
          <p:nvPr/>
        </p:nvSpPr>
        <p:spPr>
          <a:xfrm flipH="1">
            <a:off x="3634920" y="4581360"/>
            <a:ext cx="2737080" cy="50328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09"/>
          <p:cNvSpPr/>
          <p:nvPr/>
        </p:nvSpPr>
        <p:spPr>
          <a:xfrm>
            <a:off x="3635280" y="5084640"/>
            <a:ext cx="1728720" cy="432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243" h="272">
                <a:moveTo>
                  <a:pt x="0" y="0"/>
                </a:moveTo>
                <a:lnTo>
                  <a:pt x="1243" y="272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10"/>
          <p:cNvSpPr/>
          <p:nvPr/>
        </p:nvSpPr>
        <p:spPr>
          <a:xfrm>
            <a:off x="5364000" y="5516640"/>
            <a:ext cx="46080" cy="649080"/>
          </a:xfrm>
          <a:custGeom>
            <a:avLst/>
            <a:gdLst>
              <a:gd name="textAreaLeft" fmla="*/ 0 w 46080"/>
              <a:gd name="textAreaRight" fmla="*/ 46440 w 460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662" h="183">
                <a:moveTo>
                  <a:pt x="0" y="0"/>
                </a:moveTo>
                <a:lnTo>
                  <a:pt x="662" y="183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24" descr="book"/>
          <p:cNvPicPr/>
          <p:nvPr/>
        </p:nvPicPr>
        <p:blipFill>
          <a:blip r:embed="rId2"/>
          <a:stretch/>
        </p:blipFill>
        <p:spPr>
          <a:xfrm>
            <a:off x="5850000" y="2685960"/>
            <a:ext cx="1162080" cy="897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5" descr="ручка"/>
          <p:cNvPicPr/>
          <p:nvPr/>
        </p:nvPicPr>
        <p:blipFill>
          <a:blip r:embed="rId3"/>
          <a:stretch/>
        </p:blipFill>
        <p:spPr>
          <a:xfrm>
            <a:off x="6589800" y="2708280"/>
            <a:ext cx="568080" cy="65232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04"/>
          <p:cNvSpPr/>
          <p:nvPr/>
        </p:nvSpPr>
        <p:spPr>
          <a:xfrm flipH="1">
            <a:off x="3132000" y="3500280"/>
            <a:ext cx="2735280" cy="289080"/>
          </a:xfrm>
          <a:custGeom>
            <a:avLst/>
            <a:gdLst>
              <a:gd name="textAreaLeft" fmla="*/ 360 w 2735280"/>
              <a:gd name="textAreaRight" fmla="*/ 2736000 w 2735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9" h="154">
                <a:moveTo>
                  <a:pt x="9" y="0"/>
                </a:moveTo>
                <a:lnTo>
                  <a:pt x="0" y="154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4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469800" y="-73080"/>
            <a:ext cx="7296120" cy="1944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2"/>
          <a:srcRect l="14567" t="23419" r="52217" b="20466"/>
          <a:stretch/>
        </p:blipFill>
        <p:spPr>
          <a:xfrm>
            <a:off x="1187280" y="148428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1189080" y="103320"/>
            <a:ext cx="701028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250920" y="1484280"/>
          <a:ext cx="7921440" cy="4943520"/>
        </p:xfrm>
        <a:graphic>
          <a:graphicData uri="http://schemas.openxmlformats.org/drawingml/2006/table">
            <a:tbl>
              <a:tblPr/>
              <a:tblGrid>
                <a:gridCol w="1144440"/>
                <a:gridCol w="1143000"/>
                <a:gridCol w="1146240"/>
                <a:gridCol w="1143000"/>
                <a:gridCol w="1144440"/>
                <a:gridCol w="1143000"/>
                <a:gridCol w="1057320"/>
              </a:tblGrid>
              <a:tr h="518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</a:tr>
              <a:tr h="1372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детской экологической организации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эты Братс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еселое рождество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стиваль професс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А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Экология глазами детей»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оров ты – здоров твой гор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А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ратский меридиа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 глубине сибирских руд»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слениц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аг навстреч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узейлен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удущее нации - в здоровье молоды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А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– человек, но како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 мы идем искать ровесников сле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ы – россиян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инолента школьной жизн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зможно быть други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Rectangle 233"/>
          <p:cNvSpPr/>
          <p:nvPr/>
        </p:nvSpPr>
        <p:spPr>
          <a:xfrm>
            <a:off x="-122400" y="573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39" descr="book"/>
          <p:cNvPicPr/>
          <p:nvPr/>
        </p:nvPicPr>
        <p:blipFill>
          <a:blip r:embed="rId2"/>
          <a:stretch/>
        </p:blipFill>
        <p:spPr>
          <a:xfrm>
            <a:off x="450720" y="5824440"/>
            <a:ext cx="1017720" cy="785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40" descr="ручка"/>
          <p:cNvPicPr/>
          <p:nvPr/>
        </p:nvPicPr>
        <p:blipFill>
          <a:blip r:embed="rId3"/>
          <a:stretch/>
        </p:blipFill>
        <p:spPr>
          <a:xfrm>
            <a:off x="1042920" y="5877000"/>
            <a:ext cx="498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54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7669440" cy="2200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250920" y="1915920"/>
            <a:ext cx="785016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ного анализа воспитательной работы в предыдущем год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ных мониторинга достигнутого уровн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классного коллектива и творческого развития личност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 возрастных особенностей учащихс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я индивидуальных интересов и потребностей учащихс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го планирования основных дел и мероприятий в системе жизнедеятельности классного коллекти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163000" cy="13651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6840" y="148392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ющая упорядоченность жизнедеятельности классного коллектив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ение классного коллектива, возрастание его сплоченности и удовлетворенности учащихся своим коллектив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устойчивый эмоционально-положительный психологический климат в класс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ащищенность каждого члена коллектива и его комфорт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ышение уровня воспитан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щей культуры учащихс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участие класса в школьных воспитательных мероприятия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вовлечения родителей учащихся в дела классного коллектив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ный выбор учащимися социально приемлемых духовно-нравственных форм самореализации и самовыраж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242120" cy="11890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I.Диагностический этап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Выявление уровня воспитанности учащихся, степени сформированности коллектива, коллективистских отношен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Круг интересов учащихся, их способности, декларируемые ценности, взаимоотношения в класс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Выявление проблем в классе (дети-изгои, дети с отклонениями в поведении, уровень культуры общения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Определение цели, задач и направлений воспитательной системы класс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7242120" cy="1378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Определение направлений и содержания воспитательной работ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Выделение видов деятельности, форм и условий организации воспитательной рабо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Взаимодействие с родителям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7332840" cy="13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0" y="1125360"/>
          <a:ext cx="8101080" cy="5545440"/>
        </p:xfrm>
        <a:graphic>
          <a:graphicData uri="http://schemas.openxmlformats.org/drawingml/2006/table">
            <a:tbl>
              <a:tblPr/>
              <a:tblGrid>
                <a:gridCol w="5672160"/>
                <a:gridCol w="24289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ид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ериод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бесед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о-педагогические консультации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бота с активом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ассный час: анкетирование, тес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матический классный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2 раз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ведение  внеклассных КТ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о  общегимназических мероприят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раза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пл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блюдение учащихся на уро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урок в две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ещение сем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 семей в год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1,5 часа на посещ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одительские собрания. Индивид. консуль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раз в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нтроль посещаемости. Организация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журство по гимназ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граф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189000"/>
          <a:ext cx="7848360" cy="6337080"/>
        </p:xfrm>
        <a:graphic>
          <a:graphicData uri="http://schemas.openxmlformats.org/drawingml/2006/table">
            <a:tbl>
              <a:tblPr/>
              <a:tblGrid>
                <a:gridCol w="5386320"/>
                <a:gridCol w="2462040"/>
              </a:tblGrid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85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борка кабинета, учас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граф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верка днев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9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дение классного жур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84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дение личных дел учащихся, составление характеристик, справок, планов, отч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мере необход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вышение методической грамотности классного руководителя (изучение нормативных документов, выступление на Учебе классных руководите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оя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2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готовка сценариев, разработок внеклассных 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мере необход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7480440" cy="1371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-139680" y="1682640"/>
            <a:ext cx="2992320" cy="406584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2771640" y="1557360"/>
            <a:ext cx="5400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онцепция самовоспитания" Г.К. Селевко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овое воспитание" Н.Е. Щурк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кова Н.Е. Классное руководство: рабочие диагностики. - М.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остно-ориентированный подход  в педагогическ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А. Караковский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З. Вульфов, С.Д. Поляков, Ю.П. Сокольников) составляют методологическую основу деятельности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ю и построению воспитательной системы современной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8388360" cy="1676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системный подход позволяет классному руководителю рационально распределять свои усилия при организации воспитательного процесса в класс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при построении воспитательной системы формируется «лицо» класса, его неповторимый облик, что имеет немаловажное значение в развитии индивидуальности членов классного сообществ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воспитательная система класса позволяет расширить диапазон педагогического влияния на детей и их развитии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воспитательной системе специально моделируются и создаются условия для 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самореализации педагога, родител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249120" y="85680"/>
            <a:ext cx="7791480" cy="146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499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 -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ир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- становл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- стабильное функциониров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- завершение функционирования или коренное обновление. Эти этапы характерны и для развития класса.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1268280"/>
          <a:ext cx="8893080" cy="5567400"/>
        </p:xfrm>
        <a:graphic>
          <a:graphicData uri="http://schemas.openxmlformats.org/drawingml/2006/table">
            <a:tbl>
              <a:tblPr/>
              <a:tblGrid>
                <a:gridCol w="1805040"/>
                <a:gridCol w="714240"/>
                <a:gridCol w="704880"/>
                <a:gridCol w="630360"/>
                <a:gridCol w="947520"/>
                <a:gridCol w="963720"/>
                <a:gridCol w="727200"/>
                <a:gridCol w="663480"/>
                <a:gridCol w="868320"/>
                <a:gridCol w="868320"/>
              </a:tblGrid>
              <a:tr h="5763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я Управляющего совета гимназ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ый отчет, 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я Совета по профилактике правонару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10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6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и гимназ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Мат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чер встречи выпуск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рт к 23 февра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рт к 8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т отлич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года – 3 н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рт к 9 м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 семинары классных руко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266400"/>
            <a:ext cx="81723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клограмма проведения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х воспитательно-профилактических мероприятий МОУ гимназии №9 2010-2011 уч.г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39280" y="-3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адиции гимназии.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Дня знаний: экскурсия-знакомство с  гимназией учащихся 1-х и 5-х классов, тематические классные часы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Учител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Осени, выставка поделок из природного материал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ение в гимназисты учащихся 1-х класс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ение в «Ступеньки» для учащихся 5-х класс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Матер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ение в старшеклассники для учащихся 10 класс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фон знаний: общешкольные предметные олимпиады, выявление знатоков, награжде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науки, завершающий предметную неделю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ание с Азбуко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уголков класса. Конкурсы самоуправл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информационных стендов к знаменательным датам России, проведение уроков мужества. Спортивная игра «Воинская доблесть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стиваль солдатской песни, концерты в воинских частях гарнизо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о-вечера самоуправл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дние утренники и мероприят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 встречи выпускни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ная программа к 23 февраля, Концертная программа к Международному женскому дню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т отличников, Ученик год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ная программа  ко Дню Победы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«Детства прощальный  звонок», Праздник «Прощание с  начальной школой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ой вечер «Звездный выпуск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ая трудовая четверть – летний оздоровительный лагерь «Солнышко», трудовая бригад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дел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еник года»  в начальной школ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Д в рамках предметных недел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Самый классный класс» - направления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амый спортивный класс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амый здоровый класс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44600" y="176040"/>
            <a:ext cx="7383240" cy="183528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3" descr=""/>
          <p:cNvPicPr/>
          <p:nvPr/>
        </p:nvPicPr>
        <p:blipFill>
          <a:blip r:embed="rId2"/>
          <a:stretch/>
        </p:blipFill>
        <p:spPr>
          <a:xfrm>
            <a:off x="378000" y="1847880"/>
            <a:ext cx="7527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6:10:23Z</dcterms:created>
  <dc:creator>Гимназия 9</dc:creator>
  <dc:description/>
  <dc:language>en-US</dc:language>
  <cp:lastModifiedBy>Мама</cp:lastModifiedBy>
  <dcterms:modified xsi:type="dcterms:W3CDTF">2012-02-12T15:42:57Z</dcterms:modified>
  <cp:revision>93</cp:revision>
  <dc:subject/>
  <dc:title>Системный подход в деятельности классного руководителя</dc:title>
</cp:coreProperties>
</file>