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0FBA-9444-49B3-87B7-4FEDF9472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E918-2A19-45E5-80BA-C656BA4E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E333-03A7-452D-8623-7FD5CB87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CDCF-5850-4DE2-B943-120097CD6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0A14-EE88-4281-91AF-9FD3BE3C5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D0A3-D017-4FAF-9CA0-7262DC1F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CD9B-15FD-4290-8D45-2FE7C15D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2198-AE50-49EF-954A-15A30A6B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A1B9-E93A-402E-8CE2-15A2822B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5849-3B28-48C0-9F93-F09D21C0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D735-1E34-4369-962F-35A729B5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6254-2369-4C5D-B93D-5B903B6E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3227-4EFF-4D1E-ABCE-762CC421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BB92-5BE3-45C2-ACB2-982FC464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198B-9BC5-4C28-BD15-229B9176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7E63-38E7-4D1E-B4D6-D86AFA24B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8D1D-C04D-4587-99DB-BAC68E1F1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21F74-B281-4976-B27F-5D515B6C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C57D8-8E81-4FB6-9E2B-9ECAB38A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994C6-DE1B-41CA-BB6B-94FDB5FA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A8DC2-6E02-4748-B919-4CBD1D76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757E8-5EAD-4D01-8ADD-06110175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B8F7-CD57-499B-933B-424A9DAD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24877-E587-42CF-B498-2CB86035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DDAE6-718D-41FB-B7F5-2BF511A2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0CBF2-C0ED-401E-AAC8-7DE2247A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BA8F0-AA23-48A6-9215-ACDD3677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87855-7972-4B4A-9A91-70CDAABD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15525-19BA-41BC-8726-5674B338E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78E5E-380A-48EC-93A2-9340EC56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75017-70A6-435E-9B79-578FEE4C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E0658-C5FF-4B34-9825-AF99B06B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B25D4-8079-4740-A038-6532F42C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BCAC-55F2-434C-BDC2-5F160DBA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2B555-F4E6-4CB3-ADFF-670CC68C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1210D-7DDB-48C4-B4DE-9218C61E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9BB6B-23F0-4252-A35C-C7A735ED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3DC8C-0302-4780-B961-1D9B04CB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B7940-76B1-4DF8-8064-7A21D513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8F340-7070-4BAD-8FAF-50619878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3A353-AA71-4FD7-8B94-DBFDD940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3C595-C14C-4AD0-847C-1EB86D824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F8E68-9285-4BBB-9116-63286ACC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B1D8A-B8AC-4D12-A2D5-D7763648A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18DF-5380-424A-A906-DB4AD39D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1B40C-82D8-4057-819E-9DF967BF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553A9-5D22-4646-9F3D-019EF3B7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1D904-D4EE-4705-A945-EEA0EE86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D8B79-025E-477A-B1CE-0051865B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ABE02-3C03-4EEE-B2A2-31F3A4FD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A2B55-0B7F-4D4D-A727-86BEE663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1C0FD-FE78-4DE8-BD57-342D51AE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BE09D-06F5-49C0-9D10-6ECFEFA1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800FA-EFF9-47C8-9F05-AC2558F2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483B2-CA46-4EAF-B9DD-B54A299FF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089D-EFF7-4AB0-BFA8-30559F42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3ED5F-591B-4822-87E7-083F05CF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0286F8-A0B8-4F6E-80E3-6AD781029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D47D70-9383-4525-9B31-B4B0E01B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4F41A2-0B17-42B5-A4A3-9A9875CA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EA0CC1-D656-40BE-BEFF-E9A3D2FE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8313FC-5C64-4E24-A00F-4E6D0E55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AD2068-5C00-4FA3-9173-A35E6D3B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F7F5BC-1336-4AB7-BDA8-0FB5C28D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3D266E-DCB5-405A-972A-CE63AF91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27BB52-A9AD-4917-8C7E-75C9A45B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310A-726E-4FB5-9B8C-44EAFBB8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E75159-D5F4-4268-9968-DA72AF71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5CEFE9-E213-4610-B9B3-266786E8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EA9D8E-120A-43EE-ACA6-71BA7D924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5366-FF01-44DF-94DF-5002CAA5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6B9A-616C-4CED-B6F0-F6D92A6A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8b25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8b25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75f55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5f55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775f5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6DC6-1E66-4AC1-BB2F-EEA3BA6284BF}" type="slidenum">
              <a:rPr b="0" lang="ru-RU" sz="1100" spc="-1" strike="noStrike">
                <a:solidFill>
                  <a:srgbClr val="775f55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8b25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8b25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3C0E-2B56-4A13-B70E-E95916874C83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8b25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8b25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75f55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5f55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775f5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379F-AA15-4471-AF78-EBA0AF115D9B}" type="slidenum">
              <a:rPr b="0" lang="ru-RU" sz="1100" spc="-1" strike="noStrike">
                <a:solidFill>
                  <a:srgbClr val="775f55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bddc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8b25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8b25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bddc3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bddc3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bddc3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7813-CFF2-481B-A3BA-DF15396F77DC}" type="slidenum">
              <a:rPr b="0" lang="ru-RU" sz="1100" spc="-1" strike="noStrike">
                <a:solidFill>
                  <a:srgbClr val="ebddc3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8b25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8b25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75f55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5f55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775f5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76EE-50F1-4558-9371-0E9E9C367F6E}" type="slidenum">
              <a:rPr b="0" lang="ru-RU" sz="1100" spc="-1" strike="noStrike">
                <a:solidFill>
                  <a:srgbClr val="775f55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8b25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8b25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775f5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DFC1-8D9D-43F3-B994-42F1C54E4ABC}" type="slidenum">
              <a:rPr b="0" lang="ru-RU" sz="1100" spc="-1" strike="noStrike">
                <a:solidFill>
                  <a:srgbClr val="775f55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628560" y="762120"/>
            <a:ext cx="8266320" cy="3571920"/>
          </a:xfrm>
          <a:prstGeom prst="rect">
            <a:avLst/>
          </a:prstGeom>
          <a:ln w="0">
            <a:noFill/>
          </a:ln>
        </p:spPr>
      </p:pic>
      <p:sp>
        <p:nvSpPr>
          <p:cNvPr id="265" name="TextBox 2"/>
          <p:cNvSpPr/>
          <p:nvPr/>
        </p:nvSpPr>
        <p:spPr>
          <a:xfrm>
            <a:off x="4572000" y="479736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ицына Е.Е., учитель истории и права, Лицей ИСТЭк, Красно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97" descr=""/>
          <p:cNvPicPr/>
          <p:nvPr/>
        </p:nvPicPr>
        <p:blipFill>
          <a:blip r:embed="rId1"/>
          <a:stretch/>
        </p:blipFill>
        <p:spPr>
          <a:xfrm>
            <a:off x="1676520" y="311040"/>
            <a:ext cx="7065720" cy="134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3" name=""/>
          <p:cNvGraphicFramePr/>
          <p:nvPr/>
        </p:nvGraphicFramePr>
        <p:xfrm>
          <a:off x="250920" y="1484280"/>
          <a:ext cx="7848360" cy="5154480"/>
        </p:xfrm>
        <a:graphic>
          <a:graphicData uri="http://schemas.openxmlformats.org/drawingml/2006/table">
            <a:tbl>
              <a:tblPr/>
              <a:tblGrid>
                <a:gridCol w="2536560"/>
                <a:gridCol w="1046160"/>
                <a:gridCol w="1041480"/>
                <a:gridCol w="1197000"/>
                <a:gridCol w="1006560"/>
                <a:gridCol w="1020600"/>
              </a:tblGrid>
              <a:tr h="81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онент воспитательной сист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й не требу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ся небольшие изме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ся умеренные изме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ся большие изме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й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65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духовно-нравственного мира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жданско-патриотическое воспит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ЗО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логическое воспит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вое воспит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ессиональное самоопред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5079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ка асоциального поведение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5428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творческих и интеллек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альных способностей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ческое самоуправ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553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родител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</a:tr>
            </a:tbl>
          </a:graphicData>
        </a:graphic>
      </p:graphicFrame>
      <p:sp>
        <p:nvSpPr>
          <p:cNvPr id="284" name="Line 102"/>
          <p:cNvSpPr/>
          <p:nvPr/>
        </p:nvSpPr>
        <p:spPr>
          <a:xfrm flipH="1">
            <a:off x="4284360" y="2421000"/>
            <a:ext cx="1439640" cy="576360"/>
          </a:xfrm>
          <a:prstGeom prst="line">
            <a:avLst/>
          </a:prstGeom>
          <a:ln w="38160">
            <a:solidFill>
              <a:srgbClr val="c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104"/>
          <p:cNvSpPr/>
          <p:nvPr/>
        </p:nvSpPr>
        <p:spPr>
          <a:xfrm flipH="1" flipV="1">
            <a:off x="3132000" y="2996640"/>
            <a:ext cx="1152720" cy="502920"/>
          </a:xfrm>
          <a:custGeom>
            <a:avLst/>
            <a:gdLst>
              <a:gd name="textAreaLeft" fmla="*/ 360 w 1152720"/>
              <a:gd name="textAreaRight" fmla="*/ 1153440 w 1152720"/>
              <a:gd name="textAreaTop" fmla="*/ -360 h 502920"/>
              <a:gd name="textAreaBottom" fmla="*/ 502920 h 502920"/>
            </a:gdLst>
            <a:ahLst/>
            <a:rect l="textAreaLeft" t="textAreaTop" r="textAreaRight" b="textAreaBottom"/>
            <a:pathLst>
              <a:path w="9" h="154">
                <a:moveTo>
                  <a:pt x="9" y="0"/>
                </a:moveTo>
                <a:lnTo>
                  <a:pt x="0" y="154"/>
                </a:lnTo>
              </a:path>
            </a:pathLst>
          </a:custGeom>
          <a:noFill/>
          <a:ln w="38160">
            <a:solidFill>
              <a:srgbClr val="c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105"/>
          <p:cNvSpPr/>
          <p:nvPr/>
        </p:nvSpPr>
        <p:spPr>
          <a:xfrm>
            <a:off x="4356000" y="3789360"/>
            <a:ext cx="1511280" cy="36036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60360"/>
              <a:gd name="textAreaBottom" fmla="*/ 360360 h 360360"/>
            </a:gdLst>
            <a:ahLst/>
            <a:rect l="textAreaLeft" t="textAreaTop" r="textAreaRight" b="textAreaBottom"/>
            <a:pathLst>
              <a:path w="616" h="124">
                <a:moveTo>
                  <a:pt x="616" y="0"/>
                </a:moveTo>
                <a:lnTo>
                  <a:pt x="0" y="124"/>
                </a:lnTo>
              </a:path>
            </a:pathLst>
          </a:custGeom>
          <a:noFill/>
          <a:ln w="38160">
            <a:solidFill>
              <a:srgbClr val="c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6"/>
          <p:cNvSpPr/>
          <p:nvPr/>
        </p:nvSpPr>
        <p:spPr>
          <a:xfrm>
            <a:off x="4356000" y="4149720"/>
            <a:ext cx="2016360" cy="431640"/>
          </a:xfrm>
          <a:prstGeom prst="line">
            <a:avLst/>
          </a:prstGeom>
          <a:ln w="38160">
            <a:solidFill>
              <a:srgbClr val="c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107"/>
          <p:cNvSpPr/>
          <p:nvPr/>
        </p:nvSpPr>
        <p:spPr>
          <a:xfrm flipH="1">
            <a:off x="4426920" y="6165720"/>
            <a:ext cx="936360" cy="287640"/>
          </a:xfrm>
          <a:custGeom>
            <a:avLst/>
            <a:gdLst>
              <a:gd name="textAreaLeft" fmla="*/ -360 w 936360"/>
              <a:gd name="textAreaRight" fmla="*/ 936360 w 93636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608" h="327">
                <a:moveTo>
                  <a:pt x="0" y="0"/>
                </a:moveTo>
                <a:lnTo>
                  <a:pt x="608" y="327"/>
                </a:lnTo>
              </a:path>
            </a:pathLst>
          </a:custGeom>
          <a:noFill/>
          <a:ln w="38160">
            <a:solidFill>
              <a:srgbClr val="c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08"/>
          <p:cNvSpPr/>
          <p:nvPr/>
        </p:nvSpPr>
        <p:spPr>
          <a:xfrm flipH="1">
            <a:off x="3634920" y="4581360"/>
            <a:ext cx="2737080" cy="503280"/>
          </a:xfrm>
          <a:prstGeom prst="line">
            <a:avLst/>
          </a:prstGeom>
          <a:ln w="38160">
            <a:solidFill>
              <a:srgbClr val="c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109"/>
          <p:cNvSpPr/>
          <p:nvPr/>
        </p:nvSpPr>
        <p:spPr>
          <a:xfrm>
            <a:off x="3635280" y="5084640"/>
            <a:ext cx="1728720" cy="43200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1243" h="272">
                <a:moveTo>
                  <a:pt x="0" y="0"/>
                </a:moveTo>
                <a:lnTo>
                  <a:pt x="1243" y="272"/>
                </a:lnTo>
              </a:path>
            </a:pathLst>
          </a:custGeom>
          <a:noFill/>
          <a:ln w="38160">
            <a:solidFill>
              <a:srgbClr val="c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110"/>
          <p:cNvSpPr/>
          <p:nvPr/>
        </p:nvSpPr>
        <p:spPr>
          <a:xfrm>
            <a:off x="5364000" y="5516640"/>
            <a:ext cx="46080" cy="649080"/>
          </a:xfrm>
          <a:custGeom>
            <a:avLst/>
            <a:gdLst>
              <a:gd name="textAreaLeft" fmla="*/ 0 w 46080"/>
              <a:gd name="textAreaRight" fmla="*/ 46440 w 4608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662" h="183">
                <a:moveTo>
                  <a:pt x="0" y="0"/>
                </a:moveTo>
                <a:lnTo>
                  <a:pt x="662" y="183"/>
                </a:lnTo>
              </a:path>
            </a:pathLst>
          </a:custGeom>
          <a:noFill/>
          <a:ln w="38160">
            <a:solidFill>
              <a:srgbClr val="c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24" descr="book"/>
          <p:cNvPicPr/>
          <p:nvPr/>
        </p:nvPicPr>
        <p:blipFill>
          <a:blip r:embed="rId2"/>
          <a:stretch/>
        </p:blipFill>
        <p:spPr>
          <a:xfrm>
            <a:off x="5850000" y="2685960"/>
            <a:ext cx="1162080" cy="897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25" descr="ручка"/>
          <p:cNvPicPr/>
          <p:nvPr/>
        </p:nvPicPr>
        <p:blipFill>
          <a:blip r:embed="rId3"/>
          <a:stretch/>
        </p:blipFill>
        <p:spPr>
          <a:xfrm>
            <a:off x="6589800" y="2708280"/>
            <a:ext cx="568080" cy="652320"/>
          </a:xfrm>
          <a:prstGeom prst="rect">
            <a:avLst/>
          </a:prstGeom>
          <a:ln w="0">
            <a:noFill/>
          </a:ln>
        </p:spPr>
      </p:pic>
      <p:sp>
        <p:nvSpPr>
          <p:cNvPr id="294" name="Freeform 104"/>
          <p:cNvSpPr/>
          <p:nvPr/>
        </p:nvSpPr>
        <p:spPr>
          <a:xfrm flipH="1">
            <a:off x="3132000" y="3500280"/>
            <a:ext cx="2735280" cy="289080"/>
          </a:xfrm>
          <a:custGeom>
            <a:avLst/>
            <a:gdLst>
              <a:gd name="textAreaLeft" fmla="*/ 360 w 2735280"/>
              <a:gd name="textAreaRight" fmla="*/ 2736000 w 273528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9" h="154">
                <a:moveTo>
                  <a:pt x="9" y="0"/>
                </a:moveTo>
                <a:lnTo>
                  <a:pt x="0" y="154"/>
                </a:lnTo>
              </a:path>
            </a:pathLst>
          </a:custGeom>
          <a:noFill/>
          <a:ln w="38160">
            <a:solidFill>
              <a:srgbClr val="c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9.82659E-007 C -0.00764 -0.00694 -0.01597 -0.00486 -0.02448 -0.00879 C -0.02726 -0.0081 -0.03281 -0.00648 -0.03281 -0.00648 E">
                                      <p:cBhvr>
                                        <p:cTn id="48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Rectangle 2" descr=""/>
          <p:cNvPicPr/>
          <p:nvPr/>
        </p:nvPicPr>
        <p:blipFill>
          <a:blip r:embed="rId1"/>
          <a:stretch/>
        </p:blipFill>
        <p:spPr>
          <a:xfrm>
            <a:off x="469800" y="-73080"/>
            <a:ext cx="7296120" cy="19447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9" descr=""/>
          <p:cNvPicPr/>
          <p:nvPr/>
        </p:nvPicPr>
        <p:blipFill>
          <a:blip r:embed="rId2"/>
          <a:srcRect l="14567" t="23419" r="52217" b="20466"/>
          <a:stretch/>
        </p:blipFill>
        <p:spPr>
          <a:xfrm>
            <a:off x="1187280" y="1484280"/>
            <a:ext cx="5761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2" descr=""/>
          <p:cNvPicPr/>
          <p:nvPr/>
        </p:nvPicPr>
        <p:blipFill>
          <a:blip r:embed="rId1"/>
          <a:stretch/>
        </p:blipFill>
        <p:spPr>
          <a:xfrm>
            <a:off x="1189080" y="103320"/>
            <a:ext cx="7010280" cy="168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8" name=""/>
          <p:cNvGraphicFramePr/>
          <p:nvPr/>
        </p:nvGraphicFramePr>
        <p:xfrm>
          <a:off x="250920" y="1484280"/>
          <a:ext cx="7921440" cy="4943520"/>
        </p:xfrm>
        <a:graphic>
          <a:graphicData uri="http://schemas.openxmlformats.org/drawingml/2006/table">
            <a:tbl>
              <a:tblPr/>
              <a:tblGrid>
                <a:gridCol w="1144440"/>
                <a:gridCol w="1143000"/>
                <a:gridCol w="1146240"/>
                <a:gridCol w="1143000"/>
                <a:gridCol w="1144440"/>
                <a:gridCol w="1143000"/>
                <a:gridCol w="1057320"/>
              </a:tblGrid>
              <a:tr h="5184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ddc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ddc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ddc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ddc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вр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ddc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ddc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ddc3"/>
                    </a:solidFill>
                  </a:tcPr>
                </a:tc>
              </a:tr>
              <a:tr h="13726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детской экологической организации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оэты Братс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еселое рождество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стиваль професс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А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Экология глазами детей»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доров ты – здоров твой горо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А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Братский меридиан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о глубине сибирских руд»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асленица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Шаг навстречу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узейлен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Будущее нации - в здоровье молодых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А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Я – человек, но какой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А мы идем искать ровесников след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ы – россиян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инолента школьной жизн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озможно быть други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Rectangle 233"/>
          <p:cNvSpPr/>
          <p:nvPr/>
        </p:nvSpPr>
        <p:spPr>
          <a:xfrm>
            <a:off x="-122400" y="573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39" descr="book"/>
          <p:cNvPicPr/>
          <p:nvPr/>
        </p:nvPicPr>
        <p:blipFill>
          <a:blip r:embed="rId2"/>
          <a:stretch/>
        </p:blipFill>
        <p:spPr>
          <a:xfrm>
            <a:off x="450720" y="5824440"/>
            <a:ext cx="1017720" cy="7858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40" descr="ручка"/>
          <p:cNvPicPr/>
          <p:nvPr/>
        </p:nvPicPr>
        <p:blipFill>
          <a:blip r:embed="rId3"/>
          <a:stretch/>
        </p:blipFill>
        <p:spPr>
          <a:xfrm>
            <a:off x="1042920" y="5877000"/>
            <a:ext cx="4986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9.82659E-007 C -0.00764 -0.00694 -0.01597 -0.00486 -0.02448 -0.00879 C -0.02726 -0.0081 -0.03281 -0.00648 -0.03281 -0.00648 E">
                                      <p:cBhvr>
                                        <p:cTn id="54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Заголовок 1" descr=""/>
          <p:cNvPicPr/>
          <p:nvPr/>
        </p:nvPicPr>
        <p:blipFill>
          <a:blip r:embed="rId1"/>
          <a:stretch/>
        </p:blipFill>
        <p:spPr>
          <a:xfrm>
            <a:off x="36360" y="-6480"/>
            <a:ext cx="7669440" cy="22003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250920" y="1915920"/>
            <a:ext cx="7850160" cy="45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мплексного анализа воспитательной работы в предыдущем году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нных мониторинга достигнутого уровня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ость классного коллектива и творческого развития личност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а возрастных особенностей учащихся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я индивидуальных интересов и потребностей учащихся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ого планирования основных дел и мероприятий в системе жизнедеятельности классного коллектив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Заголовок 1" descr=""/>
          <p:cNvPicPr/>
          <p:nvPr/>
        </p:nvPicPr>
        <p:blipFill>
          <a:blip r:embed="rId1"/>
          <a:stretch/>
        </p:blipFill>
        <p:spPr>
          <a:xfrm>
            <a:off x="298440" y="262080"/>
            <a:ext cx="8163000" cy="13651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56840" y="1483920"/>
            <a:ext cx="80024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ающая упорядоченность жизнедеятельности классного коллектива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ение классного коллектива, возрастание его сплоченности и удовлетворенности учащихся своим коллективом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й устойчивый эмоционально-положительный психологический климат в класс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защищенность каждого члена коллектива и его комфортность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вышение уровня воспитанност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бщей культуры учащихс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 участие класса в школьных воспитательных мероприятиях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вовлечения родителей учащихся в дела классного коллектива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знанный выбор учащимися социально приемлемых духовно-нравственных форм самореализации и самовыраж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7242120" cy="11890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I.Диагностический этап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Выявление уровня воспитанности учащихся, степени сформированности коллектива, коллективистских отношений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. Круг интересов учащихся, их способности, декларируемые ценности, взаимоотношения в класс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. Выявление проблем в классе (дети-изгои, дети с отклонениями в поведении, уровень культуры общения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4. Определение цели, задач и направлений воспитательной системы класс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457200" y="85680"/>
            <a:ext cx="7242120" cy="13780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 Определение направлений и содержания воспитательной работы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. Выделение видов деятельности, форм и условий организации воспитательной работы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. Взаимодействие с родителям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536400" y="-171360"/>
            <a:ext cx="7332840" cy="133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7" name=""/>
          <p:cNvGraphicFramePr/>
          <p:nvPr/>
        </p:nvGraphicFramePr>
        <p:xfrm>
          <a:off x="0" y="1125360"/>
          <a:ext cx="8101080" cy="5545440"/>
        </p:xfrm>
        <a:graphic>
          <a:graphicData uri="http://schemas.openxmlformats.org/drawingml/2006/table">
            <a:tbl>
              <a:tblPr/>
              <a:tblGrid>
                <a:gridCol w="5672160"/>
                <a:gridCol w="24289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ид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ериод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ндивидуальные беседы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сихолого-педагогические консультации уче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Еженед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абота с активом кла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Еженед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лассный час: анкетирование, тестир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ематический классный ч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Еженед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-2 раза в 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оведение  внеклассных КТ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частие во  общегимназических мероприяти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 раза в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 пла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блюдение учащихся на урок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урок в две нед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сещение сем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 семей в год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1,5 часа на посещени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одительские собрания. Индивид. консульт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раз в четвер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онтроль посещаемости. Организация п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Ежеднев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ежурство по гимнази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 графи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50920" y="189000"/>
          <a:ext cx="7848360" cy="6337080"/>
        </p:xfrm>
        <a:graphic>
          <a:graphicData uri="http://schemas.openxmlformats.org/drawingml/2006/table">
            <a:tbl>
              <a:tblPr/>
              <a:tblGrid>
                <a:gridCol w="5386320"/>
                <a:gridCol w="2462040"/>
              </a:tblGrid>
              <a:tr h="492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850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борка кабинета, учас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 графи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92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оверка днев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Еженед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49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едение классного журн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Ежеднев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84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едение личных дел учащихся, составление характеристик, справок, планов, отче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 мере необходи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вышение методической грамотности классного руководителя (изучение нормативных документов, выступление на Учебе классных руководите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стоян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21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дготовка сценариев, разработок внеклассных меропри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 мере необходи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1"/>
          <a:stretch/>
        </p:blipFill>
        <p:spPr>
          <a:xfrm>
            <a:off x="384120" y="274680"/>
            <a:ext cx="7480440" cy="13716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"/>
          <p:cNvPicPr/>
          <p:nvPr/>
        </p:nvPicPr>
        <p:blipFill>
          <a:blip r:embed="rId2"/>
          <a:stretch/>
        </p:blipFill>
        <p:spPr>
          <a:xfrm>
            <a:off x="-139680" y="1682640"/>
            <a:ext cx="2992320" cy="4065840"/>
          </a:xfrm>
          <a:prstGeom prst="rect">
            <a:avLst/>
          </a:prstGeom>
          <a:ln w="0">
            <a:noFill/>
          </a:ln>
        </p:spPr>
      </p:pic>
      <p:sp>
        <p:nvSpPr>
          <p:cNvPr id="272" name="TextBox 4"/>
          <p:cNvSpPr/>
          <p:nvPr/>
        </p:nvSpPr>
        <p:spPr>
          <a:xfrm>
            <a:off x="2771640" y="1557360"/>
            <a:ext cx="540072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Концепция самовоспитания" Г.К. Селевко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Новое воспитание" Н.Е. Щурко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уркова Н.Е. Классное руководство: рабочие диагностики. - М., 2009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чностно-ориентированный подход  в педагогической практ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.А. Караковский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З. Вульфов, С.Д. Поляков, Ю.П. Сокольников) составляют методологическую основу деятельности п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рованию и построению воспитательной системы современной шко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8388360" cy="16765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06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системный подход позволяет классному руководителю рационально распределять свои усилия при организации воспитательного процесса в классе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при построении воспитательной системы формируется «лицо» класса, его неповторимый облик, что имеет немаловажное значение в развитии индивидуальности членов классного сообщества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воспитательная система класса позволяет расширить диапазон педагогического влияния на детей и их развитии.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 воспитательной системе специально моделируются и создаются условия для </a:t>
            </a:r>
            <a:r>
              <a:rPr b="0" lang="ru-RU" sz="2400" spc="-1" strike="noStrike">
                <a:solidFill>
                  <a:srgbClr val="ff3300"/>
                </a:solidFill>
                <a:latin typeface="Trebuchet MS"/>
              </a:rPr>
              <a:t>самореализации педагога, родителе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Заголовок 1" descr=""/>
          <p:cNvPicPr/>
          <p:nvPr/>
        </p:nvPicPr>
        <p:blipFill>
          <a:blip r:embed="rId1"/>
          <a:stretch/>
        </p:blipFill>
        <p:spPr>
          <a:xfrm>
            <a:off x="249120" y="85680"/>
            <a:ext cx="7791480" cy="146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457200" y="1609200"/>
            <a:ext cx="74995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 -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ектирова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- становле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 - стабильное функционирован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 - завершение функционирования или коренное обновление. Эти этапы характерны и для развития класса.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0" y="1268280"/>
          <a:ext cx="8893080" cy="5567400"/>
        </p:xfrm>
        <a:graphic>
          <a:graphicData uri="http://schemas.openxmlformats.org/drawingml/2006/table">
            <a:tbl>
              <a:tblPr/>
              <a:tblGrid>
                <a:gridCol w="1805040"/>
                <a:gridCol w="714240"/>
                <a:gridCol w="704880"/>
                <a:gridCol w="630360"/>
                <a:gridCol w="947520"/>
                <a:gridCol w="963720"/>
                <a:gridCol w="727200"/>
                <a:gridCol w="663480"/>
                <a:gridCol w="868320"/>
                <a:gridCol w="868320"/>
              </a:tblGrid>
              <a:tr h="5763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вра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едания Управляющего совета гимназ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н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н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н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чный отчет, 4 н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едания Совета по профилактике правонаруш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н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н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н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н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и Здоров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н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н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не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н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 gridSpan="10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168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и гимназ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Мате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годние 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чер встречи выпуск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рт к 23 февра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рт к 8 ма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ет отлич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 года – 3 н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рт к 9 м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60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еские семинары классных руков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н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н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н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не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266400"/>
            <a:ext cx="817236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иклограмма проведения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х воспитательно-профилактических мероприятий МОУ гимназии №9 2010-2011 уч.г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539280" y="-36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Традиции гимназии.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 Дня знаний: экскурсия-знакомство с  гимназией учащихся 1-х и 5-х классов, тематические классные часы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Учител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 Осени, выставка поделок из природного материала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вящение в гимназисты учащихся 1-х классов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вящение в «Ступеньки» для учащихся 5-х классов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Матери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вящение в старшеклассники для учащихся 10 классов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афон знаний: общешкольные предметные олимпиады, выявление знатоков, награждение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 науки, завершающий предметную неделю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щание с Азбуко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уголков класса. Конкурсы самоуправлен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информационных стендов к знаменательным датам России, проведение уроков мужества. Спортивная игра «Воинская доблесть»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стиваль солдатской песни, концерты в воинских частях гарнизона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о-вечера самоуправлен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годние утренники и мероприят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чер встречи выпускников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ртная программа к 23 февраля, Концертная программа к Международному женскому дню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т отличников, Ученик года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ртная программа  ко Дню Победы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 «Детства прощальный  звонок», Праздник «Прощание с  начальной школой»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ной вечер «Звездный выпуск»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ая трудовая четверть – летний оздоровительный лагерь «Солнышко», трудовая бригада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дела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ченик года»  в начальной школе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Д в рамках предметных недель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«Самый классный класс» - направления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амый спортивный класс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амый здоровый класс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  <a:p>
            <a:pPr marL="141840" indent="-141840">
              <a:lnSpc>
                <a:spcPct val="80000"/>
              </a:lnSpc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Заголовок 1" descr=""/>
          <p:cNvPicPr/>
          <p:nvPr/>
        </p:nvPicPr>
        <p:blipFill>
          <a:blip r:embed="rId1"/>
          <a:stretch/>
        </p:blipFill>
        <p:spPr>
          <a:xfrm>
            <a:off x="444600" y="176040"/>
            <a:ext cx="7383240" cy="1835280"/>
          </a:xfrm>
          <a:prstGeom prst="rect">
            <a:avLst/>
          </a:prstGeom>
          <a:ln w="0">
            <a:noFill/>
          </a:ln>
        </p:spPr>
      </p:pic>
      <p:pic>
        <p:nvPicPr>
          <p:cNvPr id="281" name="Содержимое 3" descr=""/>
          <p:cNvPicPr/>
          <p:nvPr/>
        </p:nvPicPr>
        <p:blipFill>
          <a:blip r:embed="rId2"/>
          <a:stretch/>
        </p:blipFill>
        <p:spPr>
          <a:xfrm>
            <a:off x="378000" y="1847880"/>
            <a:ext cx="752760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6:10:23Z</dcterms:created>
  <dc:creator>Гимназия 9</dc:creator>
  <dc:description/>
  <dc:language>en-US</dc:language>
  <cp:lastModifiedBy>Мама</cp:lastModifiedBy>
  <dcterms:modified xsi:type="dcterms:W3CDTF">2012-02-12T15:42:57Z</dcterms:modified>
  <cp:revision>93</cp:revision>
  <dc:subject/>
  <dc:title>Системный подход в деятельности классного руководителя</dc:title>
</cp:coreProperties>
</file>