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83B-5A23-4FDD-84E5-EED2B028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522-4D2E-4ECF-8560-D744532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20A-8D95-4A83-A564-663C1A87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15C-3B6F-4B40-BD07-F6957514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1174-0451-4004-8C69-F453A516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CF21-B9A6-43BD-BBD1-3686725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85B9-22B8-4FC3-B597-10E8F34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FEDB-0C86-4F15-BA57-65312DD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9715-3327-4C29-9362-45A76C35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F35A-522C-4E6A-8304-DABF5FF8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EB7-E625-4C64-95A1-BA2D695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B65-E8D6-41E8-BEE6-EC931940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BBB5-889A-48FD-82B9-6770854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EF69-1327-4B37-B3AC-FA79F14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9B7D-64AD-4A7B-91E4-3D4AFB5F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2BDD-BD32-493A-99CB-8EC9BC93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A0E2-0095-4A12-8E69-8AD93A46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094C-9B7B-46B3-B1D8-E2BF0E70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3853-FF31-4B08-B720-0BBFD823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0212-BEC5-48BA-A198-AC7B07B3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2924-16E8-4ED9-AC90-9F60D379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4D27-3BA0-4D53-A52E-07F5F1C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CEF-669A-44B7-A90D-5C770F8D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9321-558A-4C81-9D43-5AA08FA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98CC-4703-4991-86DD-B511A57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C927-DAF2-4567-B6FC-0AABADB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5DF8-5547-4891-8DF2-3ABE5B4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8E53-A55A-4444-AB80-CC6C7505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DD8C-1B29-498A-86F2-8748D790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D63F-59A3-4D68-9631-76447E7F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1983-CF16-4515-9154-EB07672B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10FC-870E-4478-BADE-285076E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F6D3-BEBF-434B-950D-B6726D7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76C-3ECC-4686-9DD9-7FFAF053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EB4B-5A0E-409A-B2E5-92662C9B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5ACF-DFC6-4590-AD96-6311DCC1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E4AD-E990-4B5D-872B-5088F8C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1FD5-FC81-43FF-9559-EEEE104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450F-CD63-4F25-A335-2896616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8CF9-3D26-4129-8A1A-631CC3D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7CB2-5E83-4092-BB6E-CE5728B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FDB5-1640-460E-BFCB-FAE6016B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87B4-C0A0-42B1-A29D-B8AEAF15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8EE2-635C-419D-B191-2A0B5A97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3D0-D680-44BF-B09D-62F7CA2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32EDD-5406-426E-AF00-95275B7B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AA21-B990-4A51-A678-8E6B475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79CE-37C9-4E15-BE3E-14DF2108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0A8C-9A91-4FB1-9BC5-28F3C9C5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44216-9803-4484-B6BC-CB9CCF1C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2D09-153A-4D8C-93B7-5DD3793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407F-D881-427F-BA2B-BA29EE84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FA2EF-75E1-441F-8671-54B805E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127C-EC9B-484F-A91E-200EB26E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FA9C-D406-421A-B926-C64F33BC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C28-CDBD-47EC-8F7B-86684002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7024-5BB2-49C1-AF35-BC40EE88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E1708-62FC-4ECA-AAEB-6797D6AD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82FA6-F02E-4744-BC78-3EA5D6DA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E04B4-B533-4C08-BC41-DD1D9F2E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1FF80-F0F6-4D3E-93CC-8C6A1B7E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8C49F-56CC-454A-9C2F-C519858E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FB47F-1FAB-4A60-AA7D-08CD16A6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1821B-274D-4EB5-BF53-3A8204FA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1C47E-2FF1-40E4-9870-9520B63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B316C-A5D9-4BDB-AB2B-0EB9184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DFE-E982-4454-A588-7898BA3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3502A-7655-49C1-8FC7-1942F46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885FB-7F09-4B04-A98B-C483F381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1ACA0-CB7B-418B-B0DA-99BE15DA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2B4-4FA9-4586-BDC9-2E1EBFD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830-C622-4390-8FFF-EE3583A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3ACB-1269-4A38-BA10-2ED8AC577F6B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E3A6-0CD7-4C8E-BDEB-EE20F71E416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C934-D68F-4AA2-9039-9254DCDA18DF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ddc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bddc3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F8F2-CC8E-4E42-8701-4B74D5D5D135}" type="slidenum">
              <a:rPr b="0" lang="ru-RU" sz="1100" spc="-1" strike="noStrike">
                <a:solidFill>
                  <a:srgbClr val="ebddc3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F244-DF63-4CF4-97FE-6960E9CD5E2D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B442-035C-4133-ABA2-542613D5FC79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628560" y="762120"/>
            <a:ext cx="8266320" cy="3571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4572000" y="4797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цына Е.Е., учитель истории и права, Лицей ИСТЭк, 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97" descr=""/>
          <p:cNvPicPr/>
          <p:nvPr/>
        </p:nvPicPr>
        <p:blipFill>
          <a:blip r:embed="rId1"/>
          <a:stretch/>
        </p:blipFill>
        <p:spPr>
          <a:xfrm>
            <a:off x="1676520" y="311040"/>
            <a:ext cx="7065720" cy="134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250920" y="1484280"/>
          <a:ext cx="7848360" cy="5154480"/>
        </p:xfrm>
        <a:graphic>
          <a:graphicData uri="http://schemas.openxmlformats.org/drawingml/2006/table">
            <a:tbl>
              <a:tblPr/>
              <a:tblGrid>
                <a:gridCol w="2536560"/>
                <a:gridCol w="1046160"/>
                <a:gridCol w="1041480"/>
                <a:gridCol w="1197000"/>
                <a:gridCol w="1006560"/>
                <a:gridCol w="1020600"/>
              </a:tblGrid>
              <a:tr h="81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 воспитательн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треб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небольши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умеренны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больши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духовно-нравственного мира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-патриотическ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ЗО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ое самоопре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асоциального поведение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и интелле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альных способностей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ческое само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55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284" name="Line 102"/>
          <p:cNvSpPr/>
          <p:nvPr/>
        </p:nvSpPr>
        <p:spPr>
          <a:xfrm flipH="1">
            <a:off x="4284360" y="2421000"/>
            <a:ext cx="1439640" cy="57636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04"/>
          <p:cNvSpPr/>
          <p:nvPr/>
        </p:nvSpPr>
        <p:spPr>
          <a:xfrm flipH="1" flipV="1">
            <a:off x="3132000" y="2996640"/>
            <a:ext cx="1152720" cy="502920"/>
          </a:xfrm>
          <a:custGeom>
            <a:avLst/>
            <a:gdLst>
              <a:gd name="textAreaLeft" fmla="*/ 360 w 1152720"/>
              <a:gd name="textAreaRight" fmla="*/ 1153440 w 1152720"/>
              <a:gd name="textAreaTop" fmla="*/ -360 h 502920"/>
              <a:gd name="textAreaBottom" fmla="*/ 502920 h 502920"/>
            </a:gdLst>
            <a:ahLst/>
            <a:rect l="textAreaLeft" t="textAreaTop" r="textAreaRight" b="textAreaBottom"/>
            <a:pathLst>
              <a:path w="9" h="154">
                <a:moveTo>
                  <a:pt x="9" y="0"/>
                </a:moveTo>
                <a:lnTo>
                  <a:pt x="0" y="15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05"/>
          <p:cNvSpPr/>
          <p:nvPr/>
        </p:nvSpPr>
        <p:spPr>
          <a:xfrm>
            <a:off x="4356000" y="3789360"/>
            <a:ext cx="1511280" cy="36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60360"/>
              <a:gd name="textAreaBottom" fmla="*/ 360360 h 360360"/>
            </a:gdLst>
            <a:ahLst/>
            <a:rect l="textAreaLeft" t="textAreaTop" r="textAreaRight" b="textAreaBottom"/>
            <a:pathLst>
              <a:path w="616" h="124">
                <a:moveTo>
                  <a:pt x="616" y="0"/>
                </a:moveTo>
                <a:lnTo>
                  <a:pt x="0" y="12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6"/>
          <p:cNvSpPr/>
          <p:nvPr/>
        </p:nvSpPr>
        <p:spPr>
          <a:xfrm>
            <a:off x="4356000" y="4149720"/>
            <a:ext cx="2016360" cy="43164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07"/>
          <p:cNvSpPr/>
          <p:nvPr/>
        </p:nvSpPr>
        <p:spPr>
          <a:xfrm flipH="1">
            <a:off x="4426920" y="6165720"/>
            <a:ext cx="936360" cy="287640"/>
          </a:xfrm>
          <a:custGeom>
            <a:avLst/>
            <a:gdLst>
              <a:gd name="textAreaLeft" fmla="*/ -360 w 936360"/>
              <a:gd name="textAreaRight" fmla="*/ 936360 w 93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608" h="327">
                <a:moveTo>
                  <a:pt x="0" y="0"/>
                </a:moveTo>
                <a:lnTo>
                  <a:pt x="608" y="327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8"/>
          <p:cNvSpPr/>
          <p:nvPr/>
        </p:nvSpPr>
        <p:spPr>
          <a:xfrm flipH="1">
            <a:off x="3634920" y="4581360"/>
            <a:ext cx="27370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09"/>
          <p:cNvSpPr/>
          <p:nvPr/>
        </p:nvSpPr>
        <p:spPr>
          <a:xfrm>
            <a:off x="3635280" y="5084640"/>
            <a:ext cx="1728720" cy="432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243" h="272">
                <a:moveTo>
                  <a:pt x="0" y="0"/>
                </a:moveTo>
                <a:lnTo>
                  <a:pt x="1243" y="272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10"/>
          <p:cNvSpPr/>
          <p:nvPr/>
        </p:nvSpPr>
        <p:spPr>
          <a:xfrm>
            <a:off x="5364000" y="5516640"/>
            <a:ext cx="46080" cy="649080"/>
          </a:xfrm>
          <a:custGeom>
            <a:avLst/>
            <a:gdLst>
              <a:gd name="textAreaLeft" fmla="*/ 0 w 46080"/>
              <a:gd name="textAreaRight" fmla="*/ 46440 w 460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662" h="183">
                <a:moveTo>
                  <a:pt x="0" y="0"/>
                </a:moveTo>
                <a:lnTo>
                  <a:pt x="662" y="183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4" descr="book"/>
          <p:cNvPicPr/>
          <p:nvPr/>
        </p:nvPicPr>
        <p:blipFill>
          <a:blip r:embed="rId2"/>
          <a:stretch/>
        </p:blipFill>
        <p:spPr>
          <a:xfrm>
            <a:off x="5850000" y="2685960"/>
            <a:ext cx="1162080" cy="89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5" descr="ручка"/>
          <p:cNvPicPr/>
          <p:nvPr/>
        </p:nvPicPr>
        <p:blipFill>
          <a:blip r:embed="rId3"/>
          <a:stretch/>
        </p:blipFill>
        <p:spPr>
          <a:xfrm>
            <a:off x="6589800" y="2708280"/>
            <a:ext cx="568080" cy="65232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04"/>
          <p:cNvSpPr/>
          <p:nvPr/>
        </p:nvSpPr>
        <p:spPr>
          <a:xfrm flipH="1">
            <a:off x="3132000" y="3500280"/>
            <a:ext cx="2735280" cy="289080"/>
          </a:xfrm>
          <a:custGeom>
            <a:avLst/>
            <a:gdLst>
              <a:gd name="textAreaLeft" fmla="*/ 360 w 2735280"/>
              <a:gd name="textAreaRight" fmla="*/ 2736000 w 2735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9" h="154">
                <a:moveTo>
                  <a:pt x="9" y="0"/>
                </a:moveTo>
                <a:lnTo>
                  <a:pt x="0" y="15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4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69800" y="-73080"/>
            <a:ext cx="7296120" cy="194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2"/>
          <a:srcRect l="14567" t="23419" r="52217" b="20466"/>
          <a:stretch/>
        </p:blipFill>
        <p:spPr>
          <a:xfrm>
            <a:off x="1187280" y="148428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1189080" y="103320"/>
            <a:ext cx="701028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1484280"/>
          <a:ext cx="7921440" cy="4943520"/>
        </p:xfrm>
        <a:graphic>
          <a:graphicData uri="http://schemas.openxmlformats.org/drawingml/2006/table">
            <a:tbl>
              <a:tblPr/>
              <a:tblGrid>
                <a:gridCol w="1144440"/>
                <a:gridCol w="1143000"/>
                <a:gridCol w="1146240"/>
                <a:gridCol w="1143000"/>
                <a:gridCol w="1144440"/>
                <a:gridCol w="1143000"/>
                <a:gridCol w="1057320"/>
              </a:tblGrid>
              <a:tr h="518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</a:tr>
              <a:tr h="1372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детской экологической организации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эты Братс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селое рождеств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иваль професс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Экология глазами детей»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 ты – здоров тво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атский меридиа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 глубине сибирских руд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слениц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аг навстреч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узейлен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дущее нации - в здоровье молоды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А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– человек, но како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 мы идем искать ровесников сле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– россия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инолента школьной жиз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зможно быть други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Rectangle 233"/>
          <p:cNvSpPr/>
          <p:nvPr/>
        </p:nvSpPr>
        <p:spPr>
          <a:xfrm>
            <a:off x="-122400" y="573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39" descr="book"/>
          <p:cNvPicPr/>
          <p:nvPr/>
        </p:nvPicPr>
        <p:blipFill>
          <a:blip r:embed="rId2"/>
          <a:stretch/>
        </p:blipFill>
        <p:spPr>
          <a:xfrm>
            <a:off x="450720" y="5824440"/>
            <a:ext cx="1017720" cy="785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40" descr="ручка"/>
          <p:cNvPicPr/>
          <p:nvPr/>
        </p:nvPicPr>
        <p:blipFill>
          <a:blip r:embed="rId3"/>
          <a:stretch/>
        </p:blipFill>
        <p:spPr>
          <a:xfrm>
            <a:off x="1042920" y="5877000"/>
            <a:ext cx="498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5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7669440" cy="220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50920" y="1915920"/>
            <a:ext cx="785016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ого анализа воспитательной работы в предыдущем год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ных мониторинга достигнутого уровн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классного коллектива и творческого развития лич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 возрастных особенностей учащих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я индивидуальных интересов и потребностей учащих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го планирования основных дел и мероприятий в системе жизнедеятельности классного коллекти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163000" cy="1365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6840" y="148392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ющая упорядоченность жизнедеятельности классного коллекти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ение классного коллектива, возрастание его сплоченности и удовлетворенности учащихся своим коллектив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устойчивый эмоционально-положительный психологический климат в класс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ащищенность каждого члена коллектива и его комфорт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ышение уровня воспитан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щей культуры учащих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класса в школьных воспитательных мероприятия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вовлечения родителей учащихся в дела классного коллекти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ый выбор учащимися социально приемлемых духовно-нравственных форм самореализации и самовыраж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242120" cy="11890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I.Диагностический этап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Выявление уровня воспитанности учащихся, степени сформированности коллектива, коллективистских отнош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Круг интересов учащихся, их способности, декларируемые ценности, взаимоотношения в клас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Выявление проблем в классе (дети-изгои, дети с отклонениями в поведении, уровень культуры общени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Определение цели, задач и направлений воспитательной системы класс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7242120" cy="137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Определение направлений и содержания воспитательной рабо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Выделение видов деятельности, форм и условий организации воспитательной рабо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Взаимодействие с родителям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7332840" cy="13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0" y="1125360"/>
          <a:ext cx="8101080" cy="5545440"/>
        </p:xfrm>
        <a:graphic>
          <a:graphicData uri="http://schemas.openxmlformats.org/drawingml/2006/table">
            <a:tbl>
              <a:tblPr/>
              <a:tblGrid>
                <a:gridCol w="5672160"/>
                <a:gridCol w="242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ид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иод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бесед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о-педагогические консультации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бота с активом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ассный час: анкетирование, тес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матический классный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2 раз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дение  внеклассных КТ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о  общегимназических мероприя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раза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пл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блюдение учащихся на уро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урок в две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ещение сем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семей в год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1,5 часа на посещ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одительские собрания. Индивид. 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раз в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нтроль посещаемости. Организация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журство по гимназ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89000"/>
          <a:ext cx="7848360" cy="6337080"/>
        </p:xfrm>
        <a:graphic>
          <a:graphicData uri="http://schemas.openxmlformats.org/drawingml/2006/table">
            <a:tbl>
              <a:tblPr/>
              <a:tblGrid>
                <a:gridCol w="5386320"/>
                <a:gridCol w="246204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85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борка кабинета, учас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рка днев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9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дение классного жур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4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дение личных дел учащихся, составление характеристик, справок, планов, отч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мере необход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ышение методической грамотности классного руководителя (изучение нормативных документов, выступление на Учебе классных руководите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оя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2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готовка сценариев, разработок внеклассн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мере необход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480440" cy="137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-139680" y="1682640"/>
            <a:ext cx="2992320" cy="40658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771640" y="1557360"/>
            <a:ext cx="5400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нцепция самовоспитания" Г.К. Селевко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овое воспитание" Н.Е. Щурк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кова Н.Е. Классное руководство: рабочие диагностики. - М.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но-ориентированный подход  в педагогическ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А. Караковски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З. Вульфов, С.Д. Поляков, Ю.П. Сокольников) составляют методологическую основу деятельности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ю и построению воспитательной системы современно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388360" cy="1676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системный подход позволяет классному руководителю рационально распределять свои усилия при организации воспитательного процесса в класс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ри построении воспитательной системы формируется «лицо» класса, его неповторимый облик, что имеет немаловажное значение в развитии индивидуальности членов классного сообществ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воспитательная система класса позволяет расширить диапазон педагогического влияния на детей и их развитии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воспитательной системе специально моделируются и создаются условия для 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самореализации педагога, родител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49120" y="85680"/>
            <a:ext cx="7791480" cy="146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499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-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ир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- становл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- стабильное функционир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- завершение функционирования или коренное обновление. Эти этапы характерны и для развития класса.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1268280"/>
          <a:ext cx="8893080" cy="5567400"/>
        </p:xfrm>
        <a:graphic>
          <a:graphicData uri="http://schemas.openxmlformats.org/drawingml/2006/table">
            <a:tbl>
              <a:tblPr/>
              <a:tblGrid>
                <a:gridCol w="1805040"/>
                <a:gridCol w="714240"/>
                <a:gridCol w="704880"/>
                <a:gridCol w="630360"/>
                <a:gridCol w="947520"/>
                <a:gridCol w="963720"/>
                <a:gridCol w="727200"/>
                <a:gridCol w="663480"/>
                <a:gridCol w="868320"/>
                <a:gridCol w="868320"/>
              </a:tblGrid>
              <a:tr h="5763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Управляющего совета гимн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ый отчет, 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Совета по профилактике право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10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6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и гимн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Ма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 встречи выпуск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23 февра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8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т отлич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года – 3 н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9 м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 семинары классных руко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81723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ограмма проведени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х воспитательно-профилактических мероприятий МОУ гимназии №9 2010-2011 уч.г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39280" y="-3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адиции гимназии.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Дня знаний: экскурсия-знакомство с  гимназией учащихся 1-х и 5-х классов, тематические классные час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Учител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Осени, выставка поделок из природного материал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гимназисты учащихся 1-х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«Ступеньки» для учащихся 5-х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Матер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старшеклассники для учащихся 10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фон знаний: общешкольные предметные олимпиады, выявление знатоков, награжд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науки, завершающий предметную неделю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ание с Азбуко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уголков класса. Конкурсы самоуправл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нформационных стендов к знаменательным датам России, проведение уроков мужества. Спортивная игра «Воинская доблесть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стиваль солдатской песни, концерты в воинских частях гарнизо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-вечера самоуправл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ие утренники и мероприят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 встречи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ная программа к 23 февраля, Концертная программа к Международному женскому дню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 отличников, Ученик год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ная программа  ко Дню Победы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Детства прощальный  звонок», Праздник «Прощание с  начальной школой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ой вечер «Звездный выпуск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я трудовая четверть – летний оздоровительный лагерь «Солнышко», трудовая бригад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дел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еник года»  в начальной школ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Д в рамках предметных недел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Самый классный класс» - направления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ый спортивный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ый здоровый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44600" y="176040"/>
            <a:ext cx="7383240" cy="183528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3" descr=""/>
          <p:cNvPicPr/>
          <p:nvPr/>
        </p:nvPicPr>
        <p:blipFill>
          <a:blip r:embed="rId2"/>
          <a:stretch/>
        </p:blipFill>
        <p:spPr>
          <a:xfrm>
            <a:off x="378000" y="1847880"/>
            <a:ext cx="7527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6:10:23Z</dcterms:created>
  <dc:creator>Гимназия 9</dc:creator>
  <dc:description/>
  <dc:language>en-US</dc:language>
  <cp:lastModifiedBy>Мама</cp:lastModifiedBy>
  <dcterms:modified xsi:type="dcterms:W3CDTF">2012-02-12T15:42:57Z</dcterms:modified>
  <cp:revision>93</cp:revision>
  <dc:subject/>
  <dc:title>Системный подход в деятельности классного руководителя</dc:title>
</cp:coreProperties>
</file>