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D3C-B6DF-424C-BC7C-EC9F3000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C62-E8FC-4A26-B315-D05F75B6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FD0-78BC-4EA8-A819-62DC2087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28A-835F-467D-988F-0C858FF7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D27-6490-46A8-89EC-D917A58A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03B-C912-4725-B026-646C7387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934-A6B7-473C-A86F-32867D92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6CA-6001-4481-9924-8BE81D96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6AF-945C-452D-B19B-9774B3A7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D3C-FB3F-451C-9F2D-C1F3104F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039-71F0-4BA5-AF77-960C7E24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12F-51BB-479E-8953-0DB3E055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3BC7-BFFE-4423-BDF4-41FDDA388B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1" descr="SectionHeader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2"/>
          <p:cNvSpPr/>
          <p:nvPr/>
        </p:nvSpPr>
        <p:spPr>
          <a:xfrm rot="4810200">
            <a:off x="3407760" y="1817640"/>
            <a:ext cx="1100160" cy="8103960"/>
          </a:xfrm>
          <a:custGeom>
            <a:avLst/>
            <a:gdLst/>
            <a:ahLst/>
            <a:rect l="l" t="t" r="r" b="b"/>
            <a:pathLst>
              <a:path w="1100209" h="8104720">
                <a:moveTo>
                  <a:pt x="533400" y="0"/>
                </a:moveTo>
                <a:lnTo>
                  <a:pt x="533400" y="0"/>
                </a:lnTo>
                <a:cubicBezTo>
                  <a:pt x="674867" y="0"/>
                  <a:pt x="810539" y="56198"/>
                  <a:pt x="910571" y="156230"/>
                </a:cubicBezTo>
                <a:cubicBezTo>
                  <a:pt x="1010603" y="256262"/>
                  <a:pt x="1055019" y="390601"/>
                  <a:pt x="1066800" y="533401"/>
                </a:cubicBezTo>
                <a:cubicBezTo>
                  <a:pt x="1066437" y="2679490"/>
                  <a:pt x="1093715" y="6711917"/>
                  <a:pt x="1100209" y="6755640"/>
                </a:cubicBezTo>
                <a:lnTo>
                  <a:pt x="848624" y="8104720"/>
                </a:lnTo>
                <a:lnTo>
                  <a:pt x="17782" y="7974865"/>
                </a:lnTo>
                <a:cubicBezTo>
                  <a:pt x="11855" y="5494377"/>
                  <a:pt x="5927" y="3013888"/>
                  <a:pt x="0" y="533400"/>
                </a:cubicBezTo>
                <a:cubicBezTo>
                  <a:pt x="0" y="391933"/>
                  <a:pt x="56198" y="256261"/>
                  <a:pt x="156230" y="156229"/>
                </a:cubicBezTo>
                <a:cubicBezTo>
                  <a:pt x="256262" y="56197"/>
                  <a:pt x="391935" y="0"/>
                  <a:pt x="533401" y="0"/>
                </a:cubicBezTo>
                <a:lnTo>
                  <a:pt x="533400" y="0"/>
                </a:ln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93577" y="8811781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2"/>
          <p:cNvGrpSpPr/>
          <p:nvPr/>
        </p:nvGrpSpPr>
        <p:grpSpPr>
          <a:xfrm>
            <a:off x="2741400" y="-1206360"/>
            <a:ext cx="4668840" cy="2958840"/>
            <a:chOff x="2741400" y="-1206360"/>
            <a:chExt cx="4668840" cy="2958840"/>
          </a:xfrm>
        </p:grpSpPr>
        <p:sp>
          <p:nvSpPr>
            <p:cNvPr id="45" name="Oval 35"/>
            <p:cNvSpPr/>
            <p:nvPr/>
          </p:nvSpPr>
          <p:spPr>
            <a:xfrm>
              <a:off x="4495680" y="114300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30"/>
            <p:cNvGrpSpPr/>
            <p:nvPr/>
          </p:nvGrpSpPr>
          <p:grpSpPr>
            <a:xfrm>
              <a:off x="2741400" y="-932040"/>
              <a:ext cx="2014560" cy="1892880"/>
              <a:chOff x="2741400" y="-932040"/>
              <a:chExt cx="2014560" cy="1892880"/>
            </a:xfrm>
          </p:grpSpPr>
          <p:sp>
            <p:nvSpPr>
              <p:cNvPr id="47" name="Arc 44"/>
              <p:cNvSpPr/>
              <p:nvPr/>
            </p:nvSpPr>
            <p:spPr>
              <a:xfrm flipH="1" rot="15213000">
                <a:off x="3022200" y="-834120"/>
                <a:ext cx="1452600" cy="1671480"/>
              </a:xfrm>
              <a:custGeom>
                <a:avLst/>
                <a:gdLst/>
                <a:ahLst/>
                <a:rect l="l" t="t" r="r" b="b"/>
                <a:pathLst>
                  <a:path stroke="0" w="1452860" h="1671083">
                    <a:moveTo>
                      <a:pt x="485386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7"/>
                      <a:pt x="1485941" y="744670"/>
                      <a:pt x="1436948" y="1009462"/>
                    </a:cubicBezTo>
                    <a:cubicBezTo>
                      <a:pt x="1383037" y="1300836"/>
                      <a:pt x="1198329" y="1537157"/>
                      <a:pt x="952152" y="1629723"/>
                    </a:cubicBezTo>
                    <a:lnTo>
                      <a:pt x="726430" y="835542"/>
                    </a:lnTo>
                    <a:lnTo>
                      <a:pt x="485386" y="47339"/>
                    </a:lnTo>
                    <a:close/>
                  </a:path>
                  <a:path fill="none" w="1452860" h="1671083">
                    <a:moveTo>
                      <a:pt x="485386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7"/>
                      <a:pt x="1485941" y="744670"/>
                      <a:pt x="1436948" y="1009462"/>
                    </a:cubicBezTo>
                    <a:cubicBezTo>
                      <a:pt x="1383037" y="1300836"/>
                      <a:pt x="1198329" y="1537157"/>
                      <a:pt x="952152" y="162972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45"/>
              <p:cNvSpPr/>
              <p:nvPr/>
            </p:nvSpPr>
            <p:spPr>
              <a:xfrm flipH="1">
                <a:off x="3216960" y="317880"/>
                <a:ext cx="757080" cy="64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46"/>
              <p:cNvSpPr/>
              <p:nvPr/>
            </p:nvSpPr>
            <p:spPr>
              <a:xfrm flipH="1">
                <a:off x="3780360" y="157680"/>
                <a:ext cx="755640" cy="64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"/>
            <p:cNvGrpSpPr/>
            <p:nvPr/>
          </p:nvGrpSpPr>
          <p:grpSpPr>
            <a:xfrm>
              <a:off x="3218400" y="-1206360"/>
              <a:ext cx="4191840" cy="2355840"/>
              <a:chOff x="3218400" y="-1206360"/>
              <a:chExt cx="4191840" cy="2355840"/>
            </a:xfrm>
          </p:grpSpPr>
          <p:sp>
            <p:nvSpPr>
              <p:cNvPr id="51" name="Pie 40"/>
              <p:cNvSpPr/>
              <p:nvPr/>
            </p:nvSpPr>
            <p:spPr>
              <a:xfrm>
                <a:off x="3389040" y="-776160"/>
                <a:ext cx="3197520" cy="1520640"/>
              </a:xfrm>
              <a:custGeom>
                <a:avLst/>
                <a:gdLst/>
                <a:ahLst/>
                <a:rect l="l" t="t" r="r" b="b"/>
                <a:pathLst>
                  <a:path w="3504392" h="1521138">
                    <a:moveTo>
                      <a:pt x="3504186" y="772227"/>
                    </a:moveTo>
                    <a:cubicBezTo>
                      <a:pt x="3489508" y="1187854"/>
                      <a:pt x="2708818" y="1521378"/>
                      <a:pt x="1751186" y="1521138"/>
                    </a:cubicBezTo>
                    <a:cubicBezTo>
                      <a:pt x="790164" y="1520898"/>
                      <a:pt x="8924" y="1184702"/>
                      <a:pt x="74" y="767573"/>
                    </a:cubicBezTo>
                    <a:lnTo>
                      <a:pt x="1752196" y="760569"/>
                    </a:lnTo>
                    <a:lnTo>
                      <a:pt x="3504186" y="77222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41"/>
              <p:cNvSpPr/>
              <p:nvPr/>
            </p:nvSpPr>
            <p:spPr>
              <a:xfrm>
                <a:off x="4416120" y="129960"/>
                <a:ext cx="933480" cy="9525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rc 42"/>
              <p:cNvSpPr/>
              <p:nvPr/>
            </p:nvSpPr>
            <p:spPr>
              <a:xfrm rot="12470400">
                <a:off x="3352320" y="-188280"/>
                <a:ext cx="1033560" cy="830160"/>
              </a:xfrm>
              <a:custGeom>
                <a:avLst/>
                <a:gdLst/>
                <a:ahLst/>
                <a:rect l="l" t="t" r="r" b="b"/>
                <a:pathLst>
                  <a:path stroke="0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  <a:lnTo>
                      <a:pt x="566376" y="415217"/>
                    </a:lnTo>
                    <a:lnTo>
                      <a:pt x="4023" y="365817"/>
                    </a:lnTo>
                    <a:close/>
                  </a:path>
                  <a:path fill="none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rc 43"/>
              <p:cNvSpPr/>
              <p:nvPr/>
            </p:nvSpPr>
            <p:spPr>
              <a:xfrm rot="6387000">
                <a:off x="5292360" y="-961560"/>
                <a:ext cx="1905120" cy="1866960"/>
              </a:xfrm>
              <a:custGeom>
                <a:avLst/>
                <a:gdLst/>
                <a:ahLst/>
                <a:rect l="l" t="t" r="r" b="b"/>
                <a:pathLst>
                  <a:path stroke="0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  <a:lnTo>
                      <a:pt x="952695" y="1023130"/>
                    </a:lnTo>
                    <a:lnTo>
                      <a:pt x="673195" y="45021"/>
                    </a:lnTo>
                    <a:close/>
                  </a:path>
                  <a:path fill="none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Oval 38"/>
            <p:cNvSpPr/>
            <p:nvPr/>
          </p:nvSpPr>
          <p:spPr>
            <a:xfrm>
              <a:off x="3062160" y="90360"/>
              <a:ext cx="268200" cy="26640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hord 39"/>
            <p:cNvSpPr/>
            <p:nvPr/>
          </p:nvSpPr>
          <p:spPr>
            <a:xfrm rot="17618400">
              <a:off x="2809080" y="-84600"/>
              <a:ext cx="182520" cy="228600"/>
            </a:xfrm>
            <a:custGeom>
              <a:avLst/>
              <a:gdLst/>
              <a:ahLst/>
              <a:rect l="l" t="t" r="r" b="b"/>
              <a:pathLst>
                <a:path w="182600" h="228524">
                  <a:moveTo>
                    <a:pt x="162627" y="185589"/>
                  </a:moveTo>
                  <a:cubicBezTo>
                    <a:pt x="132224" y="233208"/>
                    <a:pt x="77306" y="242576"/>
                    <a:pt x="37829" y="206878"/>
                  </a:cubicBezTo>
                  <a:cubicBezTo>
                    <a:pt x="8491" y="180349"/>
                    <a:pt x="-5554" y="134635"/>
                    <a:pt x="2024" y="90341"/>
                  </a:cubicBezTo>
                  <a:cubicBezTo>
                    <a:pt x="11038" y="37649"/>
                    <a:pt x="48243" y="1"/>
                    <a:pt x="91301" y="1"/>
                  </a:cubicBezTo>
                  <a:lnTo>
                    <a:pt x="162627" y="1855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custGeom>
            <a:avLst/>
            <a:gdLst/>
            <a:ahLst/>
            <a:rect l="l" t="t" r="r" b="b"/>
            <a:pathLst>
              <a:path w="809625" h="2606675">
                <a:moveTo>
                  <a:pt x="404813" y="0"/>
                </a:moveTo>
                <a:lnTo>
                  <a:pt x="404813" y="0"/>
                </a:lnTo>
                <a:cubicBezTo>
                  <a:pt x="628385" y="0"/>
                  <a:pt x="809626" y="181241"/>
                  <a:pt x="809626" y="404813"/>
                </a:cubicBezTo>
                <a:cubicBezTo>
                  <a:pt x="809626" y="1138767"/>
                  <a:pt x="809625" y="1872721"/>
                  <a:pt x="809625" y="2606675"/>
                </a:cubicBezTo>
                <a:lnTo>
                  <a:pt x="809625" y="2606675"/>
                </a:lnTo>
                <a:lnTo>
                  <a:pt x="0" y="2606675"/>
                </a:lnTo>
                <a:lnTo>
                  <a:pt x="0" y="2606675"/>
                </a:lnTo>
                <a:lnTo>
                  <a:pt x="0" y="404813"/>
                </a:lnTo>
                <a:cubicBezTo>
                  <a:pt x="0" y="181241"/>
                  <a:pt x="181241" y="0"/>
                  <a:pt x="404813" y="0"/>
                </a:cubicBezTo>
                <a:close/>
              </a:path>
            </a:pathLst>
          </a:cu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48"/>
          <p:cNvSpPr/>
          <p:nvPr/>
        </p:nvSpPr>
        <p:spPr>
          <a:xfrm rot="4733400">
            <a:off x="813600" y="2201760"/>
            <a:ext cx="700200" cy="2513160"/>
          </a:xfrm>
          <a:custGeom>
            <a:avLst/>
            <a:gdLst/>
            <a:ahLst/>
            <a:rect l="l" t="t" r="r" b="b"/>
            <a:pathLst>
              <a:path w="778667" h="2512599">
                <a:moveTo>
                  <a:pt x="0" y="2357093"/>
                </a:moveTo>
                <a:lnTo>
                  <a:pt x="19377" y="370199"/>
                </a:lnTo>
                <a:cubicBezTo>
                  <a:pt x="19377" y="272016"/>
                  <a:pt x="58380" y="177855"/>
                  <a:pt x="127806" y="108429"/>
                </a:cubicBezTo>
                <a:cubicBezTo>
                  <a:pt x="197232" y="39003"/>
                  <a:pt x="291394" y="0"/>
                  <a:pt x="389576" y="1"/>
                </a:cubicBezTo>
                <a:lnTo>
                  <a:pt x="389576" y="0"/>
                </a:lnTo>
                <a:lnTo>
                  <a:pt x="389576" y="0"/>
                </a:lnTo>
                <a:cubicBezTo>
                  <a:pt x="487759" y="0"/>
                  <a:pt x="581920" y="39003"/>
                  <a:pt x="651346" y="108429"/>
                </a:cubicBezTo>
                <a:cubicBezTo>
                  <a:pt x="720772" y="177855"/>
                  <a:pt x="759775" y="272017"/>
                  <a:pt x="759774" y="370199"/>
                </a:cubicBezTo>
                <a:cubicBezTo>
                  <a:pt x="778667" y="770894"/>
                  <a:pt x="763675" y="2066266"/>
                  <a:pt x="764702" y="2512599"/>
                </a:cubicBezTo>
              </a:path>
            </a:pathLst>
          </a:custGeom>
          <a:solidFill>
            <a:srgbClr val="073779"/>
          </a:solidFill>
          <a:ln w="12708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49"/>
          <p:cNvSpPr/>
          <p:nvPr/>
        </p:nvSpPr>
        <p:spPr>
          <a:xfrm rot="4733400">
            <a:off x="390600" y="3357360"/>
            <a:ext cx="379080" cy="1208160"/>
          </a:xfrm>
          <a:custGeom>
            <a:avLst/>
            <a:gdLst/>
            <a:ahLst/>
            <a:rect l="l" t="t" r="r" b="b"/>
            <a:pathLst>
              <a:path w="459179" h="1462129">
                <a:moveTo>
                  <a:pt x="0" y="1379079"/>
                </a:moveTo>
                <a:lnTo>
                  <a:pt x="597" y="229291"/>
                </a:lnTo>
                <a:cubicBezTo>
                  <a:pt x="597" y="168479"/>
                  <a:pt x="24755" y="110158"/>
                  <a:pt x="67755" y="67158"/>
                </a:cubicBezTo>
                <a:cubicBezTo>
                  <a:pt x="110755" y="24158"/>
                  <a:pt x="169077" y="0"/>
                  <a:pt x="229888" y="0"/>
                </a:cubicBezTo>
                <a:lnTo>
                  <a:pt x="229888" y="0"/>
                </a:lnTo>
                <a:cubicBezTo>
                  <a:pt x="290700" y="0"/>
                  <a:pt x="349021" y="24158"/>
                  <a:pt x="392021" y="67158"/>
                </a:cubicBezTo>
                <a:cubicBezTo>
                  <a:pt x="435021" y="110158"/>
                  <a:pt x="459179" y="168480"/>
                  <a:pt x="459179" y="229291"/>
                </a:cubicBezTo>
                <a:lnTo>
                  <a:pt x="448070" y="1462129"/>
                </a:lnTo>
              </a:path>
            </a:pathLst>
          </a:custGeom>
          <a:solidFill>
            <a:srgbClr val="073779"/>
          </a:solidFill>
          <a:ln w="6336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87400" y="5301720"/>
            <a:ext cx="69040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 rot="21000000">
            <a:off x="599760" y="3389040"/>
            <a:ext cx="7621560" cy="16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К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ШКОЛА 2100»</a:t>
            </a:r>
            <a:endParaRPr b="0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ение о математике как части общечеловеческой науки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вить и развить математические и творческие способност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4" name="Picture 2" descr="mat-1cl.gif"/>
          <p:cNvPicPr/>
          <p:nvPr/>
        </p:nvPicPr>
        <p:blipFill>
          <a:blip r:embed="rId1"/>
          <a:stretch/>
        </p:blipFill>
        <p:spPr>
          <a:xfrm>
            <a:off x="809640" y="419112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mat-2cl.gif"/>
          <p:cNvPicPr/>
          <p:nvPr/>
        </p:nvPicPr>
        <p:blipFill>
          <a:blip r:embed="rId2"/>
          <a:stretch/>
        </p:blipFill>
        <p:spPr>
          <a:xfrm>
            <a:off x="2714760" y="3352680"/>
            <a:ext cx="190476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at-3cl.gif"/>
          <p:cNvPicPr/>
          <p:nvPr/>
        </p:nvPicPr>
        <p:blipFill>
          <a:blip r:embed="rId3"/>
          <a:stretch/>
        </p:blipFill>
        <p:spPr>
          <a:xfrm>
            <a:off x="4619520" y="335268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at-4cl.gif"/>
          <p:cNvPicPr/>
          <p:nvPr/>
        </p:nvPicPr>
        <p:blipFill>
          <a:blip r:embed="rId4"/>
          <a:stretch/>
        </p:blipFill>
        <p:spPr>
          <a:xfrm>
            <a:off x="6524640" y="4191120"/>
            <a:ext cx="1905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ружающий мир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целостной картиной мира и формирование оценочного, эмоционального отношения к мир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жнейшие линии развития личности ученика средствами курса окружающего мира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9" name="Picture 2" descr="world_1cl1.jpg"/>
          <p:cNvPicPr/>
          <p:nvPr/>
        </p:nvPicPr>
        <p:blipFill>
          <a:blip r:embed="rId1"/>
          <a:stretch/>
        </p:blipFill>
        <p:spPr>
          <a:xfrm>
            <a:off x="712800" y="4419720"/>
            <a:ext cx="1778040" cy="222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world_2cl1.jpg"/>
          <p:cNvPicPr/>
          <p:nvPr/>
        </p:nvPicPr>
        <p:blipFill>
          <a:blip r:embed="rId2"/>
          <a:stretch/>
        </p:blipFill>
        <p:spPr>
          <a:xfrm>
            <a:off x="2490840" y="3886200"/>
            <a:ext cx="1778040" cy="222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world_3cl1.jpg"/>
          <p:cNvPicPr/>
          <p:nvPr/>
        </p:nvPicPr>
        <p:blipFill>
          <a:blip r:embed="rId3"/>
          <a:stretch/>
        </p:blipFill>
        <p:spPr>
          <a:xfrm>
            <a:off x="4268880" y="4419720"/>
            <a:ext cx="1778040" cy="222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world_4cl1.jpg"/>
          <p:cNvPicPr/>
          <p:nvPr/>
        </p:nvPicPr>
        <p:blipFill>
          <a:blip r:embed="rId4"/>
          <a:stretch/>
        </p:blipFill>
        <p:spPr>
          <a:xfrm>
            <a:off x="6046920" y="3886200"/>
            <a:ext cx="17780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 rot="21000000">
            <a:off x="887400" y="5301720"/>
            <a:ext cx="690408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им за внимание!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 rot="21000000">
            <a:off x="599760" y="3389040"/>
            <a:ext cx="7621560" cy="16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 сделала: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калова Елена Николаевна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 rot="21042000">
            <a:off x="1137600" y="53640"/>
            <a:ext cx="7551720" cy="623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система «Школа 2100»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не просто комплект учебников, это система, которая предлагает развивающее личностно ориентированное образование для массовой школы.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е и начальное литературное образовани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чтения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ть детей читать художественную литературу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отовить к ее систематическому изучению в средней школе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звать интерес к чтению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ложить основы формирования грамотного читателя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техники чтения и приемов понимания текста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ведение детей через литературу в мир человеческих отношений, нравственных ценностей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личности со свободным и независимым мышлением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общение детей к литературе как искусству слова, к пониманию того, что делает литературу художественной;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" descr="read_2cl2.gif"/>
          <p:cNvPicPr/>
          <p:nvPr/>
        </p:nvPicPr>
        <p:blipFill>
          <a:blip r:embed="rId1"/>
          <a:stretch/>
        </p:blipFill>
        <p:spPr>
          <a:xfrm rot="1341600">
            <a:off x="5067000" y="4468320"/>
            <a:ext cx="1574640" cy="199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read_1cl2.gif"/>
          <p:cNvPicPr/>
          <p:nvPr/>
        </p:nvPicPr>
        <p:blipFill>
          <a:blip r:embed="rId2"/>
          <a:stretch/>
        </p:blipFill>
        <p:spPr>
          <a:xfrm rot="20659800">
            <a:off x="2801520" y="4419720"/>
            <a:ext cx="1575000" cy="1993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ной и письменной речи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ворческих способностей детей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07" name="Picture 5" descr="read_3cl1.gif"/>
          <p:cNvPicPr/>
          <p:nvPr/>
        </p:nvPicPr>
        <p:blipFill>
          <a:blip r:embed="rId3"/>
          <a:stretch/>
        </p:blipFill>
        <p:spPr>
          <a:xfrm>
            <a:off x="4048200" y="2427120"/>
            <a:ext cx="1396800" cy="203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read_3cla.gif"/>
          <p:cNvPicPr/>
          <p:nvPr/>
        </p:nvPicPr>
        <p:blipFill>
          <a:blip r:embed="rId4"/>
          <a:stretch/>
        </p:blipFill>
        <p:spPr>
          <a:xfrm rot="767400">
            <a:off x="4954680" y="2557440"/>
            <a:ext cx="1396800" cy="2032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read_4cl1.gif"/>
          <p:cNvPicPr/>
          <p:nvPr/>
        </p:nvPicPr>
        <p:blipFill>
          <a:blip r:embed="rId5"/>
          <a:stretch/>
        </p:blipFill>
        <p:spPr>
          <a:xfrm rot="1033200">
            <a:off x="5859000" y="2779200"/>
            <a:ext cx="1397160" cy="2032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read_4cla.gif"/>
          <p:cNvPicPr/>
          <p:nvPr/>
        </p:nvPicPr>
        <p:blipFill>
          <a:blip r:embed="rId6"/>
          <a:stretch/>
        </p:blipFill>
        <p:spPr>
          <a:xfrm rot="1637400">
            <a:off x="6946560" y="3159000"/>
            <a:ext cx="1397160" cy="203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read_1cl1.gif"/>
          <p:cNvPicPr/>
          <p:nvPr/>
        </p:nvPicPr>
        <p:blipFill>
          <a:blip r:embed="rId7"/>
          <a:stretch/>
        </p:blipFill>
        <p:spPr>
          <a:xfrm rot="19657800">
            <a:off x="1461960" y="3168360"/>
            <a:ext cx="1397160" cy="203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read_2cla.gif"/>
          <p:cNvPicPr/>
          <p:nvPr/>
        </p:nvPicPr>
        <p:blipFill>
          <a:blip r:embed="rId8"/>
          <a:stretch/>
        </p:blipFill>
        <p:spPr>
          <a:xfrm rot="19927800">
            <a:off x="2257560" y="2825280"/>
            <a:ext cx="1396800" cy="2032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read_2cl1.gif"/>
          <p:cNvPicPr/>
          <p:nvPr/>
        </p:nvPicPr>
        <p:blipFill>
          <a:blip r:embed="rId9"/>
          <a:stretch/>
        </p:blipFill>
        <p:spPr>
          <a:xfrm rot="20545800">
            <a:off x="3075120" y="2590560"/>
            <a:ext cx="1396800" cy="203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let_1cl1.jpg"/>
          <p:cNvPicPr/>
          <p:nvPr/>
        </p:nvPicPr>
        <p:blipFill>
          <a:blip r:embed="rId10"/>
          <a:stretch/>
        </p:blipFill>
        <p:spPr>
          <a:xfrm>
            <a:off x="3965400" y="3987720"/>
            <a:ext cx="16257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2800" y="-360"/>
            <a:ext cx="771696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личности ребенка средствами предмета «Русский язык»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у детей патриотического чувства по отношению к родному языку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знание себя носителем языка, языковой личостью, которая находится в постоянном диалоге с миром и с самим собой;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детей чувства языка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ребности пользоваться всем языковым богатством, совершенствовать свою устную и письменную речь, делать ее правильной, точной и богатой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общение знаний и формирование учебно-языковых, речевых и правописных умений и навыков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7" name="Picture 2" descr="rus_1cl1.gif"/>
          <p:cNvPicPr/>
          <p:nvPr/>
        </p:nvPicPr>
        <p:blipFill>
          <a:blip r:embed="rId1"/>
          <a:stretch/>
        </p:blipFill>
        <p:spPr>
          <a:xfrm>
            <a:off x="1676520" y="4952880"/>
            <a:ext cx="1244520" cy="165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rus_3cl1.gif"/>
          <p:cNvPicPr/>
          <p:nvPr/>
        </p:nvPicPr>
        <p:blipFill>
          <a:blip r:embed="rId2"/>
          <a:stretch/>
        </p:blipFill>
        <p:spPr>
          <a:xfrm>
            <a:off x="4165560" y="4952880"/>
            <a:ext cx="139716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rus_4cl1.gif"/>
          <p:cNvPicPr/>
          <p:nvPr/>
        </p:nvPicPr>
        <p:blipFill>
          <a:blip r:embed="rId3"/>
          <a:stretch/>
        </p:blipFill>
        <p:spPr>
          <a:xfrm>
            <a:off x="5562720" y="4952880"/>
            <a:ext cx="1396800" cy="1905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rus_2cl1.gif"/>
          <p:cNvPicPr/>
          <p:nvPr/>
        </p:nvPicPr>
        <p:blipFill>
          <a:blip r:embed="rId4"/>
          <a:stretch/>
        </p:blipFill>
        <p:spPr>
          <a:xfrm>
            <a:off x="2921040" y="4952880"/>
            <a:ext cx="12445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-360"/>
            <a:ext cx="77169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всесторонне образованной и инициативной личности, владеющей системой математических знаний и умений, идейно-нравственных, культурных и этических принципов, норм поведения, которые складываются в ходе учебно-воспитательного процесса и готовит ученика к активной деятельности и непрерывному образования в современном обществе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2800" y="0"/>
            <a:ext cx="77169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прочное и сознательное овладение системой математических знаний и умений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ить интеллектуальное развитие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умение учиться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представление об идеях и методах математики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устойчивый интерес к математике;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0T12:07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