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A89-5A1E-4D90-B555-809DB061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BD2-11F7-4532-87F1-AD963FCC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0C3-4DFD-438C-BF30-00096F41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4DF-7811-4041-B95A-DC1A4DD9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624-1427-4CCA-AA61-A0D4455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8FC-8D8F-454E-9CE1-C898063F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171-CFB7-4E3A-83E8-D8798DB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74F-3FC1-4A84-AF0E-EA1EE32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2A1-BD06-49AD-BBE8-2D3B76E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1B9-2A57-4672-9A56-8577935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112-DF27-45FD-814E-2EFEC1E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D5C-28C6-462D-A0FC-B22FBA6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8F45-0AF6-4740-A83E-1512B4FA0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SectionHead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2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45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30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47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custGeom>
                <a:avLst/>
                <a:gdLst/>
                <a:ahLst/>
                <a:rect l="l" t="t" r="r" b="b"/>
                <a:pathLst>
                  <a:path stroke="0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  <a:lnTo>
                      <a:pt x="726430" y="835542"/>
                    </a:lnTo>
                    <a:lnTo>
                      <a:pt x="485386" y="47339"/>
                    </a:lnTo>
                    <a:close/>
                  </a:path>
                  <a:path fill="none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51" name="Pie 40"/>
              <p:cNvSpPr/>
              <p:nvPr/>
            </p:nvSpPr>
            <p:spPr>
              <a:xfrm>
                <a:off x="3389040" y="-776160"/>
                <a:ext cx="3197520" cy="152064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КОЛА 2100»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е о математике как части общечеловеческой нау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развить математические и творческие способност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4" name="Picture 2" descr="mat-1cl.gif"/>
          <p:cNvPicPr/>
          <p:nvPr/>
        </p:nvPicPr>
        <p:blipFill>
          <a:blip r:embed="rId1"/>
          <a:stretch/>
        </p:blipFill>
        <p:spPr>
          <a:xfrm>
            <a:off x="809640" y="41911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at-2cl.gif"/>
          <p:cNvPicPr/>
          <p:nvPr/>
        </p:nvPicPr>
        <p:blipFill>
          <a:blip r:embed="rId2"/>
          <a:stretch/>
        </p:blipFill>
        <p:spPr>
          <a:xfrm>
            <a:off x="2714760" y="3352680"/>
            <a:ext cx="1904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t-3cl.gif"/>
          <p:cNvPicPr/>
          <p:nvPr/>
        </p:nvPicPr>
        <p:blipFill>
          <a:blip r:embed="rId3"/>
          <a:stretch/>
        </p:blipFill>
        <p:spPr>
          <a:xfrm>
            <a:off x="4619520" y="33526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at-4cl.gif"/>
          <p:cNvPicPr/>
          <p:nvPr/>
        </p:nvPicPr>
        <p:blipFill>
          <a:blip r:embed="rId4"/>
          <a:stretch/>
        </p:blipFill>
        <p:spPr>
          <a:xfrm>
            <a:off x="6524640" y="419112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мир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целостной картиной мира и формирование оценочного, эмоционального отношения к мир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ейшие линии развития личности ученика средствами курса окружающего мира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9" name="Picture 2" descr="world_1cl1.jpg"/>
          <p:cNvPicPr/>
          <p:nvPr/>
        </p:nvPicPr>
        <p:blipFill>
          <a:blip r:embed="rId1"/>
          <a:stretch/>
        </p:blipFill>
        <p:spPr>
          <a:xfrm>
            <a:off x="71280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world_2cl1.jpg"/>
          <p:cNvPicPr/>
          <p:nvPr/>
        </p:nvPicPr>
        <p:blipFill>
          <a:blip r:embed="rId2"/>
          <a:stretch/>
        </p:blipFill>
        <p:spPr>
          <a:xfrm>
            <a:off x="2490840" y="3886200"/>
            <a:ext cx="1778040" cy="22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world_3cl1.jpg"/>
          <p:cNvPicPr/>
          <p:nvPr/>
        </p:nvPicPr>
        <p:blipFill>
          <a:blip r:embed="rId3"/>
          <a:stretch/>
        </p:blipFill>
        <p:spPr>
          <a:xfrm>
            <a:off x="426888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world_4cl1.jpg"/>
          <p:cNvPicPr/>
          <p:nvPr/>
        </p:nvPicPr>
        <p:blipFill>
          <a:blip r:embed="rId4"/>
          <a:stretch/>
        </p:blipFill>
        <p:spPr>
          <a:xfrm>
            <a:off x="6046920" y="3886200"/>
            <a:ext cx="1778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 rot="21000000"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сделала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калова Елена Николаевна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21042000">
            <a:off x="1137600" y="53640"/>
            <a:ext cx="7551720" cy="62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 «Школа 2100»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просто комплект учебников, это система, которая предлагает развивающее личностно ориентированное образование для массовой школы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и начальное литературное образовани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чтения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 детей читать художественную литератур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ить к ее систематическому изучению в средней школ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вать интерес к чтению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жить основы формирования грамотного читателя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техники чтения и приемов понимания текст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 детей через литературу в мир человеческих отношений, нравственных ценносте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личности со свободным и независимым мышление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бщение детей к литературе как искусству слова, к пониманию того, что делает литературу художественн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read_2cl2.gif"/>
          <p:cNvPicPr/>
          <p:nvPr/>
        </p:nvPicPr>
        <p:blipFill>
          <a:blip r:embed="rId1"/>
          <a:stretch/>
        </p:blipFill>
        <p:spPr>
          <a:xfrm rot="1341600">
            <a:off x="5067000" y="4468320"/>
            <a:ext cx="1574640" cy="199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read_1cl2.gif"/>
          <p:cNvPicPr/>
          <p:nvPr/>
        </p:nvPicPr>
        <p:blipFill>
          <a:blip r:embed="rId2"/>
          <a:stretch/>
        </p:blipFill>
        <p:spPr>
          <a:xfrm rot="20659800">
            <a:off x="2801520" y="4419720"/>
            <a:ext cx="1575000" cy="199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ной и письменной реч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их способностей детей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07" name="Picture 5" descr="read_3cl1.gif"/>
          <p:cNvPicPr/>
          <p:nvPr/>
        </p:nvPicPr>
        <p:blipFill>
          <a:blip r:embed="rId3"/>
          <a:stretch/>
        </p:blipFill>
        <p:spPr>
          <a:xfrm>
            <a:off x="4048200" y="242712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ead_3cla.gif"/>
          <p:cNvPicPr/>
          <p:nvPr/>
        </p:nvPicPr>
        <p:blipFill>
          <a:blip r:embed="rId4"/>
          <a:stretch/>
        </p:blipFill>
        <p:spPr>
          <a:xfrm rot="767400">
            <a:off x="4954680" y="255744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read_4cl1.gif"/>
          <p:cNvPicPr/>
          <p:nvPr/>
        </p:nvPicPr>
        <p:blipFill>
          <a:blip r:embed="rId5"/>
          <a:stretch/>
        </p:blipFill>
        <p:spPr>
          <a:xfrm rot="1033200">
            <a:off x="5859000" y="27792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read_4cla.gif"/>
          <p:cNvPicPr/>
          <p:nvPr/>
        </p:nvPicPr>
        <p:blipFill>
          <a:blip r:embed="rId6"/>
          <a:stretch/>
        </p:blipFill>
        <p:spPr>
          <a:xfrm rot="1637400">
            <a:off x="6946560" y="31590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ead_1cl1.gif"/>
          <p:cNvPicPr/>
          <p:nvPr/>
        </p:nvPicPr>
        <p:blipFill>
          <a:blip r:embed="rId7"/>
          <a:stretch/>
        </p:blipFill>
        <p:spPr>
          <a:xfrm rot="19657800">
            <a:off x="1461960" y="3168360"/>
            <a:ext cx="1397160" cy="203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read_2cla.gif"/>
          <p:cNvPicPr/>
          <p:nvPr/>
        </p:nvPicPr>
        <p:blipFill>
          <a:blip r:embed="rId8"/>
          <a:stretch/>
        </p:blipFill>
        <p:spPr>
          <a:xfrm rot="19927800">
            <a:off x="2257560" y="282528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read_2cl1.gif"/>
          <p:cNvPicPr/>
          <p:nvPr/>
        </p:nvPicPr>
        <p:blipFill>
          <a:blip r:embed="rId9"/>
          <a:stretch/>
        </p:blipFill>
        <p:spPr>
          <a:xfrm rot="20545800">
            <a:off x="3075120" y="2590560"/>
            <a:ext cx="1396800" cy="203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let_1cl1.jpg"/>
          <p:cNvPicPr/>
          <p:nvPr/>
        </p:nvPicPr>
        <p:blipFill>
          <a:blip r:embed="rId10"/>
          <a:stretch/>
        </p:blipFill>
        <p:spPr>
          <a:xfrm>
            <a:off x="3965400" y="398772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личности ребенка средствами предмета «Русский язык»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у детей патриотического чувства по отношению к родному язык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ие себя носителем языка, языковой личостью, которая находится в постоянном диалоге с миром и с самим соб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чувства язык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ости пользоваться всем языковым богатством, совершенствовать свою устную и письменную речь, делать ее правильной, точной и богато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общение знаний и формирование учебно-языковых, речевых и правописных умений и навык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7" name="Picture 2" descr="rus_1cl1.gif"/>
          <p:cNvPicPr/>
          <p:nvPr/>
        </p:nvPicPr>
        <p:blipFill>
          <a:blip r:embed="rId1"/>
          <a:stretch/>
        </p:blipFill>
        <p:spPr>
          <a:xfrm>
            <a:off x="1676520" y="495288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rus_3cl1.gif"/>
          <p:cNvPicPr/>
          <p:nvPr/>
        </p:nvPicPr>
        <p:blipFill>
          <a:blip r:embed="rId2"/>
          <a:stretch/>
        </p:blipFill>
        <p:spPr>
          <a:xfrm>
            <a:off x="4165560" y="4952880"/>
            <a:ext cx="139716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rus_4cl1.gif"/>
          <p:cNvPicPr/>
          <p:nvPr/>
        </p:nvPicPr>
        <p:blipFill>
          <a:blip r:embed="rId3"/>
          <a:stretch/>
        </p:blipFill>
        <p:spPr>
          <a:xfrm>
            <a:off x="5562720" y="4952880"/>
            <a:ext cx="139680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us_2cl1.gif"/>
          <p:cNvPicPr/>
          <p:nvPr/>
        </p:nvPicPr>
        <p:blipFill>
          <a:blip r:embed="rId4"/>
          <a:stretch/>
        </p:blipFill>
        <p:spPr>
          <a:xfrm>
            <a:off x="2921040" y="4952880"/>
            <a:ext cx="1244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всесторонне образованной и инициативной личности, владеющей системой математических знаний и умений, идейно-нравственных, культурных и этических принципов, норм поведения, которые складываются в ходе учебно-воспитательного процесса и готовит ученика к активной деятельности и непрерывному образования в современном обществе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рочное и сознательное овладение системой математических знаний и умени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интеллектуальное развити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мение учиться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редставление об идеях и методах математи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стойчивый интерес к математике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